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3.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45.png" ContentType="image/png"/>
  <Override PartName="/ppt/media/image44.jpeg" ContentType="image/jpeg"/>
  <Override PartName="/ppt/media/image10.jpeg" ContentType="image/jpeg"/>
  <Override PartName="/ppt/media/image35.jpeg" ContentType="image/jpeg"/>
  <Override PartName="/ppt/media/image47.png" ContentType="image/png"/>
  <Override PartName="/ppt/media/image43.jpeg" ContentType="image/jpeg"/>
  <Override PartName="/ppt/media/image37.png" ContentType="image/png"/>
  <Override PartName="/ppt/media/image46.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2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FF891-5D06-4CD2-8E0E-00314438C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D776-CA65-4466-90B3-70290FAB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AA859-3ACA-4E27-9ED9-D121D711E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47E0C-0DA4-4B96-8B58-3A55400F8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0D026-7E75-46B0-AA59-68A44514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C396A-B080-4933-9DB6-5DE8DBD0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71E6-06B3-4149-9FC4-53B29974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67E1F-0B87-4463-90FB-A7D93851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1C9C8-5E3E-4085-9392-186C11D0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DA3A-9228-4586-AA53-F1570C91A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FF6C-D874-412E-BE7F-121B17B58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FE33-AAD9-4698-AA04-F8C837385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E0B7-82E0-4379-8BC1-FB0E4EEAA8A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earning4micros.com/photos/negotiation.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uarchive.wustl.edu/aminet/pix/trace/Chess.jpg&amp;imgrefurl=http://wuarchive.wustl.edu/aminet/pix/trace/&amp;h=480&amp;w=640&amp;sz=61&amp;tbnid=cF8L-q9SD7sJ:&amp;tbnh=101&amp;tbnw=135&amp;hl=ar&amp;start=7&amp;prev=/images%3Fq%3Dchess%26svnum%3D10%26hl%3Dar%26lr%3D%26sa%3DN" TargetMode="External"/><Relationship Id="rId2" Type="http://schemas.openxmlformats.org/officeDocument/2006/relationships/image" Target="../media/image16.jpeg"/><Relationship Id="rId3" Type="http://schemas.openxmlformats.org/officeDocument/2006/relationships/hyperlink" Target="http://images.google.com/imgres?imgurl=http://www.forumstrategies.com/images/photo_chess.jpg&amp;imgrefurl=http://www.forumstrategies.com/services_corpaffairs.html&amp;h=300&amp;w=300&amp;sz=8&amp;tbnid=mLIbHIJ4FX0J:&amp;tbnh=111&amp;tbnw=111&amp;hl=ar&amp;start=3&amp;prev=/images%3Fq%3D%2Bchess%2Bstrategic%2Bmanagement%26svnum%3D10%26hl%3Dar%26lr%3D"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owmg.org/graphics/Shrine/SMILE.jpg&amp;imgrefurl=http://owmg.org/graphics/Shrine/testpage.html&amp;h=367&amp;w=291&amp;sz=13&amp;tbnid=cPyuuGBZbpsJ:&amp;tbnh=118&amp;tbnw=93&amp;hl=ar&amp;start=19&amp;prev=/images%3Fq%3Dsmile%26svnum%3D10%26hl%3Dar%26lr%3D"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1stopfordogpictures.com/bulldog/english-bulldog-pictures-001b.jpg&amp;imgrefurl=http://www.1stopfordogpictures.com/bulldog/&amp;h=275&amp;w=321&amp;sz=22&amp;tbnid=Ee1wnZ46ZwoJ:&amp;tbnh=97&amp;tbnw=114&amp;hl=ar&amp;start=3&amp;prev=/images%3Fq%3DBULLDOG%26svnum%3D10%26hl%3Dar%26lr%3D" TargetMode="External"/><Relationship Id="rId2" Type="http://schemas.openxmlformats.org/officeDocument/2006/relationships/image" Target="../media/image5.jpeg"/><Relationship Id="rId3" Type="http://schemas.openxmlformats.org/officeDocument/2006/relationships/hyperlink" Target="http://images.google.com/imgres?imgurl=http://www.sunna.info/souwar/data/media/31/www-sunna-info-80.JPG&amp;imgrefurl=http://www.sunna.info/souwar/img2108.htm&amp;h=384&amp;w=256&amp;sz=91&amp;tbnid=OSoYi2tVaQoJ:&amp;tbnh=119&amp;tbnw=79&amp;hl=ar&amp;start=6&amp;prev=/images%3Fq%3D%25D8%25AD%25D8%25B5%25D8%25A7%25D9%2586%26svnum%3D10%26hl%3Dar%26lr%3D" TargetMode="External"/><Relationship Id="rId4" Type="http://schemas.openxmlformats.org/officeDocument/2006/relationships/image" Target="../media/image6.jpeg"/><Relationship Id="rId5" Type="http://schemas.openxmlformats.org/officeDocument/2006/relationships/hyperlink" Target="http://images.google.com/imgres?imgurl=http://www.al-fateh.net/images20/fa20q34.jpg&amp;imgrefurl=http://www.al-fateh.net/fa-20/luguz20.htm&amp;h=300&amp;w=172&amp;sz=8&amp;tbnid=02d2C1UQ8sYJ:&amp;tbnh=111&amp;tbnw=63&amp;hl=ar&amp;start=10&amp;prev=/images%3Fq%3D%25D9%2582%25D8%25B1%25D8%25AF%26svnum%3D10%26hl%3Dar%26lr%3D" TargetMode="External"/><Relationship Id="rId6" Type="http://schemas.openxmlformats.org/officeDocument/2006/relationships/image" Target="../media/image7.jpeg"/><Relationship Id="rId7" Type="http://schemas.openxmlformats.org/officeDocument/2006/relationships/hyperlink" Target="http://images.google.com/imgres?imgurl=http://us.news2.yimg.com/us.yimg.com/p/afp/20040809/capt.sge.trn57.090804135757.photo00.default-335x313.jpg&amp;imgrefurl=http://mexat.net/vb/showthread.php%3Ft%3D50886&amp;h=313&amp;w=335&amp;sz=54&amp;tbnid=AI-_9SeyhOcJ:&amp;tbnh=107&amp;tbnw=115&amp;hl=ar&amp;start=13&amp;prev=/images%3Fq%3D%25D8%25A7%25D9%2584%25D8%25B6%25D9%2581%25D8%25AF%25D8%25B9%26svnum%3D10%26hl%3Dar%26lr%3D" TargetMode="External"/><Relationship Id="rId8" Type="http://schemas.openxmlformats.org/officeDocument/2006/relationships/image" Target="../media/image8.jpeg"/><Relationship Id="rId9" Type="http://schemas.openxmlformats.org/officeDocument/2006/relationships/hyperlink" Target="http://images.google.com/imgres?imgurl=http://www.muskokagardens.ca/photos/deer.jpg&amp;imgrefurl=http://www.muskokagardens.ca/other.htm&amp;h=491&amp;w=640&amp;sz=103&amp;tbnid=vN0Nmz7CR8AJ:&amp;tbnh=103&amp;tbnw=135&amp;hl=ar&amp;start=2&amp;prev=/images%3Fq%3Ddeer%26svnum%3D10%26hl%3Dar%26lr%3D"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piegel.de/img/0,1020,406574,00.jpg"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s.google.com/imgres?imgurl=http://www.ets.org/ccxiv/img/runningb.gif&amp;imgrefurl=http://www.ets.org/ccxiv/splindex.html&amp;h=196&amp;w=164&amp;sz=5&amp;tbnid=kDFjoH0USncJ:&amp;tbnh=98&amp;tbnw=82&amp;hl=en&amp;start=11&amp;prev=/images%3Fq%3Dcharacter%2Bcartoon%26svnum%3D10%26hl%3Den%26lr%3D%26sa%3DN"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software-technics.com/bhps/hedgehog-in-rough.JPG&amp;imgrefurl=http://www.software-technics.com/bhps/&amp;h=255&amp;w=354&amp;sz=38&amp;tbnid=ZTKSrU1zpQ8J:&amp;tbnh=84&amp;tbnw=117&amp;hl=ar&amp;start=27&amp;prev=/images%3Fq%3Dhedgehog%26start%3D20%26svnum%3D10%26hl%3Dar%26lr%3D%26sa%3DN" TargetMode="External"/><Relationship Id="rId2" Type="http://schemas.openxmlformats.org/officeDocument/2006/relationships/image" Target="../media/image10.jpeg"/><Relationship Id="rId3" Type="http://schemas.openxmlformats.org/officeDocument/2006/relationships/hyperlink" Target="http://images.google.com/imgres?imgurl=http://animals.timduru.org/dirlist/giraffe/SDZ_0079-Giraffe.jpg&amp;imgrefurl=http://animals.timduru.org/dirlist/giraffe/&amp;h=312&amp;w=208&amp;sz=28&amp;tbnid=OYlUERmIzG8J:&amp;tbnh=113&amp;tbnw=75&amp;hl=ar&amp;start=4&amp;prev=/images%3Fq%3Dgiraffe%26svnum%3D10%26hl%3Dar%26lr%3D" TargetMode="External"/><Relationship Id="rId4" Type="http://schemas.openxmlformats.org/officeDocument/2006/relationships/image" Target="../media/image11.jpeg"/><Relationship Id="rId5" Type="http://schemas.openxmlformats.org/officeDocument/2006/relationships/hyperlink" Target="http://images.google.com/imgres?imgurl=http://kidscity.jeeran.com/&#1584;&#1603;&#1575;&#1569;%2520&#1575;&#1604;&#1579;&#1593;&#1604;&#1576;.gif&amp;imgrefurl=http://kidscity.jeeran.com/story.html&amp;h=255&amp;w=241&amp;sz=25&amp;tbnid=oyB4gj4T_McJ:&amp;tbnh=106&amp;tbnw=100&amp;hl=ar&amp;start=17&amp;prev=/images%3Fq%3D%25D8%25A7%25D9%2584%25D8%25AB%25D8%25B9%25D9%2584%25D8%25A8%26svnum%3D10%26hl%3Dar%26lr%3D" TargetMode="External"/><Relationship Id="rId6" Type="http://schemas.openxmlformats.org/officeDocument/2006/relationships/image" Target="../media/image12.jpeg"/><Relationship Id="rId7" Type="http://schemas.openxmlformats.org/officeDocument/2006/relationships/hyperlink" Target="http://images.google.com/imgres?imgurl=http://animals.timduru.org/dirlist/fox/red%2520fox%252056.jpg&amp;imgrefurl=http://animals.timduru.org/dirlist/fox/&amp;h=600&amp;w=563&amp;sz=68&amp;tbnid=lZipBTxy7mYJ:&amp;tbnh=133&amp;tbnw=124&amp;hl=ar&amp;start=1&amp;prev=/images%3Fq%3Dfox%26svnum%3D10%26hl%3Dar%26lr%3D" TargetMode="External"/><Relationship Id="rId8" Type="http://schemas.openxmlformats.org/officeDocument/2006/relationships/image" Target="../media/image13.jpeg"/><Relationship Id="rId9" Type="http://schemas.openxmlformats.org/officeDocument/2006/relationships/hyperlink" Target="http://images.google.com/imgres?imgurl=http://1kai.dokkyomed.ac.jp/mammal/images/living/medium/19-04m.jpg&amp;imgrefurl=http://1kai.dokkyomed.ac.jp/mammal/en/living/hippopotamus_amphibius.html&amp;h=478&amp;w=800&amp;sz=145&amp;tbnid=zvhBHpfm7J8J:&amp;tbnh=84&amp;tbnw=142&amp;hl=ar&amp;start=1&amp;prev=/images%3Fq%3Dhippopotamus%26svnum%3D10%26hl%3Dar%26lr%3D" TargetMode="External"/><Relationship Id="rId10" Type="http://schemas.openxmlformats.org/officeDocument/2006/relationships/image" Target="../media/image14.jpe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axave.com/magazine/2002/30/buyer.gif" TargetMode="External"/><Relationship Id="rId2" Type="http://schemas.openxmlformats.org/officeDocument/2006/relationships/image" Target="../media/image42.png"/><Relationship Id="rId3" Type="http://schemas.openxmlformats.org/officeDocument/2006/relationships/hyperlink" Target="http://www.fotosearch.it/comp/TBZ/TBZ145/bto1x026.jpg"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3300"/>
                </a:solidFill>
                <a:latin typeface="Arial"/>
              </a:rPr>
              <a:t>تنمية المهارات الحواري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187280" y="2708280"/>
            <a:ext cx="6769440" cy="3887640"/>
          </a:xfrm>
          <a:prstGeom prst="rect">
            <a:avLst/>
          </a:prstGeom>
          <a:ln w="0">
            <a:noFill/>
          </a:ln>
        </p:spPr>
      </p:pic>
      <p:pic>
        <p:nvPicPr>
          <p:cNvPr id="44" name="" descr="">
            <a:hlinkClick r:id="rId2"/>
          </p:cNvPr>
          <p:cNvPicPr/>
          <p:nvPr/>
        </p:nvPicPr>
        <p:blipFill>
          <a:blip r:embed="rId3"/>
          <a:stretch/>
        </p:blipFill>
        <p:spPr>
          <a:xfrm>
            <a:off x="2268360" y="404640"/>
            <a:ext cx="446436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بناء الحجج</a:t>
            </a:r>
            <a:endParaRPr b="0" lang="en-US" sz="5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76" name="" descr="">
            <a:hlinkClick r:id="rId1"/>
          </p:cNvPr>
          <p:cNvPicPr/>
          <p:nvPr/>
        </p:nvPicPr>
        <p:blipFill>
          <a:blip r:embed="rId2"/>
          <a:stretch/>
        </p:blipFill>
        <p:spPr>
          <a:xfrm>
            <a:off x="1906560" y="2637000"/>
            <a:ext cx="2521080" cy="2879640"/>
          </a:xfrm>
          <a:prstGeom prst="rect">
            <a:avLst/>
          </a:prstGeom>
          <a:ln w="0">
            <a:noFill/>
          </a:ln>
        </p:spPr>
      </p:pic>
      <p:pic>
        <p:nvPicPr>
          <p:cNvPr id="77" name="" descr="">
            <a:hlinkClick r:id="rId3"/>
          </p:cNvPr>
          <p:cNvPicPr/>
          <p:nvPr/>
        </p:nvPicPr>
        <p:blipFill>
          <a:blip r:embed="rId4"/>
          <a:stretch/>
        </p:blipFill>
        <p:spPr>
          <a:xfrm>
            <a:off x="4427640" y="2637000"/>
            <a:ext cx="2663640" cy="28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شكال الحجج</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نتائج المبنية على الخب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وح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شهادة ب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عواطف والمشاع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تدل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يدولو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82" name="" descr="user posted image"/>
          <p:cNvPicPr/>
          <p:nvPr/>
        </p:nvPicPr>
        <p:blipFill>
          <a:blip r:embed="rId1"/>
          <a:stretch/>
        </p:blipFill>
        <p:spPr>
          <a:xfrm>
            <a:off x="2268360" y="1268280"/>
            <a:ext cx="4464360" cy="3382920"/>
          </a:xfrm>
          <a:prstGeom prst="rect">
            <a:avLst/>
          </a:prstGeom>
          <a:ln w="0">
            <a:noFill/>
          </a:ln>
        </p:spPr>
      </p:pic>
      <p:pic>
        <p:nvPicPr>
          <p:cNvPr id="83" name="" descr=""/>
          <p:cNvPicPr/>
          <p:nvPr/>
        </p:nvPicPr>
        <p:blipFill>
          <a:blip r:embed="rId2"/>
          <a:stretch/>
        </p:blipFill>
        <p:spPr>
          <a:xfrm>
            <a:off x="3203640" y="4978440"/>
            <a:ext cx="306864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بب انبهار بل غيتس المبالغ فيه بصناعته  بأنه قام بمقارنـة صناعة الكمبيوتر بصناعة السيارات، حيث قال خلال معرض للكمبيوتر بأنه لو أن شركة جينرال موت</a:t>
            </a:r>
            <a:r>
              <a:rPr b="0" lang="ar-EG" sz="3200" spc="-1" strike="noStrike">
                <a:solidFill>
                  <a:srgbClr val="000000"/>
                </a:solidFill>
                <a:latin typeface="Arial"/>
              </a:rPr>
              <a:t>و</a:t>
            </a:r>
            <a:r>
              <a:rPr b="0" lang="ar-SA" sz="3200" spc="-1" strike="noStrike">
                <a:solidFill>
                  <a:srgbClr val="000000"/>
                </a:solidFill>
                <a:latin typeface="Arial"/>
              </a:rPr>
              <a:t>ر للسيارات حرصت على مواكبة أحدث التـقـنيات بالشكـل الذي واكبته صناعة الكمبيوتر، لقـاد الناس سيارات بسعر </a:t>
            </a:r>
            <a:r>
              <a:rPr b="0" lang="ar-SA" sz="3200" spc="-1" strike="noStrike">
                <a:solidFill>
                  <a:srgbClr val="000000"/>
                </a:solidFill>
                <a:latin typeface="Arial"/>
              </a:rPr>
              <a:t>25</a:t>
            </a:r>
            <a:r>
              <a:rPr b="0" lang="ar-SA" sz="3200" spc="-1" strike="noStrike">
                <a:solidFill>
                  <a:srgbClr val="000000"/>
                </a:solidFill>
                <a:latin typeface="Arial"/>
              </a:rPr>
              <a:t> دولارا</a:t>
            </a:r>
            <a:r>
              <a:rPr b="0" lang="ar-EG" sz="3200" spc="-1" strike="noStrike">
                <a:solidFill>
                  <a:srgbClr val="000000"/>
                </a:solidFill>
                <a:latin typeface="Arial"/>
              </a:rPr>
              <a:t>    </a:t>
            </a:r>
            <a:r>
              <a:rPr b="0" lang="ar-SA" sz="3200" spc="-1" strike="noStrike">
                <a:solidFill>
                  <a:srgbClr val="000000"/>
                </a:solidFill>
                <a:latin typeface="Arial"/>
              </a:rPr>
              <a:t> و التي تصرف جالوناً واحداً فقط لألف ميل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250920" y="5157720"/>
            <a:ext cx="2663640" cy="1584360"/>
          </a:xfrm>
          <a:prstGeom prst="rect">
            <a:avLst/>
          </a:prstGeom>
          <a:ln w="0">
            <a:noFill/>
          </a:ln>
        </p:spPr>
      </p:pic>
      <p:pic>
        <p:nvPicPr>
          <p:cNvPr id="87" name="" descr=""/>
          <p:cNvPicPr/>
          <p:nvPr/>
        </p:nvPicPr>
        <p:blipFill>
          <a:blip r:embed="rId2"/>
          <a:stretch/>
        </p:blipFill>
        <p:spPr>
          <a:xfrm>
            <a:off x="3564000" y="4508640"/>
            <a:ext cx="439272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ينرال موتور</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يوم التالي، أطلقت شركة جي أم نشرة صحفية ردا على تصريح بيل غيتس </a:t>
            </a:r>
            <a:r>
              <a:rPr b="0" lang="ar-EG"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طورت جي أم تقنيات على نفس خطى مايكروسوفت، كنا رأينا التالي: </a:t>
            </a:r>
            <a:r>
              <a:rPr b="0" lang="ar-EG" sz="3200" spc="-1" strike="noStrike">
                <a:solidFill>
                  <a:srgbClr val="000000"/>
                </a:solidFill>
                <a:latin typeface="Arial"/>
              </a:rPr>
              <a:t>-  </a:t>
            </a:r>
            <a:r>
              <a:rPr b="0" lang="ar-SA" sz="3200" spc="-1" strike="noStrike">
                <a:solidFill>
                  <a:srgbClr val="000000"/>
                </a:solidFill>
                <a:latin typeface="Arial"/>
              </a:rPr>
              <a:t>أولا: تتعطل السيارة مرتين على الأقل في اليوم، ومن دون سبب واضح </a:t>
            </a:r>
            <a:endParaRPr b="0" lang="en-US" sz="3200" spc="-1" strike="noStrike">
              <a:solidFill>
                <a:srgbClr val="000000"/>
              </a:solidFill>
              <a:latin typeface="Arial"/>
            </a:endParaRPr>
          </a:p>
        </p:txBody>
      </p:sp>
      <p:pic>
        <p:nvPicPr>
          <p:cNvPr id="90" name="" descr="user posted image"/>
          <p:cNvPicPr/>
          <p:nvPr/>
        </p:nvPicPr>
        <p:blipFill>
          <a:blip r:embed="rId1"/>
          <a:stretch/>
        </p:blipFill>
        <p:spPr>
          <a:xfrm>
            <a:off x="539640" y="4292640"/>
            <a:ext cx="8209080" cy="23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ـيــا: عندما يحدث العطل وأنت في منتصف طريق سريع، توقف على جانبي الطريق، أغلق جميع النوافذ، أعد تشغيل السيارة، ثم افتح جميع النوافذ.. والعجيب أنك ستتقبل هذه الطريقة بعد فترة من الوقت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ـــا: مؤشرات التنبيه داخل السيارة مثل قرب انتهاء البنزين، خلل في المحرك أو ارتفاع في الحرارة سيستبدل بعبارة </a:t>
            </a:r>
            <a:br>
              <a:rPr sz="3200"/>
            </a:br>
            <a:r>
              <a:rPr b="0" lang="ar-SA" sz="3200" spc="-1" strike="noStrike">
                <a:solidFill>
                  <a:srgbClr val="000000"/>
                </a:solidFill>
                <a:latin typeface="Arial"/>
              </a:rPr>
              <a:t>" لقد قامت العربة بتنفيذ مهمة غير شرعية وسيتم إغلاقها " </a:t>
            </a:r>
            <a:br>
              <a:rPr sz="3200"/>
            </a:br>
            <a:r>
              <a:rPr b="0" lang="ar-SA" sz="3200" spc="-1" strike="noStrike">
                <a:solidFill>
                  <a:srgbClr val="000000"/>
                </a:solidFill>
                <a:latin typeface="Arial"/>
              </a:rPr>
              <a:t>رابـعـــا: ستستأذنك الوسادة الهوائية الواقية من الحوادث قبل أن تفتح، من خلال ظهور عبارة: هل أنت متأكد؟ </a:t>
            </a:r>
            <a:endParaRPr b="0" lang="en-US" sz="3200" spc="-1" strike="noStrike">
              <a:solidFill>
                <a:srgbClr val="000000"/>
              </a:solidFill>
              <a:latin typeface="Arial"/>
            </a:endParaRPr>
          </a:p>
        </p:txBody>
      </p:sp>
      <p:pic>
        <p:nvPicPr>
          <p:cNvPr id="93" name="" descr="smile"/>
          <p:cNvPicPr/>
          <p:nvPr/>
        </p:nvPicPr>
        <p:blipFill>
          <a:blip r:embed="rId1"/>
          <a:stretch/>
        </p:blipFill>
        <p:spPr>
          <a:xfrm>
            <a:off x="179280" y="2521080"/>
            <a:ext cx="936720" cy="148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امـســا: في بعض الأحيان، ستقفل السيارة وأنت خارجها ولا تسمح لك بالدخول، إلا إذا قمت بعمل ثلاثة أمور في وقت واحد، كالإمساك بمقبض السيارة وإدخال المفتاح وتحريك اللاقط الخارجي الخاص بالراديو </a:t>
            </a:r>
            <a:br>
              <a:rPr sz="3200"/>
            </a:br>
            <a:r>
              <a:rPr b="0" lang="ar-SA" sz="3200" spc="-1" strike="noStrike">
                <a:solidFill>
                  <a:srgbClr val="000000"/>
                </a:solidFill>
                <a:latin typeface="Arial"/>
              </a:rPr>
              <a:t>سادســـا: تحتاج للضغط على زر «ابدأ» لكي تتمكن من إطفاء محرك السيارة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user posted image"/>
          <p:cNvPicPr/>
          <p:nvPr/>
        </p:nvPicPr>
        <p:blipFill>
          <a:blip r:embed="rId1"/>
          <a:stretch/>
        </p:blipFill>
        <p:spPr>
          <a:xfrm>
            <a:off x="324000" y="4240080"/>
            <a:ext cx="504000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ـعـــا: في كل مرة تطرح فيها سيارة جديدة على الصناعة، يضطر ركابها إلى تعلم كيفية القيادة من جديد، نظرا لظهورها بخصائص جديدة لا تشبه أيا من سابقاتها</a:t>
            </a:r>
            <a:endParaRPr b="0" lang="en-US" sz="3200" spc="-1" strike="noStrike">
              <a:solidFill>
                <a:srgbClr val="000000"/>
              </a:solidFill>
              <a:latin typeface="Arial"/>
            </a:endParaRPr>
          </a:p>
        </p:txBody>
      </p:sp>
      <p:pic>
        <p:nvPicPr>
          <p:cNvPr id="99" name="" descr=""/>
          <p:cNvPicPr/>
          <p:nvPr/>
        </p:nvPicPr>
        <p:blipFill>
          <a:blip r:embed="rId1"/>
          <a:stretch/>
        </p:blipFill>
        <p:spPr>
          <a:xfrm>
            <a:off x="179280" y="3573360"/>
            <a:ext cx="6769080" cy="30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p:cNvPicPr/>
          <p:nvPr/>
        </p:nvPicPr>
        <p:blipFill>
          <a:blip r:embed="rId1"/>
          <a:stretch/>
        </p:blipFill>
        <p:spPr>
          <a:xfrm>
            <a:off x="2195640" y="1844640"/>
            <a:ext cx="5472000" cy="4321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عتقد علماء النفس بأن </a:t>
            </a:r>
            <a:r>
              <a:rPr b="0" lang="ar-JO" sz="3200" spc="-1" strike="noStrike">
                <a:solidFill>
                  <a:srgbClr val="000000"/>
                </a:solidFill>
                <a:latin typeface="Arial"/>
              </a:rPr>
              <a:t>60</a:t>
            </a:r>
            <a:r>
              <a:rPr b="0" lang="ar-JO" sz="3200" spc="-1" strike="noStrike">
                <a:solidFill>
                  <a:srgbClr val="000000"/>
                </a:solidFill>
                <a:latin typeface="Arial"/>
              </a:rPr>
              <a:t> % من حالات التخاطب والتواصل بين الناس تتم بصورة غير شفهية أي عن طريق الإيماءات والإيحاءات والرموز ، لا عن طريق الكلام واللسان ( ويقال إن هذه الطريقة ذات تأثير قوى ، أقوى بخمس مرات من ذلك التأثير الذي تتركه الكلمات ) ،،ومن الأخطاء الجسيمة التي نقع فيها جميعاَ هي تجاهلنا للغة الجسد والإيماءات في محاولتنا فهم ما يقوله لنا أحدهم أو إحداهم أو إحداهن وقراءة أفكاره أو أفكارها بل إننا نمضي ساعات في تحليل الكلمات التي قيلت لنا من دون أن ندرك مغزاها لأننا لا نحسب بالشكل الكافي لغة الإيماء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ع الاخر</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حوار(مبدأ تعاون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فاوض (مبدأ نزاع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مساومة (مبدأ نزاعي)</a:t>
            </a:r>
            <a:endParaRPr b="0" lang="en-US" sz="3200" spc="-1" strike="noStrike">
              <a:solidFill>
                <a:srgbClr val="000000"/>
              </a:solidFill>
              <a:latin typeface="Arial"/>
            </a:endParaRPr>
          </a:p>
        </p:txBody>
      </p:sp>
      <p:pic>
        <p:nvPicPr>
          <p:cNvPr id="47"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س اليد للوجه أثناء الحديث أمر مرتبط بالكذب وكذلك الحال عند لمس الأنف أثناء الكلا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قد يلجأ البعض إلى لمس الأذن عند التشكيك بكلام يقال أمامه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عقد اجتماع ما لمؤسسة أو إدارة ويلقي المدير نكتة عرضية نجد أن كلاً من الحاضرين يصطنع ابتسامة مزيفة تظهر بوضوح في عضلات زاويتي فمه التي تُشَدّ وتُرخى في اتجاه الأعلى أما في الابتسامة الحقيقية فإن عضلات أطراف العينين تتقلّص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إذا شبكت المرأة يديها بشكل لين فهذا دليل انفتاحها على الجو المحيط به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هز البعض رؤوسهم في إشارة إلى التأييد والاهتمام نجد أن الشخص المتكلم يزيد من سرعة كلام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ينما يشير تشابك الذراعين وتباطؤ رفرفة العينين إلى الملل أو إلى عدم الموافقة ما يحتمل أن يجعل المتكلم يبطئ في كلامه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0000"/>
          </a:bodyPr>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ضع اليدين على الطاولة باتجاه الشخص المتحدث فهذه بمثابة دعوة لتكوين علاقة حميمة .</a:t>
            </a:r>
            <a:endParaRPr b="0" lang="en-US" sz="3200" spc="-1" strike="noStrike">
              <a:solidFill>
                <a:srgbClr val="000000"/>
              </a:solidFill>
              <a:latin typeface="Arial"/>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فضل المرء أن يتوجه بعد دخول السوق أوالمحلات التجارية إلى اليمين لأنه سوف يستخدم يده اليمنى الأقوى ويشعر بالانشراح إذا كانت الممرات واسعة بينما يشعر بالضيق إذا كانت هذه الممرات ضيقة ولذا يحاول أصحاب المخازن تنفيذ هذه الرغبات إذ يضعون السلع الغالية الثمن في اتجاه اليمين وفي الممرات الواسعة ويجب أيضاً أن تكون السلع في تناول الزبون لأنه لا يشتري عادة أي سلعة لا يمسها بيده وقلما يشتري أحدنا سلعة كتب عليها "ممنوع اللمس</a:t>
            </a:r>
            <a:r>
              <a:rPr b="0" lang="en-US" sz="3200" spc="-1" strike="noStrike">
                <a:solidFill>
                  <a:srgbClr val="000000"/>
                </a:solidFill>
                <a:latin typeface="Arial"/>
                <a:ea typeface="宋体"/>
              </a:rPr>
              <a:t>" </a:t>
            </a:r>
            <a:r>
              <a:rPr b="0" lang="ar-J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تكون اليد مفتوحة فهذه الإيماءة تقترن بالصدق والخضو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حال كون الذراعان متقالبتين فمعنى ذلك أن الشخص بحالة دفاعية سلب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عمد مطاعم الوجبات السريعة للإكثار من الألوان الفاقعة والحادة مثل الأحمر والأصفر وذلك لكي لا يشعر الزبون بالراحة ويطيل الجلوس في المطعم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 </a:t>
            </a:r>
            <a:r>
              <a:rPr b="1" lang="ar-JO" sz="3000" spc="-1" strike="noStrike">
                <a:solidFill>
                  <a:srgbClr val="000000"/>
                </a:solidFill>
                <a:latin typeface="Arial"/>
              </a:rPr>
              <a:t>العين</a:t>
            </a:r>
            <a:r>
              <a:rPr b="0" lang="en-US" sz="3000" spc="-1" strike="noStrike">
                <a:solidFill>
                  <a:srgbClr val="000000"/>
                </a:solidFill>
                <a:latin typeface="Arial"/>
                <a:ea typeface="宋体"/>
              </a:rPr>
              <a:t> : </a:t>
            </a:r>
            <a:endParaRPr b="0" lang="en-US" sz="3000" spc="-1" strike="noStrike">
              <a:solidFill>
                <a:srgbClr val="000000"/>
              </a:solidFill>
              <a:latin typeface="Arial"/>
            </a:endParaRPr>
          </a:p>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تمنحك واحدا من أكبر مفاتيح الشخصية التي تدلك بشكل حقيقي</a:t>
            </a:r>
            <a:r>
              <a:rPr b="0" lang="ar-EG" sz="3000" spc="-1" strike="noStrike">
                <a:solidFill>
                  <a:srgbClr val="000000"/>
                </a:solidFill>
                <a:latin typeface="Arial"/>
              </a:rPr>
              <a:t> </a:t>
            </a:r>
            <a:r>
              <a:rPr b="0" lang="ar-JO" sz="3000" spc="-1" strike="noStrike">
                <a:solidFill>
                  <a:srgbClr val="000000"/>
                </a:solidFill>
                <a:latin typeface="Arial"/>
              </a:rPr>
              <a:t>على ما يدور في عقل من أمامك ، ستعرف من خلال عينيه ما يفكر فيه حقيقة ، فإذا اتسع بؤبؤ العين وبدا للعيان فإن ذلك دليل على أنه سمع منك توا شيئا أسعده ، أما إذا ضاق بؤبؤ العين فالعكس هو الذي حدث ، وإذا ضاقت عيناه ربما يدل على أنك حدثته بشئ لا يصدقه وإذا اتجهت عينه إلى أعلى جهة اليمين فأنه ينشء صورة خيالية مستقبلية وأذا اتجه بعينه إلى أعلى اليسار فإنه يتذكر شيئا من الماضي له علاقة بالواقع الذي هو فيه وإذا نظر إلى أسفل فإنه يتحدث مع</a:t>
            </a:r>
            <a:r>
              <a:rPr b="0" lang="ar-EG" sz="3000" spc="-1" strike="noStrike">
                <a:solidFill>
                  <a:srgbClr val="000000"/>
                </a:solidFill>
                <a:latin typeface="Arial"/>
              </a:rPr>
              <a:t> </a:t>
            </a:r>
            <a:r>
              <a:rPr b="0" lang="ar-JO" sz="3000" spc="-1" strike="noStrike">
                <a:solidFill>
                  <a:srgbClr val="000000"/>
                </a:solidFill>
                <a:latin typeface="Arial"/>
              </a:rPr>
              <a:t>أحاسيسه وذاته حديثا خاصا ويشاور نفسه في موضوع ما</a:t>
            </a:r>
            <a:r>
              <a:rPr b="0" lang="en-US" sz="3000" spc="-1" strike="noStrike">
                <a:solidFill>
                  <a:srgbClr val="000000"/>
                </a:solidFill>
                <a:latin typeface="Arial"/>
                <a:ea typeface="宋体"/>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حواجب</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إذا رفع المرء حاجبا واحدا فإن ذلك يدل على أنك قلت له شيئا إما أنه لا يصدقه أو يراه مستحيلا، أما رفع كلا الحاجبين فإن ذلك يدل على المفاجأة . أما إذا قطب بين حاجبيه مع ابتسامة خفيفة فإنه يتعجب منك ولكنه لا يريد أن يكذبك واذا تكرر تحريك الحواجب فإنه مبهور ومتعجب من الكلام وموجات كلامك تدخل على دماغه بأكثر من شك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نف والأذنان</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حك أنفه أو مرر يديه على أذنيه ساحبا إياهما بينما يقول لك إنه يفهم ما تريده فهذا يعني أنه متحير بخصوص ما تقوله ومن المحتمل انه لا يعلم مطلقا ما تريد منه أن يفعله . ووضع اليد أسف الأنف فوق الشفة العلية دليل أنه يخفي عنك شيئا ويخاف أن يظهر من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جبين الشخص</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قطب جبينه وطأطأ رأسه للأرض في عبوس فإن ذلك يعني أنه متحير أو مرتبك أو أنه لا يحب سماع ما قلته توا ، أما إذا قطب جبينه ورفعه إلى أعلى فإن ذلك يدل على دهشته لما سمعه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أكتاف</a:t>
            </a:r>
            <a:r>
              <a:rPr b="1"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عندما يهز الشخص كتفه فيعني انه لا يبالي بما تقول</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صابع</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قر الشخص بأصابعه على ذراع المقعد أو على المكتب يشير إلى العصبية أو عدم الصبر.</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دخل لكسب الاخر</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ذات  (المعلوم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زواد (المهار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كسر الجاجز وتذويب الثلوج – الاس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بتسامة</a:t>
            </a: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1042920" y="2637000"/>
            <a:ext cx="88596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وعندما يربت الشخص بذراعيه على صدره</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هذا يعني أن هذا الشخص يحاول عزل نفسه عن الآخرين أو يدل على أنه خائف بالفعل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هذه الإشارات السبع تعطيك فكرة عن لغة الجسد وكيف يمكن استخدامها في إبراز قوة شخصيتك و التعرف على ما يفكر به الآخرون بالرغم من محاولاتهم إخفاء ذ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بين جميع الأبحاث المتوفرة أن لغة الجسد هي الجزء الأهم من أي رسالة تنتقل إلى الشخص الآخر وإن ما بين</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50</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80</a:t>
            </a:r>
            <a:r>
              <a:rPr b="0" lang="en-US" sz="3200" spc="-1" strike="noStrike">
                <a:solidFill>
                  <a:srgbClr val="000000"/>
                </a:solidFill>
                <a:latin typeface="Arial"/>
                <a:ea typeface="宋体"/>
              </a:rPr>
              <a:t>%) </a:t>
            </a:r>
            <a:r>
              <a:rPr b="0" lang="ar-JO" sz="3200" spc="-1" strike="noStrike">
                <a:solidFill>
                  <a:srgbClr val="000000"/>
                </a:solidFill>
                <a:latin typeface="Arial"/>
              </a:rPr>
              <a:t>من المعلومات يمكن أن تنقل بهذه الطريقة وأن الرسالة غير الشفوية المنقولة هي غنية, ومعقدة في طبيعتها, وتحتوي على تعابير الوجه والقرب من الشخص المتكلم</a:t>
            </a:r>
            <a:r>
              <a:rPr b="0" lang="en-US" sz="3200" spc="-1" strike="noStrike">
                <a:solidFill>
                  <a:srgbClr val="000000"/>
                </a:solidFill>
                <a:latin typeface="Arial"/>
                <a:ea typeface="宋体"/>
              </a:rPr>
              <a:t>, </a:t>
            </a:r>
            <a:r>
              <a:rPr b="0" lang="ar-JO" sz="3200" spc="-1" strike="noStrike">
                <a:solidFill>
                  <a:srgbClr val="000000"/>
                </a:solidFill>
                <a:latin typeface="Arial"/>
              </a:rPr>
              <a:t>وحركات اليدين والقدمين, وملابس الشخص المتكلم ونظراته, وتوتره, وانفعالاته وما إلى ذلك</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الرسائل</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ي يقوم الشخص بارسالها الى الاخرين دون ان يشع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يغ الرسالة جيدا التي ترسلها للاخر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كون بلغة الجس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ثال :المتبرج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عراف  بالنسبة للسياح</a:t>
            </a:r>
            <a:endParaRPr b="0" lang="en-US" sz="3200" spc="-1" strike="noStrike">
              <a:solidFill>
                <a:srgbClr val="000000"/>
              </a:solidFill>
              <a:latin typeface="Arial"/>
            </a:endParaRPr>
          </a:p>
        </p:txBody>
      </p:sp>
      <p:pic>
        <p:nvPicPr>
          <p:cNvPr id="131" name="" descr=""/>
          <p:cNvPicPr/>
          <p:nvPr/>
        </p:nvPicPr>
        <p:blipFill>
          <a:blip r:embed="rId1"/>
          <a:stretch/>
        </p:blipFill>
        <p:spPr>
          <a:xfrm>
            <a:off x="0" y="3666960"/>
            <a:ext cx="3352680" cy="319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3132000" y="3068640"/>
            <a:ext cx="345600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آن للامام ان يمد رجل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 المفاوضات والمباريات</a:t>
            </a:r>
            <a:endParaRPr b="0" lang="en-US" sz="4400" spc="-1" strike="noStrike">
              <a:solidFill>
                <a:srgbClr val="000000"/>
              </a:solidFill>
              <a:latin typeface="Arial"/>
            </a:endParaRPr>
          </a:p>
        </p:txBody>
      </p:sp>
      <p:pic>
        <p:nvPicPr>
          <p:cNvPr id="136" name="" descr=""/>
          <p:cNvPicPr/>
          <p:nvPr/>
        </p:nvPicPr>
        <p:blipFill>
          <a:blip r:embed="rId1"/>
          <a:stretch/>
        </p:blipFill>
        <p:spPr>
          <a:xfrm>
            <a:off x="755640" y="1628640"/>
            <a:ext cx="7704000" cy="468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خريطة المباريات</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صفرية (لا ينظر الى أجندة 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غير صفرية (وضع أجندة الاخر في الاعت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تحالف (مع بعض الاخ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حامي (من سيحميني من الاخرين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سوبر (تلعب بكل الادوات الممك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قائد (من يقود التفاوض)</a:t>
            </a:r>
            <a:endParaRPr b="0" lang="en-US" sz="3200" spc="-1" strike="noStrike">
              <a:solidFill>
                <a:srgbClr val="000000"/>
              </a:solidFill>
              <a:latin typeface="Arial"/>
            </a:endParaRPr>
          </a:p>
        </p:txBody>
      </p:sp>
      <p:pic>
        <p:nvPicPr>
          <p:cNvPr id="139" name="" descr="fight.gif (80326 Byte)"/>
          <p:cNvPicPr/>
          <p:nvPr/>
        </p:nvPicPr>
        <p:blipFill>
          <a:blip r:embed="rId1"/>
          <a:stretch/>
        </p:blipFill>
        <p:spPr>
          <a:xfrm>
            <a:off x="108000" y="4046400"/>
            <a:ext cx="2581200" cy="26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ن أنواع التفاوض</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استكش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لاعادة الهيك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تأثيرات الجانب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متى)</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سويف ( الصمت المؤق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فاجأ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مر الواقع</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هاد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ظاهر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كر او الفراو التحو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قيود</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خد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كيف ؟ اين)</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شاركة في العم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ساهم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صية المفتعلة ورد الفعل السلب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مفترق الطرق</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غط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شوائ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درج</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صنيف الفئو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كي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واع المفاوضين</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9" name=""/>
          <p:cNvGraphicFramePr/>
          <p:nvPr/>
        </p:nvGraphicFramePr>
        <p:xfrm>
          <a:off x="395280" y="1341360"/>
          <a:ext cx="8424720" cy="5315040"/>
        </p:xfrm>
        <a:graphic>
          <a:graphicData uri="http://schemas.openxmlformats.org/drawingml/2006/table">
            <a:tbl>
              <a:tblPr/>
              <a:tblGrid>
                <a:gridCol w="2457360"/>
                <a:gridCol w="2384640"/>
                <a:gridCol w="2149200"/>
                <a:gridCol w="1433520"/>
              </a:tblGrid>
              <a:tr h="4748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وضوع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شدد</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حل مشاك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خصوم</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أصدقاء</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ظرة للمفوضين</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نتيجة يتوصل اليه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صر</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اتفاق</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هد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 التفاوضي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طلب 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تنازل بسهو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92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يهاجم المشاكل فقط لا الاشخاص)</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عصب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ساهل والتشدد الهجوم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نظر الى المصالح للجميع</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لا يتغير نهائي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بسهوله</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تغيير الموق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2987640" y="1484280"/>
            <a:ext cx="1590840" cy="924120"/>
          </a:xfrm>
          <a:prstGeom prst="rect">
            <a:avLst/>
          </a:prstGeom>
          <a:ln w="0">
            <a:noFill/>
          </a:ln>
        </p:spPr>
      </p:pic>
      <p:pic>
        <p:nvPicPr>
          <p:cNvPr id="54" name="" descr="">
            <a:hlinkClick r:id="rId3"/>
          </p:cNvPr>
          <p:cNvPicPr/>
          <p:nvPr/>
        </p:nvPicPr>
        <p:blipFill>
          <a:blip r:embed="rId4"/>
          <a:stretch/>
        </p:blipFill>
        <p:spPr>
          <a:xfrm>
            <a:off x="2987640" y="2565360"/>
            <a:ext cx="1584360" cy="934920"/>
          </a:xfrm>
          <a:prstGeom prst="rect">
            <a:avLst/>
          </a:prstGeom>
          <a:ln w="0">
            <a:noFill/>
          </a:ln>
        </p:spPr>
      </p:pic>
      <p:pic>
        <p:nvPicPr>
          <p:cNvPr id="55" name="" descr="">
            <a:hlinkClick r:id="rId5"/>
          </p:cNvPr>
          <p:cNvPicPr/>
          <p:nvPr/>
        </p:nvPicPr>
        <p:blipFill>
          <a:blip r:embed="rId6"/>
          <a:stretch/>
        </p:blipFill>
        <p:spPr>
          <a:xfrm>
            <a:off x="2987640" y="3500280"/>
            <a:ext cx="1536840" cy="792360"/>
          </a:xfrm>
          <a:prstGeom prst="rect">
            <a:avLst/>
          </a:prstGeom>
          <a:ln w="0">
            <a:noFill/>
          </a:ln>
        </p:spPr>
      </p:pic>
      <p:pic>
        <p:nvPicPr>
          <p:cNvPr id="56" name="" descr="">
            <a:hlinkClick r:id="rId7"/>
          </p:cNvPr>
          <p:cNvPicPr/>
          <p:nvPr/>
        </p:nvPicPr>
        <p:blipFill>
          <a:blip r:embed="rId8"/>
          <a:stretch/>
        </p:blipFill>
        <p:spPr>
          <a:xfrm>
            <a:off x="2916360" y="4365720"/>
            <a:ext cx="1726920" cy="1019160"/>
          </a:xfrm>
          <a:prstGeom prst="rect">
            <a:avLst/>
          </a:prstGeom>
          <a:ln w="0">
            <a:noFill/>
          </a:ln>
        </p:spPr>
      </p:pic>
      <p:pic>
        <p:nvPicPr>
          <p:cNvPr id="57" name="" descr="">
            <a:hlinkClick r:id="rId9"/>
          </p:cNvPr>
          <p:cNvPicPr/>
          <p:nvPr/>
        </p:nvPicPr>
        <p:blipFill>
          <a:blip r:embed="rId10"/>
          <a:stretch/>
        </p:blipFill>
        <p:spPr>
          <a:xfrm>
            <a:off x="2916360" y="5445000"/>
            <a:ext cx="1726920" cy="9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619280" y="1989000"/>
            <a:ext cx="58323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صمت الميت (أنانية والغاء ل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ائف (الخوف من التعر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بير (يشتري ولا يب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ساخر(ينظر من أعلى الى اسف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متأمل (يستوعب التفاص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يقظ (نشاط الاستعداد والتهيؤ للمشا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صورة</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Jesus with hand gun and automatic rifle"/>
          <p:cNvPicPr/>
          <p:nvPr/>
        </p:nvPicPr>
        <p:blipFill>
          <a:blip r:embed="rId1"/>
          <a:stretch/>
        </p:blipFill>
        <p:spPr>
          <a:xfrm>
            <a:off x="3564000" y="1790640"/>
            <a:ext cx="2895480" cy="3943440"/>
          </a:xfrm>
          <a:prstGeom prst="rect">
            <a:avLst/>
          </a:prstGeom>
          <a:ln w="0">
            <a:noFill/>
          </a:ln>
        </p:spPr>
      </p:pic>
      <p:sp>
        <p:nvSpPr>
          <p:cNvPr id="158" name=""/>
          <p:cNvSpPr/>
          <p:nvPr/>
        </p:nvSpPr>
        <p:spPr>
          <a:xfrm>
            <a:off x="3908520" y="1749600"/>
            <a:ext cx="2241360" cy="446040"/>
          </a:xfrm>
          <a:custGeom>
            <a:avLst/>
            <a:gdLst/>
            <a:ahLst/>
            <a:rect l="l" t="t" r="r" b="b"/>
            <a:pathLst>
              <a:path w="6225" h="1239">
                <a:moveTo>
                  <a:pt x="12478" y="5429"/>
                </a:moveTo>
                <a:cubicBezTo>
                  <a:pt x="12563" y="5415"/>
                  <a:pt x="12640" y="5412"/>
                  <a:pt x="12732" y="5398"/>
                </a:cubicBezTo>
                <a:cubicBezTo>
                  <a:pt x="13145" y="5333"/>
                  <a:pt x="13550" y="5343"/>
                  <a:pt x="13970" y="5302"/>
                </a:cubicBezTo>
                <a:cubicBezTo>
                  <a:pt x="14236" y="5276"/>
                  <a:pt x="14653" y="5450"/>
                  <a:pt x="14764" y="5207"/>
                </a:cubicBezTo>
                <a:cubicBezTo>
                  <a:pt x="14790" y="5149"/>
                  <a:pt x="14498" y="5172"/>
                  <a:pt x="14478" y="5175"/>
                </a:cubicBezTo>
                <a:cubicBezTo>
                  <a:pt x="14059" y="5231"/>
                  <a:pt x="13631" y="5242"/>
                  <a:pt x="13208" y="5270"/>
                </a:cubicBezTo>
                <a:cubicBezTo>
                  <a:pt x="12911" y="5290"/>
                  <a:pt x="12570" y="5495"/>
                  <a:pt x="12319" y="5334"/>
                </a:cubicBezTo>
                <a:cubicBezTo>
                  <a:pt x="12206" y="5262"/>
                  <a:pt x="12566" y="5273"/>
                  <a:pt x="12700" y="5270"/>
                </a:cubicBezTo>
                <a:cubicBezTo>
                  <a:pt x="13018" y="5264"/>
                  <a:pt x="13334" y="5302"/>
                  <a:pt x="13652" y="5302"/>
                </a:cubicBezTo>
                <a:cubicBezTo>
                  <a:pt x="13853" y="5302"/>
                  <a:pt x="13663" y="5331"/>
                  <a:pt x="13621" y="5334"/>
                </a:cubicBezTo>
                <a:cubicBezTo>
                  <a:pt x="13431" y="5348"/>
                  <a:pt x="13238" y="5342"/>
                  <a:pt x="13049" y="5366"/>
                </a:cubicBezTo>
                <a:cubicBezTo>
                  <a:pt x="12861" y="5390"/>
                  <a:pt x="12663" y="5417"/>
                  <a:pt x="12478" y="5429"/>
                </a:cubicBezTo>
                <a:cubicBezTo>
                  <a:pt x="12329" y="5438"/>
                  <a:pt x="12373" y="5431"/>
                  <a:pt x="12382" y="5334"/>
                </a:cubicBezTo>
                <a:cubicBezTo>
                  <a:pt x="12388" y="5268"/>
                  <a:pt x="12498" y="5215"/>
                  <a:pt x="12541" y="5175"/>
                </a:cubicBezTo>
                <a:cubicBezTo>
                  <a:pt x="12545" y="5171"/>
                  <a:pt x="12702" y="5045"/>
                  <a:pt x="12700" y="5048"/>
                </a:cubicBezTo>
                <a:cubicBezTo>
                  <a:pt x="12680" y="5089"/>
                  <a:pt x="12561" y="5196"/>
                  <a:pt x="12541" y="5207"/>
                </a:cubicBezTo>
                <a:cubicBezTo>
                  <a:pt x="12484" y="5239"/>
                  <a:pt x="12450" y="5293"/>
                  <a:pt x="12414" y="5239"/>
                </a:cubicBezTo>
                <a:cubicBezTo>
                  <a:pt x="12380" y="5189"/>
                  <a:pt x="12440" y="5114"/>
                  <a:pt x="12446" y="5080"/>
                </a:cubicBezTo>
                <a:cubicBezTo>
                  <a:pt x="12455" y="5034"/>
                  <a:pt x="12524" y="4961"/>
                  <a:pt x="12478" y="4953"/>
                </a:cubicBezTo>
                <a:cubicBezTo>
                  <a:pt x="12466" y="4951"/>
                  <a:pt x="12423" y="5074"/>
                  <a:pt x="12414" y="5080"/>
                </a:cubicBezTo>
                <a:cubicBezTo>
                  <a:pt x="12371" y="5110"/>
                  <a:pt x="12273" y="5140"/>
                  <a:pt x="12224" y="5175"/>
                </a:cubicBezTo>
                <a:cubicBezTo>
                  <a:pt x="12110" y="5256"/>
                  <a:pt x="12302" y="5089"/>
                  <a:pt x="12319" y="5080"/>
                </a:cubicBezTo>
                <a:cubicBezTo>
                  <a:pt x="12418" y="5028"/>
                  <a:pt x="12592" y="5051"/>
                  <a:pt x="12700" y="5048"/>
                </a:cubicBezTo>
                <a:cubicBezTo>
                  <a:pt x="12797" y="5046"/>
                  <a:pt x="12900" y="4985"/>
                  <a:pt x="12922" y="5080"/>
                </a:cubicBezTo>
                <a:cubicBezTo>
                  <a:pt x="12947" y="5187"/>
                  <a:pt x="12767" y="5178"/>
                  <a:pt x="12700" y="5207"/>
                </a:cubicBezTo>
                <a:cubicBezTo>
                  <a:pt x="12537" y="5279"/>
                  <a:pt x="12400" y="5323"/>
                  <a:pt x="12224" y="5334"/>
                </a:cubicBezTo>
                <a:cubicBezTo>
                  <a:pt x="12267" y="5315"/>
                  <a:pt x="12244" y="5320"/>
                  <a:pt x="12287" y="5302"/>
                </a:cubicBezTo>
                <a:cubicBezTo>
                  <a:pt x="12448" y="5235"/>
                  <a:pt x="12620" y="5217"/>
                  <a:pt x="12795" y="5207"/>
                </a:cubicBezTo>
                <a:cubicBezTo>
                  <a:pt x="12869" y="5203"/>
                  <a:pt x="13322" y="5200"/>
                  <a:pt x="13367" y="5270"/>
                </a:cubicBezTo>
                <a:cubicBezTo>
                  <a:pt x="13406" y="5331"/>
                  <a:pt x="13242" y="5304"/>
                  <a:pt x="13176" y="5334"/>
                </a:cubicBezTo>
                <a:cubicBezTo>
                  <a:pt x="12992" y="5416"/>
                  <a:pt x="12843" y="5456"/>
                  <a:pt x="12636" y="5461"/>
                </a:cubicBezTo>
                <a:cubicBezTo>
                  <a:pt x="12483" y="5465"/>
                  <a:pt x="12261" y="5693"/>
                  <a:pt x="12192" y="5556"/>
                </a:cubicBezTo>
                <a:cubicBezTo>
                  <a:pt x="12160" y="5493"/>
                  <a:pt x="12406" y="5463"/>
                  <a:pt x="12414" y="5461"/>
                </a:cubicBezTo>
                <a:cubicBezTo>
                  <a:pt x="12950" y="5351"/>
                  <a:pt x="13552" y="5348"/>
                  <a:pt x="14097" y="5334"/>
                </a:cubicBezTo>
                <a:cubicBezTo>
                  <a:pt x="14404" y="5326"/>
                  <a:pt x="14953" y="5027"/>
                  <a:pt x="14954" y="5334"/>
                </a:cubicBezTo>
                <a:cubicBezTo>
                  <a:pt x="14954" y="5388"/>
                  <a:pt x="14757" y="5392"/>
                  <a:pt x="14732" y="5398"/>
                </a:cubicBezTo>
                <a:cubicBezTo>
                  <a:pt x="14571" y="5437"/>
                  <a:pt x="14418" y="5462"/>
                  <a:pt x="14256" y="5493"/>
                </a:cubicBezTo>
                <a:cubicBezTo>
                  <a:pt x="14233" y="5497"/>
                  <a:pt x="13939" y="5558"/>
                  <a:pt x="13970" y="5524"/>
                </a:cubicBezTo>
                <a:cubicBezTo>
                  <a:pt x="14058" y="5426"/>
                  <a:pt x="14132" y="5479"/>
                  <a:pt x="14256" y="5461"/>
                </a:cubicBezTo>
                <a:cubicBezTo>
                  <a:pt x="14457" y="5431"/>
                  <a:pt x="14661" y="5431"/>
                  <a:pt x="14859" y="5398"/>
                </a:cubicBezTo>
                <a:cubicBezTo>
                  <a:pt x="14938" y="5385"/>
                  <a:pt x="14968" y="5396"/>
                  <a:pt x="15018" y="5334"/>
                </a:cubicBezTo>
                <a:cubicBezTo>
                  <a:pt x="15053" y="5291"/>
                  <a:pt x="14956" y="5325"/>
                  <a:pt x="14922" y="5334"/>
                </a:cubicBezTo>
                <a:cubicBezTo>
                  <a:pt x="14828" y="5358"/>
                  <a:pt x="14764" y="5396"/>
                  <a:pt x="14668" y="5429"/>
                </a:cubicBezTo>
                <a:cubicBezTo>
                  <a:pt x="14632" y="5441"/>
                  <a:pt x="14551" y="5458"/>
                  <a:pt x="14605" y="5398"/>
                </a:cubicBezTo>
                <a:cubicBezTo>
                  <a:pt x="14696" y="5297"/>
                  <a:pt x="14865" y="5340"/>
                  <a:pt x="14986" y="5302"/>
                </a:cubicBezTo>
                <a:cubicBezTo>
                  <a:pt x="15062" y="5278"/>
                  <a:pt x="15158" y="5210"/>
                  <a:pt x="15176" y="5239"/>
                </a:cubicBezTo>
                <a:cubicBezTo>
                  <a:pt x="15202" y="5283"/>
                  <a:pt x="15128" y="5317"/>
                  <a:pt x="15113" y="5366"/>
                </a:cubicBezTo>
                <a:cubicBezTo>
                  <a:pt x="15098" y="5416"/>
                  <a:pt x="14997" y="5461"/>
                  <a:pt x="15050" y="5461"/>
                </a:cubicBezTo>
                <a:cubicBezTo>
                  <a:pt x="15154" y="5462"/>
                  <a:pt x="15113" y="5399"/>
                  <a:pt x="15176" y="5334"/>
                </a:cubicBezTo>
                <a:cubicBezTo>
                  <a:pt x="15223" y="5285"/>
                  <a:pt x="15364" y="5185"/>
                  <a:pt x="15430" y="5175"/>
                </a:cubicBezTo>
                <a:cubicBezTo>
                  <a:pt x="15506" y="5163"/>
                  <a:pt x="15466" y="5200"/>
                  <a:pt x="15462" y="5270"/>
                </a:cubicBezTo>
                <a:cubicBezTo>
                  <a:pt x="15458" y="5344"/>
                  <a:pt x="15447" y="5391"/>
                  <a:pt x="15430" y="5461"/>
                </a:cubicBezTo>
                <a:cubicBezTo>
                  <a:pt x="15411" y="5539"/>
                  <a:pt x="15332" y="5645"/>
                  <a:pt x="15430" y="5556"/>
                </a:cubicBezTo>
                <a:cubicBezTo>
                  <a:pt x="15468" y="5522"/>
                  <a:pt x="15513" y="5397"/>
                  <a:pt x="15558" y="5334"/>
                </a:cubicBezTo>
                <a:cubicBezTo>
                  <a:pt x="15581" y="5302"/>
                  <a:pt x="15648" y="5201"/>
                  <a:pt x="15653" y="5302"/>
                </a:cubicBezTo>
                <a:cubicBezTo>
                  <a:pt x="15657" y="5385"/>
                  <a:pt x="15628" y="5444"/>
                  <a:pt x="15621" y="5524"/>
                </a:cubicBezTo>
                <a:cubicBezTo>
                  <a:pt x="15616" y="5588"/>
                  <a:pt x="15586" y="5736"/>
                  <a:pt x="15589" y="5778"/>
                </a:cubicBezTo>
                <a:cubicBezTo>
                  <a:pt x="15596" y="5873"/>
                  <a:pt x="15551" y="5830"/>
                  <a:pt x="15621" y="5810"/>
                </a:cubicBezTo>
                <a:cubicBezTo>
                  <a:pt x="15633" y="5806"/>
                  <a:pt x="15665" y="5749"/>
                  <a:pt x="15716" y="5747"/>
                </a:cubicBezTo>
                <a:cubicBezTo>
                  <a:pt x="15781" y="5744"/>
                  <a:pt x="15768" y="5760"/>
                  <a:pt x="15812" y="5778"/>
                </a:cubicBezTo>
                <a:cubicBezTo>
                  <a:pt x="15842" y="5790"/>
                  <a:pt x="15901" y="5840"/>
                  <a:pt x="15907" y="5842"/>
                </a:cubicBezTo>
                <a:cubicBezTo>
                  <a:pt x="16023" y="5890"/>
                  <a:pt x="15959" y="5779"/>
                  <a:pt x="15938" y="5842"/>
                </a:cubicBezTo>
                <a:cubicBezTo>
                  <a:pt x="15906" y="5941"/>
                  <a:pt x="15878" y="5947"/>
                  <a:pt x="15812" y="6001"/>
                </a:cubicBezTo>
                <a:cubicBezTo>
                  <a:pt x="15812" y="6032"/>
                  <a:pt x="15812" y="6043"/>
                  <a:pt x="15780" y="6032"/>
                </a:cubicBezTo>
                <a:cubicBezTo>
                  <a:pt x="15789" y="5991"/>
                  <a:pt x="15762" y="6007"/>
                  <a:pt x="15780" y="5969"/>
                </a:cubicBezTo>
                <a:cubicBezTo>
                  <a:pt x="15789" y="5950"/>
                  <a:pt x="15833" y="5926"/>
                  <a:pt x="15843" y="5874"/>
                </a:cubicBezTo>
                <a:cubicBezTo>
                  <a:pt x="15862" y="5775"/>
                  <a:pt x="15849" y="5715"/>
                  <a:pt x="15812" y="5715"/>
                </a:cubicBezTo>
                <a:cubicBezTo>
                  <a:pt x="15720" y="5715"/>
                  <a:pt x="15699" y="5779"/>
                  <a:pt x="15621" y="5810"/>
                </a:cubicBezTo>
                <a:cubicBezTo>
                  <a:pt x="15590" y="5822"/>
                  <a:pt x="15523" y="5827"/>
                  <a:pt x="15494" y="5842"/>
                </a:cubicBezTo>
                <a:cubicBezTo>
                  <a:pt x="15439" y="5870"/>
                  <a:pt x="15532" y="5883"/>
                  <a:pt x="15589" y="5810"/>
                </a:cubicBezTo>
                <a:cubicBezTo>
                  <a:pt x="15623" y="5766"/>
                  <a:pt x="15653" y="5746"/>
                  <a:pt x="15684" y="5715"/>
                </a:cubicBezTo>
                <a:cubicBezTo>
                  <a:pt x="15714" y="5685"/>
                  <a:pt x="15758" y="5693"/>
                  <a:pt x="15748" y="5652"/>
                </a:cubicBezTo>
                <a:cubicBezTo>
                  <a:pt x="15735" y="5601"/>
                  <a:pt x="15721" y="5682"/>
                  <a:pt x="15684" y="5715"/>
                </a:cubicBezTo>
                <a:cubicBezTo>
                  <a:pt x="15677" y="5721"/>
                  <a:pt x="15586" y="5795"/>
                  <a:pt x="15558" y="5810"/>
                </a:cubicBezTo>
                <a:cubicBezTo>
                  <a:pt x="15494" y="5844"/>
                  <a:pt x="15366" y="5882"/>
                  <a:pt x="15399" y="5810"/>
                </a:cubicBezTo>
                <a:cubicBezTo>
                  <a:pt x="15409" y="5788"/>
                  <a:pt x="15570" y="5721"/>
                  <a:pt x="15589" y="5715"/>
                </a:cubicBezTo>
                <a:cubicBezTo>
                  <a:pt x="15614" y="5708"/>
                  <a:pt x="15915" y="5624"/>
                  <a:pt x="15907" y="5620"/>
                </a:cubicBezTo>
                <a:cubicBezTo>
                  <a:pt x="15905" y="5619"/>
                  <a:pt x="15723" y="5640"/>
                  <a:pt x="15653" y="5652"/>
                </a:cubicBezTo>
                <a:cubicBezTo>
                  <a:pt x="15441" y="5688"/>
                  <a:pt x="15233" y="5710"/>
                  <a:pt x="15018" y="5715"/>
                </a:cubicBezTo>
                <a:cubicBezTo>
                  <a:pt x="14883" y="5718"/>
                  <a:pt x="14767" y="5735"/>
                  <a:pt x="14637" y="5747"/>
                </a:cubicBezTo>
                <a:cubicBezTo>
                  <a:pt x="14615" y="5749"/>
                  <a:pt x="14502" y="5767"/>
                  <a:pt x="14573" y="5747"/>
                </a:cubicBezTo>
                <a:cubicBezTo>
                  <a:pt x="14626" y="5732"/>
                  <a:pt x="14758" y="5715"/>
                  <a:pt x="14859" y="5715"/>
                </a:cubicBezTo>
                <a:cubicBezTo>
                  <a:pt x="14935" y="5715"/>
                  <a:pt x="15358" y="5693"/>
                  <a:pt x="15304" y="5747"/>
                </a:cubicBezTo>
                <a:cubicBezTo>
                  <a:pt x="15238" y="5812"/>
                  <a:pt x="14949" y="5834"/>
                  <a:pt x="14859" y="5842"/>
                </a:cubicBezTo>
                <a:cubicBezTo>
                  <a:pt x="14715" y="5854"/>
                  <a:pt x="14325" y="5984"/>
                  <a:pt x="14192" y="5937"/>
                </a:cubicBezTo>
                <a:cubicBezTo>
                  <a:pt x="14114" y="5909"/>
                  <a:pt x="14268" y="5879"/>
                  <a:pt x="14351" y="5874"/>
                </a:cubicBezTo>
                <a:cubicBezTo>
                  <a:pt x="14564" y="5861"/>
                  <a:pt x="14770" y="5842"/>
                  <a:pt x="14986" y="5842"/>
                </a:cubicBezTo>
                <a:cubicBezTo>
                  <a:pt x="15082" y="5842"/>
                  <a:pt x="15247" y="5859"/>
                  <a:pt x="15240" y="5842"/>
                </a:cubicBezTo>
                <a:cubicBezTo>
                  <a:pt x="15193" y="5724"/>
                  <a:pt x="14906" y="5796"/>
                  <a:pt x="14827" y="5810"/>
                </a:cubicBezTo>
                <a:cubicBezTo>
                  <a:pt x="14769" y="5821"/>
                  <a:pt x="14261" y="5795"/>
                  <a:pt x="14383" y="5842"/>
                </a:cubicBezTo>
                <a:cubicBezTo>
                  <a:pt x="14510" y="5891"/>
                  <a:pt x="14823" y="5890"/>
                  <a:pt x="14954" y="5906"/>
                </a:cubicBezTo>
                <a:cubicBezTo>
                  <a:pt x="15112" y="5926"/>
                  <a:pt x="15272" y="5916"/>
                  <a:pt x="15430" y="5937"/>
                </a:cubicBezTo>
                <a:cubicBezTo>
                  <a:pt x="15598" y="5959"/>
                  <a:pt x="15362" y="5937"/>
                  <a:pt x="15335" y="5937"/>
                </a:cubicBezTo>
                <a:cubicBezTo>
                  <a:pt x="14708" y="5937"/>
                  <a:pt x="14085" y="5917"/>
                  <a:pt x="13462" y="5874"/>
                </a:cubicBezTo>
                <a:cubicBezTo>
                  <a:pt x="13421" y="5871"/>
                  <a:pt x="13042" y="5874"/>
                  <a:pt x="13208" y="5874"/>
                </a:cubicBezTo>
                <a:cubicBezTo>
                  <a:pt x="13866" y="5874"/>
                  <a:pt x="14519" y="5925"/>
                  <a:pt x="15176" y="5937"/>
                </a:cubicBezTo>
                <a:cubicBezTo>
                  <a:pt x="15258" y="5938"/>
                  <a:pt x="15347" y="5956"/>
                  <a:pt x="15240" y="5937"/>
                </a:cubicBezTo>
                <a:cubicBezTo>
                  <a:pt x="14961" y="5888"/>
                  <a:pt x="14629" y="5881"/>
                  <a:pt x="14351" y="5874"/>
                </a:cubicBezTo>
                <a:cubicBezTo>
                  <a:pt x="13818" y="5861"/>
                  <a:pt x="13262" y="5848"/>
                  <a:pt x="12732" y="5906"/>
                </a:cubicBezTo>
                <a:cubicBezTo>
                  <a:pt x="12720" y="5907"/>
                  <a:pt x="12492" y="5930"/>
                  <a:pt x="12573" y="5937"/>
                </a:cubicBezTo>
                <a:cubicBezTo>
                  <a:pt x="13164" y="5989"/>
                  <a:pt x="14297" y="6170"/>
                  <a:pt x="14827" y="5937"/>
                </a:cubicBezTo>
                <a:cubicBezTo>
                  <a:pt x="14891" y="5909"/>
                  <a:pt x="14889" y="5927"/>
                  <a:pt x="14796" y="5906"/>
                </a:cubicBezTo>
                <a:cubicBezTo>
                  <a:pt x="14531" y="5845"/>
                  <a:pt x="14166" y="5849"/>
                  <a:pt x="13906" y="5842"/>
                </a:cubicBezTo>
                <a:cubicBezTo>
                  <a:pt x="13477" y="5831"/>
                  <a:pt x="13058" y="5829"/>
                  <a:pt x="12636" y="5906"/>
                </a:cubicBezTo>
                <a:cubicBezTo>
                  <a:pt x="12529" y="5925"/>
                  <a:pt x="12319" y="5861"/>
                  <a:pt x="12319" y="5969"/>
                </a:cubicBezTo>
                <a:cubicBezTo>
                  <a:pt x="12319" y="6129"/>
                  <a:pt x="12636" y="5947"/>
                  <a:pt x="12795" y="5937"/>
                </a:cubicBezTo>
                <a:cubicBezTo>
                  <a:pt x="13346" y="5902"/>
                  <a:pt x="13894" y="5906"/>
                  <a:pt x="14446" y="5906"/>
                </a:cubicBezTo>
                <a:cubicBezTo>
                  <a:pt x="14564" y="5906"/>
                  <a:pt x="14747" y="5952"/>
                  <a:pt x="14573" y="5874"/>
                </a:cubicBezTo>
                <a:cubicBezTo>
                  <a:pt x="14258" y="5733"/>
                  <a:pt x="13702" y="5822"/>
                  <a:pt x="13367" y="5810"/>
                </a:cubicBezTo>
                <a:cubicBezTo>
                  <a:pt x="13056" y="5799"/>
                  <a:pt x="12724" y="5735"/>
                  <a:pt x="12414" y="5778"/>
                </a:cubicBezTo>
                <a:cubicBezTo>
                  <a:pt x="12363" y="5785"/>
                  <a:pt x="12220" y="5778"/>
                  <a:pt x="12319" y="5778"/>
                </a:cubicBezTo>
                <a:cubicBezTo>
                  <a:pt x="12492" y="5778"/>
                  <a:pt x="12656" y="5722"/>
                  <a:pt x="12827" y="5715"/>
                </a:cubicBezTo>
                <a:cubicBezTo>
                  <a:pt x="13249" y="5699"/>
                  <a:pt x="13675" y="5715"/>
                  <a:pt x="14097" y="5715"/>
                </a:cubicBezTo>
                <a:cubicBezTo>
                  <a:pt x="14111" y="5715"/>
                  <a:pt x="14443" y="5686"/>
                  <a:pt x="14383" y="5715"/>
                </a:cubicBezTo>
                <a:cubicBezTo>
                  <a:pt x="14256" y="5778"/>
                  <a:pt x="14118" y="5761"/>
                  <a:pt x="13970" y="5778"/>
                </a:cubicBezTo>
                <a:cubicBezTo>
                  <a:pt x="13232" y="5864"/>
                  <a:pt x="12489" y="5833"/>
                  <a:pt x="11748" y="5906"/>
                </a:cubicBezTo>
                <a:cubicBezTo>
                  <a:pt x="11617" y="5919"/>
                  <a:pt x="11468" y="5989"/>
                  <a:pt x="11335" y="5969"/>
                </a:cubicBezTo>
                <a:cubicBezTo>
                  <a:pt x="11246" y="5956"/>
                  <a:pt x="11500" y="5923"/>
                  <a:pt x="11589" y="5906"/>
                </a:cubicBezTo>
                <a:cubicBezTo>
                  <a:pt x="11919" y="5841"/>
                  <a:pt x="12271" y="5845"/>
                  <a:pt x="12605" y="5842"/>
                </a:cubicBezTo>
                <a:cubicBezTo>
                  <a:pt x="12705" y="5841"/>
                  <a:pt x="13245" y="5863"/>
                  <a:pt x="13272" y="5874"/>
                </a:cubicBezTo>
                <a:cubicBezTo>
                  <a:pt x="13306" y="5888"/>
                  <a:pt x="12934" y="5906"/>
                  <a:pt x="12922" y="5906"/>
                </a:cubicBezTo>
                <a:cubicBezTo>
                  <a:pt x="12328" y="5906"/>
                  <a:pt x="11737" y="5930"/>
                  <a:pt x="11144" y="5937"/>
                </a:cubicBezTo>
                <a:cubicBezTo>
                  <a:pt x="11047" y="5938"/>
                  <a:pt x="10885" y="5950"/>
                  <a:pt x="10890" y="5937"/>
                </a:cubicBezTo>
                <a:cubicBezTo>
                  <a:pt x="11004" y="5651"/>
                  <a:pt x="11474" y="5844"/>
                  <a:pt x="11779" y="5810"/>
                </a:cubicBezTo>
                <a:cubicBezTo>
                  <a:pt x="12664" y="5711"/>
                  <a:pt x="13555" y="5654"/>
                  <a:pt x="14446" y="5588"/>
                </a:cubicBezTo>
                <a:cubicBezTo>
                  <a:pt x="14551" y="5580"/>
                  <a:pt x="14739" y="5562"/>
                  <a:pt x="14637" y="5588"/>
                </a:cubicBezTo>
                <a:cubicBezTo>
                  <a:pt x="14205" y="5700"/>
                  <a:pt x="13780" y="5709"/>
                  <a:pt x="13335" y="5715"/>
                </a:cubicBezTo>
                <a:cubicBezTo>
                  <a:pt x="12784" y="5715"/>
                  <a:pt x="12573" y="5717"/>
                  <a:pt x="12192" y="5747"/>
                </a:cubicBezTo>
                <a:cubicBezTo>
                  <a:pt x="11948" y="5765"/>
                  <a:pt x="11668" y="5950"/>
                  <a:pt x="11494" y="5778"/>
                </a:cubicBezTo>
                <a:cubicBezTo>
                  <a:pt x="11298" y="5585"/>
                  <a:pt x="12013" y="5604"/>
                  <a:pt x="12287" y="5588"/>
                </a:cubicBezTo>
                <a:cubicBezTo>
                  <a:pt x="13121" y="5539"/>
                  <a:pt x="13959" y="5461"/>
                  <a:pt x="14796" y="5461"/>
                </a:cubicBezTo>
                <a:cubicBezTo>
                  <a:pt x="15304" y="5461"/>
                  <a:pt x="13780" y="5490"/>
                  <a:pt x="13272" y="5493"/>
                </a:cubicBezTo>
                <a:cubicBezTo>
                  <a:pt x="13160" y="5494"/>
                  <a:pt x="11972" y="5531"/>
                  <a:pt x="12128" y="5461"/>
                </a:cubicBezTo>
                <a:cubicBezTo>
                  <a:pt x="12483" y="5302"/>
                  <a:pt x="13160" y="5343"/>
                  <a:pt x="13526" y="5334"/>
                </a:cubicBezTo>
                <a:cubicBezTo>
                  <a:pt x="14330" y="5314"/>
                  <a:pt x="15134" y="5331"/>
                  <a:pt x="15938" y="5302"/>
                </a:cubicBezTo>
                <a:cubicBezTo>
                  <a:pt x="16023" y="5299"/>
                  <a:pt x="15832" y="5292"/>
                  <a:pt x="15748" y="5302"/>
                </a:cubicBezTo>
                <a:cubicBezTo>
                  <a:pt x="15121" y="5374"/>
                  <a:pt x="14475" y="5334"/>
                  <a:pt x="13843" y="5334"/>
                </a:cubicBezTo>
                <a:cubicBezTo>
                  <a:pt x="13610" y="5334"/>
                  <a:pt x="13377" y="5334"/>
                  <a:pt x="13144" y="5334"/>
                </a:cubicBezTo>
                <a:cubicBezTo>
                  <a:pt x="12988" y="5344"/>
                  <a:pt x="12053" y="5494"/>
                  <a:pt x="12128" y="5366"/>
                </a:cubicBezTo>
                <a:cubicBezTo>
                  <a:pt x="12171" y="5355"/>
                  <a:pt x="12213" y="5345"/>
                  <a:pt x="12256" y="5334"/>
                </a:cubicBezTo>
                <a:cubicBezTo>
                  <a:pt x="13421" y="5334"/>
                  <a:pt x="14584" y="5349"/>
                  <a:pt x="15748" y="5366"/>
                </a:cubicBezTo>
                <a:cubicBezTo>
                  <a:pt x="16034" y="5370"/>
                  <a:pt x="16256" y="5366"/>
                  <a:pt x="16542" y="5366"/>
                </a:cubicBezTo>
                <a:cubicBezTo>
                  <a:pt x="16923" y="5366"/>
                  <a:pt x="15779" y="5360"/>
                  <a:pt x="15399" y="5334"/>
                </a:cubicBezTo>
                <a:cubicBezTo>
                  <a:pt x="14524" y="5274"/>
                  <a:pt x="13674" y="5207"/>
                  <a:pt x="12795" y="5207"/>
                </a:cubicBezTo>
                <a:cubicBezTo>
                  <a:pt x="12651" y="5207"/>
                  <a:pt x="12428" y="5231"/>
                  <a:pt x="12668" y="5175"/>
                </a:cubicBezTo>
                <a:cubicBezTo>
                  <a:pt x="13415" y="5002"/>
                  <a:pt x="14326" y="5195"/>
                  <a:pt x="15081" y="5207"/>
                </a:cubicBezTo>
                <a:cubicBezTo>
                  <a:pt x="15722" y="5217"/>
                  <a:pt x="16443" y="5127"/>
                  <a:pt x="17082" y="5239"/>
                </a:cubicBezTo>
                <a:cubicBezTo>
                  <a:pt x="17336" y="5284"/>
                  <a:pt x="16578" y="5270"/>
                  <a:pt x="16320" y="5270"/>
                </a:cubicBezTo>
                <a:cubicBezTo>
                  <a:pt x="16129" y="5270"/>
                  <a:pt x="15939" y="5270"/>
                  <a:pt x="15748" y="5270"/>
                </a:cubicBezTo>
                <a:cubicBezTo>
                  <a:pt x="14816" y="5270"/>
                  <a:pt x="13885" y="5283"/>
                  <a:pt x="12954" y="5302"/>
                </a:cubicBezTo>
                <a:cubicBezTo>
                  <a:pt x="12739" y="5306"/>
                  <a:pt x="12332" y="5388"/>
                  <a:pt x="12541" y="5270"/>
                </a:cubicBezTo>
                <a:cubicBezTo>
                  <a:pt x="12991" y="5016"/>
                  <a:pt x="14053" y="5207"/>
                  <a:pt x="14542" y="5207"/>
                </a:cubicBezTo>
                <a:cubicBezTo>
                  <a:pt x="15071" y="5207"/>
                  <a:pt x="15514" y="5002"/>
                  <a:pt x="16002" y="5207"/>
                </a:cubicBezTo>
                <a:cubicBezTo>
                  <a:pt x="16745" y="5519"/>
                  <a:pt x="14395" y="5210"/>
                  <a:pt x="13589" y="5207"/>
                </a:cubicBezTo>
                <a:cubicBezTo>
                  <a:pt x="12737" y="5204"/>
                  <a:pt x="11796" y="5274"/>
                  <a:pt x="10954" y="5112"/>
                </a:cubicBezTo>
                <a:cubicBezTo>
                  <a:pt x="10812" y="5085"/>
                  <a:pt x="10905" y="5046"/>
                  <a:pt x="11049" y="5016"/>
                </a:cubicBezTo>
                <a:cubicBezTo>
                  <a:pt x="11675" y="4885"/>
                  <a:pt x="12378" y="4894"/>
                  <a:pt x="13018" y="4858"/>
                </a:cubicBezTo>
                <a:cubicBezTo>
                  <a:pt x="13134" y="4852"/>
                  <a:pt x="13303" y="4742"/>
                  <a:pt x="13303" y="4858"/>
                </a:cubicBezTo>
                <a:cubicBezTo>
                  <a:pt x="13303" y="4949"/>
                  <a:pt x="13008" y="5003"/>
                  <a:pt x="12954" y="5016"/>
                </a:cubicBezTo>
                <a:cubicBezTo>
                  <a:pt x="12564" y="5109"/>
                  <a:pt x="12143" y="5083"/>
                  <a:pt x="11748" y="5144"/>
                </a:cubicBezTo>
                <a:cubicBezTo>
                  <a:pt x="11840" y="5097"/>
                  <a:pt x="11835" y="5089"/>
                  <a:pt x="11938" y="5080"/>
                </a:cubicBezTo>
                <a:cubicBezTo>
                  <a:pt x="12446" y="5035"/>
                  <a:pt x="13084" y="4928"/>
                  <a:pt x="13589" y="4985"/>
                </a:cubicBezTo>
                <a:cubicBezTo>
                  <a:pt x="13697" y="4997"/>
                  <a:pt x="13474" y="5058"/>
                  <a:pt x="13367" y="5080"/>
                </a:cubicBezTo>
                <a:cubicBezTo>
                  <a:pt x="12804" y="5195"/>
                  <a:pt x="12215" y="5136"/>
                  <a:pt x="11652" y="5207"/>
                </a:cubicBezTo>
                <a:cubicBezTo>
                  <a:pt x="11591" y="5215"/>
                  <a:pt x="11199" y="5362"/>
                  <a:pt x="11240" y="5334"/>
                </a:cubicBezTo>
                <a:cubicBezTo>
                  <a:pt x="11565" y="5112"/>
                  <a:pt x="12141" y="5209"/>
                  <a:pt x="12510" y="5207"/>
                </a:cubicBezTo>
                <a:cubicBezTo>
                  <a:pt x="12919" y="5204"/>
                  <a:pt x="14244" y="5040"/>
                  <a:pt x="14478" y="5207"/>
                </a:cubicBezTo>
                <a:cubicBezTo>
                  <a:pt x="14414" y="5239"/>
                  <a:pt x="14393" y="5249"/>
                  <a:pt x="14351" y="5270"/>
                </a:cubicBezTo>
                <a:cubicBezTo>
                  <a:pt x="13942" y="5321"/>
                  <a:pt x="13557" y="5328"/>
                  <a:pt x="13144" y="5334"/>
                </a:cubicBezTo>
                <a:cubicBezTo>
                  <a:pt x="12530" y="5361"/>
                  <a:pt x="11012" y="5816"/>
                  <a:pt x="11430" y="5366"/>
                </a:cubicBezTo>
                <a:cubicBezTo>
                  <a:pt x="11580" y="5205"/>
                  <a:pt x="12081" y="5213"/>
                  <a:pt x="12224" y="5207"/>
                </a:cubicBezTo>
                <a:cubicBezTo>
                  <a:pt x="12647" y="5189"/>
                  <a:pt x="13953" y="4983"/>
                  <a:pt x="14288" y="5239"/>
                </a:cubicBezTo>
                <a:cubicBezTo>
                  <a:pt x="14395" y="5320"/>
                  <a:pt x="14040" y="5327"/>
                  <a:pt x="13906" y="5334"/>
                </a:cubicBezTo>
                <a:cubicBezTo>
                  <a:pt x="13251" y="5366"/>
                  <a:pt x="12592" y="5354"/>
                  <a:pt x="11938" y="5429"/>
                </a:cubicBezTo>
                <a:cubicBezTo>
                  <a:pt x="11809" y="5444"/>
                  <a:pt x="11715" y="5464"/>
                  <a:pt x="11874" y="5398"/>
                </a:cubicBezTo>
                <a:cubicBezTo>
                  <a:pt x="12262" y="5237"/>
                  <a:pt x="12836" y="5309"/>
                  <a:pt x="13240" y="5302"/>
                </a:cubicBezTo>
                <a:cubicBezTo>
                  <a:pt x="13805" y="5293"/>
                  <a:pt x="15157" y="4854"/>
                  <a:pt x="14859" y="5334"/>
                </a:cubicBezTo>
                <a:cubicBezTo>
                  <a:pt x="14830" y="5381"/>
                  <a:pt x="14495" y="5420"/>
                  <a:pt x="14446" y="5429"/>
                </a:cubicBezTo>
                <a:cubicBezTo>
                  <a:pt x="13922" y="5525"/>
                  <a:pt x="13331" y="5499"/>
                  <a:pt x="12795" y="5524"/>
                </a:cubicBezTo>
                <a:cubicBezTo>
                  <a:pt x="12761" y="5526"/>
                  <a:pt x="12492" y="5534"/>
                  <a:pt x="12668" y="5461"/>
                </a:cubicBezTo>
                <a:cubicBezTo>
                  <a:pt x="12985" y="5329"/>
                  <a:pt x="13280" y="5351"/>
                  <a:pt x="13621" y="5334"/>
                </a:cubicBezTo>
                <a:cubicBezTo>
                  <a:pt x="13689" y="5331"/>
                  <a:pt x="14772" y="5189"/>
                  <a:pt x="14827" y="5239"/>
                </a:cubicBezTo>
                <a:cubicBezTo>
                  <a:pt x="14878" y="5286"/>
                  <a:pt x="14660" y="5358"/>
                  <a:pt x="14637" y="5366"/>
                </a:cubicBezTo>
                <a:cubicBezTo>
                  <a:pt x="14416" y="5442"/>
                  <a:pt x="14197" y="5478"/>
                  <a:pt x="13970" y="5524"/>
                </a:cubicBezTo>
                <a:cubicBezTo>
                  <a:pt x="13953" y="5528"/>
                  <a:pt x="13502" y="5625"/>
                  <a:pt x="13494" y="5588"/>
                </a:cubicBezTo>
                <a:cubicBezTo>
                  <a:pt x="13486" y="5551"/>
                  <a:pt x="13774" y="5436"/>
                  <a:pt x="13811" y="5429"/>
                </a:cubicBezTo>
                <a:cubicBezTo>
                  <a:pt x="14319" y="5340"/>
                  <a:pt x="14831" y="5380"/>
                  <a:pt x="15335" y="5302"/>
                </a:cubicBezTo>
                <a:cubicBezTo>
                  <a:pt x="15454" y="5284"/>
                  <a:pt x="15489" y="5242"/>
                  <a:pt x="15494" y="5270"/>
                </a:cubicBezTo>
                <a:cubicBezTo>
                  <a:pt x="15502" y="5319"/>
                  <a:pt x="15280" y="5332"/>
                  <a:pt x="15240" y="5334"/>
                </a:cubicBezTo>
                <a:cubicBezTo>
                  <a:pt x="14833" y="5354"/>
                  <a:pt x="14409" y="5387"/>
                  <a:pt x="14002" y="5429"/>
                </a:cubicBezTo>
                <a:cubicBezTo>
                  <a:pt x="13866" y="5443"/>
                  <a:pt x="13617" y="5537"/>
                  <a:pt x="13684" y="5429"/>
                </a:cubicBezTo>
                <a:cubicBezTo>
                  <a:pt x="13775" y="5281"/>
                  <a:pt x="13938" y="5313"/>
                  <a:pt x="14097" y="5270"/>
                </a:cubicBezTo>
                <a:cubicBezTo>
                  <a:pt x="14328" y="5208"/>
                  <a:pt x="14525" y="5207"/>
                  <a:pt x="14764" y="5207"/>
                </a:cubicBezTo>
                <a:cubicBezTo>
                  <a:pt x="14892" y="5207"/>
                  <a:pt x="14720" y="5253"/>
                  <a:pt x="14668" y="5270"/>
                </a:cubicBezTo>
                <a:cubicBezTo>
                  <a:pt x="14277" y="5396"/>
                  <a:pt x="13835" y="5340"/>
                  <a:pt x="13430" y="5366"/>
                </a:cubicBezTo>
                <a:cubicBezTo>
                  <a:pt x="13161" y="5383"/>
                  <a:pt x="12551" y="5684"/>
                  <a:pt x="12636" y="5429"/>
                </a:cubicBezTo>
                <a:cubicBezTo>
                  <a:pt x="12676" y="5309"/>
                  <a:pt x="12878" y="5345"/>
                  <a:pt x="12954" y="5334"/>
                </a:cubicBezTo>
                <a:cubicBezTo>
                  <a:pt x="13223" y="5295"/>
                  <a:pt x="14427" y="5067"/>
                  <a:pt x="14510" y="5207"/>
                </a:cubicBezTo>
                <a:cubicBezTo>
                  <a:pt x="14585" y="5333"/>
                  <a:pt x="14244" y="5328"/>
                  <a:pt x="14097" y="5334"/>
                </a:cubicBezTo>
                <a:cubicBezTo>
                  <a:pt x="13861" y="5344"/>
                  <a:pt x="12752" y="5505"/>
                  <a:pt x="12636" y="5366"/>
                </a:cubicBezTo>
                <a:cubicBezTo>
                  <a:pt x="12482" y="5183"/>
                  <a:pt x="13096" y="5287"/>
                  <a:pt x="13335" y="5270"/>
                </a:cubicBezTo>
                <a:cubicBezTo>
                  <a:pt x="14035" y="5220"/>
                  <a:pt x="14729" y="5207"/>
                  <a:pt x="15430" y="5207"/>
                </a:cubicBezTo>
                <a:cubicBezTo>
                  <a:pt x="15497" y="5207"/>
                  <a:pt x="15761" y="5157"/>
                  <a:pt x="15621" y="5239"/>
                </a:cubicBezTo>
                <a:cubicBezTo>
                  <a:pt x="15518" y="5300"/>
                  <a:pt x="15387" y="5310"/>
                  <a:pt x="15272" y="5334"/>
                </a:cubicBezTo>
                <a:cubicBezTo>
                  <a:pt x="14614" y="5345"/>
                  <a:pt x="13960" y="5410"/>
                  <a:pt x="13303" y="5429"/>
                </a:cubicBezTo>
                <a:cubicBezTo>
                  <a:pt x="13069" y="5436"/>
                  <a:pt x="12823" y="5545"/>
                  <a:pt x="12605" y="5461"/>
                </a:cubicBezTo>
                <a:cubicBezTo>
                  <a:pt x="12451" y="5402"/>
                  <a:pt x="12917" y="5376"/>
                  <a:pt x="13081" y="5366"/>
                </a:cubicBezTo>
                <a:cubicBezTo>
                  <a:pt x="13864" y="5320"/>
                  <a:pt x="14646" y="5334"/>
                  <a:pt x="15430" y="5334"/>
                </a:cubicBezTo>
                <a:cubicBezTo>
                  <a:pt x="15684" y="5334"/>
                  <a:pt x="15875" y="5334"/>
                  <a:pt x="16129" y="5334"/>
                </a:cubicBezTo>
                <a:cubicBezTo>
                  <a:pt x="15878" y="5374"/>
                  <a:pt x="15720" y="5385"/>
                  <a:pt x="15430" y="5398"/>
                </a:cubicBezTo>
                <a:cubicBezTo>
                  <a:pt x="14771" y="5429"/>
                  <a:pt x="14122" y="5461"/>
                  <a:pt x="13462" y="5461"/>
                </a:cubicBezTo>
                <a:cubicBezTo>
                  <a:pt x="13358" y="5461"/>
                  <a:pt x="13088" y="5539"/>
                  <a:pt x="13272" y="5461"/>
                </a:cubicBezTo>
                <a:cubicBezTo>
                  <a:pt x="13511" y="5360"/>
                  <a:pt x="14040" y="5372"/>
                  <a:pt x="14256" y="5366"/>
                </a:cubicBezTo>
                <a:cubicBezTo>
                  <a:pt x="14597" y="5356"/>
                  <a:pt x="15486" y="5287"/>
                  <a:pt x="15176" y="5429"/>
                </a:cubicBezTo>
                <a:cubicBezTo>
                  <a:pt x="14887" y="5561"/>
                  <a:pt x="14372" y="5461"/>
                  <a:pt x="14065" y="5461"/>
                </a:cubicBezTo>
                <a:cubicBezTo>
                  <a:pt x="13535" y="5461"/>
                  <a:pt x="12972" y="5599"/>
                  <a:pt x="12446" y="5524"/>
                </a:cubicBezTo>
                <a:cubicBezTo>
                  <a:pt x="12394" y="5516"/>
                  <a:pt x="12332" y="5523"/>
                  <a:pt x="12446" y="5493"/>
                </a:cubicBezTo>
                <a:cubicBezTo>
                  <a:pt x="12793" y="5401"/>
                  <a:pt x="13200" y="5461"/>
                  <a:pt x="13557" y="5461"/>
                </a:cubicBezTo>
                <a:cubicBezTo>
                  <a:pt x="14022" y="5461"/>
                  <a:pt x="15356" y="5461"/>
                  <a:pt x="14891" y="5461"/>
                </a:cubicBezTo>
                <a:cubicBezTo>
                  <a:pt x="14586" y="5461"/>
                  <a:pt x="14275" y="5480"/>
                  <a:pt x="13970" y="5493"/>
                </a:cubicBezTo>
                <a:cubicBezTo>
                  <a:pt x="13845" y="5498"/>
                  <a:pt x="12320" y="5567"/>
                  <a:pt x="12319" y="5556"/>
                </a:cubicBezTo>
                <a:cubicBezTo>
                  <a:pt x="12318" y="5543"/>
                  <a:pt x="12353" y="5532"/>
                  <a:pt x="12478" y="5493"/>
                </a:cubicBezTo>
                <a:cubicBezTo>
                  <a:pt x="12904" y="5361"/>
                  <a:pt x="13437" y="5444"/>
                  <a:pt x="13875" y="5429"/>
                </a:cubicBezTo>
                <a:cubicBezTo>
                  <a:pt x="14552" y="5406"/>
                  <a:pt x="15980" y="4734"/>
                  <a:pt x="15843" y="5398"/>
                </a:cubicBezTo>
                <a:cubicBezTo>
                  <a:pt x="15831" y="5455"/>
                  <a:pt x="15444" y="5428"/>
                  <a:pt x="15430" y="5429"/>
                </a:cubicBezTo>
                <a:cubicBezTo>
                  <a:pt x="14710" y="5465"/>
                  <a:pt x="13992" y="5436"/>
                  <a:pt x="13272" y="5461"/>
                </a:cubicBezTo>
                <a:cubicBezTo>
                  <a:pt x="12996" y="5471"/>
                  <a:pt x="12275" y="5741"/>
                  <a:pt x="12446" y="5524"/>
                </a:cubicBezTo>
                <a:cubicBezTo>
                  <a:pt x="12525" y="5423"/>
                  <a:pt x="12646" y="5462"/>
                  <a:pt x="12764" y="5461"/>
                </a:cubicBezTo>
                <a:cubicBezTo>
                  <a:pt x="13674" y="5451"/>
                  <a:pt x="14584" y="5461"/>
                  <a:pt x="15494" y="5461"/>
                </a:cubicBezTo>
                <a:cubicBezTo>
                  <a:pt x="15695" y="5461"/>
                  <a:pt x="16235" y="5461"/>
                  <a:pt x="16034" y="5461"/>
                </a:cubicBezTo>
                <a:cubicBezTo>
                  <a:pt x="15728" y="5461"/>
                  <a:pt x="13172" y="5658"/>
                  <a:pt x="13113" y="5524"/>
                </a:cubicBezTo>
                <a:cubicBezTo>
                  <a:pt x="13099" y="5492"/>
                  <a:pt x="13153" y="5473"/>
                  <a:pt x="13272" y="5461"/>
                </a:cubicBezTo>
                <a:cubicBezTo>
                  <a:pt x="14209" y="5367"/>
                  <a:pt x="16976" y="5461"/>
                  <a:pt x="16034" y="5461"/>
                </a:cubicBezTo>
                <a:cubicBezTo>
                  <a:pt x="15756" y="5461"/>
                  <a:pt x="15489" y="5487"/>
                  <a:pt x="15208" y="5493"/>
                </a:cubicBezTo>
                <a:cubicBezTo>
                  <a:pt x="14424" y="5535"/>
                  <a:pt x="13644" y="5580"/>
                  <a:pt x="12859" y="5588"/>
                </a:cubicBezTo>
                <a:cubicBezTo>
                  <a:pt x="12759" y="5589"/>
                  <a:pt x="12768" y="5588"/>
                  <a:pt x="12668" y="5588"/>
                </a:cubicBezTo>
                <a:cubicBezTo>
                  <a:pt x="12507" y="5588"/>
                  <a:pt x="12983" y="5530"/>
                  <a:pt x="13144" y="5524"/>
                </a:cubicBezTo>
                <a:cubicBezTo>
                  <a:pt x="13820" y="5497"/>
                  <a:pt x="14499" y="5493"/>
                  <a:pt x="15176" y="5493"/>
                </a:cubicBezTo>
                <a:cubicBezTo>
                  <a:pt x="15240" y="5493"/>
                  <a:pt x="15303" y="5493"/>
                  <a:pt x="15367" y="5493"/>
                </a:cubicBezTo>
                <a:cubicBezTo>
                  <a:pt x="15369" y="5510"/>
                  <a:pt x="15562" y="5470"/>
                  <a:pt x="15399" y="5556"/>
                </a:cubicBezTo>
                <a:cubicBezTo>
                  <a:pt x="15055" y="5736"/>
                  <a:pt x="14184" y="5588"/>
                  <a:pt x="13811" y="5588"/>
                </a:cubicBezTo>
                <a:cubicBezTo>
                  <a:pt x="13368" y="5588"/>
                  <a:pt x="12807" y="5733"/>
                  <a:pt x="12382" y="5652"/>
                </a:cubicBezTo>
                <a:cubicBezTo>
                  <a:pt x="12238" y="5625"/>
                  <a:pt x="12649" y="5595"/>
                  <a:pt x="12795" y="5588"/>
                </a:cubicBezTo>
                <a:cubicBezTo>
                  <a:pt x="13600" y="5552"/>
                  <a:pt x="14402" y="5556"/>
                  <a:pt x="15208" y="5556"/>
                </a:cubicBezTo>
                <a:cubicBezTo>
                  <a:pt x="15451" y="5556"/>
                  <a:pt x="16043" y="5479"/>
                  <a:pt x="15812" y="5556"/>
                </a:cubicBezTo>
                <a:cubicBezTo>
                  <a:pt x="15651" y="5610"/>
                  <a:pt x="15269" y="5580"/>
                  <a:pt x="15081" y="5588"/>
                </a:cubicBezTo>
                <a:cubicBezTo>
                  <a:pt x="14668" y="5606"/>
                  <a:pt x="14255" y="5642"/>
                  <a:pt x="13843" y="5652"/>
                </a:cubicBezTo>
                <a:cubicBezTo>
                  <a:pt x="13787" y="5653"/>
                  <a:pt x="13671" y="5659"/>
                  <a:pt x="13748" y="5620"/>
                </a:cubicBezTo>
                <a:cubicBezTo>
                  <a:pt x="13940" y="5523"/>
                  <a:pt x="14399" y="5588"/>
                  <a:pt x="14573" y="5588"/>
                </a:cubicBezTo>
                <a:cubicBezTo>
                  <a:pt x="15038" y="5588"/>
                  <a:pt x="16372" y="5588"/>
                  <a:pt x="15907" y="5588"/>
                </a:cubicBezTo>
                <a:cubicBezTo>
                  <a:pt x="15533" y="5588"/>
                  <a:pt x="15141" y="5634"/>
                  <a:pt x="14764" y="5652"/>
                </a:cubicBezTo>
                <a:cubicBezTo>
                  <a:pt x="14433" y="5667"/>
                  <a:pt x="13876" y="5796"/>
                  <a:pt x="13557" y="5715"/>
                </a:cubicBezTo>
                <a:cubicBezTo>
                  <a:pt x="13382" y="5671"/>
                  <a:pt x="13753" y="5653"/>
                  <a:pt x="13780" y="5652"/>
                </a:cubicBezTo>
                <a:cubicBezTo>
                  <a:pt x="14336" y="5627"/>
                  <a:pt x="15952" y="5372"/>
                  <a:pt x="16383" y="5683"/>
                </a:cubicBezTo>
                <a:cubicBezTo>
                  <a:pt x="16415" y="5706"/>
                  <a:pt x="16378" y="5701"/>
                  <a:pt x="16288" y="5715"/>
                </a:cubicBezTo>
                <a:cubicBezTo>
                  <a:pt x="15732" y="5804"/>
                  <a:pt x="15108" y="5717"/>
                  <a:pt x="14542" y="5747"/>
                </a:cubicBezTo>
                <a:cubicBezTo>
                  <a:pt x="14309" y="5747"/>
                  <a:pt x="13991" y="5963"/>
                  <a:pt x="13906" y="5747"/>
                </a:cubicBezTo>
                <a:cubicBezTo>
                  <a:pt x="13808" y="5498"/>
                  <a:pt x="14433" y="5715"/>
                  <a:pt x="14700" y="5715"/>
                </a:cubicBezTo>
                <a:cubicBezTo>
                  <a:pt x="15092" y="5715"/>
                  <a:pt x="16193" y="5571"/>
                  <a:pt x="15843" y="5747"/>
                </a:cubicBezTo>
                <a:cubicBezTo>
                  <a:pt x="15262" y="6039"/>
                  <a:pt x="13330" y="5829"/>
                  <a:pt x="13970" y="5715"/>
                </a:cubicBezTo>
                <a:cubicBezTo>
                  <a:pt x="14247" y="5666"/>
                  <a:pt x="14579" y="5700"/>
                  <a:pt x="14859" y="5683"/>
                </a:cubicBezTo>
                <a:cubicBezTo>
                  <a:pt x="14882" y="5682"/>
                  <a:pt x="15333" y="5696"/>
                  <a:pt x="15240" y="5715"/>
                </a:cubicBezTo>
                <a:cubicBezTo>
                  <a:pt x="14834" y="5797"/>
                  <a:pt x="14349" y="5730"/>
                  <a:pt x="13938" y="5747"/>
                </a:cubicBezTo>
                <a:cubicBezTo>
                  <a:pt x="13367" y="5771"/>
                  <a:pt x="12795" y="5799"/>
                  <a:pt x="12224" y="5810"/>
                </a:cubicBezTo>
                <a:cubicBezTo>
                  <a:pt x="12169" y="5811"/>
                  <a:pt x="11856" y="5853"/>
                  <a:pt x="12033" y="5747"/>
                </a:cubicBezTo>
                <a:cubicBezTo>
                  <a:pt x="12279" y="5600"/>
                  <a:pt x="13118" y="5716"/>
                  <a:pt x="13367" y="5715"/>
                </a:cubicBezTo>
                <a:cubicBezTo>
                  <a:pt x="13705" y="5713"/>
                  <a:pt x="15973" y="5553"/>
                  <a:pt x="16066" y="5715"/>
                </a:cubicBezTo>
                <a:cubicBezTo>
                  <a:pt x="16073" y="5727"/>
                  <a:pt x="15606" y="5778"/>
                  <a:pt x="15589" y="5778"/>
                </a:cubicBezTo>
                <a:cubicBezTo>
                  <a:pt x="14953" y="5784"/>
                  <a:pt x="14319" y="5805"/>
                  <a:pt x="13684" y="5810"/>
                </a:cubicBezTo>
                <a:cubicBezTo>
                  <a:pt x="13441" y="5812"/>
                  <a:pt x="12792" y="5695"/>
                  <a:pt x="12986" y="5842"/>
                </a:cubicBezTo>
                <a:cubicBezTo>
                  <a:pt x="13037" y="5880"/>
                  <a:pt x="13049" y="5841"/>
                  <a:pt x="13113" y="5842"/>
                </a:cubicBezTo>
                <a:cubicBezTo>
                  <a:pt x="13473" y="5850"/>
                  <a:pt x="14392" y="5692"/>
                  <a:pt x="14065" y="5842"/>
                </a:cubicBezTo>
                <a:cubicBezTo>
                  <a:pt x="13999" y="5872"/>
                  <a:pt x="13865" y="5903"/>
                  <a:pt x="13748" y="5906"/>
                </a:cubicBezTo>
                <a:cubicBezTo>
                  <a:pt x="13567" y="5911"/>
                  <a:pt x="13391" y="5955"/>
                  <a:pt x="13208" y="5937"/>
                </a:cubicBezTo>
                <a:cubicBezTo>
                  <a:pt x="13053" y="5922"/>
                  <a:pt x="13136" y="5898"/>
                  <a:pt x="13208" y="5874"/>
                </a:cubicBezTo>
                <a:cubicBezTo>
                  <a:pt x="13368" y="5821"/>
                  <a:pt x="13581" y="5842"/>
                  <a:pt x="13748" y="5842"/>
                </a:cubicBezTo>
                <a:cubicBezTo>
                  <a:pt x="13949" y="5842"/>
                  <a:pt x="14429" y="5699"/>
                  <a:pt x="14288" y="5842"/>
                </a:cubicBezTo>
                <a:cubicBezTo>
                  <a:pt x="14250" y="5881"/>
                  <a:pt x="14182" y="5861"/>
                  <a:pt x="14129" y="5874"/>
                </a:cubicBezTo>
                <a:cubicBezTo>
                  <a:pt x="13902" y="5874"/>
                  <a:pt x="13686" y="5859"/>
                  <a:pt x="13462" y="5842"/>
                </a:cubicBezTo>
                <a:cubicBezTo>
                  <a:pt x="13341" y="5833"/>
                  <a:pt x="13141" y="5883"/>
                  <a:pt x="13049" y="5874"/>
                </a:cubicBezTo>
                <a:cubicBezTo>
                  <a:pt x="12952" y="5864"/>
                  <a:pt x="13076" y="5845"/>
                  <a:pt x="13113" y="5842"/>
                </a:cubicBezTo>
                <a:cubicBezTo>
                  <a:pt x="13536" y="5803"/>
                  <a:pt x="13958" y="5825"/>
                  <a:pt x="14383" y="5810"/>
                </a:cubicBezTo>
                <a:cubicBezTo>
                  <a:pt x="14666" y="5800"/>
                  <a:pt x="15353" y="5778"/>
                  <a:pt x="15526" y="5778"/>
                </a:cubicBezTo>
                <a:cubicBezTo>
                  <a:pt x="16289" y="5778"/>
                  <a:pt x="14003" y="5761"/>
                  <a:pt x="13240" y="5778"/>
                </a:cubicBezTo>
                <a:cubicBezTo>
                  <a:pt x="12878" y="5786"/>
                  <a:pt x="12515" y="5767"/>
                  <a:pt x="12160" y="5747"/>
                </a:cubicBezTo>
                <a:cubicBezTo>
                  <a:pt x="11964" y="5736"/>
                  <a:pt x="11774" y="5763"/>
                  <a:pt x="11589" y="5778"/>
                </a:cubicBezTo>
                <a:cubicBezTo>
                  <a:pt x="11577" y="5779"/>
                  <a:pt x="11356" y="5780"/>
                  <a:pt x="11398" y="5747"/>
                </a:cubicBezTo>
                <a:cubicBezTo>
                  <a:pt x="11453" y="5704"/>
                  <a:pt x="11561" y="5719"/>
                  <a:pt x="11652" y="5715"/>
                </a:cubicBezTo>
                <a:cubicBezTo>
                  <a:pt x="11883" y="5704"/>
                  <a:pt x="12126" y="5670"/>
                  <a:pt x="12351" y="5620"/>
                </a:cubicBezTo>
                <a:cubicBezTo>
                  <a:pt x="12515" y="5583"/>
                  <a:pt x="12720" y="5565"/>
                  <a:pt x="12890" y="5588"/>
                </a:cubicBezTo>
                <a:cubicBezTo>
                  <a:pt x="13061" y="5611"/>
                  <a:pt x="13225" y="5649"/>
                  <a:pt x="13398" y="5652"/>
                </a:cubicBezTo>
                <a:cubicBezTo>
                  <a:pt x="13561" y="5655"/>
                  <a:pt x="13715" y="5670"/>
                  <a:pt x="13875" y="5683"/>
                </a:cubicBezTo>
                <a:cubicBezTo>
                  <a:pt x="14044" y="5697"/>
                  <a:pt x="14216" y="5701"/>
                  <a:pt x="14383" y="5715"/>
                </a:cubicBezTo>
                <a:cubicBezTo>
                  <a:pt x="14536" y="5728"/>
                  <a:pt x="14507" y="5683"/>
                  <a:pt x="14383" y="5715"/>
                </a:cubicBezTo>
                <a:cubicBezTo>
                  <a:pt x="14202" y="5762"/>
                  <a:pt x="14066" y="5778"/>
                  <a:pt x="13875" y="5778"/>
                </a:cubicBezTo>
                <a:cubicBezTo>
                  <a:pt x="13690" y="5778"/>
                  <a:pt x="13519" y="5807"/>
                  <a:pt x="13335" y="5810"/>
                </a:cubicBezTo>
                <a:cubicBezTo>
                  <a:pt x="13088" y="5815"/>
                  <a:pt x="12848" y="5824"/>
                  <a:pt x="12605" y="5842"/>
                </a:cubicBezTo>
                <a:cubicBezTo>
                  <a:pt x="12220" y="5870"/>
                  <a:pt x="11798" y="5845"/>
                  <a:pt x="11430" y="5874"/>
                </a:cubicBezTo>
                <a:cubicBezTo>
                  <a:pt x="11367" y="5879"/>
                  <a:pt x="11221" y="5905"/>
                  <a:pt x="11208" y="5906"/>
                </a:cubicBezTo>
                <a:cubicBezTo>
                  <a:pt x="11171" y="5909"/>
                  <a:pt x="11059" y="5939"/>
                  <a:pt x="11049" y="5937"/>
                </a:cubicBezTo>
                <a:cubicBezTo>
                  <a:pt x="10997" y="5929"/>
                  <a:pt x="11165" y="5881"/>
                  <a:pt x="11208" y="5874"/>
                </a:cubicBezTo>
                <a:cubicBezTo>
                  <a:pt x="11367" y="5849"/>
                  <a:pt x="11556" y="5855"/>
                  <a:pt x="11716" y="5842"/>
                </a:cubicBezTo>
                <a:cubicBezTo>
                  <a:pt x="12155" y="5805"/>
                  <a:pt x="12616" y="5844"/>
                  <a:pt x="13049" y="5874"/>
                </a:cubicBezTo>
                <a:cubicBezTo>
                  <a:pt x="13358" y="5896"/>
                  <a:pt x="13739" y="5859"/>
                  <a:pt x="14002" y="5906"/>
                </a:cubicBezTo>
              </a:path>
              <a:path w="6225" h="1239">
                <a:moveTo>
                  <a:pt x="13113" y="6064"/>
                </a:moveTo>
                <a:cubicBezTo>
                  <a:pt x="13123" y="6055"/>
                  <a:pt x="13167" y="5975"/>
                  <a:pt x="13176" y="5969"/>
                </a:cubicBezTo>
                <a:cubicBezTo>
                  <a:pt x="13204" y="5951"/>
                  <a:pt x="13271" y="5953"/>
                  <a:pt x="13303" y="5937"/>
                </a:cubicBezTo>
                <a:cubicBezTo>
                  <a:pt x="13347" y="5915"/>
                  <a:pt x="13362" y="5923"/>
                  <a:pt x="13398" y="5906"/>
                </a:cubicBezTo>
                <a:cubicBezTo>
                  <a:pt x="13435" y="5889"/>
                  <a:pt x="13465" y="5879"/>
                  <a:pt x="13494" y="5874"/>
                </a:cubicBezTo>
                <a:cubicBezTo>
                  <a:pt x="13563" y="5862"/>
                  <a:pt x="13596" y="5896"/>
                  <a:pt x="13621" y="5906"/>
                </a:cubicBezTo>
                <a:cubicBezTo>
                  <a:pt x="13687" y="5934"/>
                  <a:pt x="13719" y="5919"/>
                  <a:pt x="13780" y="5937"/>
                </a:cubicBezTo>
                <a:cubicBezTo>
                  <a:pt x="13849" y="5957"/>
                  <a:pt x="13868" y="5966"/>
                  <a:pt x="13938" y="5969"/>
                </a:cubicBezTo>
                <a:cubicBezTo>
                  <a:pt x="14173" y="5978"/>
                  <a:pt x="14423" y="5959"/>
                  <a:pt x="14637" y="5937"/>
                </a:cubicBezTo>
                <a:cubicBezTo>
                  <a:pt x="14825" y="5917"/>
                  <a:pt x="15355" y="6035"/>
                  <a:pt x="15494" y="5906"/>
                </a:cubicBezTo>
                <a:cubicBezTo>
                  <a:pt x="15536" y="5867"/>
                  <a:pt x="15532" y="5874"/>
                  <a:pt x="15589" y="5842"/>
                </a:cubicBezTo>
                <a:cubicBezTo>
                  <a:pt x="15633" y="5818"/>
                  <a:pt x="15632" y="5796"/>
                  <a:pt x="15653" y="5778"/>
                </a:cubicBezTo>
                <a:cubicBezTo>
                  <a:pt x="15670" y="5829"/>
                  <a:pt x="15690" y="5852"/>
                  <a:pt x="15684" y="5906"/>
                </a:cubicBezTo>
                <a:cubicBezTo>
                  <a:pt x="15680" y="5947"/>
                  <a:pt x="15684" y="5927"/>
                  <a:pt x="15684" y="5969"/>
                </a:cubicBezTo>
                <a:cubicBezTo>
                  <a:pt x="15694" y="5918"/>
                  <a:pt x="15679" y="5858"/>
                  <a:pt x="15716" y="5842"/>
                </a:cubicBezTo>
                <a:cubicBezTo>
                  <a:pt x="15771" y="5818"/>
                  <a:pt x="15805" y="5872"/>
                  <a:pt x="15812" y="5874"/>
                </a:cubicBezTo>
                <a:cubicBezTo>
                  <a:pt x="15793" y="5900"/>
                  <a:pt x="15810" y="5960"/>
                  <a:pt x="15780" y="5969"/>
                </a:cubicBezTo>
                <a:cubicBezTo>
                  <a:pt x="15721" y="5987"/>
                  <a:pt x="15542" y="5999"/>
                  <a:pt x="15526" y="6001"/>
                </a:cubicBezTo>
                <a:cubicBezTo>
                  <a:pt x="15431" y="6012"/>
                  <a:pt x="15399" y="6001"/>
                  <a:pt x="15304" y="6001"/>
                </a:cubicBezTo>
                <a:cubicBezTo>
                  <a:pt x="15351" y="6005"/>
                  <a:pt x="15397" y="6028"/>
                  <a:pt x="15430" y="6032"/>
                </a:cubicBezTo>
                <a:cubicBezTo>
                  <a:pt x="15495" y="6040"/>
                  <a:pt x="15503" y="6028"/>
                  <a:pt x="15558" y="6064"/>
                </a:cubicBezTo>
                <a:cubicBezTo>
                  <a:pt x="15558" y="6096"/>
                  <a:pt x="15558" y="6106"/>
                  <a:pt x="15589" y="6096"/>
                </a:cubicBezTo>
                <a:cubicBezTo>
                  <a:pt x="15605" y="6048"/>
                  <a:pt x="15613" y="6022"/>
                  <a:pt x="15621" y="5969"/>
                </a:cubicBezTo>
                <a:cubicBezTo>
                  <a:pt x="15621" y="5937"/>
                  <a:pt x="15621" y="5927"/>
                  <a:pt x="15621" y="5906"/>
                </a:cubicBezTo>
                <a:cubicBezTo>
                  <a:pt x="15583" y="5933"/>
                  <a:pt x="15544" y="5948"/>
                  <a:pt x="15526" y="5969"/>
                </a:cubicBezTo>
                <a:cubicBezTo>
                  <a:pt x="15482" y="6020"/>
                  <a:pt x="15508" y="6017"/>
                  <a:pt x="15430" y="6032"/>
                </a:cubicBezTo>
                <a:cubicBezTo>
                  <a:pt x="15332" y="6051"/>
                  <a:pt x="15213" y="6032"/>
                  <a:pt x="15113" y="6032"/>
                </a:cubicBezTo>
                <a:cubicBezTo>
                  <a:pt x="15153" y="6019"/>
                  <a:pt x="15145" y="6043"/>
                  <a:pt x="15145" y="6001"/>
                </a:cubicBezTo>
                <a:cubicBezTo>
                  <a:pt x="15145" y="5998"/>
                  <a:pt x="15160" y="6004"/>
                  <a:pt x="15081" y="6001"/>
                </a:cubicBezTo>
                <a:cubicBezTo>
                  <a:pt x="14929" y="5994"/>
                  <a:pt x="14770" y="5986"/>
                  <a:pt x="14637" y="5969"/>
                </a:cubicBezTo>
                <a:cubicBezTo>
                  <a:pt x="14484" y="5950"/>
                  <a:pt x="14315" y="5969"/>
                  <a:pt x="14160" y="5969"/>
                </a:cubicBezTo>
                <a:cubicBezTo>
                  <a:pt x="14213" y="5969"/>
                  <a:pt x="14203" y="5969"/>
                  <a:pt x="14256" y="5969"/>
                </a:cubicBezTo>
                <a:cubicBezTo>
                  <a:pt x="14363" y="5969"/>
                  <a:pt x="14771" y="5969"/>
                  <a:pt x="14668" y="5969"/>
                </a:cubicBezTo>
                <a:cubicBezTo>
                  <a:pt x="14522" y="5969"/>
                  <a:pt x="14319" y="5989"/>
                  <a:pt x="14224" y="6001"/>
                </a:cubicBezTo>
                <a:cubicBezTo>
                  <a:pt x="14120" y="6014"/>
                  <a:pt x="13936" y="6025"/>
                  <a:pt x="13875" y="6032"/>
                </a:cubicBezTo>
                <a:cubicBezTo>
                  <a:pt x="13784" y="6043"/>
                  <a:pt x="13694" y="6010"/>
                  <a:pt x="13621" y="6001"/>
                </a:cubicBezTo>
                <a:cubicBezTo>
                  <a:pt x="13567" y="5994"/>
                  <a:pt x="13502" y="5974"/>
                  <a:pt x="13462" y="5969"/>
                </a:cubicBezTo>
                <a:cubicBezTo>
                  <a:pt x="13037" y="5915"/>
                  <a:pt x="12570" y="5989"/>
                  <a:pt x="12160" y="5937"/>
                </a:cubicBezTo>
                <a:cubicBezTo>
                  <a:pt x="12087" y="5928"/>
                  <a:pt x="11992" y="5966"/>
                  <a:pt x="11970" y="5969"/>
                </a:cubicBezTo>
                <a:cubicBezTo>
                  <a:pt x="11939" y="5973"/>
                  <a:pt x="11906" y="5966"/>
                  <a:pt x="11874" y="5969"/>
                </a:cubicBezTo>
                <a:cubicBezTo>
                  <a:pt x="11992" y="5969"/>
                  <a:pt x="12156" y="5992"/>
                  <a:pt x="12224" y="6001"/>
                </a:cubicBezTo>
                <a:cubicBezTo>
                  <a:pt x="12306" y="6011"/>
                  <a:pt x="12415" y="5973"/>
                  <a:pt x="12446" y="5969"/>
                </a:cubicBezTo>
                <a:cubicBezTo>
                  <a:pt x="12509" y="5961"/>
                  <a:pt x="12509" y="5969"/>
                  <a:pt x="12573" y="5969"/>
                </a:cubicBezTo>
                <a:cubicBezTo>
                  <a:pt x="12319" y="5969"/>
                  <a:pt x="12065" y="5969"/>
                  <a:pt x="11811" y="5969"/>
                </a:cubicBezTo>
                <a:cubicBezTo>
                  <a:pt x="11851" y="5985"/>
                  <a:pt x="11805" y="5981"/>
                  <a:pt x="11843" y="6001"/>
                </a:cubicBezTo>
                <a:cubicBezTo>
                  <a:pt x="11909" y="6036"/>
                  <a:pt x="11887" y="6010"/>
                  <a:pt x="11938" y="6001"/>
                </a:cubicBezTo>
                <a:cubicBezTo>
                  <a:pt x="11989" y="5992"/>
                  <a:pt x="12018" y="5975"/>
                  <a:pt x="12065" y="5969"/>
                </a:cubicBezTo>
                <a:cubicBezTo>
                  <a:pt x="12136" y="5960"/>
                  <a:pt x="12215" y="5969"/>
                  <a:pt x="12287" y="5969"/>
                </a:cubicBezTo>
                <a:cubicBezTo>
                  <a:pt x="12241" y="5978"/>
                  <a:pt x="12266" y="5980"/>
                  <a:pt x="12224" y="6001"/>
                </a:cubicBezTo>
                <a:cubicBezTo>
                  <a:pt x="12179" y="6023"/>
                  <a:pt x="12178" y="6043"/>
                  <a:pt x="12097" y="6032"/>
                </a:cubicBezTo>
                <a:cubicBezTo>
                  <a:pt x="12044" y="6025"/>
                  <a:pt x="12016" y="5979"/>
                  <a:pt x="11970" y="5969"/>
                </a:cubicBezTo>
                <a:cubicBezTo>
                  <a:pt x="11938" y="5969"/>
                  <a:pt x="11927" y="5969"/>
                  <a:pt x="11906" y="5969"/>
                </a:cubicBezTo>
                <a:cubicBezTo>
                  <a:pt x="12177" y="5969"/>
                  <a:pt x="12512" y="5965"/>
                  <a:pt x="12732" y="5937"/>
                </a:cubicBezTo>
                <a:cubicBezTo>
                  <a:pt x="12856" y="5921"/>
                  <a:pt x="13003" y="5919"/>
                  <a:pt x="13113" y="5906"/>
                </a:cubicBezTo>
                <a:cubicBezTo>
                  <a:pt x="13155" y="5901"/>
                  <a:pt x="13198" y="5910"/>
                  <a:pt x="13240" y="590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9640" y="2708280"/>
            <a:ext cx="251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رب صورة خير من الف كلمة</a:t>
            </a:r>
            <a:endParaRPr b="0" lang="en-US" sz="2000" spc="-1" strike="noStrike">
              <a:solidFill>
                <a:srgbClr val="000000"/>
              </a:solidFill>
              <a:latin typeface="Arial"/>
            </a:endParaRPr>
          </a:p>
        </p:txBody>
      </p:sp>
      <p:pic>
        <p:nvPicPr>
          <p:cNvPr id="160" name="" descr="">
            <a:hlinkClick r:id="rId2"/>
          </p:cNvPr>
          <p:cNvPicPr/>
          <p:nvPr/>
        </p:nvPicPr>
        <p:blipFill>
          <a:blip r:embed="rId3"/>
          <a:stretch/>
        </p:blipFill>
        <p:spPr>
          <a:xfrm>
            <a:off x="611280" y="4508640"/>
            <a:ext cx="2736720" cy="151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لاء</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1979640" y="2133720"/>
            <a:ext cx="5184720" cy="352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ن العملاء</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ثرث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عج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رد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فك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صام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ذو العقلية المغلق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س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ع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ذمر دائم الشكو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ثرثار</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مرح جدا كثير الكلام يميل بشده الى الدعابه والفكاهه يمكن ان يصرفك عن عملك ان لم تكن حذرا يمكن ان يضيع وقتك دون الاستفادة منه </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أتح له وقتا مناسبا ليتحدث بنفس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نتهز كل فرصه ممكنه لتجذبه نحو الموضوع أو الخدمة التي تقدمها</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افق على كل تعليقاته ولكن  اربطها دائما باقتراحاتك</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مسك دائما بخيوط الحديث</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شكره على اقتراحاته وآرائه</a:t>
            </a:r>
            <a:endParaRPr b="0" lang="en-US" sz="2800" spc="-1" strike="noStrike">
              <a:solidFill>
                <a:srgbClr val="000000"/>
              </a:solidFill>
              <a:latin typeface="Arial"/>
            </a:endParaRPr>
          </a:p>
        </p:txBody>
      </p:sp>
      <p:pic>
        <p:nvPicPr>
          <p:cNvPr id="168" name="" descr=""/>
          <p:cNvPicPr/>
          <p:nvPr/>
        </p:nvPicPr>
        <p:blipFill>
          <a:blip r:embed="rId1"/>
          <a:stretch/>
        </p:blipFill>
        <p:spPr>
          <a:xfrm>
            <a:off x="0" y="4265640"/>
            <a:ext cx="2808360" cy="2592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عجل</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بدو دائما نافذ الصبر متعجل يقاطعك في الحديث يغير رأيه بسرعه يحاول أن يعوقك عن العمل يمكن أن ينزعج بسهول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تعامل معه بسرع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بتعد عن التفاصيل وركز على هدف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الامثلة والبراهين التي تطلبها وشجعه على اتخاذ القر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سيطر على الحديث وجذبه للانصات الي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خدم عبارة (نعم ولكن...)</a:t>
            </a:r>
            <a:endParaRPr b="0" lang="en-US" sz="3200" spc="-1" strike="noStrike">
              <a:solidFill>
                <a:srgbClr val="000000"/>
              </a:solidFill>
              <a:latin typeface="Arial"/>
            </a:endParaRPr>
          </a:p>
        </p:txBody>
      </p:sp>
      <p:pic>
        <p:nvPicPr>
          <p:cNvPr id="171" name="" descr=""/>
          <p:cNvPicPr/>
          <p:nvPr/>
        </p:nvPicPr>
        <p:blipFill>
          <a:blip r:embed="rId1"/>
          <a:stretch/>
        </p:blipFill>
        <p:spPr>
          <a:xfrm>
            <a:off x="468360" y="2708280"/>
            <a:ext cx="2879640" cy="2386080"/>
          </a:xfrm>
          <a:prstGeom prst="rect">
            <a:avLst/>
          </a:prstGeom>
          <a:ln w="0">
            <a:noFill/>
          </a:ln>
        </p:spPr>
      </p:pic>
      <p:pic>
        <p:nvPicPr>
          <p:cNvPr id="172" name="" descr="">
            <a:hlinkClick r:id="rId2"/>
          </p:cNvPr>
          <p:cNvPicPr/>
          <p:nvPr/>
        </p:nvPicPr>
        <p:blipFill>
          <a:blip r:embed="rId3"/>
          <a:stretch/>
        </p:blipFill>
        <p:spPr>
          <a:xfrm>
            <a:off x="6804000" y="260280"/>
            <a:ext cx="1944720" cy="136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ردد</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كره ان يتحذ قراراته بنفسه يثور بسرعة غير متأكد يتردد في حديثه وسلوكه لايستقر على رأي واحد</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جذب انتباهه الى الموضوعات التي تحتاج الى التفكير والاختيار</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ن حازما وباتا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لا تكثر البدائل أمام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الشكر على اهتمامه</a:t>
            </a:r>
            <a:endParaRPr b="0" lang="en-US" sz="3200" spc="-1" strike="noStrike">
              <a:solidFill>
                <a:srgbClr val="000000"/>
              </a:solidFill>
              <a:latin typeface="Arial"/>
            </a:endParaRPr>
          </a:p>
        </p:txBody>
      </p:sp>
      <p:pic>
        <p:nvPicPr>
          <p:cNvPr id="175" name="" descr=""/>
          <p:cNvPicPr/>
          <p:nvPr/>
        </p:nvPicPr>
        <p:blipFill>
          <a:blip r:embed="rId1"/>
          <a:stretch/>
        </p:blipFill>
        <p:spPr>
          <a:xfrm>
            <a:off x="324000" y="333360"/>
            <a:ext cx="1619280" cy="1362240"/>
          </a:xfrm>
          <a:prstGeom prst="rect">
            <a:avLst/>
          </a:prstGeom>
          <a:ln w="0">
            <a:noFill/>
          </a:ln>
        </p:spPr>
      </p:pic>
      <p:pic>
        <p:nvPicPr>
          <p:cNvPr id="176" name="" descr="Confused person"/>
          <p:cNvPicPr/>
          <p:nvPr/>
        </p:nvPicPr>
        <p:blipFill>
          <a:blip r:embed="rId2"/>
          <a:stretch/>
        </p:blipFill>
        <p:spPr>
          <a:xfrm>
            <a:off x="250920" y="4076640"/>
            <a:ext cx="2160360" cy="2451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فكر</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بدو هادئا جادا لايتعجل في حديثه وتصرفاته يصغي لك باهتمام يفحص ويفكر في كل نقطة تعرضها</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أكد من معرفتك التامة بكل ماتعرضه على العميل</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ضح له المميزات والفوائد التي يمكن ان يحصل عليها بقبوله لعرضك</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ن حريصا وجادا في الحديث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خدم البيانات والامثلة الحقيقية الصحيحية</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معاونتك قدر الاهتمام </a:t>
            </a:r>
            <a:endParaRPr b="0" lang="en-US" sz="2800" spc="-1" strike="noStrike">
              <a:solidFill>
                <a:srgbClr val="000000"/>
              </a:solidFill>
              <a:latin typeface="Arial"/>
            </a:endParaRPr>
          </a:p>
        </p:txBody>
      </p:sp>
      <p:pic>
        <p:nvPicPr>
          <p:cNvPr id="179" name="" descr="Thinking"/>
          <p:cNvPicPr/>
          <p:nvPr/>
        </p:nvPicPr>
        <p:blipFill>
          <a:blip r:embed="rId1"/>
          <a:stretch/>
        </p:blipFill>
        <p:spPr>
          <a:xfrm>
            <a:off x="0" y="4152960"/>
            <a:ext cx="2238480" cy="27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صامت</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جلس صامتا بعيدا عنك يستمع دون أن يتكلم لايبدي اي شيئ يعبر عما يجول في خاطره يتأثر كثيرا بالبراهين والحقائق</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خدماتك من خلال حقائق موجز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عن العمل أو الخدمة التي يريدها</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عامله باحترام ووقار</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جذبه للحديث</a:t>
            </a:r>
            <a:endParaRPr b="0" lang="en-US" sz="3200" spc="-1" strike="noStrike">
              <a:solidFill>
                <a:srgbClr val="000000"/>
              </a:solidFill>
              <a:latin typeface="Arial"/>
            </a:endParaRPr>
          </a:p>
        </p:txBody>
      </p:sp>
      <p:pic>
        <p:nvPicPr>
          <p:cNvPr id="182" name="" descr=""/>
          <p:cNvPicPr/>
          <p:nvPr/>
        </p:nvPicPr>
        <p:blipFill>
          <a:blip r:embed="rId1"/>
          <a:stretch/>
        </p:blipFill>
        <p:spPr>
          <a:xfrm>
            <a:off x="468360" y="3933720"/>
            <a:ext cx="204768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2916360" y="1628640"/>
            <a:ext cx="2122200" cy="800280"/>
          </a:xfrm>
          <a:prstGeom prst="rect">
            <a:avLst/>
          </a:prstGeom>
          <a:ln w="0">
            <a:noFill/>
          </a:ln>
        </p:spPr>
      </p:pic>
      <p:pic>
        <p:nvPicPr>
          <p:cNvPr id="61" name="" descr="">
            <a:hlinkClick r:id="rId3"/>
          </p:cNvPr>
          <p:cNvPicPr/>
          <p:nvPr/>
        </p:nvPicPr>
        <p:blipFill>
          <a:blip r:embed="rId4"/>
          <a:stretch/>
        </p:blipFill>
        <p:spPr>
          <a:xfrm>
            <a:off x="2916360" y="3500280"/>
            <a:ext cx="2154240" cy="1368720"/>
          </a:xfrm>
          <a:prstGeom prst="rect">
            <a:avLst/>
          </a:prstGeom>
          <a:ln w="0">
            <a:noFill/>
          </a:ln>
        </p:spPr>
      </p:pic>
      <p:pic>
        <p:nvPicPr>
          <p:cNvPr id="62" name="" descr="">
            <a:hlinkClick r:id="rId5"/>
          </p:cNvPr>
          <p:cNvPicPr/>
          <p:nvPr/>
        </p:nvPicPr>
        <p:blipFill>
          <a:blip r:embed="rId6"/>
          <a:stretch/>
        </p:blipFill>
        <p:spPr>
          <a:xfrm>
            <a:off x="4140360" y="5013360"/>
            <a:ext cx="952200" cy="1295280"/>
          </a:xfrm>
          <a:prstGeom prst="rect">
            <a:avLst/>
          </a:prstGeom>
          <a:ln w="0">
            <a:noFill/>
          </a:ln>
        </p:spPr>
      </p:pic>
      <p:pic>
        <p:nvPicPr>
          <p:cNvPr id="63" name="" descr="">
            <a:hlinkClick r:id="rId7"/>
          </p:cNvPr>
          <p:cNvPicPr/>
          <p:nvPr/>
        </p:nvPicPr>
        <p:blipFill>
          <a:blip r:embed="rId8"/>
          <a:stretch/>
        </p:blipFill>
        <p:spPr>
          <a:xfrm>
            <a:off x="2916360" y="5013360"/>
            <a:ext cx="1180800" cy="1266840"/>
          </a:xfrm>
          <a:prstGeom prst="rect">
            <a:avLst/>
          </a:prstGeom>
          <a:ln w="0">
            <a:noFill/>
          </a:ln>
        </p:spPr>
      </p:pic>
      <p:pic>
        <p:nvPicPr>
          <p:cNvPr id="64" name="" descr="">
            <a:hlinkClick r:id="rId9"/>
          </p:cNvPr>
          <p:cNvPicPr/>
          <p:nvPr/>
        </p:nvPicPr>
        <p:blipFill>
          <a:blip r:embed="rId10"/>
          <a:stretch/>
        </p:blipFill>
        <p:spPr>
          <a:xfrm>
            <a:off x="2916360" y="2565360"/>
            <a:ext cx="2144520" cy="8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ذو العقلية المغلقه</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تشبث بشده ويقتنع برأي واحد لا يغيره ولا يرى سببا للتغي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بالتفصيل عن أسباب تفضيله وثباته على رأي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كتشف الطريقه لتحسين الموقف الحالي</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على كيفية تقديم خدمات أفضل</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في حديثك على الحقائق والارقام</a:t>
            </a:r>
            <a:endParaRPr b="0" lang="en-US" sz="3200" spc="-1" strike="noStrike">
              <a:solidFill>
                <a:srgbClr val="000000"/>
              </a:solidFill>
              <a:latin typeface="Arial"/>
            </a:endParaRPr>
          </a:p>
        </p:txBody>
      </p:sp>
      <p:pic>
        <p:nvPicPr>
          <p:cNvPr id="185" name="" descr=""/>
          <p:cNvPicPr/>
          <p:nvPr/>
        </p:nvPicPr>
        <p:blipFill>
          <a:blip r:embed="rId1"/>
          <a:stretch/>
        </p:blipFill>
        <p:spPr>
          <a:xfrm>
            <a:off x="395280" y="4149720"/>
            <a:ext cx="2116080" cy="2270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سوق</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صغى لما تقوله يستفسر عن كل شيئ يتنقل من فرد لاخر ويستفسر منه عن نفس الشيئ يحاول دائما الحصول على تخفيض في السع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تعجله في شراء ما تعر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بين له المميزات والفوائد (السرعة في التسليم والاسعار المخف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ان تبرهن له أن ماتعرضه هو الافضل</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لاتيأس منه بسرعة وحاول أن تجذبه نحوك</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يجب أن تكون على دراية تامة بالاسعار والتخفيضات الممكنه ونسب الخصم المقرره</a:t>
            </a:r>
            <a:endParaRPr b="0" lang="en-US" sz="2800" spc="-1" strike="noStrike">
              <a:solidFill>
                <a:srgbClr val="000000"/>
              </a:solidFill>
              <a:latin typeface="Arial"/>
            </a:endParaRPr>
          </a:p>
        </p:txBody>
      </p:sp>
      <p:pic>
        <p:nvPicPr>
          <p:cNvPr id="188" name="" descr="">
            <a:hlinkClick r:id="rId1"/>
          </p:cNvPr>
          <p:cNvPicPr/>
          <p:nvPr/>
        </p:nvPicPr>
        <p:blipFill>
          <a:blip r:embed="rId2"/>
          <a:stretch/>
        </p:blipFill>
        <p:spPr>
          <a:xfrm>
            <a:off x="6516720" y="0"/>
            <a:ext cx="1562040" cy="1562040"/>
          </a:xfrm>
          <a:prstGeom prst="rect">
            <a:avLst/>
          </a:prstGeom>
          <a:ln w="0">
            <a:noFill/>
          </a:ln>
        </p:spPr>
      </p:pic>
      <p:pic>
        <p:nvPicPr>
          <p:cNvPr id="189" name="" descr="">
            <a:hlinkClick r:id="rId3"/>
          </p:cNvPr>
          <p:cNvPicPr/>
          <p:nvPr/>
        </p:nvPicPr>
        <p:blipFill>
          <a:blip r:embed="rId4"/>
          <a:stretch/>
        </p:blipFill>
        <p:spPr>
          <a:xfrm>
            <a:off x="0" y="0"/>
            <a:ext cx="2556000" cy="162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عوق</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فكر في موضوعات أخرى أثناء حديثك ثم يعود فيستفسر عما قلت يطلب منك وقتا حتى يصل لقراره استفساراته كثيرة ومكرره يعتقد أن الوقت الذي تعطيه له يجنبه الخسارة المحتمله أو سوء الاختي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كشف السبب الحقيقي لتأجيله اتخاذ القر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بتعد عما يسبب استجابته السل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سلك الطريق الذي يحقق استجابته الايجا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أمثلة من العملاء الذين استفادوا من المميزات التي تقدمه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نعه ان اتخاذه القرار بسرعه سيوفر وقته وجهده</a:t>
            </a:r>
            <a:endParaRPr b="0" lang="en-US" sz="2800" spc="-1" strike="noStrike">
              <a:solidFill>
                <a:srgbClr val="000000"/>
              </a:solidFill>
              <a:latin typeface="Arial"/>
            </a:endParaRPr>
          </a:p>
        </p:txBody>
      </p:sp>
      <p:pic>
        <p:nvPicPr>
          <p:cNvPr id="192" name="" descr=""/>
          <p:cNvPicPr/>
          <p:nvPr/>
        </p:nvPicPr>
        <p:blipFill>
          <a:blip r:embed="rId1"/>
          <a:stretch/>
        </p:blipFill>
        <p:spPr>
          <a:xfrm>
            <a:off x="6227640" y="333360"/>
            <a:ext cx="1762200" cy="1413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ذمر دائم الشكوى</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هاجمك حالما يراك أمامه ويهاجم شركتك وماتقدم من خدمات ومنتجات يمكن أن يكون هذا الهجوم نتيجه لاعتقاده الخاطئ أو ربما قابلته بعض الصعوبات في معاملاته السابقه مع جهة عملك وربما يكون هجومه موجها لكل الشركات التي تؤدي نفس خدم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تهدئته واكتشاف مشكلته الحقيقية وساعده في الحل قدر استطاع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خدماتك له بصفتك الشخصية ووضح له أنك ستبذل جهدك لتلاقي أي أخطاء حدثت في الماضي</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طلب منه ان يتج لك فرصة اثبات صحة نوايا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وضحه عمايريده بالضبط</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لل من غضبه ومقاومته واجذبه نحو ماتقدمه</a:t>
            </a:r>
            <a:endParaRPr b="0" lang="en-US" sz="2800" spc="-1" strike="noStrike">
              <a:solidFill>
                <a:srgbClr val="000000"/>
              </a:solidFill>
              <a:latin typeface="Arial"/>
            </a:endParaRPr>
          </a:p>
        </p:txBody>
      </p:sp>
      <p:pic>
        <p:nvPicPr>
          <p:cNvPr id="195" name="" descr=""/>
          <p:cNvPicPr/>
          <p:nvPr/>
        </p:nvPicPr>
        <p:blipFill>
          <a:blip r:embed="rId1"/>
          <a:stretch/>
        </p:blipFill>
        <p:spPr>
          <a:xfrm>
            <a:off x="7236000" y="26028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محاكاه</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smo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5076720" y="1268280"/>
            <a:ext cx="2882880" cy="505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1" name=""/>
          <p:cNvSpPr txBox="1"/>
          <p:nvPr/>
        </p:nvSpPr>
        <p:spPr>
          <a:xfrm>
            <a:off x="2411280" y="2421000"/>
            <a:ext cx="4969080" cy="2592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r>
              <a:rPr b="0" lang="ar-EG" sz="3200" spc="-1" strike="noStrike">
                <a:solidFill>
                  <a:srgbClr val="000000"/>
                </a:solidFill>
                <a:latin typeface="Arial"/>
              </a:rPr>
              <a:t> (قوي وشرس / لا تهاجمه في الحوار ولا تهرب منه )</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r>
              <a:rPr b="0" lang="ar-EG" sz="3200" spc="-1" strike="noStrike">
                <a:solidFill>
                  <a:srgbClr val="000000"/>
                </a:solidFill>
                <a:latin typeface="Arial"/>
              </a:rPr>
              <a:t> (الرصانة والحكمة / الاحترام والتوقير والاهتمام)</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r>
              <a:rPr b="0" lang="ar-EG" sz="3200" spc="-1" strike="noStrike">
                <a:solidFill>
                  <a:srgbClr val="000000"/>
                </a:solidFill>
                <a:latin typeface="Arial"/>
              </a:rPr>
              <a:t> (مشاكس ومشاغب و ساخر/ عامله معاملة شبه رسم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r>
              <a:rPr b="0" lang="ar-EG" sz="3200" spc="-1" strike="noStrike">
                <a:solidFill>
                  <a:srgbClr val="000000"/>
                </a:solidFill>
                <a:latin typeface="Arial"/>
              </a:rPr>
              <a:t> (ثرثار وتقليدي/ لاتصده من البداية – لاتسأله اسئلة مفتوحه – ركز على الافكار الرئيس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r>
              <a:rPr b="0" lang="ar-EG" sz="3200" spc="-1" strike="noStrike">
                <a:solidFill>
                  <a:srgbClr val="000000"/>
                </a:solidFill>
                <a:latin typeface="Arial"/>
              </a:rPr>
              <a:t> (براءة وتوتر وتردد / شجعه على اتخاذ القرار – لاتكثر البدائل ام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r>
              <a:rPr b="0" lang="ar-EG" sz="3200" spc="-1" strike="noStrike">
                <a:solidFill>
                  <a:srgbClr val="000000"/>
                </a:solidFill>
                <a:latin typeface="Arial"/>
              </a:rPr>
              <a:t> (انعزالي – متقوقع – غامض / اعطاءه الثقه بالنفس مهمه صغير ثم عظم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r>
              <a:rPr b="0" lang="ar-EG" sz="3200" spc="-1" strike="noStrike">
                <a:solidFill>
                  <a:srgbClr val="000000"/>
                </a:solidFill>
                <a:latin typeface="Arial"/>
              </a:rPr>
              <a:t> ( خمول- هدوء – كسل / التحفيز والتشج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r>
              <a:rPr b="0" lang="ar-EG" sz="3200" spc="-1" strike="noStrike">
                <a:solidFill>
                  <a:srgbClr val="000000"/>
                </a:solidFill>
                <a:latin typeface="Arial"/>
              </a:rPr>
              <a:t> ( استعلاء – احتقار اراء الناس / ارضاء غروره لحدود – اثبت له انك اهلا للثق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 </a:t>
            </a:r>
            <a:r>
              <a:rPr b="0" lang="ar-EG" sz="3200" spc="-1" strike="noStrike">
                <a:solidFill>
                  <a:srgbClr val="000000"/>
                </a:solidFill>
                <a:latin typeface="Arial"/>
              </a:rPr>
              <a:t>( مكر – دهاء محتال – ذكي – متصيد الاخطاء / استقامه معه مع ذكاء ومراوغ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فن بناء الاسئلة</a:t>
            </a:r>
            <a:endParaRPr b="0" lang="en-US" sz="5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Corporate Services"/>
          <p:cNvPicPr/>
          <p:nvPr/>
        </p:nvPicPr>
        <p:blipFill>
          <a:blip r:embed="rId1"/>
          <a:stretch/>
        </p:blipFill>
        <p:spPr>
          <a:xfrm>
            <a:off x="1476360" y="1989000"/>
            <a:ext cx="576900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a:t>
            </a:r>
            <a:r>
              <a:rPr b="1" lang="ar-EG" sz="4400" spc="-1" strike="noStrike">
                <a:solidFill>
                  <a:srgbClr val="000000"/>
                </a:solidFill>
                <a:latin typeface="Arial"/>
              </a:rPr>
              <a:t> </a:t>
            </a:r>
            <a:r>
              <a:rPr b="1" lang="ar-EG" sz="4400" spc="-1" strike="noStrike">
                <a:solidFill>
                  <a:srgbClr val="cc3300"/>
                </a:solidFill>
                <a:latin typeface="Arial"/>
              </a:rPr>
              <a:t>الاسئلة</a:t>
            </a:r>
            <a:r>
              <a:rPr b="1" lang="ar-EG"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فتوح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غلقة (الاسئلة الفخخة – أسئلة المرآ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استكشا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واجهة السؤال بسؤال مضا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4:45:10Z</dcterms:created>
  <dc:creator>anagy</dc:creator>
  <dc:description/>
  <dc:language>en-US</dc:language>
  <cp:lastModifiedBy>anagy</cp:lastModifiedBy>
  <dcterms:modified xsi:type="dcterms:W3CDTF">2005-10-18T07:00:44Z</dcterms:modified>
  <cp:revision>18</cp:revision>
  <dc:subject/>
  <dc:title>Dialogue skills</dc:title>
</cp:coreProperties>
</file>