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4F7C-A87B-4669-B845-2F577DCC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5D5-5C97-4B59-A89F-AC24FFE3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64F0-3D47-45BC-9D71-8EABF306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416-FB54-4BBF-BDAE-3C7BC349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F3A-6A2C-40CB-B9D6-13C460B8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901-66CC-4923-B488-71DA2B45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C9A-F3C1-469D-B039-63690178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CDD-0A08-48AA-9B60-BFD6E16B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0CD8-5A3B-4886-A338-5D51A409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3028-DF8B-4928-A963-33D1B2BB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3C7-2856-4880-BDFC-3AE3F923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CD5-CCD5-4C35-8F80-D31E23D2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89EB-6AF5-4CA6-8487-723CAB16E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2637000"/>
            <a:ext cx="6191280" cy="1800000"/>
          </a:xfrm>
          <a:prstGeom prst="foldedCorner">
            <a:avLst>
              <a:gd name="adj" fmla="val 12500"/>
            </a:avLst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عمليـة المناصـرة ومهاراتهـــ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اقنـــــاع (الجرأة)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رس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ايضا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ك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عادة الصيغ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توصيل الرس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استماع الى المقاو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 لمسة الع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كلم باقن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هدو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استراتيجيــــ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عرف على الحلف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عودة الى القضاي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باق المقاو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استراتيجيـــــ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عدا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وضع سيناريوهات متعد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تجنب العد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ستخدام طرق ايجابية في المقترح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عمل على ثقافة المؤسسة وايجاد نقط الدخ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اشارة الى القيمة المضافة للمقتر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قدم بخطو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رجوع الى السياسات والوثائق الرس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قترحـــات اضافيـــــ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موافقة على القيام بشىء لا تريد حقا القيام به وطلب شيئا اخر بالمقاب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طلب المساع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عمل من الاسفل الى الاعلى ومن الاعلى الى الاسف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خدام النماذج المكتوبة عوضا عن المناقشات دون نها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فتيش عن حلفاء بين الز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نتباه الى تكلفة المناصرة للنوع الاجتماعي والضغط لتخصيص الموارد لهذا الغر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مناقشــــــــ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د مجموعة من الاسئلة لقيادة المتحدث معك الى خلاص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شهد بما قاله المتحدث معك واضف شيئا من عند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شرك المتحدث معك في العم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عرف المتحدث وفتش عن افضل طريقة للتعامل مع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لا تتجنب النقاش للقفز الى الخلاص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يتطلـب ادمـاج النـوع الاجتمـاعـ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مهارات ف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مهارات شخصية (خصائ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اتص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قدرة على اتخاذ القرارات (التحليل والبحوث والاتصال والعمل الجماع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عمل في اجتماعات (تقديم العرو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قدرة على الاقناع (الجرأة والحز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تعامل مع المقاو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عمل سو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ستخدام لغة حساسة للنوع الاجتماع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القــدرة علــى اتخـــاذ القــرار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ملية اتخاذ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فهم المشكلة والغرض بوضوح من اجل النظر في مجموعة واسعة من البدائ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وضع اوسع عدد ممكن من الحلول للمشك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جمع كل المعلومات المتوفرة حول نتائج اي تحر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فكير بنقاط القوة والضعف لكل حل من الحلول ثم اختيار الحل الاكثر مناسب والذي ستلتزم به كام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هــــارات الاتصــــال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مهارات الاستما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يون واذ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تعمال لغة الجس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ستماع الى الاحاسي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تأكد من فهم الا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عكس الفهم (تكرار الاجابة بعبارات اخر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مهارات الاستجوا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طرح اسئلة مفتوحة (لماذا، ماذا، اين ومت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طرح اسئلة تستقصي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سئلة توضي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استفسار حول الشعو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لفضولية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مهـــارات الاتصــــال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ل في اجتماعـــات 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تقديم العروض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عرف جمهور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رسخ المصدا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عرف رسالت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دقق الو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احسن العر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28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ـل في اجتماعــــ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تسيير نقاش المجمو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وضح الا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وضح الوظائ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حافظ على تركيز المجموع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شجع المشارك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لخص النقاط الرئي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ل في اجتماعــــ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صف الذهن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ثلاثة مبادى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كثرة الاف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عدم الحكم في البدا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تنوع الافكار يؤدي الى ايجاد الحل الملائ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جمع الافك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وضيح والمناقش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تجميع والحذ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وصول الى قرارات متفق علي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عمــــل في اجتماعــــات</a:t>
            </a:r>
            <a:br>
              <a:rPr sz="4000"/>
            </a:b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لتلخيــــــص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ضع النقاط الرئي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في البداية والنها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ماذا سأقول، القول، ماذا قل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07:52:45Z</dcterms:created>
  <dc:creator>Evo D510 minitower</dc:creator>
  <dc:description/>
  <dc:language>en-US</dc:language>
  <cp:lastModifiedBy>Evo D510 minitower</cp:lastModifiedBy>
  <dcterms:modified xsi:type="dcterms:W3CDTF">2005-11-01T16:41:38Z</dcterms:modified>
  <cp:revision>14</cp:revision>
  <dc:subject/>
  <dc:title>عملية ومهارات المناصرة </dc:title>
</cp:coreProperties>
</file>