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092-97A8-465D-96F2-D7066A87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AA6-0423-40E0-BA9D-BF9E756F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C4C-6B33-435D-AC66-5F456035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139-F594-4067-9E83-446AF92C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75FA-7959-498A-AE9F-48CF65B2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2DB3-CAF5-4439-865A-F3C16E42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A0D-B705-407F-96BD-988AF44E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DC8C-EC2D-4609-BB88-B1923819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8D32-F9A4-4CBC-95A1-20F3560F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6BCF-C987-4303-9625-C53B3088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3155-0203-441E-B15A-4E317221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0CF-55EA-48BA-872C-9A23BBDB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78C6-4346-4187-98B4-19306CA74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2637000"/>
            <a:ext cx="6191280" cy="1800000"/>
          </a:xfrm>
          <a:prstGeom prst="foldedCorner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عمليـة المناصـرة ومهاراتهـــ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اقنـــــاع (الجرأة)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رسا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ايضا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كر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عادة الصيغ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توصيل الرسا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استماع الى المقاو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 لمسة الع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كلم باقن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هدو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استراتيجيــــ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تعرف على الحلف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عودة الى القضاي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تباق المقاو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استراتيجيـــــ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اعدا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وضع سيناريوهات متعد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تجنب العد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ستخدام طرق ايجابية في المقترح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عمل على ثقافة المؤسسة وايجاد نقط الدخ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اشارة الى القيمة المضافة للمقتر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قدم بخطو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رجوع الى السياسات والوثائق الرس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قترحـــات اضافيـــــ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موافقة على القيام بشىء لا تريد حقا القيام به وطلب شيئا اخر بالمقاب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طلب المساع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عمل من الاسفل الى الاعلى ومن الاعلى الى الاسف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تخدام النماذج المكتوبة عوضا عن المناقشات دون نها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تفتيش عن حلفاء بين الزمل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انتباه الى تكلفة المناصرة للنوع الاجتماعي والضغط لتخصيص الموارد لهذا الغر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مناقشــــــــ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د مجموعة من الاسئلة لقيادة المتحدث معك الى خلاص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تشهد بما قاله المتحدث معك واضف شيئا من عند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شرك المتحدث معك في العم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عرف المتحدث وفتش عن افضل طريقة للتعامل مع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لا تتجنب النقاش للقفز الى الخلاص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54000"/>
          </a:xfrm>
          <a:prstGeom prst="rect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يتطلـب ادمـاج النـوع الاجتمـاعـ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مهارات ف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مهارات شخصية (خصائ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اتص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قدرة على اتخاذ القرارات (التحليل والبحوث والاتصال والعمل الجماع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عمل في اجتماعات (تقديم العرو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قدرة على الاقناع (الجرأة والحز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تعامل مع المقاو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عمل سو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ستخدام لغة حساسة للنوع الاجتماع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قــدرة علــى اتخـــاذ القــرار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ملية اتخاذ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فهم المشكلة والغرض بوضوح من اجل النظر في مجموعة واسعة من البدائ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وضع اوسع عدد ممكن من الحلول للمشك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جمع كل المعلومات المتوفرة حول نتائج اي تحر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تفكير بنقاط القوة والضعف لكل حل من الحلول ثم اختيار الحل الاكثر مناسب والذي ستلتزم به كامل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هــــارات الاتصــــال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مهارات الاستما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يون واذ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تعمال لغة الجس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استماع الى الاحاسي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تأكد من فهم الا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كس الفهم (تكرار الاجابة بعبارات اخر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مهارات الاستجوا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طرح اسئلة مفتوحة (لماذا، ماذا، اين ومت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طرح اسئلة تستقصي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ئلة توضي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استفسار حول الشعو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فضولية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هـــارات الاتصــــال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مـــل في اجتماعـــات 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تقديم العروض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عرف جمهور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رسخ المصداق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عرف رسال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دقق الوق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حسن العر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28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مــــل في اجتماعــــا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تسيير نقاش المجمو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وضح الا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وضح الوظائ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حافظ على تركيز المجموع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شجع المشارك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لخص النقاط الرئي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مـــل في اجتماعــــا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صف الذهن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ثلاثة مبادى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كثرة الاف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عدم الحكم في البدا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تنوع الافكار يؤدي الى ايجاد الحل الملائ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جمع الاف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وضيح والمناقش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جميع والحذ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وصول الى قرارات متفق علي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مــــل في اجتماعــــا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تلخيــــــص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ضع النقاط الرئي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في البداية والنها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ماذا سأقول، القول، ماذا قل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07:52:45Z</dcterms:created>
  <dc:creator>Evo D510 minitower</dc:creator>
  <dc:description/>
  <dc:language>en-US</dc:language>
  <cp:lastModifiedBy>Evo D510 minitower</cp:lastModifiedBy>
  <dcterms:modified xsi:type="dcterms:W3CDTF">2005-11-01T16:41:38Z</dcterms:modified>
  <cp:revision>14</cp:revision>
  <dc:subject/>
  <dc:title>عملية ومهارات المناصرة </dc:title>
</cp:coreProperties>
</file>