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65F8-4B50-493D-9B0A-D8BCCD088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173C-C57D-4ABA-81AC-785F9A76B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EA12-8085-41F2-8EF5-E13F2AD7B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BD30-C839-40DD-9399-EA669B23D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A0D2-AF01-4BDB-8ED4-A3B4CB5C8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E279-983C-4E9A-8488-13BBA01DE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E12E-7A01-43D0-8608-C586DEF19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877C-A19D-49AC-A866-45E63405B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E652-AC8C-43CD-85AA-6CE7CFAB7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08D0-2E55-4294-8675-E77CD565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799F-43B0-4242-90BD-19E7E694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7C8A-43C9-4D7F-9F9B-49F29DFE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1C973-3948-4DD3-874E-F7184FD7C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76360" y="2637000"/>
            <a:ext cx="6191280" cy="1800000"/>
          </a:xfrm>
          <a:prstGeom prst="foldedCorner">
            <a:avLst>
              <a:gd name="adj" fmla="val 12500"/>
            </a:avLst>
          </a:prstGeom>
          <a:solidFill>
            <a:srgbClr val="3333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عمليـة المناصـرة ومهاراتهـــ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الاقنـــــاع (الجرأة)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الرسال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الايضا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التكر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اعادة الصيغ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توصيل الرسال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الاستماع الى المقاوم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 لمسة الع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التكلم باقنا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الهدو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الاستراتيجيــــ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لتعرف على الحلفا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لعودة الى القضاي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ستباق المقاوم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الاستراتيجيـــــ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لاعدا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وضع سيناريوهات متعدد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تجنب العدائ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استخدام طرق ايجابية في المقترح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العمل على ثقافة المؤسسة وايجاد نقط الدخو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الاشارة الى القيمة المضافة للمقتر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التقدم بخطو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الرجوع الى السياسات والوثائق الرسم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مقترحـــات اضافيـــــة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لموافقة على القيام بشىء لا تريد حقا القيام به وطلب شيئا اخر بالمقاب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طلب المساع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لعمل من الاسفل الى الاعلى ومن الاعلى الى الاسف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ستخدام النماذج المكتوبة عوضا عن المناقشات دون نها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لتفتيش عن حلفاء بين الزملا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لانتباه الى تكلفة المناصرة للنوع الاجتماعي والضغط لتخصيص الموارد لهذا الغر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15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المناقشــــــــة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عد مجموعة من الاسئلة لقيادة المتحدث معك الى خلاصت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ستشهد بما قاله المتحدث معك واضف شيئا من عند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شرك المتحدث معك في العم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عرف المتحدث وفتش عن افضل طريقة للتعامل مع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لا تتجنب النقاش للقفز الى الخلاص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54000"/>
          </a:xfrm>
          <a:prstGeom prst="rect">
            <a:avLst/>
          </a:prstGeom>
          <a:solidFill>
            <a:srgbClr val="333399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يتطلـب ادمـاج النـوع الاجتمـاعـ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333399"/>
              </a:buClr>
              <a:buFont typeface="Arial"/>
              <a:buChar char="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مهارات فن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333399"/>
              </a:buClr>
              <a:buFont typeface="Arial"/>
              <a:buChar char="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مهارات شخصية (خصائ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اتصا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قدرة على اتخاذ القرارات (التحليل والبحوث والاتصال والعمل الجماعي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عمل في اجتماعات (تقديم العروض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قدرة على الاقناع (الجرأة والحز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تعامل مع المقاوم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عمل سوي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ستخدام لغة حساسة للنوع الاجتماع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القــدرة علــى اتخـــاذ القــرار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عملية اتخاذ القر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فهم المشكلة والغرض بوضوح من اجل النظر في مجموعة واسعة من البدائ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وضع اوسع عدد ممكن من الحلول للمشكل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جمع كل المعلومات المتوفرة حول نتائج اي تحر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لتفكير بنقاط القوة والضعف لكل حل من الحلول ثم اختيار الحل الاكثر مناسب والذي ستلتزم به كامل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مهــــارات الاتصــــال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99"/>
                </a:solidFill>
                <a:latin typeface="Arial"/>
              </a:rPr>
              <a:t>مهارات الاستما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عيون واذا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ستعمال لغة الجس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لاستماع الى الاحاسي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لتأكد من فهم الاخر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عكس الفهم (تكرار الاجابة بعبارات اخرى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99"/>
                </a:solidFill>
                <a:latin typeface="Arial"/>
              </a:rPr>
              <a:t>مهارات الاستجواب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طرح اسئلة مفتوحة (لماذا، ماذا، اين ومتى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طرح اسئلة تستقصي المعلوم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سئلة توضيح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لاستفسار حول الشعو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لفضولية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مهـــارات الاتصــــال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العمـــل في اجتماعـــات </a:t>
            </a:r>
            <a:br>
              <a:rPr sz="4000"/>
            </a:b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تقديم العروض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عرف جمهور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رسخ المصداق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عرف رسالت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دقق الوق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حسن العر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286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العمــــل في اجتماعــــات</a:t>
            </a:r>
            <a:br>
              <a:rPr sz="4000"/>
            </a:b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تسيير نقاش المجموع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وضح الاهدا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وضح الوظائ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حافظ على تركيز المجموع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شجع المشارك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لخص النقاط الرئيس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العمـــل في اجتماعــــات</a:t>
            </a:r>
            <a:br>
              <a:rPr sz="4000"/>
            </a:b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العصف الذهن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ثلاثة مبادىء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كثرة الافك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عدم الحكم في البدا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تنوع الافكار يؤدي الى ايجاد الحل الملائ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جمع الافك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التوضيح والمناقش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التجميع والحذ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الوصول الى قرارات متفق علي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العمــــل في اجتماعــــات</a:t>
            </a:r>
            <a:br>
              <a:rPr sz="4000"/>
            </a:b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التلخيــــــص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292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ضع النقاط الرئيس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في البداية والنها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ماذا سأقول، القول، ماذا قل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9T07:52:45Z</dcterms:created>
  <dc:creator>Evo D510 minitower</dc:creator>
  <dc:description/>
  <dc:language>en-US</dc:language>
  <cp:lastModifiedBy>Evo D510 minitower</cp:lastModifiedBy>
  <dcterms:modified xsi:type="dcterms:W3CDTF">2005-11-01T16:41:38Z</dcterms:modified>
  <cp:revision>14</cp:revision>
  <dc:subject/>
  <dc:title>عملية ومهارات المناصرة </dc:title>
</cp:coreProperties>
</file>