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laser.wav" ContentType="audio/x-wav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568-382D-436C-8C1D-6B00ED15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A0F-3ABC-4893-8566-71EEA71E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0ED-6072-4427-9D61-0628EE4D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934-7ED7-470C-ACD4-45DB0DC3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8C4-36DB-4D6B-AB1F-8AFA55D9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B92-D696-45BC-BB9C-E57CAA83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680-4EB6-40F8-9685-D8B66719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9D2-6B9A-443D-93A7-06517764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9FE-1341-4C75-9BCA-D43E5C4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E38-1CB8-4E80-A363-25961A81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A9A-1C6C-49B4-8F96-856303DF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6EE-DFB5-4AE2-84B8-54EC271C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C52A-3AF6-4E58-910B-C2B81040D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153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2362320"/>
            <a:ext cx="7315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4267080"/>
            <a:ext cx="6248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</p:spTree>
  </p:cSld>
  <p:transition spd="slow">
    <p:wipe dir="r"/>
    <p:sndAc>
      <p:stSnd>
        <p:snd r:embed="rId2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001000" y="4581360"/>
            <a:ext cx="0" cy="8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174480" y="56386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21240" y="1600200"/>
            <a:ext cx="32767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388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قدو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حسن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PT Bold Dusk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21240" y="1600200"/>
            <a:ext cx="152388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21240" y="16002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971800" y="1600200"/>
            <a:ext cx="154944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143000" y="1600200"/>
            <a:ext cx="33782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41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حل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جناح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مو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الواق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53360" y="5207040"/>
            <a:ext cx="12952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د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17440" y="4902120"/>
            <a:ext cx="205740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عالج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أخط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850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68880" y="56386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17920" y="5016600"/>
            <a:ext cx="1676520" cy="121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معام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24560" y="5105520"/>
            <a:ext cx="144792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الصب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119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حكيم 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ست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سل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5912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قد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سئوليت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ينميها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آخر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ع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صلاحي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واج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مل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68480" y="482760"/>
            <a:ext cx="5105520" cy="1307880"/>
          </a:xfrm>
          <a:custGeom>
            <a:avLst/>
            <a:gdLst>
              <a:gd name="textAreaLeft" fmla="*/ 723960 w 5105520"/>
              <a:gd name="textAreaRight" fmla="*/ 4381560 w 5105520"/>
              <a:gd name="textAreaTop" fmla="*/ 0 h 1307880"/>
              <a:gd name="textAreaBottom" fmla="*/ 1049400 h 1307880"/>
            </a:gdLst>
            <a:ahLst/>
            <a:rect l="textAreaLeft" t="textAreaTop" r="textAreaRight" b="textAreaBottom"/>
            <a:pathLst>
              <a:path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21066"/>
                  <a:pt x="5343" y="21600"/>
                  <a:pt x="4923" y="21600"/>
                </a:cubicBezTo>
                <a:lnTo>
                  <a:pt x="0" y="21600"/>
                </a:lnTo>
                <a:lnTo>
                  <a:pt x="2750" y="12937"/>
                </a:lnTo>
                <a:lnTo>
                  <a:pt x="0" y="4273"/>
                </a:lnTo>
                <a:lnTo>
                  <a:pt x="3063" y="4273"/>
                </a:lnTo>
                <a:lnTo>
                  <a:pt x="3063" y="1068"/>
                </a:lnTo>
                <a:cubicBezTo>
                  <a:pt x="3063" y="534"/>
                  <a:pt x="3483" y="0"/>
                  <a:pt x="3903" y="0"/>
                </a:cubicBezTo>
                <a:lnTo>
                  <a:pt x="17697" y="0"/>
                </a:lnTo>
                <a:cubicBezTo>
                  <a:pt x="18117" y="0"/>
                  <a:pt x="18537" y="534"/>
                  <a:pt x="18537" y="1068"/>
                </a:cubicBezTo>
                <a:lnTo>
                  <a:pt x="18537" y="4273"/>
                </a:lnTo>
                <a:lnTo>
                  <a:pt x="21600" y="4273"/>
                </a:lnTo>
                <a:lnTo>
                  <a:pt x="18850" y="12937"/>
                </a:lnTo>
                <a:lnTo>
                  <a:pt x="21600" y="21600"/>
                </a:lnTo>
                <a:lnTo>
                  <a:pt x="16677" y="21600"/>
                </a:lnTo>
                <a:cubicBezTo>
                  <a:pt x="16257" y="21600"/>
                  <a:pt x="15837" y="21066"/>
                  <a:pt x="15837" y="20532"/>
                </a:cubicBezTo>
                <a:lnTo>
                  <a:pt x="15837" y="17327"/>
                </a:lnTo>
                <a:close/>
              </a:path>
              <a:path fill="darkenLess"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19998"/>
                  <a:pt x="5343" y="19464"/>
                  <a:pt x="4923" y="19464"/>
                </a:cubicBezTo>
                <a:lnTo>
                  <a:pt x="3903" y="19464"/>
                </a:lnTo>
                <a:cubicBezTo>
                  <a:pt x="3483" y="19464"/>
                  <a:pt x="3063" y="18929"/>
                  <a:pt x="3063" y="18395"/>
                </a:cubicBezTo>
                <a:cubicBezTo>
                  <a:pt x="3063" y="17861"/>
                  <a:pt x="3483" y="17327"/>
                  <a:pt x="3903" y="17327"/>
                </a:cubicBezTo>
                <a:close/>
              </a:path>
              <a:path fill="darkenLess" w="21600" h="21600">
                <a:moveTo>
                  <a:pt x="15837" y="17327"/>
                </a:moveTo>
                <a:lnTo>
                  <a:pt x="15837" y="20532"/>
                </a:lnTo>
                <a:cubicBezTo>
                  <a:pt x="15837" y="19998"/>
                  <a:pt x="16257" y="19464"/>
                  <a:pt x="16677" y="19464"/>
                </a:cubicBezTo>
                <a:lnTo>
                  <a:pt x="17697" y="19464"/>
                </a:lnTo>
                <a:cubicBezTo>
                  <a:pt x="18117" y="19464"/>
                  <a:pt x="18537" y="18929"/>
                  <a:pt x="18537" y="18395"/>
                </a:cubicBezTo>
                <a:cubicBezTo>
                  <a:pt x="18537" y="17861"/>
                  <a:pt x="18117" y="17327"/>
                  <a:pt x="17697" y="17327"/>
                </a:cubicBezTo>
                <a:close/>
              </a:path>
              <a:path fill="darkenLess" w="21600" h="21600">
                <a:moveTo>
                  <a:pt x="3063" y="18395"/>
                </a:moveTo>
                <a:lnTo>
                  <a:pt x="3063" y="4273"/>
                </a:lnTo>
              </a:path>
              <a:path fill="darkenLess" w="21600" h="21600">
                <a:moveTo>
                  <a:pt x="18537" y="18395"/>
                </a:moveTo>
                <a:lnTo>
                  <a:pt x="18537" y="427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DecoType Thuluth"/>
              </a:rPr>
              <a:t>صفات الشخصية المتمي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2819520" y="304920"/>
            <a:ext cx="6324120" cy="6552360"/>
            <a:chOff x="2819520" y="304920"/>
            <a:chExt cx="6324120" cy="6552360"/>
          </a:xfrm>
        </p:grpSpPr>
        <p:grpSp>
          <p:nvGrpSpPr>
            <p:cNvPr id="275" name=""/>
            <p:cNvGrpSpPr/>
            <p:nvPr/>
          </p:nvGrpSpPr>
          <p:grpSpPr>
            <a:xfrm>
              <a:off x="6086520" y="304920"/>
              <a:ext cx="1538280" cy="3968640"/>
              <a:chOff x="6086520" y="304920"/>
              <a:chExt cx="1538280" cy="3968640"/>
            </a:xfrm>
          </p:grpSpPr>
          <p:sp>
            <p:nvSpPr>
              <p:cNvPr id="276" name=""/>
              <p:cNvSpPr/>
              <p:nvPr/>
            </p:nvSpPr>
            <p:spPr>
              <a:xfrm>
                <a:off x="6086520" y="328680"/>
                <a:ext cx="150840" cy="3944880"/>
              </a:xfrm>
              <a:custGeom>
                <a:avLst/>
                <a:gdLst/>
                <a:ahLst/>
                <a:rect l="l" t="t" r="r" b="b"/>
                <a:pathLst>
                  <a:path w="95" h="2485">
                    <a:moveTo>
                      <a:pt x="0" y="5"/>
                    </a:moveTo>
                    <a:lnTo>
                      <a:pt x="47" y="2485"/>
                    </a:lnTo>
                    <a:lnTo>
                      <a:pt x="95" y="2485"/>
                    </a:lnTo>
                    <a:lnTo>
                      <a:pt x="4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05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61040" y="304920"/>
                <a:ext cx="1463760" cy="520560"/>
              </a:xfrm>
              <a:custGeom>
                <a:avLst/>
                <a:gdLst/>
                <a:ahLst/>
                <a:rect l="l" t="t" r="r" b="b"/>
                <a:pathLst>
                  <a:path w="922" h="328">
                    <a:moveTo>
                      <a:pt x="0" y="30"/>
                    </a:moveTo>
                    <a:lnTo>
                      <a:pt x="71" y="9"/>
                    </a:lnTo>
                    <a:lnTo>
                      <a:pt x="120" y="5"/>
                    </a:lnTo>
                    <a:lnTo>
                      <a:pt x="173" y="1"/>
                    </a:lnTo>
                    <a:lnTo>
                      <a:pt x="225" y="0"/>
                    </a:lnTo>
                    <a:lnTo>
                      <a:pt x="285" y="3"/>
                    </a:lnTo>
                    <a:lnTo>
                      <a:pt x="324" y="11"/>
                    </a:lnTo>
                    <a:lnTo>
                      <a:pt x="364" y="22"/>
                    </a:lnTo>
                    <a:lnTo>
                      <a:pt x="387" y="30"/>
                    </a:lnTo>
                    <a:lnTo>
                      <a:pt x="421" y="46"/>
                    </a:lnTo>
                    <a:lnTo>
                      <a:pt x="467" y="72"/>
                    </a:lnTo>
                    <a:lnTo>
                      <a:pt x="509" y="79"/>
                    </a:lnTo>
                    <a:lnTo>
                      <a:pt x="532" y="79"/>
                    </a:lnTo>
                    <a:lnTo>
                      <a:pt x="574" y="74"/>
                    </a:lnTo>
                    <a:lnTo>
                      <a:pt x="613" y="61"/>
                    </a:lnTo>
                    <a:lnTo>
                      <a:pt x="653" y="50"/>
                    </a:lnTo>
                    <a:lnTo>
                      <a:pt x="711" y="42"/>
                    </a:lnTo>
                    <a:lnTo>
                      <a:pt x="779" y="42"/>
                    </a:lnTo>
                    <a:lnTo>
                      <a:pt x="852" y="66"/>
                    </a:lnTo>
                    <a:lnTo>
                      <a:pt x="922" y="99"/>
                    </a:lnTo>
                    <a:lnTo>
                      <a:pt x="852" y="145"/>
                    </a:lnTo>
                    <a:lnTo>
                      <a:pt x="798" y="184"/>
                    </a:lnTo>
                    <a:lnTo>
                      <a:pt x="844" y="232"/>
                    </a:lnTo>
                    <a:lnTo>
                      <a:pt x="914" y="285"/>
                    </a:lnTo>
                    <a:lnTo>
                      <a:pt x="860" y="301"/>
                    </a:lnTo>
                    <a:lnTo>
                      <a:pt x="774" y="317"/>
                    </a:lnTo>
                    <a:lnTo>
                      <a:pt x="679" y="326"/>
                    </a:lnTo>
                    <a:lnTo>
                      <a:pt x="576" y="328"/>
                    </a:lnTo>
                    <a:lnTo>
                      <a:pt x="504" y="323"/>
                    </a:lnTo>
                    <a:lnTo>
                      <a:pt x="433" y="312"/>
                    </a:lnTo>
                    <a:lnTo>
                      <a:pt x="389" y="297"/>
                    </a:lnTo>
                    <a:lnTo>
                      <a:pt x="330" y="249"/>
                    </a:lnTo>
                    <a:lnTo>
                      <a:pt x="287" y="239"/>
                    </a:lnTo>
                    <a:lnTo>
                      <a:pt x="237" y="239"/>
                    </a:lnTo>
                    <a:lnTo>
                      <a:pt x="199" y="244"/>
                    </a:lnTo>
                    <a:lnTo>
                      <a:pt x="154" y="249"/>
                    </a:lnTo>
                    <a:lnTo>
                      <a:pt x="106" y="265"/>
                    </a:lnTo>
                    <a:lnTo>
                      <a:pt x="69" y="275"/>
                    </a:lnTo>
                    <a:lnTo>
                      <a:pt x="0" y="312"/>
                    </a:lnTo>
                    <a:lnTo>
                      <a:pt x="24" y="272"/>
                    </a:lnTo>
                    <a:lnTo>
                      <a:pt x="37" y="232"/>
                    </a:lnTo>
                    <a:lnTo>
                      <a:pt x="45" y="180"/>
                    </a:lnTo>
                    <a:lnTo>
                      <a:pt x="43" y="128"/>
                    </a:lnTo>
                    <a:lnTo>
                      <a:pt x="26" y="7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819520" y="3187800"/>
              <a:ext cx="6324120" cy="3669480"/>
              <a:chOff x="2819520" y="3187800"/>
              <a:chExt cx="6324120" cy="3669480"/>
            </a:xfrm>
          </p:grpSpPr>
          <p:sp>
            <p:nvSpPr>
              <p:cNvPr id="279" name=""/>
              <p:cNvSpPr/>
              <p:nvPr/>
            </p:nvSpPr>
            <p:spPr>
              <a:xfrm>
                <a:off x="2819520" y="3187800"/>
                <a:ext cx="6324120" cy="3669480"/>
              </a:xfrm>
              <a:custGeom>
                <a:avLst/>
                <a:gdLst/>
                <a:ahLst/>
                <a:rect l="l" t="t" r="r" b="b"/>
                <a:pathLst>
                  <a:path w="2091" h="1086">
                    <a:moveTo>
                      <a:pt x="0" y="1086"/>
                    </a:moveTo>
                    <a:lnTo>
                      <a:pt x="96" y="947"/>
                    </a:lnTo>
                    <a:lnTo>
                      <a:pt x="217" y="839"/>
                    </a:lnTo>
                    <a:lnTo>
                      <a:pt x="351" y="801"/>
                    </a:lnTo>
                    <a:lnTo>
                      <a:pt x="389" y="659"/>
                    </a:lnTo>
                    <a:lnTo>
                      <a:pt x="503" y="543"/>
                    </a:lnTo>
                    <a:lnTo>
                      <a:pt x="656" y="543"/>
                    </a:lnTo>
                    <a:lnTo>
                      <a:pt x="731" y="492"/>
                    </a:lnTo>
                    <a:lnTo>
                      <a:pt x="782" y="364"/>
                    </a:lnTo>
                    <a:lnTo>
                      <a:pt x="898" y="225"/>
                    </a:lnTo>
                    <a:lnTo>
                      <a:pt x="960" y="32"/>
                    </a:lnTo>
                    <a:lnTo>
                      <a:pt x="1075" y="57"/>
                    </a:lnTo>
                    <a:lnTo>
                      <a:pt x="1209" y="0"/>
                    </a:lnTo>
                    <a:lnTo>
                      <a:pt x="1247" y="70"/>
                    </a:lnTo>
                    <a:lnTo>
                      <a:pt x="1320" y="123"/>
                    </a:lnTo>
                    <a:lnTo>
                      <a:pt x="1382" y="264"/>
                    </a:lnTo>
                    <a:lnTo>
                      <a:pt x="1507" y="343"/>
                    </a:lnTo>
                    <a:lnTo>
                      <a:pt x="1570" y="485"/>
                    </a:lnTo>
                    <a:lnTo>
                      <a:pt x="1709" y="562"/>
                    </a:lnTo>
                    <a:lnTo>
                      <a:pt x="1741" y="735"/>
                    </a:lnTo>
                    <a:lnTo>
                      <a:pt x="1997" y="921"/>
                    </a:lnTo>
                    <a:lnTo>
                      <a:pt x="2091" y="1086"/>
                    </a:lnTo>
                    <a:lnTo>
                      <a:pt x="0" y="1086"/>
                    </a:lnTo>
                    <a:close/>
                  </a:path>
                </a:pathLst>
              </a:custGeom>
              <a:solidFill>
                <a:srgbClr val="a0a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6621120" y="3596760"/>
                <a:ext cx="1462680" cy="2547000"/>
                <a:chOff x="6621120" y="3596760"/>
                <a:chExt cx="1462680" cy="254700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621120" y="3596760"/>
                  <a:ext cx="423360" cy="851040"/>
                </a:xfrm>
                <a:custGeom>
                  <a:avLst/>
                  <a:gdLst/>
                  <a:ahLst/>
                  <a:rect l="l" t="t" r="r" b="b"/>
                  <a:pathLst>
                    <a:path w="140" h="252">
                      <a:moveTo>
                        <a:pt x="63" y="0"/>
                      </a:moveTo>
                      <a:lnTo>
                        <a:pt x="46" y="95"/>
                      </a:lnTo>
                      <a:lnTo>
                        <a:pt x="63" y="142"/>
                      </a:lnTo>
                      <a:lnTo>
                        <a:pt x="16" y="189"/>
                      </a:lnTo>
                      <a:lnTo>
                        <a:pt x="0" y="252"/>
                      </a:lnTo>
                      <a:lnTo>
                        <a:pt x="77" y="235"/>
                      </a:lnTo>
                      <a:lnTo>
                        <a:pt x="77" y="205"/>
                      </a:lnTo>
                      <a:lnTo>
                        <a:pt x="140" y="235"/>
                      </a:lnTo>
                      <a:lnTo>
                        <a:pt x="125" y="1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905520" y="4332960"/>
                  <a:ext cx="661320" cy="962640"/>
                </a:xfrm>
                <a:custGeom>
                  <a:avLst/>
                  <a:gdLst/>
                  <a:ahLst/>
                  <a:rect l="l" t="t" r="r" b="b"/>
                  <a:pathLst>
                    <a:path w="219" h="285">
                      <a:moveTo>
                        <a:pt x="156" y="0"/>
                      </a:moveTo>
                      <a:lnTo>
                        <a:pt x="219" y="143"/>
                      </a:lnTo>
                      <a:lnTo>
                        <a:pt x="156" y="159"/>
                      </a:lnTo>
                      <a:lnTo>
                        <a:pt x="94" y="237"/>
                      </a:lnTo>
                      <a:lnTo>
                        <a:pt x="46" y="191"/>
                      </a:lnTo>
                      <a:lnTo>
                        <a:pt x="0" y="285"/>
                      </a:lnTo>
                      <a:lnTo>
                        <a:pt x="0" y="143"/>
                      </a:lnTo>
                      <a:lnTo>
                        <a:pt x="94" y="128"/>
                      </a:lnTo>
                      <a:lnTo>
                        <a:pt x="109" y="34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25000" y="5082840"/>
                  <a:ext cx="658800" cy="1060920"/>
                </a:xfrm>
                <a:custGeom>
                  <a:avLst/>
                  <a:gdLst/>
                  <a:ahLst/>
                  <a:rect l="l" t="t" r="r" b="b"/>
                  <a:pathLst>
                    <a:path w="218" h="314">
                      <a:moveTo>
                        <a:pt x="186" y="0"/>
                      </a:moveTo>
                      <a:lnTo>
                        <a:pt x="93" y="31"/>
                      </a:lnTo>
                      <a:lnTo>
                        <a:pt x="93" y="142"/>
                      </a:lnTo>
                      <a:lnTo>
                        <a:pt x="30" y="126"/>
                      </a:lnTo>
                      <a:lnTo>
                        <a:pt x="0" y="219"/>
                      </a:lnTo>
                      <a:lnTo>
                        <a:pt x="78" y="236"/>
                      </a:lnTo>
                      <a:lnTo>
                        <a:pt x="123" y="314"/>
                      </a:lnTo>
                      <a:lnTo>
                        <a:pt x="172" y="219"/>
                      </a:lnTo>
                      <a:lnTo>
                        <a:pt x="218" y="254"/>
                      </a:lnTo>
                      <a:lnTo>
                        <a:pt x="218" y="174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4" name=""/>
          <p:cNvSpPr txBox="1"/>
          <p:nvPr/>
        </p:nvSpPr>
        <p:spPr>
          <a:xfrm>
            <a:off x="228600" y="35812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 </a:t>
            </a: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خطوات للتميز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484440" y="1057320"/>
            <a:ext cx="2909880" cy="5877000"/>
            <a:chOff x="3484440" y="1057320"/>
            <a:chExt cx="2909880" cy="5877000"/>
          </a:xfrm>
        </p:grpSpPr>
        <p:sp>
          <p:nvSpPr>
            <p:cNvPr id="286" name=""/>
            <p:cNvSpPr/>
            <p:nvPr/>
          </p:nvSpPr>
          <p:spPr>
            <a:xfrm>
              <a:off x="6049800" y="1328760"/>
              <a:ext cx="236880" cy="333360"/>
            </a:xfrm>
            <a:custGeom>
              <a:avLst/>
              <a:gdLst/>
              <a:ahLst/>
              <a:rect l="l" t="t" r="r" b="b"/>
              <a:pathLst>
                <a:path w="149" h="210">
                  <a:moveTo>
                    <a:pt x="66" y="3"/>
                  </a:moveTo>
                  <a:lnTo>
                    <a:pt x="38" y="17"/>
                  </a:lnTo>
                  <a:lnTo>
                    <a:pt x="11" y="41"/>
                  </a:lnTo>
                  <a:lnTo>
                    <a:pt x="0" y="57"/>
                  </a:lnTo>
                  <a:lnTo>
                    <a:pt x="5" y="71"/>
                  </a:lnTo>
                  <a:lnTo>
                    <a:pt x="19" y="79"/>
                  </a:lnTo>
                  <a:lnTo>
                    <a:pt x="43" y="74"/>
                  </a:lnTo>
                  <a:lnTo>
                    <a:pt x="14" y="82"/>
                  </a:lnTo>
                  <a:lnTo>
                    <a:pt x="11" y="97"/>
                  </a:lnTo>
                  <a:lnTo>
                    <a:pt x="14" y="111"/>
                  </a:lnTo>
                  <a:lnTo>
                    <a:pt x="21" y="126"/>
                  </a:lnTo>
                  <a:lnTo>
                    <a:pt x="50" y="120"/>
                  </a:lnTo>
                  <a:lnTo>
                    <a:pt x="19" y="130"/>
                  </a:lnTo>
                  <a:lnTo>
                    <a:pt x="19" y="142"/>
                  </a:lnTo>
                  <a:lnTo>
                    <a:pt x="23" y="160"/>
                  </a:lnTo>
                  <a:lnTo>
                    <a:pt x="34" y="168"/>
                  </a:lnTo>
                  <a:lnTo>
                    <a:pt x="50" y="166"/>
                  </a:lnTo>
                  <a:lnTo>
                    <a:pt x="32" y="173"/>
                  </a:lnTo>
                  <a:lnTo>
                    <a:pt x="29" y="184"/>
                  </a:lnTo>
                  <a:lnTo>
                    <a:pt x="31" y="198"/>
                  </a:lnTo>
                  <a:lnTo>
                    <a:pt x="51" y="210"/>
                  </a:lnTo>
                  <a:lnTo>
                    <a:pt x="79" y="205"/>
                  </a:lnTo>
                  <a:lnTo>
                    <a:pt x="107" y="196"/>
                  </a:lnTo>
                  <a:lnTo>
                    <a:pt x="126" y="184"/>
                  </a:lnTo>
                  <a:lnTo>
                    <a:pt x="143" y="163"/>
                  </a:lnTo>
                  <a:lnTo>
                    <a:pt x="141" y="134"/>
                  </a:lnTo>
                  <a:lnTo>
                    <a:pt x="149" y="107"/>
                  </a:lnTo>
                  <a:lnTo>
                    <a:pt x="132" y="84"/>
                  </a:lnTo>
                  <a:lnTo>
                    <a:pt x="134" y="57"/>
                  </a:lnTo>
                  <a:lnTo>
                    <a:pt x="122" y="41"/>
                  </a:lnTo>
                  <a:lnTo>
                    <a:pt x="125" y="15"/>
                  </a:lnTo>
                  <a:lnTo>
                    <a:pt x="106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484440" y="1057320"/>
              <a:ext cx="2909880" cy="5877000"/>
              <a:chOff x="3484440" y="1057320"/>
              <a:chExt cx="2909880" cy="587700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989680" y="1303200"/>
                <a:ext cx="258840" cy="439560"/>
                <a:chOff x="5989680" y="1303200"/>
                <a:chExt cx="258840" cy="4395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989680" y="1303200"/>
                  <a:ext cx="217440" cy="434880"/>
                </a:xfrm>
                <a:custGeom>
                  <a:avLst/>
                  <a:gdLst/>
                  <a:ahLst/>
                  <a:rect l="l" t="t" r="r" b="b"/>
                  <a:pathLst>
                    <a:path w="137" h="274">
                      <a:moveTo>
                        <a:pt x="62" y="274"/>
                      </a:moveTo>
                      <a:lnTo>
                        <a:pt x="53" y="219"/>
                      </a:lnTo>
                      <a:lnTo>
                        <a:pt x="31" y="184"/>
                      </a:lnTo>
                      <a:lnTo>
                        <a:pt x="19" y="142"/>
                      </a:lnTo>
                      <a:lnTo>
                        <a:pt x="25" y="106"/>
                      </a:lnTo>
                      <a:lnTo>
                        <a:pt x="29" y="84"/>
                      </a:lnTo>
                      <a:lnTo>
                        <a:pt x="19" y="50"/>
                      </a:lnTo>
                      <a:lnTo>
                        <a:pt x="0" y="23"/>
                      </a:lnTo>
                      <a:lnTo>
                        <a:pt x="11" y="4"/>
                      </a:lnTo>
                      <a:lnTo>
                        <a:pt x="31" y="0"/>
                      </a:lnTo>
                      <a:lnTo>
                        <a:pt x="52" y="4"/>
                      </a:lnTo>
                      <a:lnTo>
                        <a:pt x="63" y="19"/>
                      </a:lnTo>
                      <a:lnTo>
                        <a:pt x="73" y="31"/>
                      </a:lnTo>
                      <a:lnTo>
                        <a:pt x="110" y="82"/>
                      </a:lnTo>
                      <a:lnTo>
                        <a:pt x="137" y="131"/>
                      </a:lnTo>
                      <a:lnTo>
                        <a:pt x="127" y="195"/>
                      </a:lnTo>
                      <a:lnTo>
                        <a:pt x="112" y="274"/>
                      </a:lnTo>
                      <a:lnTo>
                        <a:pt x="62" y="27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027840" y="1647720"/>
                  <a:ext cx="220680" cy="95040"/>
                </a:xfrm>
                <a:custGeom>
                  <a:avLst/>
                  <a:gdLst/>
                  <a:ahLst/>
                  <a:rect l="l" t="t" r="r" b="b"/>
                  <a:pathLst>
                    <a:path w="139" h="60">
                      <a:moveTo>
                        <a:pt x="0" y="0"/>
                      </a:moveTo>
                      <a:lnTo>
                        <a:pt x="7" y="60"/>
                      </a:lnTo>
                      <a:lnTo>
                        <a:pt x="139" y="60"/>
                      </a:lnTo>
                      <a:lnTo>
                        <a:pt x="132" y="0"/>
                      </a:lnTo>
                      <a:lnTo>
                        <a:pt x="8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4724280" y="1641600"/>
                <a:ext cx="1028880" cy="1361880"/>
              </a:xfrm>
              <a:custGeom>
                <a:avLst/>
                <a:gdLst/>
                <a:ahLst/>
                <a:rect l="l" t="t" r="r" b="b"/>
                <a:pathLst>
                  <a:path w="648" h="858">
                    <a:moveTo>
                      <a:pt x="38" y="148"/>
                    </a:moveTo>
                    <a:lnTo>
                      <a:pt x="89" y="103"/>
                    </a:lnTo>
                    <a:lnTo>
                      <a:pt x="292" y="40"/>
                    </a:lnTo>
                    <a:lnTo>
                      <a:pt x="418" y="7"/>
                    </a:lnTo>
                    <a:lnTo>
                      <a:pt x="463" y="0"/>
                    </a:lnTo>
                    <a:lnTo>
                      <a:pt x="526" y="97"/>
                    </a:lnTo>
                    <a:lnTo>
                      <a:pt x="559" y="206"/>
                    </a:lnTo>
                    <a:lnTo>
                      <a:pt x="577" y="309"/>
                    </a:lnTo>
                    <a:lnTo>
                      <a:pt x="577" y="495"/>
                    </a:lnTo>
                    <a:lnTo>
                      <a:pt x="648" y="678"/>
                    </a:lnTo>
                    <a:lnTo>
                      <a:pt x="640" y="763"/>
                    </a:lnTo>
                    <a:lnTo>
                      <a:pt x="545" y="813"/>
                    </a:lnTo>
                    <a:lnTo>
                      <a:pt x="299" y="858"/>
                    </a:lnTo>
                    <a:lnTo>
                      <a:pt x="210" y="807"/>
                    </a:lnTo>
                    <a:lnTo>
                      <a:pt x="153" y="660"/>
                    </a:lnTo>
                    <a:lnTo>
                      <a:pt x="108" y="499"/>
                    </a:lnTo>
                    <a:lnTo>
                      <a:pt x="25" y="416"/>
                    </a:lnTo>
                    <a:lnTo>
                      <a:pt x="6" y="328"/>
                    </a:lnTo>
                    <a:lnTo>
                      <a:pt x="0" y="219"/>
                    </a:lnTo>
                    <a:lnTo>
                      <a:pt x="38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5151600" y="1592280"/>
                <a:ext cx="1126800" cy="1492200"/>
                <a:chOff x="5151600" y="1592280"/>
                <a:chExt cx="1126800" cy="14922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151600" y="1592280"/>
                  <a:ext cx="1126800" cy="1492200"/>
                </a:xfrm>
                <a:custGeom>
                  <a:avLst/>
                  <a:gdLst/>
                  <a:ahLst/>
                  <a:rect l="l" t="t" r="r" b="b"/>
                  <a:pathLst>
                    <a:path w="710" h="940">
                      <a:moveTo>
                        <a:pt x="0" y="58"/>
                      </a:moveTo>
                      <a:lnTo>
                        <a:pt x="39" y="113"/>
                      </a:lnTo>
                      <a:lnTo>
                        <a:pt x="90" y="197"/>
                      </a:lnTo>
                      <a:lnTo>
                        <a:pt x="141" y="307"/>
                      </a:lnTo>
                      <a:lnTo>
                        <a:pt x="182" y="415"/>
                      </a:lnTo>
                      <a:lnTo>
                        <a:pt x="211" y="503"/>
                      </a:lnTo>
                      <a:lnTo>
                        <a:pt x="261" y="685"/>
                      </a:lnTo>
                      <a:lnTo>
                        <a:pt x="276" y="741"/>
                      </a:lnTo>
                      <a:lnTo>
                        <a:pt x="297" y="777"/>
                      </a:lnTo>
                      <a:lnTo>
                        <a:pt x="315" y="807"/>
                      </a:lnTo>
                      <a:lnTo>
                        <a:pt x="455" y="901"/>
                      </a:lnTo>
                      <a:lnTo>
                        <a:pt x="507" y="940"/>
                      </a:lnTo>
                      <a:lnTo>
                        <a:pt x="500" y="844"/>
                      </a:lnTo>
                      <a:lnTo>
                        <a:pt x="477" y="766"/>
                      </a:lnTo>
                      <a:lnTo>
                        <a:pt x="450" y="684"/>
                      </a:lnTo>
                      <a:lnTo>
                        <a:pt x="387" y="583"/>
                      </a:lnTo>
                      <a:lnTo>
                        <a:pt x="347" y="472"/>
                      </a:lnTo>
                      <a:lnTo>
                        <a:pt x="328" y="307"/>
                      </a:lnTo>
                      <a:lnTo>
                        <a:pt x="411" y="371"/>
                      </a:lnTo>
                      <a:lnTo>
                        <a:pt x="488" y="423"/>
                      </a:lnTo>
                      <a:lnTo>
                        <a:pt x="564" y="448"/>
                      </a:lnTo>
                      <a:lnTo>
                        <a:pt x="614" y="460"/>
                      </a:lnTo>
                      <a:lnTo>
                        <a:pt x="653" y="454"/>
                      </a:lnTo>
                      <a:lnTo>
                        <a:pt x="678" y="423"/>
                      </a:lnTo>
                      <a:lnTo>
                        <a:pt x="704" y="335"/>
                      </a:lnTo>
                      <a:lnTo>
                        <a:pt x="710" y="271"/>
                      </a:lnTo>
                      <a:lnTo>
                        <a:pt x="710" y="163"/>
                      </a:lnTo>
                      <a:lnTo>
                        <a:pt x="710" y="73"/>
                      </a:lnTo>
                      <a:lnTo>
                        <a:pt x="595" y="76"/>
                      </a:lnTo>
                      <a:lnTo>
                        <a:pt x="545" y="64"/>
                      </a:lnTo>
                      <a:lnTo>
                        <a:pt x="538" y="166"/>
                      </a:lnTo>
                      <a:lnTo>
                        <a:pt x="526" y="198"/>
                      </a:lnTo>
                      <a:lnTo>
                        <a:pt x="450" y="160"/>
                      </a:lnTo>
                      <a:lnTo>
                        <a:pt x="398" y="116"/>
                      </a:lnTo>
                      <a:lnTo>
                        <a:pt x="302" y="64"/>
                      </a:lnTo>
                      <a:lnTo>
                        <a:pt x="233" y="19"/>
                      </a:lnTo>
                      <a:lnTo>
                        <a:pt x="171" y="0"/>
                      </a:lnTo>
                      <a:lnTo>
                        <a:pt x="94" y="31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225760" y="1665360"/>
                  <a:ext cx="315720" cy="903240"/>
                </a:xfrm>
                <a:custGeom>
                  <a:avLst/>
                  <a:gdLst/>
                  <a:ahLst/>
                  <a:rect l="l" t="t" r="r" b="b"/>
                  <a:pathLst>
                    <a:path w="199" h="569">
                      <a:moveTo>
                        <a:pt x="0" y="0"/>
                      </a:moveTo>
                      <a:lnTo>
                        <a:pt x="87" y="39"/>
                      </a:lnTo>
                      <a:lnTo>
                        <a:pt x="79" y="107"/>
                      </a:lnTo>
                      <a:lnTo>
                        <a:pt x="134" y="110"/>
                      </a:lnTo>
                      <a:lnTo>
                        <a:pt x="169" y="233"/>
                      </a:lnTo>
                      <a:lnTo>
                        <a:pt x="189" y="366"/>
                      </a:lnTo>
                      <a:lnTo>
                        <a:pt x="197" y="492"/>
                      </a:lnTo>
                      <a:lnTo>
                        <a:pt x="199" y="56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>
                <a:off x="4879800" y="1665360"/>
                <a:ext cx="338400" cy="279360"/>
              </a:xfrm>
              <a:custGeom>
                <a:avLst/>
                <a:gdLst/>
                <a:ahLst/>
                <a:rect l="l" t="t" r="r" b="b"/>
                <a:pathLst>
                  <a:path w="213" h="176">
                    <a:moveTo>
                      <a:pt x="19" y="56"/>
                    </a:moveTo>
                    <a:lnTo>
                      <a:pt x="0" y="85"/>
                    </a:lnTo>
                    <a:lnTo>
                      <a:pt x="92" y="176"/>
                    </a:lnTo>
                    <a:lnTo>
                      <a:pt x="122" y="69"/>
                    </a:lnTo>
                    <a:lnTo>
                      <a:pt x="213" y="122"/>
                    </a:lnTo>
                    <a:lnTo>
                      <a:pt x="209" y="30"/>
                    </a:lnTo>
                    <a:lnTo>
                      <a:pt x="153" y="0"/>
                    </a:lnTo>
                    <a:lnTo>
                      <a:pt x="19" y="5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033880" y="2825640"/>
                <a:ext cx="1360440" cy="2508120"/>
                <a:chOff x="5033880" y="2825640"/>
                <a:chExt cx="1360440" cy="25081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5127480" y="4444920"/>
                  <a:ext cx="1190520" cy="888840"/>
                  <a:chOff x="5127480" y="4444920"/>
                  <a:chExt cx="1190520" cy="8888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5681520" y="4444920"/>
                    <a:ext cx="63648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203">
                        <a:moveTo>
                          <a:pt x="19" y="47"/>
                        </a:moveTo>
                        <a:lnTo>
                          <a:pt x="10" y="105"/>
                        </a:lnTo>
                        <a:lnTo>
                          <a:pt x="0" y="144"/>
                        </a:lnTo>
                        <a:lnTo>
                          <a:pt x="6" y="173"/>
                        </a:lnTo>
                        <a:lnTo>
                          <a:pt x="19" y="186"/>
                        </a:lnTo>
                        <a:lnTo>
                          <a:pt x="65" y="191"/>
                        </a:lnTo>
                        <a:lnTo>
                          <a:pt x="124" y="186"/>
                        </a:lnTo>
                        <a:lnTo>
                          <a:pt x="140" y="159"/>
                        </a:lnTo>
                        <a:lnTo>
                          <a:pt x="222" y="194"/>
                        </a:lnTo>
                        <a:lnTo>
                          <a:pt x="279" y="203"/>
                        </a:lnTo>
                        <a:lnTo>
                          <a:pt x="317" y="203"/>
                        </a:lnTo>
                        <a:lnTo>
                          <a:pt x="366" y="199"/>
                        </a:lnTo>
                        <a:lnTo>
                          <a:pt x="388" y="191"/>
                        </a:lnTo>
                        <a:lnTo>
                          <a:pt x="401" y="170"/>
                        </a:lnTo>
                        <a:lnTo>
                          <a:pt x="395" y="131"/>
                        </a:lnTo>
                        <a:lnTo>
                          <a:pt x="373" y="112"/>
                        </a:lnTo>
                        <a:lnTo>
                          <a:pt x="317" y="111"/>
                        </a:lnTo>
                        <a:lnTo>
                          <a:pt x="256" y="90"/>
                        </a:lnTo>
                        <a:lnTo>
                          <a:pt x="205" y="72"/>
                        </a:lnTo>
                        <a:lnTo>
                          <a:pt x="205" y="0"/>
                        </a:lnTo>
                        <a:lnTo>
                          <a:pt x="19" y="47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127480" y="5024160"/>
                    <a:ext cx="4255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95">
                        <a:moveTo>
                          <a:pt x="26" y="3"/>
                        </a:moveTo>
                        <a:lnTo>
                          <a:pt x="0" y="68"/>
                        </a:lnTo>
                        <a:lnTo>
                          <a:pt x="4" y="103"/>
                        </a:lnTo>
                        <a:lnTo>
                          <a:pt x="33" y="106"/>
                        </a:lnTo>
                        <a:lnTo>
                          <a:pt x="54" y="148"/>
                        </a:lnTo>
                        <a:lnTo>
                          <a:pt x="96" y="170"/>
                        </a:lnTo>
                        <a:lnTo>
                          <a:pt x="159" y="188"/>
                        </a:lnTo>
                        <a:lnTo>
                          <a:pt x="188" y="195"/>
                        </a:lnTo>
                        <a:lnTo>
                          <a:pt x="223" y="193"/>
                        </a:lnTo>
                        <a:lnTo>
                          <a:pt x="257" y="177"/>
                        </a:lnTo>
                        <a:lnTo>
                          <a:pt x="268" y="141"/>
                        </a:lnTo>
                        <a:lnTo>
                          <a:pt x="259" y="103"/>
                        </a:lnTo>
                        <a:lnTo>
                          <a:pt x="233" y="79"/>
                        </a:lnTo>
                        <a:lnTo>
                          <a:pt x="193" y="64"/>
                        </a:lnTo>
                        <a:lnTo>
                          <a:pt x="186" y="29"/>
                        </a:lnTo>
                        <a:lnTo>
                          <a:pt x="178" y="0"/>
                        </a:lnTo>
                        <a:lnTo>
                          <a:pt x="26" y="3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033880" y="2825640"/>
                  <a:ext cx="1360440" cy="2241360"/>
                </a:xfrm>
                <a:custGeom>
                  <a:avLst/>
                  <a:gdLst/>
                  <a:ahLst/>
                  <a:rect l="l" t="t" r="r" b="b"/>
                  <a:pathLst>
                    <a:path w="857" h="1412">
                      <a:moveTo>
                        <a:pt x="8" y="120"/>
                      </a:moveTo>
                      <a:lnTo>
                        <a:pt x="136" y="114"/>
                      </a:lnTo>
                      <a:lnTo>
                        <a:pt x="194" y="101"/>
                      </a:lnTo>
                      <a:lnTo>
                        <a:pt x="313" y="60"/>
                      </a:lnTo>
                      <a:lnTo>
                        <a:pt x="383" y="0"/>
                      </a:lnTo>
                      <a:lnTo>
                        <a:pt x="530" y="127"/>
                      </a:lnTo>
                      <a:lnTo>
                        <a:pt x="659" y="226"/>
                      </a:lnTo>
                      <a:lnTo>
                        <a:pt x="729" y="290"/>
                      </a:lnTo>
                      <a:lnTo>
                        <a:pt x="786" y="361"/>
                      </a:lnTo>
                      <a:lnTo>
                        <a:pt x="829" y="411"/>
                      </a:lnTo>
                      <a:lnTo>
                        <a:pt x="843" y="439"/>
                      </a:lnTo>
                      <a:lnTo>
                        <a:pt x="857" y="482"/>
                      </a:lnTo>
                      <a:lnTo>
                        <a:pt x="857" y="546"/>
                      </a:lnTo>
                      <a:lnTo>
                        <a:pt x="804" y="630"/>
                      </a:lnTo>
                      <a:lnTo>
                        <a:pt x="743" y="790"/>
                      </a:lnTo>
                      <a:lnTo>
                        <a:pt x="696" y="923"/>
                      </a:lnTo>
                      <a:lnTo>
                        <a:pt x="677" y="990"/>
                      </a:lnTo>
                      <a:lnTo>
                        <a:pt x="652" y="1100"/>
                      </a:lnTo>
                      <a:lnTo>
                        <a:pt x="588" y="1093"/>
                      </a:lnTo>
                      <a:lnTo>
                        <a:pt x="510" y="1100"/>
                      </a:lnTo>
                      <a:lnTo>
                        <a:pt x="432" y="1100"/>
                      </a:lnTo>
                      <a:lnTo>
                        <a:pt x="453" y="993"/>
                      </a:lnTo>
                      <a:lnTo>
                        <a:pt x="511" y="821"/>
                      </a:lnTo>
                      <a:lnTo>
                        <a:pt x="574" y="642"/>
                      </a:lnTo>
                      <a:lnTo>
                        <a:pt x="602" y="564"/>
                      </a:lnTo>
                      <a:lnTo>
                        <a:pt x="546" y="516"/>
                      </a:lnTo>
                      <a:lnTo>
                        <a:pt x="482" y="482"/>
                      </a:lnTo>
                      <a:lnTo>
                        <a:pt x="418" y="425"/>
                      </a:lnTo>
                      <a:lnTo>
                        <a:pt x="368" y="375"/>
                      </a:lnTo>
                      <a:lnTo>
                        <a:pt x="355" y="461"/>
                      </a:lnTo>
                      <a:lnTo>
                        <a:pt x="312" y="646"/>
                      </a:lnTo>
                      <a:lnTo>
                        <a:pt x="305" y="723"/>
                      </a:lnTo>
                      <a:lnTo>
                        <a:pt x="305" y="794"/>
                      </a:lnTo>
                      <a:lnTo>
                        <a:pt x="275" y="914"/>
                      </a:lnTo>
                      <a:lnTo>
                        <a:pt x="256" y="1183"/>
                      </a:lnTo>
                      <a:lnTo>
                        <a:pt x="255" y="1398"/>
                      </a:lnTo>
                      <a:lnTo>
                        <a:pt x="142" y="1398"/>
                      </a:lnTo>
                      <a:lnTo>
                        <a:pt x="99" y="1412"/>
                      </a:lnTo>
                      <a:lnTo>
                        <a:pt x="56" y="1390"/>
                      </a:lnTo>
                      <a:lnTo>
                        <a:pt x="59" y="1264"/>
                      </a:lnTo>
                      <a:lnTo>
                        <a:pt x="48" y="1129"/>
                      </a:lnTo>
                      <a:lnTo>
                        <a:pt x="66" y="928"/>
                      </a:lnTo>
                      <a:lnTo>
                        <a:pt x="78" y="786"/>
                      </a:lnTo>
                      <a:lnTo>
                        <a:pt x="66" y="578"/>
                      </a:lnTo>
                      <a:lnTo>
                        <a:pt x="29" y="354"/>
                      </a:lnTo>
                      <a:lnTo>
                        <a:pt x="0" y="219"/>
                      </a:lnTo>
                      <a:lnTo>
                        <a:pt x="8" y="1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343400" y="1785960"/>
                <a:ext cx="1000080" cy="1747800"/>
                <a:chOff x="4343400" y="1785960"/>
                <a:chExt cx="1000080" cy="17478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4611600" y="1785960"/>
                  <a:ext cx="731880" cy="1747800"/>
                  <a:chOff x="4611600" y="1785960"/>
                  <a:chExt cx="731880" cy="17478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4611600" y="1785960"/>
                    <a:ext cx="731880" cy="174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101">
                        <a:moveTo>
                          <a:pt x="322" y="1065"/>
                        </a:moveTo>
                        <a:lnTo>
                          <a:pt x="398" y="1019"/>
                        </a:lnTo>
                        <a:lnTo>
                          <a:pt x="430" y="916"/>
                        </a:lnTo>
                        <a:lnTo>
                          <a:pt x="454" y="823"/>
                        </a:lnTo>
                        <a:lnTo>
                          <a:pt x="461" y="720"/>
                        </a:lnTo>
                        <a:lnTo>
                          <a:pt x="434" y="608"/>
                        </a:lnTo>
                        <a:lnTo>
                          <a:pt x="416" y="516"/>
                        </a:lnTo>
                        <a:lnTo>
                          <a:pt x="392" y="410"/>
                        </a:lnTo>
                        <a:lnTo>
                          <a:pt x="363" y="331"/>
                        </a:lnTo>
                        <a:lnTo>
                          <a:pt x="315" y="236"/>
                        </a:lnTo>
                        <a:lnTo>
                          <a:pt x="276" y="149"/>
                        </a:lnTo>
                        <a:lnTo>
                          <a:pt x="207" y="45"/>
                        </a:lnTo>
                        <a:lnTo>
                          <a:pt x="169" y="0"/>
                        </a:lnTo>
                        <a:lnTo>
                          <a:pt x="124" y="33"/>
                        </a:lnTo>
                        <a:lnTo>
                          <a:pt x="77" y="76"/>
                        </a:lnTo>
                        <a:lnTo>
                          <a:pt x="13" y="134"/>
                        </a:lnTo>
                        <a:lnTo>
                          <a:pt x="7" y="153"/>
                        </a:lnTo>
                        <a:lnTo>
                          <a:pt x="0" y="187"/>
                        </a:lnTo>
                        <a:lnTo>
                          <a:pt x="19" y="247"/>
                        </a:lnTo>
                        <a:lnTo>
                          <a:pt x="45" y="321"/>
                        </a:lnTo>
                        <a:lnTo>
                          <a:pt x="115" y="457"/>
                        </a:lnTo>
                        <a:lnTo>
                          <a:pt x="141" y="573"/>
                        </a:lnTo>
                        <a:lnTo>
                          <a:pt x="150" y="661"/>
                        </a:lnTo>
                        <a:lnTo>
                          <a:pt x="153" y="728"/>
                        </a:lnTo>
                        <a:lnTo>
                          <a:pt x="153" y="843"/>
                        </a:lnTo>
                        <a:lnTo>
                          <a:pt x="141" y="1024"/>
                        </a:lnTo>
                        <a:lnTo>
                          <a:pt x="141" y="1086"/>
                        </a:lnTo>
                        <a:lnTo>
                          <a:pt x="162" y="1095"/>
                        </a:lnTo>
                        <a:lnTo>
                          <a:pt x="224" y="1101"/>
                        </a:lnTo>
                        <a:lnTo>
                          <a:pt x="269" y="1088"/>
                        </a:lnTo>
                        <a:lnTo>
                          <a:pt x="322" y="106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797360" y="1854360"/>
                    <a:ext cx="516240" cy="9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620">
                        <a:moveTo>
                          <a:pt x="0" y="0"/>
                        </a:moveTo>
                        <a:lnTo>
                          <a:pt x="44" y="144"/>
                        </a:lnTo>
                        <a:lnTo>
                          <a:pt x="119" y="125"/>
                        </a:lnTo>
                        <a:lnTo>
                          <a:pt x="71" y="200"/>
                        </a:lnTo>
                        <a:lnTo>
                          <a:pt x="119" y="255"/>
                        </a:lnTo>
                        <a:lnTo>
                          <a:pt x="172" y="341"/>
                        </a:lnTo>
                        <a:lnTo>
                          <a:pt x="235" y="440"/>
                        </a:lnTo>
                        <a:lnTo>
                          <a:pt x="289" y="535"/>
                        </a:lnTo>
                        <a:lnTo>
                          <a:pt x="325" y="62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4343400" y="1970280"/>
                  <a:ext cx="871560" cy="1463760"/>
                  <a:chOff x="4343400" y="1970280"/>
                  <a:chExt cx="871560" cy="14637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891320" y="3094200"/>
                    <a:ext cx="32364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14">
                        <a:moveTo>
                          <a:pt x="63" y="0"/>
                        </a:moveTo>
                        <a:lnTo>
                          <a:pt x="102" y="28"/>
                        </a:lnTo>
                        <a:lnTo>
                          <a:pt x="142" y="29"/>
                        </a:lnTo>
                        <a:lnTo>
                          <a:pt x="176" y="37"/>
                        </a:lnTo>
                        <a:lnTo>
                          <a:pt x="192" y="50"/>
                        </a:lnTo>
                        <a:lnTo>
                          <a:pt x="196" y="66"/>
                        </a:lnTo>
                        <a:lnTo>
                          <a:pt x="189" y="95"/>
                        </a:lnTo>
                        <a:lnTo>
                          <a:pt x="204" y="115"/>
                        </a:lnTo>
                        <a:lnTo>
                          <a:pt x="203" y="143"/>
                        </a:lnTo>
                        <a:lnTo>
                          <a:pt x="187" y="160"/>
                        </a:lnTo>
                        <a:lnTo>
                          <a:pt x="175" y="181"/>
                        </a:lnTo>
                        <a:lnTo>
                          <a:pt x="147" y="191"/>
                        </a:lnTo>
                        <a:lnTo>
                          <a:pt x="129" y="214"/>
                        </a:lnTo>
                        <a:lnTo>
                          <a:pt x="95" y="210"/>
                        </a:lnTo>
                        <a:lnTo>
                          <a:pt x="75" y="197"/>
                        </a:lnTo>
                        <a:lnTo>
                          <a:pt x="56" y="176"/>
                        </a:lnTo>
                        <a:lnTo>
                          <a:pt x="44" y="127"/>
                        </a:lnTo>
                        <a:lnTo>
                          <a:pt x="0" y="83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846680" y="3078360"/>
                    <a:ext cx="192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7">
                        <a:moveTo>
                          <a:pt x="91" y="0"/>
                        </a:moveTo>
                        <a:lnTo>
                          <a:pt x="121" y="20"/>
                        </a:lnTo>
                        <a:lnTo>
                          <a:pt x="105" y="52"/>
                        </a:lnTo>
                        <a:lnTo>
                          <a:pt x="75" y="92"/>
                        </a:lnTo>
                        <a:lnTo>
                          <a:pt x="33" y="137"/>
                        </a:lnTo>
                        <a:lnTo>
                          <a:pt x="0" y="97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343400" y="1970280"/>
                    <a:ext cx="704880" cy="133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840">
                        <a:moveTo>
                          <a:pt x="133" y="64"/>
                        </a:moveTo>
                        <a:lnTo>
                          <a:pt x="107" y="118"/>
                        </a:lnTo>
                        <a:lnTo>
                          <a:pt x="61" y="196"/>
                        </a:lnTo>
                        <a:lnTo>
                          <a:pt x="46" y="258"/>
                        </a:lnTo>
                        <a:lnTo>
                          <a:pt x="22" y="329"/>
                        </a:lnTo>
                        <a:lnTo>
                          <a:pt x="5" y="447"/>
                        </a:lnTo>
                        <a:lnTo>
                          <a:pt x="0" y="510"/>
                        </a:lnTo>
                        <a:lnTo>
                          <a:pt x="14" y="526"/>
                        </a:lnTo>
                        <a:lnTo>
                          <a:pt x="56" y="583"/>
                        </a:lnTo>
                        <a:lnTo>
                          <a:pt x="106" y="644"/>
                        </a:lnTo>
                        <a:lnTo>
                          <a:pt x="163" y="698"/>
                        </a:lnTo>
                        <a:lnTo>
                          <a:pt x="318" y="840"/>
                        </a:lnTo>
                        <a:lnTo>
                          <a:pt x="389" y="753"/>
                        </a:lnTo>
                        <a:lnTo>
                          <a:pt x="444" y="683"/>
                        </a:lnTo>
                        <a:lnTo>
                          <a:pt x="297" y="556"/>
                        </a:lnTo>
                        <a:lnTo>
                          <a:pt x="248" y="519"/>
                        </a:lnTo>
                        <a:lnTo>
                          <a:pt x="218" y="486"/>
                        </a:lnTo>
                        <a:lnTo>
                          <a:pt x="193" y="471"/>
                        </a:lnTo>
                        <a:lnTo>
                          <a:pt x="232" y="368"/>
                        </a:lnTo>
                        <a:lnTo>
                          <a:pt x="255" y="288"/>
                        </a:lnTo>
                        <a:lnTo>
                          <a:pt x="267" y="252"/>
                        </a:lnTo>
                        <a:lnTo>
                          <a:pt x="280" y="213"/>
                        </a:lnTo>
                        <a:lnTo>
                          <a:pt x="286" y="167"/>
                        </a:lnTo>
                        <a:lnTo>
                          <a:pt x="286" y="123"/>
                        </a:lnTo>
                        <a:lnTo>
                          <a:pt x="286" y="88"/>
                        </a:lnTo>
                        <a:lnTo>
                          <a:pt x="280" y="52"/>
                        </a:lnTo>
                        <a:lnTo>
                          <a:pt x="258" y="24"/>
                        </a:lnTo>
                        <a:lnTo>
                          <a:pt x="229" y="5"/>
                        </a:lnTo>
                        <a:lnTo>
                          <a:pt x="208" y="0"/>
                        </a:lnTo>
                        <a:lnTo>
                          <a:pt x="169" y="25"/>
                        </a:lnTo>
                        <a:lnTo>
                          <a:pt x="133" y="6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4578480" y="1057320"/>
                <a:ext cx="563400" cy="735120"/>
                <a:chOff x="4578480" y="1057320"/>
                <a:chExt cx="563400" cy="73512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4633920" y="1273320"/>
                  <a:ext cx="484200" cy="349200"/>
                  <a:chOff x="4633920" y="1273320"/>
                  <a:chExt cx="484200" cy="3492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050080" y="1273320"/>
                    <a:ext cx="68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0">
                        <a:moveTo>
                          <a:pt x="0" y="11"/>
                        </a:move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7" y="7"/>
                        </a:lnTo>
                        <a:lnTo>
                          <a:pt x="33" y="19"/>
                        </a:lnTo>
                        <a:lnTo>
                          <a:pt x="38" y="44"/>
                        </a:lnTo>
                        <a:lnTo>
                          <a:pt x="43" y="76"/>
                        </a:lnTo>
                        <a:lnTo>
                          <a:pt x="43" y="100"/>
                        </a:lnTo>
                        <a:lnTo>
                          <a:pt x="32" y="10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633920" y="1492200"/>
                    <a:ext cx="1159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82">
                        <a:moveTo>
                          <a:pt x="17" y="0"/>
                        </a:moveTo>
                        <a:lnTo>
                          <a:pt x="4" y="7"/>
                        </a:lnTo>
                        <a:lnTo>
                          <a:pt x="0" y="16"/>
                        </a:lnTo>
                        <a:lnTo>
                          <a:pt x="4" y="29"/>
                        </a:lnTo>
                        <a:lnTo>
                          <a:pt x="14" y="43"/>
                        </a:lnTo>
                        <a:lnTo>
                          <a:pt x="25" y="56"/>
                        </a:lnTo>
                        <a:lnTo>
                          <a:pt x="46" y="77"/>
                        </a:lnTo>
                        <a:lnTo>
                          <a:pt x="60" y="82"/>
                        </a:lnTo>
                        <a:lnTo>
                          <a:pt x="73" y="7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4602240" y="1136880"/>
                  <a:ext cx="539640" cy="655560"/>
                </a:xfrm>
                <a:custGeom>
                  <a:avLst/>
                  <a:gdLst/>
                  <a:ahLst/>
                  <a:rect l="l" t="t" r="r" b="b"/>
                  <a:pathLst>
                    <a:path w="340" h="413">
                      <a:moveTo>
                        <a:pt x="30" y="59"/>
                      </a:moveTo>
                      <a:lnTo>
                        <a:pt x="13" y="82"/>
                      </a:lnTo>
                      <a:lnTo>
                        <a:pt x="4" y="111"/>
                      </a:lnTo>
                      <a:lnTo>
                        <a:pt x="0" y="145"/>
                      </a:lnTo>
                      <a:lnTo>
                        <a:pt x="5" y="173"/>
                      </a:lnTo>
                      <a:lnTo>
                        <a:pt x="17" y="199"/>
                      </a:lnTo>
                      <a:lnTo>
                        <a:pt x="37" y="222"/>
                      </a:lnTo>
                      <a:lnTo>
                        <a:pt x="54" y="247"/>
                      </a:lnTo>
                      <a:lnTo>
                        <a:pt x="71" y="282"/>
                      </a:lnTo>
                      <a:lnTo>
                        <a:pt x="90" y="323"/>
                      </a:lnTo>
                      <a:lnTo>
                        <a:pt x="109" y="356"/>
                      </a:lnTo>
                      <a:lnTo>
                        <a:pt x="128" y="375"/>
                      </a:lnTo>
                      <a:lnTo>
                        <a:pt x="149" y="387"/>
                      </a:lnTo>
                      <a:lnTo>
                        <a:pt x="185" y="403"/>
                      </a:lnTo>
                      <a:lnTo>
                        <a:pt x="222" y="413"/>
                      </a:lnTo>
                      <a:lnTo>
                        <a:pt x="247" y="410"/>
                      </a:lnTo>
                      <a:lnTo>
                        <a:pt x="268" y="406"/>
                      </a:lnTo>
                      <a:lnTo>
                        <a:pt x="304" y="393"/>
                      </a:lnTo>
                      <a:lnTo>
                        <a:pt x="319" y="379"/>
                      </a:lnTo>
                      <a:lnTo>
                        <a:pt x="326" y="360"/>
                      </a:lnTo>
                      <a:lnTo>
                        <a:pt x="337" y="319"/>
                      </a:lnTo>
                      <a:lnTo>
                        <a:pt x="340" y="288"/>
                      </a:lnTo>
                      <a:lnTo>
                        <a:pt x="340" y="251"/>
                      </a:lnTo>
                      <a:lnTo>
                        <a:pt x="335" y="224"/>
                      </a:lnTo>
                      <a:lnTo>
                        <a:pt x="326" y="194"/>
                      </a:lnTo>
                      <a:lnTo>
                        <a:pt x="310" y="152"/>
                      </a:lnTo>
                      <a:lnTo>
                        <a:pt x="291" y="121"/>
                      </a:lnTo>
                      <a:lnTo>
                        <a:pt x="282" y="86"/>
                      </a:lnTo>
                      <a:lnTo>
                        <a:pt x="264" y="46"/>
                      </a:lnTo>
                      <a:lnTo>
                        <a:pt x="244" y="25"/>
                      </a:lnTo>
                      <a:lnTo>
                        <a:pt x="224" y="13"/>
                      </a:lnTo>
                      <a:lnTo>
                        <a:pt x="186" y="1"/>
                      </a:lnTo>
                      <a:lnTo>
                        <a:pt x="160" y="0"/>
                      </a:lnTo>
                      <a:lnTo>
                        <a:pt x="122" y="7"/>
                      </a:lnTo>
                      <a:lnTo>
                        <a:pt x="87" y="19"/>
                      </a:lnTo>
                      <a:lnTo>
                        <a:pt x="52" y="41"/>
                      </a:lnTo>
                      <a:lnTo>
                        <a:pt x="30" y="59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4657680" y="1279800"/>
                  <a:ext cx="408240" cy="226800"/>
                  <a:chOff x="4657680" y="1279800"/>
                  <a:chExt cx="408240" cy="2268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856400" y="138276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0" y="12"/>
                        </a:moveTo>
                        <a:lnTo>
                          <a:pt x="6" y="4"/>
                        </a:lnTo>
                        <a:lnTo>
                          <a:pt x="17" y="0"/>
                        </a:lnTo>
                        <a:lnTo>
                          <a:pt x="19" y="11"/>
                        </a:lnTo>
                        <a:lnTo>
                          <a:pt x="10" y="11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657680" y="1468440"/>
                    <a:ext cx="58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4">
                        <a:moveTo>
                          <a:pt x="31" y="0"/>
                        </a:moveTo>
                        <a:lnTo>
                          <a:pt x="37" y="13"/>
                        </a:lnTo>
                        <a:lnTo>
                          <a:pt x="6" y="24"/>
                        </a:lnTo>
                        <a:lnTo>
                          <a:pt x="0" y="1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013360" y="127980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0" y="13"/>
                        </a:moveTo>
                        <a:lnTo>
                          <a:pt x="7" y="24"/>
                        </a:lnTo>
                        <a:lnTo>
                          <a:pt x="33" y="6"/>
                        </a:lnTo>
                        <a:lnTo>
                          <a:pt x="30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705560" y="1295640"/>
                  <a:ext cx="345960" cy="250560"/>
                  <a:chOff x="4705560" y="1295640"/>
                  <a:chExt cx="345960" cy="2505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705560" y="1387440"/>
                    <a:ext cx="1746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0">
                        <a:moveTo>
                          <a:pt x="0" y="51"/>
                        </a:moveTo>
                        <a:lnTo>
                          <a:pt x="90" y="0"/>
                        </a:lnTo>
                        <a:lnTo>
                          <a:pt x="105" y="26"/>
                        </a:lnTo>
                        <a:lnTo>
                          <a:pt x="110" y="44"/>
                        </a:lnTo>
                        <a:lnTo>
                          <a:pt x="109" y="63"/>
                        </a:lnTo>
                        <a:lnTo>
                          <a:pt x="101" y="75"/>
                        </a:lnTo>
                        <a:lnTo>
                          <a:pt x="89" y="85"/>
                        </a:lnTo>
                        <a:lnTo>
                          <a:pt x="71" y="92"/>
                        </a:lnTo>
                        <a:lnTo>
                          <a:pt x="60" y="99"/>
                        </a:lnTo>
                        <a:lnTo>
                          <a:pt x="49" y="100"/>
                        </a:lnTo>
                        <a:lnTo>
                          <a:pt x="35" y="98"/>
                        </a:lnTo>
                        <a:lnTo>
                          <a:pt x="25" y="91"/>
                        </a:lnTo>
                        <a:lnTo>
                          <a:pt x="18" y="83"/>
                        </a:lnTo>
                        <a:lnTo>
                          <a:pt x="14" y="75"/>
                        </a:lnTo>
                        <a:lnTo>
                          <a:pt x="6" y="6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784760" y="1459080"/>
                    <a:ext cx="30240" cy="28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875120" y="1295640"/>
                    <a:ext cx="1764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9">
                        <a:moveTo>
                          <a:pt x="0" y="50"/>
                        </a:moveTo>
                        <a:lnTo>
                          <a:pt x="92" y="0"/>
                        </a:lnTo>
                        <a:lnTo>
                          <a:pt x="105" y="28"/>
                        </a:lnTo>
                        <a:lnTo>
                          <a:pt x="111" y="45"/>
                        </a:lnTo>
                        <a:lnTo>
                          <a:pt x="108" y="62"/>
                        </a:lnTo>
                        <a:lnTo>
                          <a:pt x="101" y="73"/>
                        </a:lnTo>
                        <a:lnTo>
                          <a:pt x="88" y="84"/>
                        </a:lnTo>
                        <a:lnTo>
                          <a:pt x="73" y="92"/>
                        </a:lnTo>
                        <a:lnTo>
                          <a:pt x="61" y="97"/>
                        </a:lnTo>
                        <a:lnTo>
                          <a:pt x="48" y="99"/>
                        </a:lnTo>
                        <a:lnTo>
                          <a:pt x="36" y="97"/>
                        </a:lnTo>
                        <a:lnTo>
                          <a:pt x="25" y="90"/>
                        </a:lnTo>
                        <a:lnTo>
                          <a:pt x="19" y="84"/>
                        </a:lnTo>
                        <a:lnTo>
                          <a:pt x="14" y="74"/>
                        </a:lnTo>
                        <a:lnTo>
                          <a:pt x="6" y="6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4954680" y="1366920"/>
                    <a:ext cx="30240" cy="2880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4886280" y="1554120"/>
                  <a:ext cx="17460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89">
                      <a:moveTo>
                        <a:pt x="0" y="46"/>
                      </a:moveTo>
                      <a:lnTo>
                        <a:pt x="17" y="46"/>
                      </a:lnTo>
                      <a:lnTo>
                        <a:pt x="32" y="43"/>
                      </a:lnTo>
                      <a:lnTo>
                        <a:pt x="50" y="38"/>
                      </a:lnTo>
                      <a:lnTo>
                        <a:pt x="66" y="33"/>
                      </a:lnTo>
                      <a:lnTo>
                        <a:pt x="83" y="21"/>
                      </a:lnTo>
                      <a:lnTo>
                        <a:pt x="93" y="12"/>
                      </a:lnTo>
                      <a:lnTo>
                        <a:pt x="103" y="0"/>
                      </a:lnTo>
                      <a:lnTo>
                        <a:pt x="109" y="24"/>
                      </a:lnTo>
                      <a:lnTo>
                        <a:pt x="110" y="33"/>
                      </a:lnTo>
                      <a:lnTo>
                        <a:pt x="110" y="51"/>
                      </a:lnTo>
                      <a:lnTo>
                        <a:pt x="106" y="63"/>
                      </a:lnTo>
                      <a:lnTo>
                        <a:pt x="98" y="76"/>
                      </a:lnTo>
                      <a:lnTo>
                        <a:pt x="88" y="84"/>
                      </a:lnTo>
                      <a:lnTo>
                        <a:pt x="76" y="88"/>
                      </a:lnTo>
                      <a:lnTo>
                        <a:pt x="62" y="89"/>
                      </a:lnTo>
                      <a:lnTo>
                        <a:pt x="49" y="88"/>
                      </a:lnTo>
                      <a:lnTo>
                        <a:pt x="37" y="82"/>
                      </a:lnTo>
                      <a:lnTo>
                        <a:pt x="31" y="80"/>
                      </a:lnTo>
                      <a:lnTo>
                        <a:pt x="19" y="72"/>
                      </a:lnTo>
                      <a:lnTo>
                        <a:pt x="11" y="57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99240" y="1506600"/>
                  <a:ext cx="90360" cy="50760"/>
                </a:xfrm>
                <a:custGeom>
                  <a:avLst/>
                  <a:gdLst/>
                  <a:ahLst/>
                  <a:rect l="l" t="t" r="r" b="b"/>
                  <a:pathLst>
                    <a:path w="57" h="32">
                      <a:moveTo>
                        <a:pt x="0" y="32"/>
                      </a:moveTo>
                      <a:lnTo>
                        <a:pt x="17" y="31"/>
                      </a:lnTo>
                      <a:lnTo>
                        <a:pt x="24" y="28"/>
                      </a:lnTo>
                      <a:lnTo>
                        <a:pt x="33" y="25"/>
                      </a:lnTo>
                      <a:lnTo>
                        <a:pt x="43" y="19"/>
                      </a:lnTo>
                      <a:lnTo>
                        <a:pt x="49" y="10"/>
                      </a:lnTo>
                      <a:lnTo>
                        <a:pt x="5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578480" y="1057320"/>
                  <a:ext cx="487440" cy="447840"/>
                </a:xfrm>
                <a:custGeom>
                  <a:avLst/>
                  <a:gdLst/>
                  <a:ahLst/>
                  <a:rect l="l" t="t" r="r" b="b"/>
                  <a:pathLst>
                    <a:path w="307" h="282">
                      <a:moveTo>
                        <a:pt x="52" y="282"/>
                      </a:moveTo>
                      <a:lnTo>
                        <a:pt x="65" y="276"/>
                      </a:lnTo>
                      <a:lnTo>
                        <a:pt x="68" y="258"/>
                      </a:lnTo>
                      <a:lnTo>
                        <a:pt x="70" y="233"/>
                      </a:lnTo>
                      <a:lnTo>
                        <a:pt x="58" y="183"/>
                      </a:lnTo>
                      <a:lnTo>
                        <a:pt x="51" y="154"/>
                      </a:lnTo>
                      <a:lnTo>
                        <a:pt x="89" y="155"/>
                      </a:lnTo>
                      <a:lnTo>
                        <a:pt x="139" y="153"/>
                      </a:lnTo>
                      <a:lnTo>
                        <a:pt x="155" y="137"/>
                      </a:lnTo>
                      <a:lnTo>
                        <a:pt x="181" y="118"/>
                      </a:lnTo>
                      <a:lnTo>
                        <a:pt x="221" y="122"/>
                      </a:lnTo>
                      <a:lnTo>
                        <a:pt x="260" y="101"/>
                      </a:lnTo>
                      <a:lnTo>
                        <a:pt x="265" y="123"/>
                      </a:lnTo>
                      <a:lnTo>
                        <a:pt x="281" y="132"/>
                      </a:lnTo>
                      <a:lnTo>
                        <a:pt x="298" y="160"/>
                      </a:lnTo>
                      <a:lnTo>
                        <a:pt x="307" y="154"/>
                      </a:lnTo>
                      <a:lnTo>
                        <a:pt x="307" y="135"/>
                      </a:lnTo>
                      <a:lnTo>
                        <a:pt x="303" y="106"/>
                      </a:lnTo>
                      <a:lnTo>
                        <a:pt x="295" y="82"/>
                      </a:lnTo>
                      <a:lnTo>
                        <a:pt x="280" y="64"/>
                      </a:lnTo>
                      <a:lnTo>
                        <a:pt x="282" y="33"/>
                      </a:lnTo>
                      <a:lnTo>
                        <a:pt x="282" y="16"/>
                      </a:lnTo>
                      <a:lnTo>
                        <a:pt x="261" y="19"/>
                      </a:lnTo>
                      <a:lnTo>
                        <a:pt x="238" y="19"/>
                      </a:lnTo>
                      <a:lnTo>
                        <a:pt x="225" y="14"/>
                      </a:lnTo>
                      <a:lnTo>
                        <a:pt x="209" y="0"/>
                      </a:lnTo>
                      <a:lnTo>
                        <a:pt x="195" y="13"/>
                      </a:lnTo>
                      <a:lnTo>
                        <a:pt x="182" y="19"/>
                      </a:lnTo>
                      <a:lnTo>
                        <a:pt x="156" y="21"/>
                      </a:lnTo>
                      <a:lnTo>
                        <a:pt x="132" y="26"/>
                      </a:lnTo>
                      <a:lnTo>
                        <a:pt x="106" y="35"/>
                      </a:lnTo>
                      <a:lnTo>
                        <a:pt x="84" y="49"/>
                      </a:lnTo>
                      <a:lnTo>
                        <a:pt x="58" y="73"/>
                      </a:lnTo>
                      <a:lnTo>
                        <a:pt x="42" y="78"/>
                      </a:lnTo>
                      <a:lnTo>
                        <a:pt x="28" y="91"/>
                      </a:lnTo>
                      <a:lnTo>
                        <a:pt x="16" y="103"/>
                      </a:lnTo>
                      <a:lnTo>
                        <a:pt x="10" y="122"/>
                      </a:lnTo>
                      <a:lnTo>
                        <a:pt x="2" y="143"/>
                      </a:lnTo>
                      <a:lnTo>
                        <a:pt x="0" y="161"/>
                      </a:lnTo>
                      <a:lnTo>
                        <a:pt x="0" y="200"/>
                      </a:lnTo>
                      <a:lnTo>
                        <a:pt x="10" y="241"/>
                      </a:lnTo>
                      <a:lnTo>
                        <a:pt x="52" y="28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038560" y="1784520"/>
                <a:ext cx="482760" cy="1212840"/>
              </a:xfrm>
              <a:custGeom>
                <a:avLst/>
                <a:gdLst/>
                <a:ahLst/>
                <a:rect l="l" t="t" r="r" b="b"/>
                <a:pathLst>
                  <a:path w="304" h="764">
                    <a:moveTo>
                      <a:pt x="15" y="6"/>
                    </a:moveTo>
                    <a:lnTo>
                      <a:pt x="34" y="0"/>
                    </a:lnTo>
                    <a:lnTo>
                      <a:pt x="75" y="26"/>
                    </a:lnTo>
                    <a:lnTo>
                      <a:pt x="75" y="71"/>
                    </a:lnTo>
                    <a:lnTo>
                      <a:pt x="110" y="114"/>
                    </a:lnTo>
                    <a:lnTo>
                      <a:pt x="144" y="160"/>
                    </a:lnTo>
                    <a:lnTo>
                      <a:pt x="180" y="220"/>
                    </a:lnTo>
                    <a:lnTo>
                      <a:pt x="208" y="276"/>
                    </a:lnTo>
                    <a:lnTo>
                      <a:pt x="237" y="357"/>
                    </a:lnTo>
                    <a:lnTo>
                      <a:pt x="261" y="428"/>
                    </a:lnTo>
                    <a:lnTo>
                      <a:pt x="291" y="570"/>
                    </a:lnTo>
                    <a:lnTo>
                      <a:pt x="304" y="658"/>
                    </a:lnTo>
                    <a:lnTo>
                      <a:pt x="265" y="764"/>
                    </a:lnTo>
                    <a:lnTo>
                      <a:pt x="189" y="679"/>
                    </a:lnTo>
                    <a:lnTo>
                      <a:pt x="168" y="536"/>
                    </a:lnTo>
                    <a:lnTo>
                      <a:pt x="152" y="449"/>
                    </a:lnTo>
                    <a:lnTo>
                      <a:pt x="129" y="366"/>
                    </a:lnTo>
                    <a:lnTo>
                      <a:pt x="103" y="306"/>
                    </a:lnTo>
                    <a:lnTo>
                      <a:pt x="69" y="219"/>
                    </a:lnTo>
                    <a:lnTo>
                      <a:pt x="49" y="156"/>
                    </a:lnTo>
                    <a:lnTo>
                      <a:pt x="30" y="84"/>
                    </a:lnTo>
                    <a:lnTo>
                      <a:pt x="0" y="6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4440" y="509436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449568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29" name=""/>
          <p:cNvSpPr txBox="1"/>
          <p:nvPr/>
        </p:nvSpPr>
        <p:spPr>
          <a:xfrm>
            <a:off x="1447920" y="685800"/>
            <a:ext cx="1361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CS Taybah S_U normal."/>
              </a:rPr>
              <a:t>9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CS Taybah S_U normal."/>
              <a:ea typeface="MCS Taybah S_U normal.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505320" y="1523880"/>
            <a:ext cx="157644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1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8600" y="455616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3300"/>
                </a:solidFill>
                <a:latin typeface="Times New Roman"/>
                <a:cs typeface="DecoType Naskh Extensions"/>
              </a:rPr>
              <a:t>وأحذر أن تكون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DecoType Naskh Extensions"/>
              </a:rPr>
              <a:t> رقماً والأخير حقيقة وواق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828800" y="609480"/>
            <a:ext cx="43434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حرص أن تكون الأول في مجالك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35" name=""/>
          <p:cNvSpPr/>
          <p:nvPr/>
        </p:nvSpPr>
        <p:spPr>
          <a:xfrm>
            <a:off x="192240" y="35812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DecoType Naskh Extensions"/>
              </a:rPr>
              <a:t>" يحتاج إليك الكل ولا تحتاج إليهم فالكل يسألك 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505320" y="1523880"/>
            <a:ext cx="19810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2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3680" y="762120"/>
            <a:ext cx="73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أقم علاقات صادقة مع الجمي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حافظ على ثقة واحترام الآخر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ناك أناس صالح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خرجوا عن الصراط ويحتاج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لى من يعيدهم إلىالطر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قويم مجدداً أكثر من حاجت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لعقاب والمحاكم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904760" y="2133720"/>
            <a:ext cx="1755360" cy="1823040"/>
            <a:chOff x="1904760" y="2133720"/>
            <a:chExt cx="1755360" cy="1823040"/>
          </a:xfrm>
        </p:grpSpPr>
        <p:grpSp>
          <p:nvGrpSpPr>
            <p:cNvPr id="342" name=""/>
            <p:cNvGrpSpPr/>
            <p:nvPr/>
          </p:nvGrpSpPr>
          <p:grpSpPr>
            <a:xfrm>
              <a:off x="1904760" y="2133720"/>
              <a:ext cx="1755360" cy="1823040"/>
              <a:chOff x="1904760" y="2133720"/>
              <a:chExt cx="1755360" cy="1823040"/>
            </a:xfrm>
          </p:grpSpPr>
          <p:sp>
            <p:nvSpPr>
              <p:cNvPr id="343" name=""/>
              <p:cNvSpPr/>
              <p:nvPr/>
            </p:nvSpPr>
            <p:spPr>
              <a:xfrm>
                <a:off x="2336760" y="25102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2597040" y="3588120"/>
                <a:ext cx="432000" cy="368640"/>
                <a:chOff x="2597040" y="3588120"/>
                <a:chExt cx="432000" cy="368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667600" y="390600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597040" y="358812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597040" y="36212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97040" y="368856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597040" y="375588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97040" y="382356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904760" y="2133720"/>
                <a:ext cx="1755360" cy="1180080"/>
                <a:chOff x="1904760" y="2133720"/>
                <a:chExt cx="1755360" cy="118008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3069360" y="22780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2996640" y="23238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2891160" y="215532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88200" y="229248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652480" y="21337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2556360" y="2329200"/>
                  <a:ext cx="30600" cy="120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2367720" y="22395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2338920" y="24699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>
                  <a:off x="2099160" y="248400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2149200" y="26503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954440" y="271764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>
                  <a:off x="2090160" y="286632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1904760" y="296100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2109600" y="307656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1923840" y="316008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2256120" y="325728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3220560" y="24368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3288960" y="2606760"/>
                  <a:ext cx="116640" cy="65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3308040" y="267084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3329280" y="28202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3329280" y="291528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329280" y="30344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260520" y="312012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203280" y="321336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3161160" y="24480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" name=""/>
            <p:cNvSpPr txBox="1"/>
            <p:nvPr/>
          </p:nvSpPr>
          <p:spPr>
            <a:xfrm>
              <a:off x="2384640" y="2662200"/>
              <a:ext cx="733320" cy="58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200400" y="1523880"/>
            <a:ext cx="22096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لا تتردد في تفويض العمل ما أمكنك ذل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rot="18208800">
            <a:off x="4494960" y="2971440"/>
            <a:ext cx="2362320" cy="990720"/>
          </a:xfrm>
          <a:custGeom>
            <a:avLst/>
            <a:gdLst>
              <a:gd name="textAreaLeft" fmla="*/ 369360 w 2362320"/>
              <a:gd name="textAreaRight" fmla="*/ 2067480 w 23623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العناصر الأس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459108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ثقة با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5353200"/>
            <a:ext cx="221004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درة على التحف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67080" y="6114960"/>
            <a:ext cx="22100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رغبة في نقل الخب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57200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د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5334120"/>
            <a:ext cx="22096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كفاءة في المتاب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60958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د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53080" y="2438280"/>
            <a:ext cx="2362320" cy="2133720"/>
          </a:xfrm>
          <a:custGeom>
            <a:avLst/>
            <a:gdLst>
              <a:gd name="textAreaLeft" fmla="*/ 539280 w 2362320"/>
              <a:gd name="textAreaRight" fmla="*/ 1823040 w 2362320"/>
              <a:gd name="textAreaTop" fmla="*/ 487080 h 2133720"/>
              <a:gd name="textAreaBottom" fmla="*/ 1646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</a:rPr>
              <a:t>مت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نفو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45720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رغب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175248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انشغال بالتنفي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3019320"/>
            <a:ext cx="4190760" cy="8953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تغيير الأولو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29912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هزية العامل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520" y="558000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طاقات المعط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105160" y="1142640"/>
            <a:ext cx="198108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952880" y="2438280"/>
            <a:ext cx="1905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92408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952880" y="4038480"/>
            <a:ext cx="1905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105160" y="4343400"/>
            <a:ext cx="205740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238480" y="1704960"/>
            <a:ext cx="4572000" cy="39625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Times New Roman"/>
              </a:rPr>
              <a:t>التفوي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62760" y="5057640"/>
            <a:ext cx="134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سلط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686040" y="790560"/>
            <a:ext cx="162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ئول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14240" y="5105520"/>
            <a:ext cx="134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اءل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143000" y="2590920"/>
            <a:ext cx="6593400" cy="3602160"/>
            <a:chOff x="1143000" y="2590920"/>
            <a:chExt cx="6593400" cy="3602160"/>
          </a:xfrm>
        </p:grpSpPr>
        <p:grpSp>
          <p:nvGrpSpPr>
            <p:cNvPr id="45" name=""/>
            <p:cNvGrpSpPr/>
            <p:nvPr/>
          </p:nvGrpSpPr>
          <p:grpSpPr>
            <a:xfrm>
              <a:off x="1143000" y="3742920"/>
              <a:ext cx="6593400" cy="2450160"/>
              <a:chOff x="1143000" y="3742920"/>
              <a:chExt cx="6593400" cy="2450160"/>
            </a:xfrm>
          </p:grpSpPr>
          <p:sp>
            <p:nvSpPr>
              <p:cNvPr id="46" name=""/>
              <p:cNvSpPr/>
              <p:nvPr/>
            </p:nvSpPr>
            <p:spPr>
              <a:xfrm>
                <a:off x="1170720" y="3783600"/>
                <a:ext cx="6529320" cy="23680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1143000" y="3742920"/>
                <a:ext cx="6593400" cy="2450160"/>
                <a:chOff x="1143000" y="3742920"/>
                <a:chExt cx="6593400" cy="24501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143000" y="3742920"/>
                  <a:ext cx="6593400" cy="204660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654920" y="4333680"/>
                  <a:ext cx="6058080" cy="18594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5572440" y="2590920"/>
              <a:ext cx="1198800" cy="1628280"/>
              <a:chOff x="5572440" y="2590920"/>
              <a:chExt cx="1198800" cy="1628280"/>
            </a:xfrm>
          </p:grpSpPr>
          <p:sp>
            <p:nvSpPr>
              <p:cNvPr id="51" name=""/>
              <p:cNvSpPr/>
              <p:nvPr/>
            </p:nvSpPr>
            <p:spPr>
              <a:xfrm>
                <a:off x="5572440" y="3206880"/>
                <a:ext cx="1083960" cy="1012320"/>
              </a:xfrm>
              <a:custGeom>
                <a:avLst/>
                <a:gdLst/>
                <a:ahLst/>
                <a:rect l="l" t="t" r="r" b="b"/>
                <a:pathLst>
                  <a:path w="470" h="442">
                    <a:moveTo>
                      <a:pt x="165" y="21"/>
                    </a:moveTo>
                    <a:lnTo>
                      <a:pt x="190" y="6"/>
                    </a:lnTo>
                    <a:lnTo>
                      <a:pt x="226" y="0"/>
                    </a:lnTo>
                    <a:lnTo>
                      <a:pt x="256" y="10"/>
                    </a:lnTo>
                    <a:lnTo>
                      <a:pt x="277" y="28"/>
                    </a:lnTo>
                    <a:lnTo>
                      <a:pt x="301" y="63"/>
                    </a:lnTo>
                    <a:lnTo>
                      <a:pt x="327" y="81"/>
                    </a:lnTo>
                    <a:lnTo>
                      <a:pt x="359" y="99"/>
                    </a:lnTo>
                    <a:lnTo>
                      <a:pt x="410" y="115"/>
                    </a:lnTo>
                    <a:lnTo>
                      <a:pt x="458" y="139"/>
                    </a:lnTo>
                    <a:lnTo>
                      <a:pt x="468" y="156"/>
                    </a:lnTo>
                    <a:lnTo>
                      <a:pt x="470" y="181"/>
                    </a:lnTo>
                    <a:lnTo>
                      <a:pt x="455" y="186"/>
                    </a:lnTo>
                    <a:lnTo>
                      <a:pt x="422" y="183"/>
                    </a:lnTo>
                    <a:lnTo>
                      <a:pt x="345" y="157"/>
                    </a:lnTo>
                    <a:lnTo>
                      <a:pt x="353" y="202"/>
                    </a:lnTo>
                    <a:lnTo>
                      <a:pt x="359" y="262"/>
                    </a:lnTo>
                    <a:lnTo>
                      <a:pt x="359" y="267"/>
                    </a:lnTo>
                    <a:lnTo>
                      <a:pt x="356" y="331"/>
                    </a:lnTo>
                    <a:lnTo>
                      <a:pt x="341" y="382"/>
                    </a:lnTo>
                    <a:lnTo>
                      <a:pt x="323" y="414"/>
                    </a:lnTo>
                    <a:lnTo>
                      <a:pt x="288" y="435"/>
                    </a:lnTo>
                    <a:lnTo>
                      <a:pt x="238" y="439"/>
                    </a:lnTo>
                    <a:lnTo>
                      <a:pt x="234" y="442"/>
                    </a:lnTo>
                    <a:lnTo>
                      <a:pt x="189" y="427"/>
                    </a:lnTo>
                    <a:lnTo>
                      <a:pt x="184" y="429"/>
                    </a:lnTo>
                    <a:lnTo>
                      <a:pt x="160" y="387"/>
                    </a:lnTo>
                    <a:lnTo>
                      <a:pt x="135" y="330"/>
                    </a:lnTo>
                    <a:lnTo>
                      <a:pt x="123" y="258"/>
                    </a:lnTo>
                    <a:lnTo>
                      <a:pt x="87" y="240"/>
                    </a:lnTo>
                    <a:lnTo>
                      <a:pt x="51" y="222"/>
                    </a:lnTo>
                    <a:lnTo>
                      <a:pt x="22" y="201"/>
                    </a:lnTo>
                    <a:lnTo>
                      <a:pt x="4" y="175"/>
                    </a:lnTo>
                    <a:lnTo>
                      <a:pt x="0" y="160"/>
                    </a:lnTo>
                    <a:lnTo>
                      <a:pt x="1" y="139"/>
                    </a:lnTo>
                    <a:lnTo>
                      <a:pt x="19" y="120"/>
                    </a:lnTo>
                    <a:lnTo>
                      <a:pt x="45" y="97"/>
                    </a:lnTo>
                    <a:lnTo>
                      <a:pt x="40" y="100"/>
                    </a:lnTo>
                    <a:lnTo>
                      <a:pt x="45" y="97"/>
                    </a:lnTo>
                    <a:lnTo>
                      <a:pt x="78" y="72"/>
                    </a:lnTo>
                    <a:lnTo>
                      <a:pt x="120" y="39"/>
                    </a:lnTo>
                    <a:lnTo>
                      <a:pt x="16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5731920" y="3159000"/>
                <a:ext cx="1039320" cy="1050840"/>
                <a:chOff x="5731920" y="3159000"/>
                <a:chExt cx="1039320" cy="1050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731920" y="3159000"/>
                  <a:ext cx="1039320" cy="1050840"/>
                </a:xfrm>
                <a:custGeom>
                  <a:avLst/>
                  <a:gdLst/>
                  <a:ahLst/>
                  <a:rect l="l" t="t" r="r" b="b"/>
                  <a:pathLst>
                    <a:path w="451" h="459">
                      <a:moveTo>
                        <a:pt x="38" y="41"/>
                      </a:moveTo>
                      <a:lnTo>
                        <a:pt x="101" y="44"/>
                      </a:lnTo>
                      <a:lnTo>
                        <a:pt x="160" y="44"/>
                      </a:lnTo>
                      <a:lnTo>
                        <a:pt x="248" y="28"/>
                      </a:lnTo>
                      <a:lnTo>
                        <a:pt x="316" y="9"/>
                      </a:lnTo>
                      <a:lnTo>
                        <a:pt x="352" y="0"/>
                      </a:lnTo>
                      <a:lnTo>
                        <a:pt x="372" y="0"/>
                      </a:lnTo>
                      <a:lnTo>
                        <a:pt x="385" y="8"/>
                      </a:lnTo>
                      <a:lnTo>
                        <a:pt x="394" y="47"/>
                      </a:lnTo>
                      <a:lnTo>
                        <a:pt x="407" y="144"/>
                      </a:lnTo>
                      <a:lnTo>
                        <a:pt x="409" y="149"/>
                      </a:lnTo>
                      <a:lnTo>
                        <a:pt x="426" y="255"/>
                      </a:lnTo>
                      <a:lnTo>
                        <a:pt x="446" y="372"/>
                      </a:lnTo>
                      <a:lnTo>
                        <a:pt x="451" y="411"/>
                      </a:lnTo>
                      <a:lnTo>
                        <a:pt x="449" y="426"/>
                      </a:lnTo>
                      <a:lnTo>
                        <a:pt x="433" y="440"/>
                      </a:lnTo>
                      <a:lnTo>
                        <a:pt x="427" y="440"/>
                      </a:lnTo>
                      <a:lnTo>
                        <a:pt x="400" y="443"/>
                      </a:lnTo>
                      <a:lnTo>
                        <a:pt x="289" y="438"/>
                      </a:lnTo>
                      <a:lnTo>
                        <a:pt x="284" y="440"/>
                      </a:lnTo>
                      <a:lnTo>
                        <a:pt x="187" y="447"/>
                      </a:lnTo>
                      <a:lnTo>
                        <a:pt x="114" y="456"/>
                      </a:lnTo>
                      <a:lnTo>
                        <a:pt x="61" y="459"/>
                      </a:lnTo>
                      <a:lnTo>
                        <a:pt x="57" y="459"/>
                      </a:lnTo>
                      <a:lnTo>
                        <a:pt x="30" y="454"/>
                      </a:lnTo>
                      <a:lnTo>
                        <a:pt x="22" y="442"/>
                      </a:lnTo>
                      <a:lnTo>
                        <a:pt x="18" y="400"/>
                      </a:lnTo>
                      <a:lnTo>
                        <a:pt x="16" y="313"/>
                      </a:lnTo>
                      <a:lnTo>
                        <a:pt x="10" y="201"/>
                      </a:lnTo>
                      <a:lnTo>
                        <a:pt x="0" y="65"/>
                      </a:lnTo>
                      <a:lnTo>
                        <a:pt x="1" y="47"/>
                      </a:lnTo>
                      <a:lnTo>
                        <a:pt x="16" y="39"/>
                      </a:lnTo>
                      <a:lnTo>
                        <a:pt x="3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786640" y="3213360"/>
                  <a:ext cx="922320" cy="941400"/>
                </a:xfrm>
                <a:custGeom>
                  <a:avLst/>
                  <a:gdLst/>
                  <a:ahLst/>
                  <a:rect l="l" t="t" r="r" b="b"/>
                  <a:pathLst>
                    <a:path w="400" h="411">
                      <a:moveTo>
                        <a:pt x="0" y="37"/>
                      </a:moveTo>
                      <a:lnTo>
                        <a:pt x="66" y="38"/>
                      </a:lnTo>
                      <a:lnTo>
                        <a:pt x="138" y="41"/>
                      </a:lnTo>
                      <a:lnTo>
                        <a:pt x="195" y="35"/>
                      </a:lnTo>
                      <a:lnTo>
                        <a:pt x="259" y="20"/>
                      </a:lnTo>
                      <a:lnTo>
                        <a:pt x="324" y="0"/>
                      </a:lnTo>
                      <a:lnTo>
                        <a:pt x="335" y="1"/>
                      </a:lnTo>
                      <a:lnTo>
                        <a:pt x="349" y="10"/>
                      </a:lnTo>
                      <a:lnTo>
                        <a:pt x="360" y="109"/>
                      </a:lnTo>
                      <a:lnTo>
                        <a:pt x="373" y="186"/>
                      </a:lnTo>
                      <a:lnTo>
                        <a:pt x="385" y="261"/>
                      </a:lnTo>
                      <a:lnTo>
                        <a:pt x="400" y="364"/>
                      </a:lnTo>
                      <a:lnTo>
                        <a:pt x="399" y="385"/>
                      </a:lnTo>
                      <a:lnTo>
                        <a:pt x="389" y="394"/>
                      </a:lnTo>
                      <a:lnTo>
                        <a:pt x="354" y="397"/>
                      </a:lnTo>
                      <a:lnTo>
                        <a:pt x="255" y="392"/>
                      </a:lnTo>
                      <a:lnTo>
                        <a:pt x="251" y="393"/>
                      </a:lnTo>
                      <a:lnTo>
                        <a:pt x="185" y="398"/>
                      </a:lnTo>
                      <a:lnTo>
                        <a:pt x="179" y="401"/>
                      </a:lnTo>
                      <a:lnTo>
                        <a:pt x="98" y="408"/>
                      </a:lnTo>
                      <a:lnTo>
                        <a:pt x="37" y="411"/>
                      </a:lnTo>
                      <a:lnTo>
                        <a:pt x="22" y="405"/>
                      </a:lnTo>
                      <a:lnTo>
                        <a:pt x="17" y="404"/>
                      </a:lnTo>
                      <a:lnTo>
                        <a:pt x="13" y="373"/>
                      </a:lnTo>
                      <a:lnTo>
                        <a:pt x="13" y="236"/>
                      </a:lnTo>
                      <a:lnTo>
                        <a:pt x="12" y="154"/>
                      </a:lnTo>
                      <a:lnTo>
                        <a:pt x="1" y="73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5717520" y="3550680"/>
                <a:ext cx="228240" cy="39816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7" y="55"/>
                    </a:moveTo>
                    <a:lnTo>
                      <a:pt x="13" y="55"/>
                    </a:lnTo>
                    <a:lnTo>
                      <a:pt x="18" y="51"/>
                    </a:lnTo>
                    <a:lnTo>
                      <a:pt x="22" y="45"/>
                    </a:lnTo>
                    <a:lnTo>
                      <a:pt x="22" y="40"/>
                    </a:lnTo>
                    <a:lnTo>
                      <a:pt x="22" y="36"/>
                    </a:lnTo>
                    <a:lnTo>
                      <a:pt x="21" y="31"/>
                    </a:lnTo>
                    <a:lnTo>
                      <a:pt x="21" y="27"/>
                    </a:lnTo>
                    <a:lnTo>
                      <a:pt x="22" y="22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0" y="6"/>
                    </a:lnTo>
                    <a:lnTo>
                      <a:pt x="45" y="4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1"/>
                    </a:lnTo>
                    <a:lnTo>
                      <a:pt x="70" y="3"/>
                    </a:lnTo>
                    <a:lnTo>
                      <a:pt x="75" y="4"/>
                    </a:lnTo>
                    <a:lnTo>
                      <a:pt x="79" y="6"/>
                    </a:lnTo>
                    <a:lnTo>
                      <a:pt x="82" y="10"/>
                    </a:lnTo>
                    <a:lnTo>
                      <a:pt x="87" y="16"/>
                    </a:lnTo>
                    <a:lnTo>
                      <a:pt x="87" y="21"/>
                    </a:lnTo>
                    <a:lnTo>
                      <a:pt x="87" y="25"/>
                    </a:lnTo>
                    <a:lnTo>
                      <a:pt x="81" y="31"/>
                    </a:lnTo>
                    <a:lnTo>
                      <a:pt x="79" y="37"/>
                    </a:lnTo>
                    <a:lnTo>
                      <a:pt x="75" y="39"/>
                    </a:lnTo>
                    <a:lnTo>
                      <a:pt x="70" y="42"/>
                    </a:lnTo>
                    <a:lnTo>
                      <a:pt x="66" y="45"/>
                    </a:lnTo>
                    <a:lnTo>
                      <a:pt x="61" y="46"/>
                    </a:lnTo>
                    <a:lnTo>
                      <a:pt x="57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1" y="61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5" y="73"/>
                    </a:lnTo>
                    <a:lnTo>
                      <a:pt x="60" y="75"/>
                    </a:lnTo>
                    <a:lnTo>
                      <a:pt x="64" y="78"/>
                    </a:lnTo>
                    <a:lnTo>
                      <a:pt x="70" y="79"/>
                    </a:lnTo>
                    <a:lnTo>
                      <a:pt x="78" y="84"/>
                    </a:lnTo>
                    <a:lnTo>
                      <a:pt x="84" y="87"/>
                    </a:lnTo>
                    <a:lnTo>
                      <a:pt x="88" y="90"/>
                    </a:lnTo>
                    <a:lnTo>
                      <a:pt x="93" y="96"/>
                    </a:lnTo>
                    <a:lnTo>
                      <a:pt x="97" y="99"/>
                    </a:lnTo>
                    <a:lnTo>
                      <a:pt x="97" y="103"/>
                    </a:lnTo>
                    <a:lnTo>
                      <a:pt x="99" y="109"/>
                    </a:lnTo>
                    <a:lnTo>
                      <a:pt x="99" y="114"/>
                    </a:lnTo>
                    <a:lnTo>
                      <a:pt x="99" y="120"/>
                    </a:lnTo>
                    <a:lnTo>
                      <a:pt x="97" y="124"/>
                    </a:lnTo>
                    <a:lnTo>
                      <a:pt x="97" y="129"/>
                    </a:lnTo>
                    <a:lnTo>
                      <a:pt x="93" y="132"/>
                    </a:lnTo>
                    <a:lnTo>
                      <a:pt x="88" y="133"/>
                    </a:lnTo>
                    <a:lnTo>
                      <a:pt x="82" y="133"/>
                    </a:lnTo>
                    <a:lnTo>
                      <a:pt x="76" y="135"/>
                    </a:lnTo>
                    <a:lnTo>
                      <a:pt x="72" y="136"/>
                    </a:lnTo>
                    <a:lnTo>
                      <a:pt x="66" y="136"/>
                    </a:lnTo>
                    <a:lnTo>
                      <a:pt x="61" y="133"/>
                    </a:lnTo>
                    <a:lnTo>
                      <a:pt x="55" y="130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3" y="123"/>
                    </a:lnTo>
                    <a:lnTo>
                      <a:pt x="40" y="127"/>
                    </a:lnTo>
                    <a:lnTo>
                      <a:pt x="40" y="132"/>
                    </a:lnTo>
                    <a:lnTo>
                      <a:pt x="40" y="136"/>
                    </a:lnTo>
                    <a:lnTo>
                      <a:pt x="43" y="141"/>
                    </a:lnTo>
                    <a:lnTo>
                      <a:pt x="46" y="147"/>
                    </a:lnTo>
                    <a:lnTo>
                      <a:pt x="49" y="151"/>
                    </a:lnTo>
                    <a:lnTo>
                      <a:pt x="49" y="157"/>
                    </a:lnTo>
                    <a:lnTo>
                      <a:pt x="48" y="162"/>
                    </a:lnTo>
                    <a:lnTo>
                      <a:pt x="43" y="168"/>
                    </a:lnTo>
                    <a:lnTo>
                      <a:pt x="39" y="169"/>
                    </a:lnTo>
                    <a:lnTo>
                      <a:pt x="34" y="172"/>
                    </a:lnTo>
                    <a:lnTo>
                      <a:pt x="28" y="174"/>
                    </a:lnTo>
                    <a:lnTo>
                      <a:pt x="24" y="172"/>
                    </a:lnTo>
                    <a:lnTo>
                      <a:pt x="18" y="168"/>
                    </a:lnTo>
                    <a:lnTo>
                      <a:pt x="15" y="163"/>
                    </a:lnTo>
                    <a:lnTo>
                      <a:pt x="10" y="157"/>
                    </a:lnTo>
                    <a:lnTo>
                      <a:pt x="6" y="153"/>
                    </a:lnTo>
                    <a:lnTo>
                      <a:pt x="4" y="147"/>
                    </a:lnTo>
                    <a:lnTo>
                      <a:pt x="4" y="142"/>
                    </a:lnTo>
                    <a:lnTo>
                      <a:pt x="3" y="136"/>
                    </a:lnTo>
                    <a:lnTo>
                      <a:pt x="4" y="132"/>
                    </a:lnTo>
                    <a:lnTo>
                      <a:pt x="4" y="127"/>
                    </a:lnTo>
                    <a:lnTo>
                      <a:pt x="7" y="121"/>
                    </a:lnTo>
                    <a:lnTo>
                      <a:pt x="7" y="117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7" y="103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7" y="90"/>
                    </a:lnTo>
                    <a:lnTo>
                      <a:pt x="0" y="70"/>
                    </a:lnTo>
                    <a:lnTo>
                      <a:pt x="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90080" y="3454200"/>
                <a:ext cx="237960" cy="325440"/>
              </a:xfrm>
              <a:custGeom>
                <a:avLst/>
                <a:gdLst/>
                <a:ahLst/>
                <a:rect l="l" t="t" r="r" b="b"/>
                <a:pathLst>
                  <a:path w="103" h="142">
                    <a:moveTo>
                      <a:pt x="78" y="21"/>
                    </a:moveTo>
                    <a:lnTo>
                      <a:pt x="72" y="19"/>
                    </a:lnTo>
                    <a:lnTo>
                      <a:pt x="66" y="15"/>
                    </a:lnTo>
                    <a:lnTo>
                      <a:pt x="60" y="12"/>
                    </a:lnTo>
                    <a:lnTo>
                      <a:pt x="52" y="7"/>
                    </a:lnTo>
                    <a:lnTo>
                      <a:pt x="46" y="6"/>
                    </a:lnTo>
                    <a:lnTo>
                      <a:pt x="42" y="3"/>
                    </a:lnTo>
                    <a:lnTo>
                      <a:pt x="36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2" y="33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7" y="37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2" y="45"/>
                    </a:lnTo>
                    <a:lnTo>
                      <a:pt x="42" y="49"/>
                    </a:lnTo>
                    <a:lnTo>
                      <a:pt x="40" y="54"/>
                    </a:lnTo>
                    <a:lnTo>
                      <a:pt x="36" y="57"/>
                    </a:lnTo>
                    <a:lnTo>
                      <a:pt x="34" y="61"/>
                    </a:lnTo>
                    <a:lnTo>
                      <a:pt x="30" y="64"/>
                    </a:lnTo>
                    <a:lnTo>
                      <a:pt x="27" y="69"/>
                    </a:lnTo>
                    <a:lnTo>
                      <a:pt x="25" y="73"/>
                    </a:lnTo>
                    <a:lnTo>
                      <a:pt x="22" y="78"/>
                    </a:lnTo>
                    <a:lnTo>
                      <a:pt x="18" y="82"/>
                    </a:lnTo>
                    <a:lnTo>
                      <a:pt x="15" y="87"/>
                    </a:lnTo>
                    <a:lnTo>
                      <a:pt x="13" y="91"/>
                    </a:lnTo>
                    <a:lnTo>
                      <a:pt x="13" y="97"/>
                    </a:lnTo>
                    <a:lnTo>
                      <a:pt x="15" y="102"/>
                    </a:lnTo>
                    <a:lnTo>
                      <a:pt x="18" y="106"/>
                    </a:lnTo>
                    <a:lnTo>
                      <a:pt x="24" y="109"/>
                    </a:lnTo>
                    <a:lnTo>
                      <a:pt x="28" y="108"/>
                    </a:lnTo>
                    <a:lnTo>
                      <a:pt x="33" y="105"/>
                    </a:lnTo>
                    <a:lnTo>
                      <a:pt x="37" y="99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2" y="99"/>
                    </a:lnTo>
                    <a:lnTo>
                      <a:pt x="54" y="103"/>
                    </a:lnTo>
                    <a:lnTo>
                      <a:pt x="54" y="108"/>
                    </a:lnTo>
                    <a:lnTo>
                      <a:pt x="52" y="114"/>
                    </a:lnTo>
                    <a:lnTo>
                      <a:pt x="52" y="118"/>
                    </a:lnTo>
                    <a:lnTo>
                      <a:pt x="51" y="124"/>
                    </a:lnTo>
                    <a:lnTo>
                      <a:pt x="51" y="129"/>
                    </a:lnTo>
                    <a:lnTo>
                      <a:pt x="52" y="133"/>
                    </a:lnTo>
                    <a:lnTo>
                      <a:pt x="55" y="139"/>
                    </a:lnTo>
                    <a:lnTo>
                      <a:pt x="60" y="142"/>
                    </a:lnTo>
                    <a:lnTo>
                      <a:pt x="66" y="142"/>
                    </a:lnTo>
                    <a:lnTo>
                      <a:pt x="72" y="141"/>
                    </a:lnTo>
                    <a:lnTo>
                      <a:pt x="78" y="138"/>
                    </a:lnTo>
                    <a:lnTo>
                      <a:pt x="81" y="133"/>
                    </a:lnTo>
                    <a:lnTo>
                      <a:pt x="84" y="129"/>
                    </a:lnTo>
                    <a:lnTo>
                      <a:pt x="87" y="123"/>
                    </a:lnTo>
                    <a:lnTo>
                      <a:pt x="90" y="118"/>
                    </a:lnTo>
                    <a:lnTo>
                      <a:pt x="90" y="114"/>
                    </a:lnTo>
                    <a:lnTo>
                      <a:pt x="91" y="108"/>
                    </a:lnTo>
                    <a:lnTo>
                      <a:pt x="93" y="103"/>
                    </a:lnTo>
                    <a:lnTo>
                      <a:pt x="94" y="99"/>
                    </a:lnTo>
                    <a:lnTo>
                      <a:pt x="96" y="94"/>
                    </a:lnTo>
                    <a:lnTo>
                      <a:pt x="100" y="90"/>
                    </a:lnTo>
                    <a:lnTo>
                      <a:pt x="102" y="84"/>
                    </a:lnTo>
                    <a:lnTo>
                      <a:pt x="103" y="79"/>
                    </a:lnTo>
                    <a:lnTo>
                      <a:pt x="103" y="75"/>
                    </a:lnTo>
                    <a:lnTo>
                      <a:pt x="103" y="70"/>
                    </a:lnTo>
                    <a:lnTo>
                      <a:pt x="102" y="66"/>
                    </a:lnTo>
                    <a:lnTo>
                      <a:pt x="99" y="61"/>
                    </a:lnTo>
                    <a:lnTo>
                      <a:pt x="99" y="57"/>
                    </a:lnTo>
                    <a:lnTo>
                      <a:pt x="96" y="52"/>
                    </a:lnTo>
                    <a:lnTo>
                      <a:pt x="96" y="48"/>
                    </a:lnTo>
                    <a:lnTo>
                      <a:pt x="96" y="42"/>
                    </a:lnTo>
                    <a:lnTo>
                      <a:pt x="96" y="37"/>
                    </a:lnTo>
                    <a:lnTo>
                      <a:pt x="91" y="34"/>
                    </a:lnTo>
                    <a:lnTo>
                      <a:pt x="90" y="30"/>
                    </a:lnTo>
                    <a:lnTo>
                      <a:pt x="87" y="25"/>
                    </a:lnTo>
                    <a:lnTo>
                      <a:pt x="7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68280" y="2590920"/>
                <a:ext cx="624960" cy="577080"/>
              </a:xfrm>
              <a:custGeom>
                <a:avLst/>
                <a:gdLst/>
                <a:ahLst/>
                <a:rect l="l" t="t" r="r" b="b"/>
                <a:pathLst>
                  <a:path w="271" h="252">
                    <a:moveTo>
                      <a:pt x="194" y="105"/>
                    </a:moveTo>
                    <a:lnTo>
                      <a:pt x="177" y="69"/>
                    </a:lnTo>
                    <a:lnTo>
                      <a:pt x="156" y="40"/>
                    </a:lnTo>
                    <a:lnTo>
                      <a:pt x="132" y="18"/>
                    </a:lnTo>
                    <a:lnTo>
                      <a:pt x="111" y="4"/>
                    </a:lnTo>
                    <a:lnTo>
                      <a:pt x="90" y="0"/>
                    </a:lnTo>
                    <a:lnTo>
                      <a:pt x="63" y="0"/>
                    </a:lnTo>
                    <a:lnTo>
                      <a:pt x="41" y="10"/>
                    </a:lnTo>
                    <a:lnTo>
                      <a:pt x="15" y="34"/>
                    </a:lnTo>
                    <a:lnTo>
                      <a:pt x="3" y="57"/>
                    </a:lnTo>
                    <a:lnTo>
                      <a:pt x="0" y="85"/>
                    </a:lnTo>
                    <a:lnTo>
                      <a:pt x="0" y="124"/>
                    </a:lnTo>
                    <a:lnTo>
                      <a:pt x="8" y="157"/>
                    </a:lnTo>
                    <a:lnTo>
                      <a:pt x="15" y="186"/>
                    </a:lnTo>
                    <a:lnTo>
                      <a:pt x="29" y="207"/>
                    </a:lnTo>
                    <a:lnTo>
                      <a:pt x="45" y="225"/>
                    </a:lnTo>
                    <a:lnTo>
                      <a:pt x="72" y="243"/>
                    </a:lnTo>
                    <a:lnTo>
                      <a:pt x="95" y="250"/>
                    </a:lnTo>
                    <a:lnTo>
                      <a:pt x="120" y="252"/>
                    </a:lnTo>
                    <a:lnTo>
                      <a:pt x="144" y="246"/>
                    </a:lnTo>
                    <a:lnTo>
                      <a:pt x="164" y="240"/>
                    </a:lnTo>
                    <a:lnTo>
                      <a:pt x="182" y="219"/>
                    </a:lnTo>
                    <a:lnTo>
                      <a:pt x="189" y="190"/>
                    </a:lnTo>
                    <a:lnTo>
                      <a:pt x="194" y="159"/>
                    </a:lnTo>
                    <a:lnTo>
                      <a:pt x="200" y="142"/>
                    </a:lnTo>
                    <a:lnTo>
                      <a:pt x="222" y="138"/>
                    </a:lnTo>
                    <a:lnTo>
                      <a:pt x="254" y="139"/>
                    </a:lnTo>
                    <a:lnTo>
                      <a:pt x="271" y="132"/>
                    </a:lnTo>
                    <a:lnTo>
                      <a:pt x="271" y="118"/>
                    </a:lnTo>
                    <a:lnTo>
                      <a:pt x="262" y="103"/>
                    </a:lnTo>
                    <a:lnTo>
                      <a:pt x="246" y="99"/>
                    </a:lnTo>
                    <a:lnTo>
                      <a:pt x="222" y="99"/>
                    </a:lnTo>
                    <a:lnTo>
                      <a:pt x="19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102720" y="3392280"/>
                <a:ext cx="251280" cy="588960"/>
              </a:xfrm>
              <a:custGeom>
                <a:avLst/>
                <a:gdLst/>
                <a:ahLst/>
                <a:rect l="l" t="t" r="r" b="b"/>
                <a:pathLst>
                  <a:path w="109" h="257">
                    <a:moveTo>
                      <a:pt x="0" y="53"/>
                    </a:moveTo>
                    <a:lnTo>
                      <a:pt x="24" y="37"/>
                    </a:lnTo>
                    <a:lnTo>
                      <a:pt x="39" y="23"/>
                    </a:lnTo>
                    <a:lnTo>
                      <a:pt x="47" y="10"/>
                    </a:lnTo>
                    <a:lnTo>
                      <a:pt x="53" y="0"/>
                    </a:lnTo>
                    <a:lnTo>
                      <a:pt x="109" y="5"/>
                    </a:lnTo>
                    <a:lnTo>
                      <a:pt x="102" y="257"/>
                    </a:lnTo>
                    <a:lnTo>
                      <a:pt x="31" y="252"/>
                    </a:lnTo>
                    <a:lnTo>
                      <a:pt x="38" y="86"/>
                    </a:lnTo>
                    <a:lnTo>
                      <a:pt x="19" y="97"/>
                    </a:lnTo>
                    <a:lnTo>
                      <a:pt x="7" y="104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737720" y="2803680"/>
              <a:ext cx="1453680" cy="1655280"/>
              <a:chOff x="1737720" y="2803680"/>
              <a:chExt cx="1453680" cy="1655280"/>
            </a:xfrm>
          </p:grpSpPr>
          <p:sp>
            <p:nvSpPr>
              <p:cNvPr id="60" name=""/>
              <p:cNvSpPr/>
              <p:nvPr/>
            </p:nvSpPr>
            <p:spPr>
              <a:xfrm>
                <a:off x="2180880" y="2803680"/>
                <a:ext cx="743040" cy="57672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37720" y="3545640"/>
                <a:ext cx="609120" cy="91332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62920" y="3526920"/>
                <a:ext cx="528480" cy="8294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1984680" y="3403440"/>
                <a:ext cx="1012680" cy="1020960"/>
                <a:chOff x="1984680" y="3403440"/>
                <a:chExt cx="1012680" cy="1020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984680" y="3403440"/>
                  <a:ext cx="1012680" cy="102096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7880" y="3451680"/>
                  <a:ext cx="913680" cy="91548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1938600" y="4122720"/>
                <a:ext cx="304560" cy="3297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92160" y="3978360"/>
                <a:ext cx="284040" cy="3866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56840" y="3559320"/>
                <a:ext cx="482400" cy="59760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666960" y="2664000"/>
              <a:ext cx="1249560" cy="1664280"/>
              <a:chOff x="3666960" y="2664000"/>
              <a:chExt cx="1249560" cy="1664280"/>
            </a:xfrm>
          </p:grpSpPr>
          <p:sp>
            <p:nvSpPr>
              <p:cNvPr id="70" name=""/>
              <p:cNvSpPr/>
              <p:nvPr/>
            </p:nvSpPr>
            <p:spPr>
              <a:xfrm>
                <a:off x="3666960" y="2664000"/>
                <a:ext cx="682560" cy="59976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65840" y="3265920"/>
                <a:ext cx="401040" cy="205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3837960" y="3240720"/>
                <a:ext cx="1078560" cy="1087560"/>
                <a:chOff x="3837960" y="3240720"/>
                <a:chExt cx="1078560" cy="10875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3837960" y="3240720"/>
                  <a:ext cx="1078560" cy="10875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890520" y="3297600"/>
                  <a:ext cx="961560" cy="97272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4458240" y="3215520"/>
                <a:ext cx="430920" cy="22680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694680" y="3353040"/>
                <a:ext cx="454320" cy="73728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49000" y="3522240"/>
                <a:ext cx="491040" cy="58896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 txBox="1"/>
          <p:nvPr/>
        </p:nvSpPr>
        <p:spPr>
          <a:xfrm>
            <a:off x="2514600" y="809640"/>
            <a:ext cx="38862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ثلاثة قبل البداية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657600" y="1600200"/>
            <a:ext cx="1347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ابحث عن مزيد من المسؤوليا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وابعث الحياة في الأعمال الصغير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905120" y="2590920"/>
            <a:ext cx="18572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قفة تأمل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تهتم إن قال الناس بأن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مجنون بشرط أن تكو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ادقاً مع نفسك أولاً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وخطواتك ع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الدرب الصحيح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42900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5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57200" y="457200"/>
            <a:ext cx="7238880" cy="1828800"/>
          </a:xfrm>
          <a:prstGeom prst="cloudCallout">
            <a:avLst>
              <a:gd name="adj1" fmla="val 46930"/>
              <a:gd name="adj2" fmla="val 3671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كن متحمساً لعملك وتكيف مع ما تريد عمل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أعمل وأنت تبتسم وتتلذذ بممارسة العم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0280" y="366696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خضع جسدك لعق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وأخضع عقلك لروح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أخضع روحك لمعتق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52480" y="2590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مجرد نصيح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0532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6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1360" y="114480"/>
            <a:ext cx="6458040" cy="1638000"/>
          </a:xfrm>
          <a:prstGeom prst="cloudCallout">
            <a:avLst>
              <a:gd name="adj1" fmla="val 64870"/>
              <a:gd name="adj2" fmla="val 6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خش المخاطر المعقولــــ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ع العجلة والعادات المقـــي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838080" y="5715000"/>
            <a:ext cx="4505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بقدر ما تنظر لنفسك تكون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417" name=""/>
          <p:cNvSpPr/>
          <p:nvPr/>
        </p:nvSpPr>
        <p:spPr>
          <a:xfrm>
            <a:off x="174600" y="2438280"/>
            <a:ext cx="6172200" cy="2819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عجلة دليل على الخو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إذا كنت مضطرباً أجلس وفكر لأ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التوازن والقوة مترابطان لا ينفصل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تذكر بأن الخوف يحول القوة ضعف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7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لا تضخم الأمور أبد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8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80880" y="457200"/>
            <a:ext cx="7315200" cy="1828800"/>
          </a:xfrm>
          <a:prstGeom prst="cloudCallout">
            <a:avLst>
              <a:gd name="adj1" fmla="val 48111"/>
              <a:gd name="adj2" fmla="val 3368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ترك أثاراً مجسدة واضحة للعي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6320" y="76320"/>
            <a:ext cx="5180760" cy="3732120"/>
            <a:chOff x="76320" y="76320"/>
            <a:chExt cx="5180760" cy="3732120"/>
          </a:xfrm>
        </p:grpSpPr>
        <p:grpSp>
          <p:nvGrpSpPr>
            <p:cNvPr id="80" name=""/>
            <p:cNvGrpSpPr/>
            <p:nvPr/>
          </p:nvGrpSpPr>
          <p:grpSpPr>
            <a:xfrm>
              <a:off x="76320" y="76320"/>
              <a:ext cx="5180760" cy="3732120"/>
              <a:chOff x="76320" y="76320"/>
              <a:chExt cx="5180760" cy="37321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76320" y="1270080"/>
                <a:ext cx="5180760" cy="2538360"/>
                <a:chOff x="76320" y="1270080"/>
                <a:chExt cx="5180760" cy="2538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97920" y="1312560"/>
                  <a:ext cx="5130720" cy="2453400"/>
                </a:xfrm>
                <a:custGeom>
                  <a:avLst/>
                  <a:gdLst/>
                  <a:ahLst/>
                  <a:rect l="l" t="t" r="r" b="b"/>
                  <a:pathLst>
                    <a:path w="2830" h="1034">
                      <a:moveTo>
                        <a:pt x="0" y="504"/>
                      </a:moveTo>
                      <a:lnTo>
                        <a:pt x="4" y="366"/>
                      </a:lnTo>
                      <a:lnTo>
                        <a:pt x="4" y="360"/>
                      </a:lnTo>
                      <a:lnTo>
                        <a:pt x="18" y="260"/>
                      </a:lnTo>
                      <a:lnTo>
                        <a:pt x="48" y="190"/>
                      </a:lnTo>
                      <a:lnTo>
                        <a:pt x="84" y="166"/>
                      </a:lnTo>
                      <a:lnTo>
                        <a:pt x="164" y="156"/>
                      </a:lnTo>
                      <a:lnTo>
                        <a:pt x="402" y="142"/>
                      </a:lnTo>
                      <a:lnTo>
                        <a:pt x="782" y="126"/>
                      </a:lnTo>
                      <a:lnTo>
                        <a:pt x="1052" y="118"/>
                      </a:lnTo>
                      <a:lnTo>
                        <a:pt x="1414" y="84"/>
                      </a:lnTo>
                      <a:lnTo>
                        <a:pt x="1764" y="52"/>
                      </a:lnTo>
                      <a:lnTo>
                        <a:pt x="2138" y="10"/>
                      </a:lnTo>
                      <a:lnTo>
                        <a:pt x="2336" y="0"/>
                      </a:lnTo>
                      <a:lnTo>
                        <a:pt x="2376" y="8"/>
                      </a:lnTo>
                      <a:lnTo>
                        <a:pt x="2536" y="60"/>
                      </a:lnTo>
                      <a:lnTo>
                        <a:pt x="2730" y="132"/>
                      </a:lnTo>
                      <a:lnTo>
                        <a:pt x="2816" y="184"/>
                      </a:lnTo>
                      <a:lnTo>
                        <a:pt x="2830" y="208"/>
                      </a:lnTo>
                      <a:lnTo>
                        <a:pt x="2828" y="262"/>
                      </a:lnTo>
                      <a:lnTo>
                        <a:pt x="2808" y="350"/>
                      </a:lnTo>
                      <a:lnTo>
                        <a:pt x="2802" y="424"/>
                      </a:lnTo>
                      <a:lnTo>
                        <a:pt x="2804" y="564"/>
                      </a:lnTo>
                      <a:lnTo>
                        <a:pt x="2804" y="570"/>
                      </a:lnTo>
                      <a:lnTo>
                        <a:pt x="2818" y="722"/>
                      </a:lnTo>
                      <a:lnTo>
                        <a:pt x="2808" y="744"/>
                      </a:lnTo>
                      <a:lnTo>
                        <a:pt x="2792" y="758"/>
                      </a:lnTo>
                      <a:lnTo>
                        <a:pt x="2704" y="766"/>
                      </a:lnTo>
                      <a:lnTo>
                        <a:pt x="2416" y="818"/>
                      </a:lnTo>
                      <a:lnTo>
                        <a:pt x="2200" y="870"/>
                      </a:lnTo>
                      <a:lnTo>
                        <a:pt x="2194" y="872"/>
                      </a:lnTo>
                      <a:lnTo>
                        <a:pt x="1976" y="922"/>
                      </a:lnTo>
                      <a:lnTo>
                        <a:pt x="1764" y="942"/>
                      </a:lnTo>
                      <a:lnTo>
                        <a:pt x="1298" y="970"/>
                      </a:lnTo>
                      <a:lnTo>
                        <a:pt x="906" y="994"/>
                      </a:lnTo>
                      <a:lnTo>
                        <a:pt x="898" y="1000"/>
                      </a:lnTo>
                      <a:lnTo>
                        <a:pt x="740" y="1002"/>
                      </a:lnTo>
                      <a:lnTo>
                        <a:pt x="362" y="1034"/>
                      </a:lnTo>
                      <a:lnTo>
                        <a:pt x="328" y="1026"/>
                      </a:lnTo>
                      <a:lnTo>
                        <a:pt x="274" y="986"/>
                      </a:lnTo>
                      <a:lnTo>
                        <a:pt x="238" y="948"/>
                      </a:lnTo>
                      <a:lnTo>
                        <a:pt x="224" y="900"/>
                      </a:lnTo>
                      <a:lnTo>
                        <a:pt x="214" y="844"/>
                      </a:lnTo>
                      <a:lnTo>
                        <a:pt x="184" y="804"/>
                      </a:lnTo>
                      <a:lnTo>
                        <a:pt x="76" y="628"/>
                      </a:lnTo>
                      <a:lnTo>
                        <a:pt x="16" y="544"/>
                      </a:lnTo>
                      <a:lnTo>
                        <a:pt x="0" y="504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76320" y="1270080"/>
                  <a:ext cx="5180760" cy="2538360"/>
                  <a:chOff x="76320" y="1270080"/>
                  <a:chExt cx="5180760" cy="2538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76320" y="1270080"/>
                    <a:ext cx="5180760" cy="21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8" h="894">
                        <a:moveTo>
                          <a:pt x="1054" y="126"/>
                        </a:moveTo>
                        <a:lnTo>
                          <a:pt x="870" y="130"/>
                        </a:lnTo>
                        <a:lnTo>
                          <a:pt x="660" y="136"/>
                        </a:lnTo>
                        <a:lnTo>
                          <a:pt x="400" y="148"/>
                        </a:lnTo>
                        <a:lnTo>
                          <a:pt x="216" y="156"/>
                        </a:lnTo>
                        <a:lnTo>
                          <a:pt x="210" y="158"/>
                        </a:lnTo>
                        <a:lnTo>
                          <a:pt x="120" y="166"/>
                        </a:lnTo>
                        <a:lnTo>
                          <a:pt x="66" y="176"/>
                        </a:lnTo>
                        <a:lnTo>
                          <a:pt x="44" y="196"/>
                        </a:lnTo>
                        <a:lnTo>
                          <a:pt x="26" y="238"/>
                        </a:lnTo>
                        <a:lnTo>
                          <a:pt x="6" y="346"/>
                        </a:lnTo>
                        <a:lnTo>
                          <a:pt x="0" y="460"/>
                        </a:lnTo>
                        <a:lnTo>
                          <a:pt x="2" y="518"/>
                        </a:lnTo>
                        <a:lnTo>
                          <a:pt x="8" y="546"/>
                        </a:lnTo>
                        <a:lnTo>
                          <a:pt x="22" y="574"/>
                        </a:lnTo>
                        <a:lnTo>
                          <a:pt x="22" y="580"/>
                        </a:lnTo>
                        <a:lnTo>
                          <a:pt x="78" y="662"/>
                        </a:lnTo>
                        <a:lnTo>
                          <a:pt x="146" y="770"/>
                        </a:lnTo>
                        <a:lnTo>
                          <a:pt x="184" y="824"/>
                        </a:lnTo>
                        <a:lnTo>
                          <a:pt x="202" y="874"/>
                        </a:lnTo>
                        <a:lnTo>
                          <a:pt x="224" y="894"/>
                        </a:lnTo>
                        <a:lnTo>
                          <a:pt x="234" y="882"/>
                        </a:lnTo>
                        <a:lnTo>
                          <a:pt x="230" y="844"/>
                        </a:lnTo>
                        <a:lnTo>
                          <a:pt x="194" y="796"/>
                        </a:lnTo>
                        <a:lnTo>
                          <a:pt x="144" y="700"/>
                        </a:lnTo>
                        <a:lnTo>
                          <a:pt x="98" y="636"/>
                        </a:lnTo>
                        <a:lnTo>
                          <a:pt x="52" y="578"/>
                        </a:lnTo>
                        <a:lnTo>
                          <a:pt x="28" y="534"/>
                        </a:lnTo>
                        <a:lnTo>
                          <a:pt x="34" y="482"/>
                        </a:lnTo>
                        <a:lnTo>
                          <a:pt x="34" y="408"/>
                        </a:lnTo>
                        <a:lnTo>
                          <a:pt x="40" y="352"/>
                        </a:lnTo>
                        <a:lnTo>
                          <a:pt x="46" y="294"/>
                        </a:lnTo>
                        <a:lnTo>
                          <a:pt x="54" y="256"/>
                        </a:lnTo>
                        <a:lnTo>
                          <a:pt x="66" y="246"/>
                        </a:lnTo>
                        <a:lnTo>
                          <a:pt x="86" y="252"/>
                        </a:lnTo>
                        <a:lnTo>
                          <a:pt x="166" y="382"/>
                        </a:lnTo>
                        <a:lnTo>
                          <a:pt x="232" y="502"/>
                        </a:lnTo>
                        <a:lnTo>
                          <a:pt x="250" y="514"/>
                        </a:lnTo>
                        <a:lnTo>
                          <a:pt x="252" y="492"/>
                        </a:lnTo>
                        <a:lnTo>
                          <a:pt x="190" y="376"/>
                        </a:lnTo>
                        <a:lnTo>
                          <a:pt x="146" y="280"/>
                        </a:lnTo>
                        <a:lnTo>
                          <a:pt x="110" y="216"/>
                        </a:lnTo>
                        <a:lnTo>
                          <a:pt x="112" y="200"/>
                        </a:lnTo>
                        <a:lnTo>
                          <a:pt x="148" y="190"/>
                        </a:lnTo>
                        <a:lnTo>
                          <a:pt x="242" y="184"/>
                        </a:lnTo>
                        <a:lnTo>
                          <a:pt x="400" y="174"/>
                        </a:lnTo>
                        <a:lnTo>
                          <a:pt x="554" y="168"/>
                        </a:lnTo>
                        <a:lnTo>
                          <a:pt x="998" y="152"/>
                        </a:lnTo>
                        <a:lnTo>
                          <a:pt x="1484" y="114"/>
                        </a:lnTo>
                        <a:lnTo>
                          <a:pt x="1700" y="94"/>
                        </a:lnTo>
                        <a:lnTo>
                          <a:pt x="1956" y="62"/>
                        </a:lnTo>
                        <a:lnTo>
                          <a:pt x="2264" y="34"/>
                        </a:lnTo>
                        <a:lnTo>
                          <a:pt x="2346" y="38"/>
                        </a:lnTo>
                        <a:lnTo>
                          <a:pt x="2390" y="44"/>
                        </a:lnTo>
                        <a:lnTo>
                          <a:pt x="2436" y="66"/>
                        </a:lnTo>
                        <a:lnTo>
                          <a:pt x="2608" y="118"/>
                        </a:lnTo>
                        <a:lnTo>
                          <a:pt x="2760" y="176"/>
                        </a:lnTo>
                        <a:lnTo>
                          <a:pt x="2810" y="208"/>
                        </a:lnTo>
                        <a:lnTo>
                          <a:pt x="2822" y="230"/>
                        </a:lnTo>
                        <a:lnTo>
                          <a:pt x="2822" y="264"/>
                        </a:lnTo>
                        <a:lnTo>
                          <a:pt x="2806" y="364"/>
                        </a:lnTo>
                        <a:lnTo>
                          <a:pt x="2802" y="468"/>
                        </a:lnTo>
                        <a:lnTo>
                          <a:pt x="2804" y="610"/>
                        </a:lnTo>
                        <a:lnTo>
                          <a:pt x="2806" y="694"/>
                        </a:lnTo>
                        <a:lnTo>
                          <a:pt x="2818" y="718"/>
                        </a:lnTo>
                        <a:lnTo>
                          <a:pt x="2832" y="718"/>
                        </a:lnTo>
                        <a:lnTo>
                          <a:pt x="2844" y="698"/>
                        </a:lnTo>
                        <a:lnTo>
                          <a:pt x="2842" y="634"/>
                        </a:lnTo>
                        <a:lnTo>
                          <a:pt x="2834" y="494"/>
                        </a:lnTo>
                        <a:lnTo>
                          <a:pt x="2834" y="488"/>
                        </a:lnTo>
                        <a:lnTo>
                          <a:pt x="2834" y="396"/>
                        </a:lnTo>
                        <a:lnTo>
                          <a:pt x="2846" y="304"/>
                        </a:lnTo>
                        <a:lnTo>
                          <a:pt x="2858" y="236"/>
                        </a:lnTo>
                        <a:lnTo>
                          <a:pt x="2856" y="210"/>
                        </a:lnTo>
                        <a:lnTo>
                          <a:pt x="2832" y="188"/>
                        </a:lnTo>
                        <a:lnTo>
                          <a:pt x="2812" y="172"/>
                        </a:lnTo>
                        <a:lnTo>
                          <a:pt x="2750" y="144"/>
                        </a:lnTo>
                        <a:lnTo>
                          <a:pt x="2658" y="106"/>
                        </a:lnTo>
                        <a:lnTo>
                          <a:pt x="2544" y="66"/>
                        </a:lnTo>
                        <a:lnTo>
                          <a:pt x="2436" y="30"/>
                        </a:lnTo>
                        <a:lnTo>
                          <a:pt x="2382" y="10"/>
                        </a:lnTo>
                        <a:lnTo>
                          <a:pt x="2354" y="2"/>
                        </a:lnTo>
                        <a:lnTo>
                          <a:pt x="2318" y="0"/>
                        </a:lnTo>
                        <a:lnTo>
                          <a:pt x="2246" y="8"/>
                        </a:lnTo>
                        <a:lnTo>
                          <a:pt x="2072" y="20"/>
                        </a:lnTo>
                        <a:lnTo>
                          <a:pt x="2066" y="22"/>
                        </a:lnTo>
                        <a:lnTo>
                          <a:pt x="1782" y="56"/>
                        </a:lnTo>
                        <a:lnTo>
                          <a:pt x="1506" y="82"/>
                        </a:lnTo>
                        <a:lnTo>
                          <a:pt x="1162" y="112"/>
                        </a:lnTo>
                        <a:lnTo>
                          <a:pt x="1054" y="126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78440" y="1882080"/>
                    <a:ext cx="4760280" cy="19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6" h="812">
                        <a:moveTo>
                          <a:pt x="2618" y="420"/>
                        </a:moveTo>
                        <a:lnTo>
                          <a:pt x="2626" y="462"/>
                        </a:lnTo>
                        <a:lnTo>
                          <a:pt x="2626" y="502"/>
                        </a:lnTo>
                        <a:lnTo>
                          <a:pt x="2618" y="522"/>
                        </a:lnTo>
                        <a:lnTo>
                          <a:pt x="2594" y="534"/>
                        </a:lnTo>
                        <a:lnTo>
                          <a:pt x="2588" y="536"/>
                        </a:lnTo>
                        <a:lnTo>
                          <a:pt x="2582" y="536"/>
                        </a:lnTo>
                        <a:lnTo>
                          <a:pt x="2520" y="544"/>
                        </a:lnTo>
                        <a:lnTo>
                          <a:pt x="2370" y="562"/>
                        </a:lnTo>
                        <a:lnTo>
                          <a:pt x="2364" y="564"/>
                        </a:lnTo>
                        <a:lnTo>
                          <a:pt x="2358" y="564"/>
                        </a:lnTo>
                        <a:lnTo>
                          <a:pt x="2222" y="592"/>
                        </a:lnTo>
                        <a:lnTo>
                          <a:pt x="2098" y="622"/>
                        </a:lnTo>
                        <a:lnTo>
                          <a:pt x="1982" y="656"/>
                        </a:lnTo>
                        <a:lnTo>
                          <a:pt x="1878" y="680"/>
                        </a:lnTo>
                        <a:lnTo>
                          <a:pt x="1800" y="696"/>
                        </a:lnTo>
                        <a:lnTo>
                          <a:pt x="1690" y="706"/>
                        </a:lnTo>
                        <a:lnTo>
                          <a:pt x="1544" y="716"/>
                        </a:lnTo>
                        <a:lnTo>
                          <a:pt x="1364" y="724"/>
                        </a:lnTo>
                        <a:lnTo>
                          <a:pt x="1088" y="742"/>
                        </a:lnTo>
                        <a:lnTo>
                          <a:pt x="916" y="754"/>
                        </a:lnTo>
                        <a:lnTo>
                          <a:pt x="904" y="758"/>
                        </a:lnTo>
                        <a:lnTo>
                          <a:pt x="704" y="770"/>
                        </a:lnTo>
                        <a:lnTo>
                          <a:pt x="452" y="782"/>
                        </a:lnTo>
                        <a:lnTo>
                          <a:pt x="252" y="802"/>
                        </a:lnTo>
                        <a:lnTo>
                          <a:pt x="246" y="806"/>
                        </a:lnTo>
                        <a:lnTo>
                          <a:pt x="154" y="812"/>
                        </a:lnTo>
                        <a:lnTo>
                          <a:pt x="148" y="812"/>
                        </a:lnTo>
                        <a:lnTo>
                          <a:pt x="114" y="800"/>
                        </a:lnTo>
                        <a:lnTo>
                          <a:pt x="108" y="802"/>
                        </a:lnTo>
                        <a:lnTo>
                          <a:pt x="64" y="772"/>
                        </a:lnTo>
                        <a:lnTo>
                          <a:pt x="32" y="742"/>
                        </a:lnTo>
                        <a:lnTo>
                          <a:pt x="16" y="708"/>
                        </a:lnTo>
                        <a:lnTo>
                          <a:pt x="8" y="678"/>
                        </a:lnTo>
                        <a:lnTo>
                          <a:pt x="4" y="620"/>
                        </a:lnTo>
                        <a:lnTo>
                          <a:pt x="0" y="572"/>
                        </a:lnTo>
                        <a:lnTo>
                          <a:pt x="4" y="512"/>
                        </a:lnTo>
                        <a:lnTo>
                          <a:pt x="24" y="350"/>
                        </a:lnTo>
                        <a:lnTo>
                          <a:pt x="34" y="280"/>
                        </a:lnTo>
                        <a:lnTo>
                          <a:pt x="8" y="226"/>
                        </a:lnTo>
                        <a:lnTo>
                          <a:pt x="6" y="202"/>
                        </a:lnTo>
                        <a:lnTo>
                          <a:pt x="20" y="212"/>
                        </a:lnTo>
                        <a:lnTo>
                          <a:pt x="46" y="234"/>
                        </a:lnTo>
                        <a:lnTo>
                          <a:pt x="70" y="244"/>
                        </a:lnTo>
                        <a:lnTo>
                          <a:pt x="100" y="252"/>
                        </a:lnTo>
                        <a:lnTo>
                          <a:pt x="188" y="248"/>
                        </a:lnTo>
                        <a:lnTo>
                          <a:pt x="330" y="242"/>
                        </a:lnTo>
                        <a:lnTo>
                          <a:pt x="516" y="230"/>
                        </a:lnTo>
                        <a:lnTo>
                          <a:pt x="972" y="196"/>
                        </a:lnTo>
                        <a:lnTo>
                          <a:pt x="1194" y="172"/>
                        </a:lnTo>
                        <a:lnTo>
                          <a:pt x="1514" y="128"/>
                        </a:lnTo>
                        <a:lnTo>
                          <a:pt x="1714" y="98"/>
                        </a:lnTo>
                        <a:lnTo>
                          <a:pt x="2040" y="38"/>
                        </a:lnTo>
                        <a:lnTo>
                          <a:pt x="2220" y="4"/>
                        </a:lnTo>
                        <a:lnTo>
                          <a:pt x="2248" y="0"/>
                        </a:lnTo>
                        <a:lnTo>
                          <a:pt x="2250" y="6"/>
                        </a:lnTo>
                        <a:lnTo>
                          <a:pt x="2232" y="24"/>
                        </a:lnTo>
                        <a:lnTo>
                          <a:pt x="2158" y="42"/>
                        </a:lnTo>
                        <a:lnTo>
                          <a:pt x="2010" y="68"/>
                        </a:lnTo>
                        <a:lnTo>
                          <a:pt x="1806" y="106"/>
                        </a:lnTo>
                        <a:lnTo>
                          <a:pt x="1592" y="140"/>
                        </a:lnTo>
                        <a:lnTo>
                          <a:pt x="1394" y="172"/>
                        </a:lnTo>
                        <a:lnTo>
                          <a:pt x="1388" y="172"/>
                        </a:lnTo>
                        <a:lnTo>
                          <a:pt x="1064" y="210"/>
                        </a:lnTo>
                        <a:lnTo>
                          <a:pt x="812" y="234"/>
                        </a:lnTo>
                        <a:lnTo>
                          <a:pt x="806" y="236"/>
                        </a:lnTo>
                        <a:lnTo>
                          <a:pt x="546" y="252"/>
                        </a:lnTo>
                        <a:lnTo>
                          <a:pt x="334" y="264"/>
                        </a:lnTo>
                        <a:lnTo>
                          <a:pt x="326" y="266"/>
                        </a:lnTo>
                        <a:lnTo>
                          <a:pt x="112" y="276"/>
                        </a:lnTo>
                        <a:lnTo>
                          <a:pt x="74" y="286"/>
                        </a:lnTo>
                        <a:lnTo>
                          <a:pt x="60" y="308"/>
                        </a:lnTo>
                        <a:lnTo>
                          <a:pt x="48" y="382"/>
                        </a:lnTo>
                        <a:lnTo>
                          <a:pt x="38" y="482"/>
                        </a:lnTo>
                        <a:lnTo>
                          <a:pt x="24" y="564"/>
                        </a:lnTo>
                        <a:lnTo>
                          <a:pt x="30" y="634"/>
                        </a:lnTo>
                        <a:lnTo>
                          <a:pt x="30" y="640"/>
                        </a:lnTo>
                        <a:lnTo>
                          <a:pt x="40" y="696"/>
                        </a:lnTo>
                        <a:lnTo>
                          <a:pt x="60" y="722"/>
                        </a:lnTo>
                        <a:lnTo>
                          <a:pt x="84" y="748"/>
                        </a:lnTo>
                        <a:lnTo>
                          <a:pt x="116" y="764"/>
                        </a:lnTo>
                        <a:lnTo>
                          <a:pt x="152" y="772"/>
                        </a:lnTo>
                        <a:lnTo>
                          <a:pt x="280" y="776"/>
                        </a:lnTo>
                        <a:lnTo>
                          <a:pt x="384" y="762"/>
                        </a:lnTo>
                        <a:lnTo>
                          <a:pt x="480" y="756"/>
                        </a:lnTo>
                        <a:lnTo>
                          <a:pt x="628" y="742"/>
                        </a:lnTo>
                        <a:lnTo>
                          <a:pt x="788" y="732"/>
                        </a:lnTo>
                        <a:lnTo>
                          <a:pt x="910" y="720"/>
                        </a:lnTo>
                        <a:lnTo>
                          <a:pt x="1108" y="712"/>
                        </a:lnTo>
                        <a:lnTo>
                          <a:pt x="1282" y="700"/>
                        </a:lnTo>
                        <a:lnTo>
                          <a:pt x="1506" y="690"/>
                        </a:lnTo>
                        <a:lnTo>
                          <a:pt x="1684" y="680"/>
                        </a:lnTo>
                        <a:lnTo>
                          <a:pt x="1816" y="662"/>
                        </a:lnTo>
                        <a:lnTo>
                          <a:pt x="1954" y="630"/>
                        </a:lnTo>
                        <a:lnTo>
                          <a:pt x="2196" y="568"/>
                        </a:lnTo>
                        <a:lnTo>
                          <a:pt x="2300" y="546"/>
                        </a:lnTo>
                        <a:lnTo>
                          <a:pt x="2450" y="524"/>
                        </a:lnTo>
                        <a:lnTo>
                          <a:pt x="2578" y="498"/>
                        </a:lnTo>
                        <a:lnTo>
                          <a:pt x="2584" y="480"/>
                        </a:lnTo>
                        <a:lnTo>
                          <a:pt x="2588" y="434"/>
                        </a:lnTo>
                        <a:lnTo>
                          <a:pt x="2602" y="408"/>
                        </a:lnTo>
                        <a:lnTo>
                          <a:pt x="2618" y="42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" name=""/>
              <p:cNvGrpSpPr/>
              <p:nvPr/>
            </p:nvGrpSpPr>
            <p:grpSpPr>
              <a:xfrm>
                <a:off x="3608640" y="76320"/>
                <a:ext cx="940680" cy="1686600"/>
                <a:chOff x="3608640" y="76320"/>
                <a:chExt cx="940680" cy="16866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608640" y="714240"/>
                  <a:ext cx="851040" cy="1048680"/>
                </a:xfrm>
                <a:custGeom>
                  <a:avLst/>
                  <a:gdLst/>
                  <a:ahLst/>
                  <a:rect l="l" t="t" r="r" b="b"/>
                  <a:pathLst>
                    <a:path w="470" h="442">
                      <a:moveTo>
                        <a:pt x="165" y="21"/>
                      </a:moveTo>
                      <a:lnTo>
                        <a:pt x="190" y="6"/>
                      </a:lnTo>
                      <a:lnTo>
                        <a:pt x="226" y="0"/>
                      </a:lnTo>
                      <a:lnTo>
                        <a:pt x="256" y="10"/>
                      </a:lnTo>
                      <a:lnTo>
                        <a:pt x="277" y="28"/>
                      </a:lnTo>
                      <a:lnTo>
                        <a:pt x="301" y="63"/>
                      </a:lnTo>
                      <a:lnTo>
                        <a:pt x="327" y="81"/>
                      </a:lnTo>
                      <a:lnTo>
                        <a:pt x="359" y="99"/>
                      </a:lnTo>
                      <a:lnTo>
                        <a:pt x="410" y="115"/>
                      </a:lnTo>
                      <a:lnTo>
                        <a:pt x="458" y="139"/>
                      </a:lnTo>
                      <a:lnTo>
                        <a:pt x="468" y="156"/>
                      </a:lnTo>
                      <a:lnTo>
                        <a:pt x="470" y="181"/>
                      </a:lnTo>
                      <a:lnTo>
                        <a:pt x="455" y="186"/>
                      </a:lnTo>
                      <a:lnTo>
                        <a:pt x="422" y="183"/>
                      </a:lnTo>
                      <a:lnTo>
                        <a:pt x="345" y="157"/>
                      </a:lnTo>
                      <a:lnTo>
                        <a:pt x="353" y="202"/>
                      </a:lnTo>
                      <a:lnTo>
                        <a:pt x="359" y="262"/>
                      </a:lnTo>
                      <a:lnTo>
                        <a:pt x="359" y="267"/>
                      </a:lnTo>
                      <a:lnTo>
                        <a:pt x="356" y="331"/>
                      </a:lnTo>
                      <a:lnTo>
                        <a:pt x="341" y="382"/>
                      </a:lnTo>
                      <a:lnTo>
                        <a:pt x="323" y="414"/>
                      </a:lnTo>
                      <a:lnTo>
                        <a:pt x="288" y="435"/>
                      </a:lnTo>
                      <a:lnTo>
                        <a:pt x="238" y="439"/>
                      </a:lnTo>
                      <a:lnTo>
                        <a:pt x="234" y="442"/>
                      </a:lnTo>
                      <a:lnTo>
                        <a:pt x="189" y="427"/>
                      </a:lnTo>
                      <a:lnTo>
                        <a:pt x="184" y="429"/>
                      </a:lnTo>
                      <a:lnTo>
                        <a:pt x="160" y="387"/>
                      </a:lnTo>
                      <a:lnTo>
                        <a:pt x="135" y="330"/>
                      </a:lnTo>
                      <a:lnTo>
                        <a:pt x="123" y="258"/>
                      </a:lnTo>
                      <a:lnTo>
                        <a:pt x="87" y="240"/>
                      </a:lnTo>
                      <a:lnTo>
                        <a:pt x="51" y="222"/>
                      </a:lnTo>
                      <a:lnTo>
                        <a:pt x="22" y="201"/>
                      </a:lnTo>
                      <a:lnTo>
                        <a:pt x="4" y="175"/>
                      </a:lnTo>
                      <a:lnTo>
                        <a:pt x="0" y="160"/>
                      </a:lnTo>
                      <a:lnTo>
                        <a:pt x="1" y="139"/>
                      </a:lnTo>
                      <a:lnTo>
                        <a:pt x="19" y="120"/>
                      </a:lnTo>
                      <a:lnTo>
                        <a:pt x="45" y="97"/>
                      </a:lnTo>
                      <a:lnTo>
                        <a:pt x="40" y="100"/>
                      </a:lnTo>
                      <a:lnTo>
                        <a:pt x="45" y="97"/>
                      </a:lnTo>
                      <a:lnTo>
                        <a:pt x="78" y="72"/>
                      </a:lnTo>
                      <a:lnTo>
                        <a:pt x="120" y="39"/>
                      </a:lnTo>
                      <a:lnTo>
                        <a:pt x="16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3733560" y="664920"/>
                  <a:ext cx="815760" cy="1088640"/>
                  <a:chOff x="3733560" y="664920"/>
                  <a:chExt cx="815760" cy="1088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733560" y="664920"/>
                    <a:ext cx="815760" cy="10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459">
                        <a:moveTo>
                          <a:pt x="38" y="41"/>
                        </a:moveTo>
                        <a:lnTo>
                          <a:pt x="101" y="44"/>
                        </a:lnTo>
                        <a:lnTo>
                          <a:pt x="160" y="44"/>
                        </a:lnTo>
                        <a:lnTo>
                          <a:pt x="248" y="28"/>
                        </a:lnTo>
                        <a:lnTo>
                          <a:pt x="316" y="9"/>
                        </a:lnTo>
                        <a:lnTo>
                          <a:pt x="352" y="0"/>
                        </a:lnTo>
                        <a:lnTo>
                          <a:pt x="372" y="0"/>
                        </a:lnTo>
                        <a:lnTo>
                          <a:pt x="385" y="8"/>
                        </a:lnTo>
                        <a:lnTo>
                          <a:pt x="394" y="47"/>
                        </a:lnTo>
                        <a:lnTo>
                          <a:pt x="407" y="144"/>
                        </a:lnTo>
                        <a:lnTo>
                          <a:pt x="409" y="149"/>
                        </a:lnTo>
                        <a:lnTo>
                          <a:pt x="426" y="255"/>
                        </a:lnTo>
                        <a:lnTo>
                          <a:pt x="446" y="372"/>
                        </a:lnTo>
                        <a:lnTo>
                          <a:pt x="451" y="411"/>
                        </a:lnTo>
                        <a:lnTo>
                          <a:pt x="449" y="426"/>
                        </a:lnTo>
                        <a:lnTo>
                          <a:pt x="433" y="440"/>
                        </a:lnTo>
                        <a:lnTo>
                          <a:pt x="427" y="440"/>
                        </a:lnTo>
                        <a:lnTo>
                          <a:pt x="400" y="443"/>
                        </a:lnTo>
                        <a:lnTo>
                          <a:pt x="289" y="438"/>
                        </a:lnTo>
                        <a:lnTo>
                          <a:pt x="284" y="440"/>
                        </a:lnTo>
                        <a:lnTo>
                          <a:pt x="187" y="447"/>
                        </a:lnTo>
                        <a:lnTo>
                          <a:pt x="114" y="456"/>
                        </a:lnTo>
                        <a:lnTo>
                          <a:pt x="61" y="459"/>
                        </a:lnTo>
                        <a:lnTo>
                          <a:pt x="57" y="459"/>
                        </a:lnTo>
                        <a:lnTo>
                          <a:pt x="30" y="454"/>
                        </a:lnTo>
                        <a:lnTo>
                          <a:pt x="22" y="442"/>
                        </a:lnTo>
                        <a:lnTo>
                          <a:pt x="18" y="400"/>
                        </a:lnTo>
                        <a:lnTo>
                          <a:pt x="16" y="313"/>
                        </a:lnTo>
                        <a:lnTo>
                          <a:pt x="10" y="201"/>
                        </a:lnTo>
                        <a:lnTo>
                          <a:pt x="0" y="65"/>
                        </a:lnTo>
                        <a:lnTo>
                          <a:pt x="1" y="47"/>
                        </a:lnTo>
                        <a:lnTo>
                          <a:pt x="16" y="39"/>
                        </a:lnTo>
                        <a:lnTo>
                          <a:pt x="38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776400" y="721080"/>
                    <a:ext cx="723960" cy="9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11">
                        <a:moveTo>
                          <a:pt x="0" y="37"/>
                        </a:moveTo>
                        <a:lnTo>
                          <a:pt x="66" y="38"/>
                        </a:lnTo>
                        <a:lnTo>
                          <a:pt x="138" y="41"/>
                        </a:lnTo>
                        <a:lnTo>
                          <a:pt x="195" y="35"/>
                        </a:lnTo>
                        <a:lnTo>
                          <a:pt x="259" y="20"/>
                        </a:lnTo>
                        <a:lnTo>
                          <a:pt x="324" y="0"/>
                        </a:lnTo>
                        <a:lnTo>
                          <a:pt x="335" y="1"/>
                        </a:lnTo>
                        <a:lnTo>
                          <a:pt x="349" y="10"/>
                        </a:lnTo>
                        <a:lnTo>
                          <a:pt x="360" y="109"/>
                        </a:lnTo>
                        <a:lnTo>
                          <a:pt x="373" y="186"/>
                        </a:lnTo>
                        <a:lnTo>
                          <a:pt x="385" y="261"/>
                        </a:lnTo>
                        <a:lnTo>
                          <a:pt x="400" y="364"/>
                        </a:lnTo>
                        <a:lnTo>
                          <a:pt x="399" y="385"/>
                        </a:lnTo>
                        <a:lnTo>
                          <a:pt x="389" y="394"/>
                        </a:lnTo>
                        <a:lnTo>
                          <a:pt x="354" y="397"/>
                        </a:lnTo>
                        <a:lnTo>
                          <a:pt x="255" y="392"/>
                        </a:lnTo>
                        <a:lnTo>
                          <a:pt x="251" y="393"/>
                        </a:lnTo>
                        <a:lnTo>
                          <a:pt x="185" y="398"/>
                        </a:lnTo>
                        <a:lnTo>
                          <a:pt x="179" y="401"/>
                        </a:lnTo>
                        <a:lnTo>
                          <a:pt x="98" y="408"/>
                        </a:lnTo>
                        <a:lnTo>
                          <a:pt x="37" y="411"/>
                        </a:lnTo>
                        <a:lnTo>
                          <a:pt x="22" y="405"/>
                        </a:lnTo>
                        <a:lnTo>
                          <a:pt x="17" y="404"/>
                        </a:lnTo>
                        <a:lnTo>
                          <a:pt x="13" y="373"/>
                        </a:lnTo>
                        <a:lnTo>
                          <a:pt x="13" y="236"/>
                        </a:lnTo>
                        <a:lnTo>
                          <a:pt x="12" y="154"/>
                        </a:lnTo>
                        <a:lnTo>
                          <a:pt x="1" y="73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3722760" y="1070640"/>
                  <a:ext cx="179280" cy="412560"/>
                </a:xfrm>
                <a:custGeom>
                  <a:avLst/>
                  <a:gdLst/>
                  <a:ahLst/>
                  <a:rect l="l" t="t" r="r" b="b"/>
                  <a:pathLst>
                    <a:path w="99" h="174">
                      <a:moveTo>
                        <a:pt x="7" y="55"/>
                      </a:moveTo>
                      <a:lnTo>
                        <a:pt x="13" y="55"/>
                      </a:lnTo>
                      <a:lnTo>
                        <a:pt x="18" y="51"/>
                      </a:lnTo>
                      <a:lnTo>
                        <a:pt x="22" y="45"/>
                      </a:lnTo>
                      <a:lnTo>
                        <a:pt x="22" y="40"/>
                      </a:lnTo>
                      <a:lnTo>
                        <a:pt x="22" y="36"/>
                      </a:lnTo>
                      <a:lnTo>
                        <a:pt x="21" y="31"/>
                      </a:lnTo>
                      <a:lnTo>
                        <a:pt x="21" y="27"/>
                      </a:lnTo>
                      <a:lnTo>
                        <a:pt x="22" y="22"/>
                      </a:lnTo>
                      <a:lnTo>
                        <a:pt x="27" y="18"/>
                      </a:lnTo>
                      <a:lnTo>
                        <a:pt x="30" y="13"/>
                      </a:lnTo>
                      <a:lnTo>
                        <a:pt x="36" y="9"/>
                      </a:lnTo>
                      <a:lnTo>
                        <a:pt x="40" y="6"/>
                      </a:lnTo>
                      <a:lnTo>
                        <a:pt x="45" y="4"/>
                      </a:lnTo>
                      <a:lnTo>
                        <a:pt x="49" y="1"/>
                      </a:lnTo>
                      <a:lnTo>
                        <a:pt x="55" y="0"/>
                      </a:lnTo>
                      <a:lnTo>
                        <a:pt x="60" y="0"/>
                      </a:lnTo>
                      <a:lnTo>
                        <a:pt x="66" y="1"/>
                      </a:lnTo>
                      <a:lnTo>
                        <a:pt x="70" y="3"/>
                      </a:lnTo>
                      <a:lnTo>
                        <a:pt x="75" y="4"/>
                      </a:lnTo>
                      <a:lnTo>
                        <a:pt x="79" y="6"/>
                      </a:lnTo>
                      <a:lnTo>
                        <a:pt x="82" y="10"/>
                      </a:lnTo>
                      <a:lnTo>
                        <a:pt x="87" y="16"/>
                      </a:lnTo>
                      <a:lnTo>
                        <a:pt x="87" y="21"/>
                      </a:lnTo>
                      <a:lnTo>
                        <a:pt x="87" y="25"/>
                      </a:lnTo>
                      <a:lnTo>
                        <a:pt x="81" y="31"/>
                      </a:lnTo>
                      <a:lnTo>
                        <a:pt x="79" y="37"/>
                      </a:lnTo>
                      <a:lnTo>
                        <a:pt x="75" y="39"/>
                      </a:lnTo>
                      <a:lnTo>
                        <a:pt x="70" y="42"/>
                      </a:lnTo>
                      <a:lnTo>
                        <a:pt x="66" y="45"/>
                      </a:lnTo>
                      <a:lnTo>
                        <a:pt x="61" y="46"/>
                      </a:lnTo>
                      <a:lnTo>
                        <a:pt x="57" y="49"/>
                      </a:lnTo>
                      <a:lnTo>
                        <a:pt x="52" y="52"/>
                      </a:lnTo>
                      <a:lnTo>
                        <a:pt x="52" y="57"/>
                      </a:lnTo>
                      <a:lnTo>
                        <a:pt x="51" y="61"/>
                      </a:lnTo>
                      <a:lnTo>
                        <a:pt x="51" y="66"/>
                      </a:lnTo>
                      <a:lnTo>
                        <a:pt x="51" y="70"/>
                      </a:lnTo>
                      <a:lnTo>
                        <a:pt x="55" y="73"/>
                      </a:lnTo>
                      <a:lnTo>
                        <a:pt x="60" y="75"/>
                      </a:lnTo>
                      <a:lnTo>
                        <a:pt x="64" y="78"/>
                      </a:lnTo>
                      <a:lnTo>
                        <a:pt x="70" y="79"/>
                      </a:lnTo>
                      <a:lnTo>
                        <a:pt x="78" y="84"/>
                      </a:lnTo>
                      <a:lnTo>
                        <a:pt x="84" y="87"/>
                      </a:lnTo>
                      <a:lnTo>
                        <a:pt x="88" y="90"/>
                      </a:lnTo>
                      <a:lnTo>
                        <a:pt x="93" y="96"/>
                      </a:lnTo>
                      <a:lnTo>
                        <a:pt x="97" y="99"/>
                      </a:lnTo>
                      <a:lnTo>
                        <a:pt x="97" y="103"/>
                      </a:lnTo>
                      <a:lnTo>
                        <a:pt x="99" y="109"/>
                      </a:lnTo>
                      <a:lnTo>
                        <a:pt x="99" y="114"/>
                      </a:lnTo>
                      <a:lnTo>
                        <a:pt x="99" y="120"/>
                      </a:lnTo>
                      <a:lnTo>
                        <a:pt x="97" y="124"/>
                      </a:lnTo>
                      <a:lnTo>
                        <a:pt x="97" y="129"/>
                      </a:lnTo>
                      <a:lnTo>
                        <a:pt x="93" y="132"/>
                      </a:lnTo>
                      <a:lnTo>
                        <a:pt x="88" y="133"/>
                      </a:lnTo>
                      <a:lnTo>
                        <a:pt x="82" y="133"/>
                      </a:lnTo>
                      <a:lnTo>
                        <a:pt x="76" y="135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1" y="133"/>
                      </a:lnTo>
                      <a:lnTo>
                        <a:pt x="55" y="130"/>
                      </a:lnTo>
                      <a:lnTo>
                        <a:pt x="51" y="126"/>
                      </a:lnTo>
                      <a:lnTo>
                        <a:pt x="48" y="121"/>
                      </a:lnTo>
                      <a:lnTo>
                        <a:pt x="43" y="123"/>
                      </a:lnTo>
                      <a:lnTo>
                        <a:pt x="40" y="127"/>
                      </a:lnTo>
                      <a:lnTo>
                        <a:pt x="40" y="132"/>
                      </a:lnTo>
                      <a:lnTo>
                        <a:pt x="40" y="136"/>
                      </a:lnTo>
                      <a:lnTo>
                        <a:pt x="43" y="141"/>
                      </a:lnTo>
                      <a:lnTo>
                        <a:pt x="46" y="147"/>
                      </a:lnTo>
                      <a:lnTo>
                        <a:pt x="49" y="151"/>
                      </a:lnTo>
                      <a:lnTo>
                        <a:pt x="49" y="157"/>
                      </a:lnTo>
                      <a:lnTo>
                        <a:pt x="48" y="162"/>
                      </a:lnTo>
                      <a:lnTo>
                        <a:pt x="43" y="168"/>
                      </a:lnTo>
                      <a:lnTo>
                        <a:pt x="39" y="169"/>
                      </a:lnTo>
                      <a:lnTo>
                        <a:pt x="34" y="172"/>
                      </a:lnTo>
                      <a:lnTo>
                        <a:pt x="28" y="174"/>
                      </a:lnTo>
                      <a:lnTo>
                        <a:pt x="24" y="172"/>
                      </a:lnTo>
                      <a:lnTo>
                        <a:pt x="18" y="168"/>
                      </a:lnTo>
                      <a:lnTo>
                        <a:pt x="15" y="163"/>
                      </a:lnTo>
                      <a:lnTo>
                        <a:pt x="10" y="157"/>
                      </a:lnTo>
                      <a:lnTo>
                        <a:pt x="6" y="153"/>
                      </a:lnTo>
                      <a:lnTo>
                        <a:pt x="4" y="147"/>
                      </a:lnTo>
                      <a:lnTo>
                        <a:pt x="4" y="142"/>
                      </a:lnTo>
                      <a:lnTo>
                        <a:pt x="3" y="136"/>
                      </a:lnTo>
                      <a:lnTo>
                        <a:pt x="4" y="132"/>
                      </a:lnTo>
                      <a:lnTo>
                        <a:pt x="4" y="127"/>
                      </a:lnTo>
                      <a:lnTo>
                        <a:pt x="7" y="121"/>
                      </a:lnTo>
                      <a:lnTo>
                        <a:pt x="7" y="117"/>
                      </a:lnTo>
                      <a:lnTo>
                        <a:pt x="7" y="112"/>
                      </a:lnTo>
                      <a:lnTo>
                        <a:pt x="7" y="108"/>
                      </a:lnTo>
                      <a:lnTo>
                        <a:pt x="7" y="103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7" y="90"/>
                      </a:lnTo>
                      <a:lnTo>
                        <a:pt x="0" y="70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329360" y="970560"/>
                  <a:ext cx="186840" cy="337320"/>
                </a:xfrm>
                <a:custGeom>
                  <a:avLst/>
                  <a:gdLst/>
                  <a:ahLst/>
                  <a:rect l="l" t="t" r="r" b="b"/>
                  <a:pathLst>
                    <a:path w="103" h="142">
                      <a:moveTo>
                        <a:pt x="78" y="21"/>
                      </a:moveTo>
                      <a:lnTo>
                        <a:pt x="72" y="19"/>
                      </a:lnTo>
                      <a:lnTo>
                        <a:pt x="66" y="15"/>
                      </a:lnTo>
                      <a:lnTo>
                        <a:pt x="60" y="12"/>
                      </a:lnTo>
                      <a:lnTo>
                        <a:pt x="52" y="7"/>
                      </a:lnTo>
                      <a:lnTo>
                        <a:pt x="46" y="6"/>
                      </a:lnTo>
                      <a:lnTo>
                        <a:pt x="42" y="3"/>
                      </a:lnTo>
                      <a:lnTo>
                        <a:pt x="36" y="1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3" y="7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3" y="25"/>
                      </a:lnTo>
                      <a:lnTo>
                        <a:pt x="6" y="30"/>
                      </a:lnTo>
                      <a:lnTo>
                        <a:pt x="12" y="33"/>
                      </a:lnTo>
                      <a:lnTo>
                        <a:pt x="18" y="36"/>
                      </a:lnTo>
                      <a:lnTo>
                        <a:pt x="22" y="36"/>
                      </a:lnTo>
                      <a:lnTo>
                        <a:pt x="27" y="37"/>
                      </a:lnTo>
                      <a:lnTo>
                        <a:pt x="33" y="39"/>
                      </a:lnTo>
                      <a:lnTo>
                        <a:pt x="39" y="40"/>
                      </a:lnTo>
                      <a:lnTo>
                        <a:pt x="42" y="45"/>
                      </a:lnTo>
                      <a:lnTo>
                        <a:pt x="42" y="49"/>
                      </a:lnTo>
                      <a:lnTo>
                        <a:pt x="40" y="54"/>
                      </a:lnTo>
                      <a:lnTo>
                        <a:pt x="36" y="57"/>
                      </a:lnTo>
                      <a:lnTo>
                        <a:pt x="34" y="61"/>
                      </a:lnTo>
                      <a:lnTo>
                        <a:pt x="30" y="64"/>
                      </a:lnTo>
                      <a:lnTo>
                        <a:pt x="27" y="69"/>
                      </a:lnTo>
                      <a:lnTo>
                        <a:pt x="25" y="73"/>
                      </a:lnTo>
                      <a:lnTo>
                        <a:pt x="22" y="78"/>
                      </a:lnTo>
                      <a:lnTo>
                        <a:pt x="18" y="82"/>
                      </a:lnTo>
                      <a:lnTo>
                        <a:pt x="15" y="87"/>
                      </a:lnTo>
                      <a:lnTo>
                        <a:pt x="13" y="91"/>
                      </a:lnTo>
                      <a:lnTo>
                        <a:pt x="13" y="97"/>
                      </a:lnTo>
                      <a:lnTo>
                        <a:pt x="15" y="102"/>
                      </a:lnTo>
                      <a:lnTo>
                        <a:pt x="18" y="106"/>
                      </a:lnTo>
                      <a:lnTo>
                        <a:pt x="24" y="109"/>
                      </a:lnTo>
                      <a:lnTo>
                        <a:pt x="28" y="108"/>
                      </a:lnTo>
                      <a:lnTo>
                        <a:pt x="33" y="105"/>
                      </a:lnTo>
                      <a:lnTo>
                        <a:pt x="37" y="99"/>
                      </a:lnTo>
                      <a:lnTo>
                        <a:pt x="42" y="96"/>
                      </a:lnTo>
                      <a:lnTo>
                        <a:pt x="48" y="94"/>
                      </a:lnTo>
                      <a:lnTo>
                        <a:pt x="52" y="99"/>
                      </a:lnTo>
                      <a:lnTo>
                        <a:pt x="54" y="103"/>
                      </a:lnTo>
                      <a:lnTo>
                        <a:pt x="54" y="108"/>
                      </a:lnTo>
                      <a:lnTo>
                        <a:pt x="52" y="114"/>
                      </a:lnTo>
                      <a:lnTo>
                        <a:pt x="52" y="118"/>
                      </a:lnTo>
                      <a:lnTo>
                        <a:pt x="51" y="124"/>
                      </a:lnTo>
                      <a:lnTo>
                        <a:pt x="51" y="129"/>
                      </a:lnTo>
                      <a:lnTo>
                        <a:pt x="52" y="133"/>
                      </a:lnTo>
                      <a:lnTo>
                        <a:pt x="55" y="139"/>
                      </a:lnTo>
                      <a:lnTo>
                        <a:pt x="60" y="142"/>
                      </a:lnTo>
                      <a:lnTo>
                        <a:pt x="66" y="142"/>
                      </a:lnTo>
                      <a:lnTo>
                        <a:pt x="72" y="141"/>
                      </a:lnTo>
                      <a:lnTo>
                        <a:pt x="78" y="138"/>
                      </a:lnTo>
                      <a:lnTo>
                        <a:pt x="81" y="133"/>
                      </a:lnTo>
                      <a:lnTo>
                        <a:pt x="84" y="129"/>
                      </a:lnTo>
                      <a:lnTo>
                        <a:pt x="87" y="123"/>
                      </a:lnTo>
                      <a:lnTo>
                        <a:pt x="90" y="118"/>
                      </a:lnTo>
                      <a:lnTo>
                        <a:pt x="90" y="114"/>
                      </a:lnTo>
                      <a:lnTo>
                        <a:pt x="91" y="108"/>
                      </a:lnTo>
                      <a:lnTo>
                        <a:pt x="93" y="103"/>
                      </a:lnTo>
                      <a:lnTo>
                        <a:pt x="94" y="99"/>
                      </a:lnTo>
                      <a:lnTo>
                        <a:pt x="96" y="94"/>
                      </a:lnTo>
                      <a:lnTo>
                        <a:pt x="100" y="90"/>
                      </a:lnTo>
                      <a:lnTo>
                        <a:pt x="102" y="84"/>
                      </a:lnTo>
                      <a:lnTo>
                        <a:pt x="103" y="79"/>
                      </a:lnTo>
                      <a:lnTo>
                        <a:pt x="103" y="75"/>
                      </a:lnTo>
                      <a:lnTo>
                        <a:pt x="103" y="70"/>
                      </a:lnTo>
                      <a:lnTo>
                        <a:pt x="102" y="66"/>
                      </a:lnTo>
                      <a:lnTo>
                        <a:pt x="99" y="61"/>
                      </a:lnTo>
                      <a:lnTo>
                        <a:pt x="99" y="57"/>
                      </a:lnTo>
                      <a:lnTo>
                        <a:pt x="96" y="52"/>
                      </a:lnTo>
                      <a:lnTo>
                        <a:pt x="96" y="48"/>
                      </a:lnTo>
                      <a:lnTo>
                        <a:pt x="96" y="42"/>
                      </a:lnTo>
                      <a:lnTo>
                        <a:pt x="96" y="37"/>
                      </a:lnTo>
                      <a:lnTo>
                        <a:pt x="91" y="34"/>
                      </a:lnTo>
                      <a:lnTo>
                        <a:pt x="90" y="30"/>
                      </a:lnTo>
                      <a:lnTo>
                        <a:pt x="87" y="25"/>
                      </a:lnTo>
                      <a:lnTo>
                        <a:pt x="78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76320"/>
                  <a:ext cx="490680" cy="597600"/>
                </a:xfrm>
                <a:custGeom>
                  <a:avLst/>
                  <a:gdLst/>
                  <a:ahLst/>
                  <a:rect l="l" t="t" r="r" b="b"/>
                  <a:pathLst>
                    <a:path w="271" h="252">
                      <a:moveTo>
                        <a:pt x="194" y="105"/>
                      </a:moveTo>
                      <a:lnTo>
                        <a:pt x="177" y="69"/>
                      </a:lnTo>
                      <a:lnTo>
                        <a:pt x="156" y="40"/>
                      </a:lnTo>
                      <a:lnTo>
                        <a:pt x="132" y="18"/>
                      </a:lnTo>
                      <a:lnTo>
                        <a:pt x="111" y="4"/>
                      </a:lnTo>
                      <a:lnTo>
                        <a:pt x="90" y="0"/>
                      </a:lnTo>
                      <a:lnTo>
                        <a:pt x="63" y="0"/>
                      </a:lnTo>
                      <a:lnTo>
                        <a:pt x="41" y="10"/>
                      </a:lnTo>
                      <a:lnTo>
                        <a:pt x="15" y="34"/>
                      </a:lnTo>
                      <a:lnTo>
                        <a:pt x="3" y="57"/>
                      </a:lnTo>
                      <a:lnTo>
                        <a:pt x="0" y="85"/>
                      </a:lnTo>
                      <a:lnTo>
                        <a:pt x="0" y="124"/>
                      </a:lnTo>
                      <a:lnTo>
                        <a:pt x="8" y="157"/>
                      </a:lnTo>
                      <a:lnTo>
                        <a:pt x="15" y="186"/>
                      </a:lnTo>
                      <a:lnTo>
                        <a:pt x="29" y="207"/>
                      </a:lnTo>
                      <a:lnTo>
                        <a:pt x="45" y="225"/>
                      </a:lnTo>
                      <a:lnTo>
                        <a:pt x="72" y="243"/>
                      </a:lnTo>
                      <a:lnTo>
                        <a:pt x="95" y="250"/>
                      </a:lnTo>
                      <a:lnTo>
                        <a:pt x="120" y="252"/>
                      </a:lnTo>
                      <a:lnTo>
                        <a:pt x="144" y="246"/>
                      </a:lnTo>
                      <a:lnTo>
                        <a:pt x="164" y="240"/>
                      </a:lnTo>
                      <a:lnTo>
                        <a:pt x="182" y="219"/>
                      </a:lnTo>
                      <a:lnTo>
                        <a:pt x="189" y="190"/>
                      </a:lnTo>
                      <a:lnTo>
                        <a:pt x="194" y="159"/>
                      </a:lnTo>
                      <a:lnTo>
                        <a:pt x="200" y="142"/>
                      </a:lnTo>
                      <a:lnTo>
                        <a:pt x="222" y="138"/>
                      </a:lnTo>
                      <a:lnTo>
                        <a:pt x="254" y="139"/>
                      </a:lnTo>
                      <a:lnTo>
                        <a:pt x="271" y="132"/>
                      </a:lnTo>
                      <a:lnTo>
                        <a:pt x="271" y="118"/>
                      </a:lnTo>
                      <a:lnTo>
                        <a:pt x="262" y="103"/>
                      </a:lnTo>
                      <a:lnTo>
                        <a:pt x="246" y="99"/>
                      </a:lnTo>
                      <a:lnTo>
                        <a:pt x="222" y="99"/>
                      </a:lnTo>
                      <a:lnTo>
                        <a:pt x="19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024800" y="906480"/>
                  <a:ext cx="197280" cy="610200"/>
                </a:xfrm>
                <a:custGeom>
                  <a:avLst/>
                  <a:gdLst/>
                  <a:ahLst/>
                  <a:rect l="l" t="t" r="r" b="b"/>
                  <a:pathLst>
                    <a:path w="109" h="257">
                      <a:moveTo>
                        <a:pt x="0" y="53"/>
                      </a:moveTo>
                      <a:lnTo>
                        <a:pt x="24" y="37"/>
                      </a:lnTo>
                      <a:lnTo>
                        <a:pt x="39" y="23"/>
                      </a:lnTo>
                      <a:lnTo>
                        <a:pt x="47" y="10"/>
                      </a:lnTo>
                      <a:lnTo>
                        <a:pt x="53" y="0"/>
                      </a:lnTo>
                      <a:lnTo>
                        <a:pt x="109" y="5"/>
                      </a:lnTo>
                      <a:lnTo>
                        <a:pt x="102" y="257"/>
                      </a:lnTo>
                      <a:lnTo>
                        <a:pt x="31" y="252"/>
                      </a:lnTo>
                      <a:lnTo>
                        <a:pt x="38" y="86"/>
                      </a:lnTo>
                      <a:lnTo>
                        <a:pt x="19" y="97"/>
                      </a:lnTo>
                      <a:lnTo>
                        <a:pt x="7" y="104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"/>
            <p:cNvSpPr txBox="1"/>
            <p:nvPr/>
          </p:nvSpPr>
          <p:spPr>
            <a:xfrm rot="21073800">
              <a:off x="685440" y="1676160"/>
              <a:ext cx="2952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نقطة التحول الحقيقي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 rot="21073800">
              <a:off x="880920" y="2349360"/>
              <a:ext cx="4097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إيقاظ مبدأ القوة لديك</a:t>
              </a:r>
              <a:endParaRPr b="0" lang="en-US" sz="4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85800" y="38322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حقيقة :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ما من إمكانية موجودة في إنسان ما غير موجودة فينا جميعاً فالقوة كامنة  لدى كل شخص وبحاجة إلى تحفيز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877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  <a:ea typeface="Monotype Koufi"/>
              </a:rPr>
              <a:t>.</a:t>
            </a:r>
            <a:r>
              <a:rPr b="1" lang="hi-IN" sz="4000" spc="-1" strike="noStrike">
                <a:solidFill>
                  <a:srgbClr val="003399"/>
                </a:solidFill>
                <a:latin typeface="Times New Roman"/>
                <a:cs typeface="Monotype Koufi"/>
              </a:rPr>
              <a:t>والآن يمكن تحقيق ما تشاء فقط اخت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352680" y="1447920"/>
            <a:ext cx="20574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9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625760" y="76320"/>
            <a:ext cx="5613120" cy="58672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 rot="18822000">
            <a:off x="976320" y="1051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النجاح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7" name=""/>
          <p:cNvSpPr txBox="1"/>
          <p:nvPr/>
        </p:nvSpPr>
        <p:spPr>
          <a:xfrm rot="2931600">
            <a:off x="6158160" y="105228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Koufi"/>
              </a:rPr>
              <a:t>ثلاث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428" name=""/>
          <p:cNvSpPr txBox="1"/>
          <p:nvPr/>
        </p:nvSpPr>
        <p:spPr>
          <a:xfrm rot="3435600">
            <a:off x="5015160" y="1766880"/>
            <a:ext cx="200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Koufi"/>
              </a:rPr>
              <a:t> </a:t>
            </a: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Koufi"/>
              </a:rPr>
              <a:t>فكر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29" name=""/>
          <p:cNvSpPr txBox="1"/>
          <p:nvPr/>
        </p:nvSpPr>
        <p:spPr>
          <a:xfrm rot="16909200">
            <a:off x="1511280" y="2499840"/>
            <a:ext cx="20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Koufi"/>
              </a:rPr>
              <a:t>اعتقاد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0" name=""/>
          <p:cNvSpPr txBox="1"/>
          <p:nvPr/>
        </p:nvSpPr>
        <p:spPr>
          <a:xfrm rot="20487600">
            <a:off x="3885840" y="464796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Koufi"/>
              </a:rPr>
              <a:t>بدا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37960" y="5962680"/>
            <a:ext cx="862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تكون الشخصية بالتفكير وليس بمجرد المعرفة والمعلومات</a:t>
            </a:r>
            <a:endParaRPr b="0" lang="en-US" sz="32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52280" y="19080"/>
            <a:ext cx="4917600" cy="3123360"/>
            <a:chOff x="152280" y="19080"/>
            <a:chExt cx="4917600" cy="3123360"/>
          </a:xfrm>
        </p:grpSpPr>
        <p:grpSp>
          <p:nvGrpSpPr>
            <p:cNvPr id="100" name=""/>
            <p:cNvGrpSpPr/>
            <p:nvPr/>
          </p:nvGrpSpPr>
          <p:grpSpPr>
            <a:xfrm>
              <a:off x="152280" y="969840"/>
              <a:ext cx="4917600" cy="2172600"/>
              <a:chOff x="152280" y="969840"/>
              <a:chExt cx="4917600" cy="2172600"/>
            </a:xfrm>
          </p:grpSpPr>
          <p:sp>
            <p:nvSpPr>
              <p:cNvPr id="101" name=""/>
              <p:cNvSpPr/>
              <p:nvPr/>
            </p:nvSpPr>
            <p:spPr>
              <a:xfrm>
                <a:off x="172800" y="1006200"/>
                <a:ext cx="4870080" cy="20998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152280" y="969840"/>
                <a:ext cx="4917600" cy="2172600"/>
                <a:chOff x="152280" y="969840"/>
                <a:chExt cx="4917600" cy="21726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52280" y="969840"/>
                  <a:ext cx="4917600" cy="181476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4240" y="1493640"/>
                  <a:ext cx="4518720" cy="16488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3259080" y="19080"/>
              <a:ext cx="931320" cy="1372320"/>
              <a:chOff x="3259080" y="19080"/>
              <a:chExt cx="931320" cy="1372320"/>
            </a:xfrm>
          </p:grpSpPr>
          <p:sp>
            <p:nvSpPr>
              <p:cNvPr id="106" name=""/>
              <p:cNvSpPr/>
              <p:nvPr/>
            </p:nvSpPr>
            <p:spPr>
              <a:xfrm>
                <a:off x="3259080" y="19080"/>
                <a:ext cx="508680" cy="49428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56440" y="515160"/>
                <a:ext cx="298800" cy="169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386520" y="494640"/>
                <a:ext cx="803880" cy="896760"/>
                <a:chOff x="3386520" y="494640"/>
                <a:chExt cx="803880" cy="896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386520" y="494640"/>
                  <a:ext cx="803880" cy="8967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425760" y="541440"/>
                  <a:ext cx="716760" cy="80208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3848760" y="473760"/>
                <a:ext cx="321120" cy="18684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9600" y="587160"/>
                <a:ext cx="338760" cy="60804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18360" y="726840"/>
                <a:ext cx="366120" cy="48528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 rot="21098400">
              <a:off x="1828440" y="1998720"/>
              <a:ext cx="2085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الاستعداد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010120" y="762120"/>
            <a:ext cx="380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تذكر أن 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الوراثة لا تحدد موقعك في 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وأنك لست مجبراً على البقاء في الد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فقــــــــ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ن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191120"/>
            <a:ext cx="13716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نعدام الثق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5029200"/>
            <a:ext cx="24382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غياب الصحة الجس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86360" y="5867280"/>
            <a:ext cx="17528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سن أو الجن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600" y="5105520"/>
            <a:ext cx="4419720" cy="1371600"/>
            <a:chOff x="228600" y="5105520"/>
            <a:chExt cx="4419720" cy="1371600"/>
          </a:xfrm>
        </p:grpSpPr>
        <p:sp>
          <p:nvSpPr>
            <p:cNvPr id="122" name=""/>
            <p:cNvSpPr txBox="1"/>
            <p:nvPr/>
          </p:nvSpPr>
          <p:spPr>
            <a:xfrm>
              <a:off x="1066680" y="5105520"/>
              <a:ext cx="2791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هذه جميعاً ليست عوائق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228600" y="5791320"/>
              <a:ext cx="4419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المهم أن يكون لديك الاستعداد لتعمل شيئاً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52280" y="76320"/>
            <a:ext cx="4267440" cy="2770560"/>
            <a:chOff x="152280" y="76320"/>
            <a:chExt cx="4267440" cy="2770560"/>
          </a:xfrm>
        </p:grpSpPr>
        <p:grpSp>
          <p:nvGrpSpPr>
            <p:cNvPr id="125" name=""/>
            <p:cNvGrpSpPr/>
            <p:nvPr/>
          </p:nvGrpSpPr>
          <p:grpSpPr>
            <a:xfrm>
              <a:off x="152280" y="942840"/>
              <a:ext cx="4267440" cy="1904040"/>
              <a:chOff x="152280" y="942840"/>
              <a:chExt cx="4267440" cy="1904040"/>
            </a:xfrm>
          </p:grpSpPr>
          <p:sp>
            <p:nvSpPr>
              <p:cNvPr id="126" name=""/>
              <p:cNvSpPr/>
              <p:nvPr/>
            </p:nvSpPr>
            <p:spPr>
              <a:xfrm>
                <a:off x="169920" y="974520"/>
                <a:ext cx="4225680" cy="18406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942840"/>
                <a:ext cx="4267440" cy="1904040"/>
                <a:chOff x="152280" y="942840"/>
                <a:chExt cx="4267440" cy="1904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52280" y="942840"/>
                  <a:ext cx="4267440" cy="159084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83480" y="1401840"/>
                  <a:ext cx="3920760" cy="144504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2413080" y="76320"/>
              <a:ext cx="939240" cy="1285560"/>
              <a:chOff x="2413080" y="76320"/>
              <a:chExt cx="939240" cy="1285560"/>
            </a:xfrm>
          </p:grpSpPr>
          <p:sp>
            <p:nvSpPr>
              <p:cNvPr id="131" name=""/>
              <p:cNvSpPr/>
              <p:nvPr/>
            </p:nvSpPr>
            <p:spPr>
              <a:xfrm>
                <a:off x="2699280" y="76320"/>
                <a:ext cx="480240" cy="44784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13080" y="652680"/>
                <a:ext cx="393480" cy="70920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11040" y="637920"/>
                <a:ext cx="341280" cy="6440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2572560" y="542160"/>
                <a:ext cx="654480" cy="792720"/>
                <a:chOff x="2572560" y="542160"/>
                <a:chExt cx="654480" cy="79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572560" y="542160"/>
                  <a:ext cx="654480" cy="79272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600280" y="579600"/>
                  <a:ext cx="590400" cy="71100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2542680" y="110052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94560" y="988560"/>
                <a:ext cx="183600" cy="3002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48600" y="663120"/>
                <a:ext cx="311760" cy="46404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 txBox="1"/>
            <p:nvPr/>
          </p:nvSpPr>
          <p:spPr>
            <a:xfrm rot="21063600">
              <a:off x="730080" y="1828440"/>
              <a:ext cx="3534120" cy="67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onotype Koufi"/>
                </a:rPr>
                <a:t>استخدم قدراتك بطريقة عظيمة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0" y="278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حكمة الكافية        " للتمييز بين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148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إرادة الجيدة         " لتحقيق الرغبة في أداء الأشياء الصحيحة فقط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86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متلك القوة الكافية          " لتنفيذ الأشياء الصحيحة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5638680"/>
            <a:ext cx="7467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كن انهزامياً عند كل خطأ وجباناً عن فعل أي قبيح 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87920" y="4767120"/>
            <a:ext cx="1755360" cy="1823400"/>
            <a:chOff x="7387920" y="4767120"/>
            <a:chExt cx="1755360" cy="1823400"/>
          </a:xfrm>
        </p:grpSpPr>
        <p:grpSp>
          <p:nvGrpSpPr>
            <p:cNvPr id="146" name=""/>
            <p:cNvGrpSpPr/>
            <p:nvPr/>
          </p:nvGrpSpPr>
          <p:grpSpPr>
            <a:xfrm>
              <a:off x="7387920" y="4767120"/>
              <a:ext cx="1755360" cy="1823400"/>
              <a:chOff x="7387920" y="4767120"/>
              <a:chExt cx="1755360" cy="1823400"/>
            </a:xfrm>
          </p:grpSpPr>
          <p:sp>
            <p:nvSpPr>
              <p:cNvPr id="147" name=""/>
              <p:cNvSpPr/>
              <p:nvPr/>
            </p:nvSpPr>
            <p:spPr>
              <a:xfrm>
                <a:off x="7819920" y="51436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8080200" y="6221880"/>
                <a:ext cx="432000" cy="368640"/>
                <a:chOff x="8080200" y="6221880"/>
                <a:chExt cx="432000" cy="368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50760" y="6539760"/>
                  <a:ext cx="286920" cy="5076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80200" y="622188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080200" y="625500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080200" y="632232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080200" y="63896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80200" y="645732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387920" y="4767120"/>
                <a:ext cx="1755360" cy="1180440"/>
                <a:chOff x="7387920" y="4767120"/>
                <a:chExt cx="1755360" cy="118044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8552520" y="49114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8479800" y="49572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8374320" y="478908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271360" y="492624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135640" y="47671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8039520" y="4962240"/>
                  <a:ext cx="30600" cy="120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flipV="1">
                  <a:off x="7850880" y="48729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7822080" y="51033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7582320" y="511776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7632360" y="52837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7437600" y="535140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7573320" y="550008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7387920" y="559476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7592760" y="571032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7407000" y="579384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7739280" y="589104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8703720" y="50702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8772120" y="5239800"/>
                  <a:ext cx="116640" cy="65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8791200" y="530460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8812440" y="54536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8812440" y="554904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812440" y="56678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743680" y="575388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86440" y="584712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8644320" y="50814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 txBox="1"/>
            <p:nvPr/>
          </p:nvSpPr>
          <p:spPr>
            <a:xfrm>
              <a:off x="7867800" y="5295960"/>
              <a:ext cx="7333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4799160" y="239760"/>
            <a:ext cx="3985920" cy="3951360"/>
            <a:chOff x="4799160" y="239760"/>
            <a:chExt cx="3985920" cy="3951360"/>
          </a:xfrm>
        </p:grpSpPr>
        <p:sp>
          <p:nvSpPr>
            <p:cNvPr id="183" name=""/>
            <p:cNvSpPr/>
            <p:nvPr/>
          </p:nvSpPr>
          <p:spPr>
            <a:xfrm>
              <a:off x="5981760" y="1501920"/>
              <a:ext cx="2773440" cy="2654280"/>
            </a:xfrm>
            <a:custGeom>
              <a:avLst/>
              <a:gdLst/>
              <a:ahLst/>
              <a:rect l="l" t="t" r="r" b="b"/>
              <a:pathLst>
                <a:path w="1747" h="1672">
                  <a:moveTo>
                    <a:pt x="46" y="256"/>
                  </a:moveTo>
                  <a:lnTo>
                    <a:pt x="268" y="147"/>
                  </a:lnTo>
                  <a:lnTo>
                    <a:pt x="411" y="91"/>
                  </a:lnTo>
                  <a:lnTo>
                    <a:pt x="543" y="49"/>
                  </a:lnTo>
                  <a:lnTo>
                    <a:pt x="652" y="0"/>
                  </a:lnTo>
                  <a:lnTo>
                    <a:pt x="689" y="8"/>
                  </a:lnTo>
                  <a:lnTo>
                    <a:pt x="808" y="98"/>
                  </a:lnTo>
                  <a:lnTo>
                    <a:pt x="1000" y="226"/>
                  </a:lnTo>
                  <a:lnTo>
                    <a:pt x="1143" y="316"/>
                  </a:lnTo>
                  <a:lnTo>
                    <a:pt x="1294" y="384"/>
                  </a:lnTo>
                  <a:lnTo>
                    <a:pt x="1520" y="490"/>
                  </a:lnTo>
                  <a:lnTo>
                    <a:pt x="1747" y="595"/>
                  </a:lnTo>
                  <a:lnTo>
                    <a:pt x="1736" y="599"/>
                  </a:lnTo>
                  <a:lnTo>
                    <a:pt x="1728" y="644"/>
                  </a:lnTo>
                  <a:lnTo>
                    <a:pt x="1706" y="717"/>
                  </a:lnTo>
                  <a:lnTo>
                    <a:pt x="1691" y="1033"/>
                  </a:lnTo>
                  <a:lnTo>
                    <a:pt x="1702" y="1154"/>
                  </a:lnTo>
                  <a:lnTo>
                    <a:pt x="1706" y="1316"/>
                  </a:lnTo>
                  <a:lnTo>
                    <a:pt x="1695" y="1372"/>
                  </a:lnTo>
                  <a:lnTo>
                    <a:pt x="1595" y="1417"/>
                  </a:lnTo>
                  <a:lnTo>
                    <a:pt x="1459" y="1455"/>
                  </a:lnTo>
                  <a:lnTo>
                    <a:pt x="1305" y="1500"/>
                  </a:lnTo>
                  <a:lnTo>
                    <a:pt x="1120" y="1600"/>
                  </a:lnTo>
                  <a:lnTo>
                    <a:pt x="1004" y="1672"/>
                  </a:lnTo>
                  <a:lnTo>
                    <a:pt x="970" y="1638"/>
                  </a:lnTo>
                  <a:lnTo>
                    <a:pt x="857" y="1544"/>
                  </a:lnTo>
                  <a:lnTo>
                    <a:pt x="693" y="1414"/>
                  </a:lnTo>
                  <a:lnTo>
                    <a:pt x="509" y="1289"/>
                  </a:lnTo>
                  <a:lnTo>
                    <a:pt x="332" y="1165"/>
                  </a:lnTo>
                  <a:lnTo>
                    <a:pt x="241" y="1094"/>
                  </a:lnTo>
                  <a:lnTo>
                    <a:pt x="76" y="977"/>
                  </a:lnTo>
                  <a:lnTo>
                    <a:pt x="0" y="913"/>
                  </a:lnTo>
                  <a:lnTo>
                    <a:pt x="16" y="666"/>
                  </a:lnTo>
                  <a:lnTo>
                    <a:pt x="19" y="448"/>
                  </a:lnTo>
                  <a:lnTo>
                    <a:pt x="27" y="373"/>
                  </a:lnTo>
                  <a:lnTo>
                    <a:pt x="46" y="25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81640" y="2212920"/>
              <a:ext cx="1257480" cy="792360"/>
            </a:xfrm>
            <a:custGeom>
              <a:avLst/>
              <a:gdLst/>
              <a:ahLst/>
              <a:rect l="l" t="t" r="r" b="b"/>
              <a:pathLst>
                <a:path w="792" h="499">
                  <a:moveTo>
                    <a:pt x="0" y="0"/>
                  </a:moveTo>
                  <a:lnTo>
                    <a:pt x="158" y="91"/>
                  </a:lnTo>
                  <a:lnTo>
                    <a:pt x="299" y="179"/>
                  </a:lnTo>
                  <a:lnTo>
                    <a:pt x="483" y="288"/>
                  </a:lnTo>
                  <a:lnTo>
                    <a:pt x="679" y="401"/>
                  </a:lnTo>
                  <a:lnTo>
                    <a:pt x="792" y="473"/>
                  </a:lnTo>
                  <a:lnTo>
                    <a:pt x="781" y="499"/>
                  </a:lnTo>
                  <a:lnTo>
                    <a:pt x="751" y="495"/>
                  </a:lnTo>
                  <a:lnTo>
                    <a:pt x="630" y="409"/>
                  </a:lnTo>
                  <a:lnTo>
                    <a:pt x="438" y="299"/>
                  </a:lnTo>
                  <a:lnTo>
                    <a:pt x="241" y="171"/>
                  </a:lnTo>
                  <a:lnTo>
                    <a:pt x="67" y="64"/>
                  </a:lnTo>
                  <a:lnTo>
                    <a:pt x="5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0000" y="2575080"/>
              <a:ext cx="938520" cy="365040"/>
            </a:xfrm>
            <a:custGeom>
              <a:avLst/>
              <a:gdLst/>
              <a:ahLst/>
              <a:rect l="l" t="t" r="r" b="b"/>
              <a:pathLst>
                <a:path w="591" h="230">
                  <a:moveTo>
                    <a:pt x="7" y="196"/>
                  </a:moveTo>
                  <a:lnTo>
                    <a:pt x="237" y="113"/>
                  </a:lnTo>
                  <a:lnTo>
                    <a:pt x="421" y="49"/>
                  </a:lnTo>
                  <a:lnTo>
                    <a:pt x="591" y="0"/>
                  </a:lnTo>
                  <a:lnTo>
                    <a:pt x="583" y="22"/>
                  </a:lnTo>
                  <a:lnTo>
                    <a:pt x="497" y="60"/>
                  </a:lnTo>
                  <a:lnTo>
                    <a:pt x="482" y="56"/>
                  </a:lnTo>
                  <a:lnTo>
                    <a:pt x="218" y="150"/>
                  </a:lnTo>
                  <a:lnTo>
                    <a:pt x="207" y="150"/>
                  </a:lnTo>
                  <a:lnTo>
                    <a:pt x="22" y="230"/>
                  </a:lnTo>
                  <a:lnTo>
                    <a:pt x="0" y="211"/>
                  </a:lnTo>
                  <a:lnTo>
                    <a:pt x="7" y="196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01120" y="3089160"/>
              <a:ext cx="334800" cy="355680"/>
            </a:xfrm>
            <a:custGeom>
              <a:avLst/>
              <a:gdLst/>
              <a:ahLst/>
              <a:rect l="l" t="t" r="r" b="b"/>
              <a:pathLst>
                <a:path w="211" h="224">
                  <a:moveTo>
                    <a:pt x="0" y="0"/>
                  </a:moveTo>
                  <a:lnTo>
                    <a:pt x="90" y="69"/>
                  </a:lnTo>
                  <a:lnTo>
                    <a:pt x="177" y="163"/>
                  </a:lnTo>
                  <a:lnTo>
                    <a:pt x="211" y="201"/>
                  </a:lnTo>
                  <a:lnTo>
                    <a:pt x="196" y="224"/>
                  </a:lnTo>
                  <a:lnTo>
                    <a:pt x="105" y="137"/>
                  </a:lnTo>
                  <a:lnTo>
                    <a:pt x="4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59840" y="2867040"/>
              <a:ext cx="298440" cy="574560"/>
            </a:xfrm>
            <a:custGeom>
              <a:avLst/>
              <a:gdLst/>
              <a:ahLst/>
              <a:rect l="l" t="t" r="r" b="b"/>
              <a:pathLst>
                <a:path w="188" h="362">
                  <a:moveTo>
                    <a:pt x="64" y="200"/>
                  </a:moveTo>
                  <a:lnTo>
                    <a:pt x="11" y="283"/>
                  </a:lnTo>
                  <a:lnTo>
                    <a:pt x="0" y="271"/>
                  </a:lnTo>
                  <a:lnTo>
                    <a:pt x="7" y="237"/>
                  </a:lnTo>
                  <a:lnTo>
                    <a:pt x="60" y="155"/>
                  </a:lnTo>
                  <a:lnTo>
                    <a:pt x="120" y="79"/>
                  </a:lnTo>
                  <a:lnTo>
                    <a:pt x="173" y="0"/>
                  </a:lnTo>
                  <a:lnTo>
                    <a:pt x="181" y="23"/>
                  </a:lnTo>
                  <a:lnTo>
                    <a:pt x="139" y="94"/>
                  </a:lnTo>
                  <a:lnTo>
                    <a:pt x="83" y="170"/>
                  </a:lnTo>
                  <a:lnTo>
                    <a:pt x="128" y="230"/>
                  </a:lnTo>
                  <a:lnTo>
                    <a:pt x="169" y="301"/>
                  </a:lnTo>
                  <a:lnTo>
                    <a:pt x="188" y="362"/>
                  </a:lnTo>
                  <a:lnTo>
                    <a:pt x="132" y="286"/>
                  </a:lnTo>
                  <a:lnTo>
                    <a:pt x="90" y="222"/>
                  </a:lnTo>
                  <a:lnTo>
                    <a:pt x="64" y="20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77000" y="3354480"/>
              <a:ext cx="209880" cy="477720"/>
            </a:xfrm>
            <a:custGeom>
              <a:avLst/>
              <a:gdLst/>
              <a:ahLst/>
              <a:rect l="l" t="t" r="r" b="b"/>
              <a:pathLst>
                <a:path w="132" h="301">
                  <a:moveTo>
                    <a:pt x="116" y="0"/>
                  </a:moveTo>
                  <a:lnTo>
                    <a:pt x="132" y="19"/>
                  </a:lnTo>
                  <a:lnTo>
                    <a:pt x="64" y="166"/>
                  </a:lnTo>
                  <a:lnTo>
                    <a:pt x="19" y="301"/>
                  </a:lnTo>
                  <a:lnTo>
                    <a:pt x="0" y="301"/>
                  </a:lnTo>
                  <a:lnTo>
                    <a:pt x="0" y="279"/>
                  </a:lnTo>
                  <a:lnTo>
                    <a:pt x="45" y="151"/>
                  </a:lnTo>
                  <a:lnTo>
                    <a:pt x="98" y="49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0440" y="3089160"/>
              <a:ext cx="88920" cy="863640"/>
            </a:xfrm>
            <a:custGeom>
              <a:avLst/>
              <a:gdLst/>
              <a:ahLst/>
              <a:rect l="l" t="t" r="r" b="b"/>
              <a:pathLst>
                <a:path w="56" h="544">
                  <a:moveTo>
                    <a:pt x="41" y="0"/>
                  </a:moveTo>
                  <a:lnTo>
                    <a:pt x="56" y="11"/>
                  </a:lnTo>
                  <a:lnTo>
                    <a:pt x="41" y="124"/>
                  </a:lnTo>
                  <a:lnTo>
                    <a:pt x="41" y="135"/>
                  </a:lnTo>
                  <a:lnTo>
                    <a:pt x="30" y="337"/>
                  </a:lnTo>
                  <a:lnTo>
                    <a:pt x="33" y="525"/>
                  </a:lnTo>
                  <a:lnTo>
                    <a:pt x="22" y="544"/>
                  </a:lnTo>
                  <a:lnTo>
                    <a:pt x="0" y="532"/>
                  </a:lnTo>
                  <a:lnTo>
                    <a:pt x="0" y="412"/>
                  </a:lnTo>
                  <a:lnTo>
                    <a:pt x="11" y="205"/>
                  </a:lnTo>
                  <a:lnTo>
                    <a:pt x="22" y="4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58000" y="1467000"/>
              <a:ext cx="2827080" cy="2724120"/>
            </a:xfrm>
            <a:custGeom>
              <a:avLst/>
              <a:gdLst/>
              <a:ahLst/>
              <a:rect l="l" t="t" r="r" b="b"/>
              <a:pathLst>
                <a:path w="1781" h="1716">
                  <a:moveTo>
                    <a:pt x="38" y="369"/>
                  </a:moveTo>
                  <a:lnTo>
                    <a:pt x="53" y="380"/>
                  </a:lnTo>
                  <a:lnTo>
                    <a:pt x="46" y="666"/>
                  </a:lnTo>
                  <a:lnTo>
                    <a:pt x="42" y="677"/>
                  </a:lnTo>
                  <a:lnTo>
                    <a:pt x="53" y="943"/>
                  </a:lnTo>
                  <a:lnTo>
                    <a:pt x="83" y="973"/>
                  </a:lnTo>
                  <a:lnTo>
                    <a:pt x="189" y="1059"/>
                  </a:lnTo>
                  <a:lnTo>
                    <a:pt x="313" y="1135"/>
                  </a:lnTo>
                  <a:lnTo>
                    <a:pt x="392" y="1199"/>
                  </a:lnTo>
                  <a:lnTo>
                    <a:pt x="511" y="1289"/>
                  </a:lnTo>
                  <a:lnTo>
                    <a:pt x="623" y="1368"/>
                  </a:lnTo>
                  <a:lnTo>
                    <a:pt x="789" y="1477"/>
                  </a:lnTo>
                  <a:lnTo>
                    <a:pt x="928" y="1577"/>
                  </a:lnTo>
                  <a:lnTo>
                    <a:pt x="989" y="1637"/>
                  </a:lnTo>
                  <a:lnTo>
                    <a:pt x="1019" y="1663"/>
                  </a:lnTo>
                  <a:lnTo>
                    <a:pt x="1053" y="1660"/>
                  </a:lnTo>
                  <a:lnTo>
                    <a:pt x="1132" y="1611"/>
                  </a:lnTo>
                  <a:lnTo>
                    <a:pt x="1256" y="1545"/>
                  </a:lnTo>
                  <a:lnTo>
                    <a:pt x="1337" y="1496"/>
                  </a:lnTo>
                  <a:lnTo>
                    <a:pt x="1408" y="1473"/>
                  </a:lnTo>
                  <a:lnTo>
                    <a:pt x="1510" y="1455"/>
                  </a:lnTo>
                  <a:lnTo>
                    <a:pt x="1567" y="1436"/>
                  </a:lnTo>
                  <a:lnTo>
                    <a:pt x="1653" y="1406"/>
                  </a:lnTo>
                  <a:lnTo>
                    <a:pt x="1698" y="1379"/>
                  </a:lnTo>
                  <a:lnTo>
                    <a:pt x="1713" y="1289"/>
                  </a:lnTo>
                  <a:lnTo>
                    <a:pt x="1706" y="1202"/>
                  </a:lnTo>
                  <a:lnTo>
                    <a:pt x="1695" y="1071"/>
                  </a:lnTo>
                  <a:lnTo>
                    <a:pt x="1695" y="943"/>
                  </a:lnTo>
                  <a:lnTo>
                    <a:pt x="1698" y="833"/>
                  </a:lnTo>
                  <a:lnTo>
                    <a:pt x="1698" y="736"/>
                  </a:lnTo>
                  <a:lnTo>
                    <a:pt x="1721" y="670"/>
                  </a:lnTo>
                  <a:lnTo>
                    <a:pt x="1721" y="628"/>
                  </a:lnTo>
                  <a:lnTo>
                    <a:pt x="1698" y="602"/>
                  </a:lnTo>
                  <a:lnTo>
                    <a:pt x="1294" y="425"/>
                  </a:lnTo>
                  <a:lnTo>
                    <a:pt x="1151" y="350"/>
                  </a:lnTo>
                  <a:lnTo>
                    <a:pt x="966" y="233"/>
                  </a:lnTo>
                  <a:lnTo>
                    <a:pt x="812" y="131"/>
                  </a:lnTo>
                  <a:lnTo>
                    <a:pt x="691" y="52"/>
                  </a:lnTo>
                  <a:lnTo>
                    <a:pt x="669" y="45"/>
                  </a:lnTo>
                  <a:lnTo>
                    <a:pt x="627" y="60"/>
                  </a:lnTo>
                  <a:lnTo>
                    <a:pt x="541" y="94"/>
                  </a:lnTo>
                  <a:lnTo>
                    <a:pt x="450" y="128"/>
                  </a:lnTo>
                  <a:lnTo>
                    <a:pt x="366" y="150"/>
                  </a:lnTo>
                  <a:lnTo>
                    <a:pt x="275" y="199"/>
                  </a:lnTo>
                  <a:lnTo>
                    <a:pt x="260" y="184"/>
                  </a:lnTo>
                  <a:lnTo>
                    <a:pt x="264" y="161"/>
                  </a:lnTo>
                  <a:lnTo>
                    <a:pt x="373" y="120"/>
                  </a:lnTo>
                  <a:lnTo>
                    <a:pt x="484" y="86"/>
                  </a:lnTo>
                  <a:lnTo>
                    <a:pt x="575" y="49"/>
                  </a:lnTo>
                  <a:lnTo>
                    <a:pt x="661" y="0"/>
                  </a:lnTo>
                  <a:lnTo>
                    <a:pt x="691" y="3"/>
                  </a:lnTo>
                  <a:lnTo>
                    <a:pt x="744" y="37"/>
                  </a:lnTo>
                  <a:lnTo>
                    <a:pt x="868" y="135"/>
                  </a:lnTo>
                  <a:lnTo>
                    <a:pt x="1007" y="222"/>
                  </a:lnTo>
                  <a:lnTo>
                    <a:pt x="1169" y="331"/>
                  </a:lnTo>
                  <a:lnTo>
                    <a:pt x="1309" y="399"/>
                  </a:lnTo>
                  <a:lnTo>
                    <a:pt x="1457" y="459"/>
                  </a:lnTo>
                  <a:lnTo>
                    <a:pt x="1631" y="538"/>
                  </a:lnTo>
                  <a:lnTo>
                    <a:pt x="1770" y="606"/>
                  </a:lnTo>
                  <a:lnTo>
                    <a:pt x="1781" y="628"/>
                  </a:lnTo>
                  <a:lnTo>
                    <a:pt x="1777" y="640"/>
                  </a:lnTo>
                  <a:lnTo>
                    <a:pt x="1743" y="720"/>
                  </a:lnTo>
                  <a:lnTo>
                    <a:pt x="1728" y="860"/>
                  </a:lnTo>
                  <a:lnTo>
                    <a:pt x="1721" y="1048"/>
                  </a:lnTo>
                  <a:lnTo>
                    <a:pt x="1743" y="1229"/>
                  </a:lnTo>
                  <a:lnTo>
                    <a:pt x="1740" y="1357"/>
                  </a:lnTo>
                  <a:lnTo>
                    <a:pt x="1732" y="1409"/>
                  </a:lnTo>
                  <a:lnTo>
                    <a:pt x="1717" y="1421"/>
                  </a:lnTo>
                  <a:lnTo>
                    <a:pt x="1615" y="1458"/>
                  </a:lnTo>
                  <a:lnTo>
                    <a:pt x="1487" y="1496"/>
                  </a:lnTo>
                  <a:lnTo>
                    <a:pt x="1359" y="1522"/>
                  </a:lnTo>
                  <a:lnTo>
                    <a:pt x="1271" y="1560"/>
                  </a:lnTo>
                  <a:lnTo>
                    <a:pt x="1135" y="1648"/>
                  </a:lnTo>
                  <a:lnTo>
                    <a:pt x="1041" y="1705"/>
                  </a:lnTo>
                  <a:lnTo>
                    <a:pt x="1007" y="1716"/>
                  </a:lnTo>
                  <a:lnTo>
                    <a:pt x="974" y="1686"/>
                  </a:lnTo>
                  <a:lnTo>
                    <a:pt x="910" y="1611"/>
                  </a:lnTo>
                  <a:lnTo>
                    <a:pt x="815" y="1530"/>
                  </a:lnTo>
                  <a:lnTo>
                    <a:pt x="699" y="1451"/>
                  </a:lnTo>
                  <a:lnTo>
                    <a:pt x="593" y="1387"/>
                  </a:lnTo>
                  <a:lnTo>
                    <a:pt x="492" y="1308"/>
                  </a:lnTo>
                  <a:lnTo>
                    <a:pt x="392" y="1236"/>
                  </a:lnTo>
                  <a:lnTo>
                    <a:pt x="313" y="1168"/>
                  </a:lnTo>
                  <a:lnTo>
                    <a:pt x="226" y="1116"/>
                  </a:lnTo>
                  <a:lnTo>
                    <a:pt x="106" y="1037"/>
                  </a:lnTo>
                  <a:lnTo>
                    <a:pt x="23" y="969"/>
                  </a:lnTo>
                  <a:lnTo>
                    <a:pt x="0" y="943"/>
                  </a:lnTo>
                  <a:lnTo>
                    <a:pt x="12" y="871"/>
                  </a:lnTo>
                  <a:lnTo>
                    <a:pt x="19" y="655"/>
                  </a:lnTo>
                  <a:lnTo>
                    <a:pt x="15" y="489"/>
                  </a:lnTo>
                  <a:lnTo>
                    <a:pt x="38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799160" y="239760"/>
              <a:ext cx="2211120" cy="1766160"/>
              <a:chOff x="4799160" y="239760"/>
              <a:chExt cx="2211120" cy="1766160"/>
            </a:xfrm>
          </p:grpSpPr>
          <p:sp>
            <p:nvSpPr>
              <p:cNvPr id="192" name=""/>
              <p:cNvSpPr/>
              <p:nvPr/>
            </p:nvSpPr>
            <p:spPr>
              <a:xfrm>
                <a:off x="5145120" y="436680"/>
                <a:ext cx="1667880" cy="1438920"/>
              </a:xfrm>
              <a:custGeom>
                <a:avLst/>
                <a:gdLst/>
                <a:ahLst/>
                <a:rect l="l" t="t" r="r" b="b"/>
                <a:pathLst>
                  <a:path w="1051" h="891">
                    <a:moveTo>
                      <a:pt x="985" y="710"/>
                    </a:moveTo>
                    <a:lnTo>
                      <a:pt x="804" y="584"/>
                    </a:lnTo>
                    <a:lnTo>
                      <a:pt x="638" y="471"/>
                    </a:lnTo>
                    <a:lnTo>
                      <a:pt x="512" y="371"/>
                    </a:lnTo>
                    <a:lnTo>
                      <a:pt x="341" y="213"/>
                    </a:lnTo>
                    <a:lnTo>
                      <a:pt x="198" y="89"/>
                    </a:lnTo>
                    <a:lnTo>
                      <a:pt x="87" y="0"/>
                    </a:lnTo>
                    <a:lnTo>
                      <a:pt x="93" y="109"/>
                    </a:lnTo>
                    <a:lnTo>
                      <a:pt x="61" y="147"/>
                    </a:lnTo>
                    <a:lnTo>
                      <a:pt x="0" y="196"/>
                    </a:lnTo>
                    <a:lnTo>
                      <a:pt x="93" y="262"/>
                    </a:lnTo>
                    <a:lnTo>
                      <a:pt x="174" y="311"/>
                    </a:lnTo>
                    <a:lnTo>
                      <a:pt x="273" y="420"/>
                    </a:lnTo>
                    <a:lnTo>
                      <a:pt x="396" y="520"/>
                    </a:lnTo>
                    <a:lnTo>
                      <a:pt x="533" y="621"/>
                    </a:lnTo>
                    <a:lnTo>
                      <a:pt x="640" y="700"/>
                    </a:lnTo>
                    <a:lnTo>
                      <a:pt x="753" y="770"/>
                    </a:lnTo>
                    <a:lnTo>
                      <a:pt x="913" y="872"/>
                    </a:lnTo>
                    <a:lnTo>
                      <a:pt x="958" y="891"/>
                    </a:lnTo>
                    <a:lnTo>
                      <a:pt x="958" y="817"/>
                    </a:lnTo>
                    <a:lnTo>
                      <a:pt x="1051" y="817"/>
                    </a:lnTo>
                    <a:lnTo>
                      <a:pt x="985" y="71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37320" y="1607760"/>
                <a:ext cx="304200" cy="354960"/>
              </a:xfrm>
              <a:custGeom>
                <a:avLst/>
                <a:gdLst/>
                <a:ahLst/>
                <a:rect l="l" t="t" r="r" b="b"/>
                <a:pathLst>
                  <a:path w="192" h="220">
                    <a:moveTo>
                      <a:pt x="192" y="207"/>
                    </a:moveTo>
                    <a:lnTo>
                      <a:pt x="45" y="0"/>
                    </a:lnTo>
                    <a:lnTo>
                      <a:pt x="39" y="56"/>
                    </a:lnTo>
                    <a:lnTo>
                      <a:pt x="3" y="83"/>
                    </a:lnTo>
                    <a:lnTo>
                      <a:pt x="0" y="162"/>
                    </a:lnTo>
                    <a:lnTo>
                      <a:pt x="167" y="220"/>
                    </a:lnTo>
                    <a:lnTo>
                      <a:pt x="192" y="207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13200" y="273240"/>
                <a:ext cx="510840" cy="476280"/>
              </a:xfrm>
              <a:custGeom>
                <a:avLst/>
                <a:gdLst/>
                <a:ahLst/>
                <a:rect l="l" t="t" r="r" b="b"/>
                <a:pathLst>
                  <a:path w="322" h="295">
                    <a:moveTo>
                      <a:pt x="224" y="295"/>
                    </a:moveTo>
                    <a:lnTo>
                      <a:pt x="298" y="254"/>
                    </a:lnTo>
                    <a:lnTo>
                      <a:pt x="320" y="209"/>
                    </a:lnTo>
                    <a:lnTo>
                      <a:pt x="322" y="116"/>
                    </a:lnTo>
                    <a:lnTo>
                      <a:pt x="185" y="17"/>
                    </a:lnTo>
                    <a:lnTo>
                      <a:pt x="108" y="0"/>
                    </a:lnTo>
                    <a:lnTo>
                      <a:pt x="47" y="35"/>
                    </a:lnTo>
                    <a:lnTo>
                      <a:pt x="0" y="107"/>
                    </a:lnTo>
                    <a:lnTo>
                      <a:pt x="0" y="165"/>
                    </a:lnTo>
                    <a:lnTo>
                      <a:pt x="12" y="210"/>
                    </a:lnTo>
                    <a:lnTo>
                      <a:pt x="106" y="250"/>
                    </a:lnTo>
                    <a:lnTo>
                      <a:pt x="224" y="295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799160" y="239760"/>
                <a:ext cx="2211120" cy="1766160"/>
                <a:chOff x="4799160" y="239760"/>
                <a:chExt cx="2211120" cy="17661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873680" y="263880"/>
                  <a:ext cx="1841040" cy="1333440"/>
                </a:xfrm>
                <a:custGeom>
                  <a:avLst/>
                  <a:gdLst/>
                  <a:ahLst/>
                  <a:rect l="l" t="t" r="r" b="b"/>
                  <a:pathLst>
                    <a:path w="1160" h="826">
                      <a:moveTo>
                        <a:pt x="1160" y="806"/>
                      </a:moveTo>
                      <a:lnTo>
                        <a:pt x="1154" y="826"/>
                      </a:lnTo>
                      <a:lnTo>
                        <a:pt x="1022" y="743"/>
                      </a:lnTo>
                      <a:lnTo>
                        <a:pt x="813" y="604"/>
                      </a:lnTo>
                      <a:lnTo>
                        <a:pt x="597" y="416"/>
                      </a:lnTo>
                      <a:lnTo>
                        <a:pt x="454" y="279"/>
                      </a:lnTo>
                      <a:lnTo>
                        <a:pt x="307" y="156"/>
                      </a:lnTo>
                      <a:lnTo>
                        <a:pt x="190" y="68"/>
                      </a:lnTo>
                      <a:lnTo>
                        <a:pt x="168" y="51"/>
                      </a:lnTo>
                      <a:lnTo>
                        <a:pt x="168" y="134"/>
                      </a:lnTo>
                      <a:lnTo>
                        <a:pt x="128" y="198"/>
                      </a:lnTo>
                      <a:lnTo>
                        <a:pt x="70" y="215"/>
                      </a:lnTo>
                      <a:lnTo>
                        <a:pt x="0" y="216"/>
                      </a:lnTo>
                      <a:lnTo>
                        <a:pt x="0" y="192"/>
                      </a:lnTo>
                      <a:lnTo>
                        <a:pt x="94" y="183"/>
                      </a:lnTo>
                      <a:lnTo>
                        <a:pt x="128" y="134"/>
                      </a:lnTo>
                      <a:lnTo>
                        <a:pt x="141" y="60"/>
                      </a:lnTo>
                      <a:lnTo>
                        <a:pt x="128" y="0"/>
                      </a:lnTo>
                      <a:lnTo>
                        <a:pt x="168" y="6"/>
                      </a:lnTo>
                      <a:lnTo>
                        <a:pt x="294" y="109"/>
                      </a:lnTo>
                      <a:lnTo>
                        <a:pt x="382" y="183"/>
                      </a:lnTo>
                      <a:lnTo>
                        <a:pt x="482" y="265"/>
                      </a:lnTo>
                      <a:lnTo>
                        <a:pt x="587" y="363"/>
                      </a:lnTo>
                      <a:lnTo>
                        <a:pt x="681" y="456"/>
                      </a:lnTo>
                      <a:lnTo>
                        <a:pt x="802" y="553"/>
                      </a:lnTo>
                      <a:lnTo>
                        <a:pt x="913" y="629"/>
                      </a:lnTo>
                      <a:lnTo>
                        <a:pt x="1045" y="723"/>
                      </a:lnTo>
                      <a:lnTo>
                        <a:pt x="1160" y="8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799160" y="239760"/>
                  <a:ext cx="2211120" cy="1766160"/>
                </a:xfrm>
                <a:custGeom>
                  <a:avLst/>
                  <a:gdLst/>
                  <a:ahLst/>
                  <a:rect l="l" t="t" r="r" b="b"/>
                  <a:pathLst>
                    <a:path w="1393" h="1094">
                      <a:moveTo>
                        <a:pt x="1154" y="984"/>
                      </a:moveTo>
                      <a:lnTo>
                        <a:pt x="932" y="851"/>
                      </a:lnTo>
                      <a:lnTo>
                        <a:pt x="670" y="664"/>
                      </a:lnTo>
                      <a:lnTo>
                        <a:pt x="512" y="535"/>
                      </a:lnTo>
                      <a:lnTo>
                        <a:pt x="410" y="435"/>
                      </a:lnTo>
                      <a:lnTo>
                        <a:pt x="275" y="329"/>
                      </a:lnTo>
                      <a:lnTo>
                        <a:pt x="124" y="254"/>
                      </a:lnTo>
                      <a:lnTo>
                        <a:pt x="51" y="222"/>
                      </a:lnTo>
                      <a:lnTo>
                        <a:pt x="30" y="196"/>
                      </a:lnTo>
                      <a:lnTo>
                        <a:pt x="24" y="166"/>
                      </a:lnTo>
                      <a:lnTo>
                        <a:pt x="40" y="100"/>
                      </a:lnTo>
                      <a:lnTo>
                        <a:pt x="68" y="79"/>
                      </a:lnTo>
                      <a:lnTo>
                        <a:pt x="92" y="49"/>
                      </a:lnTo>
                      <a:lnTo>
                        <a:pt x="156" y="41"/>
                      </a:lnTo>
                      <a:lnTo>
                        <a:pt x="190" y="56"/>
                      </a:lnTo>
                      <a:lnTo>
                        <a:pt x="205" y="24"/>
                      </a:lnTo>
                      <a:lnTo>
                        <a:pt x="147" y="0"/>
                      </a:lnTo>
                      <a:lnTo>
                        <a:pt x="96" y="17"/>
                      </a:lnTo>
                      <a:lnTo>
                        <a:pt x="51" y="41"/>
                      </a:lnTo>
                      <a:lnTo>
                        <a:pt x="24" y="73"/>
                      </a:lnTo>
                      <a:lnTo>
                        <a:pt x="0" y="124"/>
                      </a:lnTo>
                      <a:lnTo>
                        <a:pt x="0" y="179"/>
                      </a:lnTo>
                      <a:lnTo>
                        <a:pt x="17" y="228"/>
                      </a:lnTo>
                      <a:lnTo>
                        <a:pt x="51" y="245"/>
                      </a:lnTo>
                      <a:lnTo>
                        <a:pt x="147" y="294"/>
                      </a:lnTo>
                      <a:lnTo>
                        <a:pt x="239" y="337"/>
                      </a:lnTo>
                      <a:lnTo>
                        <a:pt x="299" y="388"/>
                      </a:lnTo>
                      <a:lnTo>
                        <a:pt x="405" y="463"/>
                      </a:lnTo>
                      <a:lnTo>
                        <a:pt x="501" y="559"/>
                      </a:lnTo>
                      <a:lnTo>
                        <a:pt x="604" y="647"/>
                      </a:lnTo>
                      <a:lnTo>
                        <a:pt x="700" y="723"/>
                      </a:lnTo>
                      <a:lnTo>
                        <a:pt x="811" y="796"/>
                      </a:lnTo>
                      <a:lnTo>
                        <a:pt x="949" y="896"/>
                      </a:lnTo>
                      <a:lnTo>
                        <a:pt x="1064" y="956"/>
                      </a:lnTo>
                      <a:lnTo>
                        <a:pt x="1156" y="1028"/>
                      </a:lnTo>
                      <a:lnTo>
                        <a:pt x="1393" y="1094"/>
                      </a:lnTo>
                      <a:lnTo>
                        <a:pt x="1387" y="1065"/>
                      </a:lnTo>
                      <a:lnTo>
                        <a:pt x="1304" y="967"/>
                      </a:lnTo>
                      <a:lnTo>
                        <a:pt x="1207" y="822"/>
                      </a:lnTo>
                      <a:lnTo>
                        <a:pt x="1173" y="817"/>
                      </a:lnTo>
                      <a:lnTo>
                        <a:pt x="1237" y="911"/>
                      </a:lnTo>
                      <a:lnTo>
                        <a:pt x="1314" y="1011"/>
                      </a:lnTo>
                      <a:lnTo>
                        <a:pt x="1288" y="1043"/>
                      </a:lnTo>
                      <a:lnTo>
                        <a:pt x="1190" y="1001"/>
                      </a:lnTo>
                      <a:lnTo>
                        <a:pt x="1190" y="952"/>
                      </a:lnTo>
                      <a:lnTo>
                        <a:pt x="1231" y="947"/>
                      </a:lnTo>
                      <a:lnTo>
                        <a:pt x="1222" y="928"/>
                      </a:lnTo>
                      <a:lnTo>
                        <a:pt x="1156" y="913"/>
                      </a:lnTo>
                      <a:lnTo>
                        <a:pt x="1154" y="9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094360" y="528480"/>
                  <a:ext cx="248760" cy="254880"/>
                </a:xfrm>
                <a:custGeom>
                  <a:avLst/>
                  <a:gdLst/>
                  <a:ahLst/>
                  <a:rect l="l" t="t" r="r" b="b"/>
                  <a:pathLst>
                    <a:path w="157" h="158">
                      <a:moveTo>
                        <a:pt x="138" y="0"/>
                      </a:moveTo>
                      <a:lnTo>
                        <a:pt x="115" y="69"/>
                      </a:lnTo>
                      <a:lnTo>
                        <a:pt x="51" y="120"/>
                      </a:lnTo>
                      <a:lnTo>
                        <a:pt x="0" y="133"/>
                      </a:lnTo>
                      <a:lnTo>
                        <a:pt x="40" y="158"/>
                      </a:lnTo>
                      <a:lnTo>
                        <a:pt x="108" y="124"/>
                      </a:lnTo>
                      <a:lnTo>
                        <a:pt x="157" y="66"/>
                      </a:lnTo>
                      <a:lnTo>
                        <a:pt x="1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 txBox="1"/>
            <p:nvPr/>
          </p:nvSpPr>
          <p:spPr>
            <a:xfrm rot="2052600">
              <a:off x="6781680" y="1981080"/>
              <a:ext cx="1076400" cy="69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ndalus"/>
                </a:rPr>
                <a:t>حقائق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  <a:ea typeface="Andalus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47680" y="4076640"/>
            <a:ext cx="69912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لا تدري أين تريد  فإن أي طريق سوف يوص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9520" y="5334120"/>
            <a:ext cx="876312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Haettenschweiler"/>
                <a:cs typeface="Monotype Koufi"/>
              </a:rPr>
              <a:t>إذا كنت تسير على خطة الأمس فإنك  في الغد سوف تصل إلى الي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409680"/>
            <a:ext cx="4576680" cy="3176640"/>
            <a:chOff x="457200" y="409680"/>
            <a:chExt cx="4576680" cy="3176640"/>
          </a:xfrm>
        </p:grpSpPr>
        <p:pic>
          <p:nvPicPr>
            <p:cNvPr id="203" name="" descr=""/>
            <p:cNvPicPr/>
            <p:nvPr/>
          </p:nvPicPr>
          <p:blipFill>
            <a:blip r:embed="rId5"/>
            <a:stretch/>
          </p:blipFill>
          <p:spPr>
            <a:xfrm>
              <a:off x="2724120" y="409680"/>
              <a:ext cx="230976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57200" y="495360"/>
              <a:ext cx="3962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0000" spc="-1" strike="noStrike">
                  <a:solidFill>
                    <a:srgbClr val="000000"/>
                  </a:solidFill>
                  <a:latin typeface="Times New Roman"/>
                </a:rPr>
                <a:t>حقــ</a:t>
              </a:r>
              <a:r>
                <a:rPr b="1" lang="hi-IN" sz="8000" spc="-1" strike="noStrike">
                  <a:solidFill>
                    <a:srgbClr val="000000"/>
                  </a:solidFill>
                  <a:latin typeface="Times New Roman"/>
                </a:rPr>
                <a:t>ائق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7778880" y="1260360"/>
            <a:ext cx="850320" cy="4687560"/>
            <a:chOff x="7778880" y="1260360"/>
            <a:chExt cx="850320" cy="4687560"/>
          </a:xfrm>
        </p:grpSpPr>
        <p:sp>
          <p:nvSpPr>
            <p:cNvPr id="206" name=""/>
            <p:cNvSpPr/>
            <p:nvPr/>
          </p:nvSpPr>
          <p:spPr>
            <a:xfrm>
              <a:off x="7778880" y="1260360"/>
              <a:ext cx="85032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16200000">
              <a:off x="6068520" y="3337200"/>
              <a:ext cx="4261320" cy="53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خارج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76280" y="1260360"/>
            <a:ext cx="921960" cy="4687560"/>
            <a:chOff x="476280" y="1260360"/>
            <a:chExt cx="921960" cy="4687560"/>
          </a:xfrm>
        </p:grpSpPr>
        <p:sp>
          <p:nvSpPr>
            <p:cNvPr id="209" name=""/>
            <p:cNvSpPr/>
            <p:nvPr/>
          </p:nvSpPr>
          <p:spPr>
            <a:xfrm>
              <a:off x="476280" y="1260360"/>
              <a:ext cx="921960" cy="468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6200000">
              <a:off x="-1198440" y="3314520"/>
              <a:ext cx="4261320" cy="57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ظروف داخلية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462040" y="1926720"/>
            <a:ext cx="4189680" cy="2924640"/>
            <a:chOff x="2462040" y="1926720"/>
            <a:chExt cx="4189680" cy="2924640"/>
          </a:xfrm>
        </p:grpSpPr>
        <p:sp>
          <p:nvSpPr>
            <p:cNvPr id="212" name=""/>
            <p:cNvSpPr/>
            <p:nvPr/>
          </p:nvSpPr>
          <p:spPr>
            <a:xfrm flipH="1">
              <a:off x="2462040" y="2176560"/>
              <a:ext cx="4189680" cy="2674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20143200">
              <a:off x="5676840" y="2058840"/>
              <a:ext cx="7272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20143200">
              <a:off x="2577600" y="404172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قوية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476440" y="1958400"/>
            <a:ext cx="4253040" cy="2811960"/>
            <a:chOff x="2476440" y="1958400"/>
            <a:chExt cx="4253040" cy="2811960"/>
          </a:xfrm>
        </p:grpSpPr>
        <p:sp>
          <p:nvSpPr>
            <p:cNvPr id="216" name=""/>
            <p:cNvSpPr/>
            <p:nvPr/>
          </p:nvSpPr>
          <p:spPr>
            <a:xfrm flipH="1" flipV="1">
              <a:off x="2476440" y="2257560"/>
              <a:ext cx="4130640" cy="2512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1530000">
              <a:off x="5952960" y="4041360"/>
              <a:ext cx="727200" cy="39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استقرار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 rot="1530000">
              <a:off x="2637000" y="2095560"/>
              <a:ext cx="72684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Simplified Arabic"/>
                </a:rPr>
                <a:t>تجنب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Simplified Arabic"/>
                <a:ea typeface="Simplified Arabic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680160" y="1558800"/>
            <a:ext cx="99216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فر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4380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خطو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68440" y="155880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Times New Roman"/>
              </a:rPr>
              <a:t>قو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68440" y="4551480"/>
            <a:ext cx="993600" cy="89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ضع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71760" y="609480"/>
            <a:ext cx="4162320" cy="951120"/>
            <a:chOff x="2471760" y="609480"/>
            <a:chExt cx="4162320" cy="951120"/>
          </a:xfrm>
        </p:grpSpPr>
        <p:sp>
          <p:nvSpPr>
            <p:cNvPr id="224" name=""/>
            <p:cNvSpPr/>
            <p:nvPr/>
          </p:nvSpPr>
          <p:spPr>
            <a:xfrm>
              <a:off x="2471760" y="156060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598920" y="609480"/>
              <a:ext cx="1963800" cy="85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اغتنام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471760" y="5450040"/>
            <a:ext cx="4162320" cy="798480"/>
            <a:chOff x="2471760" y="5450040"/>
            <a:chExt cx="4162320" cy="798480"/>
          </a:xfrm>
        </p:grpSpPr>
        <p:sp>
          <p:nvSpPr>
            <p:cNvPr id="227" name=""/>
            <p:cNvSpPr/>
            <p:nvPr/>
          </p:nvSpPr>
          <p:spPr>
            <a:xfrm>
              <a:off x="2471760" y="5450040"/>
              <a:ext cx="41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686040" y="5549760"/>
              <a:ext cx="1800360" cy="69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Monotype Koufi"/>
                </a:rPr>
                <a:t>تجاوز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Monotype Koufi"/>
                <a:ea typeface="Monotype Koufi"/>
              </a:endParaRPr>
            </a:p>
          </p:txBody>
        </p:sp>
      </p:grp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24080" y="380880"/>
            <a:ext cx="3254400" cy="193680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47840" y="1219320"/>
            <a:ext cx="2075760" cy="2284200"/>
            <a:chOff x="5847840" y="1219320"/>
            <a:chExt cx="2075760" cy="2284200"/>
          </a:xfrm>
        </p:grpSpPr>
        <p:grpSp>
          <p:nvGrpSpPr>
            <p:cNvPr id="231" name=""/>
            <p:cNvGrpSpPr/>
            <p:nvPr/>
          </p:nvGrpSpPr>
          <p:grpSpPr>
            <a:xfrm>
              <a:off x="5847840" y="1219320"/>
              <a:ext cx="2075760" cy="2284200"/>
              <a:chOff x="5847840" y="1219320"/>
              <a:chExt cx="2075760" cy="2284200"/>
            </a:xfrm>
          </p:grpSpPr>
          <p:sp>
            <p:nvSpPr>
              <p:cNvPr id="232" name=""/>
              <p:cNvSpPr/>
              <p:nvPr/>
            </p:nvSpPr>
            <p:spPr>
              <a:xfrm flipH="1" flipV="1">
                <a:off x="5847840" y="1219320"/>
                <a:ext cx="568440" cy="79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6217920" y="1331280"/>
                <a:ext cx="1705680" cy="2172240"/>
                <a:chOff x="6217920" y="1331280"/>
                <a:chExt cx="1705680" cy="21722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542280" y="2295000"/>
                  <a:ext cx="213120" cy="1778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87600" y="1331280"/>
                  <a:ext cx="495360" cy="4921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17920" y="1804320"/>
                  <a:ext cx="1670400" cy="1699200"/>
                </a:xfrm>
                <a:custGeom>
                  <a:avLst/>
                  <a:gdLst/>
                  <a:ahLst/>
                  <a:rect l="l" t="t" r="r" b="b"/>
                  <a:pathLst>
                    <a:path w="705" h="714">
                      <a:moveTo>
                        <a:pt x="497" y="26"/>
                      </a:moveTo>
                      <a:lnTo>
                        <a:pt x="538" y="26"/>
                      </a:lnTo>
                      <a:lnTo>
                        <a:pt x="592" y="56"/>
                      </a:lnTo>
                      <a:lnTo>
                        <a:pt x="705" y="222"/>
                      </a:lnTo>
                      <a:lnTo>
                        <a:pt x="701" y="296"/>
                      </a:lnTo>
                      <a:lnTo>
                        <a:pt x="624" y="353"/>
                      </a:lnTo>
                      <a:lnTo>
                        <a:pt x="561" y="396"/>
                      </a:lnTo>
                      <a:lnTo>
                        <a:pt x="482" y="301"/>
                      </a:lnTo>
                      <a:lnTo>
                        <a:pt x="513" y="275"/>
                      </a:lnTo>
                      <a:lnTo>
                        <a:pt x="538" y="255"/>
                      </a:lnTo>
                      <a:lnTo>
                        <a:pt x="485" y="172"/>
                      </a:lnTo>
                      <a:lnTo>
                        <a:pt x="333" y="275"/>
                      </a:lnTo>
                      <a:lnTo>
                        <a:pt x="481" y="477"/>
                      </a:lnTo>
                      <a:lnTo>
                        <a:pt x="606" y="384"/>
                      </a:lnTo>
                      <a:lnTo>
                        <a:pt x="605" y="714"/>
                      </a:lnTo>
                      <a:lnTo>
                        <a:pt x="287" y="714"/>
                      </a:lnTo>
                      <a:lnTo>
                        <a:pt x="286" y="219"/>
                      </a:lnTo>
                      <a:lnTo>
                        <a:pt x="213" y="266"/>
                      </a:lnTo>
                      <a:lnTo>
                        <a:pt x="148" y="266"/>
                      </a:lnTo>
                      <a:lnTo>
                        <a:pt x="141" y="257"/>
                      </a:lnTo>
                      <a:lnTo>
                        <a:pt x="93" y="190"/>
                      </a:lnTo>
                      <a:lnTo>
                        <a:pt x="0" y="71"/>
                      </a:lnTo>
                      <a:lnTo>
                        <a:pt x="105" y="0"/>
                      </a:lnTo>
                      <a:lnTo>
                        <a:pt x="171" y="88"/>
                      </a:lnTo>
                      <a:lnTo>
                        <a:pt x="189" y="107"/>
                      </a:lnTo>
                      <a:lnTo>
                        <a:pt x="322" y="26"/>
                      </a:lnTo>
                      <a:lnTo>
                        <a:pt x="377" y="26"/>
                      </a:lnTo>
                      <a:lnTo>
                        <a:pt x="497" y="2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19480" y="2299320"/>
                  <a:ext cx="204120" cy="235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5400" y="1755360"/>
                  <a:ext cx="286200" cy="22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7" y="10567"/>
                      </a:moveTo>
                      <a:arcTo wR="10800" hR="10800" stAng="-74202" swAng="109459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7" y="10567"/>
                      </a:moveTo>
                      <a:arcTo wR="10800" hR="10800" stAng="-74202" swAng="10945972"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7350840" y="1866960"/>
              <a:ext cx="283680" cy="22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85" y="3242"/>
                  </a:moveTo>
                  <a:arcTo wR="10800" hR="10800" stAng="-8135227" swAng="10676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3085" y="3242"/>
                  </a:moveTo>
                  <a:arcTo wR="10800" hR="10800" stAng="-8135227" swAng="10676841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990720" y="2438280"/>
            <a:ext cx="7619760" cy="4114800"/>
          </a:xfrm>
          <a:custGeom>
            <a:avLst/>
            <a:gdLst/>
            <a:ahLst/>
            <a:rect l="l" t="t" r="r" b="b"/>
            <a:pathLst>
              <a:path w="2524" h="740">
                <a:moveTo>
                  <a:pt x="0" y="740"/>
                </a:moveTo>
                <a:lnTo>
                  <a:pt x="900" y="0"/>
                </a:lnTo>
                <a:lnTo>
                  <a:pt x="1587" y="0"/>
                </a:lnTo>
                <a:lnTo>
                  <a:pt x="2524" y="740"/>
                </a:lnTo>
                <a:lnTo>
                  <a:pt x="0" y="74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429000" y="2590920"/>
            <a:ext cx="22478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سمع فأنسى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76720" y="3581280"/>
            <a:ext cx="28288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رى فأتذكر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19520" y="4876920"/>
            <a:ext cx="35622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أمارس فأفهم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4" name=""/>
          <p:cNvSpPr txBox="1"/>
          <p:nvPr/>
        </p:nvSpPr>
        <p:spPr>
          <a:xfrm rot="18296400">
            <a:off x="885600" y="3381120"/>
            <a:ext cx="22482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تذكر أنني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5032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أحسن وسيلة لاكتســاب المهارات هي المشاهدة والممارس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353040" cy="1514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114800" y="6094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لذلك تحتاج للآتي: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48320" y="16765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1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مهارة التي تريد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8320" y="266688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2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تحديد الخطوات العملية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36576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3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رؤية مثال واقعي لها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648320" y="4648320"/>
            <a:ext cx="40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4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ممارسة خطواتها العم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8320" y="5715000"/>
            <a:ext cx="401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5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حصول على التغذية الراجع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3124080"/>
            <a:ext cx="295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6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مارسة الفعلية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3962520"/>
            <a:ext cx="2952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7-</a:t>
            </a: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المتابعة والاستمرار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Monotype Koufi"/>
              </a:rPr>
              <a:t>.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Monotype Koufi"/>
              <a:ea typeface="Monotype Koufi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1:09:44Z</dcterms:created>
  <dc:creator>تعليم جازان</dc:creator>
  <dc:description/>
  <dc:language>en-US</dc:language>
  <cp:lastModifiedBy>الإدارة العامة للتعليم بجازان</cp:lastModifiedBy>
  <cp:lastPrinted>2000-06-20T12:33:24Z</cp:lastPrinted>
  <dcterms:modified xsi:type="dcterms:W3CDTF">2000-06-20T12:35:06Z</dcterms:modified>
  <cp:revision>37</cp:revision>
  <dc:subject/>
  <dc:title>لا يوجد عنوان للشريحة</dc:title>
</cp:coreProperties>
</file>