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C3F-16D2-4F3E-8652-2784C800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066-F880-4CA9-B2E1-D595D916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169-0F71-4556-B024-BA4DB710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7F2-168F-4344-BCC9-B0753FC1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E11-AB2B-4B29-9387-4660E2F2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38C-08CF-4CE8-B84B-F4214A04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161-E390-465B-8DCA-A65F1C27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DF6B-DA0C-45C1-999B-D8B49692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E098-39CF-44C0-8D9F-6D365C24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A62-620B-4C87-BF5F-24EC7337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592-6581-482B-A66A-6EB7BE6A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D50-17F7-47F0-88AD-F0BD4469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EDD2-790D-49EF-B0CC-26CB5365AF63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33720" y="2514600"/>
          <a:ext cx="4572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572000" cy="38862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تفـكـيـ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ن أكون حسنا بما يكف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ربما غيري أفض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عـــــر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قد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لتعا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ببـــــــســــــاطـــــ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لا استطيع تقرير ماذا أ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هــــذ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ــع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7B1-93EF-4E0B-AC39-D231CB33D3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شعــو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ـــــو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وف من المجه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أو المواقف الجدي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غضب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نـــفـــس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احــــبا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فتقاد التشج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و الشعور بالهبوط المعنو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قلق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صاع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D8C-601F-4CC0-9F61-C2D71F55DB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ســلو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ســلـبـ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66688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تجـــــن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غـــيـ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ســــوي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ــــــــرد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2670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صعوب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قـتر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434340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ل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مساع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تخاذ المقع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خلفي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ـــلــ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طمـــئنا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FD6-CF6A-4433-8007-8EA30212A1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دلائ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جسدية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3372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يل الى الانحن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57200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توتر و العصب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35268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همهمة و الزمج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05740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عدم النظر في عيونه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72428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كسل و الخم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4C9-DC5C-4B70-AA7C-FE930E4AC5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انسان لابد وأن يكون كامل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آخرون دائما على صوا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مستواى غير لائق بما يكف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لا ينبغي للرجال أن يبكوا أبد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 لم أكن مثاليا فلا نفع ل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DF8-4EE9-4BEF-8046-C06059B187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ذا أخطأت فلن اسامح نفسي أب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سيلومني الآخرون حين أخط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ا لا استطيع مساعدة نفس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ذا أخطأت سينبذني النا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66"/>
                </a:solidFill>
                <a:latin typeface="Times New Roman"/>
              </a:rPr>
              <a:t>لا يمكن ان انجز الا بمساعدة الآخر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DC7-980C-462E-BBA2-4C1774C246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705720" y="2209680"/>
            <a:ext cx="175248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فـطـريـة أم مكـتـسـبـة ؟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ED1-C2E7-4048-A312-34764397BC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010280" y="304920"/>
            <a:ext cx="175284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4572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25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32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 فـطـريـة أم مكـتـسـبـة؟</a:t>
            </a:r>
            <a:endParaRPr b="0" lang="en-US" sz="2400" spc="1" strike="noStrike">
              <a:ln cap="sq" w="32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سـلـوك فــطــر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42900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ـمـمـارس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47242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تـدريـ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F21-3C0E-49D2-AA37-4B956E307B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C29E-430C-400F-A030-338918786AF4}" type="slidenum"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80808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قة بالنفس هي :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124080"/>
            <a:ext cx="1676160" cy="8384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حرك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2767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قوم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4229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قناع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95600" y="4300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ؤمن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29440" y="5372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كلم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5443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نطق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5335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3300"/>
                </a:solidFill>
                <a:latin typeface="Times New Roman"/>
              </a:rPr>
              <a:t>ح     ق     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182880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66"/>
                </a:solidFill>
                <a:latin typeface="Times New Roman"/>
              </a:rPr>
              <a:t>حــقـــــك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43280" y="2743200"/>
            <a:ext cx="61722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44a00"/>
                </a:solidFill>
                <a:latin typeface="Times New Roman"/>
              </a:rPr>
              <a:t>أن تعر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قنا ع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523880"/>
            <a:ext cx="1371600" cy="37339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53400 h 3733920"/>
              <a:gd name="textAreaBottom" fmla="*/ 2707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EE3-BA68-43B5-834F-EEFD98BAF7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410080" cy="1371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66"/>
                </a:solidFill>
                <a:latin typeface="Times New Roman"/>
              </a:rPr>
              <a:t>مفاتيح النجاح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057400"/>
            <a:ext cx="731520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جمع الحكماء مفاتيح النجاح في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اختصرها بعضهم الى ع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مهما قلت أو أكثر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فان الثقة بالنفس هى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لمفتاح الأول ل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00000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أيــــــمــان عــميـــ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و قــناعة بما ت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191120"/>
            <a:ext cx="350496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كــتـساب صــفـا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واثـق من نـفـسـ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114800"/>
            <a:ext cx="350532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عـــمــل بمـا تـــ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مام و عــــل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بـمـا تـعـتـقـ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3F3-AE62-4B9F-99CB-FF06001634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553080" y="762120"/>
            <a:ext cx="2286000" cy="518148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صفات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الواث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مـــ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نـفـس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3657600"/>
            <a:ext cx="2590920" cy="2209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عتقد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295280"/>
            <a:ext cx="2590920" cy="2210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كلم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514600"/>
            <a:ext cx="2590560" cy="2209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حرك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6BD4-6282-43EC-A270-874F26E3CEC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بـتـس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دائــــمـــــ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981080"/>
            <a:ext cx="2286000" cy="178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هـت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مظهر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ار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سن القام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صـاف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ـثـقـــــ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ختار م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يحمله بيد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هـــاد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لا يغـصـ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A9C-ACCC-4865-BEAA-24D15EE0D03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شـ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نشــــــــا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1981080"/>
            <a:ext cx="2286000" cy="297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يطالع النا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في عيون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981080"/>
            <a:ext cx="2286000" cy="2727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تصرف جيد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عندما يخط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4191120"/>
            <a:ext cx="2286000" cy="22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191120"/>
            <a:ext cx="2286000" cy="218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حـــــركـــــ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ـــــيــــــديـــ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191120"/>
            <a:ext cx="2286000" cy="261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تـــعــبــيـــــر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وجـــــــــــهــــــ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47B-5BC8-4028-AA0D-9258E4BD0B5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ســــــتــعـيـن بـالـــلـــ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على اتقان أدائه و حركات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1A7-4645-4843-92D1-222F760A443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19051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27432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5812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4419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5257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9051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بـتــســم ودع الجرح يلتئ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7432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بـــادر في الــــحـــــرك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35812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ـقـدم الى الصفـوف الأو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419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ارع الخـطى أثناء المش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5257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ــارس حـــسـن الـقـا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F48-6B78-4F45-870B-EC377A694EC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791320" y="1981080"/>
            <a:ext cx="2286000" cy="309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- صوت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Times New Roman"/>
              </a:rPr>
              <a:t>واضح مسمو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بــــــ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ـــــــــ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2286000" cy="263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حروف ذ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0000ff"/>
                </a:solidFill>
                <a:latin typeface="Times New Roman"/>
              </a:rPr>
              <a:t>مخارج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واضح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ـغـمـا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ختـلـــف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191120"/>
            <a:ext cx="2286000" cy="23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- لغه مفعم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بالنشا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267080"/>
            <a:ext cx="2286000" cy="267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التركيز عل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الكلمات الهامة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FD4-946B-4535-882D-AE1BA6408A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791320" y="1981080"/>
            <a:ext cx="2286000" cy="27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لغــ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سـلـيـم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كلم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ســـهــل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مقـد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خات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191120"/>
            <a:ext cx="2286000" cy="326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رف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نـــفــســـ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267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الــقـا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ـعـــتــد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C4B-AECA-4C2E-A030-1D0B24BA8C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3048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أفكار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ـرتــب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038480"/>
            <a:ext cx="2286000" cy="28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ردد و يكت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700" spc="-1" strike="noStrike">
                <a:solidFill>
                  <a:srgbClr val="0000ff"/>
                </a:solidFill>
                <a:latin typeface="Times New Roman"/>
              </a:rPr>
              <a:t>كلمات الثقة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2057400"/>
            <a:ext cx="2286000" cy="236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2AD-0C4D-42A2-80EC-40DF1F1FB0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905120"/>
            <a:ext cx="2438280" cy="696420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  <a:effectLst>
            <a:outerShdw dist="378705" dir="237368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ستع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قـــــواع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حـديـــث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ـســـــ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1523880"/>
            <a:ext cx="259056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بداء الرأ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971800"/>
            <a:ext cx="272736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نف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2971800"/>
            <a:ext cx="2590920" cy="1371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توجيه سؤا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523880"/>
            <a:ext cx="25909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فصاح عن الحقيق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590560" cy="1371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غي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419720"/>
            <a:ext cx="259092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وصف الوضع العا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E0C-E0E1-4919-8DF1-7335D85E19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720" y="304920"/>
            <a:ext cx="2210040" cy="1295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ـقة</a:t>
            </a:r>
            <a:br>
              <a:rPr sz="4000"/>
            </a:b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بالنفس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920"/>
            <a:ext cx="6934320" cy="75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لثقة بالنفس شيئ نتمنى جميعا أن نستزيد م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ولكن القضية تكمن في وجودها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كيف تصبح أكثر قوة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علماء النفس و الأطباء يجمعون على أ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ذا تم اختراع حبة الثقة بالنفس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ن العالم سيصبح أكثر سعادة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وسيصبحون هم سريعا بلا ع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لكن ذلك لم يحدث بعد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لى أين نذهب لندعم ثقتنا بأنفسنا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ى أنفسنا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نقوي ونطور مجالات تحتاج الى الاهتمام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دعـــــــــو الـــلـــ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أن يحـلل عـقـدة من لسان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C59-3C9F-42D7-B581-8CFA0C8C66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1828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2666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خ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3505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343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51814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828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قــــد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666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خــــاتــــ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3505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لقاء معـتدل و لغـة سلي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343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صـــــــوت واضــــــــ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51814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مارسة قواعد الحديث الس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155-E7F8-440E-8A81-0B3D7ED8A0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791320" y="1981080"/>
            <a:ext cx="2286000" cy="18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-ايمان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500" spc="-1" strike="noStrike">
                <a:solidFill>
                  <a:srgbClr val="0000ff"/>
                </a:solidFill>
                <a:latin typeface="Times New Roman"/>
              </a:rPr>
              <a:t>بالمبادئ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1981080"/>
            <a:ext cx="2362320" cy="2910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تناغم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ب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القول و العم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هدا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واضـح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حـــلا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كــبــــــي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4191120"/>
            <a:ext cx="243864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- متمكن م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معلومـاتــ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114800"/>
            <a:ext cx="2286000" cy="24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ترك انطباع مبدئ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حسن في الأذه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3403-8D2C-428E-BF63-6E532F3F2ED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791320" y="1981080"/>
            <a:ext cx="2286000" cy="346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تحك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وقــــتـــه 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981080"/>
            <a:ext cx="2286000" cy="32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- يستع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للأنشطة جي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981080"/>
            <a:ext cx="2286000" cy="19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مهار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والتد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ب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نـــق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نق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بلبــــاقـــ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267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قو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“لا” للخط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502-9ECF-435E-8B58-FADFAE9DFA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91320" y="1981080"/>
            <a:ext cx="2286000" cy="319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- يشيد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بجهد الآخرين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057400"/>
            <a:ext cx="2590560" cy="271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عند الحاجة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900" spc="-1" strike="noStrike">
                <a:solidFill>
                  <a:srgbClr val="0000ff"/>
                </a:solidFill>
                <a:latin typeface="Times New Roman"/>
              </a:rPr>
              <a:t>يطلب المساعدة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مستمع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ـ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عــــر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7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لا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يـحــــســ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4267080"/>
            <a:ext cx="2286000" cy="30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يجعل ل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ثلا أع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670-2324-4D57-A8F6-9019B648A1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867280" y="1905120"/>
            <a:ext cx="2286000" cy="197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الأخلا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057400"/>
            <a:ext cx="2590560" cy="304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يحب بعض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0000ff"/>
                </a:solidFill>
                <a:latin typeface="Times New Roman"/>
              </a:rPr>
              <a:t>المخاطرة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419112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باد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عـــمــ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411480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ح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تجــدي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686-CDD6-421A-A7B5-4733953105F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905120"/>
            <a:ext cx="7924680" cy="161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- يتعرف على نقاط ضعفه و قوته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27672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4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 الثقة بالنفس مهارة مكتسب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72428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ه مهيأ دائما لزيادة ثقته بنفس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761-C393-4784-AC3F-3A53C79F45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1828800"/>
            <a:ext cx="75438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هـــتــم بالــصــــــلاة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كـوسـيــلة فـعـالـة لحل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مشاكـله و اتقان عـمل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247-1276-4148-ACAA-98AE272E61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ــــلــــم ثـم صــــــاف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ســــــــــــتــــــعــــــــ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ــالــعــه في عـيــنــــــــ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عــــــرف نـــــفــــســـــــ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عــــــرف عـلى الـنــــــا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أيم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D41-B283-4F44-8475-7814C03ADF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“لا”  لمن يصفك بما لا يلي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قــبـول الــنــقـد الــبــنــــاء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لب المساعدة عند الحاج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شـــادة بجــهــود الآخـــ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توجيه النصيحة بطريقة صحيح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سلوك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030-37E2-470D-B1F0-4A82357E6FF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4"/>
            </a:gs>
            <a:gs pos="50000">
              <a:srgbClr val="000094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05E5-66D9-4424-B135-B9F8714E3CBE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الثقة بالنفس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لماذا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متى تهتز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آثار انخفاض الثقة بالنفس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كيف تكتسب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4000" spc="-1" strike="noStrike">
                <a:solidFill>
                  <a:srgbClr val="ffffff"/>
                </a:solidFill>
                <a:latin typeface="Times New Roman"/>
              </a:rPr>
              <a:t>صفات الواثق مـــن نـفـسه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000066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553080" y="2209680"/>
            <a:ext cx="221004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ث الثـق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C63-7F4A-4E64-B9E8-B215D3A2FDF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705720" y="304920"/>
            <a:ext cx="213336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457200"/>
            <a:ext cx="556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39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 بث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17524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23623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29718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35812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1911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17524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بـــــــادر و أنــــــــــــت قــــــــــــــاد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3623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ق بـنـفــــســـك و لــو لـــوحـــــــد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29718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ابـــتـــــســـــــــم ودع الجرح يــلــتــئـ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5812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لا تـــأس على ما فاتك و خـطـط لحـياتـ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41911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ــــــابـــــــــر و أنـــــــت شـــــــاطــ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48006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8006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قـــدم العـطـاء و احـرص عـلى الـثـنــ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4100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4100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تـحــدث بـراحــة و بـكــل صـــراحـــــ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994-7EA0-4AE0-9791-92BF6CD41C7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9051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ائ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2767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مـ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57200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قيم الانسان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77C-76BC-4437-9C1C-FEF7BA1B98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 على اقناع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3300"/>
                </a:solidFill>
                <a:latin typeface="Times New Roman"/>
              </a:rPr>
              <a:t>تمكنك من التأثيرب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الثبات على موقف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ك لعرض أفكار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عطيك شعورا بالقوة والسع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EE1-48EB-479B-84C0-331D00F4BF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في مهامك الوظيفية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مواجهة الجمهو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كسبك احترام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على حسن التصر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نقذك من المواقف المحرج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916-7CA2-48F3-A692-8428F93ADD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0880" y="990720"/>
            <a:ext cx="8382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الواثقون في العالم لا يتجاوزون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2% </a:t>
            </a: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من البشرية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5A4-2328-4AFE-8560-A268DFA235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0000ff"/>
                </a:solidFill>
                <a:latin typeface="Times New Roman"/>
              </a:rPr>
              <a:t>متى تهتز الثقة بالنفس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نق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لاذ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ق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سؤول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133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واق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حرج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276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خــــ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352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ـوحـــــد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كث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شا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457200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مواجه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خالف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فشــــــ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6E7-F2A1-4C2F-9451-5502C2D297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6:10:01Z</dcterms:created>
  <dc:creator>***</dc:creator>
  <dc:description/>
  <dc:language>en-US</dc:language>
  <cp:lastModifiedBy>Compaq</cp:lastModifiedBy>
  <dcterms:modified xsi:type="dcterms:W3CDTF">2000-07-24T14:25:33Z</dcterms:modified>
  <cp:revision>87</cp:revision>
  <dc:subject/>
  <dc:title>التواصل الفردي</dc:title>
</cp:coreProperties>
</file>