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FDA-A113-487D-8399-6D73601C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172-E8B1-408C-A75E-6A56CB9D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0C6-8137-45A6-8645-669AF842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9F5-D14E-4687-AF26-3B88C469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AFC-0FAC-414F-8BCC-00993B9C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88-FFAB-4798-A470-1254D1B0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EA6-9EAE-4A6B-99E3-2F246132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60C-5DFE-4A76-B5A9-068B6B0D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B26-2FC7-4183-A4C0-8E96B20C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5E5-2B08-4F5E-93AF-8B53790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66E-ACDD-4B9B-A4C9-E30E16A6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8C0-63C4-492D-90B1-3D19E500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E3AC-D85A-4E3B-9B62-1DF67822A10B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133720" y="2514600"/>
          <a:ext cx="4572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514600"/>
                    <a:ext cx="4572000" cy="388620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تفـكـيـ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ن أكون حسنا بما يكف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ربما غيري أفض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لا أعـــــر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قد أستط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التعا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ببـــــــســــــاطـــــ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لا استطيع تقرير ماذا أ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هــــذ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imes New Roman"/>
              </a:rPr>
              <a:t>صــع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AD2-1174-4662-8626-D1AB03F98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شعــور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ـــــو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429000"/>
            <a:ext cx="4495680" cy="129528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أو المواقف الجدي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981080"/>
            <a:ext cx="144756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غضب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نـــفـــس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احــــبا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4876920"/>
            <a:ext cx="4572000" cy="11430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فتقاد التشجي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و الشعور بالهبوط المعنو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1981080"/>
            <a:ext cx="1447920" cy="1371600"/>
          </a:xfrm>
          <a:prstGeom prst="ellipse">
            <a:avLst/>
          </a:prstGeom>
          <a:solidFill>
            <a:srgbClr val="c9ffc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قلق م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صاع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E35-23FB-4EBC-98DE-223D311C2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ســلوك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ســلـبـ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66688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تجـــــن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غـــيـي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ســــوي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6668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تــــــــرد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26708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صعوب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قـترا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4343400"/>
            <a:ext cx="144756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لب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مساع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تخاذ المقع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خلفي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1447920" cy="1371600"/>
          </a:xfrm>
          <a:prstGeom prst="ellipse">
            <a:avLst/>
          </a:prstGeom>
          <a:solidFill>
            <a:srgbClr val="ffd89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طـــلــــ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663300"/>
                </a:solidFill>
                <a:latin typeface="Times New Roman"/>
              </a:rPr>
              <a:t>الاطمـــئنا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2F9-8523-4EEC-8150-1016210019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477120" y="2133720"/>
            <a:ext cx="2361960" cy="38098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دلائل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Times New Roman"/>
              </a:rPr>
              <a:t>الجسدية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663300"/>
                </a:solidFill>
                <a:latin typeface="Times New Roman"/>
              </a:rPr>
              <a:t>آثار انخفاض الثقة بالنف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ميل الى الانحن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457200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توتر و العصب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352680"/>
            <a:ext cx="243864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همهمة و الزمج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05740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عدم النظر في عيونه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724280"/>
            <a:ext cx="2438280" cy="1371600"/>
          </a:xfrm>
          <a:prstGeom prst="ellipse">
            <a:avLst/>
          </a:prstGeom>
          <a:solidFill>
            <a:srgbClr val="ffbfb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ff"/>
                </a:solidFill>
                <a:latin typeface="Times New Roman"/>
              </a:rPr>
              <a:t>الكسل و الخمو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CF4-2E13-4896-B0E8-B59576859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انسان لابد وأن يكون كامل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لآخرون دائما على صوا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مستواى غير لائق بما يكف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لا ينبغي للرجال أن يبكوا أبد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 لم أكن مثاليا فلا نفع ل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06F-EFB3-4827-8008-20DBFE1503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705720" y="2133720"/>
            <a:ext cx="2133360" cy="3809880"/>
          </a:xfrm>
          <a:prstGeom prst="ellipse">
            <a:avLst/>
          </a:prstGeom>
          <a:solidFill>
            <a:srgbClr val="ff00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احترس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نه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عبارات تفقدك الثقة بنفس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ذا أخطأت فلن اسامح نفسي أب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8954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سيلومني الآخرون حين أخط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73392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نا لا استطيع مساعدة نفسي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457200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Times New Roman"/>
              </a:rPr>
              <a:t>اذا أخطأت سينبذني النا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410080"/>
            <a:ext cx="5486400" cy="6858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66"/>
                </a:solidFill>
                <a:latin typeface="Times New Roman"/>
              </a:rPr>
              <a:t>لا يمكن ان انجز الا بمساعدة الآخر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C40-75A6-43FA-8AE6-07F5BD512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705720" y="2209680"/>
            <a:ext cx="175248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فـطـريـة أم مكـتـسـبـة ؟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7EA-8C30-477C-9DB3-8647CECECD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010280" y="304920"/>
            <a:ext cx="175284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الآ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25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324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هـل الثـقـة بالـنـفـس فـطـريـة أم مكـتـسـبـة؟</a:t>
            </a:r>
            <a:endParaRPr b="0" lang="en-US" sz="2400" spc="1" strike="noStrike">
              <a:ln cap="sq" w="324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22096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سـلـوك فــطــري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42900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ـمـمـارس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4724280"/>
            <a:ext cx="5791320" cy="173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%   بـعـد التـدريـب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BB0-F8D6-4940-ABC0-4240EA4254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7ECB-CD66-4F15-A2C4-07B6F2A3AE0F}" type="slidenum"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80808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قة بالنفس هي :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48520" y="3124080"/>
            <a:ext cx="1676160" cy="8384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حرك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767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قوم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4229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قناع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95600" y="4300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ؤمن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9440" y="5372280"/>
            <a:ext cx="1676160" cy="83808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00"/>
                </a:solidFill>
                <a:latin typeface="Times New Roman"/>
              </a:rPr>
              <a:t>كلم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544356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3300"/>
                </a:solidFill>
                <a:latin typeface="Times New Roman"/>
              </a:rPr>
              <a:t>ينطق بها الشخص الواثق من نفسه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5335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3300"/>
                </a:solidFill>
                <a:latin typeface="Times New Roman"/>
              </a:rPr>
              <a:t>ح     ق     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1828800"/>
            <a:ext cx="236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66"/>
                </a:solidFill>
                <a:latin typeface="Times New Roman"/>
              </a:rPr>
              <a:t>حــقـــــك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43280" y="2743200"/>
            <a:ext cx="61722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44a00"/>
                </a:solidFill>
                <a:latin typeface="Times New Roman"/>
              </a:rPr>
              <a:t>أن تعر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قنا ع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44a00"/>
                </a:solidFill>
                <a:latin typeface="Times New Roman"/>
              </a:rPr>
              <a:t>	</a:t>
            </a:r>
            <a:r>
              <a:rPr b="1" lang="hi-IN" sz="2800" spc="-1" strike="noStrike">
                <a:solidFill>
                  <a:srgbClr val="944a00"/>
                </a:solidFill>
                <a:latin typeface="Times New Roman"/>
              </a:rPr>
              <a:t>وما هى هذه الكلمات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523880"/>
            <a:ext cx="1371600" cy="373392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53400 h 3733920"/>
              <a:gd name="textAreaBottom" fmla="*/ 270720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A1FF-A1C3-4733-835E-171D76596A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5410080" cy="1371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0066"/>
                </a:solidFill>
                <a:latin typeface="Times New Roman"/>
              </a:rPr>
              <a:t>مفاتيح النجاح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057400"/>
            <a:ext cx="7315200" cy="42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جمع الحكماء مفاتيح النجاح في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اختصرها بعضهم الى عش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ومهما قلت أو أكثر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فان الثقة بالنفس هى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لمفتاح الأول ل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600200" y="304920"/>
            <a:ext cx="58672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5400" spc="-1" strike="noStrike">
                <a:solidFill>
                  <a:srgbClr val="000000"/>
                </a:solidFill>
                <a:latin typeface="Times New Roman"/>
              </a:rPr>
              <a:t>كيف تكتسب الثقة بالنفس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أيــــــمــان عــميـــ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و قــناعة بما ت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191120"/>
            <a:ext cx="350496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كــتـساب صــفـات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واثـق من نـفـسـ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114800"/>
            <a:ext cx="3505320" cy="198108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عـــمــل بمـا تـــعـتـق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3505320" cy="1981440"/>
          </a:xfrm>
          <a:prstGeom prst="ellipse">
            <a:avLst/>
          </a:prstGeom>
          <a:solidFill>
            <a:srgbClr val="944a00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مام و عــــل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ـمـا تـعـتـقــد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E3C-D994-4F7A-B5B3-96DBC96178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553080" y="762120"/>
            <a:ext cx="2286000" cy="518148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صفات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الواث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مـــن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00"/>
                </a:solidFill>
                <a:latin typeface="Times New Roman"/>
              </a:rPr>
              <a:t>نـفـس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3657600"/>
            <a:ext cx="2590920" cy="220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معتقد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295280"/>
            <a:ext cx="2590920" cy="221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كلم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2514600"/>
            <a:ext cx="2590560" cy="220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00"/>
                </a:solidFill>
                <a:latin typeface="Times New Roman"/>
              </a:rPr>
              <a:t>حركات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29B-CEA0-4D1B-8015-8BCED2376B9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بـتـس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دائــــمـــــ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981080"/>
            <a:ext cx="2286000" cy="178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هـتـ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مظهر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ارس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سن القام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صـاف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ـثـقـــــ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ختار م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يحمله بيد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هـــاد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لا يغـصـ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C97-212E-4158-B731-2C16C088234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ـمـشـي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نشــــــــا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1981080"/>
            <a:ext cx="2286000" cy="2973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يطالع النا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في عيونه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1981080"/>
            <a:ext cx="2286000" cy="2727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تصرف جيد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عندما يخط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4191120"/>
            <a:ext cx="2286000" cy="22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191120"/>
            <a:ext cx="2286000" cy="218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حـــــركـــــ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الـــــيــــــديـــ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191120"/>
            <a:ext cx="2286000" cy="261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- يستعمل بكفاء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تـــعــبــيـــــر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ff"/>
                </a:solidFill>
                <a:latin typeface="Times New Roman"/>
              </a:rPr>
              <a:t>وجـــــــــــهــــــ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82C-CA91-447F-AF3E-8FF10812243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ســــــتــعـيـن بـالـــلـــ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على اتقان أدائه و حركات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FF73-C71F-4FBB-ACD7-25F9605F2B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أولا: حرك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19051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7432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5812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4419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257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9051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بـتــســم ودع الجرح يلتئ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27432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بـــادر في الــــحـــــرك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35812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ـقـدم الى الصفـوف الأو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419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ارع الخـطى أثناء المش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5257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ــارس حـــسـن الـقـا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505-02E1-491D-8F13-6B5ED4F8D84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791320" y="1981080"/>
            <a:ext cx="2286000" cy="309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5300" spc="-1" strike="noStrike">
                <a:solidFill>
                  <a:srgbClr val="0000ff"/>
                </a:solidFill>
                <a:latin typeface="Times New Roman"/>
              </a:rPr>
              <a:t>- صوت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Times New Roman"/>
              </a:rPr>
              <a:t>واضح مسمو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1981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بــــــ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حـــــــــ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1981080"/>
            <a:ext cx="2286000" cy="263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حروف ذ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500" spc="-1" strike="noStrike">
                <a:solidFill>
                  <a:srgbClr val="0000ff"/>
                </a:solidFill>
                <a:latin typeface="Times New Roman"/>
              </a:rPr>
              <a:t>مخارج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واضح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نـغـمـات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ختـلـــف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4191120"/>
            <a:ext cx="2286000" cy="23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ar-SA" sz="3600" spc="-1" strike="noStrike">
                <a:solidFill>
                  <a:srgbClr val="0000ff"/>
                </a:solidFill>
                <a:latin typeface="Times New Roman"/>
              </a:rPr>
              <a:t>- لغه مفعم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بالنشا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267080"/>
            <a:ext cx="2286000" cy="267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التركيز عل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الكلمات الهامة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307-2A70-4A19-8970-245771FF260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791320" y="1981080"/>
            <a:ext cx="2286000" cy="27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لغــ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سـلـيـمـة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كلم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ســـهــل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مقـد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خاتم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قـــــوي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191120"/>
            <a:ext cx="2286000" cy="326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رف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نـــفــســـ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426708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الــقـا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مـعـــتــد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7841-8CE4-40BD-9EC5-90662396880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3048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أفكا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ـرتــب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038480"/>
            <a:ext cx="2286000" cy="28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- يردد و يكت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700" spc="-1" strike="noStrike">
                <a:solidFill>
                  <a:srgbClr val="0000ff"/>
                </a:solidFill>
                <a:latin typeface="Times New Roman"/>
              </a:rPr>
              <a:t>كلمات الثقة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2057400"/>
            <a:ext cx="2286000" cy="23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ستعمل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تناغم الحرك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مع المتكل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867-D45D-423E-B6D0-E7F0F1648B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05120"/>
            <a:ext cx="2438280" cy="696420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000000"/>
            </a:solidFill>
            <a:miter/>
          </a:ln>
          <a:effectLst>
            <a:outerShdw dist="378705" dir="237368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ست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قـــــواع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حـديـــث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Times New Roman"/>
              </a:rPr>
              <a:t>الـــســـــ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1523880"/>
            <a:ext cx="2590560" cy="13716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Times New Roman"/>
              </a:rPr>
              <a:t>ابداء الرأ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2971800"/>
            <a:ext cx="2727360" cy="1371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نفس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971800"/>
            <a:ext cx="2590920" cy="1371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imes New Roman"/>
              </a:rPr>
              <a:t>توجيه سؤا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523880"/>
            <a:ext cx="2590920" cy="13716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فصاح عن الحقيق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590560" cy="13716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imes New Roman"/>
              </a:rPr>
              <a:t>الكلام عن الغي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419720"/>
            <a:ext cx="2590920" cy="13716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Times New Roman"/>
              </a:rPr>
              <a:t>وصف الوضع الع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D705-6467-415F-B05B-DE07270F0B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720" y="304920"/>
            <a:ext cx="2210040" cy="1295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الثـقة</a:t>
            </a:r>
            <a:br>
              <a:rPr sz="4000"/>
            </a:b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بالنفس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920"/>
            <a:ext cx="6934320" cy="75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لثقة بالنفس شيئ نتمنى جميعا أن نستزيد م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ولكن القضية تكمن في وجودها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كيف تصبح أكثر قوة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علماء النفس و الأطباء يجمعون على أن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اذا تم اختراع حبة الثقة بالنفس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ن العالم سيصبح أكثر سعادة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وسيصبحون هم سريعا بلا عم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لكن ذلك لم يحدث بعد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فالى أين نذهب لندعم ثقتنا بأنفسنا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ى أنفسنا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00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 لنقوي ونطور مجالات تحتاج الى الاهتمام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62120" y="198108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دعـــــــــو الـــلـــ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أن يحـلل عـقـدة من لسانه</a:t>
            </a:r>
            <a:endParaRPr b="0" lang="en-US" sz="2400" spc="1" strike="noStrike">
              <a:ln cap="sq"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734-4222-432B-BA67-1A85E9CC7D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56386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نيا: كلم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1828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2666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خ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3505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4343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51814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1828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ــــقــــد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2666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خــــاتــــمـــة قــــــويــــ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3505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لقاء معـتدل و لغـة سليمـ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4343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صـــــــوت واضــــــــ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51814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ممارسة قواعد الحديث الس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C2A-2908-4FA6-97F6-26CE628A4C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791320" y="1981080"/>
            <a:ext cx="2286000" cy="182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500" spc="-1" strike="noStrike">
                <a:solidFill>
                  <a:srgbClr val="0000ff"/>
                </a:solidFill>
                <a:latin typeface="Times New Roman"/>
              </a:rPr>
              <a:t>-ايمان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500" spc="-1" strike="noStrike">
                <a:solidFill>
                  <a:srgbClr val="0000ff"/>
                </a:solidFill>
                <a:latin typeface="Times New Roman"/>
              </a:rPr>
              <a:t>بالمبادئ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1981080"/>
            <a:ext cx="2362320" cy="291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تناغم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ب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القول و العم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هدا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واضـحــــ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191120"/>
            <a:ext cx="2286000" cy="31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أحـــلا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كــبــــــي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4191120"/>
            <a:ext cx="243864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- متمكن م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معلومـاتــ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114800"/>
            <a:ext cx="2286000" cy="248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ترك انطباع مبدئ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ff"/>
                </a:solidFill>
                <a:latin typeface="Times New Roman"/>
              </a:rPr>
              <a:t>حسن في الأذها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95A-4BA4-49AD-BA0B-BB211CE072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791320" y="1981080"/>
            <a:ext cx="2286000" cy="346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تحك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وقــــتـــه 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981080"/>
            <a:ext cx="2286000" cy="327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8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- يستع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ff"/>
                </a:solidFill>
                <a:latin typeface="Times New Roman"/>
              </a:rPr>
              <a:t>للأنشطة جيد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2286000" cy="19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يعتقد بأه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المهار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Times New Roman"/>
              </a:rPr>
              <a:t>والتدري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ب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نـــق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نق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بلبــــاقـــ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267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قو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“لا” للخط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301-870B-4A5B-9F4A-EC99AF6117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791320" y="1981080"/>
            <a:ext cx="2286000" cy="319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0" lang="en-US" sz="5500" spc="-1" strike="noStrike">
                <a:solidFill>
                  <a:srgbClr val="0000ff"/>
                </a:solidFill>
                <a:latin typeface="Times New Roman"/>
              </a:rPr>
              <a:t>- يشيد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700" spc="-1" strike="noStrike">
                <a:solidFill>
                  <a:srgbClr val="0000ff"/>
                </a:solidFill>
                <a:latin typeface="Times New Roman"/>
              </a:rPr>
              <a:t>بجهد الآخرين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057400"/>
            <a:ext cx="2590560" cy="271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عند الحاجة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900" spc="-1" strike="noStrike">
                <a:solidFill>
                  <a:srgbClr val="0000ff"/>
                </a:solidFill>
                <a:latin typeface="Times New Roman"/>
              </a:rPr>
              <a:t>يطلب المساعدة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5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مستمع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419112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16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تقـ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عــــر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4191120"/>
            <a:ext cx="2286000" cy="25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17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لا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600" spc="-1" strike="noStrike">
                <a:solidFill>
                  <a:srgbClr val="0000ff"/>
                </a:solidFill>
                <a:latin typeface="Times New Roman"/>
              </a:rPr>
              <a:t>يـحــــســد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4267080"/>
            <a:ext cx="2286000" cy="30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- يجعل ل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مثلا أعلى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36C-8B15-48F1-8B1A-1BF06F100B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867280" y="1905120"/>
            <a:ext cx="2286000" cy="197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19</a:t>
            </a:r>
            <a:r>
              <a:rPr b="0" lang="en-US" sz="4900" spc="-1" strike="noStrike">
                <a:solidFill>
                  <a:srgbClr val="0000ff"/>
                </a:solidFill>
                <a:latin typeface="Times New Roman"/>
              </a:rPr>
              <a:t>- يهتم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900" spc="-1" strike="noStrike">
                <a:solidFill>
                  <a:srgbClr val="0000ff"/>
                </a:solidFill>
                <a:latin typeface="Times New Roman"/>
              </a:rPr>
              <a:t>بالأخلاق</a:t>
            </a:r>
            <a:endParaRPr b="0" lang="en-US" sz="4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057400"/>
            <a:ext cx="2590560" cy="304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</a:rPr>
              <a:t>- يحب بعض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00ff"/>
                </a:solidFill>
                <a:latin typeface="Times New Roman"/>
              </a:rPr>
              <a:t>المخاطرة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191120"/>
            <a:ext cx="2286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- يباد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Times New Roman"/>
              </a:rPr>
              <a:t>بالعـــمــ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4114800"/>
            <a:ext cx="2286000" cy="339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22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- يحب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ff"/>
                </a:solidFill>
                <a:latin typeface="Times New Roman"/>
              </a:rPr>
              <a:t>التجــدي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DD1-D368-48A9-A1AF-E80A56B51C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905120"/>
            <a:ext cx="7924680" cy="16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0" lang="en-US" sz="5000" spc="-1" strike="noStrike">
                <a:solidFill>
                  <a:srgbClr val="0000ff"/>
                </a:solidFill>
                <a:latin typeface="Times New Roman"/>
              </a:rPr>
              <a:t>- يتعرف على نقاط ضعفه و قوته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327672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 الثقة بالنفس مهارة مكتسبة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724280"/>
            <a:ext cx="7924680" cy="149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0" lang="en-US" sz="4600" spc="-1" strike="noStrike">
                <a:solidFill>
                  <a:srgbClr val="0000ff"/>
                </a:solidFill>
                <a:latin typeface="Times New Roman"/>
              </a:rPr>
              <a:t>- يعتقد أنه مهيأ دائما لزيادة ثقته بنفسه</a:t>
            </a:r>
            <a:endParaRPr b="0" lang="en-US" sz="4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652-7F25-49AA-9A15-E1EAE45A35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2120" y="1828800"/>
            <a:ext cx="75438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يــــــــهـــتــم بالــصــــــلاة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كـوسـيــلة فـعـالـة لحل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مشاكـله و اتقان عـمله</a:t>
            </a:r>
            <a:endParaRPr b="0" lang="en-US" sz="2400" spc="1" strike="noStrike">
              <a:ln cap="sq"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735-05F7-47AC-B700-A3CE1600EE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ســـــلــــم ثـم صــــــافــــ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ســــــــــــتــــــعــــــــــــــ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ــالــعــه في عـيــنــــــــه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عــــــرف نـــــفــــســـــــ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تعــــــرف عـلى الـنــــــاس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أيم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C490-E65B-43EA-9A92-055C8D54FE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0" y="228600"/>
            <a:ext cx="1905120" cy="1447920"/>
          </a:xfrm>
          <a:prstGeom prst="ellipse">
            <a:avLst/>
          </a:prstGeom>
          <a:solidFill>
            <a:srgbClr val="ffff00"/>
          </a:solidFill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صفات الواث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مـــن نـفـس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5867280" cy="838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Times New Roman"/>
              </a:rPr>
              <a:t>ثالثا: معتقدات الواثق من نفسه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21337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29718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4320" y="380988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ط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34320" y="464832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5486400"/>
            <a:ext cx="1371600" cy="685800"/>
          </a:xfrm>
          <a:prstGeom prst="leftArrowCallout">
            <a:avLst>
              <a:gd name="adj1" fmla="val 25002"/>
              <a:gd name="adj2" fmla="val 25000"/>
              <a:gd name="adj3" fmla="val 33333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Times New Roman"/>
              </a:rPr>
              <a:t>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“لا”  لمن يصفك بما لا يل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9718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قــبـول الــنــقـد الــبــنــــاء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80988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طلب المساعدة عند الحاجة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64832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66"/>
                </a:solidFill>
                <a:latin typeface="Times New Roman"/>
              </a:rPr>
              <a:t>اشـــادة بجــهــود الآخـــ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486400"/>
            <a:ext cx="5486400" cy="6858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66"/>
                </a:solidFill>
                <a:latin typeface="Times New Roman"/>
              </a:rPr>
              <a:t>توجيه النصيحة بطريقة صحيح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1371600"/>
            <a:ext cx="4419360" cy="60948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33cc"/>
                </a:solidFill>
                <a:latin typeface="Times New Roman"/>
              </a:rPr>
              <a:t>قناعات سلوك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7D76-44A0-4A09-92A3-CF9C846699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4"/>
            </a:gs>
            <a:gs pos="50000">
              <a:srgbClr val="000094"/>
            </a:gs>
            <a:gs pos="100000">
              <a:srgbClr val="00004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00800" y="5562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8172-DB39-490B-AC44-582D1EDF6D1E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000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hi-IN" sz="2400" spc="-1" strike="noStrike">
                <a:solidFill>
                  <a:srgbClr val="ffffff"/>
                </a:solidFill>
                <a:latin typeface="Times New Roman"/>
              </a:rPr>
              <a:t>ادارة الاجتم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الثقة بالنفس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لماذا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متى تهتز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آثار انخفاض الثقة بالنفس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كيف تكتسب الثقة بالنفس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4000" spc="-1" strike="noStrike">
                <a:solidFill>
                  <a:srgbClr val="ffffff"/>
                </a:solidFill>
                <a:latin typeface="Times New Roman"/>
              </a:rPr>
              <a:t>صفات الواثق مـــن نـفـسه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ff00"/>
                </a:solidFill>
                <a:latin typeface="Times New Roman"/>
              </a:rPr>
              <a:t>الــثــقـة  بالـنــفـ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553080" y="2209680"/>
            <a:ext cx="2210040" cy="213372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219320"/>
            <a:ext cx="55627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301"/>
                <a:gd name="adj2" fmla="val -542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ث الثـقـة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5A3-9617-4F21-9DD3-026D573C676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705720" y="304920"/>
            <a:ext cx="2133360" cy="1066680"/>
          </a:xfrm>
          <a:prstGeom prst="rect">
            <a:avLst/>
          </a:prstGeom>
          <a:solidFill>
            <a:srgbClr val="000066"/>
          </a:solidFill>
          <a:ln cap="sq"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Times New Roman"/>
              </a:rPr>
              <a:t>وأخيرا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457200"/>
            <a:ext cx="556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-39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معـادلـــة بث الثـقـة بالـنـفـس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934320" y="17524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23623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34320" y="29718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934320" y="35812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19112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17524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بـــــــادر و أنــــــــــــت قــــــــــــــاد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23623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ق بـنـفــــســـك و لــو لـــوحـــــــد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9718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ابـــتـــــســـــــــم ودع الجرح يــلــتــئــ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5812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لا تـــأس على ما فاتك و خـطـط لحـياتـ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419112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ثـــــــــابـــــــــر و أنـــــــت شـــــــاطــ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480060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80060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قـــدم العـطـاء و احـرص عـلى الـثـنــ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410080"/>
            <a:ext cx="1371600" cy="457200"/>
          </a:xfrm>
          <a:prstGeom prst="leftArrowCallout">
            <a:avLst>
              <a:gd name="adj1" fmla="val 25002"/>
              <a:gd name="adj2" fmla="val 25000"/>
              <a:gd name="adj3" fmla="val 50000"/>
              <a:gd name="adj4" fmla="val 66673"/>
            </a:avLst>
          </a:prstGeom>
          <a:solidFill>
            <a:srgbClr val="ff00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410080"/>
            <a:ext cx="5486400" cy="4572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66"/>
                </a:solidFill>
                <a:latin typeface="Times New Roman"/>
              </a:rPr>
              <a:t>تـحــدث بـراحــة و بـكــل صـــراحـــــ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B94-1652-40CE-AEB8-9734602AD92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9051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ائ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7672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عــــــمـلــ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4572000"/>
            <a:ext cx="4648320" cy="914400"/>
          </a:xfrm>
          <a:prstGeom prst="ellipse">
            <a:avLst/>
          </a:prstGeom>
          <a:solidFill>
            <a:srgbClr val="ff9900"/>
          </a:solidFill>
          <a:ln cap="sq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0000ff"/>
                </a:solidFill>
                <a:latin typeface="Times New Roman"/>
              </a:rPr>
              <a:t>القيم الانسانيــة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62A-398E-49E7-8106-57E9F3FA60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 على اقناع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</a:rPr>
              <a:t>تمكنك من التأثيرب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الثبات على موقف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ساعدك لعرض أفكار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عطيك شعورا بالقوة والسعاد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3E7-9E46-4CCC-BF02-D37AD7EA84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ffff00"/>
                </a:solidFill>
                <a:latin typeface="Times New Roman"/>
              </a:rPr>
              <a:t>الثقة بالنفس 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00</a:t>
            </a:r>
            <a:r>
              <a:rPr b="0" i="1" lang="en-US" sz="6600" spc="-1" strike="noStrike">
                <a:solidFill>
                  <a:srgbClr val="ffff00"/>
                </a:solidFill>
                <a:latin typeface="Times New Roman"/>
              </a:rPr>
              <a:t> لماذا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828800"/>
            <a:ext cx="1981080" cy="380988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فت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النجا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في كل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مجالات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imes New Roman"/>
              </a:rPr>
              <a:t>حيات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8288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في مهامك الوظيف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مكنك من مواجهة الجمهو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0532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3300"/>
                </a:solidFill>
                <a:latin typeface="Times New Roman"/>
              </a:rPr>
              <a:t>تكسبك احترام الآخرين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ساعدك على حسن التصر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5486400" cy="685800"/>
          </a:xfrm>
          <a:prstGeom prst="rect">
            <a:avLst/>
          </a:prstGeom>
          <a:solidFill>
            <a:srgbClr val="41ff41"/>
          </a:soli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3300"/>
                </a:solidFill>
                <a:latin typeface="Times New Roman"/>
              </a:rPr>
              <a:t>تنقذك من المواقف المحرج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F7F-0A0D-4E6B-A543-381C066F95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0880" y="990720"/>
            <a:ext cx="838224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الواثقون في العالم لا يتجاوزون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2% </a:t>
            </a:r>
            <a:r>
              <a:rPr b="0" lang="hi-IN" sz="2400" spc="1" strike="noStrike">
                <a:ln cap="sq" w="284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من البشرية</a:t>
            </a:r>
            <a:endParaRPr b="0" lang="en-US" sz="2400" spc="1" strike="noStrike">
              <a:ln cap="sq" w="2844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BEC-8370-4D4E-A4B6-32D4A39781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50000">
              <a:srgbClr val="008000"/>
            </a:gs>
            <a:gs pos="100000">
              <a:srgbClr val="003b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6600" spc="-1" strike="noStrike">
                <a:solidFill>
                  <a:srgbClr val="0000ff"/>
                </a:solidFill>
                <a:latin typeface="Times New Roman"/>
              </a:rPr>
              <a:t>متى تهتز الثقة بالنفس؟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نق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لاذ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209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لقا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سؤول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2133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واق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حرج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3276720"/>
            <a:ext cx="1600200" cy="1218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ــــو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3352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ـوحـــــ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كث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شاك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457200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مواجه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مخالف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4495680"/>
            <a:ext cx="1600200" cy="1219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فشــــــ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4FB-3080-4F7F-A22E-FAB1D8289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6:10:01Z</dcterms:created>
  <dc:creator>***</dc:creator>
  <dc:description/>
  <dc:language>en-US</dc:language>
  <cp:lastModifiedBy>Compaq</cp:lastModifiedBy>
  <dcterms:modified xsi:type="dcterms:W3CDTF">2000-07-24T14:25:33Z</dcterms:modified>
  <cp:revision>87</cp:revision>
  <dc:subject/>
  <dc:title>التواصل الفردي</dc:title>
</cp:coreProperties>
</file>