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AFFD-57BD-42C9-88D1-13A0843D3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24A3-216A-4F49-83FC-ED889176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71BB-7D07-458B-B071-5D6A0376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A00E-03D9-417D-8DD5-4120B07F6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599D-1CCE-47F1-8BDF-F776D277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DCEB-BA75-430B-8459-44F54CFC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469C-DB76-4B83-8F37-65AF6E70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8D26-5170-4AE3-88F9-04BCEDA7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BBDC-F40B-42B3-BB1D-7FC83584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938D-5ACB-4BC0-B860-BAD7DD41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0640-89A9-4AD7-8D01-D971848C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E36E-6488-4ADB-A04D-B50C84A8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hi-IN" sz="2400" spc="-1" strike="noStrike">
                <a:solidFill>
                  <a:srgbClr val="ffffff"/>
                </a:solidFill>
                <a:latin typeface="Times New Roman"/>
              </a:rPr>
              <a:t>ادارة الاجتما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00800" y="5562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66E5-8426-439E-8D79-F920E6455C89}" type="slidenum"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ffff00"/>
                </a:solidFill>
                <a:latin typeface="Times New Roman"/>
              </a:rPr>
              <a:t>الــثــقـة  بالـنــفـس</a:t>
            </a:r>
            <a:endParaRPr b="0" lang="en-US" sz="9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133720" y="2514600"/>
          <a:ext cx="45720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514600"/>
                    <a:ext cx="4572000" cy="3886200"/>
                  </a:xfrm>
                  <a:prstGeom prst="rect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477120" y="2133720"/>
            <a:ext cx="2361960" cy="38098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Times New Roman"/>
              </a:rPr>
              <a:t>التفـكـيـر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663300"/>
                </a:solidFill>
                <a:latin typeface="Times New Roman"/>
              </a:rPr>
              <a:t>آثار انخفاض الثقة بالنف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1981080"/>
            <a:ext cx="1447920" cy="13716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لا أستطي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3429000"/>
            <a:ext cx="4495680" cy="129528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لن أكون حسنا بما يكف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ربما غيري أفض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981080"/>
            <a:ext cx="1447560" cy="13716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لا أعـــــر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1981080"/>
            <a:ext cx="1447920" cy="13716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قد أستطي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التعام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4876920"/>
            <a:ext cx="4572000" cy="11430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ببـــــــســــــاطـــــ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لا استطيع تقرير ماذا أفع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29000" y="1981080"/>
            <a:ext cx="1447920" cy="13716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هــــذ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صــعــ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DF53-F543-4A78-943F-FF8C0A4FE2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77120" y="2133720"/>
            <a:ext cx="2361960" cy="38098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Times New Roman"/>
              </a:rPr>
              <a:t>الشعــور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663300"/>
                </a:solidFill>
                <a:latin typeface="Times New Roman"/>
              </a:rPr>
              <a:t>آثار انخفاض الثقة بالنف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1981080"/>
            <a:ext cx="1447920" cy="1371600"/>
          </a:xfrm>
          <a:prstGeom prst="ellipse">
            <a:avLst/>
          </a:prstGeom>
          <a:solidFill>
            <a:srgbClr val="c9ffc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خـــــو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3429000"/>
            <a:ext cx="4495680" cy="1295280"/>
          </a:xfrm>
          <a:prstGeom prst="ellipse">
            <a:avLst/>
          </a:prstGeom>
          <a:solidFill>
            <a:srgbClr val="c9ffc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خوف من المجهو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أو المواقف الجديد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981080"/>
            <a:ext cx="1447560" cy="1371600"/>
          </a:xfrm>
          <a:prstGeom prst="ellipse">
            <a:avLst/>
          </a:prstGeom>
          <a:solidFill>
            <a:srgbClr val="c9ffc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غضب م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نـــفـــس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1981080"/>
            <a:ext cx="1447920" cy="1371600"/>
          </a:xfrm>
          <a:prstGeom prst="ellipse">
            <a:avLst/>
          </a:prstGeom>
          <a:solidFill>
            <a:srgbClr val="c9ffc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احــــبا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4876920"/>
            <a:ext cx="4572000" cy="1143000"/>
          </a:xfrm>
          <a:prstGeom prst="ellipse">
            <a:avLst/>
          </a:prstGeom>
          <a:solidFill>
            <a:srgbClr val="c9ffc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فتقاد التشجي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و الشعور بالهبوط المعنو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1981080"/>
            <a:ext cx="1447920" cy="1371600"/>
          </a:xfrm>
          <a:prstGeom prst="ellipse">
            <a:avLst/>
          </a:prstGeom>
          <a:solidFill>
            <a:srgbClr val="c9ffc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قلق م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مصاع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7FE9-C990-4BEB-9133-DBBC0BECC0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477120" y="2133720"/>
            <a:ext cx="2361960" cy="38098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Times New Roman"/>
              </a:rPr>
              <a:t>الســلوك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663300"/>
                </a:solidFill>
                <a:latin typeface="Times New Roman"/>
              </a:rPr>
              <a:t>آثار انخفاض الثقة بالنف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2666880"/>
            <a:ext cx="144792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ســلـبـي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666880"/>
            <a:ext cx="144756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تجـــــنب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تغـــيـي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2666880"/>
            <a:ext cx="144792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تســــوي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2666880"/>
            <a:ext cx="144792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تــــــــرد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4267080"/>
            <a:ext cx="144792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صعوب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اقـترا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05320" y="4343400"/>
            <a:ext cx="144756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طلب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مساعد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4343400"/>
            <a:ext cx="144792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تخاذ المقع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خلفي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343400"/>
            <a:ext cx="144792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طـــلــــ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اطمـــئنا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161C-5BA8-47B3-9EB9-6EC8704BAC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477120" y="2133720"/>
            <a:ext cx="2361960" cy="38098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Times New Roman"/>
              </a:rPr>
              <a:t>الدلائل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Times New Roman"/>
              </a:rPr>
              <a:t>الجسدية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663300"/>
                </a:solidFill>
                <a:latin typeface="Times New Roman"/>
              </a:rPr>
              <a:t>آثار انخفاض الثقة بالنف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2133720"/>
            <a:ext cx="2438280" cy="1371600"/>
          </a:xfrm>
          <a:prstGeom prst="ellipse">
            <a:avLst/>
          </a:prstGeom>
          <a:solidFill>
            <a:srgbClr val="ffbfb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ميل الى الانحنا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38480" y="4572000"/>
            <a:ext cx="2438640" cy="1371600"/>
          </a:xfrm>
          <a:prstGeom prst="ellipse">
            <a:avLst/>
          </a:prstGeom>
          <a:solidFill>
            <a:srgbClr val="ffbfb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توتر و العصبي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3352680"/>
            <a:ext cx="2438640" cy="1371600"/>
          </a:xfrm>
          <a:prstGeom prst="ellipse">
            <a:avLst/>
          </a:prstGeom>
          <a:solidFill>
            <a:srgbClr val="ffbfb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همهمة و الزمجر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2057400"/>
            <a:ext cx="2438280" cy="1371600"/>
          </a:xfrm>
          <a:prstGeom prst="ellipse">
            <a:avLst/>
          </a:prstGeom>
          <a:solidFill>
            <a:srgbClr val="ffbfb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عدم النظر في عيونه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4724280"/>
            <a:ext cx="2438280" cy="1371600"/>
          </a:xfrm>
          <a:prstGeom prst="ellipse">
            <a:avLst/>
          </a:prstGeom>
          <a:solidFill>
            <a:srgbClr val="ffbfb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كسل و الخمو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CDA7-ACC0-45C4-A403-60C38A7EF4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705720" y="2133720"/>
            <a:ext cx="2133360" cy="3809880"/>
          </a:xfrm>
          <a:prstGeom prst="ellipse">
            <a:avLst/>
          </a:prstGeom>
          <a:solidFill>
            <a:srgbClr val="ff0000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احتر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منها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00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ffff00"/>
                </a:solidFill>
                <a:latin typeface="Times New Roman"/>
              </a:rPr>
              <a:t>عبارات تفقدك الثقة بنفسك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205740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الانسان لابد وأن يكون كامل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289548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الآخرون دائما على صواب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373392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مستواى غير لائق بما يكف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457200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لا ينبغي للرجال أن يبكوا أبد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541008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ان لم أكن مثاليا فلا نفع لي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EE33-D6F7-4328-AFE5-F67A5D8B69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705720" y="2133720"/>
            <a:ext cx="2133360" cy="3809880"/>
          </a:xfrm>
          <a:prstGeom prst="ellipse">
            <a:avLst/>
          </a:prstGeom>
          <a:solidFill>
            <a:srgbClr val="ff0000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احتر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منها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00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ffff00"/>
                </a:solidFill>
                <a:latin typeface="Times New Roman"/>
              </a:rPr>
              <a:t>عبارات تفقدك الثقة بنفسك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205740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66"/>
                </a:solidFill>
                <a:latin typeface="Times New Roman"/>
              </a:rPr>
              <a:t>اذا أخطأت فلن اسامح نفسي أبد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289548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سيلومني الآخرون حين أخط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373392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انا لا استطيع مساعدة نفس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457200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اذا أخطأت سينبذني الناس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541008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66"/>
                </a:solidFill>
                <a:latin typeface="Times New Roman"/>
              </a:rPr>
              <a:t>لا يمكن ان انجز الا بمساعدة الآخري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FE3B-91AE-4083-98FC-50AE07AC41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705720" y="2209680"/>
            <a:ext cx="1752480" cy="2133720"/>
          </a:xfrm>
          <a:prstGeom prst="rect">
            <a:avLst/>
          </a:prstGeom>
          <a:solidFill>
            <a:srgbClr val="000066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ff"/>
                </a:solidFill>
                <a:latin typeface="Times New Roman"/>
              </a:rPr>
              <a:t>والآن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219320"/>
            <a:ext cx="556272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301"/>
                <a:gd name="adj2" fmla="val -542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هـل الثـقـة بالـنـفـس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 </a:t>
            </a:r>
            <a:r>
              <a:rPr b="0" lang="hi-I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فـطـريـة أم مكـتـسـبـة ؟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4155-878F-46CF-A580-7FF067EF52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010280" y="304920"/>
            <a:ext cx="1752840" cy="1066680"/>
          </a:xfrm>
          <a:prstGeom prst="rect">
            <a:avLst/>
          </a:prstGeom>
          <a:solidFill>
            <a:srgbClr val="000066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ff"/>
                </a:solidFill>
                <a:latin typeface="Times New Roman"/>
              </a:rPr>
              <a:t>والآن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457200"/>
            <a:ext cx="6096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301"/>
                <a:gd name="adj2" fmla="val -259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324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هـل الثـقـة بالـنـفـس فـطـريـة أم مكـتـسـبـة؟</a:t>
            </a:r>
            <a:endParaRPr b="0" lang="en-US" sz="2400" spc="1" strike="noStrike">
              <a:ln cap="sq" w="324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2209680"/>
            <a:ext cx="5791320" cy="173988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%   سـلـوك فــطــري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3429000"/>
            <a:ext cx="5791320" cy="173988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%   بـعـد الـمـمـارسة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4724280"/>
            <a:ext cx="5791320" cy="173988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%   بـعـد التـدريـب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1A8E-4156-4CF6-81CD-51FF2C2028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400800" y="5562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83F7-47FC-4982-9687-07E24DD1F73D}" type="slidenum"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00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دارة الاجتما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304920"/>
            <a:ext cx="58672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53753" dir="2700000" blurRad="0" rotWithShape="0">
              <a:srgbClr val="00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5400" spc="-1" strike="noStrike">
                <a:solidFill>
                  <a:srgbClr val="808080"/>
                </a:solidFill>
                <a:latin typeface="Times New Roman"/>
              </a:rPr>
              <a:t>كيف تكتسب الثقة بالنفس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2209680"/>
            <a:ext cx="380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66"/>
                </a:solidFill>
                <a:latin typeface="Times New Roman"/>
              </a:rPr>
              <a:t>الثقة بالنفس هي :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48520" y="3124080"/>
            <a:ext cx="1676160" cy="8384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3300"/>
                </a:solidFill>
                <a:latin typeface="Times New Roman"/>
              </a:rPr>
              <a:t>حرك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32767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3300"/>
                </a:solidFill>
                <a:latin typeface="Times New Roman"/>
              </a:rPr>
              <a:t>يقوم بها الشخص الواثق من نفسه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4229280"/>
            <a:ext cx="1676160" cy="8380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3300"/>
                </a:solidFill>
                <a:latin typeface="Times New Roman"/>
              </a:rPr>
              <a:t>قناع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95600" y="430056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3300"/>
                </a:solidFill>
                <a:latin typeface="Times New Roman"/>
              </a:rPr>
              <a:t>يؤمن بها الشخص الواثق من نفسه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29440" y="5372280"/>
            <a:ext cx="1676160" cy="8380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3300"/>
                </a:solidFill>
                <a:latin typeface="Times New Roman"/>
              </a:rPr>
              <a:t>كلم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6520" y="544356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3300"/>
                </a:solidFill>
                <a:latin typeface="Times New Roman"/>
              </a:rPr>
              <a:t>ينطق بها الشخص الواثق من نفسه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43000" y="53352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3300"/>
                </a:solidFill>
                <a:latin typeface="Times New Roman"/>
              </a:rPr>
              <a:t>ح     ق     ك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1828800"/>
            <a:ext cx="2362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66"/>
                </a:solidFill>
                <a:latin typeface="Times New Roman"/>
              </a:rPr>
              <a:t>حــقـــــك 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43280" y="2743200"/>
            <a:ext cx="617220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44a00"/>
                </a:solidFill>
                <a:latin typeface="Times New Roman"/>
              </a:rPr>
              <a:t>أن تعر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4a00"/>
                </a:solidFill>
                <a:latin typeface="Times New Roman"/>
              </a:rPr>
              <a:t>	</a:t>
            </a:r>
            <a:r>
              <a:rPr b="1" lang="hi-IN" sz="2800" spc="-1" strike="noStrike">
                <a:solidFill>
                  <a:srgbClr val="944a00"/>
                </a:solidFill>
                <a:latin typeface="Times New Roman"/>
              </a:rPr>
              <a:t>ما هى هذه الكلمات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4a00"/>
                </a:solidFill>
                <a:latin typeface="Times New Roman"/>
              </a:rPr>
              <a:t>	</a:t>
            </a:r>
            <a:r>
              <a:rPr b="1" lang="hi-IN" sz="2800" spc="-1" strike="noStrike">
                <a:solidFill>
                  <a:srgbClr val="944a00"/>
                </a:solidFill>
                <a:latin typeface="Times New Roman"/>
              </a:rPr>
              <a:t>وما هى هذه القنا عات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4a00"/>
                </a:solidFill>
                <a:latin typeface="Times New Roman"/>
              </a:rPr>
              <a:t>	</a:t>
            </a:r>
            <a:r>
              <a:rPr b="1" lang="hi-IN" sz="2800" spc="-1" strike="noStrike">
                <a:solidFill>
                  <a:srgbClr val="944a00"/>
                </a:solidFill>
                <a:latin typeface="Times New Roman"/>
              </a:rPr>
              <a:t>وما هى هذه الكلمات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1523880"/>
            <a:ext cx="1371600" cy="373392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653400 h 3733920"/>
              <a:gd name="textAreaBottom" fmla="*/ 270720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C25E-B7D9-4FE8-8B76-F661E6F7A2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800" y="533520"/>
            <a:ext cx="5410080" cy="13716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0066"/>
                </a:solidFill>
                <a:latin typeface="Times New Roman"/>
              </a:rPr>
              <a:t>مفاتيح النجاح</a:t>
            </a:r>
            <a:endParaRPr b="0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057400"/>
            <a:ext cx="7315200" cy="42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جمع الحكماء مفاتيح النجاح في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واختصرها بعضهم الى عشر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ومهما قلت أو أكثر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00"/>
                </a:solidFill>
                <a:latin typeface="Times New Roman"/>
              </a:rPr>
              <a:t>فان الثقة بالنفس هى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00"/>
                </a:solidFill>
                <a:latin typeface="Times New Roman"/>
              </a:rPr>
              <a:t>المفتاح الأول للنج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600200" y="304920"/>
            <a:ext cx="58672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5400" spc="-1" strike="noStrike">
                <a:solidFill>
                  <a:srgbClr val="000000"/>
                </a:solidFill>
                <a:latin typeface="Times New Roman"/>
              </a:rPr>
              <a:t>كيف تكتسب الثقة بالنفس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1981080"/>
            <a:ext cx="3505320" cy="1981440"/>
          </a:xfrm>
          <a:prstGeom prst="ellipse">
            <a:avLst/>
          </a:prstGeom>
          <a:solidFill>
            <a:srgbClr val="944a00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أيــــــمــان عــميـــ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و قــناعة بما تعـتـقـد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4191120"/>
            <a:ext cx="3504960" cy="1981080"/>
          </a:xfrm>
          <a:prstGeom prst="ellipse">
            <a:avLst/>
          </a:prstGeom>
          <a:solidFill>
            <a:srgbClr val="944a00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كــتـساب صــفـات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لــواثـق من نـفـسـ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4114800"/>
            <a:ext cx="3505320" cy="1981080"/>
          </a:xfrm>
          <a:prstGeom prst="ellipse">
            <a:avLst/>
          </a:prstGeom>
          <a:solidFill>
            <a:srgbClr val="944a00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لــعـــمــل بمـا تـــعـتـقـد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981080"/>
            <a:ext cx="3505320" cy="1981440"/>
          </a:xfrm>
          <a:prstGeom prst="ellipse">
            <a:avLst/>
          </a:prstGeom>
          <a:solidFill>
            <a:srgbClr val="944a00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لــمام و عــــلـ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بـمـا تـعـتـقــد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4495-CB84-469F-AAE7-AE9BE54802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553080" y="762120"/>
            <a:ext cx="2286000" cy="518148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Times New Roman"/>
              </a:rPr>
              <a:t>صفات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Times New Roman"/>
              </a:rPr>
              <a:t>الواث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Times New Roman"/>
              </a:rPr>
              <a:t>مـــن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Times New Roman"/>
              </a:rPr>
              <a:t>نـفـسه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3657600"/>
            <a:ext cx="2590920" cy="22096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معتقدات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1295280"/>
            <a:ext cx="2590920" cy="22100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كلمات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2514600"/>
            <a:ext cx="2590560" cy="22096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حركات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35FB-0B83-4CE5-BF8B-4FE5C235F7E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أولا: حرك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198108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ـبـتـسـ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دائــــمـــــ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1981080"/>
            <a:ext cx="2286000" cy="178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ـهـتـ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بمظهر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98108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ـمـارس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حسن القام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419112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ـصـاف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بـثـقـــــــــ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419112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ختار م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يحمله بيد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19112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هـــاد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لا يغـصـب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BCD8-9132-4337-9277-7CD6A1A2943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أولا: حرك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91320" y="198108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ـمـشـي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بنشــــــــاط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1981080"/>
            <a:ext cx="2286000" cy="2973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- يطالع النا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في عيونه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981080"/>
            <a:ext cx="2286000" cy="2727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- يتصرف جيد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Times New Roman"/>
              </a:rPr>
              <a:t>عندما يخط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4191120"/>
            <a:ext cx="2286000" cy="22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يستعمل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Times New Roman"/>
              </a:rPr>
              <a:t>التناغم الحرك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Times New Roman"/>
              </a:rPr>
              <a:t>مع المتكل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4191120"/>
            <a:ext cx="2286000" cy="218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1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 يستعمل بكفاء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Times New Roman"/>
              </a:rPr>
              <a:t>حـــــركـــــا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Times New Roman"/>
              </a:rPr>
              <a:t>الـــــيــــــديـــ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4191120"/>
            <a:ext cx="2286000" cy="261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2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 يستعمل بكفاء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Times New Roman"/>
              </a:rPr>
              <a:t>تـــعــبــيـــــرا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Times New Roman"/>
              </a:rPr>
              <a:t>وجـــــــــــهــــــ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88CC-07DB-474C-9835-D46E2A660C6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أولا: حرك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62120" y="1981080"/>
            <a:ext cx="75438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يــســــــتــعـيـن بـالـــلـــه</a:t>
            </a:r>
            <a:endParaRPr b="0" lang="en-US" sz="2400" spc="1" strike="noStrike">
              <a:ln cap="sq" w="1260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على اتقان أدائه و حركاته</a:t>
            </a:r>
            <a:endParaRPr b="0" lang="en-US" sz="2400" spc="1" strike="noStrike">
              <a:ln cap="sq" w="1260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C058-D2AC-4C00-81EC-5BB4D14787A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أولا: حرك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86600" y="19051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أ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86600" y="27432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ب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86600" y="358128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86600" y="44197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س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86600" y="52578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19051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ابـتــســم ودع الجرح يلتئ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27432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بـــادر في الــــحـــــركـ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358128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تـقـدم الى الصفـوف الأولى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44197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سـارع الخـطى أثناء المشي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52578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مــــــارس حـــسـن الـقـام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D00C-0075-4C38-9387-7F25527748D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791320" y="1981080"/>
            <a:ext cx="2286000" cy="309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5300" spc="-1" strike="noStrike">
                <a:solidFill>
                  <a:srgbClr val="0000ff"/>
                </a:solidFill>
                <a:latin typeface="Times New Roman"/>
              </a:rPr>
              <a:t>- صوت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ff"/>
                </a:solidFill>
                <a:latin typeface="Times New Roman"/>
              </a:rPr>
              <a:t>واضح مسمو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198108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نبــــــر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حـــــــــاد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981080"/>
            <a:ext cx="2286000" cy="2633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- حروف ذ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500" spc="-1" strike="noStrike">
                <a:solidFill>
                  <a:srgbClr val="0000ff"/>
                </a:solidFill>
                <a:latin typeface="Times New Roman"/>
              </a:rPr>
              <a:t>مخارج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واضح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67280" y="419112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نـغـمـات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مختـلـــفــــ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4191120"/>
            <a:ext cx="2286000" cy="230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ar-SA" sz="3600" spc="-1" strike="noStrike">
                <a:solidFill>
                  <a:srgbClr val="0000ff"/>
                </a:solidFill>
                <a:latin typeface="Times New Roman"/>
              </a:rPr>
              <a:t>- لغه مفعم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ff"/>
                </a:solidFill>
                <a:latin typeface="Times New Roman"/>
              </a:rPr>
              <a:t>بالنشاط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4267080"/>
            <a:ext cx="2286000" cy="267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- التركيز عل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700" spc="-1" strike="noStrike">
                <a:solidFill>
                  <a:srgbClr val="0000ff"/>
                </a:solidFill>
                <a:latin typeface="Times New Roman"/>
              </a:rPr>
              <a:t>الكلمات الهامة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نيا: كلم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FFBE-BC28-4CA5-88E0-01C312F8EAD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791320" y="1981080"/>
            <a:ext cx="2286000" cy="2722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0" lang="en-US" sz="4900" spc="-1" strike="noStrike">
                <a:solidFill>
                  <a:srgbClr val="0000ff"/>
                </a:solidFill>
                <a:latin typeface="Times New Roman"/>
              </a:rPr>
              <a:t>- لغـــة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900" spc="-1" strike="noStrike">
                <a:solidFill>
                  <a:srgbClr val="0000ff"/>
                </a:solidFill>
                <a:latin typeface="Times New Roman"/>
              </a:rPr>
              <a:t>سـلـيـمـة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198108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كلما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ســـهــل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198108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مقـدم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قـــــويـ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419112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خاتم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قـــــويـ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76720" y="4191120"/>
            <a:ext cx="2286000" cy="3262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11</a:t>
            </a: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- يعرف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0000ff"/>
                </a:solidFill>
                <a:latin typeface="Times New Roman"/>
              </a:rPr>
              <a:t>نـــفــســـه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426708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2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الــقـا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مـعـــتــد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نيا: كلم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F67B-D9F0-4BB1-8EB6-5B47437D62D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304812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14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أفكار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مـرتــبـ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4038480"/>
            <a:ext cx="2286000" cy="2874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15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- يردد و يكت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700" spc="-1" strike="noStrike">
                <a:solidFill>
                  <a:srgbClr val="0000ff"/>
                </a:solidFill>
                <a:latin typeface="Times New Roman"/>
              </a:rPr>
              <a:t>كلمات الثقة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نيا: كلم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2057400"/>
            <a:ext cx="2286000" cy="2366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يستعمل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Times New Roman"/>
              </a:rPr>
              <a:t>التناغم الحرك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Times New Roman"/>
              </a:rPr>
              <a:t>مع المتكل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58D3-4CFA-45FF-8885-1D2132FAF96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نيا: كلم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1905120"/>
            <a:ext cx="2438280" cy="6964200"/>
          </a:xfrm>
          <a:prstGeom prst="rect">
            <a:avLst/>
          </a:prstGeom>
          <a:solidFill>
            <a:srgbClr val="ffff00"/>
          </a:solidFill>
          <a:ln cap="sq" w="38160">
            <a:solidFill>
              <a:srgbClr val="000000"/>
            </a:solidFill>
            <a:miter/>
          </a:ln>
          <a:effectLst>
            <a:outerShdw dist="378705" dir="237368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6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ستعم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ff"/>
                </a:solidFill>
                <a:latin typeface="Times New Roman"/>
              </a:rPr>
              <a:t>قـــــواعــد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ff"/>
                </a:solidFill>
                <a:latin typeface="Times New Roman"/>
              </a:rPr>
              <a:t>الــحـديـــث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ff"/>
                </a:solidFill>
                <a:latin typeface="Times New Roman"/>
              </a:rPr>
              <a:t>الـــســـــ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6720" y="1523880"/>
            <a:ext cx="2590560" cy="1371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00"/>
                </a:solidFill>
                <a:latin typeface="Times New Roman"/>
              </a:rPr>
              <a:t>ابداء الرأي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2971800"/>
            <a:ext cx="2727360" cy="13716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imes New Roman"/>
              </a:rPr>
              <a:t>الكلام عن النفس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00400" y="2971800"/>
            <a:ext cx="2590920" cy="13716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Times New Roman"/>
              </a:rPr>
              <a:t>توجيه سؤا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1523880"/>
            <a:ext cx="2590920" cy="13716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فصاح عن الحقيق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4419720"/>
            <a:ext cx="2590560" cy="13716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imes New Roman"/>
              </a:rPr>
              <a:t>الكلام عن الغير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4419720"/>
            <a:ext cx="2590920" cy="13716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Times New Roman"/>
              </a:rPr>
              <a:t>وصف الوضع العا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CF19-AF49-439F-8937-DFECA148C26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720" y="304920"/>
            <a:ext cx="2210040" cy="12952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66"/>
                </a:solidFill>
                <a:latin typeface="Times New Roman"/>
              </a:rPr>
              <a:t>الثـقة</a:t>
            </a:r>
            <a:br>
              <a:rPr sz="4000"/>
            </a:br>
            <a:r>
              <a:rPr b="0" lang="hi-IN" sz="4000" spc="-1" strike="noStrike">
                <a:solidFill>
                  <a:srgbClr val="000066"/>
                </a:solidFill>
                <a:latin typeface="Times New Roman"/>
              </a:rPr>
              <a:t>بالنفس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04920"/>
            <a:ext cx="6934320" cy="75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الثقة بالنفس شيئ نتمنى جميعا أن نستزيد من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ولكن القضية تكمن في وجودها 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 كيف تصبح أكثر قوة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علماء النفس و الأطباء يجمعون على أن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اذا تم اختراع حبة الثقة بالنفس 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00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 فان العالم سيصبح أكثر سعادة 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000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 وسيصبحون هم سريعا بلا عم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لكن ذلك لم يحدث بعد 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000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 فالى أين نذهب لندعم ثقتنا بأنفسنا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الى أنفسنا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000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لنقوي ونطور مجالات تحتاج الى الاهتمام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نيا: كلم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62120" y="1981080"/>
            <a:ext cx="75438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003300"/>
                  </a:solidFill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يــــــــدعـــــــــو الـــلـــه</a:t>
            </a:r>
            <a:endParaRPr b="0" lang="en-US" sz="2400" spc="1" strike="noStrike">
              <a:ln cap="sq" w="12600">
                <a:solidFill>
                  <a:srgbClr val="003300"/>
                </a:solidFill>
                <a:miter/>
              </a:ln>
              <a:solidFill>
                <a:srgbClr val="00ff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003300"/>
                  </a:solidFill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أن يحـلل عـقـدة من لسانه</a:t>
            </a:r>
            <a:endParaRPr b="0" lang="en-US" sz="2400" spc="1" strike="noStrike">
              <a:ln cap="sq" w="12600">
                <a:solidFill>
                  <a:srgbClr val="003300"/>
                </a:solidFill>
                <a:miter/>
              </a:ln>
              <a:solidFill>
                <a:srgbClr val="00ff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8FBA-AE7A-4D93-9E10-7504139E856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نيا: كلم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18288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266688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خ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86600" y="35053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ا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86600" y="43434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086600" y="518148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18288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مــــقــــدمـــة قــــــويـــ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266688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خــــاتــــمـــة قــــــويـــ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43000" y="35053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القاء معـتدل و لغـة سليم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43434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صـــــــوت واضــــــــــــ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518148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ممارسة قواعد الحديث الس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C9F5-0BEE-4EE9-B50A-4484F50B0F2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791320" y="1981080"/>
            <a:ext cx="2286000" cy="1822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4500" spc="-1" strike="noStrike">
                <a:solidFill>
                  <a:srgbClr val="0000ff"/>
                </a:solidFill>
                <a:latin typeface="Times New Roman"/>
              </a:rPr>
              <a:t>-ايمان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500" spc="-1" strike="noStrike">
                <a:solidFill>
                  <a:srgbClr val="0000ff"/>
                </a:solidFill>
                <a:latin typeface="Times New Roman"/>
              </a:rPr>
              <a:t>بالمبادئ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00400" y="1981080"/>
            <a:ext cx="2362320" cy="2910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تناغم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بي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Times New Roman"/>
              </a:rPr>
              <a:t>القول و العم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1981080"/>
            <a:ext cx="2286000" cy="245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أهدا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واضـحــــ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19112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أحـــلا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كــبــــــير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4191120"/>
            <a:ext cx="243864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- متمكن م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Times New Roman"/>
              </a:rPr>
              <a:t>معلومـاتــ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4114800"/>
            <a:ext cx="2286000" cy="248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يعتقد بأهم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Times New Roman"/>
              </a:rPr>
              <a:t>ترك انطباع مبدئي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Times New Roman"/>
              </a:rPr>
              <a:t>حسن في الأذها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EF51-75F6-40BF-8354-36048F7738A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5791320" y="1981080"/>
            <a:ext cx="2286000" cy="346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0" lang="en-US" sz="4900" spc="-1" strike="noStrike">
                <a:solidFill>
                  <a:srgbClr val="0000ff"/>
                </a:solidFill>
                <a:latin typeface="Times New Roman"/>
              </a:rPr>
              <a:t>- يتحكم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900" spc="-1" strike="noStrike">
                <a:solidFill>
                  <a:srgbClr val="0000ff"/>
                </a:solidFill>
                <a:latin typeface="Times New Roman"/>
              </a:rPr>
              <a:t>بوقــــتـــه 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1981080"/>
            <a:ext cx="2286000" cy="327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- يستعد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Times New Roman"/>
              </a:rPr>
              <a:t>للأنشطة جيد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981080"/>
            <a:ext cx="2286000" cy="194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يعتقد بأهمي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Times New Roman"/>
              </a:rPr>
              <a:t>المهار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Times New Roman"/>
              </a:rPr>
              <a:t>والتدري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67280" y="419112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يتقبل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النـــقــــــد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76720" y="4191120"/>
            <a:ext cx="2286000" cy="2561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11</a:t>
            </a: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- ينقد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0000ff"/>
                </a:solidFill>
                <a:latin typeface="Times New Roman"/>
              </a:rPr>
              <a:t>بلبــــاقـــة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4267080"/>
            <a:ext cx="2286000" cy="245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2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قو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“لا” للخطأ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E5A5-027A-43B9-A31B-9EF039EED08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791320" y="1981080"/>
            <a:ext cx="2286000" cy="319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ff"/>
                </a:solidFill>
                <a:latin typeface="Times New Roman"/>
              </a:rPr>
              <a:t>13</a:t>
            </a:r>
            <a:r>
              <a:rPr b="0" lang="en-US" sz="5500" spc="-1" strike="noStrike">
                <a:solidFill>
                  <a:srgbClr val="0000ff"/>
                </a:solidFill>
                <a:latin typeface="Times New Roman"/>
              </a:rPr>
              <a:t>- يشيد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700" spc="-1" strike="noStrike">
                <a:solidFill>
                  <a:srgbClr val="0000ff"/>
                </a:solidFill>
                <a:latin typeface="Times New Roman"/>
              </a:rPr>
              <a:t>بجهد الآخرين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057400"/>
            <a:ext cx="2590560" cy="271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14</a:t>
            </a:r>
            <a:r>
              <a:rPr b="0" lang="en-US" sz="3400" spc="-1" strike="noStrike">
                <a:solidFill>
                  <a:srgbClr val="0000ff"/>
                </a:solidFill>
                <a:latin typeface="Times New Roman"/>
              </a:rPr>
              <a:t>- عند الحاجة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900" spc="-1" strike="noStrike">
                <a:solidFill>
                  <a:srgbClr val="0000ff"/>
                </a:solidFill>
                <a:latin typeface="Times New Roman"/>
              </a:rPr>
              <a:t>يطلب المساعدة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1981080"/>
            <a:ext cx="2286000" cy="245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5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هت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بالمستمعي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67280" y="419112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16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يتقـ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العــــر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4191120"/>
            <a:ext cx="2286000" cy="2561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17</a:t>
            </a: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- لا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0000ff"/>
                </a:solidFill>
                <a:latin typeface="Times New Roman"/>
              </a:rPr>
              <a:t>يـحــــســد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4267080"/>
            <a:ext cx="2286000" cy="30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18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- يجعل ل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مثلا أعلى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9097-4EF6-4C94-A784-DF82F644CDE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867280" y="1905120"/>
            <a:ext cx="2286000" cy="197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ff"/>
                </a:solidFill>
                <a:latin typeface="Times New Roman"/>
              </a:rPr>
              <a:t>19</a:t>
            </a:r>
            <a:r>
              <a:rPr b="0" lang="en-US" sz="4900" spc="-1" strike="noStrike">
                <a:solidFill>
                  <a:srgbClr val="0000ff"/>
                </a:solidFill>
                <a:latin typeface="Times New Roman"/>
              </a:rPr>
              <a:t>- يهتم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900" spc="-1" strike="noStrike">
                <a:solidFill>
                  <a:srgbClr val="0000ff"/>
                </a:solidFill>
                <a:latin typeface="Times New Roman"/>
              </a:rPr>
              <a:t>بالأخلاق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2057400"/>
            <a:ext cx="2590560" cy="3049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Times New Roman"/>
              </a:rPr>
              <a:t>20</a:t>
            </a:r>
            <a:r>
              <a:rPr b="0" lang="en-US" sz="3400" spc="-1" strike="noStrike">
                <a:solidFill>
                  <a:srgbClr val="0000ff"/>
                </a:solidFill>
                <a:latin typeface="Times New Roman"/>
              </a:rPr>
              <a:t>- يحب بعض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000" spc="-1" strike="noStrike">
                <a:solidFill>
                  <a:srgbClr val="0000ff"/>
                </a:solidFill>
                <a:latin typeface="Times New Roman"/>
              </a:rPr>
              <a:t>المخاطرة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0" y="4191120"/>
            <a:ext cx="2286000" cy="245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21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بادر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بالعـــمــ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752480" y="411480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22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يحب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التجــديــد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E0F3-DB7F-4ACA-91D4-A58CD7D4B92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1905120"/>
            <a:ext cx="7924680" cy="161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Times New Roman"/>
              </a:rPr>
              <a:t>23</a:t>
            </a:r>
            <a:r>
              <a:rPr b="0" lang="en-US" sz="5000" spc="-1" strike="noStrike">
                <a:solidFill>
                  <a:srgbClr val="0000ff"/>
                </a:solidFill>
                <a:latin typeface="Times New Roman"/>
              </a:rPr>
              <a:t>- يتعرف على نقاط ضعفه و قوته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3276720"/>
            <a:ext cx="7924680" cy="149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24</a:t>
            </a: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- يعتقد أن الثقة بالنفس مهارة مكتسبة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4724280"/>
            <a:ext cx="7924680" cy="149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25</a:t>
            </a: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- يعتقد أنه مهيأ دائما لزيادة ثقته بنفسه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4721-6461-47A6-B399-14985D1E730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62120" y="1828800"/>
            <a:ext cx="75438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يــــــــهـــتــم بالــصــــــلاة</a:t>
            </a:r>
            <a:endParaRPr b="0" lang="en-US" sz="24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كـوسـيــلة فـعـالـة لحل</a:t>
            </a:r>
            <a:endParaRPr b="0" lang="en-US" sz="24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مشاكـله و اتقان عـمله</a:t>
            </a:r>
            <a:endParaRPr b="0" lang="en-US" sz="24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0C28-7C03-4A51-8256-FFC3CBA8B3B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934320" y="21337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س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34320" y="29718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ا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934320" y="380988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ط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46483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54864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90720" y="21337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ســـــلــــم ثـم صــــــافــــ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90720" y="29718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اســــــــــــتــــــعــــــــــــــد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380988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طــالــعــه في عـيــنــــــــه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90720" y="46483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عــــــرف نـــــفــــســـــــ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54864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تعــــــرف عـلى الـنــــــاس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1371600"/>
            <a:ext cx="4419360" cy="6094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cc"/>
                </a:solidFill>
                <a:latin typeface="Times New Roman"/>
              </a:rPr>
              <a:t>قناعات أيماني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0AF8-5812-4369-AE58-8D60C026F30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934320" y="21337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ل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34320" y="29718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934320" y="380988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ط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934320" y="46483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ا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934320" y="54864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21337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</a:rPr>
              <a:t>“لا”  لمن يصفك بما لا يلي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90720" y="29718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قــبـول الــنــقـد الــبــنــــاء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380988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طلب المساعدة عند الحاج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46483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اشـــادة بجــهــود الآخـــري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90720" y="54864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66"/>
                </a:solidFill>
                <a:latin typeface="Times New Roman"/>
              </a:rPr>
              <a:t>توجيه النصيحة بطريقة صحيح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47920" y="1371600"/>
            <a:ext cx="4419360" cy="6094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cc"/>
                </a:solidFill>
                <a:latin typeface="Times New Roman"/>
              </a:rPr>
              <a:t>قناعات سلوكي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8875-4D96-446B-A688-29F6398B489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4"/>
            </a:gs>
            <a:gs pos="50000">
              <a:srgbClr val="000094"/>
            </a:gs>
            <a:gs pos="100000">
              <a:srgbClr val="00004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400800" y="5562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C947-9373-41C6-B01B-D75FE2793F7A}" type="slidenum"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00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hi-IN" sz="2400" spc="-1" strike="noStrike">
                <a:solidFill>
                  <a:srgbClr val="ffffff"/>
                </a:solidFill>
                <a:latin typeface="Times New Roman"/>
              </a:rPr>
              <a:t>ادارة الاجتما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 الثقة بالنفس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00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 لماذا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 متى تهتز الثقة بالنفس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 آثار انخفاض الثقة بالنفس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 كيف تكتسب الثقة بالنفس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hi-IN" sz="4000" spc="-1" strike="noStrike">
                <a:solidFill>
                  <a:srgbClr val="ffffff"/>
                </a:solidFill>
                <a:latin typeface="Times New Roman"/>
              </a:rPr>
              <a:t>صفات الواثق مـــن نـفـسه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solidFill>
            <a:srgbClr val="000066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ffff00"/>
                </a:solidFill>
                <a:latin typeface="Times New Roman"/>
              </a:rPr>
              <a:t>الــثــقـة  بالـنــفـس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553080" y="2209680"/>
            <a:ext cx="2210040" cy="2133720"/>
          </a:xfrm>
          <a:prstGeom prst="rect">
            <a:avLst/>
          </a:prstGeom>
          <a:solidFill>
            <a:srgbClr val="000066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ff"/>
                </a:solidFill>
                <a:latin typeface="Times New Roman"/>
              </a:rPr>
              <a:t>وأخيرا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85800" y="1219320"/>
            <a:ext cx="556272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301"/>
                <a:gd name="adj2" fmla="val -542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معـادلـــة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بث الثـقـة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بالـنـفـس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C831-F61E-47D8-9CFE-97A22A5E0DF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705720" y="304920"/>
            <a:ext cx="2133360" cy="1066680"/>
          </a:xfrm>
          <a:prstGeom prst="rect">
            <a:avLst/>
          </a:prstGeom>
          <a:solidFill>
            <a:srgbClr val="000066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ff"/>
                </a:solidFill>
                <a:latin typeface="Times New Roman"/>
              </a:rPr>
              <a:t>وأخيرا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09480" y="457200"/>
            <a:ext cx="5562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-39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معـادلـــة بث الثـقـة بالـنـفـس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934320" y="175248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34320" y="236232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934320" y="297180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934320" y="358128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34320" y="419112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90720" y="175248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بـــــــادر و أنــــــــــــت قــــــــــــــاد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90720" y="236232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ثـــق بـنـفــــســـك و لــو لـــوحـــــــد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297180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ابـــتـــــســـــــــم ودع الجرح يــلــتــئــ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90720" y="358128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لا تـــأس على ما فاتك و خـطـط لحـياتـ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419112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ثـــــــــابـــــــــر و أنـــــــت شـــــــاطــ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934320" y="480060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90720" y="480060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قـــدم العـطـاء و احـرص عـلى الـثـنــا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41008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41008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تـحــدث بـراحــة و بـكــل صـــراحـــــ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95C6-230A-4F3F-92AA-A5F48BF23E8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ffff00"/>
                </a:solidFill>
                <a:latin typeface="Times New Roman"/>
              </a:rPr>
              <a:t>الثقة بالنفس </a:t>
            </a: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00</a:t>
            </a: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 لماذا؟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1828800"/>
            <a:ext cx="1981080" cy="380988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مفت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النج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في كل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مجالا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حيات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905120"/>
            <a:ext cx="4648320" cy="914400"/>
          </a:xfrm>
          <a:prstGeom prst="ellipse">
            <a:avLst/>
          </a:prstGeom>
          <a:solidFill>
            <a:srgbClr val="ff99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ff"/>
                </a:solidFill>
                <a:latin typeface="Times New Roman"/>
              </a:rPr>
              <a:t>العــــــائلــيــة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3276720"/>
            <a:ext cx="4648320" cy="914400"/>
          </a:xfrm>
          <a:prstGeom prst="ellipse">
            <a:avLst/>
          </a:prstGeom>
          <a:solidFill>
            <a:srgbClr val="ff99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ff"/>
                </a:solidFill>
                <a:latin typeface="Times New Roman"/>
              </a:rPr>
              <a:t>العــــــمـلــيــة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4572000"/>
            <a:ext cx="4648320" cy="914400"/>
          </a:xfrm>
          <a:prstGeom prst="ellipse">
            <a:avLst/>
          </a:prstGeom>
          <a:solidFill>
            <a:srgbClr val="ff99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ff"/>
                </a:solidFill>
                <a:latin typeface="Times New Roman"/>
              </a:rPr>
              <a:t>القيم الانسانيــة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024D-B56E-4D15-98D3-FC0E9C9921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ffff00"/>
                </a:solidFill>
                <a:latin typeface="Times New Roman"/>
              </a:rPr>
              <a:t>الثقة بالنفس </a:t>
            </a: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00</a:t>
            </a: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 لماذا؟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1828800"/>
            <a:ext cx="1981080" cy="380988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مفت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النج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في كل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مجالا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حيات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82880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3300"/>
                </a:solidFill>
                <a:latin typeface="Times New Roman"/>
              </a:rPr>
              <a:t>تساعد على اقناع الآخري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66688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3300"/>
                </a:solidFill>
                <a:latin typeface="Times New Roman"/>
              </a:rPr>
              <a:t>تمكنك من التأثيربالآخري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350532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Times New Roman"/>
              </a:rPr>
              <a:t>تمكنك من الثبات على موقفك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434340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3300"/>
                </a:solidFill>
                <a:latin typeface="Times New Roman"/>
              </a:rPr>
              <a:t>تساعدك لعرض أفكار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518148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Times New Roman"/>
              </a:rPr>
              <a:t>تعطيك شعورا بالقوة والسعاد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7483-16B0-4410-8CD3-2AE069B49F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ffff00"/>
                </a:solidFill>
                <a:latin typeface="Times New Roman"/>
              </a:rPr>
              <a:t>الثقة بالنفس </a:t>
            </a: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00</a:t>
            </a: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 لماذا؟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1828800"/>
            <a:ext cx="1981080" cy="380988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مفت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النج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في كل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مجالا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حيات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82880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Times New Roman"/>
              </a:rPr>
              <a:t>تساعدك في مهامك الوظيفية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266688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Times New Roman"/>
              </a:rPr>
              <a:t>تمكنك من مواجهة الجمهور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50532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3300"/>
                </a:solidFill>
                <a:latin typeface="Times New Roman"/>
              </a:rPr>
              <a:t>تكسبك احترام الآخري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434340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Times New Roman"/>
              </a:rPr>
              <a:t>تساعدك على حسن التصر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518148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Times New Roman"/>
              </a:rPr>
              <a:t>تنقذك من المواقف المحرج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2B16-D768-4423-BACC-C0116FC59E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80880" y="990720"/>
            <a:ext cx="838224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الواثقون في العالم لا يتجاوزون</a:t>
            </a:r>
            <a:endParaRPr b="0" lang="en-US" sz="2400" spc="1" strike="noStrike">
              <a:ln cap="sq"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cap="sq"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2% </a:t>
            </a:r>
            <a:r>
              <a:rPr b="0" lang="hi-IN" sz="2400" spc="1" strike="noStrike">
                <a:ln cap="sq"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من البشرية</a:t>
            </a:r>
            <a:endParaRPr b="0" lang="en-US" sz="2400" spc="1" strike="noStrike">
              <a:ln cap="sq"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9C07-6AE0-40EE-B77D-4F68542D41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50000">
              <a:srgbClr val="008000"/>
            </a:gs>
            <a:gs pos="100000">
              <a:srgbClr val="003b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0000ff"/>
                </a:solidFill>
                <a:latin typeface="Times New Roman"/>
              </a:rPr>
              <a:t>متى تهتز الثقة بالنفس؟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24480" y="2209680"/>
            <a:ext cx="1600200" cy="1219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نق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لاذ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2209680"/>
            <a:ext cx="1600200" cy="1219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لقا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مسؤولي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2133720"/>
            <a:ext cx="1600200" cy="1218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مواق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محرج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3276720"/>
            <a:ext cx="1600200" cy="1218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خــــو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3352680"/>
            <a:ext cx="1600200" cy="1219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ـوحـــــد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4495680"/>
            <a:ext cx="1600200" cy="1219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كثر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مشاك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4572000"/>
            <a:ext cx="1600200" cy="1219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مواجه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مخالفي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4495680"/>
            <a:ext cx="1600200" cy="1219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فشــــــ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89E2-F7A8-4FF7-965E-19953262D0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7T06:10:01Z</dcterms:created>
  <dc:creator>***</dc:creator>
  <dc:description/>
  <dc:language>en-US</dc:language>
  <cp:lastModifiedBy>Compaq</cp:lastModifiedBy>
  <dcterms:modified xsi:type="dcterms:W3CDTF">2000-07-24T14:25:33Z</dcterms:modified>
  <cp:revision>87</cp:revision>
  <dc:subject/>
  <dc:title>التواصل الفردي</dc:title>
</cp:coreProperties>
</file>