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13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CAMERA.WAV" ContentType="audio/x-wav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896-9A09-4FF7-985D-30EA9E43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C3C-AEE8-41A4-BD84-AFF8D4D8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41C0-B697-4D39-8A63-9DE47BB4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984-15F3-4DEF-9116-5200737A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B021-295A-423C-96AF-C4B26D84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8207-B299-4953-8F42-9DA8387B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CF3E-08B1-4F06-87DA-3E04BA51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0725-2EFA-4B0D-BD22-7A5FBE0C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A020-FA54-4B68-B0E5-DD9F109D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DA85-2D13-495E-BFD2-A60083E1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7FC2-907E-4230-B38C-17463F17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65D-41B3-4B33-A5E7-91EBD1AD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B7B7-79A9-42FF-91AF-D9BC4DFE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3FEC-462D-4818-935D-364BE613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3799-FB1D-44FA-A616-C2923068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0347-EEA5-48BE-AACB-BB99A69D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A292-BF1F-4BE6-9BDD-6E02A3F5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F499-8891-4C34-8335-DAEF0154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15F-105F-4FD8-B230-5C729315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5B0C-42C1-44A8-9B37-CBD76764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24ED-1987-4438-B48C-7625C135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A257-46FA-4197-8D53-961203C9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B81-67A4-4524-87EC-AB18BFC0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3C8-B597-42B3-8878-50C7F2C9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CEF1-D24F-4D75-9544-161BC529F84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7D83-AF09-4AAB-959B-88C5EB770C0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4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image" Target="../media/image4.jpeg"/><Relationship Id="rId9" Type="http://schemas.openxmlformats.org/officeDocument/2006/relationships/oleObject" Target="../embeddings/oleObject3.bin"/><Relationship Id="rId10" Type="http://schemas.openxmlformats.org/officeDocument/2006/relationships/slide" Target=""/><Relationship Id="rId11" Type="http://schemas.openxmlformats.org/officeDocument/2006/relationships/image" Target="../media/image8.wmf"/><Relationship Id="rId12" Type="http://schemas.openxmlformats.org/officeDocument/2006/relationships/image" Target="../media/image4.jpe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.wmf"/><Relationship Id="rId15" Type="http://schemas.openxmlformats.org/officeDocument/2006/relationships/image" Target="../media/image4.jpeg"/><Relationship Id="rId16" Type="http://schemas.openxmlformats.org/officeDocument/2006/relationships/image" Target="../media/image10.wmf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7.wmf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77800" y="2781360"/>
            <a:ext cx="7993080" cy="1368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  <a:cs typeface="AF_Najed"/>
              </a:rPr>
              <a:t>كيف تستثمر وقت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492360" y="3068640"/>
            <a:ext cx="439272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إحلال العادات السيئة بجدية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3860640"/>
            <a:ext cx="352728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AL-Mohanad Bold"/>
              </a:rPr>
              <a:t>الممارسة</a:t>
            </a:r>
            <a:r>
              <a:rPr b="0" lang="ar-SA" sz="3200" spc="-1" strike="noStrike">
                <a:solidFill>
                  <a:srgbClr val="333399"/>
                </a:solidFill>
                <a:latin typeface="Times New Roman"/>
                <a:ea typeface="Tahoma (Arabic)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1916280"/>
            <a:ext cx="4248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 عادات مذاكرة جيد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907920"/>
            <a:ext cx="4248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عد لتصبح استمرارياً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87640" y="1989000"/>
            <a:ext cx="576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تبع التعليمات (الامتحانات مثلا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6000" y="4149720"/>
            <a:ext cx="4248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عرف مدرسي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3213000"/>
            <a:ext cx="759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كن فخوراً بعملك وقدمه بالشكل المناس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5227560"/>
            <a:ext cx="525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دوافع الداخلية والخارج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692280"/>
            <a:ext cx="5040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هرم الاهدا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27280" y="1628640"/>
            <a:ext cx="6121440" cy="3024360"/>
            <a:chOff x="2627280" y="1628640"/>
            <a:chExt cx="6121440" cy="3024360"/>
          </a:xfrm>
        </p:grpSpPr>
        <p:sp>
          <p:nvSpPr>
            <p:cNvPr id="156" name=""/>
            <p:cNvSpPr/>
            <p:nvPr/>
          </p:nvSpPr>
          <p:spPr>
            <a:xfrm>
              <a:off x="2627280" y="1628640"/>
              <a:ext cx="6121440" cy="3024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32360" y="2421000"/>
              <a:ext cx="142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6600"/>
                  </a:solidFill>
                  <a:latin typeface="Arial"/>
                </a:rPr>
                <a:t>المهن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7280" y="3147840"/>
              <a:ext cx="302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0000"/>
                  </a:solidFill>
                  <a:latin typeface="Arial"/>
                </a:rPr>
                <a:t>المرحلة الجامعي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7280" y="3868560"/>
              <a:ext cx="30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990000"/>
                  </a:solidFill>
                  <a:latin typeface="Arial"/>
                </a:rPr>
                <a:t>مهارات مختلف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227640" y="4797360"/>
            <a:ext cx="273708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هدف بعيد المد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61040" y="5373720"/>
            <a:ext cx="35240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متوسط المدى (المراحل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5802480"/>
            <a:ext cx="432108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هدف قصير المدى (الخطو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549360"/>
            <a:ext cx="5040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قد تتغير الأهدا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3640" y="2637000"/>
            <a:ext cx="7056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جعل عملية وضع الأهداف جزاً من حيات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1484280"/>
            <a:ext cx="6048360" cy="10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خدم المكافآت كمحفزات صنا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3649680"/>
            <a:ext cx="6193080" cy="308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 واقعياً عند تحديد الأهدا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 واقعياً في توقعات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كز على النواحي التي تنبيء بأفضل فرص التحس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راقب الإنجاز واستمر في عملية إعادة تحديد 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ا تيأس بسهو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219640" y="4724280"/>
            <a:ext cx="237672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1052640"/>
            <a:ext cx="698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ثلاث طرق عظمى للوصول إلى أعل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ستوى من النظام (الانضباط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3284640"/>
            <a:ext cx="7417080" cy="265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غييرات البسيطة تحدث فرقاً كبيراً بمرور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قاعدة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80: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 (مبداء باريتو)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ما هي الـ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 %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غل الوقت البي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0" y="907920"/>
            <a:ext cx="575964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درجة الكمال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2058840"/>
            <a:ext cx="576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حدد محيط المذاكرة الذي يلائم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4219560"/>
            <a:ext cx="4824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كان المناسب ل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213000"/>
            <a:ext cx="52912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جموعات ا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5227560"/>
            <a:ext cx="525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قيم مكان مذاكرت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1052640"/>
            <a:ext cx="698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 المناسب ل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3068640"/>
            <a:ext cx="7921440" cy="308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اكر حينما تكون في احسن حالات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عد النظر في عادات نوم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اكر وقتما تستطي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ضع في الاعتبار حجم صعوبة الواجب عند توزيع وقت المذاكر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ستخدم الساعات التي لا تكون فيها في أحسن حالات المذاكرة لعمل الواجبات السه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جو المذاكر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1052640"/>
            <a:ext cx="813600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كيف تحافظ على تركيزك أثناء ا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3068640"/>
            <a:ext cx="7921440" cy="204372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أوجد بيئة مذاكرة تشعر فيها بالراح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أرفع مستوى الإض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قواعد مناسبة لك يدركها المقرب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خذ ما تحتاج إليه من را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032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cc99"/>
                </a:solidFill>
                <a:latin typeface="Arial"/>
                <a:cs typeface="Diwani Bent"/>
              </a:rPr>
              <a:t>بسم الله الرحمن الرحيم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9920" y="307512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bbe0e3"/>
                </a:solidFill>
                <a:latin typeface="Arial"/>
                <a:cs typeface="Diwani Simple Outline 2"/>
              </a:rPr>
              <a:t>الحمد لله رب العالمين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bbe0e3"/>
                </a:solidFill>
                <a:latin typeface="Arial"/>
                <a:cs typeface="Diwani Simple Outline 2"/>
              </a:rPr>
              <a:t>والصلاة والسلام على خاتم النبي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عوامل مساعدة ل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22200" y="2637000"/>
            <a:ext cx="7921800" cy="301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وضع الخطوط " شدة المؤش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تلخي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إعادة ترتيب الملاحظ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ملاحظات الهامش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ربط القديم ب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مقاومة التداخ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404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عوامل مساعدة ل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22200" y="2205000"/>
            <a:ext cx="7921800" cy="48481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قاومة أثر الزم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اجع المادة الدراسية من حين لأخ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راجع مادة المحاضرة القديمة استعداداً للجدي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راجع محاضرات الأسبوع في عطلة نهاية الأسب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اعمل ملخصات للمادة الدراس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قاومة عدم الاستعما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وم والحف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نفعال والحف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مقاومة الإرهاق والمل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22200" y="2589120"/>
            <a:ext cx="7921800" cy="399348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خذ سنه من النو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 دقيقة (تصبح موهب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ناول مشروب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عهد حرارة المك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مكان الدافئ جداً مدعاة للكس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حرك رج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غير جدول الم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بحث عن مساع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12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فصل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2200" y="2589120"/>
            <a:ext cx="7921800" cy="350604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حضير للما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لا بد أن يكون لك أسلوب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عرف مدرسك وتكيف مع أسلوب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كمل الواجب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راجعة الساب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جلس بالقرب من المقد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جنب الزملاء الذين يشتتون انتباهك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فصل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22200" y="2565360"/>
            <a:ext cx="7921800" cy="253116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جلس منتصبا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مع للإشارات الكلا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نتبه للإشارات غير الكلا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دوين الجيد للمحاض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اذا تفعل بعد الحص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ن الانص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22200" y="2565360"/>
            <a:ext cx="7921800" cy="301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ن ينصت يفهم ومن الآخرين يتعل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متكلم يبيع والمستمع يشت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ا الفرق بين السماع والإنصا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ن التدوي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2565360"/>
            <a:ext cx="7921800" cy="20437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قسي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عمال الرسوم والتخطيط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5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كيف تنظم وقتك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2200" y="2589120"/>
            <a:ext cx="7921800" cy="43603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إن من يسيئون استثمار الوقت هم أول من يشكون من قص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قد لا يكون هناك وقت يكفي لكل ش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ولكن هناك وقتاً كافياً للتخطي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148360" y="1413000"/>
            <a:ext cx="19810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قدمة وتمه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6360" y="4428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c3300"/>
                </a:solidFill>
                <a:latin typeface="Arial"/>
                <a:cs typeface="Tahoma (Arabic)"/>
              </a:rPr>
              <a:t>عناصر الع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596360" y="1268280"/>
          <a:ext cx="1143000" cy="9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96360" y="1268280"/>
                    <a:ext cx="1143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596360" y="2349360"/>
            <a:ext cx="857160" cy="1009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43280" y="2133720"/>
            <a:ext cx="244800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عوامل النجا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812000" y="3284640"/>
          <a:ext cx="496800" cy="92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12000" y="3284640"/>
                    <a:ext cx="496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211640" y="3573360"/>
            <a:ext cx="2817720" cy="459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 الف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67640" y="4221000"/>
          <a:ext cx="804960" cy="84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67640" y="4221000"/>
                    <a:ext cx="8049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627280" y="4437000"/>
            <a:ext cx="4606920" cy="45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يف تنظم وقت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524720" y="5013360"/>
          <a:ext cx="922320" cy="99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24720" y="5013360"/>
                    <a:ext cx="9223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547640" y="6140520"/>
            <a:ext cx="5708880" cy="4572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>
            <a:off x="755640" y="3213000"/>
            <a:ext cx="1719360" cy="1747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900000" y="476280"/>
            <a:ext cx="1187640" cy="1092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4932360" y="105264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740720" y="5935680"/>
          <a:ext cx="496800" cy="922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740720" y="5935680"/>
                    <a:ext cx="496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059280" y="5276880"/>
            <a:ext cx="4114800" cy="4572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2852640"/>
            <a:ext cx="1440000" cy="8254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لمذاكرة</a:t>
            </a:r>
            <a:r>
              <a:rPr b="0" lang="ar-SA" sz="2400" spc="-1" strike="noStrike">
                <a:solidFill>
                  <a:srgbClr val="808080"/>
                </a:solidFill>
                <a:latin typeface="Times New Roman"/>
                <a:ea typeface="Tahoma (Arabic)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إشارات سريعة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  <a:cs typeface="AL-Mohanad Bold"/>
              </a:rPr>
              <a:t>لتنظيم الوقت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22200" y="2589120"/>
            <a:ext cx="7921800" cy="405468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حدد نقطة البدا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جمع ما تحتاج إلي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خدم مفكرة لتخطيط الفصل الدرا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قائمة بالأعم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رتب أولويات المه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ملأ  الجدول اليو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طبيق الوسائل بفاعلي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15160" y="2894760"/>
            <a:ext cx="98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ffffc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4360" y="1557360"/>
            <a:ext cx="763272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اترك طريقة النوم المبكر و الاستيقاظ في الليل للدراسة فهذه طريقة مرهقة  وذلك حسب التجار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فترة الصباح بعد صلاة الفجر من أفضل الفترات على الإطلاق للمذاكرة و الحفظ على وجه الخصوص فعليك باستغلاله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تذكر دائما أن التوفيق من الله تعالى ولكن الأسباب من الإنسان نفس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ادع الله دائماً ولا تيأس من الدعاء فلو رد القضاء شيئاً لكان من الدعاء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AL-Mohanad Bold"/>
              </a:rPr>
              <a:t>( ومن يتق الله يجعل له مخرجاً ويرزقه من حيث لا يحتسب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24440" y="625320"/>
            <a:ext cx="472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00"/>
                </a:solidFill>
                <a:latin typeface="Arial"/>
                <a:cs typeface="SKR HEAD1"/>
              </a:rPr>
              <a:t>في طريقك للنجا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5494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 لا تعج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 لا تفكر أن تقول ” أنا لا أستطيع“ 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اعلم أن أفضل طريقة لاكتشاف المستقبل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  <a:cs typeface="AL-Mohanad Bold"/>
              </a:rPr>
              <a:t>صناعت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لا تنشغل  بما لا فائدة في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236120" y="2352600"/>
            <a:ext cx="445104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Lucida Handwriting"/>
              </a:rPr>
              <a:t>THANK YOU</a:t>
            </a:r>
            <a:r>
              <a:rPr b="1" lang="en-US" sz="5400" spc="-1" strike="noStrike">
                <a:solidFill>
                  <a:srgbClr val="996600"/>
                </a:solidFill>
                <a:latin typeface="Lucida Handwrit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32000" y="4869000"/>
            <a:ext cx="3673440" cy="1368360"/>
          </a:xfrm>
          <a:prstGeom prst="wedgeEllipseCallout">
            <a:avLst>
              <a:gd name="adj1" fmla="val 83148"/>
              <a:gd name="adj2" fmla="val -785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عزيمة / المباد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260280"/>
            <a:ext cx="3600360" cy="1656000"/>
          </a:xfrm>
          <a:prstGeom prst="wedgeEllipseCallout">
            <a:avLst>
              <a:gd name="adj1" fmla="val 66226"/>
              <a:gd name="adj2" fmla="val 8413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ضوح الرؤية (الاهدا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21000"/>
            <a:ext cx="3095640" cy="1439640"/>
          </a:xfrm>
          <a:prstGeom prst="wedgeEllipseCallout">
            <a:avLst>
              <a:gd name="adj1" fmla="val 86615"/>
              <a:gd name="adj2" fmla="val 22546"/>
            </a:avLst>
          </a:prstGeom>
          <a:solidFill>
            <a:srgbClr val="adc0fb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اخذ بالأسباب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00720" y="2492280"/>
            <a:ext cx="3382560" cy="2367720"/>
            <a:chOff x="4500720" y="2492280"/>
            <a:chExt cx="3382560" cy="2367720"/>
          </a:xfrm>
        </p:grpSpPr>
        <p:sp>
          <p:nvSpPr>
            <p:cNvPr id="113" name=""/>
            <p:cNvSpPr/>
            <p:nvPr/>
          </p:nvSpPr>
          <p:spPr>
            <a:xfrm>
              <a:off x="4500720" y="2492280"/>
              <a:ext cx="3382560" cy="19749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92400" y="2755080"/>
              <a:ext cx="251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من اهم عوامل النجاح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عام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18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عوامل نجاح بعض الطلا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2060640"/>
            <a:ext cx="7921440" cy="30186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رغبة في الدراسة والتحصي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نظيم الوق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ختيار المكان المناسب للم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استعداد للمحضرات قبل الذهاب إلي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ُسن تدوين الملاحظات من المحاض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عادات القرائية الح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23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عوامل نجاح بعض الطلا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2060640"/>
            <a:ext cx="7921440" cy="350604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استفادة من المكت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مهارة الكتابية المناس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سن الاستعداد للا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ًسن أداء الا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خدام معينات ال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نويع الاساليب القرائية وفقاً للهدف من القر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28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00"/>
                  </a:solidFill>
                  <a:latin typeface="Times New Roman"/>
                  <a:cs typeface="AL-Mohanad Bold"/>
                </a:rPr>
                <a:t>العوامل الأساسية للتعلم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L-Mohanad Bold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773360"/>
            <a:ext cx="7921800" cy="4420080"/>
          </a:xfrm>
          <a:prstGeom prst="rect">
            <a:avLst/>
          </a:prstGeom>
          <a:blipFill rotWithShape="0">
            <a:blip r:embed="rId1">
              <a:alphaModFix amt="1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ثقة بالنف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استمتا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قوة الإرا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تركيز الذه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تحديد الهد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توزيع ال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cs typeface="Arial"/>
              </a:rPr>
              <a:t>الاستراح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- دقة الملاحظ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- تقليل التداخل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788000" y="3213000"/>
            <a:ext cx="2448000" cy="1068840"/>
          </a:xfrm>
          <a:prstGeom prst="rect">
            <a:avLst/>
          </a:prstGeom>
          <a:blipFill rotWithShape="0">
            <a:blip r:embed="rId1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القدرات الاسا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4149720"/>
            <a:ext cx="3527280" cy="1068840"/>
          </a:xfrm>
          <a:prstGeom prst="rect">
            <a:avLst/>
          </a:prstGeom>
          <a:blipFill rotWithShape="0">
            <a:blip r:embed="rId2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بيئة التعلم والحالة الص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5084640"/>
            <a:ext cx="3024000" cy="581400"/>
          </a:xfrm>
          <a:prstGeom prst="rect">
            <a:avLst/>
          </a:prstGeom>
          <a:blipFill rotWithShape="0">
            <a:blip r:embed="rId3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مهارات المذاك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25800" y="115920"/>
            <a:ext cx="5182920" cy="1616400"/>
            <a:chOff x="3925800" y="115920"/>
            <a:chExt cx="5182920" cy="1616400"/>
          </a:xfrm>
        </p:grpSpPr>
        <p:sp>
          <p:nvSpPr>
            <p:cNvPr id="136" name=""/>
            <p:cNvSpPr/>
            <p:nvPr/>
          </p:nvSpPr>
          <p:spPr>
            <a:xfrm>
              <a:off x="3925800" y="115920"/>
              <a:ext cx="518292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25920" y="297720"/>
              <a:ext cx="38545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400" spc="-1" strike="noStrike">
                  <a:solidFill>
                    <a:srgbClr val="000000"/>
                  </a:solidFill>
                  <a:latin typeface="Arial"/>
                </a:rPr>
                <a:t>كيف تنظم مذاكرت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844640"/>
            <a:ext cx="4248000" cy="8650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ماذا المذاكرة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924280"/>
            <a:ext cx="1995480" cy="825480"/>
          </a:xfrm>
          <a:prstGeom prst="cloudCallout">
            <a:avLst>
              <a:gd name="adj1" fmla="val 87629"/>
              <a:gd name="adj2" fmla="val -3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4076640"/>
            <a:ext cx="1995480" cy="825480"/>
          </a:xfrm>
          <a:prstGeom prst="cloudCallout">
            <a:avLst>
              <a:gd name="adj1" fmla="val 57398"/>
              <a:gd name="adj2" fmla="val 25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-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5157720"/>
            <a:ext cx="1995480" cy="825480"/>
          </a:xfrm>
          <a:prstGeom prst="cloudCallout">
            <a:avLst>
              <a:gd name="adj1" fmla="val 57796"/>
              <a:gd name="adj2" fmla="val -17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5-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5:04:02Z</dcterms:created>
  <dc:creator>Dr. Saad Aiban</dc:creator>
  <dc:description/>
  <dc:language>en-US</dc:language>
  <cp:lastModifiedBy>CAAC</cp:lastModifiedBy>
  <dcterms:modified xsi:type="dcterms:W3CDTF">2004-09-03T14:26:04Z</dcterms:modified>
  <cp:revision>24</cp:revision>
  <dc:subject/>
  <dc:title>Slide 1</dc:title>
</cp:coreProperties>
</file>