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13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CAMERA.WAV" ContentType="audio/x-wav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DEA-7985-4F3D-96CE-CE740084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983-B40A-4F39-AE02-66B48F1E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79F-111B-4E74-8E1E-DED6F6D3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EE2-DA1B-4418-9C10-1E324494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984-51D8-4565-9B26-74E7510A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B638-36C8-497C-9BE4-08DCB3C9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C3E6-A42D-499F-9A1F-4B96481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141-E041-4A93-A812-A9A7876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312-45F8-4228-BE2B-33F7D276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E96-A757-4A5A-B76D-BA5F33A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008-848E-4591-B486-3D9F27F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303-F5C2-4C54-B6C1-6458E98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E25C-7B0A-40D5-A18D-89A8AF0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CD1E-E635-4120-A579-75500DE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79F9-F569-4016-A912-74EB764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EE5-D9DF-46B9-B252-CE1C4143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3D3-CE6E-42E4-BB28-B6C95AC2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D55-1A0E-4C7C-91D2-4290F1F7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2CF-5D02-48A6-9E95-683C838D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F46-320C-43B4-8D95-DA99EB94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541-804A-4CC7-82FA-D6B00FD0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4EC-6774-45EA-BD6F-2DE3B06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DEA-686F-43BA-8EB8-1B6C324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890-43A0-44DD-9784-E1B5CB8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40F-9A15-49CE-85F5-071712C259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D1D-3F62-4066-B10E-E6DF7D272C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4.jpeg"/><Relationship Id="rId9" Type="http://schemas.openxmlformats.org/officeDocument/2006/relationships/oleObject" Target="../embeddings/oleObject3.bin"/><Relationship Id="rId10" Type="http://schemas.openxmlformats.org/officeDocument/2006/relationships/slide" Target=""/><Relationship Id="rId11" Type="http://schemas.openxmlformats.org/officeDocument/2006/relationships/image" Target="../media/image8.wmf"/><Relationship Id="rId12" Type="http://schemas.openxmlformats.org/officeDocument/2006/relationships/image" Target="../media/image4.jpe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wmf"/><Relationship Id="rId15" Type="http://schemas.openxmlformats.org/officeDocument/2006/relationships/image" Target="../media/image4.jpeg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7.wmf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7800" y="2781360"/>
            <a:ext cx="7993080" cy="1368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  <a:cs typeface="AF_Najed"/>
              </a:rPr>
              <a:t>كيف تستثمر وقت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92360" y="3068640"/>
            <a:ext cx="439272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إحلال العادات السيئة بجدي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860640"/>
            <a:ext cx="35272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AL-Mohanad Bold"/>
              </a:rPr>
              <a:t>الممارسة</a:t>
            </a:r>
            <a:r>
              <a:rPr b="0" lang="ar-SA" sz="3200" spc="-1" strike="noStrike">
                <a:solidFill>
                  <a:srgbClr val="333399"/>
                </a:solidFill>
                <a:latin typeface="Times New Roman"/>
                <a:ea typeface="Tahoma (Arabic)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191628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 عادات مذاكرة جيد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907920"/>
            <a:ext cx="4248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عد لتصبح استمرارياً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98900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ع التعليمات (الامتحانات مثلا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149720"/>
            <a:ext cx="4248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عرف مدرسي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3213000"/>
            <a:ext cx="759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كن فخوراً بعملك وقدمه بالشكل المناس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وافع الداخلية والخارج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69228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هرم الاهد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27280" y="1628640"/>
            <a:ext cx="6121440" cy="3024360"/>
            <a:chOff x="2627280" y="1628640"/>
            <a:chExt cx="6121440" cy="3024360"/>
          </a:xfrm>
        </p:grpSpPr>
        <p:sp>
          <p:nvSpPr>
            <p:cNvPr id="156" name=""/>
            <p:cNvSpPr/>
            <p:nvPr/>
          </p:nvSpPr>
          <p:spPr>
            <a:xfrm>
              <a:off x="2627280" y="1628640"/>
              <a:ext cx="6121440" cy="3024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2360" y="242100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6600"/>
                  </a:solidFill>
                  <a:latin typeface="Arial"/>
                </a:rPr>
                <a:t>المهن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147840"/>
              <a:ext cx="30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مرحلة الجام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38685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990000"/>
                  </a:solidFill>
                  <a:latin typeface="Arial"/>
                </a:rPr>
                <a:t>مهارات مختلف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227640" y="4797360"/>
            <a:ext cx="273708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بعيد الم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1040" y="5373720"/>
            <a:ext cx="3524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متوسط المدى (المراحل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802480"/>
            <a:ext cx="432108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Arial"/>
                <a:cs typeface="AL-Mohanad Bold"/>
              </a:rPr>
              <a:t>هدف قصير المدى (الخطو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49360"/>
            <a:ext cx="5040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د تتغير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2637000"/>
            <a:ext cx="7056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عملية وضع الأهداف جزاً من حيات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1484280"/>
            <a:ext cx="6048360" cy="10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المكافآت كمحفزات صن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3649680"/>
            <a:ext cx="619308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عند تحديد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ن واقعياً في توقع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ركز على النواحي التي تنبيء بأفضل فرص التح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راقب الإنجاز واستمر في عملية إعادة 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ا تيأس بسهو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19640" y="4724280"/>
            <a:ext cx="23767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ثلاث طرق عظمى للوصول إلى أعل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ستوى من النظام (الانضبا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3284640"/>
            <a:ext cx="7417080" cy="265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ييرات البسيطة تحدث فرقاً كبيراً بمرور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قاعدة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80: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(مبداء باريتو)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ما هي الـ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 %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غل الوقت البي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907920"/>
            <a:ext cx="575964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درجة الكمال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058840"/>
            <a:ext cx="576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محيط المذاكرة الذي يلائم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4219560"/>
            <a:ext cx="482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كان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213000"/>
            <a:ext cx="52912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جموعات ا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227560"/>
            <a:ext cx="525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قيم مكان مذاكر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052640"/>
            <a:ext cx="69847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 المناسب للمذاك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3068640"/>
            <a:ext cx="7921440" cy="3080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حينما تكون في احسن حالات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عد النظر في عادات نوم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اكر وقتما تستط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ضع في الاعتبار حجم صعوبة الواجب عند توزيع وقت المذاك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ستخدم الساعات التي لا تكون فيها في أحسن حالات المذاكرة لعمل الواجبات السه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جو المذاكر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1052640"/>
            <a:ext cx="813600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كيف تحافظ على تركيزك أثناء ا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068640"/>
            <a:ext cx="7921440" cy="204372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وجد بيئة مذاكرة تشعر فيها بالرا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أرفع مستوى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واعد مناسبة لك يدركها المقرب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خذ ما تحتاج إليه من 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03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cc99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9920" y="30751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الحمد لله رب العالمي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bbe0e3"/>
                </a:solidFill>
                <a:latin typeface="Arial"/>
                <a:cs typeface="Diwani Simple Outline 2"/>
              </a:rPr>
              <a:t>والصلاة والسلام على خاتم النب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22200" y="263700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وضع الخطوط " شدة المؤش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تل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إعادة ترتيب الملاحظ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لاحظات الهامش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ربط القديم ب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مقاومة الت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04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عوامل مساعدة للمذاك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2200" y="2205000"/>
            <a:ext cx="7921800" cy="4848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قاومة أثر الزم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اجع المادة الدراسية من حين لأخ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ادة المحاضرة القديمة استعداداً للجدي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راجع محاضرات الأسبوع في عطلة نهاية الأسب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- اعمل ملخصات للمادة الدرا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عدم الاستعم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وم والحف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فعال والحف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مقاومة الإرهاق والمل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2200" y="2589120"/>
            <a:ext cx="7921800" cy="39934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ذ سنه من النو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دقيقة (تصبح موهب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ناول مشر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هد حرارة المك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مكان الدافئ جداً مدعاة للكس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حرك رج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غير جدول ا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بحث عن 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12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2200" y="2589120"/>
            <a:ext cx="7921800" cy="35060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حضير للم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لا بد أن يكون لك أسلوب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عرف مدرسك وتكيف مع أسلو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كمل الواجب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راجعة الساب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بالقرب من المقد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جنب الزملاء الذين يشتتون انتباه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فصل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2200" y="2565360"/>
            <a:ext cx="7921800" cy="2531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جلس منتصبا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مع للإشارات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نتبه للإشارات غير الكلا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دوين الجيد ل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ذا تفعل بعد الح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انص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22200" y="2565360"/>
            <a:ext cx="7921800" cy="301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ن ينصت يفهم ومن الآخرين ي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تكلم يبيع والمستمع يشت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ما الفرق بين السماع والإنص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فن التدو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2565360"/>
            <a:ext cx="7921800" cy="20437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تقس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عمال الرسوم والتخطيط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5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يف تنظم وقتك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ea typeface="SKR HEA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2200" y="2589120"/>
            <a:ext cx="7921800" cy="43603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إن من يسيئون استثمار الوقت هم أول من يشكون من قص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قد لا يكون هناك وقت يكفي لكل ش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كن هناك وقتاً كافياً ل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48360" y="1413000"/>
            <a:ext cx="1981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مقدمة و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4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3300"/>
                </a:solidFill>
                <a:latin typeface="Arial"/>
                <a:cs typeface="Tahoma (Arabic)"/>
              </a:rPr>
              <a:t>عناصر العر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596360" y="1268280"/>
          <a:ext cx="114300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1268280"/>
                    <a:ext cx="1143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5716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43280" y="2133720"/>
            <a:ext cx="244800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عوامل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812000" y="3284640"/>
          <a:ext cx="49680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328464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11640" y="3573360"/>
            <a:ext cx="281772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الف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67640" y="4221000"/>
          <a:ext cx="80496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67640" y="4221000"/>
                    <a:ext cx="8049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627280" y="4437000"/>
            <a:ext cx="4606920" cy="45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يف تنظم وقت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24720" y="5013360"/>
          <a:ext cx="922320" cy="99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24720" y="5013360"/>
                    <a:ext cx="92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47640" y="6140520"/>
            <a:ext cx="5708880" cy="457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755640" y="3213000"/>
            <a:ext cx="1719360" cy="174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900000" y="476280"/>
            <a:ext cx="1187640" cy="109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4932360" y="10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40720" y="5935680"/>
          <a:ext cx="496800" cy="92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740720" y="5935680"/>
                    <a:ext cx="496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59280" y="5276880"/>
            <a:ext cx="4114800" cy="457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1440000" cy="825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ahoma (Arabic)"/>
              </a:rPr>
              <a:t>المذاكرة</a:t>
            </a:r>
            <a:r>
              <a:rPr b="0" lang="ar-SA" sz="2400" spc="-1" strike="noStrike">
                <a:solidFill>
                  <a:srgbClr val="808080"/>
                </a:solidFill>
                <a:latin typeface="Times New Roman"/>
                <a:ea typeface="Tahoma (Arabic)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620640"/>
            <a:ext cx="5545080" cy="165600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L-Mohanad Bold"/>
              </a:rPr>
              <a:t>إشارات سريعة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AL-Mohanad Bold"/>
              </a:rPr>
              <a:t>لتنظيم الوقت</a:t>
            </a:r>
            <a:r>
              <a:rPr b="0" lang="ar-SA" sz="5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22200" y="2589120"/>
            <a:ext cx="7921800" cy="405468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حدد نقطة البد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جمع ما تحتاج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خدم مفكرة لتخطيط الفصل الدرا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ضع قائمة بالأع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رتب أولويات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املأ  الجدول اليو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طبيق الوسائل بفاع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2894760"/>
            <a:ext cx="98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ffffc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4360" y="1557360"/>
            <a:ext cx="76327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ترك طريقة النوم المبكر و الاستيقاظ في الليل للدراسة فهذه طريقة مرهقة  وذلك حسب التجار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فترة الصباح بعد صلاة الفجر من أفضل الفترات على الإطلاق للمذاكرة و الحفظ على وجه الخصوص فعليك باستغلا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تذكر دائما أن التوفيق من الله تعالى ولكن الأسباب من الإنسا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 Bold"/>
              </a:rPr>
              <a:t>- ادع الله دائماً ولا تيأس من الدعاء فلو رد القضاء شيئاً لكان من الدعاء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L-Mohanad Bold"/>
              </a:rPr>
              <a:t>( ومن يتق الله يجعل له مخرجاً ويرزقه من حيث لا يحتسب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24440" y="625320"/>
            <a:ext cx="47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00"/>
                </a:solidFill>
                <a:latin typeface="Arial"/>
                <a:cs typeface="SKR HEAD1"/>
              </a:rPr>
              <a:t>في طريقك للنجا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عج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 لا تفكر أن تقول ” أنا لا أستطيع“ 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اعلم أن أفضل طريقة لاكتشاف المستقبل </a:t>
            </a:r>
            <a:r>
              <a:rPr b="0" lang="en-US" sz="3600" spc="-1" strike="noStrike">
                <a:solidFill>
                  <a:srgbClr val="66ff33"/>
                </a:solidFill>
                <a:latin typeface="Arial"/>
                <a:cs typeface="AL-Mohanad Bold"/>
              </a:rPr>
              <a:t>صناع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"/>
                <a:ea typeface="AL-Mohanad Bold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لا تنشغل  بما لا فائدة في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236120" y="2352600"/>
            <a:ext cx="445104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THANK YOU</a:t>
            </a:r>
            <a:r>
              <a:rPr b="1" lang="en-US" sz="5400" spc="-1" strike="noStrike">
                <a:solidFill>
                  <a:srgbClr val="996600"/>
                </a:solidFill>
                <a:latin typeface="Lucida Handwrit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4869000"/>
            <a:ext cx="3673440" cy="1368360"/>
          </a:xfrm>
          <a:prstGeom prst="wedgeEllipseCallout">
            <a:avLst>
              <a:gd name="adj1" fmla="val 83148"/>
              <a:gd name="adj2" fmla="val -785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زيمة / المباد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0280"/>
            <a:ext cx="3600360" cy="1656000"/>
          </a:xfrm>
          <a:prstGeom prst="wedgeEllipseCallout">
            <a:avLst>
              <a:gd name="adj1" fmla="val 66226"/>
              <a:gd name="adj2" fmla="val 8413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ضوح الرؤية (الاهدا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21000"/>
            <a:ext cx="3095640" cy="1439640"/>
          </a:xfrm>
          <a:prstGeom prst="wedgeEllipseCallout">
            <a:avLst>
              <a:gd name="adj1" fmla="val 86615"/>
              <a:gd name="adj2" fmla="val 22546"/>
            </a:avLst>
          </a:prstGeom>
          <a:solidFill>
            <a:srgbClr val="adc0fb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خذ بالأسبا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00720" y="2492280"/>
            <a:ext cx="3382560" cy="2367720"/>
            <a:chOff x="4500720" y="2492280"/>
            <a:chExt cx="3382560" cy="2367720"/>
          </a:xfrm>
        </p:grpSpPr>
        <p:sp>
          <p:nvSpPr>
            <p:cNvPr id="113" name=""/>
            <p:cNvSpPr/>
            <p:nvPr/>
          </p:nvSpPr>
          <p:spPr>
            <a:xfrm>
              <a:off x="4500720" y="2492280"/>
              <a:ext cx="3382560" cy="19749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92400" y="2755080"/>
              <a:ext cx="251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ن اهم عوامل النجا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3789360"/>
            <a:ext cx="5545080" cy="1655640"/>
          </a:xfrm>
          <a:prstGeom prst="ellipse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  <a:cs typeface="AL-Mohanad Bold"/>
              </a:rPr>
              <a:t>استبان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ohanad Bold"/>
              </a:rPr>
              <a:t>(عام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1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060640"/>
            <a:ext cx="7921440" cy="301860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رغبة في الدراسة والتحص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ظيم 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ختيار المكان المناسب للم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عداد للمحضرات قبل الذهاب إل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ُسن تدوين الملاحظات من المحاض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عادات القرائية الح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3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عوامل نجاح بعض الطلا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060640"/>
            <a:ext cx="7921440" cy="3506040"/>
          </a:xfrm>
          <a:prstGeom prst="rect">
            <a:avLst/>
          </a:prstGeom>
          <a:blipFill rotWithShape="0">
            <a:blip r:embed="rId1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استفادة من المكت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لمهارة الكتابية ال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سن الاستعداد ل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حًسن أداء الاخ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استخدام معينات الذاك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تنويع الاساليب القرائية وفقاً للهدف من القر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203640" y="115920"/>
            <a:ext cx="5905080" cy="1373040"/>
            <a:chOff x="3203640" y="115920"/>
            <a:chExt cx="5905080" cy="1373040"/>
          </a:xfrm>
        </p:grpSpPr>
        <p:sp>
          <p:nvSpPr>
            <p:cNvPr id="128" name=""/>
            <p:cNvSpPr/>
            <p:nvPr/>
          </p:nvSpPr>
          <p:spPr>
            <a:xfrm>
              <a:off x="3203640" y="115920"/>
              <a:ext cx="590508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7280" y="297720"/>
              <a:ext cx="439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Times New Roman"/>
                  <a:cs typeface="AL-Mohanad Bold"/>
                </a:rPr>
                <a:t>العوامل الأساسية للتعلم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L-Mohanad Bold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773360"/>
            <a:ext cx="7921800" cy="4420080"/>
          </a:xfrm>
          <a:prstGeom prst="rect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ثقة ب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استمتا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قوة الإرا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التركيز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حديد الهد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توزيع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cs typeface="Arial"/>
              </a:rPr>
              <a:t>الاستراح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r" rtl="1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دقة الملاحظ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0" lang="ar-SA" sz="2800" spc="-1" strike="noStrike">
                <a:solidFill>
                  <a:srgbClr val="ff6600"/>
                </a:solidFill>
                <a:latin typeface="Arial"/>
                <a:ea typeface="Arial"/>
              </a:rPr>
              <a:t>- تقليل التداخل</a:t>
            </a:r>
            <a:r>
              <a:rPr b="0" lang="ar-SA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88000" y="3213000"/>
            <a:ext cx="2448000" cy="106884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القدرات الا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4149720"/>
            <a:ext cx="3527280" cy="106884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بيئة التعلم والحالة الص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5084640"/>
            <a:ext cx="3024000" cy="581400"/>
          </a:xfrm>
          <a:prstGeom prst="rect">
            <a:avLst/>
          </a:prstGeom>
          <a:blipFill rotWithShape="0">
            <a:blip r:embed="rId3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imes New Roman"/>
                <a:cs typeface="Tahoma (Arabic)"/>
              </a:rPr>
              <a:t>مهارات المذا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25800" y="115920"/>
            <a:ext cx="5182920" cy="1616400"/>
            <a:chOff x="3925800" y="115920"/>
            <a:chExt cx="5182920" cy="1616400"/>
          </a:xfrm>
        </p:grpSpPr>
        <p:sp>
          <p:nvSpPr>
            <p:cNvPr id="136" name=""/>
            <p:cNvSpPr/>
            <p:nvPr/>
          </p:nvSpPr>
          <p:spPr>
            <a:xfrm>
              <a:off x="3925800" y="115920"/>
              <a:ext cx="5182920" cy="1368360"/>
            </a:xfrm>
            <a:prstGeom prst="bevel">
              <a:avLst>
                <a:gd name="adj" fmla="val 12500"/>
              </a:avLst>
            </a:pr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5920" y="297720"/>
              <a:ext cx="3854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400" spc="-1" strike="noStrike">
                  <a:solidFill>
                    <a:srgbClr val="000000"/>
                  </a:solidFill>
                  <a:latin typeface="Arial"/>
                </a:rPr>
                <a:t>كيف تنظم مذاكرت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844640"/>
            <a:ext cx="4248000" cy="8650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ماذا المذاكرة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924280"/>
            <a:ext cx="1995480" cy="825480"/>
          </a:xfrm>
          <a:prstGeom prst="cloudCallout">
            <a:avLst>
              <a:gd name="adj1" fmla="val 87629"/>
              <a:gd name="adj2" fmla="val -3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4076640"/>
            <a:ext cx="1995480" cy="825480"/>
          </a:xfrm>
          <a:prstGeom prst="cloudCallout">
            <a:avLst>
              <a:gd name="adj1" fmla="val 57398"/>
              <a:gd name="adj2" fmla="val 25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5157720"/>
            <a:ext cx="1995480" cy="825480"/>
          </a:xfrm>
          <a:prstGeom prst="cloudCallout">
            <a:avLst>
              <a:gd name="adj1" fmla="val 57796"/>
              <a:gd name="adj2" fmla="val -1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-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04:02Z</dcterms:created>
  <dc:creator>Dr. Saad Aiban</dc:creator>
  <dc:description/>
  <dc:language>en-US</dc:language>
  <cp:lastModifiedBy>CAAC</cp:lastModifiedBy>
  <dcterms:modified xsi:type="dcterms:W3CDTF">2004-09-03T14:26:04Z</dcterms:modified>
  <cp:revision>24</cp:revision>
  <dc:subject/>
  <dc:title>Slide 1</dc:title>
</cp:coreProperties>
</file>