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5C4-F499-4341-AA72-33A04CBA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C7E-A7A2-492D-B2F4-B1C6C9BD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FD5-99EC-49D2-BEC6-4CCAE820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5D8-D026-4607-BB6C-3E374C53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DD7-92A4-491A-BDAD-10F11BD5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ACC-F088-49F9-BE8B-24F8A22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867-3033-43CF-850C-B8EB9D4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978-C33A-4CCB-B8E0-C9FE61D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099-2F19-4DA1-A547-011BCBAF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4C1-0DCB-4522-B7FD-9DE8DFE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A71-5FD5-46E1-B042-6D79D42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A92-E652-43F1-98F4-AD2C051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1CF-F918-41AE-866D-0BD31C9B3C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يادة وشحذ الهم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رق بين القيادة والا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534-9551-44AB-85CC-E4DD9883A7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ن هو القائد التحويلي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طريقة تفكير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ى في نفسه شخص له رؤية مستقبلية وصاحب رسالة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ه يعتقد بأن دورة هو نقل الناس من حوله نقلة حضار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أهداف عالية ومعايير مرتفعة وهذا يجعله يتمتع باحترام الآخري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ثقة ذاتية عالية وإصرار ذاتي عالى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قدم حلول جذرية لتابعيه وأحيانا حلول جذرية متطرفة لمشاكل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عندما يتكلم يتصل بعيون تابعية ويجعله يمارس التنويم المغناطيسي عليهم ويستطيع أن يعبر عن مشاعر تابعية أفضل منهم انفس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جاذبية شخصية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isma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وقدرة الهامية ويمكن أن تفسر أحيانا بالأنانية. يستفيد القائد من قوته ومركزة في عيون تابعية حيث يحبه الآخرون ويتبعوه . اذا كانت الجاذبية الشخصية موجهة لتحقيق أهداف المجموعة= قدرة الهام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 ثقة التابعين بالمدير نابعة من المعنى الذي يعطيه القائد لحاجات تاب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ستثير فكر تابعية لتقديم أهداف وأفكار جديد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عطي اهتمام عال لكل الناس ويعطي رعاية خاصة على المستوى الفردي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قى برغبات تابعية. فإذا تحدث التابعين عن حاجاتهم الفسيولوجية فانه يدعوهم للتفكير بحاجاتهم الاجتما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حقق دافعية أقوى عند التابعين وأداء أكب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F4A-0C81-46A7-97D3-78F29156A2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صائص القائد التحوي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نظر القائد الى نفسه على أنه وكيل تغيير والتغيير في نظرة رحلة وليست نقطة وصو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شجاع محب للمخاطر المحسوب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ؤمن بقيمة الناس، ليس دكتاتورا، يعزز الموظف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وجه بالقيم الأخلاقية، يخلق حضارة الانجا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تعلم طول العمر وينظر الى الخطأ على أنه تجربة استفاد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قادر على التعامل مع الغموض والمواقف المعق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احب رؤية وقادر على ترجمتها للآخرين ليشاركوة ف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FC5-5917-4BB1-9D11-5431BE256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م القائد التحويلي المرتبطة بإدارة التغي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راك الحاجه ل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ياغة الرؤية والرسال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نموذج التغيير ومسارات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وين الاستراتيجية الجديد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بئة الالتزام من خلال حضارة المنظ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ارة الفترة الانتقا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874-6214-4E5A-9F9A-9BD003B06A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نمية القيادة الإدا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هناك اجماعا بين الكتاب حول النقص الحاد في القيادة الإدارية، وخللا في تعليم القادة وتدريب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نقط الضعف في برامج التدريب للقادة: حسب جيمس بولت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غير متكامل. يفترض أن يركز على الأبعاد الثلاثة: الفنية ، الإنسانية، الأخلاقية. لكن التركيز على البعد الفن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سريع من خلال برامج قصيرة، تكوين القادة عملية مستمرة وطويلة الأج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متقادم يركز على القضايا التي تخص القرن 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يركز التدريب على المهارات الإدارية التقليدية. يجب أن يركز على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ظروف السوقية الحالية في طل التغيرات العالمي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فعالية الشخصية والمهارات الجديدة المطلوبة للامتي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نمية الثقة الذاتية اللازمة لإدارة المنظم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A21-A3C0-477B-97A9-0927643C15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ا يجب أن تشمله برامج اعداد القادة للقرن 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رؤية و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حضارة الانجاز وتكوين المنظمة التي تتعل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الاستراتيجية والتحليل الرباعي والتميز التنافس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الهيكلة ال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عادة الهندس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ختيار وتدريب وتحفيز وتمكي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غيير الذات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ي الموضوعات التي تقترح التركيز عليها في برامج اعداد قادة القرن 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DFB-FC19-4394-A54B-DD728026AE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رق ماكنزي بين القيادة والإدار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قيادة لعنصر الناس، تهيئة الموظفين والإشراف عليهم ورقابت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ادارة للتفكير في الأشياء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عل ماكنزي صناعة القرارات عا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الهوار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لمدير يفعل الأشياء بطريقة 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قائد يفعل الأشياء ال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7BE-45C0-4668-AA07-8E84C5DD6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كوت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2421000"/>
          <a:ext cx="7415280" cy="3902040"/>
        </p:xfrm>
        <a:graphic>
          <a:graphicData uri="http://schemas.openxmlformats.org/drawingml/2006/table">
            <a:tbl>
              <a:tblPr/>
              <a:tblGrid>
                <a:gridCol w="2471760"/>
                <a:gridCol w="3362400"/>
                <a:gridCol w="158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ا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ناص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تحديد الاتجاه: تنمية رؤية مستقبلية بعي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خطيط والموازنات: وضع الخطوات التنفيذية والبرامج الزم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قاط الاهت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وجيه البشر: الاتصال بالكلمة والفعل للتأثير وخلق روح الفر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نظيم وتهيئة الموارد البشرية: الهيكل التنظيمي- السلطة والمسئولية، التفويض والسياسات والإجراء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مية الشبكة الادارية اللاز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حفيز والإلهام: اشباع حاجاتهم الانس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رقابة وحل المشكلات: المتابعة التفصيلية للتنفيذ وتحديد الانحرافات من أجل التصحي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قق تغييرات أحيانا جوهرية مثل سلع جديدة يريدها المستهلك، علاقات طيب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أن يحقق قدرا من النظام لتحقيق النتائج المتوق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خ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6A2-28D1-45B4-AAE7-6D062FDC2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دير والقائد حسب الهواري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532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ائ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ف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ضع الرؤ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عبئ الطاقات ويبني روح الفري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فز معنو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بش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معاني والآما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بحث عن الج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نفعالي مليء بالمشاع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يشرك المرؤوسين في اتخاذ القر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ذات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ف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خط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ظم ويحدد الاختصاص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كاف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نظم وال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لوائ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سوابق والمأل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وضوعي منضب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خذ القرارات وربما يشرح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من خارجة: تحفيز مصطن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FA3-CB66-43F5-A31C-495442524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صفوفة القيادة/الادارة : لجون كوت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قوي ومدير قوي                   قائد قوي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رؤية منفصلة عن الواق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وجية الأفراد الى هدف دون تنظ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استراتيجيات ينقصها التخطيط الرسمي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قو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تجه العمليات نحو البيروقراط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تخصص الزائد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مزيد من السياسات والإجراء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نظم الرقابة تصطدم بالابت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د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5445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87280" y="227628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991-0A78-4F57-B1B5-493544C5F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ستخدم اسلوب التدعيم الشرطي ويقبل المرؤوسين بذلك. اذا فعلت كذا تأخذ مكافأة كذا أو تتجنب عقاب كذ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لتدعيم المشروط مزايا حسب الدراسات الساب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فع أداء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سين الرضا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خفيض مخاطر الدور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سلوب المدير التباد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وضح العمل المطلوب من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هذا يبني ثقة عن المرؤوسين لمعرفتهم المسبقة بالمطلو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عترف بحاجات المرؤوسين ويبين كيفية اشباع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هذه الترتيبات تشجع المرؤوسين على القيام بالنتائج المتوقعة منه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D22-5212-47A9-9F23-8DEC517140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ساليب المدير التبادلي بين الايجابية والسلب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ولا: الأساليب الايجابية وتشمل أسلوب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إدارة بالاستثناء: يتم التدخل عندما تسوء الأحوال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زاء الشرطي: المكافأة مرتبطة بتحقيق الأهداف، اعطاء التسهيلات اللازمة للمرؤوس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ثانيا:الأساليب السلبية وتشم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دعيم السلبي المشرو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ع الأمور تجري كما تجر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1A4-A202-4CA9-ADBB-19F5B9E9A3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باب عدم فعالية القيادة التبادل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قص مهارة القائد في استخدام نظم التدعيم الا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ظم تقييم للأداء غير سلي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غير قادر على تقديم الحوافز الايجابية للمرؤوسين بسبب محدودية الموارد أو لخضوعها لقواعد خارجة عن سلط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ضغوط العمل قد لا تسمح بالتقييم الجيد أو التطبيق الايجابي للشرو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ستخدام نظم التدعيم السلبي غير فعالة على المدى البعي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6EA-9A94-4016-9222-6F5CB4E7A3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ضرورة توفر نوع جديد من القا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حن نحتاج الى قيادة من نوع جديد تناسب الواقع الجديد. قيادة تقبل التغيير وتتأقلم حسب الواق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القيادة التي تحب التغيير هي القيادة التحوي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أهم ما يميز قادة منظمة القرن ال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أنهم يحبون ا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C21-F032-49ED-BDC5-2E2CA1CA6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rayah</cp:lastModifiedBy>
  <dcterms:modified xsi:type="dcterms:W3CDTF">2006-10-27T21:16:24Z</dcterms:modified>
  <cp:revision>28</cp:revision>
  <dc:subject/>
  <dc:title>PowerPoint Presentation</dc:title>
</cp:coreProperties>
</file>