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115-597D-4AFF-A0B4-3C77A1B1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CC5A-1E9D-4544-97C8-07F402D5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CD44-69BE-48FB-BB95-B3E39165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BF4-1F67-4C78-82B0-3496EC2F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46ED-AEAD-4838-9E79-B8292D41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1B1F-DB0A-4916-8B3B-11AB66A8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5FE9-8941-42E6-905A-BA76E73B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35A9-DB47-4E52-90EA-146E579F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DF3F-10CA-4EEE-86EA-E1CA8316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6164-889E-4E6B-9C18-4BD73C99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4B84-C932-4E35-BB9F-9929DD04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763-7CC7-472F-8918-28FDB265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99BED-44F2-408B-960F-4DB65F29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B320-6327-420F-A570-D33B9A4F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953E-F836-4960-ADBF-17CB43DB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AD74-186A-4439-8452-922AC97D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B94E-79D9-4CAE-A0B6-BF63C47F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F95-1171-4D17-86F1-6AEEF561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5E12-7563-43A8-9E42-C39F085B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374B-3BE9-45AF-969C-0F8231EE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F2EA-AFE6-4804-AF18-63E26417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F55-2C31-4E79-8A70-5A330F50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0C2-C678-4534-9DF8-7FA5F1E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382-4EEB-4B08-88E9-F008990D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CAB4-5020-48E1-8DCB-B9A0748E89D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5ECF-AB02-4AE4-8FFF-975C5172C8A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eadership</a:t>
            </a:r>
            <a:br>
              <a:rPr sz="4800"/>
            </a:br>
            <a:r>
              <a:rPr b="0" lang="ar-EG" sz="4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قيا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مقدمه و دوره عمل القائ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57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امج صناع الحياه التدريب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إشاره الى الإتجاه هى التعرف على المشكله أو التحدى الذى يواجهه الفريق, تحليل المشكله من جافه الأوجه و إقتراح حلول على الفريق و الخروج بقرار يستشار فيه الجميع (وليس بالضروره أن يوافق عليه الجميع ولكن يؤيدونه بعد الإستقرار عليه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حمايه: هى ان يكون القائد هو المنظم لوصول الضغوط الخارجيه على الفريق بشكل لايرهق أو يقلل من كفاءه الفريق و فى نفس الوقت ان يعرف الفريق حقيقه و مدى التحدى و الضغوط التى تواجه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تعريف و التنظيم: أن يقوم القائد بتعريف كل فرد أو مجموعه من الفريق بدوره و مسؤلياته و حدود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حل المشكلات و الصراعات: أن يحافظ على النظام و الإحترام المتبادل بين أعضاء الفريق و حل الصراعات و المشكلات التى تنشأ بينهم بشكل يحافظ على الود و التعاون و الدفع بالتى هى أحس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محافظه على العادات و المألوف من الأخلاقيات و القيم كالإلتزام و الأحترام و التعاون و الإيثار و غيرها عن طريق ضرب المثل و تشجيع و تنميه و تحفيز السلوكيات الباعثه على هذه القيم و الأخلاقي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القياده و الرئاسه</a:t>
            </a: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قياده ليست هى الرئاسه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و القائد ليس بالضروره هو الرئيس . و لا يشترط وجود الرئاسه لتحقيق القياد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فرق بين المفهوميين موضح فى الجدول الأتى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356000" y="404640"/>
            <a:ext cx="4105440" cy="936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7280" y="277560"/>
            <a:ext cx="410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86d1ec"/>
                </a:solidFill>
                <a:latin typeface="Arial"/>
                <a:ea typeface="AL-Mohanad Bold"/>
              </a:rPr>
              <a:t> الفرق بين القائد والرئي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8229600" cy="4271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 Bold"/>
                        </a:rPr>
                        <a:t>الرئاس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 Bold"/>
                        </a:rPr>
                        <a:t>القياد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تتم عن طريق نظام مؤسسي يعين الرئي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تتم بطبيعية من خلال تعرف أعضاء الفريق عن مساهمه وإضافة أحد الأعضاء لتطور المجموع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لا يوجد إحساس وتفاعل مشتر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يوجد إحساس وتفاعل مشترك أيضاُ، وعمل مشترك تجاه هدف موح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هناك فارق ومسافة إجتماعية يحرص الرئيس على ابقائها بينه وبين المرؤسي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لا فوارق إجتماعية بين القائد وفريق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.* سلطة القائد تنبع من قوى خارجية خارج الفريق (كقوة المؤسسة أو المنظمه التي يعمل بها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سلطة القائد طبيعية وتنتج من رغبة المجموعة إتباع القائ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8280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هل تريد أن تكون قائداً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أم رئيساً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هل أنت مستعد للقيام بدور فعال وإضافة قيمة بدون الإهتمام بالأضواء والمميزات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القياده مقدمه و دوره عمل القائ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لتكون قائداً يجب أن تتخلى عن الرئاسة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60036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6d1ec"/>
                </a:solidFill>
                <a:latin typeface="Arial"/>
                <a:cs typeface="AL-Mohanad Bold"/>
              </a:rPr>
              <a:t>القيادة - مقد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03280" y="1628640"/>
            <a:ext cx="6400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جميع يتطلع إلى القائ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قائد في بؤرة الإهتمام و محط الأنظ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كل يتمنى أن يكون قائداً أو رئيســـــــاً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لكن كيف يمكن أن تكون قائداً؟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وهل القيادة هي الرئاس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3640" y="260280"/>
            <a:ext cx="316872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1640" y="277920"/>
            <a:ext cx="3240360" cy="993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6d1ec"/>
                </a:solidFill>
                <a:latin typeface="Arial"/>
                <a:cs typeface="AL-Mohanad Bold"/>
              </a:rPr>
              <a:t>تعريف القياد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القيادة مفهوم قديم قدم التاريخ وله عديد من التعريفات  </a:t>
            </a:r>
            <a:r>
              <a:rPr b="0" i="1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منها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AL-Mohanad"/>
              </a:rPr>
              <a:t>"القيادة هي تفاعل بين اثنين أو أكثر من أعضاء مجموعة ... وتحدث حين يقوم أحد أعضاء الفريق بتغيير دوافع أو إمكانيات الأخرين في الفري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ea typeface="AL-Mohanad"/>
              </a:rPr>
              <a:t>”القياده هى عمليه تحريك الناس نحو الهدف الدنيوى و الأخروى وفق قيم وشريعه الإسلام“ </a:t>
            </a:r>
            <a:r>
              <a:rPr b="0" lang="ar-EG" sz="1200" spc="-1" strike="noStrike">
                <a:solidFill>
                  <a:srgbClr val="ffffff"/>
                </a:solidFill>
                <a:latin typeface="Arial"/>
                <a:ea typeface="AL-Mohanad"/>
              </a:rPr>
              <a:t>(د. طارق سويدان أ. فيصل باشراحيل - صناعه القائد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إذن القياده تحتاج الى هدف و قائد و مجموعه من الناس يتم بينهم التفاعل عن طريق تغيير إمكانياتهم أو دوافعهم للوصول الى هدف مشتر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هدف لابد أن يوازن بين الدنيا و الإخره ، و لابد ان يكون الهدف و الطريقه للوصول اليه ضمن ضوابط الشريعه الإسلامي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ولابد أن يراعى القائد فريقه خلال عمليه الوصول الى الهدف ولا أن يفكر فقط فى الوصول الى الهد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131640" y="277920"/>
            <a:ext cx="3240360" cy="993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تعريف القياد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من التعريف الى التطبي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مر القائد بدوره عمل بدايه من إتخاذ المبادره الى تحقيق النتائج و تحسين عمليه الوصول الى الهدف مره بعد مر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لننظر الى دوره عمل القائ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دوره عمل القائ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920" y="1447920"/>
            <a:ext cx="8686800" cy="5029200"/>
            <a:chOff x="304920" y="1447920"/>
            <a:chExt cx="8686800" cy="5029200"/>
          </a:xfrm>
        </p:grpSpPr>
        <p:sp>
          <p:nvSpPr>
            <p:cNvPr id="176" name=""/>
            <p:cNvSpPr/>
            <p:nvPr/>
          </p:nvSpPr>
          <p:spPr>
            <a:xfrm>
              <a:off x="304920" y="431964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AL-Mohanad"/>
                  <a:cs typeface="AL-Mohanad"/>
                </a:rPr>
                <a:t>يتخذ المبادر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202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24720" y="4319640"/>
              <a:ext cx="11239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طور الأفكار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86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3120" y="431964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ضع الأهداف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70680" y="458964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77400" y="4319640"/>
              <a:ext cx="91980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خطط وينظ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7200" y="458964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03920" y="431964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ضبط النفس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192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23720" y="2836440"/>
              <a:ext cx="0" cy="26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23720" y="28364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27840" y="260712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ؤثر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23720" y="378036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27840" y="351072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فوض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2372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27840" y="433332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طور المرؤسين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23720" y="55332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27840" y="526356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Times New Roman"/>
                  <a:cs typeface="AL-Mohanad"/>
                </a:rPr>
                <a:t>يبنى الفري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33320" y="162288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التوقعات الإيجابي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33320" y="241848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التوقعات الواقعي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28840" y="1488240"/>
              <a:ext cx="0" cy="12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28840" y="27018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8840" y="189288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28840" y="1474920"/>
              <a:ext cx="602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50880" y="189288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50880" y="27018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55360" y="1892880"/>
              <a:ext cx="0" cy="80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5360" y="2297160"/>
              <a:ext cx="11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9640" y="202752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عدل  وينق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8240" y="256680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5400" y="27961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45400" y="36997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45400" y="458964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45400" y="56275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47640" y="2796120"/>
              <a:ext cx="0" cy="28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7640" y="4050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52120" y="375336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راقب النتائج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71920" y="321408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عاقب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71920" y="383436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كافى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71920" y="446796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تفه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67440" y="4050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9600" y="3376080"/>
              <a:ext cx="0" cy="13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9680" y="33760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69680" y="47242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89480" y="33850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89480" y="402300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89480" y="46702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91720" y="337608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561080" y="5398560"/>
              <a:ext cx="143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61080" y="4319640"/>
              <a:ext cx="0" cy="107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8840" y="1447920"/>
              <a:ext cx="0" cy="22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58840" y="4319640"/>
              <a:ext cx="0" cy="21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632960" y="6477120"/>
              <a:ext cx="58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633320" y="4859280"/>
              <a:ext cx="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5638680"/>
            <a:ext cx="28195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ource: Adopted from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Bernard M. Bass, Bass and Stogdill’s Handbook of Leadership, Theory Research, and Managerial Application, 1990, Free Press NY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76720" y="404640"/>
            <a:ext cx="3311280" cy="936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16000" y="27756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6d1ec"/>
                </a:solidFill>
                <a:latin typeface="Arial"/>
                <a:cs typeface="AL-Mohanad Bold"/>
              </a:rPr>
              <a:t>دورة عمل القائ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القائد في البداية يتخذ المبادرة ويبادر بالتحرك نحو الهدف ولا ينتظر أى من العوامل الخارجية ولا يتعلل بأعذار من أى نو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ثم يقوم بتجميع الأفكار وتنميتها من جميع أعضاء الفريق، ومن ثم تصفيتها وتركيزهـا في مجموعة أفكار رئيس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بعدهـا يحولها إلى أهداف يمكن للجميع رؤيت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ثم ينظم الموارد المطلوبة للوصول للأهداف في مراحل خطة زم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في التنفيذ يتعرض الفريق إلى مجموعة من المؤثرات، تحتاج إلى ضبط النفس والتحكم في المشاعر من القائد.  ويحتاج إلى أن يساعد فريقه على التعامل بهدوء وحكمه مع العقبات و المنغص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ومن ثم يبدأ القائد في التأثير على أعضاء فريقه للأفضل ( بناء الهمم  وتحفيز فريقه لبذل جهد أكبر أمام صعوبات متزايدة ) و ( حثهم على تطوير انفسهم والتعلم والتطور 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إنجاز المهام الكثيرة والمعقدة يفوض القائد أعضاء الفريق ويثق في التزامهم وحرصهم عن إنهاء المهام التي كلفوا بها عن أكل وج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يطور القائد أعضاء فريقه من خلال التعرف عن نقاط الضعف والقوة لديهم ومن  ثم العمل مع كل فرد على حده لتحسين وتطوير قدراته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 Bol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بناء الفري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مراقبة النتائج و ظيفه هامه على  ثلاثه مستويات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أفكار</a:t>
            </a:r>
            <a:r>
              <a:rPr b="0" i="1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نقيح  وتحسين الأفكار والإضافة اليها من واقع الخبرات العم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فريق</a:t>
            </a:r>
            <a:r>
              <a:rPr b="0" i="1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شجيع ومكافأة المحسن وعقاب المقصر (والعقاب المعنوى أهم وأكثر تأثيراً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من المادى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وتفهم ظروف المجتهديين وما قد وجدوه  من صعوبات حتى ولو لم يصلوا إلى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تحقيق أهدافهم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تخطيط والتنظي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حسين إدارة الموارد ومراحل العمل لتحقيق الأهداف المرجو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مهام القائد فى بناء وتقويه الفري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لايستطيع مجموعه من الناس العمل و الوصول الى هدف موحد بدون تكوين فري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فريق يحتاج من القائد الى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إشاره الى الإتجا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حماي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شرح و التوجي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حل المشاكل و التض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تحديد المألوف و العاد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5715000"/>
            <a:ext cx="48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01:10Z</dcterms:created>
  <dc:creator>Hazem Zagzoug</dc:creator>
  <dc:description/>
  <dc:language>en-US</dc:language>
  <cp:lastModifiedBy>jamila oumlil</cp:lastModifiedBy>
  <dcterms:modified xsi:type="dcterms:W3CDTF">2005-12-01T13:35:06Z</dcterms:modified>
  <cp:revision>11</cp:revision>
  <dc:subject/>
  <dc:title>Leadership القياده</dc:title>
</cp:coreProperties>
</file>