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CC8-E99B-4FBD-8231-3A8CE18A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7A9-E50B-414E-804A-0C5300CF0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B711-DD93-4DC9-BADA-8E2E1F9C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0F9-6206-46D1-BB01-D6578A3DE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7B2C4-F79C-4642-8980-C311F7738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E1DE-B739-4B43-A0D6-A2545181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6DDC-8E9E-489C-8A09-28C37721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C76A-ECB4-4A2D-80F6-8BF9C17C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429A8-890A-4B51-AAA1-24AAFEF7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9F27-0BB0-44A6-B60D-2CC8B56A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960C-3317-43AF-AD69-DF79BBB3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60E-E369-48EB-B1B6-47AD6362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4299-4FB9-4103-B44E-9E27DE9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AC7D-9889-4DE9-BC6F-201AE458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81636-354E-4A66-A447-0515CD55F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11ECD-9F29-47FE-A455-CB12160EE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86A1-9838-4857-92CA-B260A3688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E793-1C0E-4B1E-94A6-D19A1318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4E9D-1655-427E-A0C9-F326AF34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1222-704D-4D42-BB24-1DA4D512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86A-84ED-4939-B846-0D287D60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8695-1EAA-4D91-AF7D-D35CCB6D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15BD-8E9C-4617-8CDE-406CACE3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C6FE-2B08-4990-87FC-94C031A0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5A3-64C3-4396-8996-A39DA98359BC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CB97-2CF5-4788-9BEB-DF0FFA9E00D5}" type="slidenum"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eadership</a:t>
            </a:r>
            <a:br>
              <a:rPr sz="4800"/>
            </a:br>
            <a:r>
              <a:rPr b="0" lang="ar-EG" sz="4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ه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ff"/>
                </a:solidFill>
                <a:latin typeface="Arial"/>
              </a:rPr>
              <a:t>مقدمه و دوره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572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ff"/>
                </a:solidFill>
                <a:latin typeface="Arial"/>
              </a:rPr>
              <a:t>برامج صناع الحياه التدريبي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إشاره الى الإتجاه هى التعرف على المشكله أو التحدى الذى يواجهه الفريق, تحليل المشكله من جافه الأوجه و إقتراح حلول على الفريق و الخروج بقرار يستشار فيه الجميع (وليس بالضروره أن يوافق عليه الجميع ولكن يؤيدونه بعد الإستقرار عليه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حمايه: هى ان يكون القائد هو المنظم لوصول الضغوط الخارجيه على الفريق بشكل لايرهق أو يقلل من كفاءه الفريق و فى نفس الوقت ان يعرف الفريق حقيقه و مدى التحدى و الضغوط التى تواجه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تعريف و التنظيم: أن يقوم القائد بتعريف كل فرد أو مجموعه من الفريق بدوره و مسؤلياته و حدود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حل المشكلات و الصراعات: أن يحافظ على النظام و الإحترام المتبادل بين أعضاء الفريق و حل الصراعات و المشكلات التى تنشأ بينهم بشكل يحافظ على الود و التعاون و الدفع بالتى هى أحس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ffffff"/>
                </a:solidFill>
                <a:latin typeface="Arial"/>
              </a:rPr>
              <a:t>المحافظه على العادات و المألوف من الأخلاقيات و القيم كالإلتزام و الأحترام و التعاون و الإيثار و غيرها عن طريق ضرب المثل و تشجيع و تنميه و تحفيز السلوكيات الباعثه على هذه القيم و الأخلاقيات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و الرئاسه</a:t>
            </a: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قياده ليست هى الرئاسه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 القائد ليس بالضروره هو الرئيس . و لا يشترط وجود الرئاسه لتحقيق القياد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فرق بين المفهوميين موضح فى الجدول الأتى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356000" y="404640"/>
            <a:ext cx="410544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427280" y="277560"/>
            <a:ext cx="41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86d1ec"/>
                </a:solidFill>
                <a:latin typeface="Arial"/>
                <a:ea typeface="AL-Mohanad Bold"/>
              </a:rPr>
              <a:t> الفرق بين القائد والرئيس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42717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رئاسه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ffff"/>
                          </a:solidFill>
                          <a:latin typeface="Times New Roman"/>
                          <a:cs typeface="AL-Mohanad Bold"/>
                        </a:rPr>
                        <a:t>القيادة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عن طريق نظام مؤسسي يعين الرئي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تتم بطبيعية من خلال تعرف أعضاء الفريق عن مساهمه وإضافة أحد الأعضاء لتطور المجموع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يوجد إحساس وتفاعل مشتر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يوجد إحساس وتفاعل مشترك أيضاُ، وعمل مشترك تجاه هدف موح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هناك فارق ومسافة إجتماعية يحرص الرئيس على ابقائها بينه وبين المرؤسي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لا فوارق إجتماعية بين القائد وفريق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.* سلطة القائد تنبع من قوى خارجية خارج الفريق (كقوة المؤسسة أو المنظمه التي يعمل بها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AL-Mohanad"/>
                        </a:rPr>
                        <a:t>* سلطة القائد طبيعية وتنتج من رغبة المجموعة إتباع القائد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539280" y="549360"/>
            <a:ext cx="8280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تريد أن تكون قائد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أم رئيساً 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هل أنت مستعد للقيام بدور فعال وإضافة قيمة بدون الإهتمام بالأضواء والمميزات؟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القياده مقدمه و 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تكون قائداً يجب أن تتخلى عن الرئاسة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16000" y="404640"/>
            <a:ext cx="3600360" cy="936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86d1ec"/>
                </a:solidFill>
                <a:latin typeface="Arial"/>
                <a:cs typeface="AL-Mohanad Bold"/>
              </a:rPr>
              <a:t>القيادة - مقدمة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40328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جميع يتطلع إلى القائد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بؤرة الإهتمام و محط الأنظا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الكل يتمنى أن يكون قائداً أو رئيســـــــاً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لكن كيف يمكن أن تكون قائداً؟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  <a:cs typeface="AL-Mohanad"/>
              </a:rPr>
              <a:t>وهل القيادة هي الرئاسه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203640" y="260280"/>
            <a:ext cx="3168720" cy="10080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86d1ec"/>
                </a:solidFill>
                <a:latin typeface="Arial"/>
                <a:cs typeface="AL-Mohanad Bold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القيادة مفهوم قديم قدم التاريخ وله عديد من التعريفات  </a:t>
            </a:r>
            <a:r>
              <a:rPr b="0" i="1" lang="ar-SA" sz="2400" spc="-1" strike="noStrike">
                <a:solidFill>
                  <a:srgbClr val="ffffff"/>
                </a:solidFill>
                <a:latin typeface="Arial"/>
                <a:cs typeface="AL-Mohanad"/>
              </a:rPr>
              <a:t>منها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AL-Mohanad"/>
              </a:rPr>
              <a:t>"القيادة هي تفاعل بين اثنين أو أكثر من أعضاء مجموعة ... وتحدث حين يقوم أحد أعضاء الفريق بتغيير دوافع أو إمكانيات الأخرين في الفريق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3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  <a:ea typeface="AL-Mohanad"/>
              </a:rPr>
              <a:t>”القياده هى عمليه تحريك الناس نحو الهدف الدنيوى و الأخروى وفق قيم وشريعه الإسلام“ </a:t>
            </a:r>
            <a:r>
              <a:rPr b="0" lang="ar-EG" sz="1200" spc="-1" strike="noStrike">
                <a:solidFill>
                  <a:srgbClr val="ffffff"/>
                </a:solidFill>
                <a:latin typeface="Arial"/>
                <a:ea typeface="AL-Mohanad"/>
              </a:rPr>
              <a:t>(د. طارق سويدان أ. فيصل باشراحيل - صناعه القائد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إذن القياده تحتاج الى هدف و قائد و مجموعه من الناس يتم بينهم التفاعل عن طريق تغيير إمكانياتهم أو دوافعهم للوصول الى هدف مشتر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الهدف لابد أن يوازن بين الدنيا و الإخره ، و لابد ان يكون الهدف و الطريقه للوصول اليه ضمن ضوابط الشريعه الإسلامي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ولابد أن يراعى القائد فريقه خلال عمليه الوصول الى الهدف ولا أن يفكر فقط فى الوصول الى الهدف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3131640" y="277920"/>
            <a:ext cx="3240360" cy="99360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36147" dir="2700000" blurRad="0" rotWithShape="0">
              <a:srgbClr val="000080"/>
            </a:outerShdw>
          </a:effectLst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</a:rPr>
              <a:t>تعريف القيادة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ن التعريف الى التطب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يمر القائد بدوره عمل بدايه من إتخاذ المبادره الى تحقيق النتائج و تحسين عمليه الوصول الى الهدف مره بعد مره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ff"/>
                </a:solidFill>
                <a:latin typeface="Arial"/>
              </a:rPr>
              <a:t>لننظر الى دوره عمل القائد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دوره عمل القائد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04920" y="1447920"/>
            <a:ext cx="8686800" cy="5029200"/>
            <a:chOff x="304920" y="1447920"/>
            <a:chExt cx="8686800" cy="5029200"/>
          </a:xfrm>
        </p:grpSpPr>
        <p:sp>
          <p:nvSpPr>
            <p:cNvPr id="176" name=""/>
            <p:cNvSpPr/>
            <p:nvPr/>
          </p:nvSpPr>
          <p:spPr>
            <a:xfrm>
              <a:off x="304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AL-Mohanad"/>
                  <a:cs typeface="AL-Mohanad"/>
                </a:rPr>
                <a:t>يتخذ المبادر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20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24720" y="4319640"/>
              <a:ext cx="11239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أفكا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486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553120" y="431964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ع الأهداف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37068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677400" y="4319640"/>
              <a:ext cx="91980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خطط وينظ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7200" y="4589640"/>
              <a:ext cx="30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03920" y="431964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ضبط النفس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1924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823720" y="2836440"/>
              <a:ext cx="0" cy="269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23720" y="28364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27840" y="26071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ؤثر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823720" y="378036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27840" y="351072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فوض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823720" y="458964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27840" y="43333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طور المرؤسين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23720" y="55332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27840" y="526356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Times New Roman"/>
                  <a:cs typeface="AL-Mohanad"/>
                </a:rPr>
                <a:t>يبنى الفريق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3320" y="16228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إيجاب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3320" y="241848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التوقعات الواقعية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428840" y="1488240"/>
              <a:ext cx="0" cy="121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2884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2884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28840" y="1474920"/>
              <a:ext cx="602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50880" y="189288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450880" y="27018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55360" y="1892880"/>
              <a:ext cx="0" cy="80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5360" y="2297160"/>
              <a:ext cx="112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9640" y="2027520"/>
              <a:ext cx="81756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EG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دل  وينقح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88240" y="2566800"/>
              <a:ext cx="0" cy="175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45400" y="27961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45400" y="36997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45400" y="458964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45400" y="562752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47640" y="2796120"/>
              <a:ext cx="0" cy="283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76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52120" y="3753360"/>
              <a:ext cx="715320" cy="539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راقب النتائج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1920" y="321408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عاقب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071920" y="38343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كافىء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071920" y="4467960"/>
              <a:ext cx="817560" cy="404280"/>
            </a:xfrm>
            <a:prstGeom prst="rect">
              <a:avLst/>
            </a:prstGeom>
            <a:solidFill>
              <a:srgbClr val="7b46d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500" spc="-1" strike="noStrike">
                  <a:solidFill>
                    <a:srgbClr val="ffffff"/>
                  </a:solidFill>
                  <a:latin typeface="Book Antiqua"/>
                  <a:cs typeface="AL-Mohanad"/>
                </a:rPr>
                <a:t>يتفهم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67440" y="4050000"/>
              <a:ext cx="2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9600" y="3376080"/>
              <a:ext cx="0" cy="13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69680" y="3376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69680" y="4724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889480" y="33850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889480" y="402300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889480" y="4670280"/>
              <a:ext cx="10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91720" y="3376080"/>
              <a:ext cx="0" cy="20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561080" y="5398560"/>
              <a:ext cx="143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561080" y="4319640"/>
              <a:ext cx="0" cy="107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458840" y="1447920"/>
              <a:ext cx="0" cy="22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58840" y="4319640"/>
              <a:ext cx="0" cy="21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632960" y="6477120"/>
              <a:ext cx="582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633320" y="4859280"/>
              <a:ext cx="0" cy="161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28600" y="5638680"/>
            <a:ext cx="2819520" cy="10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ource: Adopted from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ernard M. Bass, Bass and Stogdill’s Handbook of Leadership, Theory Research, and Managerial Application, 1990, Free Press NY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276720" y="404640"/>
            <a:ext cx="3311280" cy="93672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16000" y="277560"/>
            <a:ext cx="388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86d1ec"/>
                </a:solidFill>
                <a:latin typeface="Arial"/>
                <a:cs typeface="AL-Mohanad Bold"/>
              </a:rPr>
              <a:t>دورة عمل القائد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القائد في البداية يتخذ المبادرة ويبادر بالتحرك نحو الهدف ولا ينتظر أى من العوامل الخارجية ولا يتعلل بأعذار من أى نو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قوم بتجميع الأفكار وتنميتها من جميع أعضاء الفريق، ومن ثم تصفيتها وتركيزهـا في مجموعة أفكار رئيس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عدهـا يحولها إلى أهداف يمكن للجميع رؤيتها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ثم ينظم الموارد المطلوبة للوصول للأهداف في مراحل خطة زمن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في التنفيذ يتعرض الفريق إلى مجموعة من المؤثرات، تحتاج إلى ضبط النفس والتحكم في المشاعر من القائد.  ويحتاج إلى أن يساعد فريقه على التعامل بهدوء وحكمه مع العقبات و المنغصات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من ثم يبدأ القائد في التأثير على أعضاء فريقه للأفضل ( بناء الهمم  وتحفيز فريقه لبذل جهد أكبر أمام صعوبات متزايدة ) و ( حثهم على تطوير انفسهم والتعلم والتطور 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إنجاز المهام الكثيرة والمعقدة يفوض القائد أعضاء الفريق ويثق في التزامهم وحرصهم عن إنهاء المهام التي كلفوا بها عن أكل وج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يطور القائد أعضاء فريقه من خلال التعرف عن نقاط الضعف والقوة لديهم ومن  ثم العمل مع كل فرد على حده لتحسين وتطوير قدراته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 Bold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بناء الفري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راقبة النتائج و ظيفه هامه على  ثلاثه مستويات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أفكار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نقيح  وتحسين الأفكار والإضافة اليها من واقع الخبرات العملية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فريق</a:t>
            </a:r>
            <a:r>
              <a:rPr b="0" i="1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شجيع ومكافأة المحسن وعقاب المقصر (والعقاب المعنوى أهم وأكثر تأثيراً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من المادى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وتفهم ظروف المجتهديين وما قد وجدوه  من صعوبات حتى ولو لم يصلوا إلى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تحقيق أهدافهم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- </a:t>
            </a:r>
            <a:r>
              <a:rPr b="0" i="1" lang="ar-SA" sz="2000" spc="-1" strike="noStrike">
                <a:solidFill>
                  <a:srgbClr val="86d1ec"/>
                </a:solidFill>
                <a:latin typeface="Arial"/>
                <a:cs typeface="AL-Mohanad"/>
              </a:rPr>
              <a:t>مستوى التخطيط والتنظيم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: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ea typeface="AL-Mohanad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AL-Mohanad"/>
              </a:rPr>
              <a:t>لتحسين إدارة الموارد ومراحل العمل لتحقيق الأهداف المرجوه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ffffff"/>
                </a:solidFill>
                <a:latin typeface="Arial"/>
              </a:rPr>
              <a:t>مهام القائد فى بناء وتقويه الفري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لايستطيع مجموعه من الناس العمل و الوصول الى هدف موحد بدون تكوين فري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ffffff"/>
                </a:solidFill>
                <a:latin typeface="Arial"/>
              </a:rPr>
              <a:t>الفريق يحتاج من القائد الى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إشاره الى الإتجا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حما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الشرح و التوجي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حل المشاكل و التضار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400" spc="-1" strike="noStrike">
                <a:solidFill>
                  <a:srgbClr val="ffffff"/>
                </a:solidFill>
                <a:latin typeface="Arial"/>
              </a:rPr>
              <a:t>تحديد المألوف و العاد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4920" y="5715000"/>
            <a:ext cx="48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ource: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1:10Z</dcterms:created>
  <dc:creator>Hazem Zagzoug</dc:creator>
  <dc:description/>
  <dc:language>en-US</dc:language>
  <cp:lastModifiedBy>jamila oumlil</cp:lastModifiedBy>
  <dcterms:modified xsi:type="dcterms:W3CDTF">2005-12-01T13:35:06Z</dcterms:modified>
  <cp:revision>11</cp:revision>
  <dc:subject/>
  <dc:title>Leadership القياده</dc:title>
</cp:coreProperties>
</file>