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3F3-2ECC-4C19-91E2-B28F76AE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586E-75E0-470F-8A93-884881C1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DBF-1845-4E4C-B3E9-FE77A5E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F3F-94B4-4906-8A37-1BF20193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2A68-E9A2-4825-822E-73616113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FD1D-CA4B-4589-987A-B9C11003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52CB-AD94-447B-9736-E4236CE7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52E-C23C-4D2D-AFBA-8049062C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B763-1D97-4E54-922A-7601C452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9D2C-E0FB-42D7-8955-C780948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48798-F154-46FE-9C9F-B70C6957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E7B-1D0E-4EA4-9EFE-3FD16F47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A1E0-27D1-45A0-BBE4-5B1AD6E5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022B-92D4-4ECE-B736-01EA8FC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112D-8BAE-4086-A84F-8D1EDC9A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BABC-F535-476A-A898-FC4B142C9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F45B-97AF-4D65-8678-E61A42B6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6F6-426A-4CC1-98A4-5D09E44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F03-5C16-4119-B48B-12F7BE8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76F-09FC-4BA9-8014-57272A0B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A5CF-0CF6-4859-83B6-702ACBD8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6F4-3C3F-449A-ACB0-AC4D21D5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53B-7773-473E-82C3-DAED3B6F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739E-F912-4430-8CAA-8A0A2D1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A5B-B979-444F-A875-AB2581CD3DF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2376-1378-4270-803B-52779AF9516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eadership</a:t>
            </a:r>
            <a:br>
              <a:rPr sz="4800"/>
            </a:br>
            <a:r>
              <a:rPr b="0" lang="ar-EG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مقدمه و دوره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امج صناع الحياه التدريب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إشاره الى الإتجاه هى التعرف على المشكله أو التحدى الذى يواجهه الفريق, تحليل المشكله من جافه الأوجه و إقتراح حلول على الفريق و الخروج بقرار يستشار فيه الجميع (وليس بالضروره أن يوافق عليه الجميع ولكن يؤيدونه بعد الإستقرار علي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حمايه: هى ان يكون القائد هو المنظم لوصول الضغوط الخارجيه على الفريق بشكل لايرهق أو يقلل من كفاءه الفريق و فى نفس الوقت ان يعرف الفريق حقيقه و مدى التحدى و الضغوط التى تواجه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تعريف و التنظيم: أن يقوم القائد بتعريف كل فرد أو مجموعه من الفريق بدوره و مسؤلياته و حدود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حل المشكلات و الصراعات: أن يحافظ على النظام و الإحترام المتبادل بين أعضاء الفريق و حل الصراعات و المشكلات التى تنشأ بينهم بشكل يحافظ على الود و التعاون و الدفع بالتى هى أحس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محافظه على العادات و المألوف من الأخلاقيات و القيم كالإلتزام و الأحترام و التعاون و الإيثار و غيرها عن طريق ضرب المثل و تشجيع و تنميه و تحفيز السلوكيات الباعثه على هذه القيم و الأخلاقي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و الرئاسه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قياده ليست هى الرئاسه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 القائد ليس بالضروره هو الرئيس . و لا يشترط وجود الرئاسه لتحقيق القياد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فرق بين المفهوميين موضح فى الجدول الأت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356000" y="404640"/>
            <a:ext cx="410544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86d1ec"/>
                </a:solidFill>
                <a:latin typeface="Arial"/>
                <a:ea typeface="AL-Mohanad Bold"/>
              </a:rPr>
              <a:t> الفرق بين القائد والرئي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427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رئاس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قياد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عن طريق نظام مؤسسي يعين الرئي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بطبيعية من خلال تعرف أعضاء الفريق عن مساهمه وإضافة أحد الأعضاء لتطور المجمو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يوجد إحساس وتفاعل مشتر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يوجد إحساس وتفاعل مشترك أيضاُ، وعمل مشترك تجاه هدف موح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هناك فارق ومسافة إجتماعية يحرص الرئيس على ابقائها بينه وبين المرؤس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فوارق إجتماعية بين القائد وفريق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.* سلطة القائد تنبع من قوى خارجية خارج الفريق (كقوة المؤسسة أو المنظمه التي يعمل بها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سلطة القائد طبيعية وتنتج من رغبة المجموعة إتباع القائ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تريد أن تكون قائد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أم رئيس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أنت مستعد للقيام بدور فعال وإضافة قيمة بدون الإهتمام بالأضواء والمميزات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مقدمه و 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تكون قائداً يجب أن تتخلى عن الرئاسة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600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6d1ec"/>
                </a:solidFill>
                <a:latin typeface="Arial"/>
                <a:cs typeface="AL-Mohanad Bold"/>
              </a:rPr>
              <a:t>القيادة - مقد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جميع يتطلع إلى القائ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بؤرة الإهتمام و محط الأنظ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كل يتمنى أن يكون قائداً أو رئيســـــــاً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كن كيف يمكن أن تكون قائداً؟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وهل القيادة هي الرئاس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3640" y="260280"/>
            <a:ext cx="316872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6d1ec"/>
                </a:solidFill>
                <a:latin typeface="Arial"/>
                <a:cs typeface="AL-Mohanad Bold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القيادة مفهوم قديم قدم التاريخ وله عديد من التعريفات 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منها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AL-Mohanad"/>
              </a:rPr>
              <a:t>"القيادة هي تفاعل بين اثنين أو أكثر من أعضاء مجموعة ... وتحدث حين يقوم أحد أعضاء الفريق بتغيير دوافع أو إمكانيات الأخرين في الفري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AL-Mohanad"/>
              </a:rPr>
              <a:t>”القياده هى عمليه تحريك الناس نحو الهدف الدنيوى و الأخروى وفق قيم وشريعه الإسلام“ </a:t>
            </a:r>
            <a:r>
              <a:rPr b="0" lang="ar-EG" sz="1200" spc="-1" strike="noStrike">
                <a:solidFill>
                  <a:srgbClr val="ffffff"/>
                </a:solidFill>
                <a:latin typeface="Arial"/>
                <a:ea typeface="AL-Mohanad"/>
              </a:rPr>
              <a:t>(د. طارق سويدان أ. فيصل باشراحيل - صناعه القائد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إذن القياده تحتاج الى هدف و قائد و مجموعه من الناس يتم بينهم التفاعل عن طريق تغيير إمكانياتهم أو دوافعهم للوصول الى هدف مشتر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هدف لابد أن يوازن بين الدنيا و الإخره ، و لابد ان يكون الهدف و الطريقه للوصول اليه ضمن ضوابط الشريعه الإسلامي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لابد أن يراعى القائد فريقه خلال عمليه الوصول الى الهدف ولا أن يفكر فقط فى الوصول الى الهد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ن التعريف الى التطب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مر القائد بدوره عمل بدايه من إتخاذ المبادره الى تحقيق النتائج و تحسين عمليه الوصول الى الهدف مره بعد م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لننظر الى دوره عمل القائ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447920"/>
            <a:ext cx="8686800" cy="5029200"/>
            <a:chOff x="304920" y="1447920"/>
            <a:chExt cx="8686800" cy="5029200"/>
          </a:xfrm>
        </p:grpSpPr>
        <p:sp>
          <p:nvSpPr>
            <p:cNvPr id="176" name=""/>
            <p:cNvSpPr/>
            <p:nvPr/>
          </p:nvSpPr>
          <p:spPr>
            <a:xfrm>
              <a:off x="304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AL-Mohanad"/>
                  <a:cs typeface="AL-Mohanad"/>
                </a:rPr>
                <a:t>يتخذ المبادر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0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4720" y="4319640"/>
              <a:ext cx="11239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أفكا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86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3120" y="431964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ع الأهدا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68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77400" y="4319640"/>
              <a:ext cx="91980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خطط وينظ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720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3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بط النفس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19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3720" y="2836440"/>
              <a:ext cx="0" cy="26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28364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7840" y="26071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ؤث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23720" y="378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7840" y="35107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فوض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372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7840" y="43333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مرؤسين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3720" y="5533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7840" y="526356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يبنى الفري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3320" y="16228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إيجاب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3320" y="24184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واقع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8840" y="1488240"/>
              <a:ext cx="0" cy="12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2884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884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8840" y="1474920"/>
              <a:ext cx="60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088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088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5360" y="1892880"/>
              <a:ext cx="0" cy="80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360" y="229716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9640" y="20275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دل  وينق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8240" y="25668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5400" y="27961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5400" y="3699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5400" y="45896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5400" y="56275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7640" y="2796120"/>
              <a:ext cx="0" cy="28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76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52120" y="375336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راقب النتائج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1920" y="321408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اقب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1920" y="38343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كافى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1920" y="44679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تفه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674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9600" y="3376080"/>
              <a:ext cx="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9680" y="3376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9680" y="4724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9480" y="3385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9480" y="40230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89480" y="4670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91720" y="337608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61080" y="5398560"/>
              <a:ext cx="143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61080" y="4319640"/>
              <a:ext cx="0" cy="10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8840" y="1447920"/>
              <a:ext cx="0" cy="22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8840" y="4319640"/>
              <a:ext cx="0" cy="21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32960" y="6477120"/>
              <a:ext cx="58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633320" y="4859280"/>
              <a:ext cx="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5638680"/>
            <a:ext cx="2819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Adopted from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ernard M. Bass, Bass and Stogdill’s Handbook of Leadership, Theory Research, and Managerial Application, 1990, Free Press N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404640"/>
            <a:ext cx="331128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16000" y="27756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6d1ec"/>
                </a:solidFill>
                <a:latin typeface="Arial"/>
                <a:cs typeface="AL-Mohanad Bold"/>
              </a:rPr>
              <a:t>دورة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البداية يتخذ المبادرة ويبادر بالتحرك نحو الهدف ولا ينتظر أى من العوامل الخارجية ولا يتعلل بأعذار من أى نو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قوم بتجميع الأفكار وتنميتها من جميع أعضاء الفريق، ومن ثم تصفيتها وتركيزهـا في مجموعة أفكار رئيس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عدهـا يحولها إلى أهداف يمكن للجميع رؤيت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نظم الموارد المطلوبة للوصول للأهداف في مراحل خطة زم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في التنفيذ يتعرض الفريق إلى مجموعة من المؤثرات، تحتاج إلى ضبط النفس والتحكم في المشاعر من القائد.  ويحتاج إلى أن يساعد فريقه على التعامل بهدوء وحكمه مع العقبات و المنغص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من ثم يبدأ القائد في التأثير على أعضاء فريقه للأفضل ( بناء الهمم  وتحفيز فريقه لبذل جهد أكبر أمام صعوبات متزايدة ) و ( حثهم على تطوير انفسهم والتعلم والتطور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إنجاز المهام الكثيرة والمعقدة يفوض القائد أعضاء الفريق ويثق في التزامهم وحرصهم عن إنهاء المهام التي كلفوا بها عن أكل وج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يطور القائد أعضاء فريقه من خلال التعرف عن نقاط الضعف والقوة لديهم ومن  ثم العمل مع كل فرد على حده لتحسين وتطوير قدراته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ناء الفري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راقبة النتائج و ظيفه هامه على  ثلاثه مستويا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أفكار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نقيح  وتحسين الأفكار والإضافة اليها من واقع الخبرات العم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فريق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شجيع ومكافأة المحسن وعقاب المقصر (والعقاب المعنوى أهم وأكثر تأثيراً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ن المادى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تفهم ظروف المجتهديين وما قد وجدوه  من صعوبات حتى ولو لم يصلوا إلى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تحقيق أهدافهم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تخطيط والتنظي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حسين إدارة الموارد ومراحل العمل لتحقيق الأهداف المرجو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هام القائد فى بناء وتقويه الفر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لايستطيع مجموعه من الناس العمل و الوصول الى هدف موحد بدون تكوين فري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فريق يحتاج من القائد الى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إشاره الى الإتج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حما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شرح و التوج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حل المشاكل و التض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تحديد المألوف و العاد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7150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1:10Z</dcterms:created>
  <dc:creator>Hazem Zagzoug</dc:creator>
  <dc:description/>
  <dc:language>en-US</dc:language>
  <cp:lastModifiedBy>jamila oumlil</cp:lastModifiedBy>
  <dcterms:modified xsi:type="dcterms:W3CDTF">2005-12-01T13:35:06Z</dcterms:modified>
  <cp:revision>11</cp:revision>
  <dc:subject/>
  <dc:title>Leadership القياده</dc:title>
</cp:coreProperties>
</file>