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145E-6705-41A3-AE1A-5D3ADE96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A77-D8E0-4D05-89D5-2F2521FF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8DD3-0556-458C-88B7-9E08FEDF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AB16-5B0A-4F5C-8D5B-8EB1B883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CAD0-5393-4D60-87FA-E511C6BA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2EBF-0EA3-4830-9957-FF64D2B8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50C3-BD2A-40C8-9E86-1BECE6A7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AA1E-EE4B-4F35-84B2-2BEE0D3D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5291-24F7-42BC-89F0-1CA70E02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CB08-122E-463B-9802-61D8376C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5DDA-6390-4D86-87EF-FE050D8F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69C4-0347-4CBC-89F8-33192BB5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042F-95AE-40B8-8974-5FDF2510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55E9-B80A-45C5-916C-71302E8F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FC23-6927-415F-AE87-BB571E45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EAE6-BC74-4ADD-A99C-1F8C712C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5EFC-69FF-42A7-81D1-A9B9F421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69D4-777A-49B4-8E4E-5AA6CE41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18D9-85FD-474A-9D41-184B580F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4D6D-4E7D-4ABB-8817-121B3C74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0674-0A91-425B-B528-247BC92B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BA8D-7062-4EA1-8D20-2ABC86E3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2F33-AE00-4B33-9E62-5DDE6213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A441-F260-4C66-A0AB-E043953B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C0DB-22A2-467E-B622-5D6E2A44B16B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4E3A-8D18-43F9-9D2D-128617D01616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Leadership</a:t>
            </a:r>
            <a:br>
              <a:rPr sz="4800"/>
            </a:br>
            <a:r>
              <a:rPr b="0" lang="ar-EG" sz="4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قياد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Arial"/>
              </a:rPr>
              <a:t>مقدمه و دوره عمل القائ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572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برامج صناع الحياه التدريب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الإشاره الى الإتجاه هى التعرف على المشكله أو التحدى الذى يواجهه الفريق, تحليل المشكله من جافه الأوجه و إقتراح حلول على الفريق و الخروج بقرار يستشار فيه الجميع (وليس بالضروره أن يوافق عليه الجميع ولكن يؤيدونه بعد الإستقرار عليه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الحمايه: هى ان يكون القائد هو المنظم لوصول الضغوط الخارجيه على الفريق بشكل لايرهق أو يقلل من كفاءه الفريق و فى نفس الوقت ان يعرف الفريق حقيقه و مدى التحدى و الضغوط التى تواجهه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التعريف و التنظيم: أن يقوم القائد بتعريف كل فرد أو مجموعه من الفريق بدوره و مسؤلياته و حدوده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حل المشكلات و الصراعات: أن يحافظ على النظام و الإحترام المتبادل بين أعضاء الفريق و حل الصراعات و المشكلات التى تنشأ بينهم بشكل يحافظ على الود و التعاون و الدفع بالتى هى أحس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المحافظه على العادات و المألوف من الأخلاقيات و القيم كالإلتزام و الأحترام و التعاون و الإيثار و غيرها عن طريق ضرب المثل و تشجيع و تنميه و تحفيز السلوكيات الباعثه على هذه القيم و الأخلاقي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القياده و الرئاسه</a:t>
            </a: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لقياده ليست هى الرئاسه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و القائد ليس بالضروره هو الرئيس . و لا يشترط وجود الرئاسه لتحقيق القياد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لفرق بين المفهوميين موضح فى الجدول الأتى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356000" y="404640"/>
            <a:ext cx="4105440" cy="9367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7280" y="277560"/>
            <a:ext cx="410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86d1ec"/>
                </a:solidFill>
                <a:latin typeface="Arial"/>
                <a:ea typeface="AL-Mohanad Bold"/>
              </a:rPr>
              <a:t> الفرق بين القائد والرئيس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1600200"/>
          <a:ext cx="8229600" cy="4271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AL-Mohanad Bold"/>
                        </a:rPr>
                        <a:t>الرئاس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AL-Mohanad Bold"/>
                        </a:rPr>
                        <a:t>القياد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تتم عن طريق نظام مؤسسي يعين الرئي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تتم بطبيعية من خلال تعرف أعضاء الفريق عن مساهمه وإضافة أحد الأعضاء لتطور المجموع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لا يوجد إحساس وتفاعل مشتر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يوجد إحساس وتفاعل مشترك أيضاُ، وعمل مشترك تجاه هدف موح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هناك فارق ومسافة إجتماعية يحرص الرئيس على ابقائها بينه وبين المرؤسي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لا فوارق إجتماعية بين القائد وفريق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.* سلطة القائد تنبع من قوى خارجية خارج الفريق (كقوة المؤسسة أو المنظمه التي يعمل بها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سلطة القائد طبيعية وتنتج من رغبة المجموعة إتباع القائ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39280" y="549360"/>
            <a:ext cx="82803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L-Mohanad"/>
              </a:rPr>
              <a:t>هل تريد أن تكون قائداً 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L-Mohanad"/>
              </a:rPr>
              <a:t>أم رئيساً 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L-Mohanad"/>
              </a:rPr>
              <a:t>هل أنت مستعد للقيام بدور فعال وإضافة قيمة بدون الإهتمام بالأضواء والمميزات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القياده مقدمه و دوره عمل القائ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لتكون قائداً يجب أن تتخلى عن الرئاسة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16000" y="404640"/>
            <a:ext cx="3600360" cy="93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36147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6d1ec"/>
                </a:solidFill>
                <a:latin typeface="Arial"/>
                <a:cs typeface="AL-Mohanad Bold"/>
              </a:rPr>
              <a:t>القيادة - مقدم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403280" y="1628640"/>
            <a:ext cx="6400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الجميع يتطلع إلى القائ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القائد في بؤرة الإهتمام و محط الأنظ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الكل يتمنى أن يكون قائداً أو رئيســـــــاً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لكن كيف يمكن أن تكون قائداً؟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وهل القيادة هي الرئاسه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203640" y="260280"/>
            <a:ext cx="316872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1640" y="277920"/>
            <a:ext cx="3240360" cy="993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6d1ec"/>
                </a:solidFill>
                <a:latin typeface="Arial"/>
                <a:cs typeface="AL-Mohanad Bold"/>
              </a:rPr>
              <a:t>تعريف القياد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L-Mohanad"/>
              </a:rPr>
              <a:t>القيادة مفهوم قديم قدم التاريخ وله عديد من التعريفات  </a:t>
            </a:r>
            <a:r>
              <a:rPr b="0" i="1" lang="ar-SA" sz="2400" spc="-1" strike="noStrike">
                <a:solidFill>
                  <a:srgbClr val="ffffff"/>
                </a:solidFill>
                <a:latin typeface="Arial"/>
                <a:cs typeface="AL-Mohanad"/>
              </a:rPr>
              <a:t>منها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AL-Mohanad"/>
              </a:rPr>
              <a:t>"القيادة هي تفاعل بين اثنين أو أكثر من أعضاء مجموعة ... وتحدث حين يقوم أحد أعضاء الفريق بتغيير دوافع أو إمكانيات الأخرين في الفري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  <a:ea typeface="AL-Mohanad"/>
              </a:rPr>
              <a:t>”القياده هى عمليه تحريك الناس نحو الهدف الدنيوى و الأخروى وفق قيم وشريعه الإسلام“ </a:t>
            </a:r>
            <a:r>
              <a:rPr b="0" lang="ar-EG" sz="1200" spc="-1" strike="noStrike">
                <a:solidFill>
                  <a:srgbClr val="ffffff"/>
                </a:solidFill>
                <a:latin typeface="Arial"/>
                <a:ea typeface="AL-Mohanad"/>
              </a:rPr>
              <a:t>(د. طارق سويدان أ. فيصل باشراحيل - صناعه القائد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إذن القياده تحتاج الى هدف و قائد و مجموعه من الناس يتم بينهم التفاعل عن طريق تغيير إمكانياتهم أو دوافعهم للوصول الى هدف مشتر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لهدف لابد أن يوازن بين الدنيا و الإخره ، و لابد ان يكون الهدف و الطريقه للوصول اليه ضمن ضوابط الشريعه الإسلامي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ولابد أن يراعى القائد فريقه خلال عمليه الوصول الى الهدف ولا أن يفكر فقط فى الوصول الى الهد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131640" y="277920"/>
            <a:ext cx="3240360" cy="993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  <a:effectLst>
            <a:outerShdw dist="36147" dir="2700000" blurRad="0" rotWithShape="0">
              <a:srgbClr val="000080"/>
            </a:outerShdw>
          </a:effectLst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تعريف القياد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من التعريف الى التطبي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مر القائد بدوره عمل بدايه من إتخاذ المبادره الى تحقيق النتائج و تحسين عمليه الوصول الى الهدف مره بعد مر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لننظر الى دوره عمل القائد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دوره عمل القائ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04920" y="1447920"/>
            <a:ext cx="8686800" cy="5029200"/>
            <a:chOff x="304920" y="1447920"/>
            <a:chExt cx="8686800" cy="5029200"/>
          </a:xfrm>
        </p:grpSpPr>
        <p:sp>
          <p:nvSpPr>
            <p:cNvPr id="176" name=""/>
            <p:cNvSpPr/>
            <p:nvPr/>
          </p:nvSpPr>
          <p:spPr>
            <a:xfrm>
              <a:off x="304920" y="4319640"/>
              <a:ext cx="71532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AL-Mohanad"/>
                  <a:cs typeface="AL-Mohanad"/>
                </a:rPr>
                <a:t>يتخذ المبادرة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20240" y="458964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24720" y="4319640"/>
              <a:ext cx="112392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طور الأفكار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48640" y="458964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53120" y="4319640"/>
              <a:ext cx="81756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ضع الأهداف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70680" y="4589640"/>
              <a:ext cx="30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77400" y="4319640"/>
              <a:ext cx="91980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خطط وينظم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7200" y="4589640"/>
              <a:ext cx="30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03920" y="4319640"/>
              <a:ext cx="71532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ضبط النفس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19240" y="458964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23720" y="2836440"/>
              <a:ext cx="0" cy="269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23720" y="283644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27840" y="2607120"/>
              <a:ext cx="817560" cy="404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ؤثر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23720" y="378036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27840" y="3510720"/>
              <a:ext cx="817560" cy="404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فوض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23720" y="458964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27840" y="4333320"/>
              <a:ext cx="81756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طور المرؤسين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23720" y="55332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27840" y="5263560"/>
              <a:ext cx="81756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Times New Roman"/>
                  <a:cs typeface="AL-Mohanad"/>
                </a:rPr>
                <a:t>يبنى الفريق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33320" y="1622880"/>
              <a:ext cx="81756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التوقعات الإيجابية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33320" y="2418480"/>
              <a:ext cx="81756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التوقعات الواقعية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28840" y="1488240"/>
              <a:ext cx="0" cy="12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28840" y="27018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28840" y="189288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28840" y="1474920"/>
              <a:ext cx="602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50880" y="189288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50880" y="27018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55360" y="1892880"/>
              <a:ext cx="0" cy="80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5360" y="2297160"/>
              <a:ext cx="11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79640" y="2027520"/>
              <a:ext cx="81756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عدل  وينق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88240" y="256680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45400" y="279612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45400" y="369972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45400" y="458964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45400" y="562752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47640" y="2796120"/>
              <a:ext cx="0" cy="283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47640" y="40500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52120" y="3753360"/>
              <a:ext cx="71532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راقب النتائج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71920" y="3214080"/>
              <a:ext cx="817560" cy="404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عاقب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71920" y="3834360"/>
              <a:ext cx="817560" cy="404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كافىء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71920" y="4467960"/>
              <a:ext cx="817560" cy="404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تفهم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67440" y="40500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59600" y="3376080"/>
              <a:ext cx="0" cy="134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69680" y="337608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69680" y="472428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889480" y="338508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89480" y="402300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889480" y="467028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91720" y="337608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561080" y="5398560"/>
              <a:ext cx="143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561080" y="4319640"/>
              <a:ext cx="0" cy="107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58840" y="1447920"/>
              <a:ext cx="0" cy="22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58840" y="4319640"/>
              <a:ext cx="0" cy="21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632960" y="6477120"/>
              <a:ext cx="582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633320" y="4859280"/>
              <a:ext cx="0" cy="161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5638680"/>
            <a:ext cx="281952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ource: Adopted from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Bernard M. Bass, Bass and Stogdill’s Handbook of Leadership, Theory Research, and Managerial Application, 1990, Free Press NY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76720" y="404640"/>
            <a:ext cx="3311280" cy="9367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16000" y="277560"/>
            <a:ext cx="388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6d1ec"/>
                </a:solidFill>
                <a:latin typeface="Arial"/>
                <a:cs typeface="AL-Mohanad Bold"/>
              </a:rPr>
              <a:t>دورة عمل القائ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القائد في البداية يتخذ المبادرة ويبادر بالتحرك نحو الهدف ولا ينتظر أى من العوامل الخارجية ولا يتعلل بأعذار من أى نو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ثم يقوم بتجميع الأفكار وتنميتها من جميع أعضاء الفريق، ومن ثم تصفيتها وتركيزهـا في مجموعة أفكار رئيس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بعدهـا يحولها إلى أهداف يمكن للجميع رؤيت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ثم ينظم الموارد المطلوبة للوصول للأهداف في مراحل خطة زمن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في التنفيذ يتعرض الفريق إلى مجموعة من المؤثرات، تحتاج إلى ضبط النفس والتحكم في المشاعر من القائد.  ويحتاج إلى أن يساعد فريقه على التعامل بهدوء وحكمه مع العقبات و المنغصا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ومن ثم يبدأ القائد في التأثير على أعضاء فريقه للأفضل ( بناء الهمم  وتحفيز فريقه لبذل جهد أكبر أمام صعوبات متزايدة ) و ( حثهم على تطوير انفسهم والتعلم والتطور 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لإنجاز المهام الكثيرة والمعقدة يفوض القائد أعضاء الفريق ويثق في التزامهم وحرصهم عن إنهاء المهام التي كلفوا بها عن أكل وجه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يطور القائد أعضاء فريقه من خلال التعرف عن نقاط الضعف والقوة لديهم ومن  ثم العمل مع كل فرد على حده لتحسين وتطوير قدراته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 Bol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بناء الفري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مراقبة النتائج و ظيفه هامه على  ثلاثه مستويات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- </a:t>
            </a:r>
            <a:r>
              <a:rPr b="0" i="1" lang="ar-SA" sz="2000" spc="-1" strike="noStrike">
                <a:solidFill>
                  <a:srgbClr val="86d1ec"/>
                </a:solidFill>
                <a:latin typeface="Arial"/>
                <a:cs typeface="AL-Mohanad"/>
              </a:rPr>
              <a:t>مستوى الأفكار</a:t>
            </a:r>
            <a:r>
              <a:rPr b="0" i="1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 :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لتنقيح  وتحسين الأفكار والإضافة اليها من واقع الخبرات العمل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- </a:t>
            </a:r>
            <a:r>
              <a:rPr b="0" i="1" lang="ar-SA" sz="2000" spc="-1" strike="noStrike">
                <a:solidFill>
                  <a:srgbClr val="86d1ec"/>
                </a:solidFill>
                <a:latin typeface="Arial"/>
                <a:cs typeface="AL-Mohanad"/>
              </a:rPr>
              <a:t>مستوى الفريق</a:t>
            </a:r>
            <a:r>
              <a:rPr b="0" i="1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: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لتشجيع ومكافأة المحسن وعقاب المقصر (والعقاب المعنوى أهم وأكثر تأثيراً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من المادى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وتفهم ظروف المجتهديين وما قد وجدوه  من صعوبات حتى ولو لم يصلوا إلى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تحقيق أهدافهم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- </a:t>
            </a:r>
            <a:r>
              <a:rPr b="0" i="1" lang="ar-SA" sz="2000" spc="-1" strike="noStrike">
                <a:solidFill>
                  <a:srgbClr val="86d1ec"/>
                </a:solidFill>
                <a:latin typeface="Arial"/>
                <a:cs typeface="AL-Mohanad"/>
              </a:rPr>
              <a:t>مستوى التخطيط والتنظي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: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لتحسين إدارة الموارد ومراحل العمل لتحقيق الأهداف المرجوه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مهام القائد فى بناء وتقويه الفري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لايستطيع مجموعه من الناس العمل و الوصول الى هدف موحد بدون تكوين فري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الفريق يحتاج من القائد الى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الإشاره الى الإتجا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الحماي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الشرح و التوجي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حل المشاكل و التض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تحديد المألوف و العاد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5715000"/>
            <a:ext cx="48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urce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5:01:10Z</dcterms:created>
  <dc:creator>Hazem Zagzoug</dc:creator>
  <dc:description/>
  <dc:language>en-US</dc:language>
  <cp:lastModifiedBy>jamila oumlil</cp:lastModifiedBy>
  <dcterms:modified xsi:type="dcterms:W3CDTF">2005-12-01T13:35:06Z</dcterms:modified>
  <cp:revision>11</cp:revision>
  <dc:subject/>
  <dc:title>Leadership القياده</dc:title>
</cp:coreProperties>
</file>