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2286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705720" y="76320"/>
            <a:ext cx="2438280" cy="110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5617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561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leaderships.org/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forum.amrkhaled.net/showthread.php?t=55231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3200" y="632448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c0680"/>
                </a:solidFill>
                <a:latin typeface="Tahoma"/>
                <a:ea typeface="Tahoma"/>
              </a:rPr>
              <a:t> ©</a:t>
            </a:r>
            <a:r>
              <a:rPr b="1" lang="ar-SY" sz="1000" spc="-1" strike="noStrike">
                <a:solidFill>
                  <a:srgbClr val="0c0680"/>
                </a:solidFill>
                <a:latin typeface="Tahoma"/>
                <a:ea typeface="Tahoma"/>
              </a:rPr>
              <a:t>1426</a:t>
            </a:r>
            <a:r>
              <a:rPr b="1" lang="ar-SY" sz="1000" spc="-1" strike="noStrike">
                <a:solidFill>
                  <a:srgbClr val="0c0680"/>
                </a:solidFill>
                <a:latin typeface="Tahoma"/>
                <a:cs typeface="Tahoma"/>
              </a:rPr>
              <a:t>جميع الحقوق محفوظة لفريق تعليم فن الإدارة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8195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dd7605"/>
                </a:solidFill>
                <a:latin typeface="Arial"/>
                <a:cs typeface="Arabic Transparent"/>
              </a:rPr>
              <a:t>كيف أقود حياتي وأصنع النجاح؟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4006800"/>
            <a:ext cx="2895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هبه صلاح الدين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3886200" cy="1761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10080" y="1295280"/>
            <a:ext cx="281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680"/>
                </a:solidFill>
                <a:latin typeface="Book Antiqua"/>
                <a:ea typeface="Arabic Transparent"/>
              </a:rPr>
              <a:t>Leaderships.org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c0680"/>
                </a:solidFill>
                <a:latin typeface="Arial Black"/>
              </a:rPr>
              <a:t>كيف يمكنني تنمية ذاتي لتحقيق النجاح؟</a:t>
            </a:r>
            <a:br>
              <a:rPr sz="2800"/>
            </a:br>
            <a:endParaRPr b="1" lang="en-US" sz="28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GA Arabesque Desktop"/>
                <a:cs typeface="AGA Arabesque Desktop"/>
              </a:rPr>
              <a:t>من</a:t>
            </a:r>
            <a:r>
              <a:rPr b="1" lang="ar-EG" sz="2400" spc="-1" strike="noStrike">
                <a:solidFill>
                  <a:srgbClr val="dd7605"/>
                </a:solidFill>
                <a:latin typeface="AGA Arabesque Desktop"/>
                <a:ea typeface="AGA Arabesque Desktop"/>
              </a:rPr>
              <a:t></a:t>
            </a:r>
            <a:r>
              <a:rPr b="1" lang="ar-EG" sz="2400" spc="-1" strike="noStrike">
                <a:solidFill>
                  <a:srgbClr val="dd7605"/>
                </a:solidFill>
                <a:latin typeface="AGA Arabesque Desktop"/>
                <a:cs typeface="AGA Arabesque Desktop"/>
              </a:rPr>
              <a:t>أين</a:t>
            </a:r>
            <a:r>
              <a:rPr b="1" lang="ar-EG" sz="2400" spc="-1" strike="noStrike">
                <a:solidFill>
                  <a:srgbClr val="dd7605"/>
                </a:solidFill>
                <a:latin typeface="AGA Arabesque Desktop"/>
                <a:ea typeface="AGA Arabesque Desktop"/>
              </a:rPr>
              <a:t></a:t>
            </a:r>
            <a:r>
              <a:rPr b="1" lang="ar-EG" sz="2400" spc="-1" strike="noStrike">
                <a:solidFill>
                  <a:srgbClr val="dd7605"/>
                </a:solidFill>
                <a:latin typeface="AGA Arabesque Desktop"/>
                <a:cs typeface="AGA Arabesque Desktop"/>
              </a:rPr>
              <a:t>أبدأ؟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286000"/>
            <a:ext cx="7238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</a:rPr>
              <a:t>تمرين</a:t>
            </a:r>
            <a:r>
              <a:rPr b="0" lang="ar-EG" sz="2000" spc="-1" strike="noStrike">
                <a:solidFill>
                  <a:srgbClr val="0c0680"/>
                </a:solidFill>
                <a:latin typeface="Arial"/>
              </a:rPr>
              <a:t>:</a:t>
            </a:r>
            <a:r>
              <a:rPr b="0" lang="ar-EG" sz="2000" spc="-1" strike="noStrike">
                <a:solidFill>
                  <a:srgbClr val="dd7605"/>
                </a:solidFill>
                <a:latin typeface="Arial"/>
              </a:rPr>
              <a:t> أمسك قلما بيدك وارفعه عاليا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dd7605"/>
                </a:solidFill>
                <a:latin typeface="Arial"/>
              </a:rPr>
              <a:t>انظر عاليا ليدك و حرك القلم عكس اتجاه عقارب الساعة،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dd7605"/>
                </a:solidFill>
                <a:latin typeface="Arial"/>
              </a:rPr>
              <a:t>و الآن أنزل يدك تدريجيا و أنت تحرك القلم حتى تصل لمستوى أسفل الصدر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dd7605"/>
                </a:solidFill>
                <a:latin typeface="Arial"/>
              </a:rPr>
              <a:t>ماذا تتعلم؟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7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676520"/>
            <a:ext cx="62485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حتى لو شعرت بأنك أضعت الوقت وأنك عالق في نظام حياة وعمل معين،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لا تضع المزيد من الوقت،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بدأ بالتغيير... وامتلك زمام حياتك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نظر للأمور من زاوية أخرى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نظر تجاربك السابقة التي قد تراها رمزا للفشل على أنها ضريبة النجاح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فإذا حاولت و فشلت </a:t>
            </a:r>
            <a:r>
              <a:rPr b="1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100</a:t>
            </a:r>
            <a:r>
              <a:rPr b="1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 مرة فقد عرفت </a:t>
            </a:r>
            <a:r>
              <a:rPr b="1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100</a:t>
            </a:r>
            <a:r>
              <a:rPr b="1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 سبب للفشل لتفاديه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يمكنك أن تقود حياتك بدلا من أن تكون تابعا للآخرين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09720" y="33336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3"/>
          </p:cNvPr>
          <p:cNvSpPr/>
          <p:nvPr/>
        </p:nvSpPr>
        <p:spPr>
          <a:xfrm>
            <a:off x="2286000" y="274320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موقع الفري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267600" y="3316320"/>
            <a:ext cx="666720" cy="54144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5"/>
          </p:cNvPr>
          <p:cNvSpPr/>
          <p:nvPr/>
        </p:nvSpPr>
        <p:spPr>
          <a:xfrm>
            <a:off x="5715000" y="2819520"/>
            <a:ext cx="1600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منتدى الحوار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9625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680"/>
                </a:solidFill>
                <a:latin typeface="Book Antiqua"/>
                <a:ea typeface="Tahoma"/>
              </a:rPr>
              <a:t>www.leaderships.org/foru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3962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680"/>
                </a:solidFill>
                <a:latin typeface="Book Antiqua"/>
                <a:ea typeface="Tahoma"/>
              </a:rPr>
              <a:t>www.leaderships.org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0">
                                      <p:cBhvr>
                                        <p:cTn id="27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533520" y="2071800"/>
            <a:ext cx="8381880" cy="825480"/>
            <a:chOff x="533520" y="2071800"/>
            <a:chExt cx="8381880" cy="825480"/>
          </a:xfrm>
        </p:grpSpPr>
        <p:sp>
          <p:nvSpPr>
            <p:cNvPr id="84" name=""/>
            <p:cNvSpPr/>
            <p:nvPr/>
          </p:nvSpPr>
          <p:spPr>
            <a:xfrm>
              <a:off x="533520" y="2071800"/>
              <a:ext cx="78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dd7605"/>
                  </a:solidFill>
                  <a:latin typeface="Arial"/>
                  <a:cs typeface="Arabic Transparent"/>
                </a:rPr>
                <a:t>ما معنى أن أقود حياتي؟ وهل يمكنني أن أصبح قائدا فعالا؟</a:t>
              </a: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1880" y="2133720"/>
              <a:ext cx="533520" cy="304560"/>
            </a:xfrm>
            <a:prstGeom prst="leftArrow">
              <a:avLst>
                <a:gd name="adj1" fmla="val 50000"/>
                <a:gd name="adj2" fmla="val 43794"/>
              </a:avLst>
            </a:prstGeom>
            <a:gradFill rotWithShape="0">
              <a:gsLst>
                <a:gs pos="0">
                  <a:srgbClr val="809ea8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33520" y="2590920"/>
            <a:ext cx="8381880" cy="459720"/>
            <a:chOff x="533520" y="2590920"/>
            <a:chExt cx="8381880" cy="459720"/>
          </a:xfrm>
        </p:grpSpPr>
        <p:sp>
          <p:nvSpPr>
            <p:cNvPr id="87" name=""/>
            <p:cNvSpPr/>
            <p:nvPr/>
          </p:nvSpPr>
          <p:spPr>
            <a:xfrm>
              <a:off x="533520" y="259092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dd7605"/>
                  </a:solidFill>
                  <a:latin typeface="Arial"/>
                  <a:cs typeface="Arabic Transparent"/>
                </a:rPr>
                <a:t>ماذا لو لم أكن أسعى لمنصب إداري؟</a:t>
              </a: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1880" y="266688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809ea8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3520" y="3048120"/>
            <a:ext cx="8381880" cy="459720"/>
            <a:chOff x="533520" y="3048120"/>
            <a:chExt cx="8381880" cy="459720"/>
          </a:xfrm>
        </p:grpSpPr>
        <p:sp>
          <p:nvSpPr>
            <p:cNvPr id="90" name=""/>
            <p:cNvSpPr/>
            <p:nvPr/>
          </p:nvSpPr>
          <p:spPr>
            <a:xfrm>
              <a:off x="533520" y="304812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dd7605"/>
                  </a:solidFill>
                  <a:latin typeface="Arial"/>
                  <a:cs typeface="Arabic Transparent"/>
                </a:rPr>
                <a:t>ماذا لو لم أتمتع بشخصية جذابة وذات كاريزما؟</a:t>
              </a: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1880" y="312408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809ea8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371600" y="3581280"/>
            <a:ext cx="7543800" cy="825480"/>
            <a:chOff x="1371600" y="3581280"/>
            <a:chExt cx="7543800" cy="825480"/>
          </a:xfrm>
        </p:grpSpPr>
        <p:sp>
          <p:nvSpPr>
            <p:cNvPr id="93" name=""/>
            <p:cNvSpPr/>
            <p:nvPr/>
          </p:nvSpPr>
          <p:spPr>
            <a:xfrm>
              <a:off x="1371600" y="358128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dd7605"/>
                  </a:solidFill>
                  <a:latin typeface="Arial"/>
                  <a:cs typeface="Arabic Transparent"/>
                </a:rPr>
                <a:t>ما هي المهارات اللازمة لكي أقود حياتي وأؤثر في الآخرين بنجاح؟</a:t>
              </a: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1880" y="365760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809ea8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71600" y="4038480"/>
            <a:ext cx="7543800" cy="459720"/>
            <a:chOff x="1371600" y="4038480"/>
            <a:chExt cx="7543800" cy="459720"/>
          </a:xfrm>
        </p:grpSpPr>
        <p:sp>
          <p:nvSpPr>
            <p:cNvPr id="96" name=""/>
            <p:cNvSpPr/>
            <p:nvPr/>
          </p:nvSpPr>
          <p:spPr>
            <a:xfrm>
              <a:off x="1371600" y="403848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dd7605"/>
                  </a:solidFill>
                  <a:latin typeface="Arial"/>
                  <a:cs typeface="Arabic Transparent"/>
                </a:rPr>
                <a:t>كيف يمكنني تنمية ذاتي لتحقيق النجاح؟</a:t>
              </a: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1880" y="411480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809ea8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c0680"/>
                </a:solidFill>
                <a:latin typeface="Arial Black"/>
              </a:rPr>
              <a:t>ما معنى أن أقود حياتي؟ وهل يمكنني أن أصبح قائدا فعالا؟</a:t>
            </a:r>
            <a:endParaRPr b="1" lang="en-US" sz="28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92400" y="1431720"/>
            <a:ext cx="6559200" cy="4038480"/>
            <a:chOff x="1292400" y="1431720"/>
            <a:chExt cx="6559200" cy="4038480"/>
          </a:xfrm>
        </p:grpSpPr>
        <p:cxnSp>
          <p:nvCxnSpPr>
            <p:cNvPr id="101" name="_s80940"/>
            <p:cNvCxnSpPr>
              <a:stCxn id="102" idx="0"/>
              <a:endCxn id="103" idx="3"/>
            </p:cNvCxnSpPr>
            <p:nvPr/>
          </p:nvCxnSpPr>
          <p:spPr>
            <a:xfrm flipV="1" rot="16200000">
              <a:off x="2340360" y="3982680"/>
              <a:ext cx="91080" cy="131040"/>
            </a:xfrm>
            <a:prstGeom prst="bentConnector3">
              <a:avLst>
                <a:gd name="adj1" fmla="val 48809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104" name="_s80941"/>
            <p:cNvCxnSpPr>
              <a:stCxn id="105" idx="0"/>
              <a:endCxn id="106" idx="3"/>
            </p:cNvCxnSpPr>
            <p:nvPr/>
          </p:nvCxnSpPr>
          <p:spPr>
            <a:xfrm flipV="1" rot="16200000">
              <a:off x="6731280" y="3982680"/>
              <a:ext cx="91080" cy="131040"/>
            </a:xfrm>
            <a:prstGeom prst="bentConnector3">
              <a:avLst>
                <a:gd name="adj1" fmla="val 48809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107" name="_s80942"/>
            <p:cNvCxnSpPr>
              <a:stCxn id="108" idx="0"/>
              <a:endCxn id="109" idx="3"/>
            </p:cNvCxnSpPr>
            <p:nvPr/>
          </p:nvCxnSpPr>
          <p:spPr>
            <a:xfrm flipV="1" rot="16200000">
              <a:off x="4535640" y="3983040"/>
              <a:ext cx="91080" cy="130680"/>
            </a:xfrm>
            <a:prstGeom prst="bentConnector3">
              <a:avLst>
                <a:gd name="adj1" fmla="val 48809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110" name="_s80943"/>
            <p:cNvCxnSpPr>
              <a:stCxn id="106" idx="0"/>
              <a:endCxn id="111" idx="3"/>
            </p:cNvCxnSpPr>
            <p:nvPr/>
          </p:nvCxnSpPr>
          <p:spPr>
            <a:xfrm flipV="1" rot="16200000">
              <a:off x="5612760" y="1758240"/>
              <a:ext cx="91440" cy="2329560"/>
            </a:xfrm>
            <a:prstGeom prst="bentConnector3">
              <a:avLst>
                <a:gd name="adj1" fmla="val 49011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112" name="_s80944"/>
            <p:cNvCxnSpPr>
              <a:stCxn id="109" idx="0"/>
              <a:endCxn id="111" idx="3"/>
            </p:cNvCxnSpPr>
            <p:nvPr/>
          </p:nvCxnSpPr>
          <p:spPr>
            <a:xfrm flipV="1" rot="16200000">
              <a:off x="4515480" y="2856240"/>
              <a:ext cx="91440" cy="133560"/>
            </a:xfrm>
            <a:prstGeom prst="bentConnector3">
              <a:avLst>
                <a:gd name="adj1" fmla="val 49011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113" name="_s80945"/>
            <p:cNvCxnSpPr>
              <a:stCxn id="103" idx="0"/>
              <a:endCxn id="111" idx="3"/>
            </p:cNvCxnSpPr>
            <p:nvPr/>
          </p:nvCxnSpPr>
          <p:spPr>
            <a:xfrm flipH="1" flipV="1" rot="5400000">
              <a:off x="3417480" y="1891800"/>
              <a:ext cx="91440" cy="2062440"/>
            </a:xfrm>
            <a:prstGeom prst="bentConnector3">
              <a:avLst>
                <a:gd name="adj1" fmla="val 49011"/>
              </a:avLst>
            </a:prstGeom>
            <a:ln w="28440">
              <a:solidFill>
                <a:srgbClr val="777777"/>
              </a:solidFill>
              <a:miter/>
            </a:ln>
          </p:spPr>
        </p:cxnSp>
        <p:sp>
          <p:nvSpPr>
            <p:cNvPr id="111" name="_s80946"/>
            <p:cNvSpPr/>
            <p:nvPr/>
          </p:nvSpPr>
          <p:spPr>
            <a:xfrm>
              <a:off x="3706920" y="1431720"/>
              <a:ext cx="1730160" cy="1446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09082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909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تعريف ا</a:t>
              </a:r>
              <a:r>
                <a:rPr b="1" lang="ar-SA" sz="28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لقيادة</a:t>
              </a:r>
              <a:endParaRPr b="0" lang="en-US" sz="28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3" name="_s80947"/>
            <p:cNvSpPr/>
            <p:nvPr/>
          </p:nvSpPr>
          <p:spPr>
            <a:xfrm>
              <a:off x="1817640" y="2968560"/>
              <a:ext cx="1117800" cy="103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809ea8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نحو الهدف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9" name="_s80948"/>
            <p:cNvSpPr/>
            <p:nvPr/>
          </p:nvSpPr>
          <p:spPr>
            <a:xfrm>
              <a:off x="4013280" y="2968560"/>
              <a:ext cx="1117440" cy="103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809ea8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ت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وجيه الذات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و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ا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لآخرين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6" name="_s80949"/>
            <p:cNvSpPr/>
            <p:nvPr/>
          </p:nvSpPr>
          <p:spPr>
            <a:xfrm>
              <a:off x="6208560" y="2968560"/>
              <a:ext cx="1117800" cy="103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809ea8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عملية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8" name="_s80950"/>
            <p:cNvSpPr/>
            <p:nvPr/>
          </p:nvSpPr>
          <p:spPr>
            <a:xfrm>
              <a:off x="3487680" y="4093920"/>
              <a:ext cx="2168640" cy="1376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الذي لا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يملك القدرة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على تحريك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الذات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و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ا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لآخرين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ليس بقائد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" name="_s80951"/>
            <p:cNvSpPr/>
            <p:nvPr/>
          </p:nvSpPr>
          <p:spPr>
            <a:xfrm>
              <a:off x="5683320" y="4093920"/>
              <a:ext cx="2168280" cy="1376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ليست خطوة واحدة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بل خطوات متعددة 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ومتجزئة وتتطلب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الكثي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ر 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من الجهد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2" name="_s80952"/>
            <p:cNvSpPr/>
            <p:nvPr/>
          </p:nvSpPr>
          <p:spPr>
            <a:xfrm>
              <a:off x="1292400" y="4093920"/>
              <a:ext cx="2168280" cy="1376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الذي لا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يعرف 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أ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ين هدفه 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و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إ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لى 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أ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ين يريد </a:t>
              </a:r>
              <a:r>
                <a:rPr b="1" lang="ar-EG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أ</a:t>
              </a: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cs typeface="Arabic Transparent"/>
                </a:rPr>
                <a:t>ن يحرك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c0680"/>
                  </a:solidFill>
                  <a:latin typeface="Times New Roman"/>
                  <a:ea typeface="Arabic Transparent"/>
                </a:rPr>
                <a:t> الناس ليس بقائد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81080" y="6019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dd7605"/>
                </a:solidFill>
                <a:latin typeface="Arial"/>
                <a:ea typeface="Arabic Transparent"/>
              </a:rPr>
              <a:t>”المؤمن القوي خير وأحب إلى الله من المؤمن الضعيف وفي كل خير“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c0680"/>
                </a:solidFill>
                <a:latin typeface="Arial Black"/>
              </a:rPr>
              <a:t>ماذا لو لم أكن أسعى لمنصب إداري؟</a:t>
            </a:r>
            <a:endParaRPr b="1" lang="en-US" sz="2800" spc="-1" strike="noStrike">
              <a:solidFill>
                <a:srgbClr val="c75617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049480"/>
          <a:ext cx="8153280" cy="32558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000" spc="-1" strike="noStrike">
                          <a:solidFill>
                            <a:srgbClr val="dd7605"/>
                          </a:solidFill>
                          <a:latin typeface="Arial"/>
                          <a:cs typeface="Arabic Transparent"/>
                        </a:rPr>
                        <a:t>القائد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000" spc="-1" strike="noStrike">
                          <a:solidFill>
                            <a:srgbClr val="dd7605"/>
                          </a:solidFill>
                          <a:latin typeface="Arial"/>
                          <a:cs typeface="Arabic Transparent"/>
                        </a:rPr>
                        <a:t>المدير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ي</a:t>
                      </a: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ركز على الهدف والمستقبل والإنجاز وعلى </a:t>
                      </a: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بناء </a:t>
                      </a: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الانسان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ي</a:t>
                      </a: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حسن الأداء مع تقليل الجهد والوقت والتكلفة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ea typeface="Arabic Transparent"/>
                        </a:rPr>
                        <a:t>(ي</a:t>
                      </a: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هتم بالحاضر و</a:t>
                      </a: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يحاول</a:t>
                      </a: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ea typeface="Arabic Transparent"/>
                        </a:rPr>
                        <a:t> تحسينه</a:t>
                      </a: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يكسب</a:t>
                      </a:r>
                      <a:r>
                        <a:rPr b="1" lang="ar-EG" sz="2000" spc="-1" strike="noStrike">
                          <a:solidFill>
                            <a:srgbClr val="336699"/>
                          </a:solidFill>
                          <a:latin typeface="Arial"/>
                          <a:ea typeface="Arabic Transparent"/>
                        </a:rPr>
                        <a:t> فريقا للعمل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يترأس</a:t>
                      </a:r>
                      <a:r>
                        <a:rPr b="1" lang="ar-EG" sz="2000" spc="-1" strike="noStrike">
                          <a:solidFill>
                            <a:srgbClr val="336699"/>
                          </a:solidFill>
                          <a:latin typeface="Arial"/>
                          <a:ea typeface="Arabic Transparen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الموظفين</a:t>
                      </a:r>
                      <a:r>
                        <a:rPr b="1" lang="ar-EG" sz="2000" spc="-1" strike="noStrike">
                          <a:solidFill>
                            <a:srgbClr val="336699"/>
                          </a:solidFill>
                          <a:latin typeface="Arial"/>
                          <a:ea typeface="Arabic Transparent"/>
                        </a:rPr>
                        <a:t>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يعمل التغيير بنفسه</a:t>
                      </a: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ea typeface="Arabic Transparent"/>
                        </a:rPr>
                        <a:t>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يتفاعل مع التغيير</a:t>
                      </a: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ea typeface="Arabic Transparent"/>
                        </a:rPr>
                        <a:t>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يطبق الأفكا</a:t>
                      </a:r>
                      <a:r>
                        <a:rPr b="1" lang="ar-EG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ر البناءة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لديه أفكار جيدة</a:t>
                      </a:r>
                      <a:r>
                        <a:rPr b="1" lang="ar-EG" sz="2000" spc="-1" strike="noStrike">
                          <a:solidFill>
                            <a:srgbClr val="336699"/>
                          </a:solidFill>
                          <a:latin typeface="Arial"/>
                          <a:ea typeface="Arabic Transparent"/>
                        </a:rPr>
                        <a:t> و بناءة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يقنع</a:t>
                      </a: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ea typeface="Arabic Transparent"/>
                        </a:rPr>
                        <a:t> الفرق بالعمل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يحكم </a:t>
                      </a:r>
                      <a:r>
                        <a:rPr b="1" lang="ar-EG" sz="2000" spc="-1" strike="noStrike">
                          <a:solidFill>
                            <a:srgbClr val="0c0680"/>
                          </a:solidFill>
                          <a:latin typeface="Arial"/>
                          <a:cs typeface="Arabic Transparent"/>
                        </a:rPr>
                        <a:t>فرق العمل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يصنع ا</a:t>
                      </a:r>
                      <a:r>
                        <a:rPr b="1" lang="ar-EG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لنجاح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يحاول أن يكون </a:t>
                      </a:r>
                      <a:r>
                        <a:rPr b="1" lang="ar-EG" sz="2000" spc="-1" strike="noStrike">
                          <a:solidFill>
                            <a:srgbClr val="336699"/>
                          </a:solidFill>
                          <a:latin typeface="Arial"/>
                          <a:cs typeface="Arabic Transparent"/>
                        </a:rPr>
                        <a:t>ناجحا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14600" y="1371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فرق بين الإدارة و القيادة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447920"/>
            <a:ext cx="7315200" cy="21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قيادة لا تعتمد بالضرورة على البراعة في تخصص دقيق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بيتر شنايدر رئيس استوديوهات </a:t>
            </a:r>
            <a:r>
              <a:rPr b="0" lang="ar-EG" sz="2000" spc="-1" strike="noStrike">
                <a:solidFill>
                  <a:srgbClr val="0c0680"/>
                </a:solidFill>
                <a:latin typeface="Book Antiqua"/>
                <a:ea typeface="Arabic Transparent"/>
              </a:rPr>
              <a:t>"</a:t>
            </a:r>
            <a:r>
              <a:rPr b="0" lang="en-US" sz="2000" spc="-1" strike="noStrike">
                <a:solidFill>
                  <a:srgbClr val="0c0680"/>
                </a:solidFill>
                <a:latin typeface="Book Antiqua"/>
                <a:ea typeface="Arabic Transparent"/>
              </a:rPr>
              <a:t>Feature Animation</a:t>
            </a: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" </a:t>
            </a:r>
            <a:r>
              <a:rPr b="0" lang="ar-SA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ابعة لشركة "ديزني" و التي حققت نجاحا مبهرا ، يقود فريقا يتألف من </a:t>
            </a:r>
            <a:r>
              <a:rPr b="0" lang="ar-SA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1200</a:t>
            </a:r>
            <a:r>
              <a:rPr b="0" lang="ar-SA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 رسام متخصص في الرسوم المتحركة، ورغم ذلك فهو لا يملك أدنى فكرة عن الرسم.</a:t>
            </a:r>
            <a:r>
              <a:rPr b="0" lang="ar-SA" sz="1800" spc="-1" strike="noStrike">
                <a:solidFill>
                  <a:srgbClr val="0c0680"/>
                </a:solidFill>
                <a:latin typeface="Arial"/>
                <a:ea typeface="Arabic Transparent"/>
              </a:rPr>
              <a:t>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321000"/>
            <a:ext cx="71629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قيادة لا تعبر عن تقلد منصب إداري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ستيفن كوفي يعبر عن القيادة بقوله: القيادة ليست منصبا و لكنها موقف ومهارة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قيادة تعبر عن موقف و اتجاه سواء في الأسرة، العمل، مع الأصدقاء..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قيادة يمكن اكتسابها عن طريق التنمية الذاتية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52480" y="990360"/>
            <a:ext cx="65534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ea typeface="Arabic Transparent"/>
              </a:rPr>
              <a:t>”</a:t>
            </a:r>
            <a:r>
              <a:rPr b="1" lang="ar-SA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إنما العلم بالتعلّم وإنما الحلم بالتّحلم</a:t>
            </a:r>
            <a:r>
              <a:rPr b="1" lang="ar-EG" sz="2400" spc="-1" strike="noStrike">
                <a:solidFill>
                  <a:srgbClr val="dd7605"/>
                </a:solidFill>
                <a:latin typeface="Arial"/>
                <a:ea typeface="Arabic Transparent"/>
              </a:rPr>
              <a:t>“</a:t>
            </a:r>
            <a:r>
              <a:rPr b="1" lang="en-US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	</a:t>
            </a:r>
            <a:r>
              <a:rPr b="1" lang="ar-SA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قيادة علم وفن, فهي إذن قابلة للتعلم؛ </a:t>
            </a:r>
            <a:r>
              <a:rPr b="1" lang="ar-EG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لذلك فإن </a:t>
            </a:r>
            <a:r>
              <a:rPr b="1" lang="ar-SA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عملية تعلم القيادة عملية طويلة </a:t>
            </a:r>
            <a:r>
              <a:rPr b="1" lang="ar-EG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ومستمرة</a:t>
            </a:r>
            <a:r>
              <a:rPr b="1" lang="ar-SA" sz="2400" spc="-1" strike="noStrike">
                <a:solidFill>
                  <a:srgbClr val="0c0680"/>
                </a:solidFill>
                <a:latin typeface="Arial"/>
                <a:ea typeface="Arabic Transparent"/>
              </a:rPr>
              <a:t> وتؤثر في تعلمها هذه </a:t>
            </a:r>
            <a:r>
              <a:rPr b="1" lang="ar-EG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عدة </a:t>
            </a:r>
            <a:r>
              <a:rPr b="1" lang="ar-SA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عوامل</a:t>
            </a:r>
            <a:r>
              <a:rPr b="1" lang="ar-EG" sz="2400" spc="-1" strike="noStrike">
                <a:solidFill>
                  <a:srgbClr val="0c0680"/>
                </a:solidFill>
                <a:latin typeface="Arial"/>
                <a:ea typeface="Arabic Transparent"/>
              </a:rPr>
              <a:t> </a:t>
            </a:r>
            <a:r>
              <a:rPr b="1" lang="ar-SA" sz="2400" spc="-1" strike="noStrike">
                <a:solidFill>
                  <a:srgbClr val="0c0680"/>
                </a:solidFill>
                <a:latin typeface="Arial"/>
                <a:cs typeface="Arabic Transparent"/>
              </a:rPr>
              <a:t>تشمل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•</a:t>
            </a: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وراثة وخبرات الطفولة المبكرة توفر الميل للقيادة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•</a:t>
            </a: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فنون والعلوم تصنع الأساس العريض للمعرفة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•</a:t>
            </a: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خبرة توفر الحكمة التي تأتي من تحول المعرفة إلى تطبيق واقعي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•</a:t>
            </a:r>
            <a:r>
              <a:rPr b="0" lang="ar-EG" sz="2000" spc="-1" strike="noStrike">
                <a:solidFill>
                  <a:srgbClr val="0c0680"/>
                </a:solidFill>
                <a:latin typeface="Arial"/>
                <a:ea typeface="Arabic Transparent"/>
              </a:rPr>
              <a:t>	</a:t>
            </a:r>
            <a:r>
              <a:rPr b="0" lang="ar-SA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دريب يصقل السلوك في مجالات محددة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2514600"/>
            <a:ext cx="76201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استمع لغيرك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c068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ear him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احترم شعور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U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nderstand his feeling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ادفعه بإيجابية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otivate his desir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قدر مجهود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ppreciate his efforts</a:t>
            </a:r>
            <a:r>
              <a:rPr b="0" lang="en-US" sz="1800" spc="-1" strike="noStrike">
                <a:solidFill>
                  <a:srgbClr val="0c06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لا تحط من قدر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ever undermine him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ثق في قدرات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T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rust his abilitie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أرشد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O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pen his eye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تفهم تفرد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U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nderstand his uniquenes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تواصل مع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ommunicate with him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أكرمه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0" lang="ar-EG" sz="1800" spc="-1" strike="noStrike">
                <a:solidFill>
                  <a:srgbClr val="0c068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dd7605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c0680"/>
                </a:solidFill>
                <a:latin typeface="Book Antiqua"/>
              </a:rPr>
              <a:t>onor him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c0680"/>
                </a:solidFill>
                <a:latin typeface="Arial Black"/>
              </a:rPr>
              <a:t>ماذا لو لم أتمتع بشخصية جذابة وذات كاريزما؟ </a:t>
            </a:r>
            <a:endParaRPr b="1" lang="en-US" sz="28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676520"/>
            <a:ext cx="7620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</a:rPr>
              <a:t>الكاريزما حالة وموقف و لا تعبر دائما عن استعداد فطري. </a:t>
            </a:r>
            <a:r>
              <a:rPr b="1" lang="ar-EG" sz="2000" spc="-1" strike="noStrike">
                <a:solidFill>
                  <a:srgbClr val="dd7605"/>
                </a:solidFill>
                <a:latin typeface="Arial"/>
                <a:ea typeface="Arabic Transparent"/>
              </a:rPr>
              <a:t>”المؤمن كيس فطن“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c0680"/>
                </a:solidFill>
                <a:latin typeface="Arial"/>
              </a:rPr>
              <a:t>يمكنك أن تمتلك الشخصية الجذابة بامتلاكك ما يسمى ”الحس الإنساني“ </a:t>
            </a:r>
            <a:r>
              <a:rPr b="0" lang="en-US" sz="2000" spc="-1" strike="noStrike">
                <a:solidFill>
                  <a:srgbClr val="0c068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c0680"/>
                </a:solidFill>
                <a:latin typeface="Book Antiqua"/>
              </a:rPr>
              <a:t>Human Touch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c0680"/>
                </a:solidFill>
                <a:latin typeface="Arial Black"/>
              </a:rPr>
              <a:t>ما هي المهارات اللازمة لكي أقود حياتي وأؤثر في الآخرين بنجاح؟</a:t>
            </a:r>
            <a:br>
              <a:rPr sz="2800"/>
            </a:br>
            <a:endParaRPr b="1" lang="en-US" sz="2800" spc="-1" strike="noStrike">
              <a:solidFill>
                <a:srgbClr val="c7561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مهارات فهم وتطوير الذات والتأثير الفعال في الآخرين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كتشاف الذات وتفهم الآخري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بناء الثقة بالنف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توكيد الذات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برمجة اللغوية العصبي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581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مهارات الإدارة والقيادة الفعالة:</a:t>
            </a:r>
            <a:r>
              <a:rPr b="1" lang="ar-EG" sz="1800" spc="-1" strike="noStrike">
                <a:solidFill>
                  <a:srgbClr val="0c0680"/>
                </a:solidFill>
                <a:latin typeface="Arial"/>
                <a:ea typeface="Arabic Transparent"/>
              </a:rPr>
              <a:t>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خطيط وتحديد الأهداف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إدارة الوقت و الضغوط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فكير الإبداعي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فن التعامل مع المشكلات و الأزمات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وجيه و التحفيز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رقابة وتقييم الأداء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1371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مهارات بناء مستقبل دراسي ومهني ناجح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فن الحديث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فن الإنصات و الاستماع الفعال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قراءة و الكتابة الفعالة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فن الإقناع و المحاجة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مهارات العرض و التقديم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بناء السيرة الذاتية و اجتياز المقابلة الشخصية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167760" indent="-1677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657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مهارات بناء أسرة ناجحة و منتجة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ختيار شريك الحياة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فن معالجة الخلافات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مهارات الحوار البناء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0292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dd7605"/>
                </a:solidFill>
                <a:latin typeface="Arial"/>
                <a:cs typeface="Arabic Transparent"/>
              </a:rPr>
              <a:t>فن التربية وتنمية مهارات الأطفال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36520" indent="-23652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نمية الجسدية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36520" indent="-23652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نمية العقلية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36520" indent="-23652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لتنمية النفسية و الروحانية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36520" indent="-23652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c0680"/>
                </a:solidFill>
                <a:latin typeface="Arial"/>
                <a:cs typeface="Arabic Transparent"/>
              </a:rPr>
              <a:t>اكتشاف و تنمية المواهب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36520" indent="-23652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8:58:31Z</dcterms:created>
  <dc:creator>Hani Dawood</dc:creator>
  <dc:description/>
  <cp:keywords/>
  <dc:language>en-US</dc:language>
  <cp:lastModifiedBy>Hani</cp:lastModifiedBy>
  <dcterms:modified xsi:type="dcterms:W3CDTF">2005-09-28T00:36:18Z</dcterms:modified>
  <cp:revision>2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