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42D7-403D-4325-93D1-52D9D6B9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C791-E10A-457D-BD8C-F5908D67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3B2D-F42D-4364-B6BE-92FC6C59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F536-6947-4500-AE34-249A1EEB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49768-2361-4A64-A993-26E6F15D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FD192-2A09-457D-B4F9-AF66A3DA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59AB8-01DB-4A5F-BF9B-71E5235A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6B20F-66FA-4BF3-A0D5-9CC05C36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2CF55-2400-4412-ADE3-40E80910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CB656-2433-4A9E-A5D5-835D0E1D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4566E-F323-40F9-8D6A-7E52B4D3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141C-893F-4F32-9A8A-A6AF3581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A4878-CD09-4E16-9A1B-44B5A2E9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02920-98D5-45D2-86BD-A018CB39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5A38D-D871-47DE-8618-0DD61CA7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3421B-89AB-458F-A9D9-79489458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88BE9-0E56-4F2C-9C7A-C9B364C3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B11F-5141-4122-8108-93D6B360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46F7-426D-4564-B37F-5D3B687E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9DB4-575A-437A-BD9E-BC879564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F394-02D1-4C07-B9FB-0B24DA08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69C6-1B12-4A6C-8395-6C9F20D4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2CD9-75FE-439A-97B4-4B75F7AA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DF8-7E33-4BC2-A498-D8EE2D82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EBD5-543B-4E63-8232-814770FDEC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9AB8-FB7F-49AA-B998-7BADEF84CC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81342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Tahoma"/>
                <a:cs typeface="Andalus"/>
              </a:rPr>
              <a:t>قيادة التغيير</a:t>
            </a:r>
            <a:br>
              <a:rPr sz="6600"/>
            </a:br>
            <a:r>
              <a:rPr b="0" lang="ar-TN" sz="6600" spc="-1" strike="noStrike">
                <a:solidFill>
                  <a:srgbClr val="ffffff"/>
                </a:solidFill>
                <a:latin typeface="Tahoma"/>
                <a:cs typeface="Andalus"/>
              </a:rPr>
              <a:t>من إنجاز المشروع إلى تطوير الهيكل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  <a:cs typeface="Andalus"/>
              </a:rPr>
              <a:t>كمال الحجيج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  <a:cs typeface="Andalus"/>
              </a:rPr>
              <a:t>المدرسة العليا للمواصلات بتون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تحليل تأثيرات المشروع و الخوف الم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لازم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له</a:t>
            </a:r>
            <a:br>
              <a:rPr sz="4000"/>
            </a:b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المتدخلون المعنيو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← المتدخلون الاستراتيجيو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TN" sz="3200" spc="-1" strike="noStrike">
                <a:solidFill>
                  <a:srgbClr val="ffffff"/>
                </a:solidFill>
                <a:latin typeface="Tahoma"/>
              </a:rPr>
              <a:t>صاحب المشرو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متدخلون أصحاب القرار في المؤسس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← المتدخلون ال</a:t>
            </a:r>
            <a:r>
              <a:rPr b="1" lang="ar-TN" sz="3200" spc="-1" strike="noStrike">
                <a:solidFill>
                  <a:srgbClr val="ffffff"/>
                </a:solidFill>
                <a:latin typeface="Tahoma"/>
              </a:rPr>
              <a:t>مباشرو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رئيس المشرو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فريق العم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مناولون و المستشيرون الأجان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متدخلون العرضيون عند الضرورة لخبرته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1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6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1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6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1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تحليل تأثيرات المشروع و الخوف الم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لازم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له</a:t>
            </a:r>
            <a:br>
              <a:rPr sz="4000"/>
            </a:b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المتدخلون المعنيو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← المتدخلون المستهدفون بالمشرو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لزبائن أو المستغلو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متدخلون آخرو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← المتدخلون "المهتمون" بالمشروع ( الأطراف الاجتماعية...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هيئات االتمثيل النقاب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لحلفاء و المعارضو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شبكات غير رسم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9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تحليل تأثيرات المشروع و الخوف المتولد عنه: تحديد التأثيرات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● التأثيرات المتعلقة بالمشروع و تبعات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51480" indent="-20556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حذف خطط العمل/تغيير ظروف العمل/ إعادة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أهي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51480" indent="-20556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طرق جديدة للعم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التأثيرات المتعلقة بظروف تنفيذ المشرو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51480" indent="-20556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طاقة البشرية/ضغط العمل: المشروع + الانتاج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51480" indent="-20556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ضغ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ط المشرو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7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7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2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دراسة </a:t>
            </a: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عراقي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التغيير: ال</a:t>
            </a: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عراقي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البشرية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←</a:t>
            </a:r>
            <a:r>
              <a:rPr b="0" lang="ar-TN" sz="2800" spc="-1" strike="noStrike">
                <a:solidFill>
                  <a:srgbClr val="ffffff"/>
                </a:solidFill>
                <a:latin typeface="Times New Roman"/>
              </a:rPr>
              <a:t> دواعي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خوف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و الاضطرا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4880" indent="-35388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خوف من المجهو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4880" indent="-35388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خ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شي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ن عدم القدرة على الوصول إلى الهد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4880" indent="-353880" algn="r" rtl="1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قدح الموجود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6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←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مقاومة الم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رتبط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بالاختلاف أو 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ت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عارض بين مصالح المؤسسة و مصالح الموظفي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4880" indent="-35388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نقص أو ضياع الحقوق المكتسب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4880" indent="-35388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نقص أو حذف مناصب العم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4880" indent="-35388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خوف من تدهور ظروف العم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4880" indent="-35388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خوف من انطفاء جذوة التحمس للعم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5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0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5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0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5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دراسة </a:t>
            </a: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عراقي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التغيير: ال</a:t>
            </a: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عراقي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الفنية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ما قبل</a:t>
            </a:r>
            <a:r>
              <a:rPr b="0" lang="ar-TN" sz="4000" spc="-1" strike="noStrike">
                <a:solidFill>
                  <a:srgbClr val="ffffff"/>
                </a:solidFill>
                <a:latin typeface="Tahoma"/>
              </a:rPr>
              <a:t> الإنجا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دم الانسجام بين المشروع و محيط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مشروع في تعارض مع سياسة المؤسس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عراقيل قانونية غير مقدرة حق التقدي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أطير "غير محكم الإعداد”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ل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لمشرو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دراسة غير محددة/إشكال مطروح بشكل رديء/تحليل غير متكام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عدم اخذ كل الشروط غير المواتية في الاعتبا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آجال مختصرة/اختيار غير موفق في التوقي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3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8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3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دراسة </a:t>
            </a: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عراقي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التغيير: ال</a:t>
            </a: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عراقي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الفني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4000" spc="-1" strike="noStrike">
                <a:solidFill>
                  <a:srgbClr val="ffffff"/>
                </a:solidFill>
                <a:latin typeface="Tahoma"/>
              </a:rPr>
              <a:t>خلال الانجا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) ضعف في الاعداد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لعمليات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قلة الموارد المتوفر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صعوبات متعلقة بالتقنيات المتوخاة (تقنيات جديدة.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نقائص في أخذ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بعض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سائل العملياتية في الاعتبا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إعداد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غير متوقع للأ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فرا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عناصر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ادية غير جاهزة (محلات, معدات.....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أثيرات جانبية لم تؤخذ في الاعتبار (مسألة: السلامة....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دراسة </a:t>
            </a: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عراقي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التغيير: ال</a:t>
            </a: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عراقي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التنظيمية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روتين و الرتابة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هو المتسببا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في ظهور نوع من الجمود التنظيمي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و هما المو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جه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لسلوك الفرد و المجموعة نحو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ما يشبه الشعائ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اعتماد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أنظمة قواعد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 و إجراءات جامد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علاقات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 في اتجاه واحد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حسب التسلسل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اعتقادات و ثقافات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 متحجر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← هل الهيكل مستعد للتغ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ي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ر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هل هو التوقيت مناس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التوقيت مناسب بالنظر إلى المحيط و الثقاف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التريث قدر الامكان قبل الانجاز إذا لم يكن الهيكل مستعد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9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4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9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انجاز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مخطط قيادة التغيير: أشكال التعبير ع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لى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معارضة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 المشروع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رد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فعل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حاد "حرب مفتوحة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دم بطرق ملتو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خري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حفظ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اختلاق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علا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جمود و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مقاومة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سلبية: ”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مبدأ: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لست على علم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نعم "النفاق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2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انجاز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مخطط قيادة التغيير: خارطة المتدخلون المتواجدون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 (المستهدفون)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لفاء بدون شروط:مع المشروع على طول الخ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لفاء نقاد: نعم و لك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لفاء بشروط: نعم ل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ذبذبون: لا مع ولا ض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قاومون: أقرب إلى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معارضة المشرو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عارضون: لا على طول الخط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5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5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انجاز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مخطط قيادة التغيير: مخطط قيادة التغيير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بادئ الأساسية لبناء مخطط قيادة التغيي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33920" indent="-2145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اقتناع بأن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لا شئ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مضمون التحقيق دون أي اعتراض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33920" indent="-2145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توجه نحو الأغلبية "لا كل مع لا كل ضد"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حاولة إقناع المعارضين بكل 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وسائ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33920" indent="-2145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ستغلال كل 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فرص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متوفرة للاقناع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مشارك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ت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, تواصل, تدريب..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33920" indent="-2145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عامل الأهم هو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توصل إلى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شريك الأشخاص في التغيير بصفة حقيقية لا مصطنع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3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قيادة التغيير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 بين إنجاز المشروع </a:t>
            </a:r>
            <a:br>
              <a:rPr sz="4000"/>
            </a:b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و تطوير الهيكل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قدم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حليل استراتيج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يادة التغيير: شروط النجا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ثال تطبيقي: قيادة التغيير من خلال مشروع إقامة نظام إعلامية جدي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خلاص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قيادة التغيير: عوامل النجاح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) ترتكز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وامل النجاح في مستوى ال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مؤسسة على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121120" indent="-3654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دور المسييري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21120" indent="-3654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توقيت المناس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) تتلخص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وامل النجاح في مستوى المشروع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في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121120" indent="-3654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هيكلة أو تنظيم المشرو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21120" indent="-3654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توفير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وسائل اللازم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يادة التغيير هي ذهن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41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عوامل النجاح في مستوى ال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مؤسسة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: دور المسييرين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 أصحاب القرار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← يتجلى عند القيام بتحديد الحاجة وطلب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مشروع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أخذا في الاعتبار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انسجام بين الإستراتجية و المشرو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وضوح الهد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علنية المشرو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← دعم المشروع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طاقم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← مثالية المسييرين و لجنة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تنفيذ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مشروع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عبر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استعمال 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ا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لأمثل للوسائل و الإمكانيات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العمل على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حويل المشروع إلى إنتاج ملمو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4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9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عوامل النجاح في مستوى ال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مؤسسة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: التوقيت المناس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استعداد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و نضج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المؤسسة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للتغيي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ندراج المشروع في إطار إستراتجية عامة للتغيي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-21708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رؤية واضحة للمستقب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-21708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يادة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عامة 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ستراتجية للتغيي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-21708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قامة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مؤسسة م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نسجم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ع إستراتجية التغيي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-217080" algn="r" rtl="1"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توفر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حجج محسوسة و ملموسة لتنفيذ المشروع</a:t>
            </a:r>
            <a:r>
              <a:rPr b="0" lang="ar-TN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0" algn="r" rtl="1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7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عوامل النجاح في مستوى المشروع: هيكلة المشروع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دور المركزي لرئيس المشروع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يتمحور حول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جانب الاستراتيجي:الالتزام, الابتكار, الاستشرا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الجانب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اندماجي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ت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نش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ي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ط الأطراف الفاعل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نشيط فريق العم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شراكة الكفاءات و الخبرا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جانب التنسيقي:تنسيق الإمكانيات و الوسائل ومتابعة النتائج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حديد و متابعة التخطيط و آلية التخطيط و الموازن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تخاذ القرارات الخاصة بالنوعية و الكلفة و الآجا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نظيم العمل و توزيع الأنشطة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و الوسائ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5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0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5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80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عوامل النجاح في مستوى المشروع: هيكلة المشروع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مواصفات المثالية لفريق المشرو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كامل الكفاءات: التقنية و التسيير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كامل مسار الشخصيات: الابتكار/الدق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كامل الرؤى: المركز الاجتماعي/الفروع, الشباب/الكهو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قاسم العزيمة لحسن تنفيذ المشرو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ستقلالية الأعضا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تفر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9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9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8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13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18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23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عوامل النجاح في مستوى المشروع: هيكلة المشرو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←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عناصر النجا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وزيع الأدوار بطريقة واضحة و صريح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حديد المدة المخصصة للمشروع بصفة رسم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نمية المسؤولية المزدوجة: الأفقي/العمود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51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عوامل النجاح في مستوى المشروع: الوسائل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 اللازمة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توفير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وار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مال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بشرية: الموجودة داخل المؤسسة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أو لدى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مسدي الخدمات الأجان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وسائل و الإسناد الماد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←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خصيص الموار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ؤكد عزيمة المؤسسة تجاه تنفيذ المشرو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عطي مصداقية للمشروع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و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لى فريق المشرو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6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69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9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4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9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94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قيادة المشروع هي ذهنية و ثقافة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إتباع تقنية الخطوات الصغير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عتماد التمشي المبني على التجارب و الأخطا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وخي دورة التقدم المتواص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تخطيط←التحقيق←التثبت←التصويب←التخطيط....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0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1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1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مثال تطبيقي: قيادة التغيير من خلال مشروع إقامة نظام إعلامية جديد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قبل الشروع في المشرو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إعداد المشرو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نطلاق المشرو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خلال تنفيذ المشرو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- مخطط التواص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- التشريك و المتابع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- الحضير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- التدري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-التجرب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- الاقلمة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5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55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0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5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0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5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80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مثال تطبيقي: قيادة التغيير من خلال مشروع إقامة نظام إعلامية جديد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بعد تنفيذ المشرو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- دخول المشروع طور الانتاج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- متابعة الانتاج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0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مقدمة: التغيير و قيادة التغيير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تغيير " هي حالة من يتطور و يتبدل و لا يبقى على ح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ه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← " لا وجود إلا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لتغيير الذي لا يتغير”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وهو ما يتجلى في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٭ ت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طور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شاريع التغيي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٭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تواصل 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حركية في المؤسس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← النفور من التغيير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أمر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طبيعي نظرا لما يسببه من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غموض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٭ ركوب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لمخاط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اضطراب في العادات و التوازنا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لزوم 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لجه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5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0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خلاص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النجاح في الجانب التقني يمثل الجزء الاسهل لأن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- كل مشروع إعلامية يترتب عنه تغيير هيكلي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- كل مشروع إعلامية يترتب عنه تغيير يهم الجانب البش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16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1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6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التغيير أو ما يعبر عنه من  " فن حث الأرانب على القفز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"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← النجاح في إستراتجية التغيير يعني: التوصل إلى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حث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كل الأرانب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على ال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ف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في الوقت المناس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في المكان المناس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في الاتجاه المناس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3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أهمية قيادة التغيير في 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 إنجاز 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مشاريع الأنظمة الإعلامي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بعض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برر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ات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فشل مشاريع الإعلام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رد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ائة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واصل بين المتدخل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غياب الوضوح في الأهداف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,غياب دراسة الجدوى وضبابية المواصف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سوء تقدير الكلفة و المخاط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قلة المتابعة الدور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محدودية تجربة رئيس المشرو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6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أهمية قيادة التغيير في 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 إنجاز 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مشاريع الأنظمة الإعلامي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تفيد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بعض الأرقام: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على سبيل الذكر لا على سبيل الحصر أن على معدل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00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شروع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ي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م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برمجت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ه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تتوزع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نسبة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كما يلي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%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بأهداف واضحة و كلفة محددة و مدة معينة و نوعية مبين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%5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بتجاوز في الموازنة و تجاوز في الآج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%3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ن المشاريع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ي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م إهماله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أهمية قيادة التغيير في 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 إنجاز 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مشاريع الأنظمة الإعلامية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569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فصل/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تلازم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بين الم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نتجي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مستعم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ي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أنظمة في إطار المشاريع الإعلامية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●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بالنسبة لإدار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مشروع: المستعملون هم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المعبرون عن الحاجة و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طالبون للانظم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هم المستغلون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للبرمج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●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بالنسبة لإدار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تنفيذ: منفذو الأشغال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و منتجو البرمجية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م مهندسو و تقنيو الاعلام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← أهداف قيادة التغيير في مشاريع الاعلام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حد من م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كابح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تغيير 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ملازم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ل مشرو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حد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من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(الفصل/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تلازم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) الخاصة بالمشاري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تحليل استراتيجي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1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TN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حليل تأثيرات المشروع و الخوف المتولد عن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تحديد المتدخلي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تحديد التأثيرات و الرهانات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دراسة 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العراقيل التي تحول دون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التغيي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- العراقيل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البشري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- العراقيل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الفني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- العراقيل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التنظيمي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تحقيق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خطط 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قيادة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تغيي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تشخيص المتدخلين الحاضري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ا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عداد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مخطط قيادة التغيي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- احتواء المعارضين قبل الاوان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0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5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0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5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0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5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0" dur="5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5" dur="50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تحليل تأثيرات المشروع و الخوف الم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لازم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ل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ه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: معطيات عامة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7692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4" marL="1913040" indent="-212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معرف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متدخلين (نظرة فردية و نظرة جماعية)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13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●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من هم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أشخاص أصحاب العلاقة بالمشرو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13040" indent="-212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حليل الرهانات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متعلقة ب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ل متدخ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● ما هو ربح و ما هي خسارة كل متدخل وهو ما يمكن من معرفة من مع المشروع و من ضد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13040" indent="-212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شخيص القوى المتواجدة:من مع المشروع و من ضد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● من هم الحلفاء من هم المعارضون و من هم المحايدو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13040" indent="-212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صور ردود الفع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للاستبا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●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ماهي  مواقف و حجج مختلف الاطرا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13040" indent="-212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ضع الفرضيات و تصور السيناريوها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● و الآن ماذا أفع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8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3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8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3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8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3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9T14:02:47Z</dcterms:created>
  <dc:creator>supcom</dc:creator>
  <dc:description/>
  <dc:language>en-US</dc:language>
  <cp:lastModifiedBy>supcom</cp:lastModifiedBy>
  <dcterms:modified xsi:type="dcterms:W3CDTF">2005-10-14T08:59:12Z</dcterms:modified>
  <cp:revision>15</cp:revision>
  <dc:subject/>
  <dc:title>قيادة التغيير</dc:title>
</cp:coreProperties>
</file>