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8A47-BF7D-49F4-A3E4-C7AA5CCB5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CFC8-E1DC-452B-9640-6E56864D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AB2B-FFD3-4FAB-9B7E-79F684A40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C81A-7B45-492A-BAFA-FE4D4611A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F88008-0524-4547-98E1-E5C16D841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7FE929-3640-494C-8875-B966E1B6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E2DBBA-48F5-4022-AD3D-8734AD8F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0AC53-C445-4870-B720-41CB8176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A30774-BB64-4F0D-BDE8-6985AC99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179C3-470F-4CE4-AD16-917DE176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7DD7B-C29C-462F-86EA-910FCF53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C86F-A900-425A-8106-49C59DDF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5C561-9469-4538-8163-FF32C042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B97D0-27AA-495B-89BF-4CE75432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D6DFF-2114-4D20-B71C-72BCD245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655C5C-2299-455E-ABAE-D058594F3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527D1-CC2E-40FF-A1BC-BC785DD49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870A-D6E3-475F-A3AD-C152EA16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D308-A9E8-4BE4-95AE-AE330D39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8930-B0DA-49FB-99FA-A48E8D64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D3A0-A184-4DC5-933A-54AF2C2E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EA58-4983-47A5-8BA8-5D174D4B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0A05-CA2C-4442-81FB-22DDEA40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42D5-8590-4C94-B594-B65875CC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BEAD-26F6-4134-922F-4A4784FD82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B054-3E00-4F49-AF35-DC664EC32A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4920" y="1557360"/>
            <a:ext cx="813420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Tahoma"/>
                <a:cs typeface="Andalus"/>
              </a:rPr>
              <a:t>قيادة التغيير</a:t>
            </a:r>
            <a:br>
              <a:rPr sz="6600"/>
            </a:br>
            <a:r>
              <a:rPr b="0" lang="ar-TN" sz="6600" spc="-1" strike="noStrike">
                <a:solidFill>
                  <a:srgbClr val="ffffff"/>
                </a:solidFill>
                <a:latin typeface="Tahoma"/>
                <a:cs typeface="Andalus"/>
              </a:rPr>
              <a:t>من إنجاز المشروع إلى تطوير الهيكل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6836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  <a:cs typeface="Andalus"/>
              </a:rPr>
              <a:t>كمال الحجيج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  <a:cs typeface="Andalus"/>
              </a:rPr>
              <a:t>المدرسة العليا للمواصلات بتون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تحليل تأثيرات المشروع و الخوف الم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لازم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له</a:t>
            </a:r>
            <a:br>
              <a:rPr sz="4000"/>
            </a:b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المتدخلون المعنيون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← المتدخلون الاستراتيجيو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TN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TN" sz="3200" spc="-1" strike="noStrike">
                <a:solidFill>
                  <a:srgbClr val="ffffff"/>
                </a:solidFill>
                <a:latin typeface="Tahoma"/>
              </a:rPr>
              <a:t>صاحب المشرو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TN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المتدخلون أصحاب القرار في المؤسس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← المتدخلون ال</a:t>
            </a:r>
            <a:r>
              <a:rPr b="1" lang="ar-TN" sz="3200" spc="-1" strike="noStrike">
                <a:solidFill>
                  <a:srgbClr val="ffffff"/>
                </a:solidFill>
                <a:latin typeface="Tahoma"/>
              </a:rPr>
              <a:t>مباشرو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TN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رئيس المشرو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TN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فريق العم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TN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المناولون و المستشيرون الأجان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TN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المتدخلون العرضيون عند الضرورة لخبرته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1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6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01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06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1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تحليل تأثيرات المشروع و الخوف الم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لازم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له</a:t>
            </a:r>
            <a:br>
              <a:rPr sz="4000"/>
            </a:b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المتدخلون المعنيون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← المتدخلون المستهدفون بالمشرو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لزبائن أو المستغلو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متدخلون آخرو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← المتدخلون "المهتمون" بالمشروع ( الأطراف الاجتماعية...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هيئات االتمثيل النقابي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لحلفاء و المعارضو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شبكات غير رسمي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4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44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49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4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تحليل تأثيرات المشروع و الخوف المتولد عنه: تحديد التأثيرات</a:t>
            </a:r>
            <a:r>
              <a:rPr b="0" lang="fr-FR" sz="40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● التأثيرات المتعلقة بالمشروع و تبعات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51480" indent="-205560" algn="r" rtl="1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حذف خطط العمل/تغيير ظروف العمل/ إعادة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ا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أهي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51480" indent="-205560" algn="r" rtl="1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طرق جديدة للعم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● التأثيرات المتعلقة بظروف تنفيذ المشرو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51480" indent="-205560" algn="r" rtl="1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طاقة البشرية/ضغط العمل: المشروع + الانتاج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51480" indent="-205560" algn="r" rtl="1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ضغ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و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ط المشرو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7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2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7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92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دراسة </a:t>
            </a:r>
            <a:r>
              <a:rPr b="1" lang="ar-TN" sz="4400" spc="-1" strike="noStrike">
                <a:solidFill>
                  <a:srgbClr val="ffffcc"/>
                </a:solidFill>
                <a:latin typeface="Tahoma"/>
              </a:rPr>
              <a:t>عراقيل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 التغيير: ال</a:t>
            </a:r>
            <a:r>
              <a:rPr b="1" lang="ar-TN" sz="4400" spc="-1" strike="noStrike">
                <a:solidFill>
                  <a:srgbClr val="ffffcc"/>
                </a:solidFill>
                <a:latin typeface="Tahoma"/>
              </a:rPr>
              <a:t>عراقيل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 البشرية</a:t>
            </a:r>
            <a:r>
              <a:rPr b="0" lang="fr-FR" sz="4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←</a:t>
            </a:r>
            <a:r>
              <a:rPr b="0" lang="ar-TN" sz="2800" spc="-1" strike="noStrike">
                <a:solidFill>
                  <a:srgbClr val="ffffff"/>
                </a:solidFill>
                <a:latin typeface="Times New Roman"/>
              </a:rPr>
              <a:t> دواعي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خوف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و الاضطراب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4880" indent="-35388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خوف من المجهو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4880" indent="-35388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خ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شية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من عدم القدرة على الوصول إلى الهد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4880" indent="-353880" algn="r" rtl="1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قدح الموجود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TN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66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←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مقاومة الم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رتبطة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بالاختلاف أو ال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ت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عارض بين مصالح المؤسسة و مصالح الموظفي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4880" indent="-35388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نقص أو ضياع الحقوق المكتسب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4880" indent="-35388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نقص أو حذف مناصب العم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4880" indent="-35388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خوف من تدهور ظروف العم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4880" indent="-35388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خوف من انطفاء جذوة التحمس للعم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20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25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30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35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0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5" dur="5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دراسة </a:t>
            </a:r>
            <a:r>
              <a:rPr b="1" lang="ar-TN" sz="4400" spc="-1" strike="noStrike">
                <a:solidFill>
                  <a:srgbClr val="ffffcc"/>
                </a:solidFill>
                <a:latin typeface="Tahoma"/>
              </a:rPr>
              <a:t>عراقيل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 التغيير: ال</a:t>
            </a:r>
            <a:r>
              <a:rPr b="1" lang="ar-TN" sz="4400" spc="-1" strike="noStrike">
                <a:solidFill>
                  <a:srgbClr val="ffffcc"/>
                </a:solidFill>
                <a:latin typeface="Tahoma"/>
              </a:rPr>
              <a:t>عراقيل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 الفنية</a:t>
            </a:r>
            <a:r>
              <a:rPr b="0" lang="fr-FR" sz="4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713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ما قبل</a:t>
            </a:r>
            <a:r>
              <a:rPr b="0" lang="ar-TN" sz="4000" spc="-1" strike="noStrike">
                <a:solidFill>
                  <a:srgbClr val="ffffff"/>
                </a:solidFill>
                <a:latin typeface="Tahoma"/>
              </a:rPr>
              <a:t> الإنجا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عدم الانسجام بين المشروع و محيط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95480" indent="-22140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مشروع في تعارض مع سياسة المؤسس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995480" indent="-22140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عراقيل قانونية غير مقدرة حق التقدي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أطير "غير محكم الإعداد”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 ل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لمشرو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95480" indent="-22140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دراسة غير محددة/إشكال مطروح بشكل رديء/تحليل غير متكام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995480" indent="-22140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عدم اخذ كل الشروط غير المواتية في الاعتبا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995480" indent="-22140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آجال مختصرة/اختيار غير موفق في التوقيت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5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3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73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7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83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88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3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دراسة </a:t>
            </a:r>
            <a:r>
              <a:rPr b="1" lang="ar-TN" sz="4400" spc="-1" strike="noStrike">
                <a:solidFill>
                  <a:srgbClr val="ffffcc"/>
                </a:solidFill>
                <a:latin typeface="Tahoma"/>
              </a:rPr>
              <a:t>عراقيل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 التغيير: ال</a:t>
            </a:r>
            <a:r>
              <a:rPr b="1" lang="ar-TN" sz="4400" spc="-1" strike="noStrike">
                <a:solidFill>
                  <a:srgbClr val="ffffcc"/>
                </a:solidFill>
                <a:latin typeface="Tahoma"/>
              </a:rPr>
              <a:t>عراقيل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 الفنية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1440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4000" spc="-1" strike="noStrike">
                <a:solidFill>
                  <a:srgbClr val="ffffff"/>
                </a:solidFill>
                <a:latin typeface="Tahoma"/>
              </a:rPr>
              <a:t>خلال الانجا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) ضعف في الاعداد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العمليات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قلة الموارد المتوفر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صعوبات متعلقة بالتقنيات المتوخاة (تقنيات جديدة...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نقائص في أخذ 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بعض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مسائل العملياتية في الاعتبا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إعداد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غير متوقع للأ</a:t>
            </a: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فرا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عناصر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مادية غير جاهزة (محلات, معدات.......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أثيرات جانبية لم تؤخذ في الاعتبار (مسألة: السلامة......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2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26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31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36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دراسة </a:t>
            </a:r>
            <a:r>
              <a:rPr b="1" lang="ar-TN" sz="4400" spc="-1" strike="noStrike">
                <a:solidFill>
                  <a:srgbClr val="ffffcc"/>
                </a:solidFill>
                <a:latin typeface="Tahoma"/>
              </a:rPr>
              <a:t>عراقيل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 التغيير: ال</a:t>
            </a:r>
            <a:r>
              <a:rPr b="1" lang="ar-TN" sz="4400" spc="-1" strike="noStrike">
                <a:solidFill>
                  <a:srgbClr val="ffffcc"/>
                </a:solidFill>
                <a:latin typeface="Tahoma"/>
              </a:rPr>
              <a:t>عراقيل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 التنظيمية</a:t>
            </a:r>
            <a:r>
              <a:rPr b="0" lang="fr-FR" sz="4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←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روتين و الرتابة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هو المتسببان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في ظهور نوع من الجمود التنظيمي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و هما المو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جه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ان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لسلوك الفرد و المجموعة نحو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ما يشبه الشعائر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اعتماد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أنظمة قواعد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 و إجراءات جامد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علاقات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 في اتجاه واحد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حسب التسلسل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اعتقادات و ثقافات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 متحجر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← هل الهيكل مستعد للتغ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ي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ر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و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هل هو التوقيت مناسب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التوقيت مناسب بالنظر إلى المحيط و الثقاف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التريث قدر الامكان قبل الانجاز إذا لم يكن الهيكل مستعد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5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59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64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69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74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79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84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89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انجاز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 مخطط قيادة التغيير: أشكال التعبير ع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لى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 معارضة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 المشروع</a:t>
            </a:r>
            <a:r>
              <a:rPr b="0" lang="fr-FR" sz="40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رد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ا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فعل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ا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حاد "حرب مفتوحة"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ا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هدم بطرق ملتوي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خريب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ا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حفظ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اختلاق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ا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علات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ا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جمود و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ا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مقاومة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ا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سلبية: ”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مبدأ: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لست على علم"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نعم "النفاق"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0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0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1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1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22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27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انجاز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 مخطط قيادة التغيير: خارطة المتدخلون المتواجدون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 (المستهدفون)</a:t>
            </a:r>
            <a:r>
              <a:rPr b="0" lang="fr-FR" sz="40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لفاء بدون شروط:مع المشروع على طول الخ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لفاء نقاد: نعم و لك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لفاء بشروط: نعم لو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مذبذبون: لا مع ولا ض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مقاومون: أقرب إلى 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معارضة المشرو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معارضون: لا على طول الخط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4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45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50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55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60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65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انجاز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 مخطط قيادة التغيير: مخطط قيادة التغيير</a:t>
            </a:r>
            <a:r>
              <a:rPr b="0" lang="fr-FR" sz="40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مبادئ الأساسية لبناء مخطط قيادة التغيي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33920" indent="-21456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الاقتناع بأن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لا شئ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مضمون التحقيق دون أي اعتراض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933920" indent="-21456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توجه نحو الأغلبية "لا كل مع لا كل ضد"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و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محاولة إقناع المعارضين بكل ال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وسائل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933920" indent="-21456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ستغلال كل ال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فرص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متوفرة للاقناع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مشارك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ات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, تواصل, تدريب..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933920" indent="-21456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عامل الأهم هو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التوصل إلى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شريك الأشخاص في التغيير بصفة حقيقية لا مصطنع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7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8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88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93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98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قيادة التغيير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 بين إنجاز المشروع </a:t>
            </a:r>
            <a:br>
              <a:rPr sz="4000"/>
            </a:b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و تطوير الهيكل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قدم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حليل استراتيج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قيادة التغيير: شروط النجا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ثال تطبيقي: قيادة التغيير من خلال مشروع إقامة نظام إعلامية جدي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خلاص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7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قيادة التغيير: عوامل النجاح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) ترتكز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عوامل النجاح في مستوى ال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مؤسسة على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121120" indent="-365400" algn="r" rtl="1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دور المسييري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121120" indent="-365400" algn="r" rtl="1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التوقيت المناسب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850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) تتلخص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عوامل النجاح في مستوى المشروع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 في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121120" indent="-365400" algn="r" rtl="1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هيكلة أو تنظيم المشرو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121120" indent="-365400" algn="r" rtl="1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توفير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الوسائل اللازم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850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قيادة التغيير هي ذهن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1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16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21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26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31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36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41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عوامل النجاح في مستوى ال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مؤسسة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: دور المسييرين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 أصحاب القرار</a:t>
            </a:r>
            <a:r>
              <a:rPr b="0" lang="fr-FR" sz="40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← يتجلى عند القيام بتحديد الحاجة وطلب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مشروع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أخذا في الاعتبار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 algn="r" rtl="1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الانسجام بين الإستراتجية و المشرو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 algn="r" rtl="1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وضوح الهد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 algn="r" rtl="1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علنية المشرو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← دعم المشروع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و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طاقم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← مثالية المسييرين و لجنة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تنفيذ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المشروع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عبر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 algn="r" rtl="1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الاستعمال </a:t>
            </a: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ا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لأمثل للوسائل و الإمكانيات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 algn="r" rtl="1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العمل على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حويل المشروع إلى إنتاج ملمو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5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5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6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69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74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79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84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89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عوامل النجاح في مستوى ال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مؤسسة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: التوقيت المناسب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←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استعداد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و نضج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المؤسسة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للتغيي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←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ندراج المشروع في إطار إستراتجية عامة للتغيي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54440" indent="-217080" algn="r" rtl="1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رؤية واضحة للمستقب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954440" indent="-217080" algn="r" rtl="1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يادة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عامة 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إستراتجية للتغيي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954440" indent="-217080" algn="r" rtl="1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إقامة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مؤسسة م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نسجم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ة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مع إستراتجية التغيي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954440" indent="-217080" algn="r" rtl="1">
              <a:spcBef>
                <a:spcPts val="45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توفر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حجج محسوسة و ملموسة لتنفيذ المشروع</a:t>
            </a:r>
            <a:r>
              <a:rPr b="0" lang="ar-TN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954440" indent="0" algn="r" rtl="1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0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07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12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17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2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27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عوامل النجاح في مستوى المشروع: هيكلة المشروع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←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دور المركزي لرئيس المشروع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يتمحور حول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جانب الاستراتيجي:الالتزام, الابتكار, الاستشرا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الجانب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الاندماجي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ت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نش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ي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ط الأطراف الفاعل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 algn="r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نشيط فريق العم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 algn="r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شراكة الكفاءات و الخبرات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جانب التنسيقي:تنسيق الإمكانيات و الوسائل ومتابعة النتائج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 algn="r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حديد و متابعة التخطيط و آلية التخطيط و الموازن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 algn="r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تخاذ القرارات الخاصة بالنوعية و الكلفة و الآجا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 algn="r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نظيم العمل و توزيع الأنشطة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و الوسائ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4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45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50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55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60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65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70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75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80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عوامل النجاح في مستوى المشروع: هيكلة المشروع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←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المواصفات المثالية لفريق المشرو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كامل الكفاءات: التقنية و التسييري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كامل مسار الشخصيات: الابتكار/الدق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كامل الرؤى: المركز الاجتماعي/الفروع, الشباب/الكهو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قاسم العزيمة لحسن تنفيذ المشرو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ستقلالية الأعضا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تفر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9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98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03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08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13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18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23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عوامل النجاح في مستوى المشروع: هيكلة المشرو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←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عناصر النجا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وزيع الأدوار بطريقة واضحة و صريح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حديد المدة المخصصة للمشروع بصفة رسمي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نمية المسؤولية المزدوجة: الأفقي/العمودي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3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41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46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51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عوامل النجاح في مستوى المشروع: الوسائل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 اللازمة</a:t>
            </a:r>
            <a:r>
              <a:rPr b="0" lang="fr-FR" sz="40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←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توفير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موار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مالي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بشرية: الموجودة داخل المؤسسة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أو لدى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مسدي الخدمات الأجانب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وسائل و الإسناد المادي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←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خصيص الموار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ؤكد عزيمة المؤسسة تجاه تنفيذ المشرو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عطي مصداقية للمشروع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و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إلى فريق المشرو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6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69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74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79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84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89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94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قيادة المشروع هي ذهنية و ثقافة</a:t>
            </a:r>
            <a:r>
              <a:rPr b="0" lang="fr-FR" sz="4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إتباع تقنية الخطوات الصغير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عتماد التمشي المبني على التجارب و الأخطا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وخي دورة التقدم المتواص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تخطيط←التحقيق←التثبت←التصويب←التخطيط....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0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12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17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22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مثال تطبيقي: قيادة التغيير من خلال مشروع إقامة نظام إعلامية جديد</a:t>
            </a:r>
            <a:r>
              <a:rPr b="0" lang="fr-FR" sz="40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قبل الشروع في المشرو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إعداد المشرو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انطلاق المشرو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خلال تنفيذ المشرو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- مخطط التواصل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- التشريك و المتابع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- الحضير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- التدريب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-التجرب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- الاقلمة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3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4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45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50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55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60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65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70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75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80" dur="5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مثال تطبيقي: قيادة التغيير من خلال مشروع إقامة نظام إعلامية جديد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بعد تنفيذ المشرو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- دخول المشروع طور الانتاج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- متابعة الانتاج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9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9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03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مقدمة: التغيير و قيادة التغيير</a:t>
            </a:r>
            <a:r>
              <a:rPr b="0" lang="fr-FR" sz="4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←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تغيير " هي حالة من يتطور و يتبدل و لا يبقى على حال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ه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"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← " لا وجود إلا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لتغيير الذي لا يتغير”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وهو ما يتجلى في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٭ ت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طور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مشاريع التغيي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٭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تواصل ا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حركية في المؤسس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← النفور من التغيير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أمر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طبيعي نظرا لما يسببه من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٭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غموض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٭ ركوب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لمخاط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٭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اضطراب في العادات و التوازنات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٭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لزوم 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لجه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0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5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0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5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0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5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0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5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0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TN" sz="4400" spc="-1" strike="noStrike">
                <a:solidFill>
                  <a:srgbClr val="ffffcc"/>
                </a:solidFill>
                <a:latin typeface="Tahoma"/>
              </a:rPr>
              <a:t>خلاصة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النجاح في الجانب التقني يمثل الجزء الاسهل لأن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- كل مشروع إعلامية يترتب عنه تغيير هيكلي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- كل مشروع إعلامية يترتب عنه تغيير يهم الجانب البشر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4" dur="indefinite" restart="never" nodeType="tmRoot">
          <p:childTnLst>
            <p:seq>
              <p:cTn id="1205" dur="indefinite" nodeType="mainSeq">
                <p:childTnLst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16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21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26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التغيير أو ما يعبر عنه من  " فن حث الأرانب على القفز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"</a:t>
            </a:r>
            <a:r>
              <a:rPr b="0" lang="fr-FR" sz="40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← النجاح في إستراتجية التغيير يعني: التوصل إلى 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حث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كل الأرانب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 على ال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قف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● في الوقت المناس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● في المكان المناس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● في الاتجاه المناس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8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3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8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أهمية قيادة التغيير في 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 إنجاز 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مشاريع الأنظمة الإعلامية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421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←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بعض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برر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ات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فشل مشاريع الإعلام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● رد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ائة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ال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واصل بين المتدخلي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● غياب الوضوح في الأهداف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 ,غياب دراسة الجدوى وضبابية المواصف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● سوء تقدير الكلفة و المخاط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● قلة المتابعة الدور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● محدودية تجربة رئيس المشرو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6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1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1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6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أهمية قيادة التغيير في 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 إنجاز 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مشاريع الأنظمة الإعلامية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←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 تفيد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بعض الأرقام: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 على سبيل الذكر لا على سبيل الحصر أن على معدل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00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مشروع 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ي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م 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برمجت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ه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تتوزع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ال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نسبة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 كما يلي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%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بأهداف واضحة و كلفة محددة و مدة معينة و نوعية مبين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%5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بتجاوز في الموازنة و تجاوز في الآجا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%3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من المشاريع 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ي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م إهمالها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9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4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أهمية قيادة التغيير في 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 إنجاز 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مشاريع الأنظمة الإعلامية</a:t>
            </a:r>
            <a:r>
              <a:rPr b="0" lang="fr-FR" sz="40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569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←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فصل/ال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تلازم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بين الم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نتجين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مستعمل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ي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أنظمة في إطار المشاريع الإعلامية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●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بالنسبة لإدارة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مشروع: المستعملون هم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المعبرون عن الحاجة و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طالبون للانظمة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هم المستغلون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للبرمجي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●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بالنسبة لإدارة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تنفيذ: منفذو الأشغال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و منتجو البرمجية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هم مهندسو و تقنيو الاعلامي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← أهداف قيادة التغيير في مشاريع الاعلامي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حد من م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كابح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تغيير ال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ملازم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كل مشرو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حد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من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(الفصل/ال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تلازم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) الخاصة بالمشاري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2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7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2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تحليل استراتيجي</a:t>
            </a:r>
            <a:r>
              <a:rPr b="0" lang="fr-FR" sz="4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91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ar-TN" sz="18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حليل تأثيرات المشروع و الخوف المتولد عن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تحديد المتدخلين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تحديد التأثيرات و الرهانات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دراسة </a:t>
            </a: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العراقيل التي تحول دون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التغيي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- العراقيل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البشري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- العراقيل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الفني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- العراقيل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التنظيمي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تحقيق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مخطط </a:t>
            </a: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قيادة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التغيي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تشخيص المتدخلين الحاضرين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ا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عداد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مخطط قيادة التغيير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- احتواء المعارضين قبل الاوان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0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5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0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5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0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5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0" dur="5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5" dur="5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0" dur="500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5" dur="500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تحليل تأثيرات المشروع و الخوف الم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لازم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ل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ه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: معطيات عامة</a:t>
            </a: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7692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4" marL="1913040" indent="-21240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معرفة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متدخلين (نظرة فردية و نظرة جماعية)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913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●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من هم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أشخاص أصحاب العلاقة بالمشرو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913040" indent="-21240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حليل الرهانات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المتعلقة ب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كل متدخ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● ما هو ربح و ما هي خسارة كل متدخل وهو ما يمكن من معرفة من مع المشروع و من ضد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913040" indent="-21240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شخيص القوى المتواجدة:من مع المشروع و من ضد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● من هم الحلفاء من هم المعارضون و من هم المحايدو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913040" indent="-21240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صور ردود الفعل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للاستبا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●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ماهي  مواقف و حجج مختلف الاطرا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913040" indent="-21240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وضع الفرضيات و تصور السيناريوهات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● و الآن ماذا أفع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3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8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3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8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3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8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3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8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3" dur="5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9T14:02:47Z</dcterms:created>
  <dc:creator>supcom</dc:creator>
  <dc:description/>
  <dc:language>en-US</dc:language>
  <cp:lastModifiedBy>supcom</cp:lastModifiedBy>
  <dcterms:modified xsi:type="dcterms:W3CDTF">2005-10-14T08:59:12Z</dcterms:modified>
  <cp:revision>15</cp:revision>
  <dc:subject/>
  <dc:title>قيادة التغيير</dc:title>
</cp:coreProperties>
</file>