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E90-250F-4ADB-AF7A-4F11FE49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4D0-09C8-4096-898D-B99C4456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5DAA-6761-4B4E-AC43-A1D35AAA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A03-C984-4CBC-8F65-5D1CE120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2FE98-6249-4348-BE8F-8AFD2E30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51FB4-1F29-4CA8-A51A-5A17523A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18857-9879-4522-8CD2-23609FAA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51A0D-5158-4BC1-9872-DE2F9701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ACCBB-2E1E-4D38-AD6F-576A020E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1793C-97A7-4A8A-9C18-27A30C06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650E0-0EEB-49E8-993C-6F127745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5E2-4D90-4DA8-B012-47D827F4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27110-0003-41A6-A3E6-B8A63B2C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7945C-4CBF-4EF8-9A7C-99E5FD10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06477-CD6A-4AEA-8625-41E59716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45FE1-26A7-4533-AD47-62BCED56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3A893-7F9C-4C68-902B-85B243C3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3FC-07C7-44BE-945C-78DB3F9B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501-F565-448E-9735-E39B3627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904-A62C-470B-814A-6F47576C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57EA-EB3E-445D-9ED5-181490E1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230-DF91-49CF-9BBD-A886B0DA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A7C-D0B1-4EB5-91F2-49BB0FCB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370-5E2B-4D40-8E61-D50E2624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831C-5FF8-474A-99AC-744CE4D00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4FBE-C411-4296-BAF8-CD70361233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1342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Andalus"/>
              </a:rPr>
              <a:t>قيادة التغيير</a:t>
            </a:r>
            <a:br>
              <a:rPr sz="6600"/>
            </a:br>
            <a:r>
              <a:rPr b="0" lang="ar-TN" sz="6600" spc="-1" strike="noStrike">
                <a:solidFill>
                  <a:srgbClr val="ffffff"/>
                </a:solidFill>
                <a:latin typeface="Tahoma"/>
                <a:cs typeface="Andalus"/>
              </a:rPr>
              <a:t>من إنجاز المشروع إلى تطوير الهيكل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  <a:cs typeface="Andalus"/>
              </a:rPr>
              <a:t>كمال الحجي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  <a:cs typeface="Andalus"/>
              </a:rPr>
              <a:t>المدرسة العليا للمواصلات بتون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تحليل تأثيرات المشروع و الخوف الم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ازم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ه</a:t>
            </a:r>
            <a:br>
              <a:rPr sz="4000"/>
            </a:b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المتدخلون المعنيو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← المتدخلون الاستراتيجي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صاحب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تدخلون أصحاب القرار في المؤسس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← المتدخلون ال</a:t>
            </a: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مباشر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رئيس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فريق العم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ناولون و المستشيرون الأجان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تدخلون العرضيون عند الضرورة لخبرته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6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1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6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1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تحليل تأثيرات المشروع و الخوف الم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ازم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ه</a:t>
            </a:r>
            <a:br>
              <a:rPr sz="4000"/>
            </a:b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المتدخلون المعنيو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← المتدخلون المستهدفون ب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زبائن أو المستغلو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متدخلون آخرو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← المتدخلون "المهتمون" بالمشروع ( الأطراف الاجتماعية...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هيئات االتمثيل النقاب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حلفاء و المعارضو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شبكات غير رسم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تحليل تأثيرات المشروع و الخوف المتولد عنه: تحديد التأثيرات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● التأثيرات المتعلقة بالمشروع و تبعات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حذف خطط العمل/تغيير ظروف العمل/ إعادة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أهي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طرق جديدة للع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التأثيرات المتعلقة بظروف تنفيذ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طاقة البشرية/ضغط العمل: المشروع + الانتا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ضغ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ط 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دراسة 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تغيير: ال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بشرية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←</a:t>
            </a:r>
            <a:r>
              <a:rPr b="0" lang="ar-TN" sz="2800" spc="-1" strike="noStrike">
                <a:solidFill>
                  <a:srgbClr val="ffffff"/>
                </a:solidFill>
                <a:latin typeface="Times New Roman"/>
              </a:rPr>
              <a:t> دواعي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خوف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و الاضطرا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خوف من المجهو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خ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شي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ن عدم القدرة على الوصول إلى الهد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قدح الموجود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6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مقاومة الم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رتبط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بالاختلاف أو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عارض بين مصالح المؤسسة و مصالح الموظفي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نقص أو ضياع الحقوق المكتسب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نقص أو حذف مناصب الع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خوف من تدهور ظروف الع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خوف من انطفاء جذوة التحمس للع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5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0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5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دراسة 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تغيير: ال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فنية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ما قبل</a:t>
            </a:r>
            <a:r>
              <a:rPr b="0" lang="ar-TN" sz="4000" spc="-1" strike="noStrike">
                <a:solidFill>
                  <a:srgbClr val="ffffff"/>
                </a:solidFill>
                <a:latin typeface="Tahoma"/>
              </a:rPr>
              <a:t> الإنجا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دم الانسجام بين المشروع و محيط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شروع في تعارض مع سياسة المؤسس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عراقيل قانونية غير مقدرة حق التقدي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أطير "غير محكم الإعداد”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ل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مشرو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دراسة غير محددة/إشكال مطروح بشكل رديء/تحليل غير متكا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عدم اخذ كل الشروط غير المواتية في الاعتبا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آجال مختصرة/اختيار غير موفق في التوقي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8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3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دراسة 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تغيير: ال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فني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4000" spc="-1" strike="noStrike">
                <a:solidFill>
                  <a:srgbClr val="ffffff"/>
                </a:solidFill>
                <a:latin typeface="Tahoma"/>
              </a:rPr>
              <a:t>خلال الانجا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ضعف في الاعداد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عمليات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قلة الموارد المتوفر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صعوبات متعلقة بالتقنيات المتوخاة (تقنيات جديدة.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نقائص في أخذ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بعض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سائل العملياتية في الاعتبا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إعداد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غير متوقع للأ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فرا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عناصر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ادية غير جاهزة (محلات, معدات.....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أثيرات جانبية لم تؤخذ في الاعتبار (مسألة: السلامة....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دراسة 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تغيير: ال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تنظيمية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روتين و الرتابة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هو المتسببا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في ظهور نوع من الجمود التنظيمي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و هما الم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جه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لسلوك الفرد و المجموعة نحو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ما يشبه الشعائ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اعتماد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أنظمة قواعد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 و إجراءات جامد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علاقات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 في اتجاه واحد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حسب التسلس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اعتقادات و ثقافات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 متحجر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← هل الهيكل مستعد للتغ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ي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ر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هل هو التوقيت مناس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التوقيت مناسب بالنظر إلى المحيط و الثقاف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التريث قدر الامكان قبل الانجاز إذا لم يكن الهيكل مستع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9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4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9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انجاز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مخطط قيادة التغيير: أشكال التعبير ع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ى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معارضة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المشروع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رد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فعل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حاد "حرب مفتوحة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دم بطرق ملتو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خري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حفظ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اختلاق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عل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جمود و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قاومة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سلبية: ”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مبدأ: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ست على علم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نعم "النفاق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انجاز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مخطط قيادة التغيير: خارطة المتدخلون المتواجدون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(المستهدفون)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لفاء بدون شروط:مع المشروع على طول الخ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لفاء نقاد: نعم و لك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لفاء بشروط: نعم ل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ذبذبون: لا مع ولا ض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قاومون: أقرب إلى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معارضة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عارضون: لا على طول الخط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5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انجاز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مخطط قيادة التغيير: مخطط قيادة التغيير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بادئ الأساسية لبناء مخطط قيادة التغيي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33920" indent="-2145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اقتناع بأن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ا شئ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مضمون التحقيق دون أي اعترا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33920" indent="-2145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توجه نحو الأغلبية "لا كل مع لا كل ضد"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حاولة إقناع المعارضين بكل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سائ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33920" indent="-2145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ستغلال كل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فرص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متوفرة للاقناع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شارك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ت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, تواصل, تدريب..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33920" indent="-2145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عامل الأهم هو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توصل إلى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شريك الأشخاص في التغيير بصفة حقيقية لا مصطنع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قيادة التغيير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بين إنجاز المشروع </a:t>
            </a:r>
            <a:br>
              <a:rPr sz="4000"/>
            </a:b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و تطوير الهيكل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قدم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حليل استراتيج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يادة التغيير: شروط النجا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ثال تطبيقي: قيادة التغيير من خلال مشروع إقامة نظام إعلامية جد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خلاص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قيادة التغيير: عوامل النجاح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ترتكز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وامل النجاح في مستوى ال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مؤسسة على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121120" indent="-3654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دور المسييري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21120" indent="-3654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توقيت المناس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تتلخص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وامل النجاح في مستوى المشروع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في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121120" indent="-3654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هيكلة أو تنظيم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21120" indent="-3654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توفير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وسائل اللازم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يادة التغيير هي ذهن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1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مؤسسة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: دور المسييرين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أصحاب القرار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 يتجلى عند القيام بتحديد الحاجة وطلب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مشروع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أخذا في الاعتبار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انسجام بين الإستراتجية و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وضوح الهد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علنية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دعم المشروع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طاقم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مثالية المسييرين و لجنة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نفيذ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مشروع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عبر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استعمال 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لأمثل للوسائل و الإمكانيات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العمل على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حويل المشروع إلى إنتاج ملمو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9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مؤسسة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: التوقيت المناس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ستعداد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و نضج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لمؤسسة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لتغيي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ندراج المشروع في إطار إستراتجية عامة للتغيي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رؤية واضحة للمستقب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يادة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عامة 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ستراتجية للتغيي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قامة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مؤسسة 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نسجم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ع إستراتجية التغيي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 algn="r" rtl="1"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وفر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حجج محسوسة و ملموسة لتنفيذ المشروع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0" algn="r" rtl="1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مشروع: هيكلة المشروع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دور المركزي لرئيس المشروع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يتمحور حول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جانب الاستراتيجي:الالتزام, الابتكار, الاستشرا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الجانب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اندماجي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ت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نش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ي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ط الأطراف الفاعل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نشيط فريق الع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شراكة الكفاءات و الخبر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جانب التنسيقي:تنسيق الإمكانيات و الوسائل ومتابعة النتائ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حديد و متابعة التخطيط و آلية التخطيط و الموازن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تخاذ القرارات الخاصة بالنوعية و الكلفة و الآجا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نظيم العمل و توزيع الأنشطة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و الوسائ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5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0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5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0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مشروع: هيكلة المشروع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واصفات المثالية لفريق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كامل الكفاءات: التقنية و التسيير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كامل مسار الشخصيات: الابتكار/الدق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كامل الرؤى: المركز الاجتماعي/الفروع, الشباب/الكهو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قاسم العزيمة لحسن تنفيذ 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ستقلالية الأعضا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تفر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8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3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8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3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مشروع: هيكلة المشرو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عناصر النجا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وزيع الأدوار بطريقة واضحة و صريح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حديد المدة المخصصة للمشروع بصفة رسم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نمية المسؤولية المزدوجة: الأفقي/العمود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مشروع: الوسائل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اللازمة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توفير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وار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مال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بشرية: الموجودة داخل المؤسسة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أو لدى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سدي الخدمات الأجان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وسائل و الإسناد الماد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خصيص الموار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ؤكد عزيمة المؤسسة تجاه تنفيذ 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عطي مصداقية للمشروع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لى فريق 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9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9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4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94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قيادة المشروع هي ذهنية و ثقافة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إتباع تقنية الخطوات الصغير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عتماد التمشي المبني على التجارب و الأخطا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وخي دورة التقدم المتواص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خطيط←التحقيق←التثبت←التصويب←التخطيط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0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1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مثال تطبيقي: قيادة التغيير من خلال مشروع إقامة نظام إعلامية جديد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قبل الشروع في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إعداد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نطلاق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خلال تنفيذ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- مخطط التواص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- التشريك و المتابع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- الحضير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- التدري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-التجرب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- الاقلم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0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5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0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5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0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مثال تطبيقي: قيادة التغيير من خلال مشروع إقامة نظام إعلامية جديد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بعد تنفيذ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- دخول المشروع طور الانتا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- متابعة الانتا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0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مقدمة: التغيير و قيادة التغيير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تغيير " هي حالة من يتطور و يتبدل و لا يبقى على ح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ه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" لا وجود إلا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تغيير الذي لا يتغير”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وهو ما يتجلى في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 ت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طور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شاريع التغيي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واصل 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حركية في المؤسس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النفور من التغيير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أمر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طبيعي نظرا لما يسببه من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غمو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 ركوب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مخاط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اضطراب في العادات و التوازن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لزوم 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جه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0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خلاص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لنجاح في الجانب التقني يمثل الجزء الاسهل لأن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- كل مشروع إعلامية يترتب عنه تغيير هيكلي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- كل مشروع إعلامية يترتب عنه تغيير يهم الجانب البش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التغيير أو ما يعبر عنه من  " فن حث الأرانب على القفز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"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← النجاح في إستراتجية التغيير يعني: التوصل إلى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حث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ل الأرانب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على ال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ف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في الوقت المناس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في المكان المناس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في الاتجاه المناس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أهمية قيادة التغيير في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إنجاز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مشاريع الأنظمة الإعلامي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بعض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برر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فشل مشاريع الإعلام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رد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ئ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واصل بين المتدخل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غياب الوضوح في الأهداف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,غياب دراسة الجدوى وضبابية المواصف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سوء تقدير الكلفة و المخاط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قلة المتابعة الدور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محدودية تجربة رئيس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6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أهمية قيادة التغيير في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إنجاز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مشاريع الأنظمة الإعلامي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تفيد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بعض الأرقام: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على سبيل الذكر لا على سبيل الحصر أن على معدل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00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شروع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ي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م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برمج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ه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تتوزع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نسبة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كما يلي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%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بأهداف واضحة و كلفة محددة و مدة معينة و نوعية مبين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%5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بتجاوز في الموازنة و تجاوز في الآج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%3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ن المشاريع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ي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م إهمال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أهمية قيادة التغيير في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إنجاز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مشاريع الأنظمة الإعلامية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569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فصل/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لاز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بين الم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نتج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مستعم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ي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أنظمة في إطار المشاريع الإعلامية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بالنسبة لإدار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مشروع: المستعملون هم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المعبرون عن الحاجة 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طالبون للانظم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هم المستغلون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للبرمج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بالنسبة لإدار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تنفيذ: منفذو الأشغال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 منتجو البرمجية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م مهندسو و تقنيو الاعلام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أهداف قيادة التغيير في مشاريع الاعلام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حد من م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كابح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تغيير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ملاز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ل 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حد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من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(الفصل/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لاز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) الخاصة بالمشاري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تحليل استراتيجي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حليل تأثيرات المشروع و الخوف المتولد عن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تحديد المتدخلي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تحديد التأثيرات و الرهانات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دراسة 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العراقيل التي تحول دون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التغيي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العراقيل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البشري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العراقيل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الفني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العراقيل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التنظيمي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تحقيق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خطط 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قيادة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تغيي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تشخيص المتدخلين الحاضري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عداد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مخطط قيادة التغيي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احتواء المعارضين قبل الاوا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5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0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5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0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0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5" dur="5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تحليل تأثيرات المشروع و الخوف الم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ازم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ه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: معطيات عامة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7692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4" marL="1913040" indent="-212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معرف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متدخلين (نظرة فردية و نظرة جماعية)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من هم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أشخاص أصحاب العلاقة ب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-212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حليل الرهانات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متعلقة ب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ل متدخ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 ما هو ربح و ما هي خسارة كل متدخل وهو ما يمكن من معرفة من مع المشروع و من ضد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-212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شخيص القوى المتواجدة:من مع المشروع و من ضد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 من هم الحلفاء من هم المعارضون و من هم المحايدو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-212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صور ردود الفع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للاستبا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ماهي  مواقف و حجج مختلف الاطرا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-212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ضع الفرضيات و تصور السيناريوه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 و الآن ماذا أفع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3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3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8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3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14:02:47Z</dcterms:created>
  <dc:creator>supcom</dc:creator>
  <dc:description/>
  <dc:language>en-US</dc:language>
  <cp:lastModifiedBy>supcom</cp:lastModifiedBy>
  <dcterms:modified xsi:type="dcterms:W3CDTF">2005-10-14T08:59:12Z</dcterms:modified>
  <cp:revision>15</cp:revision>
  <dc:subject/>
  <dc:title>قيادة التغيير</dc:title>
</cp:coreProperties>
</file>