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646-8BAC-4EBA-ACFE-CD036847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4025-978D-4183-A604-F846AE7D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E1D5-6CCC-46DF-A4FE-FB51E74F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479-AE08-4FA0-A3B2-18EE8198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D7EA7C-9D56-4AFE-8936-22905D19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6C220-AE3B-47A5-9A81-B04F9AC1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64B4D-D4BE-4C55-846A-49905D8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11AE-16F9-464D-9DB7-80C29623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2063-9E4D-4170-9920-3DD9308F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FEDB5-68B2-4E73-BD8C-4859967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E33E0-AF37-4D8D-A374-D989F7E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85DE-B066-48DC-B656-5C4874E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4072-19CA-42E9-822D-B9477669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8E676-2879-40D7-A010-2F02CAE9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D3E2C-BCF4-4087-AE76-24AE181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BD65F-3CC3-4130-AA98-AD872B8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7AD35-3847-4ED4-AF00-7FD08C06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13C-73BE-4EF8-9193-0609871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98F-99CC-4DF5-AC44-387B4F13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E1BB-E809-4D81-960F-9A2670F4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1669-B527-4D5A-84EE-4A0B217F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BE2C-05CA-4F91-BB8F-01F4DFE8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C4D-A53F-4C85-ACF9-EFC9758A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4979-BA49-4D13-855C-F0E46BD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DCD7-EAF7-45F2-A465-CEEBDFF238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5984-1025-4A55-9669-E535110835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13420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Tahoma"/>
                <a:cs typeface="Andalus"/>
              </a:rPr>
              <a:t>قيادة التغيير</a:t>
            </a:r>
            <a:br>
              <a:rPr sz="6600"/>
            </a:br>
            <a:r>
              <a:rPr b="0" lang="ar-TN" sz="6600" spc="-1" strike="noStrike">
                <a:solidFill>
                  <a:srgbClr val="ffffff"/>
                </a:solidFill>
                <a:latin typeface="Tahoma"/>
                <a:cs typeface="Andalus"/>
              </a:rPr>
              <a:t>من إنجاز المشروع إلى تطوير الهيكل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كمال الحج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  <a:cs typeface="Andalus"/>
              </a:rPr>
              <a:t>المدرسة العليا للمواصلات بتون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استراتيجي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صاحب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أصحاب القرار في المؤسسة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← المتدخلون ال</a:t>
            </a: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مباشرو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فريق العم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ناولون و المستشيرون الأجان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تدخلون العرضيون عند الضرورة لخبر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1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6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6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1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6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ه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لمتدخلون المعني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المستهدفون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زبائن أو المستغل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متدخلون آخر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← المتدخلون "المهتمون" بالمشروع ( الأطراف الاجتماعية...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هيئات االتمثيل النقاب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الحلفاء و المعارض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شبكات غير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تولد عنه: تحديد التأثيرات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● التأثيرات المتعلقة بالمشروع و تبعات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ذف خطط العمل/تغيير ظروف العمل/ إع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أهي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رق جديدة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التأثيرات المتعلقة بظروف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طاقة البشرية/ضغط العمل: المشروع + الانتا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ض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7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بشر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TN" sz="2800" spc="-1" strike="noStrike">
                <a:solidFill>
                  <a:srgbClr val="ffffff"/>
                </a:solidFill>
                <a:latin typeface="Times New Roman"/>
              </a:rPr>
              <a:t> دواعي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اضطرا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وف من المج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خ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شي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ن عدم القدرة على الوصول إلى الهد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قدح الموجود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566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قاومة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رتبط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الاختلاف أو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ارض بين مصالح المؤسسة و مصالح الموظفي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ضياع الحقوق المكتسب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قص أو حذف مناصب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تدهور ظروف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4880" indent="-35388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خوف من انطفاء جذوة التحمس ل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0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0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35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0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5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ما قبل</a:t>
            </a: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 الإ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دم الانسجام بين المشروع و محيط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روع في تعارض مع سياسة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راقيل قانونية غير مقدرة حق التقد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أطير "غير محكم الإعداد”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مشرو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دراسة غير محددة/إشكال مطروح بشكل رديء/تحليل غير متكا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دم اخذ كل الشروط غير المواتية في الاعتبا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آجال مختصرة/اختيار غير موفق في التوقي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6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3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فني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4000" spc="-1" strike="noStrike">
                <a:solidFill>
                  <a:srgbClr val="ffffff"/>
                </a:solidFill>
                <a:latin typeface="Tahoma"/>
              </a:rPr>
              <a:t>خلال الانجا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ضعف في الا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العمليات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لة الموارد المتوف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صعوبات متعلقة بالتقنيات المتوخاة (تقنيات جديدة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قائص في أخذ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سائل العملياتية في الاعتب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إعداد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غير متوقع للأ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فر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عناصر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ادية غير جاهزة (محلات, معدات.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أثيرات جانبية لم تؤخذ في الاعتبار (مسألة: السلامة......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دراسة 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غيير: ال</a:t>
            </a: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عراقيل</a:t>
            </a: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 التنظيمي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روتين و الرتاب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هو المتسبب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في ظهور نوع من الجمود التنظيمي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هما الم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ه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لسلوك الفرد و المجموعة نحو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ما يشبه الشعائ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عتماد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أنظمة قواعد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و إجراءات جامد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علاق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في اتجاه واح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حسب التسلسل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عتقادات و ثقافات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 متحجر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← هل الهيكل مستعد للتغ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ير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هل هو التوقيت مناس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لتوقيت مناسب بالنظر إلى المحيط و الثقاف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التريث قدر الامكان قبل الانجاز إذا لم يكن الهيكل مستع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6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79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4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9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أشكال التعبير ع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ى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عارضة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مشروع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فع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اد "حرب مفتوحة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دم بطرق ملت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خري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فظ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ختلاق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جمود و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قاوم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سلبية: 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بدأ: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ست على علم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عم "النفاق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2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خارطة المتدخلون المتواجدو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(المستهدفون)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دون شروط:مع المشروع على طول الخ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نقاد: نعم و لك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لفاء بشروط: نعم لو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ذبذبون: لا مع ولا ض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قاومون: أقرب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عارضة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عارضون: لا على طول الخط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0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65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انجا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مخطط قيادة التغيير: مخطط قيادة التغيي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بادئ الأساسية لبناء مخطط قيادة ا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قتناع بأ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ا شئ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ضمون التحقيق دون أي اعترا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وجه نحو الأغلبية "لا كل مع لا كل ضد"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حاولة إقناع المعارضين ب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سائل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غلال كل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فرص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توفرة للاقناع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شارك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, تواصل, تدريب..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33920" indent="-2145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عامل الأهم هو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توصل إل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ريك الأشخاص في التغيير بصفة حقيقية لا مصطنع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88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3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قيادة التغيير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بين إنجاز المشروع </a:t>
            </a:r>
            <a:br>
              <a:rPr sz="4000"/>
            </a:b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و تطوير الهيكل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قدم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حليل استراتيج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: شروط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خلاص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تغيير: عوامل النجا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رتكز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مؤسسة على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ور المسييري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وقيت المناس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تتلخص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عوامل النجاح في مستوى المشروع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في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هيكلة أو تنظيم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121120" indent="-36540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وفير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وسائل اللازم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يادة التغيير هي ذهن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850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3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41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دور المسييرين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أصحاب القرار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 يتجلى عند القيام بتحديد الحاجة وطل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خذا في الاعتبا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نسجام بين الإستراتجية و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وضوح الهد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علنية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دعم المشروع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قم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مثالية المسييرين و لجن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نفيذ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شروع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عبر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استعمال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أمثل للوسائل و الإمكانيات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 algn="r" rtl="1">
              <a:spcBef>
                <a:spcPts val="6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مل على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ويل المشروع إلى إنتاج ملمو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9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4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9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4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9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مؤسسة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: التوقيت المناس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ستعدا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و نضج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مؤسسة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ندراج المشروع في إطار إستراتجية عامة للتغيي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رؤية واضحة للمستقب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عامة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ستراتجية ل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قام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ؤسسة 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سج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ع إستراتجية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-217080" algn="r" rtl="1">
              <a:spcBef>
                <a:spcPts val="45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ف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جج محسوسة و ملموسة لتنفيذ المشروع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54440" indent="0" algn="r" rtl="1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7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دور المركزي لرئيس ا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يتمحور حول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استراتيجي:الالتزام, الابتكار, الاستش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جان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اندماج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ت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نش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ط الأطراف الفاعل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شيط فريق العم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شراكة الكفاءات و الخبر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جانب التنسيقي:تنسيق الإمكانيات و الوسائل ومتابعة النتائ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و متابعة التخطيط و آلية التخطيط و الموازن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تخاذ القرارات الخاصة بالنوعية و الكلفة و الآجا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ظيم العمل و توزيع الأنشط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الوسائ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0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5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0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5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0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5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80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r>
              <a:rPr b="0" lang="ar-S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المواصفات المثالية لفريق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كفاءات: التقنية و التسيير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مسار الشخصيات: الابتكار/الدق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كامل الرؤى: المركز الاجتماعي/الفروع, الشباب/الكهو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قاسم العزيمة لحسن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ستقلالية الأعضا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تفر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3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8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23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هيكلة المشرو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عناصر النجا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وزيع الأدوار بطريقة واضحة و صريح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ديد المدة المخصصة للمشروع بصفة رس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نمية المسؤولية المزدوجة: الأفقي/العمود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1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عوامل النجاح في مستوى المشروع: الوسائل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اللازم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وفير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مال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بشرية: الموجودة داخل المؤسسة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أو لدى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مسدي الخدمات الأجانب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وسائل و الإسناد الماد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خصيص الموار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ؤكد عزيمة المؤسسة تجاه تنفيذ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عطي مصداقية للمشروع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إلى فريق 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6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7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4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8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4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قيادة المشروع هي ذهنية و ثقافة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إتباع تقنية الخطوات الصغير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عتماد التمشي المبني على التجارب و الأخطاء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خي دورة التقدم المتواص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التخطيط←التحقيق←التثبت←التصويب←التخطيط....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قبل الشروع في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إعداد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نطلاق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خلال تنفيذ المشرو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- مخطط التواص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شريك و المتابع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حضير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تدريب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التجرب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- الاقل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4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75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0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ثال تطبيقي: قيادة التغيير من خلال مشروع إقامة نظام إعلامية جديد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د تنفيذ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دخول المشروع طور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متابعة الانتا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03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مقدمة: التغيير و قيادة التغيير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" هي حالة من يتطور و يتبدل و لا يبقى على ح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" لا وجود إلا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تغيير الذي لا يتغير”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وهو ما يتجلى في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ت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و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مشاريع التغيي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واصل ا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حركية في المؤسس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النفور من التغيير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أمر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طبيعي نظرا لما يسببه من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غمو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 ركوب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مخاط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ضطراب في العادات و التوازن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٭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زوم 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لجه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TN" sz="4400" spc="-1" strike="noStrike">
                <a:solidFill>
                  <a:srgbClr val="ffffcc"/>
                </a:solidFill>
                <a:latin typeface="Tahoma"/>
              </a:rPr>
              <a:t>خلاص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نجاح في الجانب التقني يمثل الجزء الاسهل لأن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هيكلي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- كل مشروع إعلامية يترتب عنه تغيير يهم الجانب البشر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6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1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التغيير أو ما يعبر عنه من  " فن حث الأرانب على القفز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"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 النجاح في إستراتجية التغيير يعني: التوصل إلى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حث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كل الأرانب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ق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وقت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مكان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في الاتجاه المناس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عض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برر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فشل مشاريع الإعلام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رد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ئة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واصل بين المتدخل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غياب الوضوح في الأهداف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,غياب دراسة الجدوى وضبابية المواصف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سوء تقدير الكلفة و المخاط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قلة المتابعة الدو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● محدودية تجربة رئيس المشرو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تفيد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عض الأرقام: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على سبيل الذكر لا على سبيل الحصر أن على معد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00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شرو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برمجت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ه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تتوزع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ال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نسبة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 كما يل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أهداف واضحة و كلفة محددة و مدة معينة و نوعية مبين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5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بتجاوز في الموازنة و تجاوز في الآج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%3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 من المشاريع </a:t>
            </a:r>
            <a:r>
              <a:rPr b="0" lang="ar-TN" sz="32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تم إهمال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أهمية قيادة التغيير في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 إنجاز 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مشاريع الأنظمة الإعلامية</a:t>
            </a:r>
            <a:r>
              <a:rPr b="0" lang="fr-FR" sz="40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56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←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بين ال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نتجين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مستعم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ي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أنظمة في إطار المشاريع الإعلامية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شروع: المستعملون ه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المعبرون عن الحاجة و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طالبون للانظم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و هم المستغلون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برمج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بالنسبة لإدار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نفيذ: منفذو الأشغال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و منتجو البرمجية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هم مهندسو و تقنيو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← أهداف قيادة التغيير في مشاريع الاعلام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من م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كابح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تغيير 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ل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حد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ن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(الفصل/ا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تلازم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) الخاصة بالمشاري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ahoma"/>
              </a:rPr>
              <a:t>تحليل استراتيجي</a:t>
            </a:r>
            <a:r>
              <a:rPr b="0" lang="fr-FR" sz="4400" spc="-1" strike="noStrike">
                <a:solidFill>
                  <a:srgbClr val="ffffff"/>
                </a:solidFill>
                <a:latin typeface="Tahoma"/>
                <a:ea typeface="宋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تحليل تأثيرات المشروع و الخوف المتولد عن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متدخل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حديد التأثيرات و الرهانات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دراسة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العراقيل التي تحول دون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بشر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فن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لعراقيل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التنظيمي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تحقيق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مخطط </a:t>
            </a:r>
            <a:r>
              <a:rPr b="0" lang="ar-TN" sz="2400" spc="-1" strike="noStrike">
                <a:solidFill>
                  <a:srgbClr val="ffffff"/>
                </a:solidFill>
                <a:latin typeface="Tahoma"/>
              </a:rPr>
              <a:t>قيادة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التغيي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تشخيص المتدخلين الحاضر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ا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عداد</a:t>
            </a:r>
            <a:r>
              <a:rPr b="0" lang="ar-SA" sz="2000" spc="-1" strike="noStrike">
                <a:solidFill>
                  <a:srgbClr val="ffffff"/>
                </a:solidFill>
                <a:latin typeface="Tahoma"/>
              </a:rPr>
              <a:t> مخطط قيادة التغيي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000" spc="-1" strike="noStrike">
                <a:solidFill>
                  <a:srgbClr val="ffffff"/>
                </a:solidFill>
                <a:latin typeface="Tahoma"/>
              </a:rPr>
              <a:t>- احتواء المعارضين قبل الاو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0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5" dur="5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تحليل تأثيرات المشروع و الخوف الم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ازم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ل</a:t>
            </a:r>
            <a:r>
              <a:rPr b="1" lang="ar-SA" sz="4000" spc="-1" strike="noStrike">
                <a:solidFill>
                  <a:srgbClr val="ffffcc"/>
                </a:solidFill>
                <a:latin typeface="Tahoma"/>
              </a:rPr>
              <a:t>ه</a:t>
            </a:r>
            <a:r>
              <a:rPr b="1" lang="ar-TN" sz="4000" spc="-1" strike="noStrike">
                <a:solidFill>
                  <a:srgbClr val="ffffcc"/>
                </a:solidFill>
                <a:latin typeface="Tahoma"/>
              </a:rPr>
              <a:t>: معطيات عامة</a:t>
            </a: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7692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معرفة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المتدخلين (نظرة فردية و نظرة جماعية)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ن هم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الأشخاص أصحاب العلاقة بالمشرو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حليل الرهانات 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المتعلقة ب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كل متدخ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ا هو ربح و ما هي خسارة كل متدخل وهو ما يمكن من معرفة 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شخيص القوى المتواجدة:من مع المشروع و من ضده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من هم الحلفاء من هم المعارضون و من هم المحايدو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تصور ردود الفعل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للاستبا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ماهي  مواقف و حجج مختلف الاطرا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913040" indent="-21240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وضع الفرضيات و تصور السيناريوه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ar-T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● و الآن ماذا أفع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8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3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8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8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4:02:47Z</dcterms:created>
  <dc:creator>supcom</dc:creator>
  <dc:description/>
  <dc:language>en-US</dc:language>
  <cp:lastModifiedBy>supcom</cp:lastModifiedBy>
  <dcterms:modified xsi:type="dcterms:W3CDTF">2005-10-14T08:59:12Z</dcterms:modified>
  <cp:revision>15</cp:revision>
  <dc:subject/>
  <dc:title>قيادة التغيير</dc:title>
</cp:coreProperties>
</file>