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7.jpeg" ContentType="image/jpeg"/>
  <Override PartName="/ppt/media/image6.png" ContentType="image/png"/>
  <Override PartName="/ppt/media/image14.wmf" ContentType="image/x-wmf"/>
  <Override PartName="/ppt/media/image15.jpeg" ContentType="image/jpeg"/>
  <Override PartName="/ppt/media/image13.png" ContentType="image/png"/>
  <Override PartName="/ppt/media/image12.wmf" ContentType="image/x-wmf"/>
  <Override PartName="/ppt/media/chimes.wav" ContentType="audio/x-wav"/>
  <Override PartName="/ppt/media/image8.png" ContentType="image/png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camera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E1B3-64F8-4A86-93B8-3A34B86EB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E138-59AF-4A38-8C49-18A6644F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C362-D69B-4798-98D1-266D9D5F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3F0D-4A61-4B28-AF0B-D0BD7532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6B8F-B540-4CF4-A09D-032B63AE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CADF-7545-4D90-A5E4-D072BC42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A414-3DE1-460C-8163-582A9B16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4CB2-D27A-4647-817B-7C6928DC1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CFA9-BEE5-4135-B002-43461865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604E-EB22-4FB1-B5AD-58B27AB7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C18E-CABB-4978-8F8F-AF1B02B9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6C51-415D-44D7-B366-CCE65EF6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E0DE-AD52-4CD8-83BE-AC26BE29B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2.wmf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2120" y="493560"/>
            <a:ext cx="6979680" cy="3849840"/>
            <a:chOff x="762120" y="493560"/>
            <a:chExt cx="6979680" cy="38498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762120" y="493560"/>
              <a:ext cx="4267080" cy="384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3047760" y="609480"/>
              <a:ext cx="4694040" cy="2362320"/>
            </a:xfrm>
            <a:prstGeom prst="rect">
              <a:avLst/>
            </a:prstGeom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</p:pic>
      </p:grpSp>
      <p:sp>
        <p:nvSpPr>
          <p:cNvPr id="44" name=""/>
          <p:cNvSpPr/>
          <p:nvPr/>
        </p:nvSpPr>
        <p:spPr>
          <a:xfrm>
            <a:off x="1752480" y="4572000"/>
            <a:ext cx="5181840" cy="2286000"/>
          </a:xfrm>
          <a:prstGeom prst="horizontalScroll">
            <a:avLst>
              <a:gd name="adj" fmla="val 125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دكتور / علي محمد عبد الوها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أستاذ إدارة الأعما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كلية التجارة – جامعة عين شم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886200"/>
            <a:ext cx="731520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إدارة والتخطيط الإستراتيج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523880" y="1600200"/>
            <a:ext cx="6477120" cy="3560760"/>
          </a:xfrm>
          <a:prstGeom prst="rect">
            <a:avLst/>
          </a:prstGeom>
          <a:solidFill>
            <a:srgbClr val="cccc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61160" y="2595600"/>
            <a:ext cx="963720" cy="210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0000"/>
                </a:solidFill>
                <a:uFillTx/>
                <a:latin typeface="Simplified Arabic"/>
                <a:cs typeface="Simplified Arabic"/>
              </a:rPr>
              <a:t>البيئــ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 (Arabic)"/>
                <a:cs typeface="Times New Roman (Arabic)"/>
              </a:rPr>
              <a:t>اقتصاد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 (Arabic)"/>
                <a:cs typeface="Times New Roman (Arabic)"/>
              </a:rPr>
              <a:t>اجتماع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 (Arabic)"/>
                <a:cs typeface="Times New Roman (Arabic)"/>
              </a:rPr>
              <a:t>تكنولوج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 (Arabic)"/>
                <a:cs typeface="Times New Roman (Arabic)"/>
              </a:rPr>
              <a:t>تعليم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 (Arabic)"/>
                <a:cs typeface="Times New Roman (Arabic)"/>
              </a:rPr>
              <a:t>قانون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00360" y="2620800"/>
            <a:ext cx="963360" cy="210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3333cc"/>
                </a:solidFill>
                <a:uFillTx/>
                <a:latin typeface="Simplified Arabic"/>
                <a:cs typeface="Simplified Arabic"/>
              </a:rPr>
              <a:t>البيئــ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Times New Roman (Arabic)"/>
                <a:cs typeface="Times New Roman (Arabic)"/>
              </a:rPr>
              <a:t>اقتصاد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Times New Roman (Arabic)"/>
                <a:cs typeface="Times New Roman (Arabic)"/>
              </a:rPr>
              <a:t>اجتماع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Times New Roman (Arabic)"/>
                <a:cs typeface="Times New Roman (Arabic)"/>
              </a:rPr>
              <a:t>تكنولوج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Times New Roman (Arabic)"/>
                <a:cs typeface="Times New Roman (Arabic)"/>
              </a:rPr>
              <a:t>تعليم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Times New Roman (Arabic)"/>
                <a:cs typeface="Times New Roman (Arabic)"/>
              </a:rPr>
              <a:t>قانون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245200" y="1863720"/>
            <a:ext cx="963360" cy="792000"/>
            <a:chOff x="5245200" y="1863720"/>
            <a:chExt cx="963360" cy="792000"/>
          </a:xfrm>
        </p:grpSpPr>
        <p:sp>
          <p:nvSpPr>
            <p:cNvPr id="225" name=""/>
            <p:cNvSpPr/>
            <p:nvPr/>
          </p:nvSpPr>
          <p:spPr>
            <a:xfrm>
              <a:off x="5245200" y="1863720"/>
              <a:ext cx="963360" cy="79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82720" y="1995480"/>
              <a:ext cx="688320" cy="528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Times New Roman (Arabic)"/>
                  <a:cs typeface="Times New Roman (Arabic)"/>
                </a:rPr>
                <a:t>هد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2895480" y="1995480"/>
            <a:ext cx="1405080" cy="554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 (Arabic)"/>
                <a:cs typeface="Times New Roman (Arabic)"/>
              </a:rPr>
              <a:t>الإدا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83080" y="3446640"/>
            <a:ext cx="846360" cy="5522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00"/>
                </a:solidFill>
                <a:latin typeface="Times New Roman (Arabic)"/>
                <a:cs typeface="Times New Roman (Arabic)"/>
              </a:rPr>
              <a:t>مدخلا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80040" y="3446640"/>
            <a:ext cx="847440" cy="55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 (Arabic)"/>
                <a:cs typeface="Times New Roman (Arabic)"/>
              </a:rPr>
              <a:t>عملي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78080" y="3446640"/>
            <a:ext cx="846360" cy="552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مخرج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6208200" y="371016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106600" y="3710160"/>
            <a:ext cx="276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005000" y="371016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763360" y="3710160"/>
            <a:ext cx="41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80040" y="2259000"/>
            <a:ext cx="965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41800" y="2523960"/>
            <a:ext cx="1654200" cy="92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41800" y="2523960"/>
            <a:ext cx="552600" cy="92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895480" y="3733920"/>
            <a:ext cx="3527640" cy="768240"/>
            <a:chOff x="2895480" y="3733920"/>
            <a:chExt cx="3527640" cy="768240"/>
          </a:xfrm>
        </p:grpSpPr>
        <p:grpSp>
          <p:nvGrpSpPr>
            <p:cNvPr id="239" name=""/>
            <p:cNvGrpSpPr/>
            <p:nvPr/>
          </p:nvGrpSpPr>
          <p:grpSpPr>
            <a:xfrm>
              <a:off x="5796000" y="3733920"/>
              <a:ext cx="627120" cy="768240"/>
              <a:chOff x="5796000" y="3733920"/>
              <a:chExt cx="627120" cy="768240"/>
            </a:xfrm>
          </p:grpSpPr>
          <p:sp>
            <p:nvSpPr>
              <p:cNvPr id="240" name=""/>
              <p:cNvSpPr/>
              <p:nvPr/>
            </p:nvSpPr>
            <p:spPr>
              <a:xfrm flipH="1">
                <a:off x="5796000" y="4495680"/>
                <a:ext cx="60480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6423120" y="3733920"/>
                <a:ext cx="0" cy="76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895480" y="3733920"/>
              <a:ext cx="2895120" cy="761400"/>
              <a:chOff x="2895480" y="3733920"/>
              <a:chExt cx="2895120" cy="761400"/>
            </a:xfrm>
          </p:grpSpPr>
          <p:sp>
            <p:nvSpPr>
              <p:cNvPr id="243" name=""/>
              <p:cNvSpPr/>
              <p:nvPr/>
            </p:nvSpPr>
            <p:spPr>
              <a:xfrm>
                <a:off x="2895480" y="4489200"/>
                <a:ext cx="28951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895480" y="3733920"/>
                <a:ext cx="0" cy="75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pull dir="ld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80880" y="1905120"/>
            <a:ext cx="8080560" cy="9144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) تتقدم المجتمعات عن طريق المنظمات التي تضيف ” القيمة ”</a:t>
            </a:r>
            <a:br>
              <a:rPr sz="2800"/>
            </a:b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    وتحقق التقدم الاقتصادى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685800"/>
            <a:ext cx="7162920" cy="11912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مفاهيم الأساسية للإدارة والتخطيط الإستراتيج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1680" y="3505320"/>
            <a:ext cx="816768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) ت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دم المنظمات يعتمد علي جودة الإدار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3120" y="5105520"/>
            <a:ext cx="815508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(</a:t>
            </a: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3</a:t>
            </a: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) أساس أنشطة المنظمة هو </a:t>
            </a:r>
            <a:r>
              <a:rPr b="1" lang="ar-SA" sz="28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العقد الأخلاقي</a:t>
            </a: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– المسئولية المشتركة</a:t>
            </a:r>
            <a:br>
              <a:rPr sz="2800"/>
            </a:b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بين العاملين والإدارة والمجتم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914400" y="1905120"/>
            <a:ext cx="75438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1143000"/>
            <a:ext cx="0" cy="472428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2952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لكفاءة السا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1295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الكفاءة الدينام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05520" y="20160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Times New Roman"/>
                <a:ea typeface="Times New Roman (Arabic)"/>
              </a:rPr>
              <a:t>- الاستغلال الأمثل للموارد المتاح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66680" y="205740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- اضافة القيمة – منتجات / خدمات جديد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29200" y="27432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Times New Roman"/>
                <a:ea typeface="Times New Roman (Arabic)"/>
              </a:rPr>
              <a:t>- خفض التكالي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66680" y="2819520"/>
            <a:ext cx="381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- تبادل المنافع بين المنظمة والمجتم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066680" y="365760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- العمل الجماع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29200" y="36576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Times New Roman"/>
                <a:ea typeface="Times New Roman (Arabic)"/>
              </a:rPr>
              <a:t>- تحسين الإنتاج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66680" y="447984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- الرقابة الذات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29200" y="447984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لرقابة علي العامل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524196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- المبادأة والابتكا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50000">
              <a:srgbClr val="dcebf5"/>
            </a:gs>
            <a:gs pos="100000">
              <a:srgbClr val="55261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295280" y="76320"/>
            <a:ext cx="746784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منظمات المتوافق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38080" y="129528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cs typeface="Simplified Arabic"/>
              </a:rPr>
              <a:t>تتميز بالتكيف مع البيئة المحيط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8080" y="243828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دي اعضائها ” حدس اجتماعي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342900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cs typeface="Simplified Arabic"/>
              </a:rPr>
              <a:t>التوجه بالنتائ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080" y="449568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وجهات نظر مخ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ت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فة لتحسين الإستراتيج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548640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رق عمل متعاون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990720" y="1295280"/>
            <a:ext cx="7315200" cy="914400"/>
          </a:xfrm>
          <a:prstGeom prst="flowChartTerminator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تعديل الهيكل التنظيمي حسب الأهدا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90720" y="2438280"/>
            <a:ext cx="7315200" cy="9144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توقع التغيرات والاستعداد لها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90720" y="3581280"/>
            <a:ext cx="7315200" cy="914400"/>
          </a:xfrm>
          <a:prstGeom prst="flowChartTermina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cs typeface="Simplified Arabic"/>
              </a:rPr>
              <a:t>عدم الاطمئنان للتوازن الساك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90720" y="4648320"/>
            <a:ext cx="7315200" cy="914400"/>
          </a:xfrm>
          <a:prstGeom prst="flowChartTerminator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رصد كافة المتغيرات ودرجات تأثير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791320"/>
            <a:ext cx="7315200" cy="914400"/>
          </a:xfrm>
          <a:prstGeom prst="flowChartTermina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حسين التدريجي المستم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066680" y="76320"/>
            <a:ext cx="746784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منظمات المتوافق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5105520" y="3809880"/>
            <a:ext cx="3200400" cy="80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الموقف الحالي للمنظ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3809880"/>
            <a:ext cx="3200400" cy="80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وضع المأم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257800" y="5486400"/>
            <a:ext cx="3200400" cy="800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التغيرات الجارية في البيئ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5486400"/>
            <a:ext cx="3200400" cy="800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أساليب العمل الملائمة </a:t>
            </a:r>
            <a:br>
              <a:rPr sz="2000"/>
            </a:b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لتحقيق الأهدا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71800" y="4648320"/>
            <a:ext cx="3200400" cy="79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أهداف المنظ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47920" y="76320"/>
            <a:ext cx="6495840" cy="838080"/>
          </a:xfrm>
          <a:prstGeom prst="flowChartMultidocumen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إدارة الإستراتيج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90720" y="1066680"/>
            <a:ext cx="7315200" cy="990720"/>
          </a:xfrm>
          <a:custGeom>
            <a:avLst/>
            <a:gdLst>
              <a:gd name="textAreaLeft" fmla="*/ 0 w 7315200"/>
              <a:gd name="textAreaRight" fmla="*/ 7315560 w 731520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عملية تشكيل الإستراتيجيات وتنفيذها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1905120"/>
            <a:ext cx="7315200" cy="990360"/>
          </a:xfrm>
          <a:custGeom>
            <a:avLst/>
            <a:gdLst>
              <a:gd name="textAreaLeft" fmla="*/ 0 w 7315200"/>
              <a:gd name="textAreaRight" fmla="*/ 7315560 w 7315200"/>
              <a:gd name="textAreaTop" fmla="*/ 128160 h 990360"/>
              <a:gd name="textAreaBottom" fmla="*/ 862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مجموعة القرارات والأفعال للتعامل مع المتغيرات البيئ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90720" y="2743200"/>
            <a:ext cx="7315200" cy="990720"/>
          </a:xfrm>
          <a:custGeom>
            <a:avLst/>
            <a:gdLst>
              <a:gd name="textAreaLeft" fmla="*/ 0 w 7315200"/>
              <a:gd name="textAreaRight" fmla="*/ 7315560 w 731520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Times New Roman (Arabic)"/>
              </a:rPr>
              <a:t>* عملية تحليل وتقييم واستشراف لـ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2" name="chimes.wav"/>
          </p:stSnd>
        </p:sndAc>
      </p:transition>
    </mc:Choice>
    <mc:Fallback>
      <p:transition spd="slow">
        <p:sndAc>
          <p:stSnd>
            <p:snd r:embed="rId2" name="chimes.wav"/>
          </p:stSnd>
        </p:sndAc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5466960" y="1219320"/>
            <a:ext cx="2000520" cy="3429000"/>
            <a:chOff x="5466960" y="1219320"/>
            <a:chExt cx="2000520" cy="3429000"/>
          </a:xfrm>
        </p:grpSpPr>
        <p:sp>
          <p:nvSpPr>
            <p:cNvPr id="284" name=""/>
            <p:cNvSpPr/>
            <p:nvPr/>
          </p:nvSpPr>
          <p:spPr>
            <a:xfrm>
              <a:off x="5715000" y="1219320"/>
              <a:ext cx="1752480" cy="34290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5466960" y="2895480"/>
              <a:ext cx="228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6210360" y="1523880"/>
              <a:ext cx="685800" cy="2743200"/>
              <a:chOff x="6210360" y="1523880"/>
              <a:chExt cx="685800" cy="2743200"/>
            </a:xfrm>
          </p:grpSpPr>
          <p:sp>
            <p:nvSpPr>
              <p:cNvPr id="287" name=""/>
              <p:cNvSpPr/>
              <p:nvPr/>
            </p:nvSpPr>
            <p:spPr>
              <a:xfrm>
                <a:off x="6553080" y="1523880"/>
                <a:ext cx="0" cy="2743200"/>
              </a:xfrm>
              <a:prstGeom prst="line">
                <a:avLst/>
              </a:prstGeom>
              <a:ln cap="rnd" w="381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210360" y="1981080"/>
                <a:ext cx="685800" cy="167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66"/>
                    </a:solidFill>
                    <a:latin typeface="Times New Roman"/>
                  </a:rPr>
                  <a:t>ق</a:t>
                </a:r>
                <a:br>
                  <a:rPr sz="2400"/>
                </a:br>
                <a:r>
                  <a:rPr b="1" lang="ar-SA" sz="2400" spc="-1" strike="noStrike">
                    <a:solidFill>
                      <a:srgbClr val="000066"/>
                    </a:solidFill>
                    <a:latin typeface="Times New Roman"/>
                  </a:rPr>
                  <a:t>ض</a:t>
                </a: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66"/>
                    </a:solidFill>
                    <a:latin typeface="Times New Roman"/>
                  </a:rPr>
                  <a:t>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66"/>
                    </a:solidFill>
                    <a:latin typeface="Times New Roman"/>
                  </a:rPr>
                  <a:t>ت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9" name=""/>
          <p:cNvSpPr/>
          <p:nvPr/>
        </p:nvSpPr>
        <p:spPr>
          <a:xfrm>
            <a:off x="2133720" y="6095880"/>
            <a:ext cx="4876560" cy="52056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إدارة والتخطيط الإستراتيج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05520" y="228600"/>
            <a:ext cx="3047760" cy="398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تشكيل الإستراتيج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96080" y="1371600"/>
            <a:ext cx="1295640" cy="3200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</a:rPr>
              <a:t>تحليل ومراجعة</a:t>
            </a:r>
            <a:br>
              <a:rPr sz="1800"/>
            </a:br>
            <a:br>
              <a:rPr sz="1800"/>
            </a:b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* الرؤية</a:t>
            </a:r>
            <a:br>
              <a:rPr sz="1800"/>
            </a:b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* القيم</a:t>
            </a:r>
            <a:br>
              <a:rPr sz="1800"/>
            </a:b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* الرسالة</a:t>
            </a:r>
            <a:br>
              <a:rPr sz="1800"/>
            </a:b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* الأهداف</a:t>
            </a:r>
            <a:br>
              <a:rPr sz="1800"/>
            </a:b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* الإستراتيجية</a:t>
            </a:r>
            <a:br>
              <a:rPr sz="1800"/>
            </a:b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   الح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91120" y="1371600"/>
            <a:ext cx="1218960" cy="32004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 u="sng">
                <a:solidFill>
                  <a:srgbClr val="ffff00"/>
                </a:solidFill>
                <a:uFillTx/>
                <a:latin typeface="Times New Roman"/>
              </a:rPr>
              <a:t>وضع الإستراتيجية</a:t>
            </a:r>
            <a:br>
              <a:rPr sz="1400"/>
            </a:br>
            <a:r>
              <a:rPr b="0" lang="ar-SA" sz="1800" spc="-1" strike="noStrike">
                <a:solidFill>
                  <a:srgbClr val="ffff00"/>
                </a:solidFill>
                <a:latin typeface="Times New Roman"/>
              </a:rPr>
              <a:t>الكلية</a:t>
            </a:r>
            <a:br>
              <a:rPr sz="1800"/>
            </a:br>
            <a:r>
              <a:rPr b="0" lang="ar-SA" sz="1800" spc="-1" strike="noStrike" u="sng">
                <a:solidFill>
                  <a:srgbClr val="ffff00"/>
                </a:solidFill>
                <a:uFillTx/>
                <a:latin typeface="Times New Roman"/>
              </a:rPr>
              <a:t>(</a:t>
            </a:r>
            <a:r>
              <a:rPr b="0" lang="ar-SA" sz="1800" spc="-1" strike="noStrike">
                <a:solidFill>
                  <a:srgbClr val="ffff00"/>
                </a:solidFill>
                <a:latin typeface="Times New Roman"/>
              </a:rPr>
              <a:t>المنظمة)</a:t>
            </a:r>
            <a:br>
              <a:rPr sz="1800"/>
            </a:br>
            <a:r>
              <a:rPr b="0" lang="ar-SA" sz="1800" spc="-1" strike="noStrike">
                <a:solidFill>
                  <a:srgbClr val="ffff00"/>
                </a:solidFill>
                <a:latin typeface="Times New Roman"/>
              </a:rPr>
              <a:t>الفرعية</a:t>
            </a:r>
            <a:br>
              <a:rPr sz="1800"/>
            </a:br>
            <a:r>
              <a:rPr b="0" lang="ar-SA" sz="1800" spc="-1" strike="noStrike">
                <a:solidFill>
                  <a:srgbClr val="ffff00"/>
                </a:solidFill>
                <a:latin typeface="Times New Roman"/>
              </a:rPr>
              <a:t>(الوحدة)</a:t>
            </a:r>
            <a:br>
              <a:rPr sz="1800"/>
            </a:br>
            <a:r>
              <a:rPr b="0" lang="ar-SA" sz="1800" spc="-1" strike="noStrike">
                <a:solidFill>
                  <a:srgbClr val="ffff00"/>
                </a:solidFill>
                <a:latin typeface="Times New Roman"/>
              </a:rPr>
              <a:t>التشغيلية</a:t>
            </a:r>
            <a:br>
              <a:rPr sz="1800"/>
            </a:br>
            <a:r>
              <a:rPr b="0" lang="ar-SA" sz="1800" spc="-1" strike="noStrike">
                <a:solidFill>
                  <a:srgbClr val="ffff00"/>
                </a:solidFill>
                <a:latin typeface="Times New Roman"/>
              </a:rPr>
              <a:t>(الوظيفة</a:t>
            </a:r>
            <a:r>
              <a:rPr b="0" lang="ar-SA" sz="1800" spc="-1" strike="noStrike" u="sng">
                <a:solidFill>
                  <a:srgbClr val="ffff00"/>
                </a:solidFill>
                <a:uFillTx/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19320" y="1371600"/>
            <a:ext cx="990360" cy="32004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0000"/>
                </a:solidFill>
                <a:uFillTx/>
                <a:latin typeface="Times New Roman"/>
              </a:rPr>
              <a:t>الرقابة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Times New Roman"/>
              </a:rPr>
              <a:t>تقوي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Times New Roman"/>
              </a:rPr>
              <a:t>النتائ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Times New Roman"/>
              </a:rPr>
              <a:t>مراجع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Times New Roman"/>
              </a:rPr>
              <a:t>الإستراتيج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320" y="1371600"/>
            <a:ext cx="83808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0000"/>
                </a:solidFill>
                <a:latin typeface="Times New Roman"/>
              </a:rPr>
              <a:t>تجديد</a:t>
            </a:r>
            <a:r>
              <a:rPr b="0" lang="ar-SA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0000"/>
                </a:solidFill>
                <a:latin typeface="Times New Roman"/>
              </a:rPr>
              <a:t>الإستراتيج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29480" y="838080"/>
            <a:ext cx="15238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تحليل البيئة الداخلية</a:t>
            </a:r>
            <a:br>
              <a:rPr sz="1600"/>
            </a:br>
            <a:r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(القوة والضعف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96000" y="4267080"/>
            <a:ext cx="1523880" cy="685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00"/>
                </a:solidFill>
                <a:latin typeface="Times New Roman"/>
              </a:rPr>
              <a:t>تحليل البيئة الخارجية</a:t>
            </a:r>
            <a:br>
              <a:rPr sz="1600"/>
            </a:br>
            <a:r>
              <a:rPr b="0" lang="ar-SA" sz="1600" spc="-1" strike="noStrike">
                <a:solidFill>
                  <a:srgbClr val="ffff00"/>
                </a:solidFill>
                <a:latin typeface="Times New Roman"/>
              </a:rPr>
              <a:t>(الفرص والتهديدات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467120" y="2895480"/>
            <a:ext cx="228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362320" y="1369800"/>
            <a:ext cx="1509480" cy="3429000"/>
            <a:chOff x="2362320" y="1369800"/>
            <a:chExt cx="1509480" cy="3429000"/>
          </a:xfrm>
        </p:grpSpPr>
        <p:sp>
          <p:nvSpPr>
            <p:cNvPr id="299" name=""/>
            <p:cNvSpPr/>
            <p:nvPr/>
          </p:nvSpPr>
          <p:spPr>
            <a:xfrm>
              <a:off x="2362320" y="1371600"/>
              <a:ext cx="1447560" cy="3200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التطبيق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</a:rPr>
                <a:t>* حشد الموارد</a:t>
              </a:r>
              <a:br>
                <a:rPr sz="1600"/>
              </a:b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</a:rPr>
                <a:t>* استغلال </a:t>
              </a:r>
              <a:br>
                <a:rPr sz="1600"/>
              </a:b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</a:rPr>
                <a:t>    الإمكانات</a:t>
              </a:r>
              <a:br>
                <a:rPr sz="1600"/>
              </a:b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</a:rPr>
                <a:t>* الأنظمة</a:t>
              </a:r>
              <a:br>
                <a:rPr sz="1600"/>
              </a:b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</a:rPr>
                <a:t>* الممارسا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6200000">
              <a:off x="1973160" y="290016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0000"/>
                  </a:solidFill>
                  <a:latin typeface="Times New Roman"/>
                </a:rPr>
                <a:t>تخطيط    تنظيم   قيادة   رقاب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4038480" y="304920"/>
            <a:ext cx="0" cy="556236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66680" y="304920"/>
            <a:ext cx="0" cy="556236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23880" y="304920"/>
            <a:ext cx="2133720" cy="703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</a:rPr>
              <a:t>تنفيذ الإستراتيج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2280" y="304920"/>
            <a:ext cx="83844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</a:rPr>
              <a:t>التطوي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33520" y="4591080"/>
            <a:ext cx="8001000" cy="685800"/>
            <a:chOff x="533520" y="4591080"/>
            <a:chExt cx="8001000" cy="685800"/>
          </a:xfrm>
        </p:grpSpPr>
        <p:sp>
          <p:nvSpPr>
            <p:cNvPr id="306" name=""/>
            <p:cNvSpPr/>
            <p:nvPr/>
          </p:nvSpPr>
          <p:spPr>
            <a:xfrm>
              <a:off x="533520" y="5257800"/>
              <a:ext cx="800100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2600" y="4591080"/>
              <a:ext cx="0" cy="6858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515440" y="4591080"/>
              <a:ext cx="0" cy="6858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400800" y="1295280"/>
            <a:ext cx="2133720" cy="83844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رؤ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152280"/>
            <a:ext cx="8077320" cy="1067040"/>
          </a:xfrm>
          <a:prstGeom prst="flowChartMultidocumen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تحليل الرؤية والرسالة وتحديد الأهداف والإستراتيج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28680" y="220968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- كيف ستكون المنظمة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19320" y="297180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- ما هي الخدمات / المنتجات التي تقدمها للعملاء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9320" y="365760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ea typeface="Times New Roman (Arabic)"/>
              </a:rPr>
              <a:t>- من هم أهم العملاء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19320" y="434340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- نواحي التمي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502920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ea typeface="Times New Roman (Arabic)"/>
              </a:rPr>
              <a:t>- نصيب المنظمة في السو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3520" y="14479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حلم الغد ، بوصلة المستقبل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6400800" y="1295280"/>
            <a:ext cx="213372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الرؤ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" y="152280"/>
            <a:ext cx="8077320" cy="1067040"/>
          </a:xfrm>
          <a:prstGeom prst="flowChartMultidocumen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تحليل الرؤية والرسالة وتحديد الأهداف والإستراتيج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28680" y="220968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- ترتيب المنظمة مع المنظمات الأخر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219320" y="289548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- التطوير المستقب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19320" y="358128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cs typeface="Times New Roman (Arabic)"/>
              </a:rPr>
              <a:t>الإنجازات المتوق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19320" y="426708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آفاق الجديد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14479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حلم الغد ، بوصلة المستقبل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705720" y="4876920"/>
            <a:ext cx="1600200" cy="121896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فلسفة 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منظم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67120" y="4876920"/>
            <a:ext cx="1600200" cy="12189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مجال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عمال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71640" y="4876920"/>
            <a:ext cx="1600200" cy="121896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طوائف الت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تخدم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2152800"/>
            <a:ext cx="6553440" cy="81900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المهمة الرئيسية ... الغرض من وجود المنظمة 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3219480"/>
            <a:ext cx="6553440" cy="819000"/>
          </a:xfrm>
          <a:prstGeom prst="bevel">
            <a:avLst>
              <a:gd name="adj" fmla="val 12500"/>
            </a:avLst>
          </a:prstGeom>
          <a:solidFill>
            <a:srgbClr val="000066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توضح الرسالة الجيدة 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267080" y="457200"/>
            <a:ext cx="4267440" cy="1219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رسا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086600" y="2971800"/>
            <a:ext cx="1295280" cy="1219320"/>
          </a:xfrm>
          <a:prstGeom prst="ellipse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الاستقر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971800"/>
            <a:ext cx="1295640" cy="1219320"/>
          </a:xfrm>
          <a:prstGeom prst="ellipse">
            <a:avLst/>
          </a:prstGeom>
          <a:solidFill>
            <a:srgbClr val="0000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66"/>
                </a:solidFill>
                <a:latin typeface="Times New Roman"/>
              </a:rPr>
              <a:t>القيا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86600" y="5257800"/>
            <a:ext cx="1295280" cy="12193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66"/>
                </a:solidFill>
                <a:latin typeface="Times New Roman"/>
              </a:rPr>
              <a:t>حل </a:t>
            </a:r>
            <a:br>
              <a:rPr sz="2400"/>
            </a:br>
            <a:r>
              <a:rPr b="1" lang="ar-SA" sz="2400" spc="-1" strike="noStrike">
                <a:solidFill>
                  <a:srgbClr val="ffff66"/>
                </a:solidFill>
                <a:latin typeface="Times New Roman"/>
              </a:rPr>
              <a:t>المشكل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5257800"/>
            <a:ext cx="1295640" cy="1219320"/>
          </a:xfrm>
          <a:prstGeom prst="ellipse">
            <a:avLst/>
          </a:prstGeom>
          <a:solidFill>
            <a:srgbClr val="cc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5029200"/>
            <a:ext cx="1295280" cy="1219320"/>
          </a:xfrm>
          <a:prstGeom prst="ellipse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66"/>
                </a:solidFill>
                <a:latin typeface="Times New Roman"/>
              </a:rPr>
              <a:t>التسبي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133720" y="3581280"/>
            <a:ext cx="4952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772400" y="4191120"/>
            <a:ext cx="0" cy="10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4191120"/>
            <a:ext cx="0" cy="10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771200" y="5581800"/>
            <a:ext cx="221004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95960" y="5619600"/>
            <a:ext cx="22096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228600"/>
            <a:ext cx="47242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فكر الإستراتيج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066680"/>
            <a:ext cx="7696080" cy="6858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* التفكير هو إعمال للعق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شغيل للطاقات الهائلة للمخ الإنسان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057400"/>
            <a:ext cx="7696080" cy="68580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* هناك خمسة أنواع للتفكير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838080" y="990720"/>
            <a:ext cx="7467840" cy="1143000"/>
          </a:xfrm>
          <a:prstGeom prst="horizontalScroll">
            <a:avLst>
              <a:gd name="adj" fmla="val 125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خصائص الرسالة الفعال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257800" y="2666880"/>
            <a:ext cx="335268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وجه للعمي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57800" y="4038480"/>
            <a:ext cx="335268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ستثارة التعاون</a:t>
            </a:r>
            <a:br>
              <a:rPr sz="2800"/>
            </a:b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بين الإدارة وا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2666880"/>
            <a:ext cx="335268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واقعية – القابلية للتحقي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" y="4038480"/>
            <a:ext cx="335268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مساعدة الإدارة للاختيار</a:t>
            </a:r>
            <a:br>
              <a:rPr sz="2800"/>
            </a:b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أفضل لبدائل تحقيقه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u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914400" y="2286000"/>
            <a:ext cx="6553080" cy="81900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جزء أساسي في ثقافة المنظم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14400" y="3409920"/>
            <a:ext cx="6553080" cy="81936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* تحدد ” شخصية ” المنظمة في نظر المتعاملين مع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" y="4419720"/>
            <a:ext cx="6553080" cy="8380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تعمل مرشداً لسلوك الإدارة والعاملين وعلاقاته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67480" y="228600"/>
            <a:ext cx="1295640" cy="2514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قي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685800" y="228600"/>
            <a:ext cx="8001000" cy="990720"/>
          </a:xfrm>
          <a:custGeom>
            <a:avLst/>
            <a:gdLst>
              <a:gd name="textAreaLeft" fmla="*/ 2000160 w 8001000"/>
              <a:gd name="textAreaRight" fmla="*/ 6000840 w 8001000"/>
              <a:gd name="textAreaTop" fmla="*/ 247680 h 990720"/>
              <a:gd name="textAreaBottom" fmla="*/ 961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أنواع القي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9480" y="1514520"/>
            <a:ext cx="8153640" cy="4886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2352600"/>
            <a:ext cx="815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3038400"/>
            <a:ext cx="815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3743280"/>
            <a:ext cx="815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9480" y="4486320"/>
            <a:ext cx="815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24280" y="1552680"/>
            <a:ext cx="0" cy="4848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958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</a:rPr>
              <a:t>بي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16002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</a:rPr>
              <a:t>الخصائص والفئ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23479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99"/>
                </a:solidFill>
                <a:latin typeface="Times New Roman"/>
              </a:rPr>
              <a:t>عند الباحثين والعلما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304812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99"/>
                </a:solidFill>
                <a:latin typeface="Times New Roman"/>
              </a:rPr>
              <a:t>عند اصحاب الأعمال – المنفعة والمكاس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38080" y="37861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99"/>
                </a:solidFill>
                <a:latin typeface="Times New Roman"/>
              </a:rPr>
              <a:t>عند المبدعين والفنان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452916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Times New Roman"/>
              </a:rPr>
              <a:t>الود ، التعاطف ، العلاقات الاجتماع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029200" y="24289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قيم نظرية علم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29200" y="31291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قيم اقتصاد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29200" y="38908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قيم ج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029200" y="4567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قيم اجتم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9480" y="5143680"/>
            <a:ext cx="815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38080" y="519588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99"/>
                </a:solidFill>
                <a:latin typeface="Times New Roman"/>
              </a:rPr>
              <a:t>المنافسة ، التفوق ، القيا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029200" y="514836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قيم سياس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480" y="5791320"/>
            <a:ext cx="815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38080" y="575784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لخير الدنيا والآخر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029200" y="58532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قيم دين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09480" y="2590920"/>
            <a:ext cx="8153640" cy="3733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324480" y="685800"/>
            <a:ext cx="2362320" cy="10666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الأهدا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76720" y="275760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الوقت ، الزمن المحد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727280" y="3443400"/>
            <a:ext cx="513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هل الهدف واقعي ، يمكن تحقيقه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828800" y="403848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دالة القياس : معايير الحكم علي النتائ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52480" y="4648320"/>
            <a:ext cx="513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imes New Roman"/>
                <a:cs typeface="Times New Roman (Arabic)"/>
              </a:rPr>
              <a:t>التركيز علي النتائج وليس الأنشط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784520" y="5288040"/>
            <a:ext cx="513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imes New Roman"/>
                <a:cs typeface="Times New Roman (Arabic)"/>
              </a:rPr>
              <a:t>الفائدة المرجوة : الجودة والتمي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10280" y="2666880"/>
            <a:ext cx="1295640" cy="3505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162920" y="281952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086600" y="33526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ه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86600" y="388620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457200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934320" y="525780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705720" y="5715000"/>
            <a:ext cx="1600200" cy="990720"/>
          </a:xfrm>
          <a:prstGeom prst="flowChartAlternateProcess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قوة </a:t>
            </a:r>
            <a:br>
              <a:rPr sz="2800"/>
            </a:b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تنافس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67120" y="5715000"/>
            <a:ext cx="1600200" cy="990720"/>
          </a:xfrm>
          <a:prstGeom prst="flowChartAlternate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القوة</a:t>
            </a:r>
            <a:br>
              <a:rPr sz="2800"/>
            </a:br>
            <a:r>
              <a:rPr b="1" lang="ar-SA" sz="28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التعاون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71640" y="5715000"/>
            <a:ext cx="1600200" cy="99072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قيمة 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مضا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1333440"/>
            <a:ext cx="6553440" cy="81936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Times New Roman (Arabic)"/>
              </a:rPr>
              <a:t>* هي المسار الرئيسي الذي تختاره الإدارة لتحقيق أهداف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2343240"/>
            <a:ext cx="6553440" cy="8190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هي سلسلة قرارات للتعامل مع المتغيرات المحيط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19920" y="0"/>
            <a:ext cx="2895480" cy="13716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إستراتيج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9480" y="3295800"/>
            <a:ext cx="6553440" cy="112392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خطة العمل التي تخصص الموارد المطلوب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و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تحدد الأنشطة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لازمة للتعامل مع البيئة المحيطة لتحقيق الأهداف المنشو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480" y="4648320"/>
            <a:ext cx="6553440" cy="819000"/>
          </a:xfrm>
          <a:prstGeom prst="bevel">
            <a:avLst>
              <a:gd name="adj" fmla="val 12500"/>
            </a:avLst>
          </a:prstGeom>
          <a:solidFill>
            <a:srgbClr val="000066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من خلال الإستراتيجية تحدد الإدار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"/>
          <p:cNvGrpSpPr/>
          <p:nvPr/>
        </p:nvGrpSpPr>
        <p:grpSpPr>
          <a:xfrm>
            <a:off x="1371600" y="285840"/>
            <a:ext cx="6496200" cy="5867280"/>
            <a:chOff x="1371600" y="285840"/>
            <a:chExt cx="6496200" cy="5867280"/>
          </a:xfrm>
        </p:grpSpPr>
        <p:sp>
          <p:nvSpPr>
            <p:cNvPr id="384" name=""/>
            <p:cNvSpPr/>
            <p:nvPr/>
          </p:nvSpPr>
          <p:spPr>
            <a:xfrm>
              <a:off x="1486080" y="285840"/>
              <a:ext cx="6305400" cy="5867280"/>
            </a:xfrm>
            <a:prstGeom prst="ellipse">
              <a:avLst/>
            </a:prstGeom>
            <a:solidFill>
              <a:srgbClr val="3333cc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86240" y="380880"/>
              <a:ext cx="2361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بيئة الخارجية العامة</a:t>
              </a:r>
              <a:br>
                <a:rPr sz="2000"/>
              </a:b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ea typeface="Times New Roman (Arabic)"/>
                </a:rPr>
                <a:t>( غير المباشرة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14600" y="1066680"/>
              <a:ext cx="4267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43600" y="1279440"/>
              <a:ext cx="114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تكنولوجي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24800" y="272736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اجتماعية</a:t>
              </a:r>
              <a:br>
                <a:rPr sz="1800"/>
              </a:br>
              <a:r>
                <a:rPr b="1" lang="ar-SA" sz="18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ثقافي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00800" y="423540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سياسي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48240" y="514368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قانونية</a:t>
              </a:r>
              <a:br>
                <a:rPr sz="1800"/>
              </a:br>
              <a:r>
                <a:rPr b="1" lang="ar-SA" sz="18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تشريعي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981080" y="4648320"/>
              <a:ext cx="114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طبيعي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371600" y="29718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عالمي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81080" y="1523880"/>
              <a:ext cx="114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اقتصادي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476440" y="1181160"/>
            <a:ext cx="4343400" cy="4231080"/>
            <a:chOff x="2476440" y="1181160"/>
            <a:chExt cx="4343400" cy="4231080"/>
          </a:xfrm>
        </p:grpSpPr>
        <p:grpSp>
          <p:nvGrpSpPr>
            <p:cNvPr id="395" name=""/>
            <p:cNvGrpSpPr/>
            <p:nvPr/>
          </p:nvGrpSpPr>
          <p:grpSpPr>
            <a:xfrm>
              <a:off x="2476440" y="1181160"/>
              <a:ext cx="4343400" cy="4231080"/>
              <a:chOff x="2476440" y="1181160"/>
              <a:chExt cx="4343400" cy="4231080"/>
            </a:xfrm>
          </p:grpSpPr>
          <p:sp>
            <p:nvSpPr>
              <p:cNvPr id="396" name=""/>
              <p:cNvSpPr/>
              <p:nvPr/>
            </p:nvSpPr>
            <p:spPr>
              <a:xfrm>
                <a:off x="2476440" y="1181160"/>
                <a:ext cx="4343400" cy="419112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848040" y="1219320"/>
                <a:ext cx="16002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600" spc="-1" strike="noStrike">
                    <a:solidFill>
                      <a:srgbClr val="ffffff"/>
                    </a:solidFill>
                    <a:latin typeface="Times New Roman"/>
                    <a:cs typeface="Times New Roman (Arabic)"/>
                  </a:rPr>
                  <a:t>البيئة الخارجية المباشرة</a:t>
                </a:r>
                <a:br>
                  <a:rPr sz="1600"/>
                </a:br>
                <a:r>
                  <a:rPr b="1" lang="ar-SA" sz="1600" spc="-1" strike="noStrike">
                    <a:solidFill>
                      <a:srgbClr val="ffffff"/>
                    </a:solidFill>
                    <a:latin typeface="Times New Roman"/>
                    <a:ea typeface="Times New Roman (Arabic)"/>
                  </a:rPr>
                  <a:t>(بيئة العمل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638680" y="2286000"/>
                <a:ext cx="8384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ffffff"/>
                    </a:solidFill>
                    <a:latin typeface="Times New Roman"/>
                    <a:cs typeface="Times New Roman (Arabic)"/>
                  </a:rPr>
                  <a:t>العملا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638680" y="3794040"/>
                <a:ext cx="1067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ffffff"/>
                    </a:solidFill>
                    <a:latin typeface="Times New Roman"/>
                    <a:cs typeface="Times New Roman (Arabic)"/>
                  </a:rPr>
                  <a:t>المنافسون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962520" y="4708440"/>
                <a:ext cx="1447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ffffff"/>
                    </a:solidFill>
                    <a:latin typeface="Times New Roman"/>
                    <a:cs typeface="Times New Roman (Arabic)"/>
                  </a:rPr>
                  <a:t>سوق العمل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610000" y="3714840"/>
                <a:ext cx="11430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ffffff"/>
                    </a:solidFill>
                    <a:latin typeface="Times New Roman"/>
                    <a:cs typeface="Times New Roman (Arabic)"/>
                  </a:rPr>
                  <a:t>الأجهزة </a:t>
                </a:r>
                <a:br>
                  <a:rPr sz="2000"/>
                </a:br>
                <a:r>
                  <a:rPr b="1" lang="ar-SA" sz="2000" spc="-1" strike="noStrike">
                    <a:solidFill>
                      <a:srgbClr val="ffffff"/>
                    </a:solidFill>
                    <a:latin typeface="Times New Roman"/>
                    <a:cs typeface="Times New Roman (Arabic)"/>
                  </a:rPr>
                  <a:t>الرقابية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590920" y="2286000"/>
                <a:ext cx="1143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ffffff"/>
                    </a:solidFill>
                    <a:latin typeface="Times New Roman"/>
                    <a:cs typeface="Times New Roman (Arabic)"/>
                  </a:rPr>
                  <a:t>الموردون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2971800" y="1981080"/>
              <a:ext cx="335268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429000" y="2209680"/>
            <a:ext cx="2362320" cy="2228040"/>
            <a:chOff x="3429000" y="2209680"/>
            <a:chExt cx="2362320" cy="2228040"/>
          </a:xfrm>
        </p:grpSpPr>
        <p:sp>
          <p:nvSpPr>
            <p:cNvPr id="405" name=""/>
            <p:cNvSpPr/>
            <p:nvPr/>
          </p:nvSpPr>
          <p:spPr>
            <a:xfrm>
              <a:off x="3429000" y="2209680"/>
              <a:ext cx="2362320" cy="2133720"/>
            </a:xfrm>
            <a:prstGeom prst="ellipse">
              <a:avLst/>
            </a:prstGeom>
            <a:solidFill>
              <a:srgbClr val="000066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86200" y="2346480"/>
              <a:ext cx="144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بيئة الداخلي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657600" y="2705040"/>
              <a:ext cx="1905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86200" y="272736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إدار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29200" y="312408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ثقاف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429000" y="31240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إمكانا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14800" y="3733920"/>
              <a:ext cx="914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عاملو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324320" y="3244680"/>
              <a:ext cx="685800" cy="580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منظم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2209680" y="61722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بيئة المنظم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2438280" y="152280"/>
            <a:ext cx="4267440" cy="8254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حليل البيئي –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عوامل الخارج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" y="762120"/>
            <a:ext cx="8305920" cy="289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15000" y="8380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1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) الصناعة والسوق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Times New Roman (Arabic)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09480" y="15238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جال الأعمال : نوع الخدمة 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منتج ، والسوق التي تغطيه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9480" y="20574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نمو الأعمال :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معدلات النمو في الصناعة ، نمو السوق التي تخدمها ، </a:t>
            </a:r>
            <a:br>
              <a:rPr sz="2400"/>
            </a:b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    والتغيرات المختلف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480" y="29113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قوي المؤثرة :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مستفيدون من الخدمة ، الموردون ، البدائل المتاح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" y="3886200"/>
            <a:ext cx="8305920" cy="2895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715000" y="3962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) المنافسة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4648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المنافسون الرئيسيون ، نصيبهم من السو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5334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أهداف المنافسين واستراتيجياتهم ونقاط القوة والضعف لديه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480" y="60357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مزايا التنافسية لدي المنافسين ( الجودة ، التكلفة ، التنويع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...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438280" y="152280"/>
            <a:ext cx="4267440" cy="8254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حليل البيئي –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عوامل الخارج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7200" y="762120"/>
            <a:ext cx="8305920" cy="251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15000" y="8380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3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) البيئة القانون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9480" y="15238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/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1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الأنظمة التشريعية والقانو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2438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/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الإجراءات الرقابية للأجهزة المختلف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3886200"/>
            <a:ext cx="830592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715000" y="3962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4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البيئة الاجتماع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9480" y="4648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القضايا الاجتماعية والثقافية السائدة والمتوقع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09480" y="5334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جماعات المؤثرة ( من المستهلكين والجمعيات المحلية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...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2438280" y="152280"/>
            <a:ext cx="4267440" cy="8254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حليل البيئي –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عوامل الخارج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57200" y="762120"/>
            <a:ext cx="8305920" cy="1752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715000" y="8380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5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) الموارد البشر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1295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/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1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سوق العم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1828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/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الاحتياجات من القوي العام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57200" y="2666880"/>
            <a:ext cx="830592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15000" y="27432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6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العوامل الاقتصادية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09480" y="3200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6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الظروف الاقتصادية الك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9480" y="3657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6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الطلب والعرض ، والمنافسة ، ومعدلات النمو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" y="4648320"/>
            <a:ext cx="8305920" cy="1600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15000" y="47242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7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العوامل التقن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9480" y="5181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7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الطرق والأساليب العلمية المتاح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56386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7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الابتكارات الحديث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u"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2438280" y="152280"/>
            <a:ext cx="42674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حليل البيئي –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عوامل الداخ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3520" y="762120"/>
            <a:ext cx="8305560" cy="1828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715000" y="8380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1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) الإدارة والتنظيم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029200" y="12952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1/1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كفاءة القادة الإداري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1695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1/3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الخريطة التنظيم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3520" y="2819520"/>
            <a:ext cx="8305560" cy="1371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715000" y="2895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2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التمويل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800600" y="32767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2/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تحليل القوائم الما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3657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2/3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المديونية والدائ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33520" y="4343400"/>
            <a:ext cx="8305560" cy="236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91320" y="43434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) الموارد البشر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257800" y="48006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/1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مؤهلات ومهارات العامل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52578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/3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تدريب وتطوير العامل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914400" y="1295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1/2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كفاءة العامل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914400" y="1695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1/4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درجة المركز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029200" y="21337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1/5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التخطيط والرقاب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14400" y="21337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1/6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نظام المعلو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9480" y="32767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2/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اتجاه الربحية والتكالي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9480" y="365760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2/4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معدل العائد علي الاستثما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800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/2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نظم الاختيار والتعي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914400" y="5257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/4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نظم الحوافز والترق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257800" y="5791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/5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تقييم أداء العامل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257800" y="6248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/7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معدلات الشكاو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9480" y="57913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/6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معدلات الغياب ودوران العم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6248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/8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درجات رضا العامل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0" y="228600"/>
            <a:ext cx="47242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فكر الإستراتيج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066680"/>
            <a:ext cx="76960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* التفكير الإستراتيجي يمارس في محيط بي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ئ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 معين ... بهدف </a:t>
            </a:r>
            <a:br>
              <a:rPr sz="2800"/>
            </a:b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عايش المستمر مع البيئ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286000"/>
            <a:ext cx="7696080" cy="68580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Simplified Arabic"/>
              </a:rPr>
              <a:t>يعتمد العقل الإستراتيجي عل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3124080"/>
            <a:ext cx="4114800" cy="6098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تحليل المنطقي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3809880"/>
            <a:ext cx="4114800" cy="60984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مرونة الفكرية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4724280"/>
            <a:ext cx="7696080" cy="68580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* الفكر الإستراتيجي فلسفة طويلة الأجل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5600880"/>
            <a:ext cx="7696080" cy="106668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Simplified Arabic"/>
              </a:rPr>
              <a:t>مفتاح النجاح هو التفكير في الإستراتيجية التي تمد المنظمة </a:t>
            </a:r>
            <a:br>
              <a:rPr sz="2800"/>
            </a:br>
            <a:r>
              <a:rPr b="1" i="1" lang="ar-SA" sz="28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بميزة تنافسية</a:t>
            </a: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وتطبيقها في الوقت المناس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438280" y="152280"/>
            <a:ext cx="42674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حليل البيئي –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عوامل الداخ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3520" y="762120"/>
            <a:ext cx="8305560" cy="1828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715000" y="838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4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) التسويق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029200" y="1295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4/1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نصيب السو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029200" y="16956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4/3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نظام الترويج والإعلا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3520" y="2819520"/>
            <a:ext cx="8305560" cy="1752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038480" y="289548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5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العمليات ( الإنتاجية / الخدمية )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800600" y="32767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5/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موقع الوحد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00600" y="3657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5/3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نظم الشرا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520" y="4724280"/>
            <a:ext cx="8305560" cy="14479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791320" y="47242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) البحوث والتطوير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257800" y="5181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6/1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البحوث الجار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5638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6/3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خطط وبرامج البحوث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14400" y="12952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4/2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جودة المنتج / الخدم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14400" y="1695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4/4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درجات رضا العملا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029200" y="21337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4/5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سمعة المنظم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9480" y="32767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5/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الأجهزة والمعد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09480" y="36576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5/4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جداول التسلي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4400" y="51814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6/2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الإمكانيات العلمية والتق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914400" y="56386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6/4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الابتكارات ونواحي التطوي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800600" y="41148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5/5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الرقابة علي الجود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09480" y="411480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5/6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معدلات الإنتاجية 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كفاء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b2b2b2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676520" y="914400"/>
            <a:ext cx="586728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حليل البيئي –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عوامل الداخل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520" y="2438280"/>
            <a:ext cx="8305560" cy="28195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038480" y="28954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7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أخري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990720" y="35053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نقاط القوة والضعف في عناصر أخري مثل نظم المعلومات ، الخدمات الإدارية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  <p:sndAc>
      <p:stSnd>
        <p:snd r:embed="rId1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152280" y="2209680"/>
            <a:ext cx="8839440" cy="1371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400800" y="2498760"/>
            <a:ext cx="2438280" cy="703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داخل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2498760"/>
            <a:ext cx="6019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* الميزانيات  * المؤشرات المالية        * قوائم الأرباح والخسائر</a:t>
            </a:r>
            <a:br>
              <a:rPr sz="2000"/>
            </a:b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* التقارير والدراسات   * استقصاء الاتجاهات ورضا العاملين</a:t>
            </a:r>
            <a:br>
              <a:rPr sz="2000"/>
            </a:b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* الاجتماعات بين المديرين والعامل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52280" y="3581280"/>
            <a:ext cx="8839440" cy="1752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381720" y="4098960"/>
            <a:ext cx="243828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خارج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57200" y="4022640"/>
            <a:ext cx="554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* العملاء          * الموردون           * تقارير الحكومة </a:t>
            </a:r>
            <a:br>
              <a:rPr sz="2000"/>
            </a:b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* الصحف اليومية والمهنية               * البنوك </a:t>
            </a:r>
            <a:br>
              <a:rPr sz="2000"/>
            </a:b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* المستشارون                            * العاملو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52280" y="1600200"/>
            <a:ext cx="883944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مصادر معلومات التحليل البيئ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609480" y="1219320"/>
            <a:ext cx="8077320" cy="761760"/>
          </a:xfrm>
          <a:prstGeom prst="flowChartMultidocumen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1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</a:t>
            </a:r>
            <a:r>
              <a:rPr b="1" lang="ar-SA" sz="2000" spc="-1" strike="noStrike" u="sng">
                <a:solidFill>
                  <a:srgbClr val="ffff00"/>
                </a:solidFill>
                <a:uFillTx/>
                <a:latin typeface="Times New Roman"/>
                <a:cs typeface="Simplified Arabic"/>
              </a:rPr>
              <a:t>النية والغرض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: المهمة التي تؤديها المنظم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09480" y="2133720"/>
            <a:ext cx="8077320" cy="761760"/>
          </a:xfrm>
          <a:prstGeom prst="flowChartMultidocumen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2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</a:t>
            </a:r>
            <a:r>
              <a:rPr b="1" lang="ar-SA" sz="2000" spc="-1" strike="noStrike" u="sng">
                <a:solidFill>
                  <a:srgbClr val="ffff00"/>
                </a:solidFill>
                <a:uFillTx/>
                <a:latin typeface="Times New Roman"/>
                <a:cs typeface="Simplified Arabic"/>
              </a:rPr>
              <a:t>الدينامية والتطوير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: التحسين لمواجهة الظروف المتغير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3048120"/>
            <a:ext cx="8077320" cy="761760"/>
          </a:xfrm>
          <a:prstGeom prst="flowChartMultidocumen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3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</a:t>
            </a:r>
            <a:r>
              <a:rPr b="1" lang="ar-SA" sz="2000" spc="-1" strike="noStrike" u="sng">
                <a:solidFill>
                  <a:srgbClr val="ffff00"/>
                </a:solidFill>
                <a:uFillTx/>
                <a:latin typeface="Times New Roman"/>
                <a:cs typeface="Simplified Arabic"/>
              </a:rPr>
              <a:t>مراجعة الافتراضات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: التي يقوم عليها العمل ، وتغيير المتقادم منها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3886200"/>
            <a:ext cx="8077320" cy="76212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4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) </a:t>
            </a:r>
            <a:r>
              <a:rPr b="1" lang="ar-SA" sz="2000" spc="-1" strike="noStrike" u="sng">
                <a:solidFill>
                  <a:srgbClr val="cc0000"/>
                </a:solidFill>
                <a:uFillTx/>
                <a:latin typeface="Times New Roman"/>
                <a:cs typeface="Simplified Arabic"/>
              </a:rPr>
              <a:t>تحديد الأولويات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: حتى يمكن تخصيص الموارد واستغلالها الاستغلال الأمثل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4724280"/>
            <a:ext cx="8077320" cy="762120"/>
          </a:xfrm>
          <a:prstGeom prst="flowChartMultidocumen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5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) </a:t>
            </a:r>
            <a:r>
              <a:rPr b="1" lang="ar-SA" sz="2000" spc="-1" strike="noStrike" u="sng">
                <a:solidFill>
                  <a:srgbClr val="cc0000"/>
                </a:solidFill>
                <a:uFillTx/>
                <a:latin typeface="Times New Roman"/>
                <a:cs typeface="Simplified Arabic"/>
              </a:rPr>
              <a:t>المشاركة في اتخاذ القرارات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: المشورة وتبادل الخبرات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5562720"/>
            <a:ext cx="8077320" cy="761760"/>
          </a:xfrm>
          <a:prstGeom prst="flowChartMultidocumen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3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6</a:t>
            </a:r>
            <a:r>
              <a:rPr b="1" lang="ar-SA" sz="23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</a:t>
            </a:r>
            <a:r>
              <a:rPr b="1" lang="ar-SA" sz="2300" spc="-1" strike="noStrike" u="sng">
                <a:solidFill>
                  <a:srgbClr val="ffff00"/>
                </a:solidFill>
                <a:uFillTx/>
                <a:latin typeface="Times New Roman"/>
                <a:cs typeface="Simplified Arabic"/>
              </a:rPr>
              <a:t>الفاعلية</a:t>
            </a:r>
            <a:r>
              <a:rPr b="1" lang="ar-SA" sz="23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: أداء الأشياء الصحيحة 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90720" y="152280"/>
            <a:ext cx="7315200" cy="106704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خصائص التخطيط الاستراتيج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  <p:sndAc>
      <p:stSnd>
        <p:snd r:embed="rId1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609480" y="1219320"/>
            <a:ext cx="8077320" cy="685800"/>
          </a:xfrm>
          <a:prstGeom prst="flowChartMultidocumen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1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) حفز العاملين وتحريك دوافعهم لتحقيق الأهداف المطلوب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9480" y="1981080"/>
            <a:ext cx="8077320" cy="68580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2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) نشر روح الفريق والتعاون بين العاملين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2743200"/>
            <a:ext cx="8077320" cy="685800"/>
          </a:xfrm>
          <a:prstGeom prst="flowChartMultidocumen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3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مواجهة المشكلات ، والتنبؤ بها ، وإعداد الحلول المناسبة لها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3505320"/>
            <a:ext cx="8077320" cy="685800"/>
          </a:xfrm>
          <a:prstGeom prst="flowChartMultidocumen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4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) تحديد الأدوار والمسئوليات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4267080"/>
            <a:ext cx="8077320" cy="685800"/>
          </a:xfrm>
          <a:prstGeom prst="flowChartMultidocumen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5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) تحدي الوضع الراهن – المرونة والاستجابة للمتغيرات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5029200"/>
            <a:ext cx="8077320" cy="68580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( </a:t>
            </a:r>
            <a:r>
              <a:rPr b="1" lang="ar-SA" sz="19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6</a:t>
            </a:r>
            <a:r>
              <a:rPr b="1" lang="ar-SA" sz="19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)ربط المستويات الإدارية المختلفة ببعضها عن طريق الاشتراك في اتخاذ القرارات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990720" y="152280"/>
            <a:ext cx="7315200" cy="1067040"/>
          </a:xfrm>
          <a:prstGeom prst="horizontalScrol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زايا التخطيط الاستراتيجي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5867280"/>
            <a:ext cx="8077320" cy="685800"/>
          </a:xfrm>
          <a:prstGeom prst="flowChartMultidocumen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7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)رفع الروح المعنوية والشعور بالمسئولية- نتيجة لتبادل المعلومات ووجهات النظر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  <p:sndAc>
      <p:stSnd>
        <p:snd r:embed="rId1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1295280" y="0"/>
            <a:ext cx="7086600" cy="1143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قومات التخطيط الإستراتيجي الجيد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90720" y="1295280"/>
            <a:ext cx="7315200" cy="914400"/>
          </a:xfrm>
          <a:prstGeom prst="flowChartTerminator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( </a:t>
            </a:r>
            <a:r>
              <a:rPr b="1" lang="ar-SA" sz="3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1</a:t>
            </a:r>
            <a:r>
              <a:rPr b="1" lang="ar-SA" sz="3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) المرونة والاستعداد للتغيير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90720" y="2438280"/>
            <a:ext cx="7315200" cy="9144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Times New Roman"/>
                <a:ea typeface="Simplified Arabic"/>
              </a:rPr>
              <a:t>( </a:t>
            </a:r>
            <a:r>
              <a:rPr b="1" lang="ar-SA" sz="3600" spc="-1" strike="noStrike">
                <a:solidFill>
                  <a:srgbClr val="ffff66"/>
                </a:solidFill>
                <a:latin typeface="Times New Roman"/>
                <a:ea typeface="Simplified Arabic"/>
              </a:rPr>
              <a:t>2</a:t>
            </a:r>
            <a:r>
              <a:rPr b="1" lang="ar-SA" sz="3600" spc="-1" strike="noStrike">
                <a:solidFill>
                  <a:srgbClr val="ffff66"/>
                </a:solidFill>
                <a:latin typeface="Times New Roman"/>
                <a:ea typeface="Simplified Arabic"/>
              </a:rPr>
              <a:t> ) وضوح الأهداف والغايات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990720" y="3581280"/>
            <a:ext cx="7315200" cy="914400"/>
          </a:xfrm>
          <a:prstGeom prst="flowChartTermina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( </a:t>
            </a:r>
            <a:r>
              <a:rPr b="1" lang="ar-SA" sz="36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3</a:t>
            </a:r>
            <a:r>
              <a:rPr b="1" lang="ar-SA" sz="36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) المنهجية السليمة لاتخاذ القرارات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90720" y="4648320"/>
            <a:ext cx="7315200" cy="914400"/>
          </a:xfrm>
          <a:prstGeom prst="flowChartTerminator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4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) نظام معلومات سليم وحديث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990720" y="5791320"/>
            <a:ext cx="7315200" cy="914400"/>
          </a:xfrm>
          <a:prstGeom prst="flowChartTermina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) خطوط اتصال مستمرة بين المديرين والعاملين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990720" y="76320"/>
            <a:ext cx="777240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قومات التخطيط الإستراتيجي الجيد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38080" y="129528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6</a:t>
            </a: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) استعداد كافة المعنيين للتعاون في وضع الخطة ثم تبني تنفيذها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38080" y="243828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) المشاركة الفاعلة علي المستويات المختلف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38080" y="342900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( </a:t>
            </a: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8</a:t>
            </a: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) التفكير الإبتكاري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38080" y="449568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9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معايير طموحة للتطوير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38080" y="548640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10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) المراجعة المستمر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4191120" y="612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تخطيط التقليد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38080" y="61272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تخطيط الإستراتيج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620120" y="106668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- الهد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1066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استمرا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447920" y="106668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تطوير والتحس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1173240" y="1600200"/>
            <a:ext cx="2941200" cy="459720"/>
            <a:chOff x="1173240" y="1600200"/>
            <a:chExt cx="2941200" cy="459720"/>
          </a:xfrm>
        </p:grpSpPr>
        <p:sp>
          <p:nvSpPr>
            <p:cNvPr id="538" name=""/>
            <p:cNvSpPr/>
            <p:nvPr/>
          </p:nvSpPr>
          <p:spPr>
            <a:xfrm>
              <a:off x="1262160" y="1600200"/>
              <a:ext cx="276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بيئة متغيرة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173240" y="1600200"/>
              <a:ext cx="294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4191120" y="16192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ستقرار الوضع الحالي ، تغيير قليل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257800" y="1828800"/>
            <a:ext cx="20797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7315200" y="1692360"/>
            <a:ext cx="1676160" cy="1008720"/>
            <a:chOff x="7315200" y="1692360"/>
            <a:chExt cx="1676160" cy="1008720"/>
          </a:xfrm>
        </p:grpSpPr>
        <p:sp>
          <p:nvSpPr>
            <p:cNvPr id="543" name=""/>
            <p:cNvSpPr/>
            <p:nvPr/>
          </p:nvSpPr>
          <p:spPr>
            <a:xfrm>
              <a:off x="7392240" y="1692360"/>
              <a:ext cx="1522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2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- الافتراضات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315200" y="1692360"/>
              <a:ext cx="167616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304920" y="2217600"/>
            <a:ext cx="3809520" cy="640080"/>
            <a:chOff x="304920" y="2217600"/>
            <a:chExt cx="3809520" cy="640080"/>
          </a:xfrm>
        </p:grpSpPr>
        <p:sp>
          <p:nvSpPr>
            <p:cNvPr id="546" name=""/>
            <p:cNvSpPr/>
            <p:nvPr/>
          </p:nvSpPr>
          <p:spPr>
            <a:xfrm>
              <a:off x="419760" y="2217600"/>
              <a:ext cx="35791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خارجي – العميل / المنافسة / المجتمع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4920" y="2217600"/>
              <a:ext cx="38095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4336920" y="2217600"/>
            <a:ext cx="3054240" cy="640080"/>
            <a:chOff x="4336920" y="2217600"/>
            <a:chExt cx="3054240" cy="640080"/>
          </a:xfrm>
        </p:grpSpPr>
        <p:sp>
          <p:nvSpPr>
            <p:cNvPr id="549" name=""/>
            <p:cNvSpPr/>
            <p:nvPr/>
          </p:nvSpPr>
          <p:spPr>
            <a:xfrm>
              <a:off x="4436640" y="2217600"/>
              <a:ext cx="28537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داخلي – وظائف المنظمة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36920" y="2217600"/>
              <a:ext cx="30542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7391520" y="2228760"/>
            <a:ext cx="1563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محور التركي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1014480" y="2717640"/>
            <a:ext cx="3023640" cy="406440"/>
            <a:chOff x="1014480" y="2717640"/>
            <a:chExt cx="3023640" cy="406440"/>
          </a:xfrm>
        </p:grpSpPr>
        <p:sp>
          <p:nvSpPr>
            <p:cNvPr id="553" name=""/>
            <p:cNvSpPr/>
            <p:nvPr/>
          </p:nvSpPr>
          <p:spPr>
            <a:xfrm>
              <a:off x="1105560" y="2717640"/>
              <a:ext cx="2840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تحدي الوضع الراهن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014480" y="2717640"/>
              <a:ext cx="302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4495680" y="2685960"/>
            <a:ext cx="2971440" cy="882720"/>
            <a:chOff x="4495680" y="2685960"/>
            <a:chExt cx="2971440" cy="882720"/>
          </a:xfrm>
        </p:grpSpPr>
        <p:sp>
          <p:nvSpPr>
            <p:cNvPr id="556" name=""/>
            <p:cNvSpPr/>
            <p:nvPr/>
          </p:nvSpPr>
          <p:spPr>
            <a:xfrm>
              <a:off x="4592880" y="2685960"/>
              <a:ext cx="2776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دعم الوضع الراهن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495680" y="2685960"/>
              <a:ext cx="297144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7238880" y="2819520"/>
            <a:ext cx="1687320" cy="609480"/>
            <a:chOff x="7238880" y="2819520"/>
            <a:chExt cx="1687320" cy="609480"/>
          </a:xfrm>
        </p:grpSpPr>
        <p:sp>
          <p:nvSpPr>
            <p:cNvPr id="559" name=""/>
            <p:cNvSpPr/>
            <p:nvPr/>
          </p:nvSpPr>
          <p:spPr>
            <a:xfrm>
              <a:off x="7316280" y="2819520"/>
              <a:ext cx="1532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4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-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الجهد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238880" y="2819520"/>
              <a:ext cx="1687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1898640" y="4641840"/>
            <a:ext cx="58341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1014480" y="3219480"/>
            <a:ext cx="3023640" cy="762120"/>
            <a:chOff x="1014480" y="3219480"/>
            <a:chExt cx="3023640" cy="762120"/>
          </a:xfrm>
        </p:grpSpPr>
        <p:sp>
          <p:nvSpPr>
            <p:cNvPr id="563" name=""/>
            <p:cNvSpPr/>
            <p:nvPr/>
          </p:nvSpPr>
          <p:spPr>
            <a:xfrm>
              <a:off x="1105560" y="3219480"/>
              <a:ext cx="284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غزي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014480" y="3219480"/>
              <a:ext cx="30236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4319640" y="3219480"/>
            <a:ext cx="3139560" cy="533520"/>
            <a:chOff x="4319640" y="3219480"/>
            <a:chExt cx="3139560" cy="533520"/>
          </a:xfrm>
        </p:grpSpPr>
        <p:sp>
          <p:nvSpPr>
            <p:cNvPr id="566" name=""/>
            <p:cNvSpPr/>
            <p:nvPr/>
          </p:nvSpPr>
          <p:spPr>
            <a:xfrm>
              <a:off x="4422240" y="3219480"/>
              <a:ext cx="29336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قليل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319640" y="3219480"/>
              <a:ext cx="3139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7238880" y="3219480"/>
            <a:ext cx="1676160" cy="609480"/>
            <a:chOff x="7238880" y="3219480"/>
            <a:chExt cx="1676160" cy="609480"/>
          </a:xfrm>
        </p:grpSpPr>
        <p:sp>
          <p:nvSpPr>
            <p:cNvPr id="569" name=""/>
            <p:cNvSpPr/>
            <p:nvPr/>
          </p:nvSpPr>
          <p:spPr>
            <a:xfrm>
              <a:off x="7315920" y="3219480"/>
              <a:ext cx="1522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5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- 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الابتكار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238880" y="3219480"/>
              <a:ext cx="1676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838080" y="3835440"/>
            <a:ext cx="3276360" cy="507960"/>
            <a:chOff x="838080" y="3835440"/>
            <a:chExt cx="3276360" cy="507960"/>
          </a:xfrm>
        </p:grpSpPr>
        <p:sp>
          <p:nvSpPr>
            <p:cNvPr id="572" name=""/>
            <p:cNvSpPr/>
            <p:nvPr/>
          </p:nvSpPr>
          <p:spPr>
            <a:xfrm>
              <a:off x="937080" y="3835440"/>
              <a:ext cx="30783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علي أساس النتائج والأوليات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38080" y="3835440"/>
              <a:ext cx="32763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4152960" y="3797280"/>
            <a:ext cx="3352320" cy="679320"/>
            <a:chOff x="4152960" y="3797280"/>
            <a:chExt cx="3352320" cy="679320"/>
          </a:xfrm>
        </p:grpSpPr>
        <p:sp>
          <p:nvSpPr>
            <p:cNvPr id="575" name=""/>
            <p:cNvSpPr/>
            <p:nvPr/>
          </p:nvSpPr>
          <p:spPr>
            <a:xfrm>
              <a:off x="4262400" y="3797280"/>
              <a:ext cx="313236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تخصيص علي أساس تاريخي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152960" y="3797280"/>
              <a:ext cx="335232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7162920" y="3753000"/>
            <a:ext cx="1860120" cy="609480"/>
            <a:chOff x="7162920" y="3753000"/>
            <a:chExt cx="1860120" cy="609480"/>
          </a:xfrm>
        </p:grpSpPr>
        <p:sp>
          <p:nvSpPr>
            <p:cNvPr id="578" name=""/>
            <p:cNvSpPr/>
            <p:nvPr/>
          </p:nvSpPr>
          <p:spPr>
            <a:xfrm>
              <a:off x="7248240" y="3753000"/>
              <a:ext cx="1689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6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- الموارد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162920" y="3753000"/>
              <a:ext cx="1860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228600" y="476280"/>
            <a:ext cx="8686800" cy="6324480"/>
            <a:chOff x="228600" y="476280"/>
            <a:chExt cx="8686800" cy="6324480"/>
          </a:xfrm>
        </p:grpSpPr>
        <p:sp>
          <p:nvSpPr>
            <p:cNvPr id="581" name=""/>
            <p:cNvSpPr/>
            <p:nvPr/>
          </p:nvSpPr>
          <p:spPr>
            <a:xfrm flipH="1">
              <a:off x="228600" y="47628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228600" y="106992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228600" y="435240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114800" y="494640"/>
              <a:ext cx="0" cy="6305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915400" y="476280"/>
              <a:ext cx="0" cy="6324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391520" y="476280"/>
              <a:ext cx="0" cy="6324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28600" y="476280"/>
              <a:ext cx="0" cy="6324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228600" y="158904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228600" y="218268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228600" y="272016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228600" y="323964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228600" y="375912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228600" y="494568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228600" y="570636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228600" y="622584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228600" y="680076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0" y="4444920"/>
            <a:ext cx="4114440" cy="507960"/>
            <a:chOff x="0" y="4444920"/>
            <a:chExt cx="4114440" cy="507960"/>
          </a:xfrm>
        </p:grpSpPr>
        <p:sp>
          <p:nvSpPr>
            <p:cNvPr id="598" name=""/>
            <p:cNvSpPr/>
            <p:nvPr/>
          </p:nvSpPr>
          <p:spPr>
            <a:xfrm>
              <a:off x="124200" y="4444920"/>
              <a:ext cx="38656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ديناميكي – بدائل عديدة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0" y="4444920"/>
              <a:ext cx="411444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4419720" y="4368960"/>
            <a:ext cx="3047400" cy="431640"/>
            <a:chOff x="4419720" y="4368960"/>
            <a:chExt cx="3047400" cy="431640"/>
          </a:xfrm>
        </p:grpSpPr>
        <p:sp>
          <p:nvSpPr>
            <p:cNvPr id="601" name=""/>
            <p:cNvSpPr/>
            <p:nvPr/>
          </p:nvSpPr>
          <p:spPr>
            <a:xfrm>
              <a:off x="4519080" y="4368960"/>
              <a:ext cx="28476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تقليدي – بدائل محدودة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419720" y="4368960"/>
              <a:ext cx="30474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7162920" y="4400640"/>
            <a:ext cx="1860120" cy="609480"/>
            <a:chOff x="7162920" y="4400640"/>
            <a:chExt cx="1860120" cy="609480"/>
          </a:xfrm>
        </p:grpSpPr>
        <p:sp>
          <p:nvSpPr>
            <p:cNvPr id="604" name=""/>
            <p:cNvSpPr/>
            <p:nvPr/>
          </p:nvSpPr>
          <p:spPr>
            <a:xfrm>
              <a:off x="7248240" y="4400640"/>
              <a:ext cx="1689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7</a:t>
              </a: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- اتخاذ القرارات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162920" y="4400640"/>
              <a:ext cx="1860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-31680" y="5130720"/>
            <a:ext cx="4114440" cy="679680"/>
            <a:chOff x="-31680" y="5130720"/>
            <a:chExt cx="4114440" cy="679680"/>
          </a:xfrm>
        </p:grpSpPr>
        <p:sp>
          <p:nvSpPr>
            <p:cNvPr id="607" name=""/>
            <p:cNvSpPr/>
            <p:nvPr/>
          </p:nvSpPr>
          <p:spPr>
            <a:xfrm>
              <a:off x="92520" y="5130720"/>
              <a:ext cx="386568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بناء علي التحليل البيئي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-31680" y="5130720"/>
              <a:ext cx="411444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172040" y="5035680"/>
            <a:ext cx="3320640" cy="679320"/>
            <a:chOff x="4172040" y="5035680"/>
            <a:chExt cx="3320640" cy="679320"/>
          </a:xfrm>
        </p:grpSpPr>
        <p:sp>
          <p:nvSpPr>
            <p:cNvPr id="610" name=""/>
            <p:cNvSpPr/>
            <p:nvPr/>
          </p:nvSpPr>
          <p:spPr>
            <a:xfrm>
              <a:off x="4280400" y="5035680"/>
              <a:ext cx="31028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طبقا لوجهة نظر الإدارة العليا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172040" y="5035680"/>
              <a:ext cx="33206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086600" y="5010120"/>
            <a:ext cx="1860120" cy="476280"/>
            <a:chOff x="7086600" y="5010120"/>
            <a:chExt cx="1860120" cy="476280"/>
          </a:xfrm>
        </p:grpSpPr>
        <p:sp>
          <p:nvSpPr>
            <p:cNvPr id="613" name=""/>
            <p:cNvSpPr/>
            <p:nvPr/>
          </p:nvSpPr>
          <p:spPr>
            <a:xfrm>
              <a:off x="7171920" y="5010120"/>
              <a:ext cx="16891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8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- الأولويات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086600" y="5010120"/>
              <a:ext cx="18601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-19080" y="5797440"/>
            <a:ext cx="4114440" cy="679680"/>
            <a:chOff x="-19080" y="5797440"/>
            <a:chExt cx="4114440" cy="679680"/>
          </a:xfrm>
        </p:grpSpPr>
        <p:sp>
          <p:nvSpPr>
            <p:cNvPr id="616" name=""/>
            <p:cNvSpPr/>
            <p:nvPr/>
          </p:nvSpPr>
          <p:spPr>
            <a:xfrm>
              <a:off x="105120" y="5797440"/>
              <a:ext cx="386568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متنوع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-19080" y="5797440"/>
              <a:ext cx="411444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4191120" y="5740560"/>
            <a:ext cx="3320640" cy="679320"/>
            <a:chOff x="4191120" y="5740560"/>
            <a:chExt cx="3320640" cy="679320"/>
          </a:xfrm>
        </p:grpSpPr>
        <p:sp>
          <p:nvSpPr>
            <p:cNvPr id="619" name=""/>
            <p:cNvSpPr/>
            <p:nvPr/>
          </p:nvSpPr>
          <p:spPr>
            <a:xfrm>
              <a:off x="4299480" y="5740560"/>
              <a:ext cx="31028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محدودة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191120" y="5740560"/>
              <a:ext cx="33206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7130880" y="5753160"/>
            <a:ext cx="1860480" cy="609480"/>
            <a:chOff x="7130880" y="5753160"/>
            <a:chExt cx="1860480" cy="609480"/>
          </a:xfrm>
        </p:grpSpPr>
        <p:sp>
          <p:nvSpPr>
            <p:cNvPr id="622" name=""/>
            <p:cNvSpPr/>
            <p:nvPr/>
          </p:nvSpPr>
          <p:spPr>
            <a:xfrm>
              <a:off x="7216200" y="5753160"/>
              <a:ext cx="1689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9</a:t>
              </a: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 - مشاركة المستويات المختلفة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130880" y="5753160"/>
              <a:ext cx="1860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-152280" y="6330960"/>
            <a:ext cx="4114440" cy="679320"/>
            <a:chOff x="-152280" y="6330960"/>
            <a:chExt cx="4114440" cy="679320"/>
          </a:xfrm>
        </p:grpSpPr>
        <p:sp>
          <p:nvSpPr>
            <p:cNvPr id="625" name=""/>
            <p:cNvSpPr/>
            <p:nvPr/>
          </p:nvSpPr>
          <p:spPr>
            <a:xfrm>
              <a:off x="-27720" y="6330960"/>
              <a:ext cx="386568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ميزة التنافسية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-152280" y="6330960"/>
              <a:ext cx="41144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4235400" y="6267600"/>
            <a:ext cx="3320640" cy="679320"/>
            <a:chOff x="4235400" y="6267600"/>
            <a:chExt cx="3320640" cy="679320"/>
          </a:xfrm>
        </p:grpSpPr>
        <p:sp>
          <p:nvSpPr>
            <p:cNvPr id="628" name=""/>
            <p:cNvSpPr/>
            <p:nvPr/>
          </p:nvSpPr>
          <p:spPr>
            <a:xfrm>
              <a:off x="4343760" y="6267600"/>
              <a:ext cx="31028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كفاءة الداخلية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235400" y="6267600"/>
              <a:ext cx="33206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207200" y="6305400"/>
            <a:ext cx="1860120" cy="609840"/>
            <a:chOff x="7207200" y="6305400"/>
            <a:chExt cx="1860120" cy="609840"/>
          </a:xfrm>
        </p:grpSpPr>
        <p:sp>
          <p:nvSpPr>
            <p:cNvPr id="631" name=""/>
            <p:cNvSpPr/>
            <p:nvPr/>
          </p:nvSpPr>
          <p:spPr>
            <a:xfrm>
              <a:off x="7292520" y="6305400"/>
              <a:ext cx="1689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10</a:t>
              </a:r>
              <a:r>
                <a:rPr b="1" lang="ar-SA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- معايير النجاح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207200" y="6305400"/>
              <a:ext cx="1860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7772400" y="533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بيا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295280" y="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أهم الفروق بين التخطيط الإستراتيجي والتقليد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  <p:sndAc>
      <p:stSnd>
        <p:snd r:embed="rId1" name="camera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2438280" y="152280"/>
            <a:ext cx="42674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مستويات الثلاثة للإستراتي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33520" y="762120"/>
            <a:ext cx="8305560" cy="1600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191120" y="8380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66"/>
                </a:solidFill>
                <a:uFillTx/>
                <a:latin typeface="Times New Roman"/>
                <a:cs typeface="Simplified Arabic"/>
              </a:rPr>
              <a:t>المستوي الكلي :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استراتيجية المنظ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029200" y="1295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  <a:cs typeface="Simplified Arabic"/>
              </a:rPr>
              <a:t>ما هو مجال أعمال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352680" y="1676520"/>
            <a:ext cx="2667240" cy="459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منظ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3520" y="2590920"/>
            <a:ext cx="8305560" cy="19810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038480" y="25146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Times New Roman"/>
                <a:cs typeface="Simplified Arabic"/>
              </a:rPr>
              <a:t>المستوي الجزئي / الفرع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095880" y="2895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وحدات : خطوط </a:t>
            </a:r>
            <a:br>
              <a:rPr sz="1800"/>
            </a:br>
            <a:r>
              <a:rPr b="0" lang="ar-SA" sz="1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إنتاج والخدما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553080" y="3962520"/>
            <a:ext cx="18288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وحدة 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3520" y="4724280"/>
            <a:ext cx="8305560" cy="17528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181480" y="472428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  <a:cs typeface="Simplified Arabic"/>
              </a:rPr>
              <a:t>المستوي الوظيفي / التشغيل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5089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أقسام الوظيف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09480" y="3048120"/>
            <a:ext cx="381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Times New Roman"/>
                <a:cs typeface="Simplified Arabic"/>
              </a:rPr>
              <a:t>ما هو أفضل الطرق للعمل والتناف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62520" y="3962520"/>
            <a:ext cx="1676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وحدة 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09480" y="507348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كيف تساعد الأقسام التنظيمية علي تحقيق نتائج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143000" y="3962520"/>
            <a:ext cx="1828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الوحدة ج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1905120" y="2057400"/>
            <a:ext cx="5790960" cy="1905120"/>
            <a:chOff x="1905120" y="2057400"/>
            <a:chExt cx="5790960" cy="1905120"/>
          </a:xfrm>
        </p:grpSpPr>
        <p:sp>
          <p:nvSpPr>
            <p:cNvPr id="652" name=""/>
            <p:cNvSpPr/>
            <p:nvPr/>
          </p:nvSpPr>
          <p:spPr>
            <a:xfrm>
              <a:off x="4724280" y="2057400"/>
              <a:ext cx="0" cy="1600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905120" y="3657600"/>
              <a:ext cx="57909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677000" y="3657600"/>
              <a:ext cx="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724280" y="3657600"/>
              <a:ext cx="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905120" y="3657600"/>
              <a:ext cx="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7010280" y="5791320"/>
            <a:ext cx="16002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موي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238720" y="5791320"/>
            <a:ext cx="1467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تسوي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200400" y="5791320"/>
            <a:ext cx="160020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موارد البش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143000" y="5791320"/>
            <a:ext cx="16002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البحوث والتطوي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885680" y="4419720"/>
            <a:ext cx="5810400" cy="1371600"/>
            <a:chOff x="1885680" y="4419720"/>
            <a:chExt cx="5810400" cy="1371600"/>
          </a:xfrm>
        </p:grpSpPr>
        <p:sp>
          <p:nvSpPr>
            <p:cNvPr id="662" name=""/>
            <p:cNvSpPr/>
            <p:nvPr/>
          </p:nvSpPr>
          <p:spPr>
            <a:xfrm>
              <a:off x="4724280" y="4419720"/>
              <a:ext cx="0" cy="108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905120" y="5486400"/>
              <a:ext cx="57909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676640" y="5486400"/>
              <a:ext cx="1908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6019560" y="5486400"/>
              <a:ext cx="1908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4038120" y="5486400"/>
              <a:ext cx="1908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1885680" y="5486400"/>
              <a:ext cx="1908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horz"/>
    <p:sndAc>
      <p:stSnd>
        <p:snd r:embed="rId1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838080" y="0"/>
            <a:ext cx="7925040" cy="9907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طبيعة القرارات في المستويات الثلاث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990720" y="1295280"/>
            <a:ext cx="7619760" cy="5335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) القرارات الإستراتيجية ( المستوي الكلي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219320" y="2438280"/>
            <a:ext cx="6476760" cy="74304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- تحديد الأهداف طويلة الأجل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19320" y="3276720"/>
            <a:ext cx="6476760" cy="74268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تحقيق التكامل مع البيئة الخارج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219320" y="4114800"/>
            <a:ext cx="6476760" cy="743040"/>
          </a:xfrm>
          <a:prstGeom prst="bevel">
            <a:avLst>
              <a:gd name="adj" fmla="val 125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Times New Roman"/>
                <a:ea typeface="Simplified Arabic"/>
              </a:rPr>
              <a:t> - تخصيص الموارد للأغراض المطلوب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219320" y="4896000"/>
            <a:ext cx="6476760" cy="7426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- اختيار مزيج المنتج أو الخدمات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0880" y="1981080"/>
            <a:ext cx="762012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تقوم الإدارة العليا باتخاذ هذه القرارات وتشمل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19320" y="5791320"/>
            <a:ext cx="6476760" cy="74268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-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لسياسات التسويقية والمالية والإنتاج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2057400"/>
            <a:ext cx="8153280" cy="152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2590920"/>
            <a:ext cx="243864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  <a:ea typeface="Times New Roman (Arabic)"/>
              </a:rPr>
              <a:t>* من المهم التنبه إل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2257560"/>
            <a:ext cx="518148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  <a:ea typeface="Times New Roman (Arabic)"/>
              </a:rPr>
              <a:t> – عناصر النجاح الرئيس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2876400"/>
            <a:ext cx="518148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– المعوقات التي تعترض الأ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4267080"/>
            <a:ext cx="8153280" cy="152424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5880" y="4800600"/>
            <a:ext cx="22860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  <a:ea typeface="Times New Roman (Arabic)"/>
              </a:rPr>
              <a:t>* ومن ثم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4467240"/>
            <a:ext cx="51814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  <a:ea typeface="Times New Roman (Arabic)"/>
              </a:rPr>
              <a:t> – الإفادة من فرص النج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5086440"/>
            <a:ext cx="51814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– مجاهدة المعوق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38280" y="609480"/>
            <a:ext cx="472464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فكر الإستراتيج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2" name="chimes.wav"/>
          </p:stSnd>
        </p:sndAc>
      </p:transition>
    </mc:Choice>
    <mc:Fallback>
      <p:transition spd="slow">
        <p:sndAc>
          <p:stSnd>
            <p:snd r:embed="rId2" name="chimes.wav"/>
          </p:stSnd>
        </p:sndAc>
      </p:transition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838080" y="1752480"/>
            <a:ext cx="8001000" cy="11430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عمل هذه القرارات علي التنسيق بين المستوي الإستراتيجي الكلي</a:t>
            </a:r>
            <a:br>
              <a:rPr sz="2000"/>
            </a:b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ومستوي الوحدات ، وتحقيق التكامل بين الأمدين القريب والبعيد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200240" y="114480"/>
            <a:ext cx="7010280" cy="1066680"/>
          </a:xfrm>
          <a:custGeom>
            <a:avLst/>
            <a:gdLst>
              <a:gd name="textAreaLeft" fmla="*/ 0 w 7010280"/>
              <a:gd name="textAreaRight" fmla="*/ 7010640 w 7010280"/>
              <a:gd name="textAreaTop" fmla="*/ 138240 h 1066680"/>
              <a:gd name="textAreaBottom" fmla="*/ 9284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) القرارات الإدارية ( المستوي الجزئي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62120" y="3476520"/>
            <a:ext cx="7619760" cy="60012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الحصول علي الموارد اللازمة ، وتنميتها ، وتحقيق اقتصاديات التشغيل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62120" y="4114800"/>
            <a:ext cx="7619760" cy="600120"/>
          </a:xfrm>
          <a:prstGeom prst="rect">
            <a:avLst/>
          </a:prstGeom>
          <a:solidFill>
            <a:srgbClr val="3333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- التنظيم وهيكل السلطة والمسئولية وتدفق المعلومات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62120" y="4809960"/>
            <a:ext cx="7619760" cy="600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- وضع الموازنات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62120" y="5495760"/>
            <a:ext cx="7619760" cy="6001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- قياس الأداء ووضع برامج التطوير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  <p:sndAc>
      <p:stSnd>
        <p:snd r:embed="rId1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304920" y="2362320"/>
            <a:ext cx="8458200" cy="990360"/>
          </a:xfrm>
          <a:custGeom>
            <a:avLst/>
            <a:gdLst>
              <a:gd name="textAreaLeft" fmla="*/ 0 w 8458200"/>
              <a:gd name="textAreaRight" fmla="*/ 8458560 w 8458200"/>
              <a:gd name="textAreaTop" fmla="*/ 128160 h 990360"/>
              <a:gd name="textAreaBottom" fmla="*/ 862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- الأهداف الوظيفية والتشغيلية قصيرة الأجل </a:t>
            </a: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04920" y="3048120"/>
            <a:ext cx="8458200" cy="990360"/>
          </a:xfrm>
          <a:custGeom>
            <a:avLst/>
            <a:gdLst>
              <a:gd name="textAreaLeft" fmla="*/ 0 w 8458200"/>
              <a:gd name="textAreaRight" fmla="*/ 8458560 w 8458200"/>
              <a:gd name="textAreaTop" fmla="*/ 128160 h 990360"/>
              <a:gd name="textAreaBottom" fmla="*/ 862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- التأكد من أداء الأعمال المحددة بكفاءة وفاعلية </a:t>
            </a: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981080" y="304920"/>
            <a:ext cx="6934320" cy="10688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) القرارات التشغيلية ( المستوي الوظيفي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752480" y="1219320"/>
            <a:ext cx="662940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وتتم في الغالب بصورة لا مركزية وتشمل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04920" y="3733920"/>
            <a:ext cx="8458200" cy="990360"/>
          </a:xfrm>
          <a:custGeom>
            <a:avLst/>
            <a:gdLst>
              <a:gd name="textAreaLeft" fmla="*/ 0 w 8458200"/>
              <a:gd name="textAreaRight" fmla="*/ 8458560 w 8458200"/>
              <a:gd name="textAreaTop" fmla="*/ 128160 h 990360"/>
              <a:gd name="textAreaBottom" fmla="*/ 862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- حل المشكلات التي تعترض التطبيق </a:t>
            </a:r>
            <a:r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14280" y="4419720"/>
            <a:ext cx="8458200" cy="990360"/>
          </a:xfrm>
          <a:custGeom>
            <a:avLst/>
            <a:gdLst>
              <a:gd name="textAreaLeft" fmla="*/ 0 w 8458200"/>
              <a:gd name="textAreaRight" fmla="*/ 8458560 w 8458200"/>
              <a:gd name="textAreaTop" fmla="*/ 128160 h 990360"/>
              <a:gd name="textAreaBottom" fmla="*/ 862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- قياس وتقييم أداء العاملي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14280" y="5105520"/>
            <a:ext cx="8458200" cy="990360"/>
          </a:xfrm>
          <a:custGeom>
            <a:avLst/>
            <a:gdLst>
              <a:gd name="textAreaLeft" fmla="*/ 0 w 8458200"/>
              <a:gd name="textAreaRight" fmla="*/ 8458560 w 8458200"/>
              <a:gd name="textAreaTop" fmla="*/ 128160 h 990360"/>
              <a:gd name="textAreaBottom" fmla="*/ 862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- تحسين الأداء وتطوير النتائج في المجال المختص ( التسويق ، الإنتاج ، الموارد البشرية ... )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 (Arabic)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2209680" y="1219320"/>
            <a:ext cx="4800600" cy="799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إستراتيجية الكلية</a:t>
            </a:r>
            <a:r>
              <a:rPr b="1" lang="ar-SA" sz="29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086600" y="3124080"/>
            <a:ext cx="1752480" cy="19051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Simplified Arabic"/>
                <a:cs typeface="Simplified Arabic"/>
              </a:rPr>
              <a:t>النم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( توسيع العمليات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1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– التركيز / التغلغ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2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– التكامل الرأس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3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– التكامل الأفق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4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– التنوي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- أخر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581280" y="3124080"/>
            <a:ext cx="22100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الاستقرا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( الحفاظ علي الوض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57200" y="3200400"/>
            <a:ext cx="1828800" cy="19810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      </a:t>
            </a:r>
            <a:r>
              <a:rPr b="1" lang="ar-SA" sz="1600" spc="-1" strike="noStrike" u="sng">
                <a:solidFill>
                  <a:srgbClr val="ffffff"/>
                </a:solidFill>
                <a:uFillTx/>
                <a:latin typeface="Simplified Arabic"/>
                <a:cs typeface="Simplified Arabic"/>
              </a:rPr>
              <a:t>التخفي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( خفض العمليات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1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– التحوي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2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– الحصا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3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– التخلص / التعر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4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– الإفلا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- التصفية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1447920" y="2019240"/>
            <a:ext cx="6781680" cy="1028880"/>
            <a:chOff x="1447920" y="2019240"/>
            <a:chExt cx="6781680" cy="1028880"/>
          </a:xfrm>
        </p:grpSpPr>
        <p:sp>
          <p:nvSpPr>
            <p:cNvPr id="694" name=""/>
            <p:cNvSpPr/>
            <p:nvPr/>
          </p:nvSpPr>
          <p:spPr>
            <a:xfrm>
              <a:off x="1447920" y="2362320"/>
              <a:ext cx="678168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447920" y="2362320"/>
              <a:ext cx="0" cy="68580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735800" y="2019240"/>
              <a:ext cx="0" cy="95256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229600" y="2362320"/>
              <a:ext cx="0" cy="68580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2438280" y="3581280"/>
            <a:ext cx="4496040" cy="0"/>
            <a:chOff x="2438280" y="3581280"/>
            <a:chExt cx="4496040" cy="0"/>
          </a:xfrm>
        </p:grpSpPr>
        <p:sp>
          <p:nvSpPr>
            <p:cNvPr id="699" name=""/>
            <p:cNvSpPr/>
            <p:nvPr/>
          </p:nvSpPr>
          <p:spPr>
            <a:xfrm>
              <a:off x="5943600" y="3581280"/>
              <a:ext cx="99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438280" y="3581280"/>
              <a:ext cx="99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split dir="in" orient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5105520" y="1333440"/>
            <a:ext cx="3733560" cy="5716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 – التكيف مع البيئ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38080" y="2133720"/>
            <a:ext cx="2667240" cy="1181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استراتيجية رد الفع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791320" y="2209680"/>
            <a:ext cx="2666880" cy="1181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</a:rPr>
              <a:t>استراتيجية المبادر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38080" y="3733920"/>
            <a:ext cx="2667240" cy="1181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الإستراتيجية التحليل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943600" y="3657600"/>
            <a:ext cx="2666880" cy="1181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ff0000"/>
                </a:solidFill>
                <a:latin typeface="Times New Roman"/>
              </a:rPr>
              <a:t>الإستراتيجية الدفاعية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505320" y="5410080"/>
            <a:ext cx="2666880" cy="1181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استراتيجية النمو التدريج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200240" y="114480"/>
            <a:ext cx="7010280" cy="1066680"/>
          </a:xfrm>
          <a:custGeom>
            <a:avLst/>
            <a:gdLst>
              <a:gd name="textAreaLeft" fmla="*/ 0 w 7010280"/>
              <a:gd name="textAreaRight" fmla="*/ 7010640 w 7010280"/>
              <a:gd name="textAreaTop" fmla="*/ 138240 h 1066680"/>
              <a:gd name="textAreaBottom" fmla="*/ 9284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ستراتيجية الأعما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457200" y="1752480"/>
            <a:ext cx="2514600" cy="388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 u="sng">
                <a:solidFill>
                  <a:srgbClr val="ffff00"/>
                </a:solidFill>
                <a:uFillTx/>
                <a:latin typeface="Times New Roman"/>
              </a:rPr>
              <a:t>خفض التكاليف</a:t>
            </a:r>
            <a:br>
              <a:rPr sz="2200"/>
            </a:br>
            <a:br>
              <a:rPr sz="2200"/>
            </a:b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تكنولوجيا متطورة</a:t>
            </a:r>
            <a:br>
              <a:rPr sz="2200"/>
            </a:b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الرقابة علي التكاليف</a:t>
            </a:r>
            <a:br>
              <a:rPr sz="2200"/>
            </a:b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الإشراف المحكم</a:t>
            </a:r>
            <a:br>
              <a:rPr sz="2200"/>
            </a:b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ربط الحوافز بالأهداف</a:t>
            </a:r>
            <a:br>
              <a:rPr sz="2200"/>
            </a:b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تقارير رقابية م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ف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ص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1600200"/>
            <a:ext cx="2514600" cy="3886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0066"/>
                </a:solidFill>
                <a:uFillTx/>
                <a:latin typeface="Times New Roman"/>
              </a:rPr>
              <a:t>التفاضل</a:t>
            </a:r>
            <a:br>
              <a:rPr sz="2200"/>
            </a:br>
            <a:br>
              <a:rPr sz="2200"/>
            </a:br>
            <a:r>
              <a:rPr b="1" lang="ar-SA" sz="2200" spc="-1" strike="noStrike">
                <a:solidFill>
                  <a:srgbClr val="000066"/>
                </a:solidFill>
                <a:latin typeface="Times New Roman"/>
              </a:rPr>
              <a:t>قدرات تسويقية عالية</a:t>
            </a:r>
            <a:br>
              <a:rPr sz="2200"/>
            </a:br>
            <a:r>
              <a:rPr b="1" lang="ar-SA" sz="2200" spc="-1" strike="noStrike">
                <a:solidFill>
                  <a:srgbClr val="000066"/>
                </a:solidFill>
                <a:latin typeface="Times New Roman"/>
              </a:rPr>
              <a:t>الابتكار</a:t>
            </a:r>
            <a:br>
              <a:rPr sz="2200"/>
            </a:br>
            <a:r>
              <a:rPr b="1" lang="ar-SA" sz="2200" spc="-1" strike="noStrike">
                <a:solidFill>
                  <a:srgbClr val="000066"/>
                </a:solidFill>
                <a:latin typeface="Times New Roman"/>
              </a:rPr>
              <a:t>البحوث والتطوير</a:t>
            </a:r>
            <a:br>
              <a:rPr sz="2200"/>
            </a:br>
            <a:r>
              <a:rPr b="1" lang="ar-SA" sz="2200" spc="-1" strike="noStrike">
                <a:solidFill>
                  <a:srgbClr val="000066"/>
                </a:solidFill>
                <a:latin typeface="Times New Roman"/>
              </a:rPr>
              <a:t>سمعة المنظمة</a:t>
            </a:r>
            <a:br>
              <a:rPr sz="2200"/>
            </a:br>
            <a:r>
              <a:rPr b="1" lang="ar-SA" sz="2200" spc="-1" strike="noStrike">
                <a:solidFill>
                  <a:srgbClr val="000066"/>
                </a:solidFill>
                <a:latin typeface="Times New Roman"/>
              </a:rPr>
              <a:t>حوافز الإبدا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200240" y="114480"/>
            <a:ext cx="7010280" cy="1066680"/>
          </a:xfrm>
          <a:custGeom>
            <a:avLst/>
            <a:gdLst>
              <a:gd name="textAreaLeft" fmla="*/ 0 w 7010280"/>
              <a:gd name="textAreaRight" fmla="*/ 7010640 w 7010280"/>
              <a:gd name="textAreaTop" fmla="*/ 138240 h 1066680"/>
              <a:gd name="textAreaBottom" fmla="*/ 9284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- استراتيجية التناف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5105520"/>
            <a:ext cx="46479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Times New Roman"/>
              </a:rPr>
              <a:t>استراتيجية متنوعة</a:t>
            </a:r>
            <a:br>
              <a:rPr sz="2200"/>
            </a:br>
            <a:r>
              <a:rPr b="1" lang="ar-SA" sz="2200" spc="-1" strike="noStrike">
                <a:solidFill>
                  <a:srgbClr val="ff0000"/>
                </a:solidFill>
                <a:latin typeface="Times New Roman"/>
              </a:rPr>
              <a:t>المرونة ، تمكين العاملين ، تحقيق ولاء العمي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4952880" y="2590920"/>
            <a:ext cx="2667240" cy="1181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- تقديم المنتج ل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172200" y="1295280"/>
            <a:ext cx="2666880" cy="11811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ar-SA" sz="2200" spc="-1" strike="noStrike">
                <a:solidFill>
                  <a:srgbClr val="ffffff"/>
                </a:solidFill>
                <a:latin typeface="Times New Roman"/>
              </a:rPr>
              <a:t>- التصميم والابتكا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85800" y="5257800"/>
            <a:ext cx="2666880" cy="1181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ar-SA" sz="2200" spc="-1" strike="noStrike">
                <a:solidFill>
                  <a:srgbClr val="ff0000"/>
                </a:solidFill>
                <a:latin typeface="Times New Roman"/>
              </a:rPr>
              <a:t>- الانكما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990720" y="2895480"/>
            <a:ext cx="2666880" cy="11811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ar-SA" sz="2100" spc="-1" strike="noStrike">
                <a:solidFill>
                  <a:srgbClr val="ff0000"/>
                </a:solidFill>
                <a:latin typeface="Times New Roman"/>
              </a:rPr>
              <a:t>- النمو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4572000"/>
            <a:ext cx="2667240" cy="1181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 النضو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200240" y="114480"/>
            <a:ext cx="7010280" cy="1066680"/>
          </a:xfrm>
          <a:custGeom>
            <a:avLst/>
            <a:gdLst>
              <a:gd name="textAreaLeft" fmla="*/ 0 w 7010280"/>
              <a:gd name="textAreaRight" fmla="*/ 7010640 w 7010280"/>
              <a:gd name="textAreaTop" fmla="*/ 138240 h 1066680"/>
              <a:gd name="textAreaBottom" fmla="*/ 9284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– دورة حياة المنتج /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3581280" y="2133720"/>
            <a:ext cx="2210040" cy="1181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التموي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477120" y="2133720"/>
            <a:ext cx="2209680" cy="1181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</a:rPr>
              <a:t>التسوي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38080" y="3809880"/>
            <a:ext cx="2210040" cy="1181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البحوث والتطوي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9480" y="2057400"/>
            <a:ext cx="2210040" cy="1181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ff0000"/>
                </a:solidFill>
                <a:latin typeface="Times New Roman"/>
              </a:rPr>
              <a:t>العمليات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553080" y="3886200"/>
            <a:ext cx="2210040" cy="1181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الموارد البش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581280" y="3886200"/>
            <a:ext cx="2210040" cy="11811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الشر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990720" y="152280"/>
            <a:ext cx="7315200" cy="106704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الإستراتيجيات الوظيف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990720" y="1676520"/>
            <a:ext cx="7315200" cy="198108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imes New Roman"/>
                <a:cs typeface="Simplified Arabic"/>
              </a:rPr>
              <a:t>القيادة الإدارية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قدوة ، الا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ناع ، التحفيز ، الاتصال ، تبادل المعلومات ،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بني ثقافة المنظمة ، المشاركة ، التنسيق ، المرو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914400" y="4038480"/>
            <a:ext cx="7315200" cy="21337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66"/>
                </a:solidFill>
                <a:uFillTx/>
                <a:latin typeface="Times New Roman"/>
                <a:cs typeface="Simplified Arabic"/>
              </a:rPr>
              <a:t>الشكل التنظيمي</a:t>
            </a:r>
            <a:br>
              <a:rPr sz="2400"/>
            </a:br>
            <a:r>
              <a:rPr b="1" lang="ar-SA" sz="24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هيكل ، الوحدات والإدارات والأقسام ، درجة المركزية اللامركزية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Simplified Arabic"/>
              </a:rPr>
              <a:t> </a:t>
            </a:r>
            <a:r>
              <a:rPr b="1" lang="ar-SA" sz="24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،</a:t>
            </a:r>
            <a:br>
              <a:rPr sz="2400"/>
            </a:br>
            <a:r>
              <a:rPr b="1" lang="ar-SA" sz="24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تصميم الوظائف ، الامكانات البشرية والما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905120" y="457200"/>
            <a:ext cx="5773680" cy="9144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نفيذ الإستراتيجية والرقابة علي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990720" y="1676520"/>
            <a:ext cx="7315200" cy="1981080"/>
          </a:xfrm>
          <a:prstGeom prst="flowChartTerminator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  <a:cs typeface="Simplified Arabic"/>
              </a:rPr>
              <a:t>فريق العمل</a:t>
            </a: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أهداف ، العلاقات ، القيم ، الأدوار ، القواعد ا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ل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سلوكية ،</a:t>
            </a: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مشاعر والاحاسيس ، العلاقات العضوية التبادلية ،</a:t>
            </a: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رغبة والاستعداد للمشاركة ، الولاء للفريق والمنظم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914400" y="4038480"/>
            <a:ext cx="7315200" cy="21337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  <a:cs typeface="Simplified Arabic"/>
              </a:rPr>
              <a:t>الموارد البشرية</a:t>
            </a: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مؤهلات الملائمة ، التوجه السليم ، الشخصيات الناضجة</a:t>
            </a: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قيم الصالحة ، التدريب والتنمية المستمرة ، الدافعية العالية للإنجاز ،</a:t>
            </a: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قدرات الإبتكارية ، التعاون ، الول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905120" y="457200"/>
            <a:ext cx="57736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تنفيذ الإستراتيجية والرقابة علي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990720" y="1676520"/>
            <a:ext cx="7315200" cy="1981080"/>
          </a:xfrm>
          <a:prstGeom prst="flowChartTerminator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imes New Roman"/>
                <a:cs typeface="Simplified Arabic"/>
              </a:rPr>
              <a:t>نظم المعلومات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معلومات : الملائمة ، الكافية ، في الوقت المناسب ،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دقيقة ، التي ي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كن الاعتماد عليها ، عنصر التكالي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914400" y="4038480"/>
            <a:ext cx="7315200" cy="213372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imes New Roman"/>
                <a:cs typeface="Simplified Arabic"/>
              </a:rPr>
              <a:t>نظم الرقابة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لي التشغيل ، الموارد ، التكاليف ، الحوافز ،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إجراءات والقواعد ، تصحيح الأخطاء ، التطوي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457200"/>
            <a:ext cx="57736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تنفيذ الإستراتيجية والرقابة علي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286000"/>
            <a:ext cx="8229600" cy="30481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الإدارة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ه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 تلك العملية التي تنجز أهداف المنظمة من خل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2800"/>
            </a:b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التخطيط ، والتنظيم ، والقيادة ، والرقابة ، لاستغلال الموارد </a:t>
            </a:r>
            <a:br>
              <a:rPr sz="2800"/>
            </a:b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المتاحة بكفاءة وفاع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990720"/>
            <a:ext cx="640080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عملية الإدارية والفكر الإستراتيج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u"/>
    <p:sndAc>
      <p:stSnd>
        <p:snd r:embed="rId1" name="chimes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3505320" y="2514600"/>
            <a:ext cx="2666880" cy="19224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</a:rPr>
              <a:t>الأهداف </a:t>
            </a:r>
            <a:br>
              <a:rPr sz="4000"/>
            </a:br>
            <a:r>
              <a:rPr b="1" lang="ar-SA" sz="4000" spc="-1" strike="noStrike">
                <a:solidFill>
                  <a:srgbClr val="ff0000"/>
                </a:solidFill>
                <a:latin typeface="Times New Roman"/>
              </a:rPr>
              <a:t>الإستراتيج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4191120" y="304920"/>
            <a:ext cx="1066680" cy="1752480"/>
            <a:chOff x="4191120" y="304920"/>
            <a:chExt cx="1066680" cy="1752480"/>
          </a:xfrm>
        </p:grpSpPr>
        <p:sp>
          <p:nvSpPr>
            <p:cNvPr id="736" name=""/>
            <p:cNvSpPr/>
            <p:nvPr/>
          </p:nvSpPr>
          <p:spPr>
            <a:xfrm>
              <a:off x="4191120" y="304920"/>
              <a:ext cx="1066680" cy="9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Times New Roman"/>
                </a:rPr>
                <a:t>التنظي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724280" y="1295280"/>
              <a:ext cx="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1600200" y="1143000"/>
            <a:ext cx="1600200" cy="1371600"/>
            <a:chOff x="1600200" y="1143000"/>
            <a:chExt cx="1600200" cy="1371600"/>
          </a:xfrm>
        </p:grpSpPr>
        <p:sp>
          <p:nvSpPr>
            <p:cNvPr id="739" name=""/>
            <p:cNvSpPr/>
            <p:nvPr/>
          </p:nvSpPr>
          <p:spPr>
            <a:xfrm>
              <a:off x="1600200" y="1143000"/>
              <a:ext cx="1066680" cy="990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إدارة</a:t>
              </a:r>
              <a:br>
                <a:rPr sz="1800"/>
              </a:b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الموارد </a:t>
              </a:r>
              <a:br>
                <a:rPr sz="1800"/>
              </a:b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البشري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514600" y="1981080"/>
              <a:ext cx="685800" cy="533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1600200" y="3733560"/>
            <a:ext cx="1676520" cy="1219320"/>
            <a:chOff x="1600200" y="3733560"/>
            <a:chExt cx="1676520" cy="1219320"/>
          </a:xfrm>
        </p:grpSpPr>
        <p:sp>
          <p:nvSpPr>
            <p:cNvPr id="742" name=""/>
            <p:cNvSpPr/>
            <p:nvPr/>
          </p:nvSpPr>
          <p:spPr>
            <a:xfrm>
              <a:off x="1600200" y="3962520"/>
              <a:ext cx="1066680" cy="9903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الرقاب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590920" y="3733560"/>
              <a:ext cx="685800" cy="533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4038480" y="4267080"/>
            <a:ext cx="1067040" cy="1905120"/>
            <a:chOff x="4038480" y="4267080"/>
            <a:chExt cx="1067040" cy="1905120"/>
          </a:xfrm>
        </p:grpSpPr>
        <p:sp>
          <p:nvSpPr>
            <p:cNvPr id="745" name=""/>
            <p:cNvSpPr/>
            <p:nvPr/>
          </p:nvSpPr>
          <p:spPr>
            <a:xfrm>
              <a:off x="4038480" y="5181480"/>
              <a:ext cx="1067040" cy="990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0000"/>
                  </a:solidFill>
                  <a:latin typeface="Times New Roman"/>
                </a:rPr>
                <a:t>نظم 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ا</a:t>
              </a:r>
              <a:r>
                <a:rPr b="1" lang="ar-SA" sz="2000" spc="-1" strike="noStrike">
                  <a:solidFill>
                    <a:srgbClr val="ff0000"/>
                  </a:solidFill>
                  <a:latin typeface="Times New Roman"/>
                </a:rPr>
                <a:t>لمعلوما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4572000" y="4267080"/>
              <a:ext cx="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6400440" y="4038120"/>
            <a:ext cx="1448280" cy="1600560"/>
            <a:chOff x="6400440" y="4038120"/>
            <a:chExt cx="1448280" cy="1600560"/>
          </a:xfrm>
        </p:grpSpPr>
        <p:sp>
          <p:nvSpPr>
            <p:cNvPr id="748" name=""/>
            <p:cNvSpPr/>
            <p:nvPr/>
          </p:nvSpPr>
          <p:spPr>
            <a:xfrm>
              <a:off x="6781680" y="4648320"/>
              <a:ext cx="1067040" cy="990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Times New Roman"/>
                </a:rPr>
                <a:t>فريق </a:t>
              </a:r>
              <a:br>
                <a:rPr sz="2400"/>
              </a:br>
              <a:r>
                <a:rPr b="1" lang="ar-SA" sz="2400" spc="-1" strike="noStrike">
                  <a:solidFill>
                    <a:srgbClr val="ffffff"/>
                  </a:solidFill>
                  <a:latin typeface="Times New Roman"/>
                </a:rPr>
                <a:t>العم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 flipV="1">
              <a:off x="6400440" y="4038120"/>
              <a:ext cx="60948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6400440" y="838080"/>
            <a:ext cx="1600560" cy="1524240"/>
            <a:chOff x="6400440" y="838080"/>
            <a:chExt cx="1600560" cy="1524240"/>
          </a:xfrm>
        </p:grpSpPr>
        <p:sp>
          <p:nvSpPr>
            <p:cNvPr id="751" name=""/>
            <p:cNvSpPr/>
            <p:nvPr/>
          </p:nvSpPr>
          <p:spPr>
            <a:xfrm>
              <a:off x="6934320" y="838080"/>
              <a:ext cx="1066680" cy="990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Times New Roman"/>
                </a:rPr>
                <a:t>القياد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6400440" y="1676520"/>
              <a:ext cx="68580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1600200" y="304920"/>
            <a:ext cx="6400800" cy="5866920"/>
            <a:chOff x="1600200" y="304920"/>
            <a:chExt cx="6400800" cy="5866920"/>
          </a:xfrm>
        </p:grpSpPr>
        <p:grpSp>
          <p:nvGrpSpPr>
            <p:cNvPr id="754" name=""/>
            <p:cNvGrpSpPr/>
            <p:nvPr/>
          </p:nvGrpSpPr>
          <p:grpSpPr>
            <a:xfrm>
              <a:off x="4191120" y="304920"/>
              <a:ext cx="1066680" cy="1752480"/>
              <a:chOff x="4191120" y="304920"/>
              <a:chExt cx="1066680" cy="1752480"/>
            </a:xfrm>
          </p:grpSpPr>
          <p:sp>
            <p:nvSpPr>
              <p:cNvPr id="755" name=""/>
              <p:cNvSpPr/>
              <p:nvPr/>
            </p:nvSpPr>
            <p:spPr>
              <a:xfrm>
                <a:off x="4191120" y="304920"/>
                <a:ext cx="1066680" cy="99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ffff"/>
                    </a:solidFill>
                    <a:latin typeface="Times New Roman"/>
                  </a:rPr>
                  <a:t>التنظيم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724280" y="1295280"/>
                <a:ext cx="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1600200" y="1143000"/>
              <a:ext cx="1600200" cy="1371600"/>
              <a:chOff x="1600200" y="1143000"/>
              <a:chExt cx="1600200" cy="1371600"/>
            </a:xfrm>
          </p:grpSpPr>
          <p:sp>
            <p:nvSpPr>
              <p:cNvPr id="758" name=""/>
              <p:cNvSpPr/>
              <p:nvPr/>
            </p:nvSpPr>
            <p:spPr>
              <a:xfrm>
                <a:off x="1600200" y="1143000"/>
                <a:ext cx="1066680" cy="9907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</a:rPr>
                  <a:t>إدارة</a:t>
                </a:r>
                <a:br>
                  <a:rPr sz="1800"/>
                </a:b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</a:rPr>
                  <a:t>الموارد </a:t>
                </a:r>
                <a:br>
                  <a:rPr sz="1800"/>
                </a:b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</a:rPr>
                  <a:t>البشري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514600" y="1981080"/>
                <a:ext cx="685800" cy="533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1600200" y="3733560"/>
              <a:ext cx="1676520" cy="1219320"/>
              <a:chOff x="1600200" y="3733560"/>
              <a:chExt cx="1676520" cy="1219320"/>
            </a:xfrm>
          </p:grpSpPr>
          <p:sp>
            <p:nvSpPr>
              <p:cNvPr id="761" name=""/>
              <p:cNvSpPr/>
              <p:nvPr/>
            </p:nvSpPr>
            <p:spPr>
              <a:xfrm>
                <a:off x="1600200" y="3962520"/>
                <a:ext cx="1066680" cy="99036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Times New Roman"/>
                  </a:rPr>
                  <a:t>الرقابة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2590920" y="3733560"/>
                <a:ext cx="685800" cy="533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4038840" y="4267080"/>
              <a:ext cx="1066680" cy="1904760"/>
              <a:chOff x="4038840" y="4267080"/>
              <a:chExt cx="1066680" cy="1904760"/>
            </a:xfrm>
          </p:grpSpPr>
          <p:sp>
            <p:nvSpPr>
              <p:cNvPr id="764" name=""/>
              <p:cNvSpPr/>
              <p:nvPr/>
            </p:nvSpPr>
            <p:spPr>
              <a:xfrm>
                <a:off x="4038840" y="5181480"/>
                <a:ext cx="1066680" cy="990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ff0000"/>
                    </a:solidFill>
                    <a:latin typeface="Times New Roman"/>
                  </a:rPr>
                  <a:t>نظم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ا</a:t>
                </a:r>
                <a:r>
                  <a:rPr b="1" lang="ar-SA" sz="2000" spc="-1" strike="noStrike">
                    <a:solidFill>
                      <a:srgbClr val="ff0000"/>
                    </a:solidFill>
                    <a:latin typeface="Times New Roman"/>
                  </a:rPr>
                  <a:t>لمعلومات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V="1">
                <a:off x="4572000" y="4267080"/>
                <a:ext cx="0" cy="914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6400440" y="4038480"/>
              <a:ext cx="1448280" cy="1600560"/>
              <a:chOff x="6400440" y="4038480"/>
              <a:chExt cx="1448280" cy="1600560"/>
            </a:xfrm>
          </p:grpSpPr>
          <p:sp>
            <p:nvSpPr>
              <p:cNvPr id="767" name=""/>
              <p:cNvSpPr/>
              <p:nvPr/>
            </p:nvSpPr>
            <p:spPr>
              <a:xfrm>
                <a:off x="6781680" y="4648680"/>
                <a:ext cx="1067040" cy="9903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ffff"/>
                    </a:solidFill>
                    <a:latin typeface="Times New Roman"/>
                  </a:rPr>
                  <a:t>فريق </a:t>
                </a:r>
                <a:br>
                  <a:rPr sz="2400"/>
                </a:br>
                <a:r>
                  <a:rPr b="1" lang="ar-SA" sz="2400" spc="-1" strike="noStrike">
                    <a:solidFill>
                      <a:srgbClr val="ffffff"/>
                    </a:solidFill>
                    <a:latin typeface="Times New Roman"/>
                  </a:rPr>
                  <a:t>العمل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 flipV="1">
                <a:off x="6400440" y="4038480"/>
                <a:ext cx="609480" cy="685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6400440" y="838440"/>
              <a:ext cx="1600560" cy="1523520"/>
              <a:chOff x="6400440" y="838440"/>
              <a:chExt cx="1600560" cy="1523520"/>
            </a:xfrm>
          </p:grpSpPr>
          <p:sp>
            <p:nvSpPr>
              <p:cNvPr id="770" name=""/>
              <p:cNvSpPr/>
              <p:nvPr/>
            </p:nvSpPr>
            <p:spPr>
              <a:xfrm>
                <a:off x="6934320" y="838440"/>
                <a:ext cx="1066680" cy="990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ffff"/>
                    </a:solidFill>
                    <a:latin typeface="Times New Roman"/>
                  </a:rPr>
                  <a:t>القيادة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6400440" y="1676520"/>
                <a:ext cx="685800" cy="685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1752480" y="152280"/>
            <a:ext cx="5943600" cy="838440"/>
          </a:xfrm>
          <a:custGeom>
            <a:avLst/>
            <a:gdLst>
              <a:gd name="textAreaLeft" fmla="*/ 0 w 5943600"/>
              <a:gd name="textAreaRight" fmla="*/ 5943960 w 5943600"/>
              <a:gd name="textAreaTop" fmla="*/ 108720 h 838440"/>
              <a:gd name="textAreaBottom" fmla="*/ 7297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ff6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Simplified Arabic"/>
              </a:rPr>
              <a:t>تنفيذ الإستراتيجية بروح المرو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095880" y="1371600"/>
            <a:ext cx="2743200" cy="685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استقلالية التحرك الذات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514600" y="1295280"/>
            <a:ext cx="2743200" cy="685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مثابرة ، الج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124080" y="2209680"/>
            <a:ext cx="2743200" cy="685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طموح ، الدافع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791320" y="3276720"/>
            <a:ext cx="2743200" cy="6858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تحمل الغموض والمخاط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172200" y="2286000"/>
            <a:ext cx="2743200" cy="685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طاقات المتنو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28600" y="1752480"/>
            <a:ext cx="274320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0000"/>
                </a:solidFill>
                <a:latin typeface="Times New Roman"/>
                <a:cs typeface="Simplified Arabic"/>
              </a:rPr>
              <a:t>التوجه بالنتائ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943600" y="4191120"/>
            <a:ext cx="274320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نجاح المتتاب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743200" y="4191120"/>
            <a:ext cx="2743200" cy="685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فكير للمستقب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743200" y="3200400"/>
            <a:ext cx="2743200" cy="685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ثقة بالنف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019920" y="5257800"/>
            <a:ext cx="2743200" cy="685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وظيف القدرات الذات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666880" y="6172200"/>
            <a:ext cx="2743200" cy="685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غيير ، التكي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971800" y="5181480"/>
            <a:ext cx="2743200" cy="685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تنمية المستمرة للذ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52280" y="2666880"/>
            <a:ext cx="2743200" cy="6858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التنافس الذا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562720" y="6019920"/>
            <a:ext cx="2743200" cy="685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تعليم المستم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04920" y="3733920"/>
            <a:ext cx="274320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إبدا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52280" y="5486400"/>
            <a:ext cx="2743200" cy="685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ريادة - الصف الأ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28600" y="4648320"/>
            <a:ext cx="2743200" cy="685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تخاذ القرارات غير التقلي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57200" y="6172200"/>
            <a:ext cx="2133720" cy="685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قبول التحد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  <p:sndAc>
      <p:stSnd>
        <p:snd r:embed="rId2" name="chimes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"/>
          <p:cNvGrpSpPr/>
          <p:nvPr/>
        </p:nvGrpSpPr>
        <p:grpSpPr>
          <a:xfrm>
            <a:off x="914400" y="3124080"/>
            <a:ext cx="3409920" cy="3309840"/>
            <a:chOff x="914400" y="3124080"/>
            <a:chExt cx="3409920" cy="3309840"/>
          </a:xfrm>
        </p:grpSpPr>
        <p:pic>
          <p:nvPicPr>
            <p:cNvPr id="792" name="openhand" descr=""/>
            <p:cNvPicPr/>
            <p:nvPr/>
          </p:nvPicPr>
          <p:blipFill>
            <a:blip r:embed="rId1"/>
            <a:stretch/>
          </p:blipFill>
          <p:spPr>
            <a:xfrm>
              <a:off x="914400" y="4865400"/>
              <a:ext cx="3409920" cy="15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1352520" y="3124080"/>
              <a:ext cx="2133720" cy="251460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4" name=""/>
            <p:cNvGraphicFramePr/>
            <p:nvPr/>
          </p:nvGraphicFramePr>
          <p:xfrm>
            <a:off x="1628640" y="3371760"/>
            <a:ext cx="1568520" cy="2057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28640" y="3371760"/>
                      <a:ext cx="1568520" cy="2057400"/>
                    </a:xfrm>
                    <a:prstGeom prst="rect">
                      <a:avLst/>
                    </a:prstGeom>
                    <a:ln w="7632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796" name=""/>
          <p:cNvSpPr/>
          <p:nvPr/>
        </p:nvSpPr>
        <p:spPr>
          <a:xfrm>
            <a:off x="3581280" y="838080"/>
            <a:ext cx="4800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cc0000"/>
                </a:solidFill>
                <a:latin typeface="Times New Roman"/>
                <a:cs typeface="Times New Roman (Arabic)"/>
              </a:rPr>
              <a:t>شكراً ،،،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191120" y="3200400"/>
            <a:ext cx="4267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Simplified Arabic"/>
              </a:rPr>
              <a:t>علي محمد عبد الوهاب</a:t>
            </a:r>
            <a:endParaRPr b="0" i="1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Simplified Arabic"/>
              <a:ea typeface="Simplified Arabic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4"/>
          <a:stretch/>
        </p:blipFill>
        <p:spPr>
          <a:xfrm>
            <a:off x="304920" y="457200"/>
            <a:ext cx="2101680" cy="3041640"/>
          </a:xfrm>
          <a:prstGeom prst="rect">
            <a:avLst/>
          </a:prstGeom>
          <a:ln w="0">
            <a:noFill/>
          </a:ln>
        </p:spPr>
      </p:pic>
      <p:grpSp>
        <p:nvGrpSpPr>
          <p:cNvPr id="799" name=""/>
          <p:cNvGrpSpPr/>
          <p:nvPr/>
        </p:nvGrpSpPr>
        <p:grpSpPr>
          <a:xfrm>
            <a:off x="914400" y="3124080"/>
            <a:ext cx="3409920" cy="3310200"/>
            <a:chOff x="914400" y="3124080"/>
            <a:chExt cx="3409920" cy="3310200"/>
          </a:xfrm>
        </p:grpSpPr>
        <p:pic>
          <p:nvPicPr>
            <p:cNvPr id="800" name="openhand" descr=""/>
            <p:cNvPicPr/>
            <p:nvPr/>
          </p:nvPicPr>
          <p:blipFill>
            <a:blip r:embed="rId5"/>
            <a:stretch/>
          </p:blipFill>
          <p:spPr>
            <a:xfrm>
              <a:off x="914400" y="4865760"/>
              <a:ext cx="3409920" cy="15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"/>
            <p:cNvSpPr/>
            <p:nvPr/>
          </p:nvSpPr>
          <p:spPr>
            <a:xfrm>
              <a:off x="1352520" y="3124080"/>
              <a:ext cx="2133720" cy="251460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2" name="dr%20ali%20ph2" descr=""/>
            <p:cNvPicPr/>
            <p:nvPr/>
          </p:nvPicPr>
          <p:blipFill>
            <a:blip r:embed="rId6"/>
            <a:stretch/>
          </p:blipFill>
          <p:spPr>
            <a:xfrm>
              <a:off x="1676520" y="3429000"/>
              <a:ext cx="1533240" cy="1981080"/>
            </a:xfrm>
            <a:prstGeom prst="rect">
              <a:avLst/>
            </a:prstGeom>
            <a:ln w="76320">
              <a:solidFill>
                <a:srgbClr val="000066"/>
              </a:solidFill>
              <a:miter/>
            </a:ln>
          </p:spPr>
        </p:pic>
      </p:grpSp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477120" y="1752480"/>
            <a:ext cx="213336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عم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3581280"/>
            <a:ext cx="213336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جتماع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5334120"/>
            <a:ext cx="2133360" cy="99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مستمر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43800" y="274320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43800" y="4572000"/>
            <a:ext cx="0" cy="762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304920"/>
            <a:ext cx="3200400" cy="9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الإدار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828800"/>
            <a:ext cx="5867640" cy="91440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نشاط حركي مرك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3657600"/>
            <a:ext cx="5867640" cy="914400"/>
          </a:xfrm>
          <a:prstGeom prst="flowChartTermina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تضمن الناس – جزء من المجتم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5410080"/>
            <a:ext cx="5867640" cy="914400"/>
          </a:xfrm>
          <a:prstGeom prst="flowChartTermina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باستمرار الحاجة لمنتجات / خدمات المنظ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u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05120" y="914400"/>
            <a:ext cx="5333760" cy="5181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1828800"/>
            <a:ext cx="106668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التخطي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1828800"/>
            <a:ext cx="1066680" cy="990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رقاب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62720" y="3962520"/>
            <a:ext cx="1066680" cy="9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التنظي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3962520"/>
            <a:ext cx="1066680" cy="990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قيا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13372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2438280"/>
            <a:ext cx="1905120" cy="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464832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4267080"/>
            <a:ext cx="1905120" cy="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00800" y="274320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2781360"/>
            <a:ext cx="0" cy="121932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274320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2781360"/>
            <a:ext cx="0" cy="121932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638160" y="2685600"/>
            <a:ext cx="2057760" cy="1371960"/>
            <a:chOff x="3638160" y="2685600"/>
            <a:chExt cx="2057760" cy="1371960"/>
          </a:xfrm>
        </p:grpSpPr>
        <p:sp>
          <p:nvSpPr>
            <p:cNvPr id="100" name=""/>
            <p:cNvSpPr/>
            <p:nvPr/>
          </p:nvSpPr>
          <p:spPr>
            <a:xfrm>
              <a:off x="3924360" y="2914560"/>
              <a:ext cx="137160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اتخاذ القرارات</a:t>
              </a:r>
              <a:br>
                <a:rPr sz="1800"/>
              </a:b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(الابتكار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5315040" y="2685600"/>
              <a:ext cx="3808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95960" y="382896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3676320" y="382896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3638160" y="268560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d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543800" y="2667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بيا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209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فاع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0120" y="819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سم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81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ل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كفاءة – الكفاء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81900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فاعلية – الكفاءة الخار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28600" y="1352520"/>
            <a:ext cx="3885840" cy="825480"/>
            <a:chOff x="228600" y="1352520"/>
            <a:chExt cx="3885840" cy="825480"/>
          </a:xfrm>
        </p:grpSpPr>
        <p:sp>
          <p:nvSpPr>
            <p:cNvPr id="111" name=""/>
            <p:cNvSpPr/>
            <p:nvPr/>
          </p:nvSpPr>
          <p:spPr>
            <a:xfrm>
              <a:off x="345960" y="1352520"/>
              <a:ext cx="3650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رسالة – الغايات ( استراتيجية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8600" y="1352520"/>
              <a:ext cx="38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4114800" y="13525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وسائل ، الامكانات ( تشغيل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1581120"/>
            <a:ext cx="20797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7219800" y="1352520"/>
            <a:ext cx="1828440" cy="825480"/>
            <a:chOff x="7219800" y="1352520"/>
            <a:chExt cx="1828440" cy="825480"/>
          </a:xfrm>
        </p:grpSpPr>
        <p:sp>
          <p:nvSpPr>
            <p:cNvPr id="116" name=""/>
            <p:cNvSpPr/>
            <p:nvPr/>
          </p:nvSpPr>
          <p:spPr>
            <a:xfrm>
              <a:off x="7303680" y="1352520"/>
              <a:ext cx="1660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محور الاهتما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19800" y="1352520"/>
              <a:ext cx="182844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206360" y="1844640"/>
            <a:ext cx="2908080" cy="639720"/>
            <a:chOff x="1206360" y="1844640"/>
            <a:chExt cx="2908080" cy="639720"/>
          </a:xfrm>
        </p:grpSpPr>
        <p:sp>
          <p:nvSpPr>
            <p:cNvPr id="119" name=""/>
            <p:cNvSpPr/>
            <p:nvPr/>
          </p:nvSpPr>
          <p:spPr>
            <a:xfrm>
              <a:off x="1294200" y="1844640"/>
              <a:ext cx="27324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أهدا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06360" y="1844640"/>
              <a:ext cx="29080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336920" y="1874880"/>
            <a:ext cx="3054240" cy="639720"/>
            <a:chOff x="4336920" y="1874880"/>
            <a:chExt cx="3054240" cy="639720"/>
          </a:xfrm>
        </p:grpSpPr>
        <p:sp>
          <p:nvSpPr>
            <p:cNvPr id="122" name=""/>
            <p:cNvSpPr/>
            <p:nvPr/>
          </p:nvSpPr>
          <p:spPr>
            <a:xfrm>
              <a:off x="4436640" y="1874880"/>
              <a:ext cx="28537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عمليات النظا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336920" y="1874880"/>
              <a:ext cx="30542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543800" y="1905120"/>
            <a:ext cx="1258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متغير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014480" y="2470320"/>
            <a:ext cx="3023640" cy="882360"/>
            <a:chOff x="1014480" y="2470320"/>
            <a:chExt cx="3023640" cy="882360"/>
          </a:xfrm>
        </p:grpSpPr>
        <p:sp>
          <p:nvSpPr>
            <p:cNvPr id="126" name=""/>
            <p:cNvSpPr/>
            <p:nvPr/>
          </p:nvSpPr>
          <p:spPr>
            <a:xfrm>
              <a:off x="1105560" y="2470320"/>
              <a:ext cx="2840760" cy="8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عمل الأشياء الصحيح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14480" y="2470320"/>
              <a:ext cx="3023640" cy="8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2438280"/>
            <a:ext cx="3352320" cy="882720"/>
            <a:chOff x="4114800" y="2438280"/>
            <a:chExt cx="3352320" cy="882720"/>
          </a:xfrm>
        </p:grpSpPr>
        <p:sp>
          <p:nvSpPr>
            <p:cNvPr id="129" name=""/>
            <p:cNvSpPr/>
            <p:nvPr/>
          </p:nvSpPr>
          <p:spPr>
            <a:xfrm>
              <a:off x="4224240" y="2438280"/>
              <a:ext cx="313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عمل الأشياء بطريقة صحيح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14800" y="2438280"/>
              <a:ext cx="33523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238880" y="2438280"/>
            <a:ext cx="1687320" cy="609840"/>
            <a:chOff x="7238880" y="2438280"/>
            <a:chExt cx="1687320" cy="609840"/>
          </a:xfrm>
        </p:grpSpPr>
        <p:sp>
          <p:nvSpPr>
            <p:cNvPr id="132" name=""/>
            <p:cNvSpPr/>
            <p:nvPr/>
          </p:nvSpPr>
          <p:spPr>
            <a:xfrm>
              <a:off x="7316280" y="2438280"/>
              <a:ext cx="1532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الطريق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38880" y="2438280"/>
              <a:ext cx="16873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898640" y="4394160"/>
            <a:ext cx="58341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014480" y="2971800"/>
            <a:ext cx="3023640" cy="825480"/>
            <a:chOff x="1014480" y="2971800"/>
            <a:chExt cx="3023640" cy="825480"/>
          </a:xfrm>
        </p:grpSpPr>
        <p:sp>
          <p:nvSpPr>
            <p:cNvPr id="136" name=""/>
            <p:cNvSpPr/>
            <p:nvPr/>
          </p:nvSpPr>
          <p:spPr>
            <a:xfrm>
              <a:off x="1105560" y="2971800"/>
              <a:ext cx="2840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نهائي ، المدى البعي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14480" y="2971800"/>
              <a:ext cx="30236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319640" y="2971800"/>
            <a:ext cx="3139560" cy="533520"/>
            <a:chOff x="4319640" y="2971800"/>
            <a:chExt cx="3139560" cy="533520"/>
          </a:xfrm>
        </p:grpSpPr>
        <p:sp>
          <p:nvSpPr>
            <p:cNvPr id="139" name=""/>
            <p:cNvSpPr/>
            <p:nvPr/>
          </p:nvSpPr>
          <p:spPr>
            <a:xfrm>
              <a:off x="4422240" y="2971800"/>
              <a:ext cx="29336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مرحلي ، المدى القري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9640" y="2971800"/>
              <a:ext cx="3139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7238880" y="2971800"/>
            <a:ext cx="1676160" cy="609480"/>
            <a:chOff x="7238880" y="2971800"/>
            <a:chExt cx="1676160" cy="609480"/>
          </a:xfrm>
        </p:grpSpPr>
        <p:sp>
          <p:nvSpPr>
            <p:cNvPr id="142" name=""/>
            <p:cNvSpPr/>
            <p:nvPr/>
          </p:nvSpPr>
          <p:spPr>
            <a:xfrm>
              <a:off x="7315920" y="2971800"/>
              <a:ext cx="1522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مدى الزمني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38880" y="2971800"/>
              <a:ext cx="1676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7162920" y="3505320"/>
            <a:ext cx="1860120" cy="609480"/>
            <a:chOff x="7162920" y="3505320"/>
            <a:chExt cx="1860120" cy="609480"/>
          </a:xfrm>
        </p:grpSpPr>
        <p:sp>
          <p:nvSpPr>
            <p:cNvPr id="145" name=""/>
            <p:cNvSpPr/>
            <p:nvPr/>
          </p:nvSpPr>
          <p:spPr>
            <a:xfrm>
              <a:off x="7248240" y="3505320"/>
              <a:ext cx="1689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قيا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2920" y="3505320"/>
              <a:ext cx="1860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28600" y="133200"/>
            <a:ext cx="8686800" cy="6496200"/>
            <a:chOff x="228600" y="133200"/>
            <a:chExt cx="8686800" cy="6496200"/>
          </a:xfrm>
        </p:grpSpPr>
        <p:sp>
          <p:nvSpPr>
            <p:cNvPr id="148" name=""/>
            <p:cNvSpPr/>
            <p:nvPr/>
          </p:nvSpPr>
          <p:spPr>
            <a:xfrm flipH="1">
              <a:off x="228600" y="1332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228600" y="74304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228600" y="41148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14800" y="152280"/>
              <a:ext cx="0" cy="647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915400" y="133200"/>
              <a:ext cx="0" cy="649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91520" y="133200"/>
              <a:ext cx="0" cy="649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" y="133200"/>
              <a:ext cx="0" cy="649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228600" y="12762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28600" y="188604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228600" y="243828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228600" y="29718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28600" y="350532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8600" y="472428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228600" y="550548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28600" y="60390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28600" y="66294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0" y="4197240"/>
            <a:ext cx="4114440" cy="679680"/>
            <a:chOff x="0" y="4197240"/>
            <a:chExt cx="4114440" cy="679680"/>
          </a:xfrm>
        </p:grpSpPr>
        <p:sp>
          <p:nvSpPr>
            <p:cNvPr id="165" name=""/>
            <p:cNvSpPr/>
            <p:nvPr/>
          </p:nvSpPr>
          <p:spPr>
            <a:xfrm>
              <a:off x="124200" y="4197240"/>
              <a:ext cx="386568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خارجية ( المنافسة ، الربحية ، رضا المجتمع ..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197240"/>
              <a:ext cx="411444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114800" y="4114800"/>
            <a:ext cx="3352320" cy="679320"/>
            <a:chOff x="4114800" y="4114800"/>
            <a:chExt cx="3352320" cy="679320"/>
          </a:xfrm>
        </p:grpSpPr>
        <p:sp>
          <p:nvSpPr>
            <p:cNvPr id="168" name=""/>
            <p:cNvSpPr/>
            <p:nvPr/>
          </p:nvSpPr>
          <p:spPr>
            <a:xfrm>
              <a:off x="4224240" y="4114800"/>
              <a:ext cx="313236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داخلية ( التكلفة، الجودة ، السلامة ، الإجراءات ...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14800" y="4114800"/>
              <a:ext cx="335232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7162920" y="4133880"/>
            <a:ext cx="1860120" cy="609480"/>
            <a:chOff x="7162920" y="4133880"/>
            <a:chExt cx="1860120" cy="609480"/>
          </a:xfrm>
        </p:grpSpPr>
        <p:sp>
          <p:nvSpPr>
            <p:cNvPr id="171" name=""/>
            <p:cNvSpPr/>
            <p:nvPr/>
          </p:nvSpPr>
          <p:spPr>
            <a:xfrm>
              <a:off x="7248240" y="4133880"/>
              <a:ext cx="1689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مؤشرا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62920" y="4133880"/>
              <a:ext cx="1860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-31680" y="4883040"/>
            <a:ext cx="4114440" cy="679680"/>
            <a:chOff x="-31680" y="4883040"/>
            <a:chExt cx="4114440" cy="679680"/>
          </a:xfrm>
        </p:grpSpPr>
        <p:sp>
          <p:nvSpPr>
            <p:cNvPr id="174" name=""/>
            <p:cNvSpPr/>
            <p:nvPr/>
          </p:nvSpPr>
          <p:spPr>
            <a:xfrm>
              <a:off x="92520" y="4883040"/>
              <a:ext cx="386568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نتائج الأعما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-31680" y="4883040"/>
              <a:ext cx="411444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191120" y="4749840"/>
            <a:ext cx="3320640" cy="679320"/>
            <a:chOff x="4191120" y="4749840"/>
            <a:chExt cx="3320640" cy="679320"/>
          </a:xfrm>
        </p:grpSpPr>
        <p:sp>
          <p:nvSpPr>
            <p:cNvPr id="177" name=""/>
            <p:cNvSpPr/>
            <p:nvPr/>
          </p:nvSpPr>
          <p:spPr>
            <a:xfrm>
              <a:off x="4299480" y="4749840"/>
              <a:ext cx="31028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قتصاديات التشغيل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91120" y="4749840"/>
              <a:ext cx="33206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7086600" y="4762440"/>
            <a:ext cx="1860120" cy="609840"/>
            <a:chOff x="7086600" y="4762440"/>
            <a:chExt cx="1860120" cy="609840"/>
          </a:xfrm>
        </p:grpSpPr>
        <p:sp>
          <p:nvSpPr>
            <p:cNvPr id="180" name=""/>
            <p:cNvSpPr/>
            <p:nvPr/>
          </p:nvSpPr>
          <p:spPr>
            <a:xfrm>
              <a:off x="7171920" y="4762440"/>
              <a:ext cx="1689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تعبر عن 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86600" y="4762440"/>
              <a:ext cx="1860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-19080" y="5549760"/>
            <a:ext cx="4114440" cy="679680"/>
            <a:chOff x="-19080" y="5549760"/>
            <a:chExt cx="4114440" cy="679680"/>
          </a:xfrm>
        </p:grpSpPr>
        <p:sp>
          <p:nvSpPr>
            <p:cNvPr id="183" name=""/>
            <p:cNvSpPr/>
            <p:nvPr/>
          </p:nvSpPr>
          <p:spPr>
            <a:xfrm>
              <a:off x="105120" y="5549760"/>
              <a:ext cx="386568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بيئة المحيطة، العوامل الخارجي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-19080" y="5549760"/>
              <a:ext cx="411444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191120" y="5492880"/>
            <a:ext cx="3320640" cy="679320"/>
            <a:chOff x="4191120" y="5492880"/>
            <a:chExt cx="3320640" cy="679320"/>
          </a:xfrm>
        </p:grpSpPr>
        <p:sp>
          <p:nvSpPr>
            <p:cNvPr id="186" name=""/>
            <p:cNvSpPr/>
            <p:nvPr/>
          </p:nvSpPr>
          <p:spPr>
            <a:xfrm>
              <a:off x="4299480" y="5492880"/>
              <a:ext cx="31028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بيئة الداخلية، القدرات الذاتية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91120" y="5492880"/>
              <a:ext cx="33206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130880" y="5562720"/>
            <a:ext cx="1860480" cy="609480"/>
            <a:chOff x="7130880" y="5562720"/>
            <a:chExt cx="1860480" cy="609480"/>
          </a:xfrm>
        </p:grpSpPr>
        <p:sp>
          <p:nvSpPr>
            <p:cNvPr id="189" name=""/>
            <p:cNvSpPr/>
            <p:nvPr/>
          </p:nvSpPr>
          <p:spPr>
            <a:xfrm>
              <a:off x="7216200" y="5562720"/>
              <a:ext cx="1689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تتأثر بصفة رئيسية بـ 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30880" y="5562720"/>
              <a:ext cx="1860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-152280" y="6083280"/>
            <a:ext cx="4114440" cy="679320"/>
            <a:chOff x="-152280" y="6083280"/>
            <a:chExt cx="4114440" cy="679320"/>
          </a:xfrm>
        </p:grpSpPr>
        <p:sp>
          <p:nvSpPr>
            <p:cNvPr id="192" name=""/>
            <p:cNvSpPr/>
            <p:nvPr/>
          </p:nvSpPr>
          <p:spPr>
            <a:xfrm>
              <a:off x="-27720" y="6083280"/>
              <a:ext cx="386568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هامة جدا وتؤثر في درجة الكفاء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-152280" y="6083280"/>
              <a:ext cx="41144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962520" y="6083280"/>
            <a:ext cx="3593520" cy="679320"/>
            <a:chOff x="3962520" y="6083280"/>
            <a:chExt cx="3593520" cy="679320"/>
          </a:xfrm>
        </p:grpSpPr>
        <p:sp>
          <p:nvSpPr>
            <p:cNvPr id="195" name=""/>
            <p:cNvSpPr/>
            <p:nvPr/>
          </p:nvSpPr>
          <p:spPr>
            <a:xfrm>
              <a:off x="4079880" y="6083280"/>
              <a:ext cx="335772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هامة جدا وتؤثر في درجة الفعالية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62520" y="6083280"/>
              <a:ext cx="359352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7130880" y="6058080"/>
            <a:ext cx="1860480" cy="609480"/>
            <a:chOff x="7130880" y="6058080"/>
            <a:chExt cx="1860480" cy="609480"/>
          </a:xfrm>
        </p:grpSpPr>
        <p:sp>
          <p:nvSpPr>
            <p:cNvPr id="198" name=""/>
            <p:cNvSpPr/>
            <p:nvPr/>
          </p:nvSpPr>
          <p:spPr>
            <a:xfrm>
              <a:off x="7216200" y="6058080"/>
              <a:ext cx="1689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درجة الأهمي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30880" y="6058080"/>
              <a:ext cx="1860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3962520" y="2286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كف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ء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495680" y="3511440"/>
            <a:ext cx="3047760" cy="679680"/>
            <a:chOff x="4495680" y="3511440"/>
            <a:chExt cx="3047760" cy="679680"/>
          </a:xfrm>
        </p:grpSpPr>
        <p:grpSp>
          <p:nvGrpSpPr>
            <p:cNvPr id="202" name=""/>
            <p:cNvGrpSpPr/>
            <p:nvPr/>
          </p:nvGrpSpPr>
          <p:grpSpPr>
            <a:xfrm>
              <a:off x="4495680" y="3511440"/>
              <a:ext cx="3047760" cy="679680"/>
              <a:chOff x="4495680" y="3511440"/>
              <a:chExt cx="3047760" cy="679680"/>
            </a:xfrm>
          </p:grpSpPr>
          <p:sp>
            <p:nvSpPr>
              <p:cNvPr id="203" name=""/>
              <p:cNvSpPr/>
              <p:nvPr/>
            </p:nvSpPr>
            <p:spPr>
              <a:xfrm>
                <a:off x="4595040" y="3511440"/>
                <a:ext cx="284796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  <a:cs typeface="Simplified Arabic"/>
                  </a:rPr>
                  <a:t>المخرجات الفعلية</a:t>
                </a:r>
                <a:br>
                  <a:rPr sz="1800"/>
                </a:b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  <a:cs typeface="Simplified Arabic"/>
                  </a:rPr>
                  <a:t>المدخلات الفعلي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495680" y="3511440"/>
                <a:ext cx="304776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5181480" y="3809880"/>
              <a:ext cx="175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33520" y="3505320"/>
            <a:ext cx="3047400" cy="679320"/>
            <a:chOff x="533520" y="3505320"/>
            <a:chExt cx="3047400" cy="679320"/>
          </a:xfrm>
        </p:grpSpPr>
        <p:grpSp>
          <p:nvGrpSpPr>
            <p:cNvPr id="207" name=""/>
            <p:cNvGrpSpPr/>
            <p:nvPr/>
          </p:nvGrpSpPr>
          <p:grpSpPr>
            <a:xfrm>
              <a:off x="533520" y="3505320"/>
              <a:ext cx="3047400" cy="679320"/>
              <a:chOff x="533520" y="3505320"/>
              <a:chExt cx="3047400" cy="679320"/>
            </a:xfrm>
          </p:grpSpPr>
          <p:sp>
            <p:nvSpPr>
              <p:cNvPr id="208" name=""/>
              <p:cNvSpPr/>
              <p:nvPr/>
            </p:nvSpPr>
            <p:spPr>
              <a:xfrm>
                <a:off x="632880" y="3505320"/>
                <a:ext cx="2847600" cy="67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  <a:cs typeface="Simplified Arabic"/>
                  </a:rPr>
                  <a:t>المخرجات الفعلية</a:t>
                </a:r>
                <a:br>
                  <a:rPr sz="1800"/>
                </a:b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  <a:cs typeface="Simplified Arabic"/>
                  </a:rPr>
                  <a:t>المدخلات المستهدف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33520" y="3505320"/>
                <a:ext cx="3047400" cy="67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218960" y="380340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u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52280" y="1600200"/>
            <a:ext cx="8839440" cy="1371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1889280"/>
            <a:ext cx="2438280" cy="703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منظم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1889280"/>
            <a:ext cx="556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وحدة اجتماعية فنية تتكون من مجموعة من الأدوار المتداخلة لتحقيق أهداف مح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3200" y="3333600"/>
            <a:ext cx="8839440" cy="1371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81720" y="3622680"/>
            <a:ext cx="243828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نظ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3747960"/>
            <a:ext cx="55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نسق ، كيان كلي يتكون من أجزاء متفاع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280" y="5105520"/>
            <a:ext cx="883944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5394240"/>
            <a:ext cx="24382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Times New Roman"/>
                <a:cs typeface="Simplified Arabic"/>
              </a:rPr>
              <a:t>النظام المفتو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556272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تأثر بالبيئة المحيطة ويؤثر في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212760"/>
            <a:ext cx="579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المنظمات أنظمة مفتوح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19:54:03Z</dcterms:created>
  <dc:creator>Mohamed Kamaly</dc:creator>
  <dc:description/>
  <dc:language>en-US</dc:language>
  <cp:lastModifiedBy>Mohamed Kamaly</cp:lastModifiedBy>
  <dcterms:modified xsi:type="dcterms:W3CDTF">2003-03-05T17:26:41Z</dcterms:modified>
  <cp:revision>95</cp:revision>
  <dc:subject/>
  <dc:title>PowerPoint Presentation</dc:title>
</cp:coreProperties>
</file>