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3.png" ContentType="image/png"/>
  <Override PartName="/ppt/media/image12.wmf" ContentType="image/x-wmf"/>
  <Override PartName="/ppt/media/chimes.wav" ContentType="audio/x-wav"/>
  <Override PartName="/ppt/media/image8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3DE-71B3-4772-A0DE-56BAE55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280-7A60-45EF-9F57-112A3CD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945-3E29-400E-92E4-73E6B17A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E21-6F3C-4245-AD6D-08BC7536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684-15E4-4C57-BA59-5A55F0BA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BFF-CA61-4057-9265-C97745D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222-0D1F-4155-A727-30356FCA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C53-0E0D-4EDB-9753-0065991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AE3-EAC4-4CFE-9DC0-6821001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3EB-64F0-41F6-BCD0-426A10A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227-C7B3-4B13-9E44-A0E8950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D1A-2B27-4539-969E-A0AD080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96B8-2199-44C8-BEFB-645FC595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493560"/>
            <a:ext cx="6979680" cy="3849840"/>
            <a:chOff x="762120" y="493560"/>
            <a:chExt cx="6979680" cy="3849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493560"/>
              <a:ext cx="4267080" cy="38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047760" y="609480"/>
              <a:ext cx="4694040" cy="23623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</p:pic>
      </p:grpSp>
      <p:sp>
        <p:nvSpPr>
          <p:cNvPr id="44" name=""/>
          <p:cNvSpPr/>
          <p:nvPr/>
        </p:nvSpPr>
        <p:spPr>
          <a:xfrm>
            <a:off x="1752480" y="4572000"/>
            <a:ext cx="5181840" cy="2286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دكتور / علي محمد عبد الوه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ستاذ إدارة الأ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كلية التجارة – جامعة عين شم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31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والتخطيط الإستراتيج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1600200"/>
            <a:ext cx="6477120" cy="3560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1160" y="2595600"/>
            <a:ext cx="96372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0360" y="2620800"/>
            <a:ext cx="96336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3333cc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45200" y="1863720"/>
            <a:ext cx="963360" cy="792000"/>
            <a:chOff x="5245200" y="1863720"/>
            <a:chExt cx="963360" cy="792000"/>
          </a:xfrm>
        </p:grpSpPr>
        <p:sp>
          <p:nvSpPr>
            <p:cNvPr id="225" name=""/>
            <p:cNvSpPr/>
            <p:nvPr/>
          </p:nvSpPr>
          <p:spPr>
            <a:xfrm>
              <a:off x="5245200" y="1863720"/>
              <a:ext cx="963360" cy="79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2720" y="1995480"/>
              <a:ext cx="688320" cy="528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 (Arabic)"/>
                  <a:cs typeface="Times New Roman (Arabic)"/>
                </a:rPr>
                <a:t>هد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895480" y="1995480"/>
            <a:ext cx="1405080" cy="55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  <a:cs typeface="Times New Roman (Arabic)"/>
              </a:rPr>
              <a:t>الإ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3446640"/>
            <a:ext cx="846360" cy="55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 (Arabic)"/>
                <a:cs typeface="Times New Roman (Arabic)"/>
              </a:rPr>
              <a:t>مدخ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0040" y="3446640"/>
            <a:ext cx="84744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عمل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3446640"/>
            <a:ext cx="846360" cy="55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خرج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08200" y="37101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6600" y="37101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05000" y="37101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63360" y="37101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0040" y="225900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2523960"/>
            <a:ext cx="16542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2523960"/>
            <a:ext cx="5526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95480" y="3733920"/>
            <a:ext cx="3527640" cy="768240"/>
            <a:chOff x="2895480" y="3733920"/>
            <a:chExt cx="3527640" cy="768240"/>
          </a:xfrm>
        </p:grpSpPr>
        <p:grpSp>
          <p:nvGrpSpPr>
            <p:cNvPr id="239" name=""/>
            <p:cNvGrpSpPr/>
            <p:nvPr/>
          </p:nvGrpSpPr>
          <p:grpSpPr>
            <a:xfrm>
              <a:off x="5796000" y="3733920"/>
              <a:ext cx="627120" cy="768240"/>
              <a:chOff x="5796000" y="3733920"/>
              <a:chExt cx="627120" cy="76824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5796000" y="4495680"/>
                <a:ext cx="604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423120" y="3733920"/>
                <a:ext cx="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895480" y="3733920"/>
              <a:ext cx="2895120" cy="761400"/>
              <a:chOff x="2895480" y="3733920"/>
              <a:chExt cx="2895120" cy="761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895480" y="4489200"/>
                <a:ext cx="289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95480" y="3733920"/>
                <a:ext cx="0" cy="75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905120"/>
            <a:ext cx="80805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تقدم المجتمعات عن طريق المنظمات التي تضيف ” القيمة ”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وتحقق التقدم الاقتصاد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فاهيم الأساسية للإدارة والتخطيط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3505320"/>
            <a:ext cx="816768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 المنظمات يعتمد علي جودة الإدا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" y="5105520"/>
            <a:ext cx="81550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) أساس أنشطة المنظمة ه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عقد الأخلاقي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– المسئولية المشتركة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بين العاملين والإدارة و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1143000"/>
            <a:ext cx="0" cy="4724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كفاءة السا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كفاءة الدينا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201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الاستغلال الأمثل للموارد المتاح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0574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ضافة القيمة – منتجات / خدمات جدي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743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خفض التكال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8195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بادل المنافع بين المنظمة والمجتم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657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عمل الجماع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تحسين الإنتا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4798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رقابة الذات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44798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رقابة علي 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2419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مبادأة والابتك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952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تميز بالتكيف مع البيئة المح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دي اعضائها ” حدس اجتماعي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جهات نظر مخ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فة لتحسين الإستراتيج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ق عمل متعاو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عديل الهيكل التنظيمي حسب الأهد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وقع التغيرات والاستعداد 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عدم الاطمئنان للتوازن الس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صد كافة المتغيرات ودرجات تأثير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سين التدريجي المستم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05520" y="3809880"/>
            <a:ext cx="3200400" cy="8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موقف الحالي ل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9880"/>
            <a:ext cx="3200400" cy="80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وضع المأم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486400"/>
            <a:ext cx="3200400" cy="800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تغيرات الجارية في البيئ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486400"/>
            <a:ext cx="3200400" cy="800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أساليب العمل الملائ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لتحقيق الأهدا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648320"/>
            <a:ext cx="3200400" cy="79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داف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76320"/>
            <a:ext cx="6495840" cy="83808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06668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عملية تشكيل الإستراتيجيات وتنفيذ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905120"/>
            <a:ext cx="7315200" cy="99036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جموعة القرارات والأفعال للتعامل مع المتغيرات ال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74320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* عملية تحليل وتقييم واستشراف ل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66960" y="1219320"/>
            <a:ext cx="2000520" cy="3429000"/>
            <a:chOff x="5466960" y="1219320"/>
            <a:chExt cx="2000520" cy="3429000"/>
          </a:xfrm>
        </p:grpSpPr>
        <p:sp>
          <p:nvSpPr>
            <p:cNvPr id="284" name=""/>
            <p:cNvSpPr/>
            <p:nvPr/>
          </p:nvSpPr>
          <p:spPr>
            <a:xfrm>
              <a:off x="5715000" y="1219320"/>
              <a:ext cx="1752480" cy="3429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466960" y="2895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210360" y="1523880"/>
              <a:ext cx="685800" cy="2743200"/>
              <a:chOff x="6210360" y="1523880"/>
              <a:chExt cx="685800" cy="2743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553080" y="1523880"/>
                <a:ext cx="0" cy="2743200"/>
              </a:xfrm>
              <a:prstGeom prst="line">
                <a:avLst/>
              </a:prstGeom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0360" y="1981080"/>
                <a:ext cx="6858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ق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ض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2133720" y="60958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إدارة والتخطيط الإستراتي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28600"/>
            <a:ext cx="30477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تشكيل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1371600"/>
            <a:ext cx="129564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</a:rPr>
              <a:t>تحليل ومراجعة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ؤ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قيم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سال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أهداف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إستراتيج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   الح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1371600"/>
            <a:ext cx="1218960" cy="3200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وضع الإستراتيجية</a:t>
            </a:r>
            <a:br>
              <a:rPr sz="14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كلية</a:t>
            </a:r>
            <a:br>
              <a:rPr sz="1800"/>
            </a:b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منظم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فرع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حد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تشغيل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ظيفة</a:t>
            </a: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1371600"/>
            <a:ext cx="990360" cy="3200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الرقاب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تقو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نتائ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مراج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371600"/>
            <a:ext cx="8380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تجديد</a:t>
            </a: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9480" y="838080"/>
            <a:ext cx="1523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تحليل البيئة الداخلية</a:t>
            </a:r>
            <a:br>
              <a:rPr sz="1600"/>
            </a:b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(القوة والضع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4267080"/>
            <a:ext cx="152388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تحليل البيئة الخارجية</a:t>
            </a:r>
            <a:br>
              <a:rPr sz="1600"/>
            </a:b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(الفرص والتهديد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467120" y="28954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1369800"/>
            <a:ext cx="1509480" cy="3429000"/>
            <a:chOff x="2362320" y="1369800"/>
            <a:chExt cx="1509480" cy="3429000"/>
          </a:xfrm>
        </p:grpSpPr>
        <p:sp>
          <p:nvSpPr>
            <p:cNvPr id="299" name=""/>
            <p:cNvSpPr/>
            <p:nvPr/>
          </p:nvSpPr>
          <p:spPr>
            <a:xfrm>
              <a:off x="2362320" y="1371600"/>
              <a:ext cx="1447560" cy="320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تطبيق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حشد الموارد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ستغلال 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   الإمكانات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أنظمة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ممارس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973160" y="29001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</a:rPr>
                <a:t>تخطيط    تنظيم   قيادة   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0384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304920"/>
            <a:ext cx="213372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نفيذ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304920"/>
            <a:ext cx="8384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4591080"/>
            <a:ext cx="8001000" cy="685800"/>
            <a:chOff x="533520" y="4591080"/>
            <a:chExt cx="8001000" cy="685800"/>
          </a:xfrm>
        </p:grpSpPr>
        <p:sp>
          <p:nvSpPr>
            <p:cNvPr id="306" name=""/>
            <p:cNvSpPr/>
            <p:nvPr/>
          </p:nvSpPr>
          <p:spPr>
            <a:xfrm>
              <a:off x="533520" y="5257800"/>
              <a:ext cx="8001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60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1544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كيف ستكون المنظم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29718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ما هي الخدمات / المنتجات التي تقدمها ل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576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من هم أهم ا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3434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نواحي التمي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0292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نصيب المنظمة في الس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رتيب المنظمة مع المنظمات الأ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54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التطوير 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35812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الإنجازات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2670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آفاق ال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705720" y="4876920"/>
            <a:ext cx="1600200" cy="12189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سفة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ظ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7120" y="4876920"/>
            <a:ext cx="1600200" cy="12189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ج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عمال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4876920"/>
            <a:ext cx="1600200" cy="1218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طوائف الت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تخدم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2152800"/>
            <a:ext cx="655344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المهمة الرئيسية ... الغرض من وجود المنظمة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21948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وضح الرسالة الجيدة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57200"/>
            <a:ext cx="4267440" cy="1219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86600" y="2971800"/>
            <a:ext cx="1295280" cy="12193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استقر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971800"/>
            <a:ext cx="1295640" cy="12193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قي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257800"/>
            <a:ext cx="1295280" cy="12193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حل 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مشك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257800"/>
            <a:ext cx="1295640" cy="1219320"/>
          </a:xfrm>
          <a:prstGeom prst="ellipse">
            <a:avLst/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029200"/>
            <a:ext cx="1295280" cy="1219320"/>
          </a:xfrm>
          <a:prstGeom prst="ellipse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تسب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33720" y="358128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71200" y="5581800"/>
            <a:ext cx="221004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5960" y="5619600"/>
            <a:ext cx="22096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هو إعمال للعق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شغيل للطاقات الهائلة للمخ الإنس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* هناك خمسة أنواع للتفكير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990720"/>
            <a:ext cx="7467840" cy="1143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خصائص الرسالة الفعال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2666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وجه للعم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038480"/>
            <a:ext cx="335268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ستثارة التعاون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ين الإدارة و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666880"/>
            <a:ext cx="3352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واقعية – القابلية للتحق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4038480"/>
            <a:ext cx="3352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ساعدة الإدارة للاختيار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أفضل لبدائل تحقيق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2286000"/>
            <a:ext cx="655308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جزء أساسي في ثقافة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409920"/>
            <a:ext cx="6553080" cy="819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* تحدد ” شخصية ” المنظمة في نظر المتعاملين مع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4419720"/>
            <a:ext cx="6553080" cy="838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عمل مرشداً لسلوك الإدارة والعاملين وعلاقاته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228600"/>
            <a:ext cx="129564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228600"/>
            <a:ext cx="8001000" cy="990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47680 h 990720"/>
              <a:gd name="textAreaBottom" fmla="*/ 961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أنواع 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514520"/>
            <a:ext cx="8153640" cy="4886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3526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30384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37432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4486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552680"/>
            <a:ext cx="0" cy="48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بي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600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الخصائص وال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باحثين والعل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Times New Roman"/>
              </a:rPr>
              <a:t>عند اصحاب الأعمال – المنفعة والمكاس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786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مبدعين والفنا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52916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</a:rPr>
              <a:t>الود ، التعاطف ، العلاقات ال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2428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نظري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3129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389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ج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4567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1436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519588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المنافسة ، التفوق ،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5148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سي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7578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لخير الدنيا والآخ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853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دي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590920"/>
            <a:ext cx="8153640" cy="373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685800"/>
            <a:ext cx="2362320" cy="10666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27576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الوقت ، الزمن المح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27280" y="34434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هل الهدف واقعي ، يمكن تحقيقه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038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دالة القياس : معايير الحكم علي النتائ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464832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تركيز علي النتائج وليس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288040"/>
            <a:ext cx="51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فائدة المرجوة : الجودة والتم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666880"/>
            <a:ext cx="129564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86600" y="3352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3886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4572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52578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705720" y="5715000"/>
            <a:ext cx="1600200" cy="99072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قوة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ناف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67120" y="5715000"/>
            <a:ext cx="1600200" cy="99072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قوة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تعاو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715000"/>
            <a:ext cx="1600200" cy="9907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قيم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333440"/>
            <a:ext cx="6553440" cy="819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* هي المسار الرئيسي الذي تختاره الإدارة لتحقيق أهدا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34324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هي سلسلة قرارات للتعامل مع المتغيرات المحي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0"/>
            <a:ext cx="2895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3295800"/>
            <a:ext cx="6553440" cy="1123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خطة العمل التي تخصص الموارد المطلوب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دد الأنشطة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لازمة للتعامل مع البيئة المحيطة لتحقيق الأهداف المنشو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64832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ن خلال الإستراتيجية تحدد الإدار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371600" y="285840"/>
            <a:ext cx="6496200" cy="5867280"/>
            <a:chOff x="1371600" y="285840"/>
            <a:chExt cx="6496200" cy="5867280"/>
          </a:xfrm>
        </p:grpSpPr>
        <p:sp>
          <p:nvSpPr>
            <p:cNvPr id="384" name=""/>
            <p:cNvSpPr/>
            <p:nvPr/>
          </p:nvSpPr>
          <p:spPr>
            <a:xfrm>
              <a:off x="1486080" y="285840"/>
              <a:ext cx="6305400" cy="58672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86240" y="38088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خارجية العامة</a:t>
              </a:r>
              <a:br>
                <a:rPr sz="2000"/>
              </a:b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( غير المباشرة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1066680"/>
              <a:ext cx="4267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12794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كنولو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24800" y="272736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جتماع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35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سياس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51436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قانون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شري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4648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طبي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160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ل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81080" y="1523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76440" y="1181160"/>
            <a:ext cx="4343400" cy="4231080"/>
            <a:chOff x="2476440" y="1181160"/>
            <a:chExt cx="4343400" cy="4231080"/>
          </a:xfrm>
        </p:grpSpPr>
        <p:grpSp>
          <p:nvGrpSpPr>
            <p:cNvPr id="395" name=""/>
            <p:cNvGrpSpPr/>
            <p:nvPr/>
          </p:nvGrpSpPr>
          <p:grpSpPr>
            <a:xfrm>
              <a:off x="2476440" y="1181160"/>
              <a:ext cx="4343400" cy="4231080"/>
              <a:chOff x="2476440" y="1181160"/>
              <a:chExt cx="4343400" cy="4231080"/>
            </a:xfrm>
          </p:grpSpPr>
          <p:sp>
            <p:nvSpPr>
              <p:cNvPr id="396" name=""/>
              <p:cNvSpPr/>
              <p:nvPr/>
            </p:nvSpPr>
            <p:spPr>
              <a:xfrm>
                <a:off x="2476440" y="1181160"/>
                <a:ext cx="4343400" cy="4191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48040" y="121932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بيئة الخارجية المباشرة</a:t>
                </a:r>
                <a:br>
                  <a:rPr sz="1600"/>
                </a:b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 (Arabic)"/>
                  </a:rPr>
                  <a:t>(بيئة العمل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38680" y="2286000"/>
                <a:ext cx="83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عملا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8680" y="3794040"/>
                <a:ext cx="106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نافس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62520" y="470844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سوق العم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10000" y="371484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أجهزة </a:t>
                </a:r>
                <a:br>
                  <a:rPr sz="2000"/>
                </a:b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رقابي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90920" y="228600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ورد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971800" y="1981080"/>
              <a:ext cx="3352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29000" y="2209680"/>
            <a:ext cx="2362320" cy="2228040"/>
            <a:chOff x="3429000" y="2209680"/>
            <a:chExt cx="2362320" cy="2228040"/>
          </a:xfrm>
        </p:grpSpPr>
        <p:sp>
          <p:nvSpPr>
            <p:cNvPr id="405" name=""/>
            <p:cNvSpPr/>
            <p:nvPr/>
          </p:nvSpPr>
          <p:spPr>
            <a:xfrm>
              <a:off x="3429000" y="2209680"/>
              <a:ext cx="2362320" cy="2133720"/>
            </a:xfrm>
            <a:prstGeom prst="ellipse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464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داخل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270504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7273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دار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31240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9000" y="3124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مكان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4800" y="37339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ملو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4320" y="3244680"/>
              <a:ext cx="68580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منظم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209680" y="6172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بيئة 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762120"/>
            <a:ext cx="83059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صناعة والسوق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ال الأعمال : نوع الخدم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تج ، والسوق التي تغطي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2057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مو الأعمال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عدلات النمو في الصناعة ، نمو السوق التي تخدمها ،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والتغيرات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وي المؤثرة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ستفيدون من الخدمة ، الموردون ، البدائل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3886200"/>
            <a:ext cx="8305920" cy="289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نافسة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نافسون الرئيسيون ، نصيبهم من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هداف المنافسين واستراتيجياتهم ونقاط القوة والضعف لدي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زايا التنافسية لدي المنافسين ( الجودة ، التكلفة ، التنويع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762120"/>
            <a:ext cx="830592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بيئة القان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أنظمة التشريعية والقانو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إجراءات الرقابية للأجهزة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3886200"/>
            <a:ext cx="83059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3962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بيئة الاجتماع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قضايا الاجتماعية والثقافية السائدة والمتوق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جماعات المؤثرة ( من المستهلكين والجمعيات المحلي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762120"/>
            <a:ext cx="83059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وق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احتياجات من القوي العام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2666880"/>
            <a:ext cx="83059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2743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اقتصادي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ظروف الاقتصادية الك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3657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لب والعرض ، والمنافسة ، ومعدلات النم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48320"/>
            <a:ext cx="830592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تق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رق والأساليب العلمية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ابتكارات الحديث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إدارة والتنظي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قادة الإدار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خريطة التنظي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819520"/>
            <a:ext cx="830556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تمويل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حليل القوائم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ديونية والدائ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343400"/>
            <a:ext cx="8305560" cy="236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ؤهلات ومهارات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25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تدريب وتطوير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ة المركز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تخطيط والرقاب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تجاه الربحية والتكالي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657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معدل العائد علي الاستثم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ظم الاختيار والتع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نظم الحوافز والترق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قييم أداء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عدلات الشكاو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عدلات الغياب ودوران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درجات رضا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الإستراتيجي يمارس في محيط ب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ئ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 معين ... بهدف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ايش المستمر مع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يعتمد العقل الإستراتيجي عل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4114800" cy="6098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حليل المنطقي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09880"/>
            <a:ext cx="4114800" cy="6098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رونة الفكري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7242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* الفكر الإستراتيجي فلسفة طويلة الأجل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5600880"/>
            <a:ext cx="7696080" cy="10666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مفتاح النجاح هو التفكير في الإستراتيجية التي تمد المنظمة </a:t>
            </a:r>
            <a:br>
              <a:rPr sz="2800"/>
            </a:b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بميزة تنافسية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وتطبيقها في الوقت المنا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تسويق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نصيب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1695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ترويج والإعل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2819520"/>
            <a:ext cx="8305560" cy="1752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2895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مليات ( الإنتاجية / الخدمية 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وقع الوح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نظم الشر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4724280"/>
            <a:ext cx="83055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بحوث والتطوير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بحوث الجار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خطط وبرامج البحو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جودة المنتج / ال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ات رضا العمل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معة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أجهزة والمع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داول التسل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إمكانيات العلمية والتق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5638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ابتكارات ونواحي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114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رقابة علي الجو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1148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عدلات الإنتاجي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كفاء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b2b2b2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676520" y="914400"/>
            <a:ext cx="586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2438280"/>
            <a:ext cx="8305560" cy="2819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895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أخ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قاط القوة والضعف في عناصر أخري مثل نظم المعلومات ، الخدمات الإدارية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52280" y="220968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249876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داخ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498760"/>
            <a:ext cx="601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ميزانيات  * المؤشرات المالية        * قوائم الأرباح والخسائر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تقارير والدراسات   * استقصاء الاتجاهات ورضا العاملين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اجتماعات بين المديرين و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3581280"/>
            <a:ext cx="883944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81720" y="409896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خار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402264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عملاء          * الموردون           * تقارير الحكو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صحف اليومية والمهنية               * البنوك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مستشارون                            * العامل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1600200"/>
            <a:ext cx="8839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صادر معلومات التحليل البيئ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1219320"/>
            <a:ext cx="8077320" cy="76176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نية والغرض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مهمة التي تؤديها المنظ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133720"/>
            <a:ext cx="8077320" cy="761760"/>
          </a:xfrm>
          <a:prstGeom prst="flowChartMulti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دينامية والتطوير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حسين لمواجهة الظروف المتغي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048120"/>
            <a:ext cx="8077320" cy="76176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مراجعة الافتراضات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ي يقوم عليها العمل ، وتغيير المتقادم من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886200"/>
            <a:ext cx="807732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تحديد الأولوي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حتى يمكن تخصيص الموارد واستغلالها الاستغلال الأمث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4724280"/>
            <a:ext cx="8077320" cy="7621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المشاركة في اتخاذ القرار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المشورة وتبادل الخب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5562720"/>
            <a:ext cx="8077320" cy="761760"/>
          </a:xfrm>
          <a:prstGeom prst="flowChartMultidocumen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3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فاعلية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أداء الأشياء الصحيحة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خصائص التخطيط الاستراتي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9480" y="1219320"/>
            <a:ext cx="8077320" cy="6858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حفز العاملين وتحريك دوافعهم لتحقيق الأهداف المطلوب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198108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نشر روح الفريق والتعاون بين العامل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743200"/>
            <a:ext cx="8077320" cy="68580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واجهة المشكلات ، والتنبؤ بها ، وإعداد الحلول المناسبة ل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505320"/>
            <a:ext cx="8077320" cy="685800"/>
          </a:xfrm>
          <a:prstGeom prst="flowChartMulti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د الأدوار والمسئول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267080"/>
            <a:ext cx="8077320" cy="6858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 الوضع الراهن – المرونة والاستجابة للمتغي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02920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ربط المستويات الإدارية المختلفة ببعضها عن طريق الاشتراك في اتخاذ القرارات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زايا التخطيط الاستراتيج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867280"/>
            <a:ext cx="8077320" cy="685800"/>
          </a:xfrm>
          <a:prstGeom prst="flowChartMulti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رفع الروح المعنوية والشعور بالمسئولية- نتيجة لتبادل المعلومات ووجهات النظ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295280" y="0"/>
            <a:ext cx="708660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رونة والاستعداد للتغيي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) وضوح الأهداف والغا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منهجية السليمة لاتخاذ القرا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نظام معلومات سليم و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خطوط اتصال مستمرة بين المديرين والعامل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0720" y="76320"/>
            <a:ext cx="777240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ستعداد كافة المعنيين للتعاون في وضع الخطة ثم تبني تنفيذ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شاركة الفاعلة علي المستويات المختلف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8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تفكير الإبتكار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9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عايير طموحة للتطو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راجعة المستم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91120" y="61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تقلي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61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إسترات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0120" y="1066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الهد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ستمر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1066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طوير والتحس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173240" y="1600200"/>
            <a:ext cx="2941200" cy="459720"/>
            <a:chOff x="1173240" y="1600200"/>
            <a:chExt cx="2941200" cy="459720"/>
          </a:xfrm>
        </p:grpSpPr>
        <p:sp>
          <p:nvSpPr>
            <p:cNvPr id="538" name=""/>
            <p:cNvSpPr/>
            <p:nvPr/>
          </p:nvSpPr>
          <p:spPr>
            <a:xfrm>
              <a:off x="1262160" y="1600200"/>
              <a:ext cx="27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يئة متغير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73240" y="1600200"/>
              <a:ext cx="29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91120" y="1619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ستقرار الوضع الحالي ، تغيير قلي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182880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315200" y="1692360"/>
            <a:ext cx="1676160" cy="1008720"/>
            <a:chOff x="7315200" y="1692360"/>
            <a:chExt cx="1676160" cy="1008720"/>
          </a:xfrm>
        </p:grpSpPr>
        <p:sp>
          <p:nvSpPr>
            <p:cNvPr id="543" name=""/>
            <p:cNvSpPr/>
            <p:nvPr/>
          </p:nvSpPr>
          <p:spPr>
            <a:xfrm>
              <a:off x="7392240" y="1692360"/>
              <a:ext cx="1522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افتراض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15200" y="1692360"/>
              <a:ext cx="16761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04920" y="2217600"/>
            <a:ext cx="3809520" cy="640080"/>
            <a:chOff x="304920" y="2217600"/>
            <a:chExt cx="3809520" cy="640080"/>
          </a:xfrm>
        </p:grpSpPr>
        <p:sp>
          <p:nvSpPr>
            <p:cNvPr id="546" name=""/>
            <p:cNvSpPr/>
            <p:nvPr/>
          </p:nvSpPr>
          <p:spPr>
            <a:xfrm>
              <a:off x="419760" y="2217600"/>
              <a:ext cx="3579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 – العميل / المنافسة / المجتم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217600"/>
              <a:ext cx="3809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336920" y="2217600"/>
            <a:ext cx="3054240" cy="640080"/>
            <a:chOff x="4336920" y="2217600"/>
            <a:chExt cx="3054240" cy="640080"/>
          </a:xfrm>
        </p:grpSpPr>
        <p:sp>
          <p:nvSpPr>
            <p:cNvPr id="549" name=""/>
            <p:cNvSpPr/>
            <p:nvPr/>
          </p:nvSpPr>
          <p:spPr>
            <a:xfrm>
              <a:off x="4436640" y="2217600"/>
              <a:ext cx="2853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 – وظائف المنظم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2217600"/>
              <a:ext cx="305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391520" y="2228760"/>
            <a:ext cx="156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حور التركي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14480" y="2717640"/>
            <a:ext cx="3023640" cy="406440"/>
            <a:chOff x="1014480" y="2717640"/>
            <a:chExt cx="3023640" cy="406440"/>
          </a:xfrm>
        </p:grpSpPr>
        <p:sp>
          <p:nvSpPr>
            <p:cNvPr id="553" name=""/>
            <p:cNvSpPr/>
            <p:nvPr/>
          </p:nvSpPr>
          <p:spPr>
            <a:xfrm>
              <a:off x="1105560" y="2717640"/>
              <a:ext cx="2840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حدي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4480" y="2717640"/>
              <a:ext cx="302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495680" y="2685960"/>
            <a:ext cx="2971440" cy="882720"/>
            <a:chOff x="4495680" y="2685960"/>
            <a:chExt cx="2971440" cy="882720"/>
          </a:xfrm>
        </p:grpSpPr>
        <p:sp>
          <p:nvSpPr>
            <p:cNvPr id="556" name=""/>
            <p:cNvSpPr/>
            <p:nvPr/>
          </p:nvSpPr>
          <p:spPr>
            <a:xfrm>
              <a:off x="4592880" y="2685960"/>
              <a:ext cx="27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عم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685960"/>
              <a:ext cx="297144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238880" y="2819520"/>
            <a:ext cx="1687320" cy="609480"/>
            <a:chOff x="7238880" y="2819520"/>
            <a:chExt cx="1687320" cy="609480"/>
          </a:xfrm>
        </p:grpSpPr>
        <p:sp>
          <p:nvSpPr>
            <p:cNvPr id="559" name=""/>
            <p:cNvSpPr/>
            <p:nvPr/>
          </p:nvSpPr>
          <p:spPr>
            <a:xfrm>
              <a:off x="7316280" y="2819520"/>
              <a:ext cx="1532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جهد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38880" y="2819520"/>
              <a:ext cx="168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898640" y="464184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014480" y="3219480"/>
            <a:ext cx="3023640" cy="762120"/>
            <a:chOff x="1014480" y="3219480"/>
            <a:chExt cx="3023640" cy="762120"/>
          </a:xfrm>
        </p:grpSpPr>
        <p:sp>
          <p:nvSpPr>
            <p:cNvPr id="563" name=""/>
            <p:cNvSpPr/>
            <p:nvPr/>
          </p:nvSpPr>
          <p:spPr>
            <a:xfrm>
              <a:off x="1105560" y="3219480"/>
              <a:ext cx="28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غزي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14480" y="321948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319640" y="3219480"/>
            <a:ext cx="3139560" cy="533520"/>
            <a:chOff x="4319640" y="3219480"/>
            <a:chExt cx="3139560" cy="533520"/>
          </a:xfrm>
        </p:grpSpPr>
        <p:sp>
          <p:nvSpPr>
            <p:cNvPr id="566" name=""/>
            <p:cNvSpPr/>
            <p:nvPr/>
          </p:nvSpPr>
          <p:spPr>
            <a:xfrm>
              <a:off x="4422240" y="321948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قليل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19640" y="321948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238880" y="3219480"/>
            <a:ext cx="1676160" cy="609480"/>
            <a:chOff x="7238880" y="3219480"/>
            <a:chExt cx="1676160" cy="609480"/>
          </a:xfrm>
        </p:grpSpPr>
        <p:sp>
          <p:nvSpPr>
            <p:cNvPr id="569" name=""/>
            <p:cNvSpPr/>
            <p:nvPr/>
          </p:nvSpPr>
          <p:spPr>
            <a:xfrm>
              <a:off x="7315920" y="321948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ابتكار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8880" y="321948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38080" y="3835440"/>
            <a:ext cx="3276360" cy="507960"/>
            <a:chOff x="838080" y="3835440"/>
            <a:chExt cx="3276360" cy="507960"/>
          </a:xfrm>
        </p:grpSpPr>
        <p:sp>
          <p:nvSpPr>
            <p:cNvPr id="572" name=""/>
            <p:cNvSpPr/>
            <p:nvPr/>
          </p:nvSpPr>
          <p:spPr>
            <a:xfrm>
              <a:off x="937080" y="3835440"/>
              <a:ext cx="3078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لي أساس النتائج والأوليات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3835440"/>
              <a:ext cx="3276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52960" y="3797280"/>
            <a:ext cx="3352320" cy="679320"/>
            <a:chOff x="4152960" y="3797280"/>
            <a:chExt cx="3352320" cy="679320"/>
          </a:xfrm>
        </p:grpSpPr>
        <p:sp>
          <p:nvSpPr>
            <p:cNvPr id="575" name=""/>
            <p:cNvSpPr/>
            <p:nvPr/>
          </p:nvSpPr>
          <p:spPr>
            <a:xfrm>
              <a:off x="4262400" y="379728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تخصيص علي أساس تاريخي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2960" y="379728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162920" y="3753000"/>
            <a:ext cx="1860120" cy="609480"/>
            <a:chOff x="7162920" y="3753000"/>
            <a:chExt cx="1860120" cy="609480"/>
          </a:xfrm>
        </p:grpSpPr>
        <p:sp>
          <p:nvSpPr>
            <p:cNvPr id="578" name=""/>
            <p:cNvSpPr/>
            <p:nvPr/>
          </p:nvSpPr>
          <p:spPr>
            <a:xfrm>
              <a:off x="7248240" y="375300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موارد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375300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28600" y="476280"/>
            <a:ext cx="8686800" cy="6324480"/>
            <a:chOff x="228600" y="476280"/>
            <a:chExt cx="8686800" cy="6324480"/>
          </a:xfrm>
        </p:grpSpPr>
        <p:sp>
          <p:nvSpPr>
            <p:cNvPr id="581" name=""/>
            <p:cNvSpPr/>
            <p:nvPr/>
          </p:nvSpPr>
          <p:spPr>
            <a:xfrm flipH="1">
              <a:off x="228600" y="4762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8600" y="10699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28600" y="435240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494640"/>
              <a:ext cx="0" cy="6305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154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52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600" y="15890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28600" y="2182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28600" y="27201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28600" y="32396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28600" y="37591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28600" y="4945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28600" y="57063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28600" y="62258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28600" y="68007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0" y="4444920"/>
            <a:ext cx="4114440" cy="507960"/>
            <a:chOff x="0" y="4444920"/>
            <a:chExt cx="4114440" cy="507960"/>
          </a:xfrm>
        </p:grpSpPr>
        <p:sp>
          <p:nvSpPr>
            <p:cNvPr id="598" name=""/>
            <p:cNvSpPr/>
            <p:nvPr/>
          </p:nvSpPr>
          <p:spPr>
            <a:xfrm>
              <a:off x="124200" y="4444920"/>
              <a:ext cx="386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يناميكي – بدائل عدي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444920"/>
              <a:ext cx="4114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19720" y="4368960"/>
            <a:ext cx="3047400" cy="431640"/>
            <a:chOff x="4419720" y="4368960"/>
            <a:chExt cx="3047400" cy="431640"/>
          </a:xfrm>
        </p:grpSpPr>
        <p:sp>
          <p:nvSpPr>
            <p:cNvPr id="601" name=""/>
            <p:cNvSpPr/>
            <p:nvPr/>
          </p:nvSpPr>
          <p:spPr>
            <a:xfrm>
              <a:off x="4519080" y="4368960"/>
              <a:ext cx="2847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قليدي – بدائل محدو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9720" y="4368960"/>
              <a:ext cx="304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162920" y="4400640"/>
            <a:ext cx="1860120" cy="609480"/>
            <a:chOff x="7162920" y="4400640"/>
            <a:chExt cx="1860120" cy="609480"/>
          </a:xfrm>
        </p:grpSpPr>
        <p:sp>
          <p:nvSpPr>
            <p:cNvPr id="604" name=""/>
            <p:cNvSpPr/>
            <p:nvPr/>
          </p:nvSpPr>
          <p:spPr>
            <a:xfrm>
              <a:off x="7248240" y="440064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7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تخاذ القرارات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40064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31680" y="5130720"/>
            <a:ext cx="4114440" cy="679680"/>
            <a:chOff x="-31680" y="5130720"/>
            <a:chExt cx="4114440" cy="679680"/>
          </a:xfrm>
        </p:grpSpPr>
        <p:sp>
          <p:nvSpPr>
            <p:cNvPr id="607" name=""/>
            <p:cNvSpPr/>
            <p:nvPr/>
          </p:nvSpPr>
          <p:spPr>
            <a:xfrm>
              <a:off x="92520" y="513072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ناء علي التحليل البيئي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31680" y="513072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172040" y="5035680"/>
            <a:ext cx="3320640" cy="679320"/>
            <a:chOff x="4172040" y="5035680"/>
            <a:chExt cx="3320640" cy="679320"/>
          </a:xfrm>
        </p:grpSpPr>
        <p:sp>
          <p:nvSpPr>
            <p:cNvPr id="610" name=""/>
            <p:cNvSpPr/>
            <p:nvPr/>
          </p:nvSpPr>
          <p:spPr>
            <a:xfrm>
              <a:off x="4280400" y="50356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طبقا لوجهة نظر الإدارة العلي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72040" y="50356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86600" y="5010120"/>
            <a:ext cx="1860120" cy="476280"/>
            <a:chOff x="7086600" y="5010120"/>
            <a:chExt cx="1860120" cy="476280"/>
          </a:xfrm>
        </p:grpSpPr>
        <p:sp>
          <p:nvSpPr>
            <p:cNvPr id="613" name=""/>
            <p:cNvSpPr/>
            <p:nvPr/>
          </p:nvSpPr>
          <p:spPr>
            <a:xfrm>
              <a:off x="7171920" y="5010120"/>
              <a:ext cx="1689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أولوي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86600" y="5010120"/>
              <a:ext cx="1860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-19080" y="5797440"/>
            <a:ext cx="4114440" cy="679680"/>
            <a:chOff x="-19080" y="5797440"/>
            <a:chExt cx="4114440" cy="679680"/>
          </a:xfrm>
        </p:grpSpPr>
        <p:sp>
          <p:nvSpPr>
            <p:cNvPr id="616" name=""/>
            <p:cNvSpPr/>
            <p:nvPr/>
          </p:nvSpPr>
          <p:spPr>
            <a:xfrm>
              <a:off x="105120" y="57974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تنوع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-19080" y="57974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191120" y="5740560"/>
            <a:ext cx="3320640" cy="679320"/>
            <a:chOff x="4191120" y="5740560"/>
            <a:chExt cx="3320640" cy="679320"/>
          </a:xfrm>
        </p:grpSpPr>
        <p:sp>
          <p:nvSpPr>
            <p:cNvPr id="619" name=""/>
            <p:cNvSpPr/>
            <p:nvPr/>
          </p:nvSpPr>
          <p:spPr>
            <a:xfrm>
              <a:off x="4299480" y="574056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دو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91120" y="574056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130880" y="5753160"/>
            <a:ext cx="1860480" cy="609480"/>
            <a:chOff x="7130880" y="5753160"/>
            <a:chExt cx="1860480" cy="609480"/>
          </a:xfrm>
        </p:grpSpPr>
        <p:sp>
          <p:nvSpPr>
            <p:cNvPr id="622" name=""/>
            <p:cNvSpPr/>
            <p:nvPr/>
          </p:nvSpPr>
          <p:spPr>
            <a:xfrm>
              <a:off x="7216200" y="575316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9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- مشاركة المستويات المختلفة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30880" y="575316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-152280" y="6330960"/>
            <a:ext cx="4114440" cy="679320"/>
            <a:chOff x="-152280" y="6330960"/>
            <a:chExt cx="4114440" cy="679320"/>
          </a:xfrm>
        </p:grpSpPr>
        <p:sp>
          <p:nvSpPr>
            <p:cNvPr id="625" name=""/>
            <p:cNvSpPr/>
            <p:nvPr/>
          </p:nvSpPr>
          <p:spPr>
            <a:xfrm>
              <a:off x="-27720" y="633096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يزة التنافسي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52280" y="633096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235400" y="6267600"/>
            <a:ext cx="3320640" cy="679320"/>
            <a:chOff x="4235400" y="6267600"/>
            <a:chExt cx="3320640" cy="679320"/>
          </a:xfrm>
        </p:grpSpPr>
        <p:sp>
          <p:nvSpPr>
            <p:cNvPr id="628" name=""/>
            <p:cNvSpPr/>
            <p:nvPr/>
          </p:nvSpPr>
          <p:spPr>
            <a:xfrm>
              <a:off x="4343760" y="626760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كفاءة الداخلي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35400" y="626760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07200" y="6305400"/>
            <a:ext cx="1860120" cy="609840"/>
            <a:chOff x="7207200" y="6305400"/>
            <a:chExt cx="1860120" cy="609840"/>
          </a:xfrm>
        </p:grpSpPr>
        <p:sp>
          <p:nvSpPr>
            <p:cNvPr id="631" name=""/>
            <p:cNvSpPr/>
            <p:nvPr/>
          </p:nvSpPr>
          <p:spPr>
            <a:xfrm>
              <a:off x="7292520" y="630540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10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معايير النجاح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07200" y="630540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772400" y="533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ي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م الفروق بين التخطيط الإستراتيجي والتقلي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ستويات الثلاثة ل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762120"/>
            <a:ext cx="830556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91120" y="838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مستوي الكلي :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ستراتيجية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ما هو مجال أعمال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1676520"/>
            <a:ext cx="26672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2590920"/>
            <a:ext cx="830556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مستوي الجزئي / الفر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ات : خطوط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نتاج والخدم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3962520"/>
            <a:ext cx="182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ة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724280"/>
            <a:ext cx="8305560" cy="175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4724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ستوي الوظيفي / التشغي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قسام الوظيف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0481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ما هو أفضل الطرق للعمل والتناف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وحدة 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50734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كيف تساعد الأقسام التنظيمية علي تحقيق نتائج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396252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وحدة ج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05120" y="2057400"/>
            <a:ext cx="5790960" cy="1905120"/>
            <a:chOff x="1905120" y="2057400"/>
            <a:chExt cx="5790960" cy="1905120"/>
          </a:xfrm>
        </p:grpSpPr>
        <p:sp>
          <p:nvSpPr>
            <p:cNvPr id="652" name=""/>
            <p:cNvSpPr/>
            <p:nvPr/>
          </p:nvSpPr>
          <p:spPr>
            <a:xfrm>
              <a:off x="4724280" y="205740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5120" y="36576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00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2428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0512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010280" y="5791320"/>
            <a:ext cx="160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مو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38720" y="579132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تسو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5791320"/>
            <a:ext cx="16002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3000" y="5791320"/>
            <a:ext cx="16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حوث و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885680" y="4419720"/>
            <a:ext cx="5810400" cy="1371600"/>
            <a:chOff x="1885680" y="4419720"/>
            <a:chExt cx="5810400" cy="1371600"/>
          </a:xfrm>
        </p:grpSpPr>
        <p:sp>
          <p:nvSpPr>
            <p:cNvPr id="662" name=""/>
            <p:cNvSpPr/>
            <p:nvPr/>
          </p:nvSpPr>
          <p:spPr>
            <a:xfrm>
              <a:off x="4724280" y="4419720"/>
              <a:ext cx="0" cy="108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5120" y="54864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67664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01956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03812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88568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838080" y="0"/>
            <a:ext cx="79250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طبيعة القرارات في المستويات الثلا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1295280"/>
            <a:ext cx="7619760" cy="5335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ستراتيجية ( المستوي الكلي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438280"/>
            <a:ext cx="6476760" cy="7430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تحديد الأهداف طويلة الأجل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276720"/>
            <a:ext cx="6476760" cy="742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تحقيق التكامل مع البيئة الخارج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4114800"/>
            <a:ext cx="6476760" cy="74304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 - تخصيص الموارد للأغراض المطلوب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489600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اختيار مزيج المنتج أو الخد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981080"/>
            <a:ext cx="76201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قوم الإدارة العليا باتخاذ هذه القرارات وتشم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579132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سياسات التسويقية والمالية والإ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057400"/>
            <a:ext cx="815328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90920"/>
            <a:ext cx="2438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من المهم التنبه إل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57560"/>
            <a:ext cx="5181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عناصر النجاح الرئي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876400"/>
            <a:ext cx="5181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المعوقات التي تعترض الأ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67080"/>
            <a:ext cx="8153280" cy="15242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800600"/>
            <a:ext cx="2286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ومن ث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467240"/>
            <a:ext cx="518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الإفادة من فرص النج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086440"/>
            <a:ext cx="51814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مجاهدة المعو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609480"/>
            <a:ext cx="4724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38080" y="1752480"/>
            <a:ext cx="8001000" cy="1143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مل هذه القرارات علي التنسيق بين المستوي الإستراتيجي الكلي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مستوي الوحدات ، وتحقيق التكامل بين الأمدين القريب والبعيد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دارية ( المستوي الجزئ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3476520"/>
            <a:ext cx="7619760" cy="600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حصول علي الموارد اللازمة ، وتنميتها ، وتحقيق اقتصاديات التشغي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4114800"/>
            <a:ext cx="7619760" cy="6001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التنظيم وهيكل السلطة والمسئولية وتدفق المعلوم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4809960"/>
            <a:ext cx="76197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وضع الموازن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5495760"/>
            <a:ext cx="7619760" cy="600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قياس الأداء ووضع برامج التطوير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23623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- الأهداف الوظيفية والتشغيلية قصيرة الأجل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30481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- التأكد من أداء الأعمال المحددة بكفاءة وفاعلية </a:t>
            </a: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304920"/>
            <a:ext cx="69343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تشغيلية ( المستوي الوظيفي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21932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تتم في الغالب بصورة لا مركزية وتشمل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37339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حل المشكلات التي تعترض التطبيق 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4280" y="44197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- قياس وتقييم أداء العامل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" y="51055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تحسين الأداء وتطوير النتائج في المجال المختص ( التسويق ، الإنتاج ، الموارد البشرية ...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209680" y="1219320"/>
            <a:ext cx="4800600" cy="79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ستراتيجية الكلية</a:t>
            </a:r>
            <a:r>
              <a:rPr b="1" lang="ar-SA" sz="29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6600" y="3124080"/>
            <a:ext cx="17524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نم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توسيع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ركيز / التغلغ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رأ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أفق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نو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- أخر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3124080"/>
            <a:ext cx="22100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استقر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الحفاظ علي الوض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200400"/>
            <a:ext cx="182880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    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تخفي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خفض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حو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حص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خلص / التعر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إفلا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لتصفية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447920" y="2019240"/>
            <a:ext cx="6781680" cy="1028880"/>
            <a:chOff x="1447920" y="2019240"/>
            <a:chExt cx="6781680" cy="1028880"/>
          </a:xfrm>
        </p:grpSpPr>
        <p:sp>
          <p:nvSpPr>
            <p:cNvPr id="694" name=""/>
            <p:cNvSpPr/>
            <p:nvPr/>
          </p:nvSpPr>
          <p:spPr>
            <a:xfrm>
              <a:off x="1447920" y="2362320"/>
              <a:ext cx="6781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5800" y="2019240"/>
              <a:ext cx="0" cy="952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2960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438280" y="3581280"/>
            <a:ext cx="4496040" cy="0"/>
            <a:chOff x="2438280" y="3581280"/>
            <a:chExt cx="4496040" cy="0"/>
          </a:xfrm>
        </p:grpSpPr>
        <p:sp>
          <p:nvSpPr>
            <p:cNvPr id="699" name=""/>
            <p:cNvSpPr/>
            <p:nvPr/>
          </p:nvSpPr>
          <p:spPr>
            <a:xfrm>
              <a:off x="594360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828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105520" y="1333440"/>
            <a:ext cx="3733560" cy="571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– التكيف مع البي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1337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ستراتيجية رد الفع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1320" y="2209680"/>
            <a:ext cx="26668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ستراتيجية المبادر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080" y="3733920"/>
            <a:ext cx="26672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إستراتيجية التحلي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3657600"/>
            <a:ext cx="266688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إستراتيجية الدفاعي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5410080"/>
            <a:ext cx="266688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ستراتيجية النمو التدر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ستراتيجية الأعم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57200" y="1752480"/>
            <a:ext cx="2514600" cy="38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خفض التكاليف</a:t>
            </a:r>
            <a:br>
              <a:rPr sz="2200"/>
            </a:b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كنولوجيا متطورة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رقابة علي التكالي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إشراف المحكم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ربط الحوافز بالأهدا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قارير رقابية م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ف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ص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1600200"/>
            <a:ext cx="2514600" cy="388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66"/>
                </a:solidFill>
                <a:uFillTx/>
                <a:latin typeface="Times New Roman"/>
              </a:rPr>
              <a:t>التفاضل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قدرات تسويقية عالي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ابتكا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بحوث والتطوي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سمعة المنظم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حوافز الإبدا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ستراتيجية التنا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5105520"/>
            <a:ext cx="46479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ستراتيجية متنوعة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لمرونة ، تمكين العاملين ، تحقيق ولاء العمي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4952880" y="25909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- تقديم المنتج ل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1295280"/>
            <a:ext cx="2666880" cy="1181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- التصميم والابتك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5800" y="5257800"/>
            <a:ext cx="266688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- الانكما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2895480"/>
            <a:ext cx="2666880" cy="1181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- النمو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572000"/>
            <a:ext cx="26672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النضو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– دورة حياة المنتج /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581280" y="2133720"/>
            <a:ext cx="22100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133720"/>
            <a:ext cx="22096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تسوي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080" y="3809880"/>
            <a:ext cx="22100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بحوث والتطوي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2057400"/>
            <a:ext cx="221004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عمليا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3886200"/>
            <a:ext cx="22100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81280" y="3886200"/>
            <a:ext cx="2210040" cy="1181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الش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إستراتيجيات الوظي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القيادة الإداري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دوة ، ال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اع ، التحفيز ، الاتصال ، تبادل المعلومات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ني ثقافة المنظمة ، المشاركة ، التنسيق ، المرو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66"/>
                </a:solidFill>
                <a:uFillTx/>
                <a:latin typeface="Times New Roman"/>
                <a:cs typeface="Simplified Arabic"/>
              </a:rPr>
              <a:t>الشكل التنظيمي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هيكل ، الوحدات والإدارات والأقسام ، درجة المركزية اللامركزية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،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صميم الوظائف ، الامكانات البشرية و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فريق العمل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أهداف ، العلاقات ، القيم ، الأدوار ، القواعد 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سلوك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شاعر والاحاسيس ، العلاقات العضوية التبادل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رغبة والاستعداد للمشاركة ، الولاء للفريق و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وارد البشري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ؤهلات الملائمة ، التوجه السليم ، الشخصيات الناضج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يم الصالحة ، التدريب والتنمية المستمرة ، الدافعية العالية للإنجاز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درات الإبتكارية ، التعاون ، الول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معلومات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علومات : الملائمة ، الكافية ، في الوقت المناسب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قيقة ، التي 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ن الاعتماد عليها ، عنصر التكال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رقاب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 التشغيل ، الموارد ، التكاليف ، الحوافز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جراءات والقواعد ، تصحيح الأخطاء ، ال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86000"/>
            <a:ext cx="8229600" cy="30481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إدار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ه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 تلك العملية التي تنجز أهداف المنظمة من خل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تخطيط ، والتنظيم ، والقيادة ، والرقابة ، لاستغلال الموارد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متاحة بكفاءة وفاع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990720"/>
            <a:ext cx="6400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ملية الإدارية و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505320" y="2514600"/>
            <a:ext cx="2666880" cy="19224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أهداف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91120" y="304920"/>
            <a:ext cx="1066680" cy="1752480"/>
            <a:chOff x="4191120" y="304920"/>
            <a:chExt cx="1066680" cy="1752480"/>
          </a:xfrm>
        </p:grpSpPr>
        <p:sp>
          <p:nvSpPr>
            <p:cNvPr id="736" name=""/>
            <p:cNvSpPr/>
            <p:nvPr/>
          </p:nvSpPr>
          <p:spPr>
            <a:xfrm>
              <a:off x="4191120" y="304920"/>
              <a:ext cx="1066680" cy="9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تنظي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129528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00200" y="1143000"/>
            <a:ext cx="1600200" cy="1371600"/>
            <a:chOff x="1600200" y="1143000"/>
            <a:chExt cx="1600200" cy="1371600"/>
          </a:xfrm>
        </p:grpSpPr>
        <p:sp>
          <p:nvSpPr>
            <p:cNvPr id="739" name=""/>
            <p:cNvSpPr/>
            <p:nvPr/>
          </p:nvSpPr>
          <p:spPr>
            <a:xfrm>
              <a:off x="1600200" y="1143000"/>
              <a:ext cx="1066680" cy="9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دارة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موارد 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بشر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14600" y="19810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600200" y="3733560"/>
            <a:ext cx="1676520" cy="1219320"/>
            <a:chOff x="1600200" y="3733560"/>
            <a:chExt cx="1676520" cy="1219320"/>
          </a:xfrm>
        </p:grpSpPr>
        <p:sp>
          <p:nvSpPr>
            <p:cNvPr id="742" name=""/>
            <p:cNvSpPr/>
            <p:nvPr/>
          </p:nvSpPr>
          <p:spPr>
            <a:xfrm>
              <a:off x="1600200" y="3962520"/>
              <a:ext cx="1066680" cy="99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رقا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90920" y="3733560"/>
              <a:ext cx="68580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038480" y="4267080"/>
            <a:ext cx="1067040" cy="1905120"/>
            <a:chOff x="4038480" y="4267080"/>
            <a:chExt cx="1067040" cy="1905120"/>
          </a:xfrm>
        </p:grpSpPr>
        <p:sp>
          <p:nvSpPr>
            <p:cNvPr id="745" name=""/>
            <p:cNvSpPr/>
            <p:nvPr/>
          </p:nvSpPr>
          <p:spPr>
            <a:xfrm>
              <a:off x="4038480" y="5181480"/>
              <a:ext cx="106704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نظم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ا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لمعلو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572000" y="426708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400440" y="4038120"/>
            <a:ext cx="1448280" cy="1600560"/>
            <a:chOff x="6400440" y="4038120"/>
            <a:chExt cx="1448280" cy="1600560"/>
          </a:xfrm>
        </p:grpSpPr>
        <p:sp>
          <p:nvSpPr>
            <p:cNvPr id="748" name=""/>
            <p:cNvSpPr/>
            <p:nvPr/>
          </p:nvSpPr>
          <p:spPr>
            <a:xfrm>
              <a:off x="6781680" y="4648320"/>
              <a:ext cx="1067040" cy="990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فريق </a:t>
              </a:r>
              <a:br>
                <a:rPr sz="2400"/>
              </a:b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400440" y="4038120"/>
              <a:ext cx="60948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0440" y="838080"/>
            <a:ext cx="1600560" cy="1524240"/>
            <a:chOff x="6400440" y="838080"/>
            <a:chExt cx="1600560" cy="1524240"/>
          </a:xfrm>
        </p:grpSpPr>
        <p:sp>
          <p:nvSpPr>
            <p:cNvPr id="751" name=""/>
            <p:cNvSpPr/>
            <p:nvPr/>
          </p:nvSpPr>
          <p:spPr>
            <a:xfrm>
              <a:off x="6934320" y="838080"/>
              <a:ext cx="1066680" cy="9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قياد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400440" y="16765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600200" y="304920"/>
            <a:ext cx="6400800" cy="5866920"/>
            <a:chOff x="1600200" y="304920"/>
            <a:chExt cx="6400800" cy="5866920"/>
          </a:xfrm>
        </p:grpSpPr>
        <p:grpSp>
          <p:nvGrpSpPr>
            <p:cNvPr id="754" name=""/>
            <p:cNvGrpSpPr/>
            <p:nvPr/>
          </p:nvGrpSpPr>
          <p:grpSpPr>
            <a:xfrm>
              <a:off x="4191120" y="304920"/>
              <a:ext cx="1066680" cy="1752480"/>
              <a:chOff x="4191120" y="304920"/>
              <a:chExt cx="1066680" cy="1752480"/>
            </a:xfrm>
          </p:grpSpPr>
          <p:sp>
            <p:nvSpPr>
              <p:cNvPr id="755" name=""/>
              <p:cNvSpPr/>
              <p:nvPr/>
            </p:nvSpPr>
            <p:spPr>
              <a:xfrm>
                <a:off x="4191120" y="304920"/>
                <a:ext cx="1066680" cy="9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تنظي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24280" y="1295280"/>
                <a:ext cx="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1600200" y="1143000"/>
              <a:ext cx="1600200" cy="1371600"/>
              <a:chOff x="1600200" y="1143000"/>
              <a:chExt cx="1600200" cy="137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1600200" y="1143000"/>
                <a:ext cx="1066680" cy="9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إدار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موارد 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بشر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1981080"/>
                <a:ext cx="6858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600200" y="3733560"/>
              <a:ext cx="1676520" cy="1219320"/>
              <a:chOff x="1600200" y="3733560"/>
              <a:chExt cx="1676520" cy="12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1600200" y="3962520"/>
                <a:ext cx="1066680" cy="9903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Times New Roman"/>
                  </a:rPr>
                  <a:t>الرقا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590920" y="3733560"/>
                <a:ext cx="68580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038840" y="4267080"/>
              <a:ext cx="1066680" cy="1904760"/>
              <a:chOff x="4038840" y="4267080"/>
              <a:chExt cx="1066680" cy="1904760"/>
            </a:xfrm>
          </p:grpSpPr>
          <p:sp>
            <p:nvSpPr>
              <p:cNvPr id="764" name=""/>
              <p:cNvSpPr/>
              <p:nvPr/>
            </p:nvSpPr>
            <p:spPr>
              <a:xfrm>
                <a:off x="4038840" y="5181480"/>
                <a:ext cx="106668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نظم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ا</a:t>
                </a: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لمعلوما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572000" y="4267080"/>
                <a:ext cx="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00440" y="4038480"/>
              <a:ext cx="1448280" cy="1600560"/>
              <a:chOff x="6400440" y="4038480"/>
              <a:chExt cx="1448280" cy="1600560"/>
            </a:xfrm>
          </p:grpSpPr>
          <p:sp>
            <p:nvSpPr>
              <p:cNvPr id="767" name=""/>
              <p:cNvSpPr/>
              <p:nvPr/>
            </p:nvSpPr>
            <p:spPr>
              <a:xfrm>
                <a:off x="6781680" y="4648680"/>
                <a:ext cx="1067040" cy="990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فريق 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عم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400440" y="4038480"/>
                <a:ext cx="60948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400440" y="838440"/>
              <a:ext cx="1600560" cy="1523520"/>
              <a:chOff x="6400440" y="838440"/>
              <a:chExt cx="1600560" cy="1523520"/>
            </a:xfrm>
          </p:grpSpPr>
          <p:sp>
            <p:nvSpPr>
              <p:cNvPr id="770" name=""/>
              <p:cNvSpPr/>
              <p:nvPr/>
            </p:nvSpPr>
            <p:spPr>
              <a:xfrm>
                <a:off x="6934320" y="838440"/>
                <a:ext cx="1066680" cy="990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قياد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400440" y="1676520"/>
                <a:ext cx="685800" cy="68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52480" y="152280"/>
            <a:ext cx="5943600" cy="838440"/>
          </a:xfrm>
          <a:custGeom>
            <a:avLst/>
            <a:gdLst>
              <a:gd name="textAreaLeft" fmla="*/ 0 w 5943600"/>
              <a:gd name="textAreaRight" fmla="*/ 5943960 w 594360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نفيذ الإستراتيجية بروح المرو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5880" y="13716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ستقلالية التحرك الذات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14600" y="129528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ثابرة ، الج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2096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موح ، الداف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91320" y="327672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حمل الغموض والمخاط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228600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اقات المتن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752480"/>
            <a:ext cx="2743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943600" y="41911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جاح المتتاب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3200" y="419112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فكير ل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32004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19920" y="52578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وظيف القدرات الذات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61722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يير ، التك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71800" y="51814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نمية المستمرة ل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2280" y="266688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نافس الذا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601992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عليم الم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920" y="37339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54864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ريادة - الصف الأ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64832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تخاذ القرارات غير التقلي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6172200"/>
            <a:ext cx="21337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قبول التحد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914400" y="3124080"/>
            <a:ext cx="3409920" cy="3309840"/>
            <a:chOff x="914400" y="3124080"/>
            <a:chExt cx="3409920" cy="3309840"/>
          </a:xfrm>
        </p:grpSpPr>
        <p:pic>
          <p:nvPicPr>
            <p:cNvPr id="792" name="openhand" descr=""/>
            <p:cNvPicPr/>
            <p:nvPr/>
          </p:nvPicPr>
          <p:blipFill>
            <a:blip r:embed="rId1"/>
            <a:stretch/>
          </p:blipFill>
          <p:spPr>
            <a:xfrm>
              <a:off x="914400" y="486540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1628640" y="3371760"/>
            <a:ext cx="156852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8640" y="3371760"/>
                      <a:ext cx="1568520" cy="2057400"/>
                    </a:xfrm>
                    <a:prstGeom prst="rect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96" name=""/>
          <p:cNvSpPr/>
          <p:nvPr/>
        </p:nvSpPr>
        <p:spPr>
          <a:xfrm>
            <a:off x="3581280" y="8380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شكراً ،،،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191120" y="32004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علي محمد عبد الوهاب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21016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14400" y="3124080"/>
            <a:ext cx="3409920" cy="3310200"/>
            <a:chOff x="914400" y="3124080"/>
            <a:chExt cx="3409920" cy="3310200"/>
          </a:xfrm>
        </p:grpSpPr>
        <p:pic>
          <p:nvPicPr>
            <p:cNvPr id="800" name="openhand" descr=""/>
            <p:cNvPicPr/>
            <p:nvPr/>
          </p:nvPicPr>
          <p:blipFill>
            <a:blip r:embed="rId5"/>
            <a:stretch/>
          </p:blipFill>
          <p:spPr>
            <a:xfrm>
              <a:off x="914400" y="486576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dr%20ali%20ph2" descr=""/>
            <p:cNvPicPr/>
            <p:nvPr/>
          </p:nvPicPr>
          <p:blipFill>
            <a:blip r:embed="rId6"/>
            <a:stretch/>
          </p:blipFill>
          <p:spPr>
            <a:xfrm>
              <a:off x="1676520" y="3429000"/>
              <a:ext cx="1533240" cy="1981080"/>
            </a:xfrm>
            <a:prstGeom prst="rect">
              <a:avLst/>
            </a:prstGeom>
            <a:ln w="76320">
              <a:solidFill>
                <a:srgbClr val="000066"/>
              </a:solidFill>
              <a:miter/>
            </a:ln>
          </p:spPr>
        </p:pic>
      </p:grp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77120" y="1752480"/>
            <a:ext cx="2133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عم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581280"/>
            <a:ext cx="2133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334120"/>
            <a:ext cx="2133360" cy="99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ست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7432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45720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04920"/>
            <a:ext cx="320040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5867640" cy="9144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شاط حركي مرك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657600"/>
            <a:ext cx="5867640" cy="91440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تضمن الناس – جزء من 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410080"/>
            <a:ext cx="5867640" cy="914400"/>
          </a:xfrm>
          <a:prstGeom prst="flowChartTermina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استمرار الحاجة لمنتجات / خدمات المنظ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914400"/>
            <a:ext cx="5333760" cy="5181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828800"/>
            <a:ext cx="106668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828800"/>
            <a:ext cx="106668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962520"/>
            <a:ext cx="106668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نظ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962520"/>
            <a:ext cx="1066680" cy="990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1337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4382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6483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2670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38160" y="2685600"/>
            <a:ext cx="2057760" cy="1371960"/>
            <a:chOff x="3638160" y="2685600"/>
            <a:chExt cx="2057760" cy="1371960"/>
          </a:xfrm>
        </p:grpSpPr>
        <p:sp>
          <p:nvSpPr>
            <p:cNvPr id="100" name=""/>
            <p:cNvSpPr/>
            <p:nvPr/>
          </p:nvSpPr>
          <p:spPr>
            <a:xfrm>
              <a:off x="3924360" y="291456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تخاذ القرارات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(الابتكار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15040" y="26856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5960" y="38289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676320" y="38289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638160" y="26856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43800" y="2667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ي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81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81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فاءة – الكفاء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819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 – الكفاء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1352520"/>
            <a:ext cx="3885840" cy="825480"/>
            <a:chOff x="228600" y="1352520"/>
            <a:chExt cx="3885840" cy="825480"/>
          </a:xfrm>
        </p:grpSpPr>
        <p:sp>
          <p:nvSpPr>
            <p:cNvPr id="111" name=""/>
            <p:cNvSpPr/>
            <p:nvPr/>
          </p:nvSpPr>
          <p:spPr>
            <a:xfrm>
              <a:off x="345960" y="1352520"/>
              <a:ext cx="365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رسالة – الغايات ( استراتيجية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35252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14800" y="135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ائل ، الامكانات ( تشغيل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58112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219800" y="1352520"/>
            <a:ext cx="1828440" cy="825480"/>
            <a:chOff x="7219800" y="1352520"/>
            <a:chExt cx="1828440" cy="825480"/>
          </a:xfrm>
        </p:grpSpPr>
        <p:sp>
          <p:nvSpPr>
            <p:cNvPr id="116" name=""/>
            <p:cNvSpPr/>
            <p:nvPr/>
          </p:nvSpPr>
          <p:spPr>
            <a:xfrm>
              <a:off x="7303680" y="1352520"/>
              <a:ext cx="166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ور الاهتم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19800" y="1352520"/>
              <a:ext cx="1828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06360" y="1844640"/>
            <a:ext cx="2908080" cy="639720"/>
            <a:chOff x="1206360" y="1844640"/>
            <a:chExt cx="2908080" cy="639720"/>
          </a:xfrm>
        </p:grpSpPr>
        <p:sp>
          <p:nvSpPr>
            <p:cNvPr id="119" name=""/>
            <p:cNvSpPr/>
            <p:nvPr/>
          </p:nvSpPr>
          <p:spPr>
            <a:xfrm>
              <a:off x="1294200" y="1844640"/>
              <a:ext cx="2732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أهدا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6360" y="1844640"/>
              <a:ext cx="2908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36920" y="1874880"/>
            <a:ext cx="3054240" cy="639720"/>
            <a:chOff x="4336920" y="1874880"/>
            <a:chExt cx="3054240" cy="639720"/>
          </a:xfrm>
        </p:grpSpPr>
        <p:sp>
          <p:nvSpPr>
            <p:cNvPr id="122" name=""/>
            <p:cNvSpPr/>
            <p:nvPr/>
          </p:nvSpPr>
          <p:spPr>
            <a:xfrm>
              <a:off x="4436640" y="1874880"/>
              <a:ext cx="2853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يات النظ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6920" y="1874880"/>
              <a:ext cx="3054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43800" y="1905120"/>
            <a:ext cx="1258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تغي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14480" y="2470320"/>
            <a:ext cx="3023640" cy="882360"/>
            <a:chOff x="1014480" y="2470320"/>
            <a:chExt cx="3023640" cy="882360"/>
          </a:xfrm>
        </p:grpSpPr>
        <p:sp>
          <p:nvSpPr>
            <p:cNvPr id="126" name=""/>
            <p:cNvSpPr/>
            <p:nvPr/>
          </p:nvSpPr>
          <p:spPr>
            <a:xfrm>
              <a:off x="1105560" y="2470320"/>
              <a:ext cx="28407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عمل الأشياء ال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4480" y="2470320"/>
              <a:ext cx="30236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2438280"/>
            <a:ext cx="3352320" cy="882720"/>
            <a:chOff x="4114800" y="2438280"/>
            <a:chExt cx="3352320" cy="882720"/>
          </a:xfrm>
        </p:grpSpPr>
        <p:sp>
          <p:nvSpPr>
            <p:cNvPr id="129" name=""/>
            <p:cNvSpPr/>
            <p:nvPr/>
          </p:nvSpPr>
          <p:spPr>
            <a:xfrm>
              <a:off x="4224240" y="2438280"/>
              <a:ext cx="31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 الأشياء بطريقة 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438280"/>
              <a:ext cx="3352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38880" y="2438280"/>
            <a:ext cx="1687320" cy="609840"/>
            <a:chOff x="7238880" y="2438280"/>
            <a:chExt cx="1687320" cy="609840"/>
          </a:xfrm>
        </p:grpSpPr>
        <p:sp>
          <p:nvSpPr>
            <p:cNvPr id="132" name=""/>
            <p:cNvSpPr/>
            <p:nvPr/>
          </p:nvSpPr>
          <p:spPr>
            <a:xfrm>
              <a:off x="7316280" y="2438280"/>
              <a:ext cx="153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طريق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8880" y="2438280"/>
              <a:ext cx="168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898640" y="439416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14480" y="2971800"/>
            <a:ext cx="3023640" cy="825480"/>
            <a:chOff x="1014480" y="2971800"/>
            <a:chExt cx="3023640" cy="825480"/>
          </a:xfrm>
        </p:grpSpPr>
        <p:sp>
          <p:nvSpPr>
            <p:cNvPr id="136" name=""/>
            <p:cNvSpPr/>
            <p:nvPr/>
          </p:nvSpPr>
          <p:spPr>
            <a:xfrm>
              <a:off x="1105560" y="2971800"/>
              <a:ext cx="284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هائي ، المدى البعي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4480" y="297180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19640" y="2971800"/>
            <a:ext cx="3139560" cy="533520"/>
            <a:chOff x="4319640" y="2971800"/>
            <a:chExt cx="3139560" cy="533520"/>
          </a:xfrm>
        </p:grpSpPr>
        <p:sp>
          <p:nvSpPr>
            <p:cNvPr id="139" name=""/>
            <p:cNvSpPr/>
            <p:nvPr/>
          </p:nvSpPr>
          <p:spPr>
            <a:xfrm>
              <a:off x="4422240" y="297180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رحلي ، المدى القري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9640" y="297180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38880" y="2971800"/>
            <a:ext cx="1676160" cy="609480"/>
            <a:chOff x="7238880" y="2971800"/>
            <a:chExt cx="1676160" cy="609480"/>
          </a:xfrm>
        </p:grpSpPr>
        <p:sp>
          <p:nvSpPr>
            <p:cNvPr id="142" name=""/>
            <p:cNvSpPr/>
            <p:nvPr/>
          </p:nvSpPr>
          <p:spPr>
            <a:xfrm>
              <a:off x="7315920" y="297180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دى الزمن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297180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62920" y="3505320"/>
            <a:ext cx="1860120" cy="609480"/>
            <a:chOff x="7162920" y="3505320"/>
            <a:chExt cx="1860120" cy="609480"/>
          </a:xfrm>
        </p:grpSpPr>
        <p:sp>
          <p:nvSpPr>
            <p:cNvPr id="145" name=""/>
            <p:cNvSpPr/>
            <p:nvPr/>
          </p:nvSpPr>
          <p:spPr>
            <a:xfrm>
              <a:off x="7248240" y="350532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قيا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350532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" y="133200"/>
            <a:ext cx="8686800" cy="6496200"/>
            <a:chOff x="228600" y="133200"/>
            <a:chExt cx="8686800" cy="6496200"/>
          </a:xfrm>
        </p:grpSpPr>
        <p:sp>
          <p:nvSpPr>
            <p:cNvPr id="148" name=""/>
            <p:cNvSpPr/>
            <p:nvPr/>
          </p:nvSpPr>
          <p:spPr>
            <a:xfrm flipH="1">
              <a:off x="228600" y="133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8600" y="743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" y="4114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9154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152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276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8600" y="1886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8600" y="2438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8600" y="2971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8600" y="35053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8600" y="550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8600" y="60390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8600" y="66294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4197240"/>
            <a:ext cx="4114440" cy="679680"/>
            <a:chOff x="0" y="4197240"/>
            <a:chExt cx="4114440" cy="679680"/>
          </a:xfrm>
        </p:grpSpPr>
        <p:sp>
          <p:nvSpPr>
            <p:cNvPr id="165" name=""/>
            <p:cNvSpPr/>
            <p:nvPr/>
          </p:nvSpPr>
          <p:spPr>
            <a:xfrm>
              <a:off x="124200" y="41972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ة ( المنافسة ، الربحية ، رضا المجتمع 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1972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4800" y="4114800"/>
            <a:ext cx="3352320" cy="679320"/>
            <a:chOff x="4114800" y="4114800"/>
            <a:chExt cx="3352320" cy="679320"/>
          </a:xfrm>
        </p:grpSpPr>
        <p:sp>
          <p:nvSpPr>
            <p:cNvPr id="168" name=""/>
            <p:cNvSpPr/>
            <p:nvPr/>
          </p:nvSpPr>
          <p:spPr>
            <a:xfrm>
              <a:off x="4224240" y="411480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ة ( التكلفة، الجودة ، السلامة ، الإجراءات ...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411480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4133880"/>
            <a:ext cx="1860120" cy="609480"/>
            <a:chOff x="7162920" y="4133880"/>
            <a:chExt cx="1860120" cy="609480"/>
          </a:xfrm>
        </p:grpSpPr>
        <p:sp>
          <p:nvSpPr>
            <p:cNvPr id="171" name=""/>
            <p:cNvSpPr/>
            <p:nvPr/>
          </p:nvSpPr>
          <p:spPr>
            <a:xfrm>
              <a:off x="7248240" y="413388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ؤشر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2920" y="413388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31680" y="4883040"/>
            <a:ext cx="4114440" cy="679680"/>
            <a:chOff x="-31680" y="4883040"/>
            <a:chExt cx="4114440" cy="679680"/>
          </a:xfrm>
        </p:grpSpPr>
        <p:sp>
          <p:nvSpPr>
            <p:cNvPr id="174" name=""/>
            <p:cNvSpPr/>
            <p:nvPr/>
          </p:nvSpPr>
          <p:spPr>
            <a:xfrm>
              <a:off x="92520" y="48830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تائج الأعما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31680" y="48830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91120" y="4749840"/>
            <a:ext cx="3320640" cy="679320"/>
            <a:chOff x="4191120" y="4749840"/>
            <a:chExt cx="3320640" cy="679320"/>
          </a:xfrm>
        </p:grpSpPr>
        <p:sp>
          <p:nvSpPr>
            <p:cNvPr id="177" name=""/>
            <p:cNvSpPr/>
            <p:nvPr/>
          </p:nvSpPr>
          <p:spPr>
            <a:xfrm>
              <a:off x="4299480" y="474984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قتصاديات التشغي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474984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6600" y="4762440"/>
            <a:ext cx="1860120" cy="609840"/>
            <a:chOff x="7086600" y="4762440"/>
            <a:chExt cx="1860120" cy="609840"/>
          </a:xfrm>
        </p:grpSpPr>
        <p:sp>
          <p:nvSpPr>
            <p:cNvPr id="180" name=""/>
            <p:cNvSpPr/>
            <p:nvPr/>
          </p:nvSpPr>
          <p:spPr>
            <a:xfrm>
              <a:off x="7171920" y="476244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عبر عن 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476244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9080" y="5549760"/>
            <a:ext cx="4114440" cy="679680"/>
            <a:chOff x="-19080" y="5549760"/>
            <a:chExt cx="4114440" cy="679680"/>
          </a:xfrm>
        </p:grpSpPr>
        <p:sp>
          <p:nvSpPr>
            <p:cNvPr id="183" name=""/>
            <p:cNvSpPr/>
            <p:nvPr/>
          </p:nvSpPr>
          <p:spPr>
            <a:xfrm>
              <a:off x="105120" y="554976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محيطة، العوامل الخارج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19080" y="554976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5492880"/>
            <a:ext cx="3320640" cy="679320"/>
            <a:chOff x="4191120" y="5492880"/>
            <a:chExt cx="3320640" cy="679320"/>
          </a:xfrm>
        </p:grpSpPr>
        <p:sp>
          <p:nvSpPr>
            <p:cNvPr id="186" name=""/>
            <p:cNvSpPr/>
            <p:nvPr/>
          </p:nvSpPr>
          <p:spPr>
            <a:xfrm>
              <a:off x="4299480" y="54928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داخلية، القدرات الذات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54928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30880" y="5562720"/>
            <a:ext cx="1860480" cy="609480"/>
            <a:chOff x="7130880" y="5562720"/>
            <a:chExt cx="1860480" cy="609480"/>
          </a:xfrm>
        </p:grpSpPr>
        <p:sp>
          <p:nvSpPr>
            <p:cNvPr id="189" name=""/>
            <p:cNvSpPr/>
            <p:nvPr/>
          </p:nvSpPr>
          <p:spPr>
            <a:xfrm>
              <a:off x="7216200" y="556272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تأثر بصفة رئيسية بـ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556272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152280" y="6083280"/>
            <a:ext cx="4114440" cy="679320"/>
            <a:chOff x="-152280" y="6083280"/>
            <a:chExt cx="4114440" cy="679320"/>
          </a:xfrm>
        </p:grpSpPr>
        <p:sp>
          <p:nvSpPr>
            <p:cNvPr id="192" name=""/>
            <p:cNvSpPr/>
            <p:nvPr/>
          </p:nvSpPr>
          <p:spPr>
            <a:xfrm>
              <a:off x="-27720" y="608328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كفاء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152280" y="608328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62520" y="6083280"/>
            <a:ext cx="3593520" cy="679320"/>
            <a:chOff x="3962520" y="6083280"/>
            <a:chExt cx="3593520" cy="679320"/>
          </a:xfrm>
        </p:grpSpPr>
        <p:sp>
          <p:nvSpPr>
            <p:cNvPr id="195" name=""/>
            <p:cNvSpPr/>
            <p:nvPr/>
          </p:nvSpPr>
          <p:spPr>
            <a:xfrm>
              <a:off x="4079880" y="6083280"/>
              <a:ext cx="3357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فعا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6083280"/>
              <a:ext cx="35935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30880" y="6058080"/>
            <a:ext cx="1860480" cy="609480"/>
            <a:chOff x="7130880" y="6058080"/>
            <a:chExt cx="1860480" cy="609480"/>
          </a:xfrm>
        </p:grpSpPr>
        <p:sp>
          <p:nvSpPr>
            <p:cNvPr id="198" name=""/>
            <p:cNvSpPr/>
            <p:nvPr/>
          </p:nvSpPr>
          <p:spPr>
            <a:xfrm>
              <a:off x="7216200" y="605808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رجة الأه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605808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9625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ف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511440"/>
            <a:ext cx="3047760" cy="679680"/>
            <a:chOff x="4495680" y="3511440"/>
            <a:chExt cx="3047760" cy="679680"/>
          </a:xfrm>
        </p:grpSpPr>
        <p:grpSp>
          <p:nvGrpSpPr>
            <p:cNvPr id="202" name=""/>
            <p:cNvGrpSpPr/>
            <p:nvPr/>
          </p:nvGrpSpPr>
          <p:grpSpPr>
            <a:xfrm>
              <a:off x="4495680" y="3511440"/>
              <a:ext cx="3047760" cy="679680"/>
              <a:chOff x="4495680" y="3511440"/>
              <a:chExt cx="3047760" cy="67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4595040" y="3511440"/>
                <a:ext cx="28479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فعل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3511440"/>
                <a:ext cx="3047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181480" y="38098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05320"/>
            <a:ext cx="3047400" cy="679320"/>
            <a:chOff x="533520" y="3505320"/>
            <a:chExt cx="3047400" cy="679320"/>
          </a:xfrm>
        </p:grpSpPr>
        <p:grpSp>
          <p:nvGrpSpPr>
            <p:cNvPr id="207" name=""/>
            <p:cNvGrpSpPr/>
            <p:nvPr/>
          </p:nvGrpSpPr>
          <p:grpSpPr>
            <a:xfrm>
              <a:off x="533520" y="3505320"/>
              <a:ext cx="3047400" cy="679320"/>
              <a:chOff x="533520" y="3505320"/>
              <a:chExt cx="3047400" cy="67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632880" y="3505320"/>
                <a:ext cx="28476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مستهدف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520" y="3505320"/>
                <a:ext cx="30474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8960" y="38034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88928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892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حدة اجتماعية فنية تتكون من مجموعة من الأدوار المتداخلة لتحقيق أهداف 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" y="3333600"/>
            <a:ext cx="883944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1720" y="362268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نظ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74796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سق ، كيان كلي يتكون من أجزاء متفاع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105520"/>
            <a:ext cx="883944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394240"/>
            <a:ext cx="2438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نظام المفت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55627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أثر بالبيئة المحيطة ويؤثر ف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1276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منظمات أنظمة مفتوح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9:54:03Z</dcterms:created>
  <dc:creator>Mohamed Kamaly</dc:creator>
  <dc:description/>
  <dc:language>en-US</dc:language>
  <cp:lastModifiedBy>Mohamed Kamaly</cp:lastModifiedBy>
  <dcterms:modified xsi:type="dcterms:W3CDTF">2003-03-05T17:26:41Z</dcterms:modified>
  <cp:revision>95</cp:revision>
  <dc:subject/>
  <dc:title>PowerPoint Presentation</dc:title>
</cp:coreProperties>
</file>