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15.jpeg" ContentType="image/jpeg"/>
  <Override PartName="/ppt/media/image13.png" ContentType="image/png"/>
  <Override PartName="/ppt/media/image12.wmf" ContentType="image/x-wmf"/>
  <Override PartName="/ppt/media/chimes.wav" ContentType="audio/x-wav"/>
  <Override PartName="/ppt/media/image8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camera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399-C485-4968-B5DE-0210FCF1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29D-11FC-4E69-80B1-19143744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5B6-3416-4D12-AFA5-45D698B4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030-0586-489C-B06B-E69B3BD3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CFB-7F07-4504-A638-CCF0F707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816F-F92C-4D87-B2F4-7CB8EF16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1BE-7AA8-4400-B435-A61E447C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C7F-0228-4218-8ECA-BE39D639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B83-DEBE-468F-801B-BCF9BF68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AD2-53E0-4E64-AB90-A113B6A4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7CD-FE2D-4C3E-AB0D-786B46E0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DCB-1F0E-4DCC-BF91-C749AAA7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5386-841F-43C2-BE35-BFE43D5E6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2.wm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2120" y="493560"/>
            <a:ext cx="6979680" cy="3849840"/>
            <a:chOff x="762120" y="493560"/>
            <a:chExt cx="6979680" cy="38498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2120" y="493560"/>
              <a:ext cx="4267080" cy="38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047760" y="609480"/>
              <a:ext cx="4694040" cy="236232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</p:pic>
      </p:grpSp>
      <p:sp>
        <p:nvSpPr>
          <p:cNvPr id="44" name=""/>
          <p:cNvSpPr/>
          <p:nvPr/>
        </p:nvSpPr>
        <p:spPr>
          <a:xfrm>
            <a:off x="1752480" y="4572000"/>
            <a:ext cx="5181840" cy="2286000"/>
          </a:xfrm>
          <a:prstGeom prst="horizontalScroll">
            <a:avLst>
              <a:gd name="adj" fmla="val 125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دكتور / علي محمد عبد الوه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ستاذ إدارة الأعم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كلية التجارة – جامعة عين شم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86200"/>
            <a:ext cx="73152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إدارة والتخطيط الإستراتيج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3880" y="1600200"/>
            <a:ext cx="6477120" cy="35607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61160" y="2595600"/>
            <a:ext cx="963720" cy="21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Simplified Arabic"/>
                <a:cs typeface="Simplified Arabic"/>
              </a:rPr>
              <a:t>البيئــ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اقتصاد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اجتماع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تكنولوج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تعليم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قانو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00360" y="2620800"/>
            <a:ext cx="963360" cy="21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3333cc"/>
                </a:solidFill>
                <a:uFillTx/>
                <a:latin typeface="Simplified Arabic"/>
                <a:cs typeface="Simplified Arabic"/>
              </a:rPr>
              <a:t>البيئــ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اقتصاد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اجتماع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تكنولوج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تعليم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قانو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45200" y="1863720"/>
            <a:ext cx="963360" cy="792000"/>
            <a:chOff x="5245200" y="1863720"/>
            <a:chExt cx="963360" cy="792000"/>
          </a:xfrm>
        </p:grpSpPr>
        <p:sp>
          <p:nvSpPr>
            <p:cNvPr id="225" name=""/>
            <p:cNvSpPr/>
            <p:nvPr/>
          </p:nvSpPr>
          <p:spPr>
            <a:xfrm>
              <a:off x="5245200" y="1863720"/>
              <a:ext cx="963360" cy="79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82720" y="1995480"/>
              <a:ext cx="688320" cy="528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 (Arabic)"/>
                  <a:cs typeface="Times New Roman (Arabic)"/>
                </a:rPr>
                <a:t>هد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895480" y="1995480"/>
            <a:ext cx="1405080" cy="55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 (Arabic)"/>
                <a:cs typeface="Times New Roman (Arabic)"/>
              </a:rPr>
              <a:t>الإدا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83080" y="3446640"/>
            <a:ext cx="846360" cy="552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Times New Roman (Arabic)"/>
                <a:cs typeface="Times New Roman (Arabic)"/>
              </a:rPr>
              <a:t>مدخل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80040" y="3446640"/>
            <a:ext cx="84744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عمل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78080" y="3446640"/>
            <a:ext cx="846360" cy="552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خرج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208200" y="371016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06600" y="371016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005000" y="371016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763360" y="371016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0040" y="2259000"/>
            <a:ext cx="965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1800" y="2523960"/>
            <a:ext cx="1654200" cy="9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1800" y="2523960"/>
            <a:ext cx="552600" cy="9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895480" y="3733920"/>
            <a:ext cx="3527640" cy="768240"/>
            <a:chOff x="2895480" y="3733920"/>
            <a:chExt cx="3527640" cy="768240"/>
          </a:xfrm>
        </p:grpSpPr>
        <p:grpSp>
          <p:nvGrpSpPr>
            <p:cNvPr id="239" name=""/>
            <p:cNvGrpSpPr/>
            <p:nvPr/>
          </p:nvGrpSpPr>
          <p:grpSpPr>
            <a:xfrm>
              <a:off x="5796000" y="3733920"/>
              <a:ext cx="627120" cy="768240"/>
              <a:chOff x="5796000" y="3733920"/>
              <a:chExt cx="627120" cy="76824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5796000" y="4495680"/>
                <a:ext cx="6048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6423120" y="3733920"/>
                <a:ext cx="0" cy="76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895480" y="3733920"/>
              <a:ext cx="2895120" cy="761400"/>
              <a:chOff x="2895480" y="3733920"/>
              <a:chExt cx="2895120" cy="761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895480" y="4489200"/>
                <a:ext cx="2895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895480" y="3733920"/>
                <a:ext cx="0" cy="75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pull dir="ld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0880" y="1905120"/>
            <a:ext cx="808056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) تتقدم المجتمعات عن طريق المنظمات التي تضيف ” القيمة ”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  وتحقق التقدم الاقتصادى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685800"/>
            <a:ext cx="7162920" cy="1191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فاهيم الأساسية للإدارة والتخطيط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1680" y="3505320"/>
            <a:ext cx="816768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) ت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م المنظمات يعتمد علي جودة الإدار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3120" y="5105520"/>
            <a:ext cx="815508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3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) أساس أنشطة المنظمة هو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عقد الأخلاقي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– المسئولية المشتركة</a:t>
            </a:r>
            <a:br>
              <a:rPr sz="2800"/>
            </a:b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بين العاملين والإدارة والمجتم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1143000"/>
            <a:ext cx="0" cy="47242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2952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لكفاءة السا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295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كفاءة الدينا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20160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الاستغلال الأمثل للموارد المتاح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20574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ضافة القيمة – منتجات / خدمات جديد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2743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خفض التكالي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28195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تبادل المنافع بين المنظمة والمجتم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657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عمل الجماع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3657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تحسين الإنتا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447984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رقابة الذات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447984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لرقابة علي العامل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524196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مبادأة والابتكا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95280" y="76320"/>
            <a:ext cx="746784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نظمات المتوافق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295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تتميز بالتكيف مع البيئة المحي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438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دي اعضائها ” حدس اجتماعي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4290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توجه بالنتائ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44956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جهات نظر مخ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فة لتحسين الإستراتيج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54864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رق عمل متعاو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90720" y="1295280"/>
            <a:ext cx="7315200" cy="91440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عديل الهيكل التنظيمي حسب الأهد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438280"/>
            <a:ext cx="7315200" cy="9144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توقع التغيرات والاستعداد له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581280"/>
            <a:ext cx="7315200" cy="914400"/>
          </a:xfrm>
          <a:prstGeom prst="flowChartTermina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عدم الاطمئنان للتوازن الساك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4648320"/>
            <a:ext cx="7315200" cy="914400"/>
          </a:xfrm>
          <a:prstGeom prst="flowChartTermina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رصد كافة المتغيرات ودرجات تأثير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791320"/>
            <a:ext cx="7315200" cy="914400"/>
          </a:xfrm>
          <a:prstGeom prst="flowChartTermina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سين التدريجي المستم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76320"/>
            <a:ext cx="746784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نظمات المتوافق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105520" y="3809880"/>
            <a:ext cx="3200400" cy="80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موقف الحالي ل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3809880"/>
            <a:ext cx="3200400" cy="80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وضع المأم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5486400"/>
            <a:ext cx="3200400" cy="800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تغيرات الجارية في البيئ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486400"/>
            <a:ext cx="3200400" cy="800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أساليب العمل الملائمة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لتحقيق الأهدا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4648320"/>
            <a:ext cx="3200400" cy="79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أهداف 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76320"/>
            <a:ext cx="6495840" cy="838080"/>
          </a:xfrm>
          <a:prstGeom prst="flowChartMultidocumen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إدارة الإستراتي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1066680"/>
            <a:ext cx="7315200" cy="99072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عملية تشكيل الإستراتيجيات وتنفيذه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1905120"/>
            <a:ext cx="7315200" cy="99036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مجموعة القرارات والأفعال للتعامل مع المتغيرات ال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2743200"/>
            <a:ext cx="7315200" cy="99072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* عملية تحليل وتقييم واستشراف لـ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chimes.wav"/>
          </p:stSnd>
        </p:sndAc>
      </p:transition>
    </mc:Choice>
    <mc:Fallback>
      <p:transition spd="slow">
        <p:sndAc>
          <p:stSnd>
            <p:snd r:embed="rId2" name="chimes.wav"/>
          </p:stSnd>
        </p:sndAc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5466960" y="1219320"/>
            <a:ext cx="2000520" cy="3429000"/>
            <a:chOff x="5466960" y="1219320"/>
            <a:chExt cx="2000520" cy="3429000"/>
          </a:xfrm>
        </p:grpSpPr>
        <p:sp>
          <p:nvSpPr>
            <p:cNvPr id="284" name=""/>
            <p:cNvSpPr/>
            <p:nvPr/>
          </p:nvSpPr>
          <p:spPr>
            <a:xfrm>
              <a:off x="5715000" y="1219320"/>
              <a:ext cx="1752480" cy="3429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466960" y="28954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6210360" y="1523880"/>
              <a:ext cx="685800" cy="2743200"/>
              <a:chOff x="6210360" y="1523880"/>
              <a:chExt cx="685800" cy="2743200"/>
            </a:xfrm>
          </p:grpSpPr>
          <p:sp>
            <p:nvSpPr>
              <p:cNvPr id="287" name=""/>
              <p:cNvSpPr/>
              <p:nvPr/>
            </p:nvSpPr>
            <p:spPr>
              <a:xfrm>
                <a:off x="6553080" y="1523880"/>
                <a:ext cx="0" cy="2743200"/>
              </a:xfrm>
              <a:prstGeom prst="line">
                <a:avLst/>
              </a:prstGeom>
              <a:ln cap="rnd" w="381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10360" y="1981080"/>
                <a:ext cx="685800" cy="16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ق</a:t>
                </a:r>
                <a:br>
                  <a:rPr sz="2400"/>
                </a:b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ض</a:t>
                </a: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2133720" y="6095880"/>
            <a:ext cx="48765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إدارة والتخطيط الإستراتي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228600"/>
            <a:ext cx="304776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تشكيل الإستراتي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6080" y="1371600"/>
            <a:ext cx="1295640" cy="320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</a:rPr>
              <a:t>تحليل ومراجعة</a:t>
            </a: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رؤي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قيم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رسال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أهداف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إستراتيجي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   الح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1120" y="1371600"/>
            <a:ext cx="1218960" cy="3200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00"/>
                </a:solidFill>
                <a:uFillTx/>
                <a:latin typeface="Times New Roman"/>
              </a:rPr>
              <a:t>وضع الإستراتيجية</a:t>
            </a:r>
            <a:br>
              <a:rPr sz="14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كلية</a:t>
            </a:r>
            <a:br>
              <a:rPr sz="1800"/>
            </a:br>
            <a:r>
              <a:rPr b="0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(</a:t>
            </a: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منظمة)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فرعية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(الوحدة)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تشغيلية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(الوظيفة</a:t>
            </a:r>
            <a:r>
              <a:rPr b="0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1371600"/>
            <a:ext cx="990360" cy="3200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Times New Roman"/>
              </a:rPr>
              <a:t>الرقابة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تقوي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النتائ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مراج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320" y="1371600"/>
            <a:ext cx="8380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تجديد</a:t>
            </a: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29480" y="838080"/>
            <a:ext cx="15238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تحليل البيئة الداخلية</a:t>
            </a:r>
            <a:br>
              <a:rPr sz="1600"/>
            </a:br>
            <a:r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(القوة والضعف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96000" y="4267080"/>
            <a:ext cx="1523880" cy="6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00"/>
                </a:solidFill>
                <a:latin typeface="Times New Roman"/>
              </a:rPr>
              <a:t>تحليل البيئة الخارجية</a:t>
            </a:r>
            <a:br>
              <a:rPr sz="1600"/>
            </a:br>
            <a:r>
              <a:rPr b="0" lang="ar-SA" sz="1600" spc="-1" strike="noStrike">
                <a:solidFill>
                  <a:srgbClr val="ffff00"/>
                </a:solidFill>
                <a:latin typeface="Times New Roman"/>
              </a:rPr>
              <a:t>(الفرص والتهديد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467120" y="2895480"/>
            <a:ext cx="228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362320" y="1369800"/>
            <a:ext cx="1509480" cy="3429000"/>
            <a:chOff x="2362320" y="1369800"/>
            <a:chExt cx="1509480" cy="3429000"/>
          </a:xfrm>
        </p:grpSpPr>
        <p:sp>
          <p:nvSpPr>
            <p:cNvPr id="299" name=""/>
            <p:cNvSpPr/>
            <p:nvPr/>
          </p:nvSpPr>
          <p:spPr>
            <a:xfrm>
              <a:off x="2362320" y="1371600"/>
              <a:ext cx="1447560" cy="3200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التطبيق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حشد الموارد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ستغلال 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    الإمكانات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لأنظمة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لممارسا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6200000">
              <a:off x="1973160" y="290016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</a:rPr>
                <a:t>تخطيط    تنظيم   قيادة   رقا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038480" y="304920"/>
            <a:ext cx="0" cy="5562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304920"/>
            <a:ext cx="0" cy="5562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304920"/>
            <a:ext cx="213372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تنفيذ الإستراتي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280" y="304920"/>
            <a:ext cx="83844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التطوي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33520" y="4591080"/>
            <a:ext cx="8001000" cy="685800"/>
            <a:chOff x="533520" y="4591080"/>
            <a:chExt cx="8001000" cy="685800"/>
          </a:xfrm>
        </p:grpSpPr>
        <p:sp>
          <p:nvSpPr>
            <p:cNvPr id="306" name=""/>
            <p:cNvSpPr/>
            <p:nvPr/>
          </p:nvSpPr>
          <p:spPr>
            <a:xfrm>
              <a:off x="533520" y="5257800"/>
              <a:ext cx="80010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600" y="4591080"/>
              <a:ext cx="0" cy="685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15440" y="4591080"/>
              <a:ext cx="0" cy="685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400800" y="1295280"/>
            <a:ext cx="213372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رؤ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52280"/>
            <a:ext cx="8077320" cy="106704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ليل الرؤية والرسالة وتحديد الأهداف والإستراتيج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28680" y="22096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كيف ستكون المنظم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29718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ما هي الخدمات / المنتجات التي تقدمها للعملاء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576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- من هم أهم العملاء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3434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نواحي التمي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50292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- نصيب المنظمة في الس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1447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حلم الغد ، بوصلة المستقبل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400800" y="1295280"/>
            <a:ext cx="21337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رؤ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152280"/>
            <a:ext cx="8077320" cy="106704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ليل الرؤية والرسالة وتحديد الأهداف والإستراتيج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28680" y="22096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ترتيب المنظمة مع المنظمات الأخر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28954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التطوير المستقب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19320" y="35812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Times New Roman (Arabic)"/>
              </a:rPr>
              <a:t>الإنجازات المتوق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42670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آفاق الجد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1447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حلم الغد ، بوصلة المستقبل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705720" y="4876920"/>
            <a:ext cx="1600200" cy="12189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سفة 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نظم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67120" y="4876920"/>
            <a:ext cx="1600200" cy="12189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ج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عمال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71640" y="4876920"/>
            <a:ext cx="1600200" cy="12189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طوائف الت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تخدم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2152800"/>
            <a:ext cx="6553440" cy="819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المهمة الرئيسية ... الغرض من وجود المنظمة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321948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توضح الرسالة الجيدة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457200"/>
            <a:ext cx="4267440" cy="1219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86600" y="2971800"/>
            <a:ext cx="1295280" cy="1219320"/>
          </a:xfrm>
          <a:prstGeom prst="ellipse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استقر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971800"/>
            <a:ext cx="1295640" cy="1219320"/>
          </a:xfrm>
          <a:prstGeom prst="ellipse">
            <a:avLst/>
          </a:prstGeom>
          <a:solidFill>
            <a:srgbClr val="0000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قيا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5257800"/>
            <a:ext cx="1295280" cy="12193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حل 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مشك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5257800"/>
            <a:ext cx="1295640" cy="1219320"/>
          </a:xfrm>
          <a:prstGeom prst="ellipse">
            <a:avLst/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5029200"/>
            <a:ext cx="1295280" cy="1219320"/>
          </a:xfrm>
          <a:prstGeom prst="ellipse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تسب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133720" y="358128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41911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1911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771200" y="5581800"/>
            <a:ext cx="221004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95960" y="5619600"/>
            <a:ext cx="22096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28600"/>
            <a:ext cx="47242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06668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تفكير هو إعمال للعق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شغيل للطاقات الهائلة للمخ الإنسا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* هناك خمسة أنواع للتفكير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990720"/>
            <a:ext cx="7467840" cy="1143000"/>
          </a:xfrm>
          <a:prstGeom prst="horizontalScroll">
            <a:avLst>
              <a:gd name="adj" fmla="val 125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خصائص الرسالة الفعال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2666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وجه للعم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038480"/>
            <a:ext cx="335268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ستثارة التعاون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بين الإدارة و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2666880"/>
            <a:ext cx="33526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واقعية – القابلية للتحق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4038480"/>
            <a:ext cx="33526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مساعدة الإدارة للاختيار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أفضل لبدائل تحقيق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2286000"/>
            <a:ext cx="6553080" cy="819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جزء أساسي في ثقافة المنظم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3409920"/>
            <a:ext cx="6553080" cy="8193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* تحدد ” شخصية ” المنظمة في نظر المتعاملين مع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4419720"/>
            <a:ext cx="6553080" cy="838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تعمل مرشداً لسلوك الإدارة والعاملين وعلاقاته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67480" y="228600"/>
            <a:ext cx="129564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ق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228600"/>
            <a:ext cx="8001000" cy="990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247680 h 990720"/>
              <a:gd name="textAreaBottom" fmla="*/ 961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أنواع الق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1514520"/>
            <a:ext cx="8153640" cy="4886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235260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303840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374328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448632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1552680"/>
            <a:ext cx="0" cy="4848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بي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16002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الخصائص والفئ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3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عند الباحثين والعلم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30481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Times New Roman"/>
              </a:rPr>
              <a:t>عند اصحاب الأعمال – المنفعة والمكاس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37861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عند المبدعين والفنان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452916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</a:rPr>
              <a:t>الود ، التعاطف ، العلاقات ال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2428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نظرية عل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31291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38908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ج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4567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514368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519588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المنافسة ، التفوق ، القيا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29200" y="5148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سيا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79132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080" y="575784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لخير الدنيا والآخ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5853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دي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09480" y="2590920"/>
            <a:ext cx="8153640" cy="373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24480" y="685800"/>
            <a:ext cx="2362320" cy="10666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الأهدا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27576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الوقت ، الزمن المح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27280" y="3443400"/>
            <a:ext cx="51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هل الهدف واقعي ، يمكن تحقيقه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403848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دالة القياس : معايير الحكم علي النتائ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4648320"/>
            <a:ext cx="51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imes New Roman"/>
                <a:cs typeface="Times New Roman (Arabic)"/>
              </a:rPr>
              <a:t>التركيز علي النتائج وليس الأنشط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84520" y="5288040"/>
            <a:ext cx="513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imes New Roman"/>
                <a:cs typeface="Times New Roman (Arabic)"/>
              </a:rPr>
              <a:t>الفائدة المرجوة : الجودة والتمي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10280" y="2666880"/>
            <a:ext cx="1295640" cy="3505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28195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86600" y="33526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ه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86600" y="38862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4572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34320" y="52578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705720" y="5715000"/>
            <a:ext cx="1600200" cy="990720"/>
          </a:xfrm>
          <a:prstGeom prst="flowChartAlternate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قوة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تناف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67120" y="5715000"/>
            <a:ext cx="1600200" cy="99072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قوة</a:t>
            </a:r>
            <a:br>
              <a:rPr sz="2800"/>
            </a:b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تعاو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71640" y="5715000"/>
            <a:ext cx="1600200" cy="9907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قيمة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1333440"/>
            <a:ext cx="6553440" cy="8193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* هي المسار الرئيسي الذي تختاره الإدارة لتحقيق أهداف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34324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هي سلسلة قرارات للتعامل مع المتغيرات المحيط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19920" y="0"/>
            <a:ext cx="2895480" cy="1371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إستراتي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3295800"/>
            <a:ext cx="6553440" cy="11239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خطة العمل التي تخصص الموارد المطلوب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دد الأنشطة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لازمة للتعامل مع البيئة المحيطة لتحقيق الأهداف المنشو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464832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من خلال الإستراتيجية تحدد الإدار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1371600" y="285840"/>
            <a:ext cx="6496200" cy="5867280"/>
            <a:chOff x="1371600" y="285840"/>
            <a:chExt cx="6496200" cy="5867280"/>
          </a:xfrm>
        </p:grpSpPr>
        <p:sp>
          <p:nvSpPr>
            <p:cNvPr id="384" name=""/>
            <p:cNvSpPr/>
            <p:nvPr/>
          </p:nvSpPr>
          <p:spPr>
            <a:xfrm>
              <a:off x="1486080" y="285840"/>
              <a:ext cx="6305400" cy="5867280"/>
            </a:xfrm>
            <a:prstGeom prst="ellipse">
              <a:avLst/>
            </a:prstGeom>
            <a:solidFill>
              <a:srgbClr val="3333cc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86240" y="380880"/>
              <a:ext cx="236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بيئة الخارجية العامة</a:t>
              </a:r>
              <a:br>
                <a:rPr sz="2000"/>
              </a:b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( غير المباشرة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1066680"/>
              <a:ext cx="4267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43600" y="127944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تكنولوج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24800" y="272736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اجتماعية</a:t>
              </a:r>
              <a:br>
                <a:rPr sz="1800"/>
              </a:b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ثقاف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00800" y="42354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سياس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48240" y="514368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قانونية</a:t>
              </a:r>
              <a:br>
                <a:rPr sz="1800"/>
              </a:b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تشريع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81080" y="464832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طبيع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7160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عالم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81080" y="15238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اقتصاد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476440" y="1181160"/>
            <a:ext cx="4343400" cy="4231080"/>
            <a:chOff x="2476440" y="1181160"/>
            <a:chExt cx="4343400" cy="4231080"/>
          </a:xfrm>
        </p:grpSpPr>
        <p:grpSp>
          <p:nvGrpSpPr>
            <p:cNvPr id="395" name=""/>
            <p:cNvGrpSpPr/>
            <p:nvPr/>
          </p:nvGrpSpPr>
          <p:grpSpPr>
            <a:xfrm>
              <a:off x="2476440" y="1181160"/>
              <a:ext cx="4343400" cy="4231080"/>
              <a:chOff x="2476440" y="1181160"/>
              <a:chExt cx="4343400" cy="4231080"/>
            </a:xfrm>
          </p:grpSpPr>
          <p:sp>
            <p:nvSpPr>
              <p:cNvPr id="396" name=""/>
              <p:cNvSpPr/>
              <p:nvPr/>
            </p:nvSpPr>
            <p:spPr>
              <a:xfrm>
                <a:off x="2476440" y="1181160"/>
                <a:ext cx="4343400" cy="4191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48040" y="1219320"/>
                <a:ext cx="1600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بيئة الخارجية المباشرة</a:t>
                </a:r>
                <a:br>
                  <a:rPr sz="1600"/>
                </a:br>
                <a:r>
                  <a:rPr b="1" lang="ar-SA" sz="1600" spc="-1" strike="noStrike">
                    <a:solidFill>
                      <a:srgbClr val="ffffff"/>
                    </a:solidFill>
                    <a:latin typeface="Times New Roman"/>
                    <a:ea typeface="Times New Roman (Arabic)"/>
                  </a:rPr>
                  <a:t>(بيئة العمل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38680" y="2286000"/>
                <a:ext cx="838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عملا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38680" y="3794040"/>
                <a:ext cx="1067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منافسون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62520" y="4708440"/>
                <a:ext cx="1447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سوق العم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610000" y="371484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أجهزة </a:t>
                </a:r>
                <a:br>
                  <a:rPr sz="2000"/>
                </a:b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رقابي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90920" y="2286000"/>
                <a:ext cx="1143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موردون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2971800" y="1981080"/>
              <a:ext cx="33526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429000" y="2209680"/>
            <a:ext cx="2362320" cy="2228040"/>
            <a:chOff x="3429000" y="2209680"/>
            <a:chExt cx="2362320" cy="2228040"/>
          </a:xfrm>
        </p:grpSpPr>
        <p:sp>
          <p:nvSpPr>
            <p:cNvPr id="405" name=""/>
            <p:cNvSpPr/>
            <p:nvPr/>
          </p:nvSpPr>
          <p:spPr>
            <a:xfrm>
              <a:off x="3429000" y="2209680"/>
              <a:ext cx="2362320" cy="2133720"/>
            </a:xfrm>
            <a:prstGeom prst="ellipse">
              <a:avLst/>
            </a:prstGeom>
            <a:solidFill>
              <a:srgbClr val="0000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34648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بيئة الداخل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57600" y="2705040"/>
              <a:ext cx="1905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86200" y="27273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إدار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29200" y="312408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ثقاف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29000" y="31240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إمكانا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14800" y="3733920"/>
              <a:ext cx="91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عاملو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24320" y="3244680"/>
              <a:ext cx="685800" cy="580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منظم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209680" y="6172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بيئة المنظ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762120"/>
            <a:ext cx="8305920" cy="289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صناعة والسوق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1523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جال الأعمال : نوع الخدمة 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نتج ، والسوق التي تغطي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20574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مو الأعمال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عدلات النمو في الصناعة ، نمو السوق التي تخدمها ، 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    والتغيرات المختل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2911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قوي المؤثرة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ستفيدون من الخدمة ، الموردون ، البدائل المتاح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3886200"/>
            <a:ext cx="8305920" cy="2895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منافسة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4648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منافسون الرئيسيون ، نصيبهم من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أهداف المنافسين واستراتيجياتهم ونقاط القوة والضعف لديه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6035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زايا التنافسية لدي المنافسين ( الجودة ، التكلفة ، التنويع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..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762120"/>
            <a:ext cx="830592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3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بيئة القانو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480" y="1523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أنظمة التشريعية والقانو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2438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إجراءات الرقابية للأجهزة المختل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3886200"/>
            <a:ext cx="830592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3962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4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بيئة الاجتماع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4648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قضايا الاجتماعية والثقافية السائدة والمتوقع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جماعات المؤثرة ( من المستهلكين والجمعيات المحلية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..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762120"/>
            <a:ext cx="830592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5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موارد البشر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295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سوق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828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احتياجات من القوي العام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2666880"/>
            <a:ext cx="830592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15000" y="2743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وامل الاقتصادية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3200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ظروف الاقتصادية الك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3657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طلب والعرض ، والمنافسة ، ومعدلات النم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4648320"/>
            <a:ext cx="8305920" cy="1600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15000" y="4724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7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وامل التق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5181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طرق والأساليب العلمية المتاح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ابتكارات الحديث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762120"/>
            <a:ext cx="830556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إدارة والتنظي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29200" y="1295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كفاءة القادة الإداري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خريطة التنظي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819520"/>
            <a:ext cx="830556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15000" y="2895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2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تمويل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3276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تحليل القوائم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657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مديونية والدائ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343400"/>
            <a:ext cx="8305560" cy="236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موارد البشر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257800" y="48006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ؤهلات ومهارات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5257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تدريب وتطوير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144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كفاءة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درجة المركز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92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تخطيط والرقاب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144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6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نظام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3276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تجاه الربحية والتكالي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36576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معدل العائد علي الاستثما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800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نظم الاختيار والتعي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نظم الحوافز والترق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57800" y="579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5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تقييم أداء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57800" y="6248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7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معدلات الشكاو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5791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6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عدلات الغياب ودوران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6248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8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درجات رضا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0" y="228600"/>
            <a:ext cx="47242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066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تفكير الإستراتيجي يمارس في محيط بي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ئ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 معين ... بهدف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عايش المستمر مع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28600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يعتمد العقل الإستراتيجي عل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124080"/>
            <a:ext cx="4114800" cy="6098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تحليل المنطقي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809880"/>
            <a:ext cx="4114800" cy="6098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رونة الفكرية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72428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* الفكر الإستراتيجي فلسفة طويلة الأجل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5600880"/>
            <a:ext cx="7696080" cy="10666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مفتاح النجاح هو التفكير في الإستراتيجية التي تمد المنظمة </a:t>
            </a:r>
            <a:br>
              <a:rPr sz="2800"/>
            </a:br>
            <a:r>
              <a:rPr b="1" i="1" lang="ar-SA" sz="28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بميزة تنافسية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وتطبيقها في الوقت المناس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762120"/>
            <a:ext cx="830556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4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تسويق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292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نصيب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16956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نظام الترويج والإعلا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2819520"/>
            <a:ext cx="8305560" cy="1752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28954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5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مليات ( الإنتاجية / الخدمية 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0600" y="3276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موقع الوح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3657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نظم الشر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4724280"/>
            <a:ext cx="8305560" cy="1447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91320" y="4724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بحوث والتطوير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5780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بحوث الجار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خطط وبرامج البحوث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1295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جودة المنتج / الخد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144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درجات رضا العمل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292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سمعة ا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276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أجهزة والمع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36576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جداول التسلي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4400" y="51814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إمكانيات العلمية والتق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14400" y="5638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الابتكارات ونواحي التطو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00600" y="4114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رقابة علي الجو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41148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معدلات الإنتاجية 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كفاء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b2b2b2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676520" y="914400"/>
            <a:ext cx="58672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2438280"/>
            <a:ext cx="8305560" cy="2819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38480" y="28954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7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أخر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3505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قاط القوة والضعف في عناصر أخري مثل نظم المعلومات ، الخدمات الإدارية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52280" y="2209680"/>
            <a:ext cx="883944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00800" y="2498760"/>
            <a:ext cx="243828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داخل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2498760"/>
            <a:ext cx="6019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ميزانيات  * المؤشرات المالية        * قوائم الأرباح والخسائر</a:t>
            </a:r>
            <a:br>
              <a:rPr sz="2000"/>
            </a:b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تقارير والدراسات   * استقصاء الاتجاهات ورضا العاملين</a:t>
            </a:r>
            <a:br>
              <a:rPr sz="2000"/>
            </a:b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اجتماعات بين المديرين والعامل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3581280"/>
            <a:ext cx="8839440" cy="1752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81720" y="4098960"/>
            <a:ext cx="243828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خار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" y="4022640"/>
            <a:ext cx="55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عملاء          * الموردون           * تقارير الحكومة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صحف اليومية والمهنية               * البنوك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مستشارون                            * العامل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1600200"/>
            <a:ext cx="8839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صادر معلومات التحليل البيئ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1219320"/>
            <a:ext cx="8077320" cy="76176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نية والغرض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مهمة التي تؤديها المنظم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2133720"/>
            <a:ext cx="8077320" cy="761760"/>
          </a:xfrm>
          <a:prstGeom prst="flowChartMultidocumen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دينامية والتطوير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تحسين لمواجهة الظروف المتغير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3048120"/>
            <a:ext cx="8077320" cy="761760"/>
          </a:xfrm>
          <a:prstGeom prst="flowChartMultidocumen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مراجعة الافتراضات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تي يقوم عليها العمل ، وتغيير المتقادم منها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3886200"/>
            <a:ext cx="8077320" cy="76212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4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Simplified Arabic"/>
              </a:rPr>
              <a:t>تحديد الأولويات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: حتى يمكن تخصيص الموارد واستغلالها الاستغلال الأمث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4724280"/>
            <a:ext cx="8077320" cy="76212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5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Simplified Arabic"/>
              </a:rPr>
              <a:t>المشاركة في اتخاذ القرارات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: المشورة وتبادل الخب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5562720"/>
            <a:ext cx="8077320" cy="761760"/>
          </a:xfrm>
          <a:prstGeom prst="flowChartMultidocumen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6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3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فاعلية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أداء الأشياء الصحيحة 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خصائص التخطيط الاستراتيج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09480" y="1219320"/>
            <a:ext cx="8077320" cy="68580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حفز العاملين وتحريك دوافعهم لتحقيق الأهداف المطلوب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1981080"/>
            <a:ext cx="8077320" cy="6858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نشر روح الفريق والتعاون بين العامل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743200"/>
            <a:ext cx="8077320" cy="68580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مواجهة المشكلات ، والتنبؤ بها ، وإعداد الحلول المناسبة لها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505320"/>
            <a:ext cx="8077320" cy="685800"/>
          </a:xfrm>
          <a:prstGeom prst="flowChartMulti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4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تحديد الأدوار والمسئولي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267080"/>
            <a:ext cx="8077320" cy="6858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5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تحدي الوضع الراهن – المرونة والاستجابة للمتغي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029200"/>
            <a:ext cx="8077320" cy="6858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6</a:t>
            </a: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ربط المستويات الإدارية المختلفة ببعضها عن طريق الاشتراك في اتخاذ القرارات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زايا التخطيط الاستراتيج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5867280"/>
            <a:ext cx="8077320" cy="685800"/>
          </a:xfrm>
          <a:prstGeom prst="flowChartMultidocumen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7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رفع الروح المعنوية والشعور بالمسئولية- نتيجة لتبادل المعلومات ووجهات النظ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295280" y="0"/>
            <a:ext cx="7086600" cy="1143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قومات التخطيط الإستراتيجي الجيد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1295280"/>
            <a:ext cx="7315200" cy="91440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مرونة والاستعداد للتغيي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90720" y="2438280"/>
            <a:ext cx="7315200" cy="9144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2</a:t>
            </a: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 ) وضوح الأهداف والغاي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3581280"/>
            <a:ext cx="7315200" cy="914400"/>
          </a:xfrm>
          <a:prstGeom prst="flowChartTermina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3</a:t>
            </a: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لمنهجية السليمة لاتخاذ القرار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4648320"/>
            <a:ext cx="7315200" cy="914400"/>
          </a:xfrm>
          <a:prstGeom prst="flowChartTermina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نظام معلومات سليم وحديث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5791320"/>
            <a:ext cx="7315200" cy="914400"/>
          </a:xfrm>
          <a:prstGeom prst="flowChartTermina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خطوط اتصال مستمرة بين المديرين والعامل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90720" y="76320"/>
            <a:ext cx="777240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قومات التخطيط الإستراتيجي الجيد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295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ستعداد كافة المعنيين للتعاون في وضع الخطة ثم تبني تنفيذها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2438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مشاركة الفاعلة علي المستويات المختلف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38080" y="34290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8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لتفكير الإبتكار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38080" y="44956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9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معايير طموحة للتطوي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54864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0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مراجعة المستمر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191120" y="61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خطيط التقلي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61272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خطيط الإستراتيج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20120" y="1066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- الهد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ستمرا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10666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طوير والتحس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173240" y="1600200"/>
            <a:ext cx="2941200" cy="459720"/>
            <a:chOff x="1173240" y="1600200"/>
            <a:chExt cx="2941200" cy="459720"/>
          </a:xfrm>
        </p:grpSpPr>
        <p:sp>
          <p:nvSpPr>
            <p:cNvPr id="538" name=""/>
            <p:cNvSpPr/>
            <p:nvPr/>
          </p:nvSpPr>
          <p:spPr>
            <a:xfrm>
              <a:off x="1262160" y="1600200"/>
              <a:ext cx="27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بيئة متغير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73240" y="1600200"/>
              <a:ext cx="294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191120" y="16192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ستقرار الوضع الحالي ، تغيير قلي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57800" y="1828800"/>
            <a:ext cx="2079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315200" y="1692360"/>
            <a:ext cx="1676160" cy="1008720"/>
            <a:chOff x="7315200" y="1692360"/>
            <a:chExt cx="1676160" cy="1008720"/>
          </a:xfrm>
        </p:grpSpPr>
        <p:sp>
          <p:nvSpPr>
            <p:cNvPr id="543" name=""/>
            <p:cNvSpPr/>
            <p:nvPr/>
          </p:nvSpPr>
          <p:spPr>
            <a:xfrm>
              <a:off x="7392240" y="1692360"/>
              <a:ext cx="1522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2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افتراضات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15200" y="1692360"/>
              <a:ext cx="16761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04920" y="2217600"/>
            <a:ext cx="3809520" cy="640080"/>
            <a:chOff x="304920" y="2217600"/>
            <a:chExt cx="3809520" cy="640080"/>
          </a:xfrm>
        </p:grpSpPr>
        <p:sp>
          <p:nvSpPr>
            <p:cNvPr id="546" name=""/>
            <p:cNvSpPr/>
            <p:nvPr/>
          </p:nvSpPr>
          <p:spPr>
            <a:xfrm>
              <a:off x="419760" y="2217600"/>
              <a:ext cx="35791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خارجي – العميل / المنافسة / المجتمع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920" y="2217600"/>
              <a:ext cx="38095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336920" y="2217600"/>
            <a:ext cx="3054240" cy="640080"/>
            <a:chOff x="4336920" y="2217600"/>
            <a:chExt cx="3054240" cy="640080"/>
          </a:xfrm>
        </p:grpSpPr>
        <p:sp>
          <p:nvSpPr>
            <p:cNvPr id="549" name=""/>
            <p:cNvSpPr/>
            <p:nvPr/>
          </p:nvSpPr>
          <p:spPr>
            <a:xfrm>
              <a:off x="4436640" y="2217600"/>
              <a:ext cx="28537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اخلي – وظائف المنظم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36920" y="2217600"/>
              <a:ext cx="30542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391520" y="2228760"/>
            <a:ext cx="1563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محور التركي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014480" y="2717640"/>
            <a:ext cx="3023640" cy="406440"/>
            <a:chOff x="1014480" y="2717640"/>
            <a:chExt cx="3023640" cy="406440"/>
          </a:xfrm>
        </p:grpSpPr>
        <p:sp>
          <p:nvSpPr>
            <p:cNvPr id="553" name=""/>
            <p:cNvSpPr/>
            <p:nvPr/>
          </p:nvSpPr>
          <p:spPr>
            <a:xfrm>
              <a:off x="1105560" y="2717640"/>
              <a:ext cx="2840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حدي الوضع الراهن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14480" y="2717640"/>
              <a:ext cx="302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495680" y="2685960"/>
            <a:ext cx="2971440" cy="882720"/>
            <a:chOff x="4495680" y="2685960"/>
            <a:chExt cx="2971440" cy="882720"/>
          </a:xfrm>
        </p:grpSpPr>
        <p:sp>
          <p:nvSpPr>
            <p:cNvPr id="556" name=""/>
            <p:cNvSpPr/>
            <p:nvPr/>
          </p:nvSpPr>
          <p:spPr>
            <a:xfrm>
              <a:off x="4592880" y="2685960"/>
              <a:ext cx="277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عم الوضع الراهن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95680" y="2685960"/>
              <a:ext cx="297144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7238880" y="2819520"/>
            <a:ext cx="1687320" cy="609480"/>
            <a:chOff x="7238880" y="2819520"/>
            <a:chExt cx="1687320" cy="609480"/>
          </a:xfrm>
        </p:grpSpPr>
        <p:sp>
          <p:nvSpPr>
            <p:cNvPr id="559" name=""/>
            <p:cNvSpPr/>
            <p:nvPr/>
          </p:nvSpPr>
          <p:spPr>
            <a:xfrm>
              <a:off x="7316280" y="2819520"/>
              <a:ext cx="1532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4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جهد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38880" y="2819520"/>
              <a:ext cx="168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1898640" y="4641840"/>
            <a:ext cx="5834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014480" y="3219480"/>
            <a:ext cx="3023640" cy="762120"/>
            <a:chOff x="1014480" y="3219480"/>
            <a:chExt cx="3023640" cy="762120"/>
          </a:xfrm>
        </p:grpSpPr>
        <p:sp>
          <p:nvSpPr>
            <p:cNvPr id="563" name=""/>
            <p:cNvSpPr/>
            <p:nvPr/>
          </p:nvSpPr>
          <p:spPr>
            <a:xfrm>
              <a:off x="1105560" y="3219480"/>
              <a:ext cx="284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غزي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14480" y="3219480"/>
              <a:ext cx="3023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4319640" y="3219480"/>
            <a:ext cx="3139560" cy="533520"/>
            <a:chOff x="4319640" y="3219480"/>
            <a:chExt cx="3139560" cy="533520"/>
          </a:xfrm>
        </p:grpSpPr>
        <p:sp>
          <p:nvSpPr>
            <p:cNvPr id="566" name=""/>
            <p:cNvSpPr/>
            <p:nvPr/>
          </p:nvSpPr>
          <p:spPr>
            <a:xfrm>
              <a:off x="4422240" y="3219480"/>
              <a:ext cx="2933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قليل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19640" y="3219480"/>
              <a:ext cx="313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7238880" y="3219480"/>
            <a:ext cx="1676160" cy="609480"/>
            <a:chOff x="7238880" y="3219480"/>
            <a:chExt cx="1676160" cy="609480"/>
          </a:xfrm>
        </p:grpSpPr>
        <p:sp>
          <p:nvSpPr>
            <p:cNvPr id="569" name=""/>
            <p:cNvSpPr/>
            <p:nvPr/>
          </p:nvSpPr>
          <p:spPr>
            <a:xfrm>
              <a:off x="7315920" y="3219480"/>
              <a:ext cx="1522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5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ابتكار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38880" y="3219480"/>
              <a:ext cx="167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838080" y="3835440"/>
            <a:ext cx="3276360" cy="507960"/>
            <a:chOff x="838080" y="3835440"/>
            <a:chExt cx="3276360" cy="507960"/>
          </a:xfrm>
        </p:grpSpPr>
        <p:sp>
          <p:nvSpPr>
            <p:cNvPr id="572" name=""/>
            <p:cNvSpPr/>
            <p:nvPr/>
          </p:nvSpPr>
          <p:spPr>
            <a:xfrm>
              <a:off x="937080" y="3835440"/>
              <a:ext cx="3078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لي أساس النتائج والأوليات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8080" y="3835440"/>
              <a:ext cx="3276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152960" y="3797280"/>
            <a:ext cx="3352320" cy="679320"/>
            <a:chOff x="4152960" y="3797280"/>
            <a:chExt cx="3352320" cy="679320"/>
          </a:xfrm>
        </p:grpSpPr>
        <p:sp>
          <p:nvSpPr>
            <p:cNvPr id="575" name=""/>
            <p:cNvSpPr/>
            <p:nvPr/>
          </p:nvSpPr>
          <p:spPr>
            <a:xfrm>
              <a:off x="4262400" y="3797280"/>
              <a:ext cx="3132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تخصيص علي أساس تاريخي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52960" y="3797280"/>
              <a:ext cx="33523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162920" y="3753000"/>
            <a:ext cx="1860120" cy="609480"/>
            <a:chOff x="7162920" y="3753000"/>
            <a:chExt cx="1860120" cy="609480"/>
          </a:xfrm>
        </p:grpSpPr>
        <p:sp>
          <p:nvSpPr>
            <p:cNvPr id="578" name=""/>
            <p:cNvSpPr/>
            <p:nvPr/>
          </p:nvSpPr>
          <p:spPr>
            <a:xfrm>
              <a:off x="7248240" y="375300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6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موارد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162920" y="375300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28600" y="476280"/>
            <a:ext cx="8686800" cy="6324480"/>
            <a:chOff x="228600" y="476280"/>
            <a:chExt cx="8686800" cy="6324480"/>
          </a:xfrm>
        </p:grpSpPr>
        <p:sp>
          <p:nvSpPr>
            <p:cNvPr id="581" name=""/>
            <p:cNvSpPr/>
            <p:nvPr/>
          </p:nvSpPr>
          <p:spPr>
            <a:xfrm flipH="1">
              <a:off x="228600" y="4762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28600" y="106992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228600" y="435240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14800" y="494640"/>
              <a:ext cx="0" cy="6305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91540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152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60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28600" y="15890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28600" y="21826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28600" y="27201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228600" y="32396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28600" y="375912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228600" y="49456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28600" y="57063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228600" y="62258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28600" y="68007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0" y="4444920"/>
            <a:ext cx="4114440" cy="507960"/>
            <a:chOff x="0" y="4444920"/>
            <a:chExt cx="4114440" cy="507960"/>
          </a:xfrm>
        </p:grpSpPr>
        <p:sp>
          <p:nvSpPr>
            <p:cNvPr id="598" name=""/>
            <p:cNvSpPr/>
            <p:nvPr/>
          </p:nvSpPr>
          <p:spPr>
            <a:xfrm>
              <a:off x="124200" y="4444920"/>
              <a:ext cx="3865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يناميكي – بدائل عديد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4444920"/>
              <a:ext cx="41144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419720" y="4368960"/>
            <a:ext cx="3047400" cy="431640"/>
            <a:chOff x="4419720" y="4368960"/>
            <a:chExt cx="3047400" cy="431640"/>
          </a:xfrm>
        </p:grpSpPr>
        <p:sp>
          <p:nvSpPr>
            <p:cNvPr id="601" name=""/>
            <p:cNvSpPr/>
            <p:nvPr/>
          </p:nvSpPr>
          <p:spPr>
            <a:xfrm>
              <a:off x="4519080" y="4368960"/>
              <a:ext cx="2847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قليدي – بدائل محدود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19720" y="4368960"/>
              <a:ext cx="30474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162920" y="4400640"/>
            <a:ext cx="1860120" cy="609480"/>
            <a:chOff x="7162920" y="4400640"/>
            <a:chExt cx="1860120" cy="609480"/>
          </a:xfrm>
        </p:grpSpPr>
        <p:sp>
          <p:nvSpPr>
            <p:cNvPr id="604" name=""/>
            <p:cNvSpPr/>
            <p:nvPr/>
          </p:nvSpPr>
          <p:spPr>
            <a:xfrm>
              <a:off x="7248240" y="440064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7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تخاذ القرارات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2920" y="440064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-31680" y="5130720"/>
            <a:ext cx="4114440" cy="679680"/>
            <a:chOff x="-31680" y="5130720"/>
            <a:chExt cx="4114440" cy="679680"/>
          </a:xfrm>
        </p:grpSpPr>
        <p:sp>
          <p:nvSpPr>
            <p:cNvPr id="607" name=""/>
            <p:cNvSpPr/>
            <p:nvPr/>
          </p:nvSpPr>
          <p:spPr>
            <a:xfrm>
              <a:off x="92520" y="513072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بناء علي التحليل البيئي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31680" y="513072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172040" y="5035680"/>
            <a:ext cx="3320640" cy="679320"/>
            <a:chOff x="4172040" y="5035680"/>
            <a:chExt cx="3320640" cy="679320"/>
          </a:xfrm>
        </p:grpSpPr>
        <p:sp>
          <p:nvSpPr>
            <p:cNvPr id="610" name=""/>
            <p:cNvSpPr/>
            <p:nvPr/>
          </p:nvSpPr>
          <p:spPr>
            <a:xfrm>
              <a:off x="4280400" y="503568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طبقا لوجهة نظر الإدارة العلي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72040" y="503568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86600" y="5010120"/>
            <a:ext cx="1860120" cy="476280"/>
            <a:chOff x="7086600" y="5010120"/>
            <a:chExt cx="1860120" cy="476280"/>
          </a:xfrm>
        </p:grpSpPr>
        <p:sp>
          <p:nvSpPr>
            <p:cNvPr id="613" name=""/>
            <p:cNvSpPr/>
            <p:nvPr/>
          </p:nvSpPr>
          <p:spPr>
            <a:xfrm>
              <a:off x="7171920" y="5010120"/>
              <a:ext cx="1689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8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أولويات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86600" y="5010120"/>
              <a:ext cx="1860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-19080" y="5797440"/>
            <a:ext cx="4114440" cy="679680"/>
            <a:chOff x="-19080" y="5797440"/>
            <a:chExt cx="4114440" cy="679680"/>
          </a:xfrm>
        </p:grpSpPr>
        <p:sp>
          <p:nvSpPr>
            <p:cNvPr id="616" name=""/>
            <p:cNvSpPr/>
            <p:nvPr/>
          </p:nvSpPr>
          <p:spPr>
            <a:xfrm>
              <a:off x="105120" y="57974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تنوع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-19080" y="57974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191120" y="5740560"/>
            <a:ext cx="3320640" cy="679320"/>
            <a:chOff x="4191120" y="5740560"/>
            <a:chExt cx="3320640" cy="679320"/>
          </a:xfrm>
        </p:grpSpPr>
        <p:sp>
          <p:nvSpPr>
            <p:cNvPr id="619" name=""/>
            <p:cNvSpPr/>
            <p:nvPr/>
          </p:nvSpPr>
          <p:spPr>
            <a:xfrm>
              <a:off x="4299480" y="574056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حدود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91120" y="574056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7130880" y="5753160"/>
            <a:ext cx="1860480" cy="609480"/>
            <a:chOff x="7130880" y="5753160"/>
            <a:chExt cx="1860480" cy="609480"/>
          </a:xfrm>
        </p:grpSpPr>
        <p:sp>
          <p:nvSpPr>
            <p:cNvPr id="622" name=""/>
            <p:cNvSpPr/>
            <p:nvPr/>
          </p:nvSpPr>
          <p:spPr>
            <a:xfrm>
              <a:off x="7216200" y="575316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9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 - مشاركة المستويات المختلفة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30880" y="575316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-152280" y="6330960"/>
            <a:ext cx="4114440" cy="679320"/>
            <a:chOff x="-152280" y="6330960"/>
            <a:chExt cx="4114440" cy="679320"/>
          </a:xfrm>
        </p:grpSpPr>
        <p:sp>
          <p:nvSpPr>
            <p:cNvPr id="625" name=""/>
            <p:cNvSpPr/>
            <p:nvPr/>
          </p:nvSpPr>
          <p:spPr>
            <a:xfrm>
              <a:off x="-27720" y="6330960"/>
              <a:ext cx="3865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يزة التنافسي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-152280" y="6330960"/>
              <a:ext cx="41144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235400" y="6267600"/>
            <a:ext cx="3320640" cy="679320"/>
            <a:chOff x="4235400" y="6267600"/>
            <a:chExt cx="3320640" cy="679320"/>
          </a:xfrm>
        </p:grpSpPr>
        <p:sp>
          <p:nvSpPr>
            <p:cNvPr id="628" name=""/>
            <p:cNvSpPr/>
            <p:nvPr/>
          </p:nvSpPr>
          <p:spPr>
            <a:xfrm>
              <a:off x="4343760" y="626760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كفاءة الداخلية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35400" y="626760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207200" y="6305400"/>
            <a:ext cx="1860120" cy="609840"/>
            <a:chOff x="7207200" y="6305400"/>
            <a:chExt cx="1860120" cy="609840"/>
          </a:xfrm>
        </p:grpSpPr>
        <p:sp>
          <p:nvSpPr>
            <p:cNvPr id="631" name=""/>
            <p:cNvSpPr/>
            <p:nvPr/>
          </p:nvSpPr>
          <p:spPr>
            <a:xfrm>
              <a:off x="7292520" y="6305400"/>
              <a:ext cx="168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10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معايير النجاح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07200" y="6305400"/>
              <a:ext cx="1860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7772400" y="533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يا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95280" y="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أهم الفروق بين التخطيط الإستراتيجي والتقليد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ستويات الثلاثة ل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762120"/>
            <a:ext cx="830556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91120" y="838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66"/>
                </a:solidFill>
                <a:uFillTx/>
                <a:latin typeface="Times New Roman"/>
                <a:cs typeface="Simplified Arabic"/>
              </a:rPr>
              <a:t>المستوي الكلي :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استراتيجية 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0292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ما هو مجال أعمال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1676520"/>
            <a:ext cx="2667240" cy="459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3520" y="2590920"/>
            <a:ext cx="8305560" cy="1981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38480" y="2514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مستوي الجزئي / الفرع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وحدات : خطوط </a:t>
            </a: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نتاج والخدم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3962520"/>
            <a:ext cx="1828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وحدة 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724280"/>
            <a:ext cx="8305560" cy="1752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81480" y="47242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المستوي الوظيفي / التشغي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5089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أقسام الوظيف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30481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ما هو أفضل الطرق للعمل والتناف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962520"/>
            <a:ext cx="1676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وحدة 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9480" y="507348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كيف تساعد الأقسام التنظيمية علي تحقيق نتائج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43000" y="396252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وحدة ج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905120" y="2057400"/>
            <a:ext cx="5790960" cy="1905120"/>
            <a:chOff x="1905120" y="2057400"/>
            <a:chExt cx="5790960" cy="1905120"/>
          </a:xfrm>
        </p:grpSpPr>
        <p:sp>
          <p:nvSpPr>
            <p:cNvPr id="652" name=""/>
            <p:cNvSpPr/>
            <p:nvPr/>
          </p:nvSpPr>
          <p:spPr>
            <a:xfrm>
              <a:off x="4724280" y="2057400"/>
              <a:ext cx="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05120" y="3657600"/>
              <a:ext cx="5790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7700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2428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0512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7010280" y="5791320"/>
            <a:ext cx="160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مو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38720" y="5791320"/>
            <a:ext cx="1467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تسوي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200400" y="5791320"/>
            <a:ext cx="16002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وارد البش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43000" y="5791320"/>
            <a:ext cx="1600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بحوث والتطوي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885680" y="4419720"/>
            <a:ext cx="5810400" cy="1371600"/>
            <a:chOff x="1885680" y="4419720"/>
            <a:chExt cx="5810400" cy="1371600"/>
          </a:xfrm>
        </p:grpSpPr>
        <p:sp>
          <p:nvSpPr>
            <p:cNvPr id="662" name=""/>
            <p:cNvSpPr/>
            <p:nvPr/>
          </p:nvSpPr>
          <p:spPr>
            <a:xfrm>
              <a:off x="4724280" y="4419720"/>
              <a:ext cx="0" cy="108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05120" y="5486400"/>
              <a:ext cx="5790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67664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01956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403812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188568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838080" y="0"/>
            <a:ext cx="7925040" cy="990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طبيعة القرارات في المستويات الثلاث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1295280"/>
            <a:ext cx="7619760" cy="5335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إستراتيجية ( المستوي الكلي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19320" y="2438280"/>
            <a:ext cx="6476760" cy="7430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تحديد الأهداف طويلة الأجل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3276720"/>
            <a:ext cx="6476760" cy="74268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تحقيق التكامل مع البيئة الخارج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4114800"/>
            <a:ext cx="6476760" cy="74304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 - تخصيص الموارد للأغراض المطلوب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19320" y="4896000"/>
            <a:ext cx="6476760" cy="7426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اختيار مزيج المنتج أو الخدما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0880" y="1981080"/>
            <a:ext cx="762012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قوم الإدارة العليا باتخاذ هذه القرارات وتشمل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9320" y="5791320"/>
            <a:ext cx="6476760" cy="7426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-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لسياسات التسويقية والمالية والإنتا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057400"/>
            <a:ext cx="8153280" cy="152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2590920"/>
            <a:ext cx="2438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* من المهم التنبه إل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257560"/>
            <a:ext cx="51814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– عناصر النجاح الرئي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876400"/>
            <a:ext cx="5181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– المعوقات التي تعترض الأ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267080"/>
            <a:ext cx="8153280" cy="15242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800600"/>
            <a:ext cx="2286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* ومن ث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4467240"/>
            <a:ext cx="5181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– الإفادة من فرص النج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086440"/>
            <a:ext cx="51814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– مجاهدة المعوق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609480"/>
            <a:ext cx="472464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chimes.wav"/>
          </p:stSnd>
        </p:sndAc>
      </p:transition>
    </mc:Choice>
    <mc:Fallback>
      <p:transition spd="slow">
        <p:sndAc>
          <p:stSnd>
            <p:snd r:embed="rId2" name="chimes.wav"/>
          </p:stSnd>
        </p:sndAc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38080" y="1752480"/>
            <a:ext cx="8001000" cy="1143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مل هذه القرارات علي التنسيق بين المستوي الإستراتيجي الكلي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مستوي الوحدات ، وتحقيق التكامل بين الأمدين القريب والبعيد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إدارية ( المستوي الجزئي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2120" y="3476520"/>
            <a:ext cx="7619760" cy="6001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لحصول علي الموارد اللازمة ، وتنميتها ، وتحقيق اقتصاديات التشغي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2120" y="4114800"/>
            <a:ext cx="7619760" cy="60012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التنظيم وهيكل السلطة والمسئولية وتدفق المعلومات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2120" y="4809960"/>
            <a:ext cx="76197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وضع الموازنات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62120" y="5495760"/>
            <a:ext cx="7619760" cy="6001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قياس الأداء ووضع برامج التطوير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04920" y="23623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- الأهداف الوظيفية والتشغيلية قصيرة الأجل 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920" y="30481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- التأكد من أداء الأعمال المحددة بكفاءة وفاعلية </a:t>
            </a: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981080" y="304920"/>
            <a:ext cx="693432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تشغيلية ( المستوي الوظيفي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52480" y="1219320"/>
            <a:ext cx="66294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تتم في الغالب بصورة لا مركزية وتشمل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04920" y="37339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حل المشكلات التي تعترض التطبيق </a:t>
            </a:r>
            <a:r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14280" y="44197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- قياس وتقييم أداء العاملي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4280" y="51055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تحسين الأداء وتطوير النتائج في المجال المختص ( التسويق ، الإنتاج ، الموارد البشرية ... 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209680" y="1219320"/>
            <a:ext cx="4800600" cy="79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ستراتيجية الكلية</a:t>
            </a:r>
            <a:r>
              <a:rPr b="1" lang="ar-SA" sz="29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6600" y="3124080"/>
            <a:ext cx="175248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Simplified Arabic"/>
                <a:cs typeface="Simplified Arabic"/>
              </a:rPr>
              <a:t>النم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توسيع العملي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1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ركيز / التغلغ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2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كامل الرأس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3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كامل الأفق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4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نو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- أخر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3124080"/>
            <a:ext cx="22100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استقرا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الحفاظ علي الوض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" y="3200400"/>
            <a:ext cx="1828800" cy="1981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    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Simplified Arabic"/>
                <a:cs typeface="Simplified Arabic"/>
              </a:rPr>
              <a:t>التخفي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خفض العملي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1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حو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2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حص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3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خلص / التعر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4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إفلا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- التصفية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1447920" y="2019240"/>
            <a:ext cx="6781680" cy="1028880"/>
            <a:chOff x="1447920" y="2019240"/>
            <a:chExt cx="6781680" cy="1028880"/>
          </a:xfrm>
        </p:grpSpPr>
        <p:sp>
          <p:nvSpPr>
            <p:cNvPr id="694" name=""/>
            <p:cNvSpPr/>
            <p:nvPr/>
          </p:nvSpPr>
          <p:spPr>
            <a:xfrm>
              <a:off x="1447920" y="2362320"/>
              <a:ext cx="67816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7920" y="2362320"/>
              <a:ext cx="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35800" y="2019240"/>
              <a:ext cx="0" cy="952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229600" y="2362320"/>
              <a:ext cx="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438280" y="3581280"/>
            <a:ext cx="4496040" cy="0"/>
            <a:chOff x="2438280" y="3581280"/>
            <a:chExt cx="4496040" cy="0"/>
          </a:xfrm>
        </p:grpSpPr>
        <p:sp>
          <p:nvSpPr>
            <p:cNvPr id="699" name=""/>
            <p:cNvSpPr/>
            <p:nvPr/>
          </p:nvSpPr>
          <p:spPr>
            <a:xfrm>
              <a:off x="5943600" y="358128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38280" y="358128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5105520" y="1333440"/>
            <a:ext cx="3733560" cy="5716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– التكيف مع البيئ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38080" y="2133720"/>
            <a:ext cx="26672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استراتيجية رد الفع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91320" y="2209680"/>
            <a:ext cx="2666880" cy="1181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ستراتيجية المبادر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38080" y="3733920"/>
            <a:ext cx="2667240" cy="1181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إستراتيجية التحلي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943600" y="3657600"/>
            <a:ext cx="2666880" cy="1181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الإستراتيجية الدفاعي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505320" y="5410080"/>
            <a:ext cx="266688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استراتيجية النمو التدريج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ستراتيجية الأعم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457200" y="1752480"/>
            <a:ext cx="2514600" cy="388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 u="sng">
                <a:solidFill>
                  <a:srgbClr val="ffff00"/>
                </a:solidFill>
                <a:uFillTx/>
                <a:latin typeface="Times New Roman"/>
              </a:rPr>
              <a:t>خفض التكاليف</a:t>
            </a:r>
            <a:br>
              <a:rPr sz="2200"/>
            </a:b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تكنولوجيا متطورة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الرقابة علي التكاليف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الإشراف المحكم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ربط الحوافز بالأهداف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تقارير رقابية م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ف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ص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1600200"/>
            <a:ext cx="2514600" cy="3886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66"/>
                </a:solidFill>
                <a:uFillTx/>
                <a:latin typeface="Times New Roman"/>
              </a:rPr>
              <a:t>التفاضل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قدرات تسويقية عالية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ابتكار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بحوث والتطوير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سمعة المنظمة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حوافز الإبدا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- استراتيجية التناف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5105520"/>
            <a:ext cx="46479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استراتيجية متنوعة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المرونة ، تمكين العاملين ، تحقيق ولاء العمي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4952880" y="2590920"/>
            <a:ext cx="26672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- تقديم المنتج ل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172200" y="1295280"/>
            <a:ext cx="2666880" cy="11811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- التصميم والابتكا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5800" y="5257800"/>
            <a:ext cx="2666880" cy="118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- الانكما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990720" y="2895480"/>
            <a:ext cx="2666880" cy="1181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- النمو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4572000"/>
            <a:ext cx="266724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النضو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– دورة حياة المنتج /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3581280" y="2133720"/>
            <a:ext cx="22100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477120" y="2133720"/>
            <a:ext cx="2209680" cy="1181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تسوي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38080" y="3809880"/>
            <a:ext cx="2210040" cy="1181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بحوث والتطوي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2057400"/>
            <a:ext cx="2210040" cy="1181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العمليا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553080" y="3886200"/>
            <a:ext cx="221004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الموارد البش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581280" y="3886200"/>
            <a:ext cx="2210040" cy="11811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الشر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إستراتيجيات الوظيف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القيادة الإدارية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قدوة ، ال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اع ، التحفيز ، الاتصال ، تبادل المعلومات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بني ثقافة المنظمة ، المشاركة ، التنسيق ، المرو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66"/>
                </a:solidFill>
                <a:uFillTx/>
                <a:latin typeface="Times New Roman"/>
                <a:cs typeface="Simplified Arabic"/>
              </a:rPr>
              <a:t>الشكل التنظيمي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هيكل ، الوحدات والإدارات والأقسام ، درجة المركزية اللامركزية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،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تصميم الوظائف ، الامكانات البشرية والم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فريق العمل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أهداف ، العلاقات ، القيم ، الأدوار ، القواعد ا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ل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سلوكية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شاعر والاحاسيس ، العلاقات العضوية التبادلية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رغبة والاستعداد للمشاركة ، الولاء للفريق وا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الموارد البشرية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ؤهلات الملائمة ، التوجه السليم ، الشخصيات الناضجة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قيم الصالحة ، التدريب والتنمية المستمرة ، الدافعية العالية للإنجاز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قدرات الإبتكارية ، التعاون ، الول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نظم المعلومات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علومات : الملائمة ، الكافية ، في الوقت المناسب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دقيقة ، التي ي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كن الاعتماد عليها ، عنصر التكالي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نظم الرقابة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لي التشغيل ، الموارد ، التكاليف ، الحوافز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جراءات والقواعد ، تصحيح الأخطاء ، التطو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286000"/>
            <a:ext cx="8229600" cy="30481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إدارة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ه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 تلك العملية التي تنجز أهداف المنظمة من خل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تخطيط ، والتنظيم ، والقيادة ، والرقابة ، لاستغلال الموارد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متاحة بكفاءة وفاع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990720"/>
            <a:ext cx="64008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عملية الإدارية و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  <p:sndAc>
      <p:stSnd>
        <p:snd r:embed="rId1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505320" y="2514600"/>
            <a:ext cx="2666880" cy="19224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أهداف </a:t>
            </a:r>
            <a:br>
              <a:rPr sz="4000"/>
            </a:b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191120" y="304920"/>
            <a:ext cx="1066680" cy="1752480"/>
            <a:chOff x="4191120" y="304920"/>
            <a:chExt cx="1066680" cy="1752480"/>
          </a:xfrm>
        </p:grpSpPr>
        <p:sp>
          <p:nvSpPr>
            <p:cNvPr id="736" name=""/>
            <p:cNvSpPr/>
            <p:nvPr/>
          </p:nvSpPr>
          <p:spPr>
            <a:xfrm>
              <a:off x="4191120" y="304920"/>
              <a:ext cx="1066680" cy="9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تنظي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24280" y="1295280"/>
              <a:ext cx="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600200" y="1143000"/>
            <a:ext cx="1600200" cy="1371600"/>
            <a:chOff x="1600200" y="1143000"/>
            <a:chExt cx="1600200" cy="1371600"/>
          </a:xfrm>
        </p:grpSpPr>
        <p:sp>
          <p:nvSpPr>
            <p:cNvPr id="739" name=""/>
            <p:cNvSpPr/>
            <p:nvPr/>
          </p:nvSpPr>
          <p:spPr>
            <a:xfrm>
              <a:off x="1600200" y="1143000"/>
              <a:ext cx="1066680" cy="990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إدارة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موارد 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بشر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14600" y="1981080"/>
              <a:ext cx="68580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600200" y="3733560"/>
            <a:ext cx="1676520" cy="1219320"/>
            <a:chOff x="1600200" y="3733560"/>
            <a:chExt cx="1676520" cy="1219320"/>
          </a:xfrm>
        </p:grpSpPr>
        <p:sp>
          <p:nvSpPr>
            <p:cNvPr id="742" name=""/>
            <p:cNvSpPr/>
            <p:nvPr/>
          </p:nvSpPr>
          <p:spPr>
            <a:xfrm>
              <a:off x="1600200" y="3962520"/>
              <a:ext cx="1066680" cy="990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رقاب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590920" y="3733560"/>
              <a:ext cx="68580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038480" y="4267080"/>
            <a:ext cx="1067040" cy="1905120"/>
            <a:chOff x="4038480" y="4267080"/>
            <a:chExt cx="1067040" cy="1905120"/>
          </a:xfrm>
        </p:grpSpPr>
        <p:sp>
          <p:nvSpPr>
            <p:cNvPr id="745" name=""/>
            <p:cNvSpPr/>
            <p:nvPr/>
          </p:nvSpPr>
          <p:spPr>
            <a:xfrm>
              <a:off x="4038480" y="5181480"/>
              <a:ext cx="106704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imes New Roman"/>
                </a:rPr>
                <a:t>نظم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ا</a:t>
              </a:r>
              <a:r>
                <a:rPr b="1" lang="ar-SA" sz="2000" spc="-1" strike="noStrike">
                  <a:solidFill>
                    <a:srgbClr val="ff0000"/>
                  </a:solidFill>
                  <a:latin typeface="Times New Roman"/>
                </a:rPr>
                <a:t>لمعلوما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572000" y="426708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6400440" y="4038120"/>
            <a:ext cx="1448280" cy="1600560"/>
            <a:chOff x="6400440" y="4038120"/>
            <a:chExt cx="1448280" cy="1600560"/>
          </a:xfrm>
        </p:grpSpPr>
        <p:sp>
          <p:nvSpPr>
            <p:cNvPr id="748" name=""/>
            <p:cNvSpPr/>
            <p:nvPr/>
          </p:nvSpPr>
          <p:spPr>
            <a:xfrm>
              <a:off x="6781680" y="4648320"/>
              <a:ext cx="1067040" cy="990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فريق </a:t>
              </a:r>
              <a:br>
                <a:rPr sz="2400"/>
              </a:b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عم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6400440" y="4038120"/>
              <a:ext cx="60948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00440" y="838080"/>
            <a:ext cx="1600560" cy="1524240"/>
            <a:chOff x="6400440" y="838080"/>
            <a:chExt cx="1600560" cy="1524240"/>
          </a:xfrm>
        </p:grpSpPr>
        <p:sp>
          <p:nvSpPr>
            <p:cNvPr id="751" name=""/>
            <p:cNvSpPr/>
            <p:nvPr/>
          </p:nvSpPr>
          <p:spPr>
            <a:xfrm>
              <a:off x="6934320" y="838080"/>
              <a:ext cx="1066680" cy="99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قياد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400440" y="167652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600200" y="304920"/>
            <a:ext cx="6400800" cy="5866920"/>
            <a:chOff x="1600200" y="304920"/>
            <a:chExt cx="6400800" cy="5866920"/>
          </a:xfrm>
        </p:grpSpPr>
        <p:grpSp>
          <p:nvGrpSpPr>
            <p:cNvPr id="754" name=""/>
            <p:cNvGrpSpPr/>
            <p:nvPr/>
          </p:nvGrpSpPr>
          <p:grpSpPr>
            <a:xfrm>
              <a:off x="4191120" y="304920"/>
              <a:ext cx="1066680" cy="1752480"/>
              <a:chOff x="4191120" y="304920"/>
              <a:chExt cx="1066680" cy="1752480"/>
            </a:xfrm>
          </p:grpSpPr>
          <p:sp>
            <p:nvSpPr>
              <p:cNvPr id="755" name=""/>
              <p:cNvSpPr/>
              <p:nvPr/>
            </p:nvSpPr>
            <p:spPr>
              <a:xfrm>
                <a:off x="4191120" y="304920"/>
                <a:ext cx="1066680" cy="9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تنظي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724280" y="1295280"/>
                <a:ext cx="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1600200" y="1143000"/>
              <a:ext cx="1600200" cy="1371600"/>
              <a:chOff x="1600200" y="1143000"/>
              <a:chExt cx="1600200" cy="1371600"/>
            </a:xfrm>
          </p:grpSpPr>
          <p:sp>
            <p:nvSpPr>
              <p:cNvPr id="758" name=""/>
              <p:cNvSpPr/>
              <p:nvPr/>
            </p:nvSpPr>
            <p:spPr>
              <a:xfrm>
                <a:off x="1600200" y="1143000"/>
                <a:ext cx="1066680" cy="9907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إدار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الموارد 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البشر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514600" y="1981080"/>
                <a:ext cx="68580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600200" y="3733560"/>
              <a:ext cx="1676520" cy="1219320"/>
              <a:chOff x="1600200" y="3733560"/>
              <a:chExt cx="1676520" cy="1219320"/>
            </a:xfrm>
          </p:grpSpPr>
          <p:sp>
            <p:nvSpPr>
              <p:cNvPr id="761" name=""/>
              <p:cNvSpPr/>
              <p:nvPr/>
            </p:nvSpPr>
            <p:spPr>
              <a:xfrm>
                <a:off x="1600200" y="3962520"/>
                <a:ext cx="1066680" cy="99036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Times New Roman"/>
                  </a:rPr>
                  <a:t>الرقاب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2590920" y="3733560"/>
                <a:ext cx="68580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4038840" y="4267080"/>
              <a:ext cx="1066680" cy="1904760"/>
              <a:chOff x="4038840" y="4267080"/>
              <a:chExt cx="1066680" cy="1904760"/>
            </a:xfrm>
          </p:grpSpPr>
          <p:sp>
            <p:nvSpPr>
              <p:cNvPr id="764" name=""/>
              <p:cNvSpPr/>
              <p:nvPr/>
            </p:nvSpPr>
            <p:spPr>
              <a:xfrm>
                <a:off x="4038840" y="5181480"/>
                <a:ext cx="106668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0000"/>
                    </a:solidFill>
                    <a:latin typeface="Times New Roman"/>
                  </a:rPr>
                  <a:t>نظم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ا</a:t>
                </a:r>
                <a:r>
                  <a:rPr b="1" lang="ar-SA" sz="2000" spc="-1" strike="noStrike">
                    <a:solidFill>
                      <a:srgbClr val="ff0000"/>
                    </a:solidFill>
                    <a:latin typeface="Times New Roman"/>
                  </a:rPr>
                  <a:t>لمعلوما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4572000" y="4267080"/>
                <a:ext cx="0" cy="914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6400440" y="4038480"/>
              <a:ext cx="1448280" cy="1600560"/>
              <a:chOff x="6400440" y="4038480"/>
              <a:chExt cx="1448280" cy="1600560"/>
            </a:xfrm>
          </p:grpSpPr>
          <p:sp>
            <p:nvSpPr>
              <p:cNvPr id="767" name=""/>
              <p:cNvSpPr/>
              <p:nvPr/>
            </p:nvSpPr>
            <p:spPr>
              <a:xfrm>
                <a:off x="6781680" y="4648680"/>
                <a:ext cx="1067040" cy="990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فريق </a:t>
                </a:r>
                <a:br>
                  <a:rPr sz="2400"/>
                </a:b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عم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>
                <a:off x="6400440" y="4038480"/>
                <a:ext cx="60948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6400440" y="838440"/>
              <a:ext cx="1600560" cy="1523520"/>
              <a:chOff x="6400440" y="838440"/>
              <a:chExt cx="1600560" cy="1523520"/>
            </a:xfrm>
          </p:grpSpPr>
          <p:sp>
            <p:nvSpPr>
              <p:cNvPr id="770" name=""/>
              <p:cNvSpPr/>
              <p:nvPr/>
            </p:nvSpPr>
            <p:spPr>
              <a:xfrm>
                <a:off x="6934320" y="838440"/>
                <a:ext cx="1066680" cy="990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قياد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6400440" y="1676520"/>
                <a:ext cx="685800" cy="685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752480" y="152280"/>
            <a:ext cx="5943600" cy="838440"/>
          </a:xfrm>
          <a:custGeom>
            <a:avLst/>
            <a:gdLst>
              <a:gd name="textAreaLeft" fmla="*/ 0 w 5943600"/>
              <a:gd name="textAreaRight" fmla="*/ 5943960 w 5943600"/>
              <a:gd name="textAreaTop" fmla="*/ 108720 h 838440"/>
              <a:gd name="textAreaBottom" fmla="*/ 7297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تنفيذ الإستراتيجية بروح المرو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95880" y="13716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ستقلالية التحرك الذات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14600" y="129528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ثابرة ، الج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2209680"/>
            <a:ext cx="27432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طموح ، الداف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91320" y="3276720"/>
            <a:ext cx="274320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حمل الغموض والمخاط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172200" y="2286000"/>
            <a:ext cx="2743200" cy="685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طاقات المتنو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" y="1752480"/>
            <a:ext cx="27432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توجه ب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943600" y="4191120"/>
            <a:ext cx="27432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نجاح المتتاب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743200" y="419112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فكير للمستقب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743200" y="320040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ثقة بالنف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19920" y="52578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وظيف القدرات الذات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66880" y="617220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غيير ، التكي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971800" y="5181480"/>
            <a:ext cx="27432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تنمية المستمرة للذ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2280" y="2666880"/>
            <a:ext cx="274320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تنافس الذا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562720" y="6019920"/>
            <a:ext cx="2743200" cy="685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تعليم المستم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4920" y="3733920"/>
            <a:ext cx="27432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بدا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2280" y="54864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ريادة - الصف الأ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" y="464832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تخاذ القرارات غير التقلي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7200" y="6172200"/>
            <a:ext cx="213372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قبول التحد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914400" y="3124080"/>
            <a:ext cx="3409920" cy="3309840"/>
            <a:chOff x="914400" y="3124080"/>
            <a:chExt cx="3409920" cy="3309840"/>
          </a:xfrm>
        </p:grpSpPr>
        <p:pic>
          <p:nvPicPr>
            <p:cNvPr id="792" name="openhand" descr=""/>
            <p:cNvPicPr/>
            <p:nvPr/>
          </p:nvPicPr>
          <p:blipFill>
            <a:blip r:embed="rId1"/>
            <a:stretch/>
          </p:blipFill>
          <p:spPr>
            <a:xfrm>
              <a:off x="914400" y="4865400"/>
              <a:ext cx="34099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1352520" y="3124080"/>
              <a:ext cx="2133720" cy="251460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4" name=""/>
            <p:cNvGraphicFramePr/>
            <p:nvPr/>
          </p:nvGraphicFramePr>
          <p:xfrm>
            <a:off x="1628640" y="3371760"/>
            <a:ext cx="1568520" cy="205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28640" y="3371760"/>
                      <a:ext cx="1568520" cy="2057400"/>
                    </a:xfrm>
                    <a:prstGeom prst="rect">
                      <a:avLst/>
                    </a:prstGeom>
                    <a:ln w="7632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796" name=""/>
          <p:cNvSpPr/>
          <p:nvPr/>
        </p:nvSpPr>
        <p:spPr>
          <a:xfrm>
            <a:off x="3581280" y="8380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cc0000"/>
                </a:solidFill>
                <a:latin typeface="Times New Roman"/>
                <a:cs typeface="Times New Roman (Arabic)"/>
              </a:rPr>
              <a:t>شكراً ،،،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191120" y="3200400"/>
            <a:ext cx="4267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Simplified Arabic"/>
              </a:rPr>
              <a:t>علي محمد عبد الوهاب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Simplified Arabic"/>
              <a:ea typeface="Simplified Arabic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4"/>
          <a:stretch/>
        </p:blipFill>
        <p:spPr>
          <a:xfrm>
            <a:off x="304920" y="457200"/>
            <a:ext cx="2101680" cy="3041640"/>
          </a:xfrm>
          <a:prstGeom prst="rect">
            <a:avLst/>
          </a:prstGeom>
          <a:ln w="0">
            <a:noFill/>
          </a:ln>
        </p:spPr>
      </p:pic>
      <p:grpSp>
        <p:nvGrpSpPr>
          <p:cNvPr id="799" name=""/>
          <p:cNvGrpSpPr/>
          <p:nvPr/>
        </p:nvGrpSpPr>
        <p:grpSpPr>
          <a:xfrm>
            <a:off x="914400" y="3124080"/>
            <a:ext cx="3409920" cy="3310200"/>
            <a:chOff x="914400" y="3124080"/>
            <a:chExt cx="3409920" cy="3310200"/>
          </a:xfrm>
        </p:grpSpPr>
        <p:pic>
          <p:nvPicPr>
            <p:cNvPr id="800" name="openhand" descr=""/>
            <p:cNvPicPr/>
            <p:nvPr/>
          </p:nvPicPr>
          <p:blipFill>
            <a:blip r:embed="rId5"/>
            <a:stretch/>
          </p:blipFill>
          <p:spPr>
            <a:xfrm>
              <a:off x="914400" y="4865760"/>
              <a:ext cx="34099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1352520" y="3124080"/>
              <a:ext cx="2133720" cy="251460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2" name="dr%20ali%20ph2" descr=""/>
            <p:cNvPicPr/>
            <p:nvPr/>
          </p:nvPicPr>
          <p:blipFill>
            <a:blip r:embed="rId6"/>
            <a:stretch/>
          </p:blipFill>
          <p:spPr>
            <a:xfrm>
              <a:off x="1676520" y="3429000"/>
              <a:ext cx="1533240" cy="1981080"/>
            </a:xfrm>
            <a:prstGeom prst="rect">
              <a:avLst/>
            </a:prstGeom>
            <a:ln w="76320">
              <a:solidFill>
                <a:srgbClr val="000066"/>
              </a:solidFill>
              <a:miter/>
            </a:ln>
          </p:spPr>
        </p:pic>
      </p:grp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477120" y="1752480"/>
            <a:ext cx="213336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عم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581280"/>
            <a:ext cx="21333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جتماع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5334120"/>
            <a:ext cx="2133360" cy="99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مستم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43800" y="27432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457200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304920"/>
            <a:ext cx="3200400" cy="9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828800"/>
            <a:ext cx="5867640" cy="9144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شاط حركي مرك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657600"/>
            <a:ext cx="5867640" cy="91440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تضمن الناس – جزء من المجتم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5410080"/>
            <a:ext cx="5867640" cy="914400"/>
          </a:xfrm>
          <a:prstGeom prst="flowChartTermina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باستمرار الحاجة لمنتجات / خدمات المنظ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5120" y="914400"/>
            <a:ext cx="5333760" cy="5181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1828800"/>
            <a:ext cx="106668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تخطي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828800"/>
            <a:ext cx="1066680" cy="9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رقا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3962520"/>
            <a:ext cx="1066680" cy="9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تنظ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962520"/>
            <a:ext cx="1066680" cy="990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قيا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13372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438280"/>
            <a:ext cx="19051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464832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267080"/>
            <a:ext cx="19051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27432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78136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7432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78136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38160" y="2685600"/>
            <a:ext cx="2057760" cy="1371960"/>
            <a:chOff x="3638160" y="2685600"/>
            <a:chExt cx="2057760" cy="1371960"/>
          </a:xfrm>
        </p:grpSpPr>
        <p:sp>
          <p:nvSpPr>
            <p:cNvPr id="100" name=""/>
            <p:cNvSpPr/>
            <p:nvPr/>
          </p:nvSpPr>
          <p:spPr>
            <a:xfrm>
              <a:off x="3924360" y="2914560"/>
              <a:ext cx="13716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تخاذ القرارات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(الابتكار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315040" y="26856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95960" y="38289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676320" y="38289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3638160" y="26856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43800" y="2667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ي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فاع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81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81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فاءة – الكفاء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819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فاعلية – الكفاءة الخار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8600" y="1352520"/>
            <a:ext cx="3885840" cy="825480"/>
            <a:chOff x="228600" y="1352520"/>
            <a:chExt cx="3885840" cy="825480"/>
          </a:xfrm>
        </p:grpSpPr>
        <p:sp>
          <p:nvSpPr>
            <p:cNvPr id="111" name=""/>
            <p:cNvSpPr/>
            <p:nvPr/>
          </p:nvSpPr>
          <p:spPr>
            <a:xfrm>
              <a:off x="345960" y="1352520"/>
              <a:ext cx="365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رسالة – الغايات ( استراتيجية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" y="1352520"/>
              <a:ext cx="38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14800" y="1352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وسائل ، الامكانات ( تشغيل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1581120"/>
            <a:ext cx="2079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219800" y="1352520"/>
            <a:ext cx="1828440" cy="825480"/>
            <a:chOff x="7219800" y="1352520"/>
            <a:chExt cx="1828440" cy="825480"/>
          </a:xfrm>
        </p:grpSpPr>
        <p:sp>
          <p:nvSpPr>
            <p:cNvPr id="116" name=""/>
            <p:cNvSpPr/>
            <p:nvPr/>
          </p:nvSpPr>
          <p:spPr>
            <a:xfrm>
              <a:off x="7303680" y="1352520"/>
              <a:ext cx="166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حور الاهتما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19800" y="1352520"/>
              <a:ext cx="182844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206360" y="1844640"/>
            <a:ext cx="2908080" cy="639720"/>
            <a:chOff x="1206360" y="1844640"/>
            <a:chExt cx="2908080" cy="639720"/>
          </a:xfrm>
        </p:grpSpPr>
        <p:sp>
          <p:nvSpPr>
            <p:cNvPr id="119" name=""/>
            <p:cNvSpPr/>
            <p:nvPr/>
          </p:nvSpPr>
          <p:spPr>
            <a:xfrm>
              <a:off x="1294200" y="1844640"/>
              <a:ext cx="2732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أهدا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06360" y="1844640"/>
              <a:ext cx="29080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36920" y="1874880"/>
            <a:ext cx="3054240" cy="639720"/>
            <a:chOff x="4336920" y="1874880"/>
            <a:chExt cx="3054240" cy="639720"/>
          </a:xfrm>
        </p:grpSpPr>
        <p:sp>
          <p:nvSpPr>
            <p:cNvPr id="122" name=""/>
            <p:cNvSpPr/>
            <p:nvPr/>
          </p:nvSpPr>
          <p:spPr>
            <a:xfrm>
              <a:off x="4436640" y="1874880"/>
              <a:ext cx="2853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مليات النظا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36920" y="1874880"/>
              <a:ext cx="3054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543800" y="1905120"/>
            <a:ext cx="1258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تغير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14480" y="2470320"/>
            <a:ext cx="3023640" cy="882360"/>
            <a:chOff x="1014480" y="2470320"/>
            <a:chExt cx="3023640" cy="882360"/>
          </a:xfrm>
        </p:grpSpPr>
        <p:sp>
          <p:nvSpPr>
            <p:cNvPr id="126" name=""/>
            <p:cNvSpPr/>
            <p:nvPr/>
          </p:nvSpPr>
          <p:spPr>
            <a:xfrm>
              <a:off x="1105560" y="2470320"/>
              <a:ext cx="284076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عمل الأشياء الصحيح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14480" y="2470320"/>
              <a:ext cx="302364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2438280"/>
            <a:ext cx="3352320" cy="882720"/>
            <a:chOff x="4114800" y="2438280"/>
            <a:chExt cx="3352320" cy="882720"/>
          </a:xfrm>
        </p:grpSpPr>
        <p:sp>
          <p:nvSpPr>
            <p:cNvPr id="129" name=""/>
            <p:cNvSpPr/>
            <p:nvPr/>
          </p:nvSpPr>
          <p:spPr>
            <a:xfrm>
              <a:off x="4224240" y="2438280"/>
              <a:ext cx="31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مل الأشياء بطريقة صحيح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4800" y="2438280"/>
              <a:ext cx="3352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238880" y="2438280"/>
            <a:ext cx="1687320" cy="609840"/>
            <a:chOff x="7238880" y="2438280"/>
            <a:chExt cx="1687320" cy="609840"/>
          </a:xfrm>
        </p:grpSpPr>
        <p:sp>
          <p:nvSpPr>
            <p:cNvPr id="132" name=""/>
            <p:cNvSpPr/>
            <p:nvPr/>
          </p:nvSpPr>
          <p:spPr>
            <a:xfrm>
              <a:off x="7316280" y="2438280"/>
              <a:ext cx="1532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الطريق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38880" y="2438280"/>
              <a:ext cx="1687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898640" y="4394160"/>
            <a:ext cx="5834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14480" y="2971800"/>
            <a:ext cx="3023640" cy="825480"/>
            <a:chOff x="1014480" y="2971800"/>
            <a:chExt cx="3023640" cy="825480"/>
          </a:xfrm>
        </p:grpSpPr>
        <p:sp>
          <p:nvSpPr>
            <p:cNvPr id="136" name=""/>
            <p:cNvSpPr/>
            <p:nvPr/>
          </p:nvSpPr>
          <p:spPr>
            <a:xfrm>
              <a:off x="1105560" y="2971800"/>
              <a:ext cx="284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نهائي ، المدى البعي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14480" y="2971800"/>
              <a:ext cx="3023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319640" y="2971800"/>
            <a:ext cx="3139560" cy="533520"/>
            <a:chOff x="4319640" y="2971800"/>
            <a:chExt cx="3139560" cy="533520"/>
          </a:xfrm>
        </p:grpSpPr>
        <p:sp>
          <p:nvSpPr>
            <p:cNvPr id="139" name=""/>
            <p:cNvSpPr/>
            <p:nvPr/>
          </p:nvSpPr>
          <p:spPr>
            <a:xfrm>
              <a:off x="4422240" y="2971800"/>
              <a:ext cx="2933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رحلي ، المدى القري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9640" y="2971800"/>
              <a:ext cx="313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238880" y="2971800"/>
            <a:ext cx="1676160" cy="609480"/>
            <a:chOff x="7238880" y="2971800"/>
            <a:chExt cx="1676160" cy="609480"/>
          </a:xfrm>
        </p:grpSpPr>
        <p:sp>
          <p:nvSpPr>
            <p:cNvPr id="142" name=""/>
            <p:cNvSpPr/>
            <p:nvPr/>
          </p:nvSpPr>
          <p:spPr>
            <a:xfrm>
              <a:off x="7315920" y="2971800"/>
              <a:ext cx="1522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دى الزمن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38880" y="2971800"/>
              <a:ext cx="167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162920" y="3505320"/>
            <a:ext cx="1860120" cy="609480"/>
            <a:chOff x="7162920" y="3505320"/>
            <a:chExt cx="1860120" cy="609480"/>
          </a:xfrm>
        </p:grpSpPr>
        <p:sp>
          <p:nvSpPr>
            <p:cNvPr id="145" name=""/>
            <p:cNvSpPr/>
            <p:nvPr/>
          </p:nvSpPr>
          <p:spPr>
            <a:xfrm>
              <a:off x="7248240" y="350532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قيا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2920" y="350532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28600" y="133200"/>
            <a:ext cx="8686800" cy="6496200"/>
            <a:chOff x="228600" y="133200"/>
            <a:chExt cx="8686800" cy="6496200"/>
          </a:xfrm>
        </p:grpSpPr>
        <p:sp>
          <p:nvSpPr>
            <p:cNvPr id="148" name=""/>
            <p:cNvSpPr/>
            <p:nvPr/>
          </p:nvSpPr>
          <p:spPr>
            <a:xfrm flipH="1">
              <a:off x="228600" y="1332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28600" y="74304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28600" y="41148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152280"/>
              <a:ext cx="0" cy="647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91540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9152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28600" y="12762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28600" y="188604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228600" y="24382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8600" y="29718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28600" y="350532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8600" y="47242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28600" y="55054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28600" y="60390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28600" y="66294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0" y="4197240"/>
            <a:ext cx="4114440" cy="679680"/>
            <a:chOff x="0" y="4197240"/>
            <a:chExt cx="4114440" cy="679680"/>
          </a:xfrm>
        </p:grpSpPr>
        <p:sp>
          <p:nvSpPr>
            <p:cNvPr id="165" name=""/>
            <p:cNvSpPr/>
            <p:nvPr/>
          </p:nvSpPr>
          <p:spPr>
            <a:xfrm>
              <a:off x="124200" y="41972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خارجية ( المنافسة ، الربحية ، رضا المجتمع 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1972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114800" y="4114800"/>
            <a:ext cx="3352320" cy="679320"/>
            <a:chOff x="4114800" y="4114800"/>
            <a:chExt cx="3352320" cy="679320"/>
          </a:xfrm>
        </p:grpSpPr>
        <p:sp>
          <p:nvSpPr>
            <p:cNvPr id="168" name=""/>
            <p:cNvSpPr/>
            <p:nvPr/>
          </p:nvSpPr>
          <p:spPr>
            <a:xfrm>
              <a:off x="4224240" y="4114800"/>
              <a:ext cx="3132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اخلية ( التكلفة، الجودة ، السلامة ، الإجراءات ...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4800" y="4114800"/>
              <a:ext cx="33523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162920" y="4133880"/>
            <a:ext cx="1860120" cy="609480"/>
            <a:chOff x="7162920" y="4133880"/>
            <a:chExt cx="1860120" cy="609480"/>
          </a:xfrm>
        </p:grpSpPr>
        <p:sp>
          <p:nvSpPr>
            <p:cNvPr id="171" name=""/>
            <p:cNvSpPr/>
            <p:nvPr/>
          </p:nvSpPr>
          <p:spPr>
            <a:xfrm>
              <a:off x="7248240" y="413388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ؤشر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62920" y="413388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-31680" y="4883040"/>
            <a:ext cx="4114440" cy="679680"/>
            <a:chOff x="-31680" y="4883040"/>
            <a:chExt cx="4114440" cy="679680"/>
          </a:xfrm>
        </p:grpSpPr>
        <p:sp>
          <p:nvSpPr>
            <p:cNvPr id="174" name=""/>
            <p:cNvSpPr/>
            <p:nvPr/>
          </p:nvSpPr>
          <p:spPr>
            <a:xfrm>
              <a:off x="92520" y="48830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نتائج الأعما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31680" y="48830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191120" y="4749840"/>
            <a:ext cx="3320640" cy="679320"/>
            <a:chOff x="4191120" y="4749840"/>
            <a:chExt cx="3320640" cy="679320"/>
          </a:xfrm>
        </p:grpSpPr>
        <p:sp>
          <p:nvSpPr>
            <p:cNvPr id="177" name=""/>
            <p:cNvSpPr/>
            <p:nvPr/>
          </p:nvSpPr>
          <p:spPr>
            <a:xfrm>
              <a:off x="4299480" y="474984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قتصاديات التشغيل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91120" y="474984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086600" y="4762440"/>
            <a:ext cx="1860120" cy="609840"/>
            <a:chOff x="7086600" y="4762440"/>
            <a:chExt cx="1860120" cy="609840"/>
          </a:xfrm>
        </p:grpSpPr>
        <p:sp>
          <p:nvSpPr>
            <p:cNvPr id="180" name=""/>
            <p:cNvSpPr/>
            <p:nvPr/>
          </p:nvSpPr>
          <p:spPr>
            <a:xfrm>
              <a:off x="7171920" y="4762440"/>
              <a:ext cx="168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عبر عن 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6600" y="4762440"/>
              <a:ext cx="1860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-19080" y="5549760"/>
            <a:ext cx="4114440" cy="679680"/>
            <a:chOff x="-19080" y="5549760"/>
            <a:chExt cx="4114440" cy="679680"/>
          </a:xfrm>
        </p:grpSpPr>
        <p:sp>
          <p:nvSpPr>
            <p:cNvPr id="183" name=""/>
            <p:cNvSpPr/>
            <p:nvPr/>
          </p:nvSpPr>
          <p:spPr>
            <a:xfrm>
              <a:off x="105120" y="554976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بيئة المحيطة، العوامل الخارج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19080" y="554976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91120" y="5492880"/>
            <a:ext cx="3320640" cy="679320"/>
            <a:chOff x="4191120" y="5492880"/>
            <a:chExt cx="3320640" cy="679320"/>
          </a:xfrm>
        </p:grpSpPr>
        <p:sp>
          <p:nvSpPr>
            <p:cNvPr id="186" name=""/>
            <p:cNvSpPr/>
            <p:nvPr/>
          </p:nvSpPr>
          <p:spPr>
            <a:xfrm>
              <a:off x="4299480" y="549288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بيئة الداخلية، القدرات الذاتي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1120" y="549288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130880" y="5562720"/>
            <a:ext cx="1860480" cy="609480"/>
            <a:chOff x="7130880" y="5562720"/>
            <a:chExt cx="1860480" cy="609480"/>
          </a:xfrm>
        </p:grpSpPr>
        <p:sp>
          <p:nvSpPr>
            <p:cNvPr id="189" name=""/>
            <p:cNvSpPr/>
            <p:nvPr/>
          </p:nvSpPr>
          <p:spPr>
            <a:xfrm>
              <a:off x="7216200" y="556272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تأثر بصفة رئيسية بـ 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30880" y="556272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-152280" y="6083280"/>
            <a:ext cx="4114440" cy="679320"/>
            <a:chOff x="-152280" y="6083280"/>
            <a:chExt cx="4114440" cy="679320"/>
          </a:xfrm>
        </p:grpSpPr>
        <p:sp>
          <p:nvSpPr>
            <p:cNvPr id="192" name=""/>
            <p:cNvSpPr/>
            <p:nvPr/>
          </p:nvSpPr>
          <p:spPr>
            <a:xfrm>
              <a:off x="-27720" y="6083280"/>
              <a:ext cx="3865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هامة جدا وتؤثر في درجة الكفاء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152280" y="6083280"/>
              <a:ext cx="41144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962520" y="6083280"/>
            <a:ext cx="3593520" cy="679320"/>
            <a:chOff x="3962520" y="6083280"/>
            <a:chExt cx="3593520" cy="679320"/>
          </a:xfrm>
        </p:grpSpPr>
        <p:sp>
          <p:nvSpPr>
            <p:cNvPr id="195" name=""/>
            <p:cNvSpPr/>
            <p:nvPr/>
          </p:nvSpPr>
          <p:spPr>
            <a:xfrm>
              <a:off x="4079880" y="6083280"/>
              <a:ext cx="33577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هامة جدا وتؤثر في درجة الفعالي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62520" y="6083280"/>
              <a:ext cx="35935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130880" y="6058080"/>
            <a:ext cx="1860480" cy="609480"/>
            <a:chOff x="7130880" y="6058080"/>
            <a:chExt cx="1860480" cy="609480"/>
          </a:xfrm>
        </p:grpSpPr>
        <p:sp>
          <p:nvSpPr>
            <p:cNvPr id="198" name=""/>
            <p:cNvSpPr/>
            <p:nvPr/>
          </p:nvSpPr>
          <p:spPr>
            <a:xfrm>
              <a:off x="7216200" y="605808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رجة الأهم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30880" y="605808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962520" y="228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ف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ء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495680" y="3511440"/>
            <a:ext cx="3047760" cy="679680"/>
            <a:chOff x="4495680" y="3511440"/>
            <a:chExt cx="3047760" cy="679680"/>
          </a:xfrm>
        </p:grpSpPr>
        <p:grpSp>
          <p:nvGrpSpPr>
            <p:cNvPr id="202" name=""/>
            <p:cNvGrpSpPr/>
            <p:nvPr/>
          </p:nvGrpSpPr>
          <p:grpSpPr>
            <a:xfrm>
              <a:off x="4495680" y="3511440"/>
              <a:ext cx="3047760" cy="679680"/>
              <a:chOff x="4495680" y="3511440"/>
              <a:chExt cx="3047760" cy="679680"/>
            </a:xfrm>
          </p:grpSpPr>
          <p:sp>
            <p:nvSpPr>
              <p:cNvPr id="203" name=""/>
              <p:cNvSpPr/>
              <p:nvPr/>
            </p:nvSpPr>
            <p:spPr>
              <a:xfrm>
                <a:off x="4595040" y="3511440"/>
                <a:ext cx="28479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خرجات الفعلي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دخلات الفعل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95680" y="3511440"/>
                <a:ext cx="3047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181480" y="380988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3505320"/>
            <a:ext cx="3047400" cy="679320"/>
            <a:chOff x="533520" y="3505320"/>
            <a:chExt cx="3047400" cy="679320"/>
          </a:xfrm>
        </p:grpSpPr>
        <p:grpSp>
          <p:nvGrpSpPr>
            <p:cNvPr id="207" name=""/>
            <p:cNvGrpSpPr/>
            <p:nvPr/>
          </p:nvGrpSpPr>
          <p:grpSpPr>
            <a:xfrm>
              <a:off x="533520" y="3505320"/>
              <a:ext cx="3047400" cy="679320"/>
              <a:chOff x="533520" y="3505320"/>
              <a:chExt cx="3047400" cy="679320"/>
            </a:xfrm>
          </p:grpSpPr>
          <p:sp>
            <p:nvSpPr>
              <p:cNvPr id="208" name=""/>
              <p:cNvSpPr/>
              <p:nvPr/>
            </p:nvSpPr>
            <p:spPr>
              <a:xfrm>
                <a:off x="632880" y="3505320"/>
                <a:ext cx="28476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خرجات الفعلي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دخلات المستهدف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3520" y="3505320"/>
                <a:ext cx="30474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218960" y="380340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u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1600200"/>
            <a:ext cx="883944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1889280"/>
            <a:ext cx="243828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منظ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88928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حدة اجتماعية فنية تتكون من مجموعة من الأدوار المتداخلة لتحقيق أهداف مح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" y="3333600"/>
            <a:ext cx="883944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81720" y="3622680"/>
            <a:ext cx="243828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نظ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374796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سق ، كيان كلي يتكون من أجزاء متفاع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5105520"/>
            <a:ext cx="883944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394240"/>
            <a:ext cx="24382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نظام المفتو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55627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أثر بالبيئة المحيطة ويؤثر ف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1276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منظمات أنظمة مفتوح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9:54:03Z</dcterms:created>
  <dc:creator>Mohamed Kamaly</dc:creator>
  <dc:description/>
  <dc:language>en-US</dc:language>
  <cp:lastModifiedBy>Mohamed Kamaly</cp:lastModifiedBy>
  <dcterms:modified xsi:type="dcterms:W3CDTF">2003-03-05T17:26:41Z</dcterms:modified>
  <cp:revision>95</cp:revision>
  <dc:subject/>
  <dc:title>PowerPoint Presentation</dc:title>
</cp:coreProperties>
</file>