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937FE-220E-47BA-83E1-F6940EC1A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9FF8D-D5B9-41BA-9D51-DBABA0FFF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C5888-42CB-4589-88B4-DC5F6A255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3A593-CA0A-4BBD-BE9C-DA6B7CE76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00C77-3D36-4601-8355-F94064DB0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0E2F9-1C20-4F17-B5D0-7B9795D27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66EBB-A3EB-4249-B4EF-F2D7A02B1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8F2B9-F4A3-4CE6-819B-57F7B9D1A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7817D-56C0-4066-B9F6-2C6821A2B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97B5D-074B-4CFA-A4C1-31336FF85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57F97-CAE2-4E03-9B52-0C966F549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53AFD-28CF-44F8-85D3-4C41391C8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B428-C6AF-4698-A1C7-A89F700705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alhomoud@kfupm.edu.sa"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fupm.edu.sa/dad/" TargetMode="External"/><Relationship Id="rId3" Type="http://schemas.openxmlformats.org/officeDocument/2006/relationships/hyperlink" Target="http://www.kfupm.edu.sa/dad/" TargetMode="External"/><Relationship Id="rId4" Type="http://schemas.openxmlformats.org/officeDocument/2006/relationships/hyperlink" Target="http://www.kfupm.edu.sa/dad/" TargetMode="External"/><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197000"/>
            <a:ext cx="8229600" cy="4929120"/>
          </a:xfrm>
          <a:prstGeom prst="rect">
            <a:avLst/>
          </a:prstGeom>
          <a:noFill/>
          <a:ln w="0">
            <a:noFill/>
          </a:ln>
        </p:spPr>
        <p:txBody>
          <a:bodyPr lIns="90000" rIns="90000" tIns="46800" bIns="46800" anchor="t">
            <a:normAutofit fontScale="88000"/>
          </a:bodyPr>
          <a:p>
            <a:pPr marL="3016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دور التقويم الذاتي للبرامج في</a:t>
            </a:r>
            <a:endParaRPr b="0" lang="en-US" sz="4400" spc="-1" strike="noStrike">
              <a:solidFill>
                <a:srgbClr val="000000"/>
              </a:solidFill>
              <a:latin typeface="Arial"/>
            </a:endParaRPr>
          </a:p>
          <a:p>
            <a:pPr marL="3016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تحقيق الجودة</a:t>
            </a:r>
            <a:r>
              <a:rPr b="1" lang="en-US" sz="4400" spc="-1" strike="noStrike">
                <a:solidFill>
                  <a:srgbClr val="ff0066"/>
                </a:solidFill>
                <a:latin typeface="Arial"/>
                <a:ea typeface="mohammad bold art 1"/>
              </a:rPr>
              <a:t> </a:t>
            </a:r>
            <a:r>
              <a:rPr b="1" lang="ar-SA" sz="4400" spc="-1" strike="noStrike">
                <a:solidFill>
                  <a:srgbClr val="ff0066"/>
                </a:solidFill>
                <a:latin typeface="Arial"/>
                <a:cs typeface="mohammad bold art 1"/>
              </a:rPr>
              <a:t>في مخرجات التعليم</a:t>
            </a:r>
            <a:r>
              <a:rPr b="1" lang="en-US" sz="4000" spc="-1" strike="noStrike">
                <a:solidFill>
                  <a:srgbClr val="ff0066"/>
                </a:solidFill>
                <a:latin typeface="Arial"/>
                <a:ea typeface="mohammad bold art 1"/>
              </a:rPr>
              <a:t> </a:t>
            </a:r>
            <a:endParaRPr b="0" lang="en-US" sz="4000" spc="-1" strike="noStrike">
              <a:solidFill>
                <a:srgbClr val="000000"/>
              </a:solidFill>
              <a:latin typeface="Arial"/>
            </a:endParaRPr>
          </a:p>
          <a:p>
            <a:pPr marL="3016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د. محمد بن سعد آل حمود</a:t>
            </a:r>
            <a:endParaRPr b="0" lang="en-US" sz="3200" spc="-1" strike="noStrike">
              <a:solidFill>
                <a:srgbClr val="000000"/>
              </a:solidFill>
              <a:latin typeface="Arial"/>
            </a:endParaRPr>
          </a:p>
          <a:p>
            <a:pPr marL="3016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مدير مركز تقويم البرامج </a:t>
            </a:r>
            <a:endParaRPr b="0" lang="en-US" sz="2400" spc="-1" strike="noStrike">
              <a:solidFill>
                <a:srgbClr val="000000"/>
              </a:solidFill>
              <a:latin typeface="Arial"/>
            </a:endParaRPr>
          </a:p>
          <a:p>
            <a:pPr marL="3016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عمادة التطوير الأكاديمي </a:t>
            </a:r>
            <a:endParaRPr b="0" lang="en-US" sz="2400" spc="-1" strike="noStrike">
              <a:solidFill>
                <a:srgbClr val="000000"/>
              </a:solidFill>
              <a:latin typeface="Arial"/>
            </a:endParaRPr>
          </a:p>
          <a:p>
            <a:pPr marL="3016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جامعة الملك فهد للبترول والمعادن</a:t>
            </a:r>
            <a:endParaRPr b="0" lang="en-US" sz="2400" spc="-1" strike="noStrike">
              <a:solidFill>
                <a:srgbClr val="000000"/>
              </a:solidFill>
              <a:latin typeface="Arial"/>
            </a:endParaRPr>
          </a:p>
          <a:p>
            <a:pPr marL="3016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الظهران </a:t>
            </a:r>
            <a:r>
              <a:rPr b="0" lang="ar-SA" sz="1800" spc="-1" strike="noStrike">
                <a:solidFill>
                  <a:srgbClr val="333399"/>
                </a:solidFill>
                <a:latin typeface="Arial"/>
                <a:ea typeface="AL-Mohanad Bold"/>
              </a:rPr>
              <a:t>31261</a:t>
            </a:r>
            <a:endParaRPr b="0" lang="en-US" sz="1800" spc="-1" strike="noStrike">
              <a:solidFill>
                <a:srgbClr val="000000"/>
              </a:solidFill>
              <a:latin typeface="Arial"/>
            </a:endParaRPr>
          </a:p>
          <a:p>
            <a:pPr marL="3016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ea typeface="AL-Mohanad Bold"/>
                <a:hlinkClick r:id="rId2"/>
              </a:rPr>
              <a:t>alhomoud@kfupm.edu.sa</a:t>
            </a:r>
            <a:endParaRPr b="0" lang="en-US" sz="2000" spc="-1" strike="noStrike">
              <a:solidFill>
                <a:srgbClr val="000000"/>
              </a:solidFill>
              <a:latin typeface="Arial"/>
            </a:endParaRPr>
          </a:p>
          <a:p>
            <a:pPr marL="3016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نهج التقويم</a:t>
            </a:r>
            <a:endParaRPr b="0" lang="en-US" sz="4400" spc="-1" strike="noStrike">
              <a:solidFill>
                <a:srgbClr val="000000"/>
              </a:solidFill>
              <a:latin typeface="Arial"/>
            </a:endParaRPr>
          </a:p>
        </p:txBody>
      </p:sp>
      <p:sp>
        <p:nvSpPr>
          <p:cNvPr id="92"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gn="r" rtl="1">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AL-Mohanad Bold"/>
              </a:rPr>
              <a:t>من أو ما الذي يراد تقويمه؟</a:t>
            </a:r>
            <a:endParaRPr b="0" lang="en-US" sz="36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Bold"/>
              </a:rPr>
              <a:t>	</a:t>
            </a:r>
            <a:r>
              <a:rPr b="0" lang="ar-SA" sz="3200" spc="-1" strike="noStrike">
                <a:solidFill>
                  <a:srgbClr val="000000"/>
                </a:solidFill>
                <a:latin typeface="Arial"/>
                <a:cs typeface="AL-Mohanad Bold"/>
              </a:rPr>
              <a:t>الطلاب</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أساتذة</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واد الدراسية</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برنامج الأكاديمي</a:t>
            </a:r>
            <a:endParaRPr b="0" lang="en-US" sz="3200" spc="-1" strike="noStrike">
              <a:solidFill>
                <a:srgbClr val="000000"/>
              </a:solidFill>
              <a:latin typeface="Arial"/>
            </a:endParaRPr>
          </a:p>
          <a:p>
            <a:pPr lvl="1" marL="743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L-Mohanad Bold"/>
              </a:rPr>
              <a:t> </a:t>
            </a:r>
            <a:endParaRPr b="0" lang="en-US" sz="1600" spc="-1" strike="noStrike">
              <a:solidFill>
                <a:srgbClr val="000000"/>
              </a:solidFill>
              <a:latin typeface="Arial"/>
            </a:endParaRPr>
          </a:p>
          <a:p>
            <a:pPr marL="343080" indent="-343080" algn="r" rtl="1">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AL-Mohanad Bold"/>
              </a:rPr>
              <a:t>ما الغرض من التقويم؟</a:t>
            </a:r>
            <a:endParaRPr b="0" lang="en-US" sz="36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تطوير والتحس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خطوات التقويم</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تتطلب عملية التقويم الخطوات التالية:</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إدراك لأهميتها والالتزام بدعمها من قبل الأطراف المعنية</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جهات المستفيدة من مخرجات البرنامج</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رسالة الجامعة (المؤسسة التعليمية) ورسالة البرنامج</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أهداف التعليمية للبرنامج والتي تتوافق مع رسالته ورسالة المؤسسة التعليمية</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مخرجات التعليمية المتوخاة (المتوقعة) للبرنامج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خطوات التقويم</a:t>
            </a:r>
            <a:endParaRPr b="0" lang="en-US" sz="4400" spc="-1" strike="noStrike">
              <a:solidFill>
                <a:srgbClr val="000000"/>
              </a:solidFill>
              <a:latin typeface="Arial"/>
            </a:endParaRPr>
          </a:p>
        </p:txBody>
      </p:sp>
      <p:sp>
        <p:nvSpPr>
          <p:cNvPr id="96" name="PlaceHolder 2"/>
          <p:cNvSpPr>
            <a:spLocks noGrp="1"/>
          </p:cNvSpPr>
          <p:nvPr>
            <p:ph/>
          </p:nvPr>
        </p:nvSpPr>
        <p:spPr>
          <a:xfrm>
            <a:off x="394920" y="1628280"/>
            <a:ext cx="8373960" cy="3961080"/>
          </a:xfrm>
          <a:prstGeom prst="rect">
            <a:avLst/>
          </a:prstGeom>
          <a:noFill/>
          <a:ln w="0">
            <a:noFill/>
          </a:ln>
        </p:spPr>
        <p:txBody>
          <a:bodyPr lIns="90000" rIns="90000" tIns="46800" bIns="46800"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تتطلب عملية التقويم الخطوات التالية </a:t>
            </a:r>
            <a:r>
              <a:rPr b="1" lang="ar-SA" sz="2400" spc="-1" strike="noStrike">
                <a:solidFill>
                  <a:srgbClr val="333399"/>
                </a:solidFill>
                <a:latin typeface="Arial"/>
                <a:ea typeface="AL-Mohanad Bold"/>
              </a:rPr>
              <a:t>(تكملة):</a:t>
            </a:r>
            <a:endParaRPr b="0" lang="en-US" sz="24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معايير قياس الأداء</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وسائل المناسبة لقياس الأهداف والمخرجات التعليمية </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جمع المعلومات اللازمة</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ركيز على المخرجات (مدى إعداد الخريجين للعمل المهني)</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يجاد الأدلة والبراهين على مدى تحقيق الأهداف والمخرجات</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ستعانة بمراجعة خارجية محايدة للنتائ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خطوات التقويم</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تتطلب عملية التقويم الخطوات التالية </a:t>
            </a:r>
            <a:r>
              <a:rPr b="1" lang="ar-SA" sz="2400" spc="-1" strike="noStrike">
                <a:solidFill>
                  <a:srgbClr val="333399"/>
                </a:solidFill>
                <a:latin typeface="Arial"/>
                <a:ea typeface="AL-Mohanad Bold"/>
              </a:rPr>
              <a:t>(تكملة)</a:t>
            </a:r>
            <a:r>
              <a:rPr b="1" lang="ar-SA" sz="3200" spc="-1" strike="noStrike">
                <a:solidFill>
                  <a:srgbClr val="333399"/>
                </a:solidFill>
                <a:latin typeface="Arial"/>
                <a:ea typeface="AL-Mohanad Bold"/>
              </a:rPr>
              <a:t>:</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جوانب القوة للمحافظة عليها وجوانب الضعف لتعزيزها والخطوات اللازمة لتحقيق ذلك</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عداد خطة لتطبيق نتائج التقويم والخطوات اللازمة للتصحيح والتطوير وتطبيقها</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تابعة والتقييم لنتائج التطوير</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ohanad Bold"/>
              </a:rPr>
              <a:t> </a:t>
            </a:r>
            <a:r>
              <a:rPr b="0" lang="ar-SA" sz="3200" spc="-1" strike="noStrike">
                <a:solidFill>
                  <a:srgbClr val="000000"/>
                </a:solidFill>
                <a:latin typeface="Arial"/>
                <a:cs typeface="AL-Mohanad Bold"/>
              </a:rPr>
              <a:t>إعادة العملية والاستمرارية ف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9" name=""/>
          <p:cNvGrpSpPr/>
          <p:nvPr/>
        </p:nvGrpSpPr>
        <p:grpSpPr>
          <a:xfrm>
            <a:off x="250560" y="260280"/>
            <a:ext cx="8462880" cy="5769000"/>
            <a:chOff x="250560" y="260280"/>
            <a:chExt cx="8462880" cy="5769000"/>
          </a:xfrm>
        </p:grpSpPr>
        <p:sp>
          <p:nvSpPr>
            <p:cNvPr id="100" name=""/>
            <p:cNvSpPr/>
            <p:nvPr/>
          </p:nvSpPr>
          <p:spPr>
            <a:xfrm>
              <a:off x="369720" y="1486080"/>
              <a:ext cx="946440" cy="86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خبرة ما قبل الجامعة</a:t>
              </a:r>
              <a:endParaRPr b="0" lang="en-US" sz="1400" spc="-1" strike="noStrike">
                <a:solidFill>
                  <a:srgbClr val="000000"/>
                </a:solidFill>
                <a:latin typeface="Arial"/>
              </a:endParaRPr>
            </a:p>
          </p:txBody>
        </p:sp>
        <p:sp>
          <p:nvSpPr>
            <p:cNvPr id="101" name=""/>
            <p:cNvSpPr/>
            <p:nvPr/>
          </p:nvSpPr>
          <p:spPr>
            <a:xfrm>
              <a:off x="2911680" y="260280"/>
              <a:ext cx="1325880" cy="12970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6058440" y="1554120"/>
              <a:ext cx="947880" cy="65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L-Mohanad Bold"/>
                </a:rPr>
                <a:t>المخرجات التعليمية</a:t>
              </a:r>
              <a:endParaRPr b="0" lang="en-US" sz="1400" spc="-1" strike="noStrike">
                <a:solidFill>
                  <a:srgbClr val="000000"/>
                </a:solidFill>
                <a:latin typeface="Arial"/>
              </a:endParaRPr>
            </a:p>
          </p:txBody>
        </p:sp>
        <p:sp>
          <p:nvSpPr>
            <p:cNvPr id="103" name=""/>
            <p:cNvSpPr/>
            <p:nvPr/>
          </p:nvSpPr>
          <p:spPr>
            <a:xfrm>
              <a:off x="7481880" y="1554120"/>
              <a:ext cx="1065240" cy="65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L-Mohanad Bold"/>
                </a:rPr>
                <a:t>الأهداف التعليمية</a:t>
              </a:r>
              <a:endParaRPr b="0" lang="en-US" sz="1400" spc="-1" strike="noStrike">
                <a:solidFill>
                  <a:srgbClr val="000000"/>
                </a:solidFill>
                <a:latin typeface="Arial"/>
              </a:endParaRPr>
            </a:p>
          </p:txBody>
        </p:sp>
        <p:sp>
          <p:nvSpPr>
            <p:cNvPr id="104" name=""/>
            <p:cNvSpPr/>
            <p:nvPr/>
          </p:nvSpPr>
          <p:spPr>
            <a:xfrm>
              <a:off x="1579680" y="1413000"/>
              <a:ext cx="1398240" cy="9954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907360" y="2278080"/>
              <a:ext cx="1540080" cy="14032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237920" y="1440000"/>
              <a:ext cx="1607760" cy="9684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317960" y="1919160"/>
              <a:ext cx="26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flipV="1">
              <a:off x="2978280" y="1917720"/>
              <a:ext cx="1259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5775120" y="1917720"/>
              <a:ext cx="2833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
            <p:cNvSpPr/>
            <p:nvPr/>
          </p:nvSpPr>
          <p:spPr>
            <a:xfrm>
              <a:off x="7006680" y="1919160"/>
              <a:ext cx="474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flipV="1">
              <a:off x="5585400" y="2163240"/>
              <a:ext cx="473040" cy="73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585400" y="820800"/>
              <a:ext cx="473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237920" y="820800"/>
              <a:ext cx="134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4447440" y="2895480"/>
              <a:ext cx="1137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4167000" y="1197000"/>
              <a:ext cx="419040" cy="2890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2628360" y="1211040"/>
              <a:ext cx="381960" cy="2746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768400" y="2278080"/>
              <a:ext cx="279000" cy="2872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4307040" y="2349360"/>
              <a:ext cx="279000" cy="21600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436400" y="3749760"/>
              <a:ext cx="5807880" cy="14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flipH="1">
              <a:off x="250560" y="3749760"/>
              <a:ext cx="1185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
            <p:cNvSpPr/>
            <p:nvPr/>
          </p:nvSpPr>
          <p:spPr>
            <a:xfrm>
              <a:off x="7282800" y="3770280"/>
              <a:ext cx="1421280" cy="18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1436400" y="2041560"/>
              <a:ext cx="0" cy="2928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244640" y="2041560"/>
              <a:ext cx="0" cy="2928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665560" y="2041560"/>
              <a:ext cx="47880" cy="2955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523240" y="5229360"/>
              <a:ext cx="3760200" cy="36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خبرة التعليمية خلال الدراسة الجامعية</a:t>
              </a:r>
              <a:endParaRPr b="0" lang="en-US" sz="2000" spc="-1" strike="noStrike">
                <a:solidFill>
                  <a:srgbClr val="000000"/>
                </a:solidFill>
                <a:latin typeface="Arial"/>
              </a:endParaRPr>
            </a:p>
          </p:txBody>
        </p:sp>
        <p:sp>
          <p:nvSpPr>
            <p:cNvPr id="126" name=""/>
            <p:cNvSpPr/>
            <p:nvPr/>
          </p:nvSpPr>
          <p:spPr>
            <a:xfrm>
              <a:off x="7349040" y="4941720"/>
              <a:ext cx="130428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خبرة ما بعد الجامعة</a:t>
              </a:r>
              <a:endParaRPr b="0" lang="en-US" sz="2000" spc="-1" strike="noStrike">
                <a:solidFill>
                  <a:srgbClr val="000000"/>
                </a:solidFill>
                <a:latin typeface="Arial"/>
              </a:endParaRPr>
            </a:p>
          </p:txBody>
        </p:sp>
        <p:sp>
          <p:nvSpPr>
            <p:cNvPr id="127" name=""/>
            <p:cNvSpPr/>
            <p:nvPr/>
          </p:nvSpPr>
          <p:spPr>
            <a:xfrm>
              <a:off x="250920" y="4941720"/>
              <a:ext cx="1185480" cy="73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خبرة ما قبل الجامعة</a:t>
              </a:r>
              <a:endParaRPr b="0" lang="en-US" sz="2000" spc="-1" strike="noStrike">
                <a:solidFill>
                  <a:srgbClr val="000000"/>
                </a:solidFill>
                <a:latin typeface="Arial"/>
              </a:endParaRPr>
            </a:p>
          </p:txBody>
        </p:sp>
        <p:sp>
          <p:nvSpPr>
            <p:cNvPr id="128" name=""/>
            <p:cNvSpPr/>
            <p:nvPr/>
          </p:nvSpPr>
          <p:spPr>
            <a:xfrm>
              <a:off x="2628360" y="3871800"/>
              <a:ext cx="3427200" cy="6112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رحلة تقويم المخرجات التعليمية</a:t>
              </a:r>
              <a:endParaRPr b="0" lang="en-US" sz="2000" spc="-1" strike="noStrike">
                <a:solidFill>
                  <a:srgbClr val="000000"/>
                </a:solidFill>
                <a:latin typeface="Arial"/>
              </a:endParaRPr>
            </a:p>
          </p:txBody>
        </p:sp>
        <p:sp>
          <p:nvSpPr>
            <p:cNvPr id="129" name=""/>
            <p:cNvSpPr/>
            <p:nvPr/>
          </p:nvSpPr>
          <p:spPr>
            <a:xfrm>
              <a:off x="7349040" y="3860640"/>
              <a:ext cx="1258200" cy="9352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رحلة تقويم الأهداف التعليمية</a:t>
              </a:r>
              <a:endParaRPr b="0" lang="en-US" sz="2000" spc="-1" strike="noStrike">
                <a:solidFill>
                  <a:srgbClr val="000000"/>
                </a:solidFill>
                <a:latin typeface="Arial"/>
              </a:endParaRPr>
            </a:p>
          </p:txBody>
        </p:sp>
        <p:sp>
          <p:nvSpPr>
            <p:cNvPr id="130" name=""/>
            <p:cNvSpPr/>
            <p:nvPr/>
          </p:nvSpPr>
          <p:spPr>
            <a:xfrm>
              <a:off x="1160640" y="5661000"/>
              <a:ext cx="6362640" cy="3682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ea typeface="mohammad bold art 1"/>
                </a:rPr>
                <a:t> العوامل التعليمية والبيئية المؤثرة في تعلم وشخصية الطالب </a:t>
              </a:r>
              <a:endParaRPr b="0" lang="en-US" sz="2400" spc="-1" strike="noStrike">
                <a:solidFill>
                  <a:srgbClr val="000000"/>
                </a:solidFill>
                <a:latin typeface="Arial"/>
              </a:endParaRPr>
            </a:p>
          </p:txBody>
        </p:sp>
        <p:sp>
          <p:nvSpPr>
            <p:cNvPr id="131" name=""/>
            <p:cNvSpPr/>
            <p:nvPr/>
          </p:nvSpPr>
          <p:spPr>
            <a:xfrm>
              <a:off x="2873520" y="344520"/>
              <a:ext cx="1188720" cy="13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منهج:</a:t>
              </a:r>
              <a:endParaRPr b="0" lang="en-US" sz="1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تخصص</a:t>
              </a:r>
              <a:endParaRPr b="0" lang="en-US" sz="1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مواد التخصص</a:t>
              </a:r>
              <a:endParaRPr b="0" lang="en-US" sz="1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مواد العامة</a:t>
              </a:r>
              <a:endParaRPr b="0" lang="en-US" sz="1400" spc="-1" strike="noStrike">
                <a:solidFill>
                  <a:srgbClr val="000000"/>
                </a:solidFill>
                <a:latin typeface="Arial"/>
              </a:endParaRPr>
            </a:p>
          </p:txBody>
        </p:sp>
        <p:sp>
          <p:nvSpPr>
            <p:cNvPr id="132" name=""/>
            <p:cNvSpPr/>
            <p:nvPr/>
          </p:nvSpPr>
          <p:spPr>
            <a:xfrm>
              <a:off x="4302720" y="1504800"/>
              <a:ext cx="1467720" cy="1372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خبرة خارج الصف:</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عمل التعاوني</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تدريب الصيفي</a:t>
              </a:r>
              <a:endParaRPr b="0" lang="en-US" sz="1400" spc="-1" strike="noStrike">
                <a:solidFill>
                  <a:srgbClr val="000000"/>
                </a:solidFill>
                <a:latin typeface="Arial"/>
              </a:endParaRPr>
            </a:p>
          </p:txBody>
        </p:sp>
        <p:sp>
          <p:nvSpPr>
            <p:cNvPr id="133" name=""/>
            <p:cNvSpPr/>
            <p:nvPr/>
          </p:nvSpPr>
          <p:spPr>
            <a:xfrm>
              <a:off x="1547640" y="1486080"/>
              <a:ext cx="1467720" cy="1159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بيئة المحيطة:</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حياة الجامعة</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حياة الاجتماعية</a:t>
              </a:r>
              <a:endParaRPr b="0" lang="en-US" sz="1400" spc="-1" strike="noStrike">
                <a:solidFill>
                  <a:srgbClr val="000000"/>
                </a:solidFill>
                <a:latin typeface="Arial"/>
              </a:endParaRPr>
            </a:p>
          </p:txBody>
        </p:sp>
        <p:sp>
          <p:nvSpPr>
            <p:cNvPr id="134" name=""/>
            <p:cNvSpPr/>
            <p:nvPr/>
          </p:nvSpPr>
          <p:spPr>
            <a:xfrm>
              <a:off x="2908800" y="2503440"/>
              <a:ext cx="1538640" cy="1372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خبرة داخل الصف:</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طرق التدريس</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أساتذة</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خدمات المتوفرة</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cs typeface="mohammad bold art 1"/>
              </a:rPr>
              <a:t>التقويم الذاتي للبرامج في </a:t>
            </a:r>
            <a:br>
              <a:rPr sz="4000"/>
            </a:br>
            <a:r>
              <a:rPr b="1" lang="ar-SA" sz="4000" spc="-1" strike="noStrike">
                <a:solidFill>
                  <a:srgbClr val="ff0066"/>
                </a:solidFill>
                <a:latin typeface="Arial"/>
                <a:cs typeface="mohammad bold art 1"/>
              </a:rPr>
              <a:t>جامعة الملك فهد للبترول والمعادن</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mohammad bold art 1"/>
              </a:rPr>
              <a:t>مركز تقويم البرامج بالجامعة</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تولى مركز تقويم البرامج بعمادة التطوير الأكاديمي تنسيق وتخطيط ومتابعة فعاليات التقويم الذاتي لبرامج الجامعة المختلفة</a:t>
            </a:r>
            <a:endParaRPr b="0" lang="en-US" sz="3200" spc="-1" strike="noStrike">
              <a:solidFill>
                <a:srgbClr val="000000"/>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mohammad bold art 1"/>
              </a:rPr>
              <a:t>رسالة المركز:</a:t>
            </a:r>
            <a:endParaRPr b="0" lang="en-US" sz="3200" spc="-1" strike="noStrike">
              <a:solidFill>
                <a:srgbClr val="000000"/>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نشر ثقافة التقويم الذاتي في الجامعة بهدف تحقيق أعلى مستويات الجودة في برامجها بما يواكب المستجدات التقنية العالمية ويحقق متطلبات سوق العمل المحلية في ضوء قيمنا الإسلامية.</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cs typeface="mohammad bold art 1"/>
              </a:rPr>
              <a:t>التقويم الذاتي للبرامج في </a:t>
            </a:r>
            <a:br>
              <a:rPr sz="4000"/>
            </a:br>
            <a:r>
              <a:rPr b="1" lang="ar-SA" sz="4000" spc="-1" strike="noStrike">
                <a:solidFill>
                  <a:srgbClr val="ff0066"/>
                </a:solidFill>
                <a:latin typeface="Arial"/>
                <a:cs typeface="mohammad bold art 1"/>
              </a:rPr>
              <a:t>جامعة الملك فهد للبترول والمعادن</a:t>
            </a:r>
            <a:endParaRPr b="0" lang="en-US" sz="4000" spc="-1" strike="noStrike">
              <a:solidFill>
                <a:srgbClr val="000000"/>
              </a:solidFill>
              <a:latin typeface="Arial"/>
            </a:endParaRPr>
          </a:p>
        </p:txBody>
      </p:sp>
      <p:sp>
        <p:nvSpPr>
          <p:cNvPr id="138" name="PlaceHolder 2"/>
          <p:cNvSpPr>
            <a:spLocks noGrp="1"/>
          </p:cNvSpPr>
          <p:nvPr>
            <p:ph/>
          </p:nvPr>
        </p:nvSpPr>
        <p:spPr>
          <a:xfrm>
            <a:off x="324000" y="1600200"/>
            <a:ext cx="8424720" cy="4525920"/>
          </a:xfrm>
          <a:prstGeom prst="rect">
            <a:avLst/>
          </a:prstGeom>
          <a:noFill/>
          <a:ln w="0">
            <a:noFill/>
          </a:ln>
        </p:spPr>
        <p:txBody>
          <a:bodyPr lIns="90000" rIns="90000" tIns="46800" bIns="46800" anchor="t">
            <a:normAutofit fontScale="88000"/>
          </a:bodyPr>
          <a:p>
            <a:pPr marL="536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ea typeface="AL-Mohanad Bold"/>
              </a:rPr>
              <a:t> </a:t>
            </a:r>
            <a:r>
              <a:rPr b="1" lang="ar-SA" sz="3200" spc="-1" strike="noStrike">
                <a:solidFill>
                  <a:srgbClr val="333399"/>
                </a:solidFill>
                <a:latin typeface="Arial"/>
                <a:cs typeface="mohammad bold art 1"/>
              </a:rPr>
              <a:t>أهداف التقويم الذاتي للبرامج بالجامعة:</a:t>
            </a:r>
            <a:endParaRPr b="0" lang="en-US" sz="3200" spc="-1" strike="noStrike">
              <a:solidFill>
                <a:srgbClr val="000000"/>
              </a:solidFill>
              <a:latin typeface="Arial"/>
            </a:endParaRPr>
          </a:p>
          <a:p>
            <a:pPr marL="536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ea typeface="mohammad bold art 1"/>
              </a:rPr>
              <a:t> </a:t>
            </a:r>
            <a:r>
              <a:rPr b="0" lang="ar-SA" sz="3200" spc="-1" strike="noStrike">
                <a:solidFill>
                  <a:srgbClr val="000000"/>
                </a:solidFill>
                <a:latin typeface="Arial"/>
                <a:cs typeface="AL-Mohanad Bold"/>
              </a:rPr>
              <a:t>تتمثل أهداف التقويم الذاتي للبرامج في الجامعة في ما يلي: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حافظة على المعايير الأكاديمية وتطويرها</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عزيز تعلم الطلاب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حقق من توافق البرامج التعليمية مع أهدافها المطروحة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غذية الراجعة لضمان كفاءة البرامج الأكاديمية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عداد البرامج الأكاديمية للاعتما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معايير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أول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رسالة البرنامج ، أهدافه  ومخرجاته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ثاني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صميم وتنظيم المنهج الدراسي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ثالث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ختبرات ومرافق الحاسب الآلي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رابع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دعم وإرشاد الطلاب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خامس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أعضاء هيئة التدريس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سادس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تحكم في الإجراءات</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سابع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رافق المؤسسية</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ثامن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دعم المؤسس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892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42" name="PlaceHolder 2"/>
          <p:cNvSpPr>
            <a:spLocks noGrp="1"/>
          </p:cNvSpPr>
          <p:nvPr>
            <p:ph/>
          </p:nvPr>
        </p:nvSpPr>
        <p:spPr>
          <a:xfrm>
            <a:off x="468360" y="1773000"/>
            <a:ext cx="8229600" cy="4319640"/>
          </a:xfrm>
          <a:prstGeom prst="rect">
            <a:avLst/>
          </a:prstGeom>
          <a:noFill/>
          <a:ln w="0">
            <a:noFill/>
          </a:ln>
        </p:spPr>
        <p:txBody>
          <a:bodyPr lIns="90000" rIns="90000" tIns="46800" bIns="46800" anchor="t">
            <a:normAutofit fontScale="85000"/>
          </a:bodyPr>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تطلب لوائح التقويم بالجامعة أن يتم تقويم كل برامجها الأكاديمية مرة واحدة كل خمس سنوات (دورة التقويم).</a:t>
            </a:r>
            <a:endParaRPr b="0" lang="en-US" sz="3200" spc="-1" strike="noStrike">
              <a:solidFill>
                <a:srgbClr val="000000"/>
              </a:solidFill>
              <a:latin typeface="Arial"/>
            </a:endParaRPr>
          </a:p>
          <a:p>
            <a:pPr marL="51804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وتتمثل خطوات تنفيذ التقويم الذاتي فيما يلي: </a:t>
            </a:r>
            <a:endParaRPr b="0" lang="en-US" sz="3200" spc="-1" strike="noStrike">
              <a:solidFill>
                <a:srgbClr val="000000"/>
              </a:solidFill>
              <a:latin typeface="Arial"/>
            </a:endParaRPr>
          </a:p>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1</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يعلن مركز تقويم البرامج بعمادة التطوير الأكاديمي بدء عملية التقويم قبل فصل دراسي واحد من دورة التقويم.</a:t>
            </a:r>
            <a:endParaRPr b="0" lang="en-US" sz="3200" spc="-1" strike="noStrike">
              <a:solidFill>
                <a:srgbClr val="000000"/>
              </a:solidFill>
              <a:latin typeface="Arial"/>
            </a:endParaRPr>
          </a:p>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2</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يشكل القسم المعني فريق تمثيل البرنامج لإعداد تقرير التقويم الذاتي.</a:t>
            </a:r>
            <a:r>
              <a:rPr b="0" lang="ar-SA"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endParaRPr b="0" lang="en-US" sz="36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3</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راجع مركز تقويم البرامج تقرير التقويم الذاتي خلال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شهر واحد من استلامه للتأكد من اكتماله.</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4</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شكل مركز تقويم البرامج فريق تقويم البرنامج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بالتنسيق مع عميد التطوير الأكاديمي ووكيل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جامعة للشؤؤن الأكاديمية.</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5</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قوم مركز تقويم البرامج بتخطيط وجدولة برنامج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زيارة لفريق التقويم.</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ا هو التقويم؟</a:t>
            </a:r>
            <a:r>
              <a:rPr b="1" lang="ar-SA" sz="4800" spc="-1" strike="noStrike">
                <a:solidFill>
                  <a:srgbClr val="ff0066"/>
                </a:solidFill>
                <a:latin typeface="Arial"/>
                <a:ea typeface="AL-Mohanad Bold"/>
              </a:rPr>
              <a:t> </a:t>
            </a:r>
            <a:endParaRPr b="0" lang="en-US" sz="4800" spc="-1" strike="noStrike">
              <a:solidFill>
                <a:srgbClr val="000000"/>
              </a:solidFill>
              <a:latin typeface="Arial"/>
            </a:endParaRPr>
          </a:p>
        </p:txBody>
      </p:sp>
      <p:sp>
        <p:nvSpPr>
          <p:cNvPr id="43"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fontScale="92000"/>
          </a:bodyPr>
          <a:p>
            <a:pPr marL="560520" indent="-560520" algn="just"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التقويم عملية مستمرة تعنى بجمع المعلومات وتحليلها بشكل دوري للتعرف على مواطن القوة والضعف بهدف تحسين الأداء وتمثل أساساً للتطوير وضمان الجودة.</a:t>
            </a:r>
            <a:r>
              <a:rPr b="0" lang="en-US" sz="3600" spc="-1" strike="noStrike">
                <a:solidFill>
                  <a:srgbClr val="000000"/>
                </a:solidFill>
                <a:latin typeface="Arial"/>
                <a:ea typeface="AL-Mohanad Bold"/>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892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endParaRPr b="0" lang="en-US" sz="36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6</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تمثل مهمة فريق التقويم في تنفيذ عملية التقويم وكتابة التقرير وتقديم نتائجه في الاجتماع النهائي الذي يحضره المسئولين في الجامعة وأعضاء هيئة التدريس في البرنامج المعني.</a:t>
            </a:r>
            <a:endParaRPr b="0" lang="en-US" sz="3200" spc="-1" strike="noStrike">
              <a:solidFill>
                <a:srgbClr val="000000"/>
              </a:solidFill>
              <a:latin typeface="Arial"/>
            </a:endParaRPr>
          </a:p>
          <a:p>
            <a:pPr marL="585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7</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عد مركز تقويم البرامج تقريرا تنفيذيا لمدير الجامعة حول نتائج عملية التقويم.</a:t>
            </a:r>
            <a:endParaRPr b="0" lang="en-US" sz="3200" spc="-1" strike="noStrike">
              <a:solidFill>
                <a:srgbClr val="000000"/>
              </a:solidFill>
              <a:latin typeface="Arial"/>
            </a:endParaRPr>
          </a:p>
          <a:p>
            <a:pPr marL="585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8</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قوم القسم بإعداد خطة للتنفيذ تعتمد على نتائج وتوصيات فريق التقوي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endParaRPr b="0" lang="en-US" sz="3600" spc="-1" strike="noStrike">
              <a:solidFill>
                <a:srgbClr val="000000"/>
              </a:solidFill>
              <a:latin typeface="Arial"/>
            </a:endParaRPr>
          </a:p>
        </p:txBody>
      </p:sp>
      <p:sp>
        <p:nvSpPr>
          <p:cNvPr id="148" name="PlaceHolder 2"/>
          <p:cNvSpPr>
            <a:spLocks noGrp="1"/>
          </p:cNvSpPr>
          <p:nvPr>
            <p:ph/>
          </p:nvPr>
        </p:nvSpPr>
        <p:spPr>
          <a:xfrm>
            <a:off x="468360" y="1773000"/>
            <a:ext cx="8229600" cy="3816360"/>
          </a:xfrm>
          <a:prstGeom prst="rect">
            <a:avLst/>
          </a:prstGeom>
          <a:noFill/>
          <a:ln w="0">
            <a:noFill/>
          </a:ln>
        </p:spPr>
        <p:txBody>
          <a:bodyPr lIns="90000" rIns="90000" tIns="46800" bIns="46800"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9</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شمل الخطة قائمة بالخطوات المراد عملها وتحديد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هام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لهذه الخطوات والوقت المحدد لها </a:t>
            </a:r>
            <a:endParaRPr b="0" lang="en-US" sz="3200" spc="-1" strike="noStrike">
              <a:solidFill>
                <a:srgbClr val="000000"/>
              </a:solidFill>
              <a:latin typeface="Arial"/>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10</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قوم مركز تقويم البرامج بعمادة التطوير الأكاديمي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بمراجعة عملية التنفيذ في كل عام دراسي. كما يقوم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ركز بمتابعة خطة التنفيذ حتى يتأكد أن الأقسام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لتزمة بتنفيذ الخطة التطوير حسب نتائج التقويم.</a:t>
            </a: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عوامل نجاح عملية التقويم الذاتي</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333399"/>
                </a:solidFill>
                <a:latin typeface="Arial"/>
                <a:cs typeface="AL-Mohanad Bold"/>
              </a:rPr>
              <a:t>تتلخص أهم عوامل نجاح عملية التقويم الأكاديمي في تحقيق أعلى معايير الجودة التعليم العالي فيما يلي:</a:t>
            </a:r>
            <a:endParaRPr b="0" lang="en-US" sz="3200" spc="-1" strike="noStrike">
              <a:solidFill>
                <a:srgbClr val="000000"/>
              </a:solidFill>
              <a:latin typeface="Arial"/>
            </a:endParaRPr>
          </a:p>
          <a:p>
            <a:pPr marL="31536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دراك أهمية التقويم والالتزام بها من قبل جميع المسئولين والمعنيين في المؤسسة التعليمي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رسالة وأهداف واضحة للمؤسسة التعليمية وبرامجها</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مخرجات تعليمية للبرنامج وربطها بأهدافه ورسال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عوامل نجاح عملية التقويم الذاتي</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شاركة من قبل كل المعنيي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فاعل مع الأصوات المختلفة والاستجابة للمفيد من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نفيذ خطوات التطوير والتحسين ومتابعت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غذية الراجع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ربط التقويم بالحياة العمل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نهجية في جمع وتحليل وعرض النتائج</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عوامل نجاح عملية التقويم الذاتي</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حتفاظ بسجل النتائج مع الوق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سؤول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وفر الموارد اللازم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كافأة لمن يستحق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ستمرارية والمرون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مراجع</a:t>
            </a:r>
            <a:r>
              <a:rPr b="0" lang="ar-SA" sz="4400" spc="-1" strike="noStrike">
                <a:solidFill>
                  <a:srgbClr val="ff0066"/>
                </a:solidFill>
                <a:latin typeface="Arial"/>
                <a:ea typeface="mohammad bold art 1"/>
              </a:rPr>
              <a:t> </a:t>
            </a:r>
            <a:endParaRPr b="0" lang="en-US" sz="4400" spc="-1" strike="noStrike">
              <a:solidFill>
                <a:srgbClr val="000000"/>
              </a:solidFill>
              <a:latin typeface="Arial"/>
            </a:endParaRPr>
          </a:p>
        </p:txBody>
      </p:sp>
      <p:sp>
        <p:nvSpPr>
          <p:cNvPr id="156" name="PlaceHolder 2"/>
          <p:cNvSpPr>
            <a:spLocks noGrp="1"/>
          </p:cNvSpPr>
          <p:nvPr>
            <p:ph/>
          </p:nvPr>
        </p:nvSpPr>
        <p:spPr>
          <a:xfrm>
            <a:off x="457200" y="1424160"/>
            <a:ext cx="8229600" cy="4525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Arial"/>
              </a:rPr>
              <a:t>	</a:t>
            </a:r>
            <a:r>
              <a:rPr b="1" lang="en-US" sz="2400" spc="-1" strike="noStrike">
                <a:solidFill>
                  <a:srgbClr val="333399"/>
                </a:solidFill>
                <a:latin typeface="Arial"/>
              </a:rPr>
              <a:t>Bibliography</a:t>
            </a:r>
            <a:endParaRPr b="0" lang="en-US" sz="24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lomba, C. A. and T. W. Banta, 1999. “Assessment Essentials: Planning, Implementing, and Improving Assessment in Higher Education”, Jossey-Bass Pub., San Francisco.</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 Program Assessment Center at KFUPM, 2004. “Guidelines for Self-Assessment of Undergraduate Programs at King Fahd University of Petroleum &amp; Minerals”, KFUPM, Dhahran, KSA</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 Peggy. “</a:t>
            </a:r>
            <a:r>
              <a:rPr b="0" i="1" lang="en-US" sz="1600" spc="-1" strike="noStrike">
                <a:solidFill>
                  <a:srgbClr val="000000"/>
                </a:solidFill>
                <a:latin typeface="Arial"/>
              </a:rPr>
              <a:t>Using Multiple Assessment Methods to Explore Student Learning and Development Inside and Outside of the Classroom</a:t>
            </a:r>
            <a:r>
              <a:rPr b="0" lang="en-US" sz="1600" spc="-1" strike="noStrike">
                <a:solidFill>
                  <a:srgbClr val="000000"/>
                </a:solidFill>
                <a:latin typeface="Arial"/>
              </a:rPr>
              <a:t>” NASPA’s NetResults, January 2002.</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sciani, Marilee. “</a:t>
            </a:r>
            <a:r>
              <a:rPr b="0" i="1" lang="en-US" sz="1600" spc="-1" strike="noStrike">
                <a:solidFill>
                  <a:srgbClr val="000000"/>
                </a:solidFill>
                <a:latin typeface="Arial"/>
              </a:rPr>
              <a:t>The Updated Outline fore Assessment Plans</a:t>
            </a:r>
            <a:r>
              <a:rPr b="0" lang="en-US" sz="1600" spc="-1" strike="noStrike">
                <a:solidFill>
                  <a:srgbClr val="000000"/>
                </a:solidFill>
                <a:latin typeface="Arial"/>
              </a:rPr>
              <a:t>” NASPA’s NetResults, March 2003.</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T “ABET International Faculty Workshop for Continuous Program Improvement”, the National University of Singapore, Singapore, December 2003.</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ff, Jerry G. and James L. Ratcliff, and Associates. 1997. Handbook of the Undergraduate curriculum: A Comprehensive guide to purposes, structures, practices, and change. Chapters 28, 29, and 30. Jossey-Bass Pub., San Francisco.</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websites on assessment (list of related websites is available on the Program Assessment Webpage- </a:t>
            </a:r>
            <a:r>
              <a:rPr b="0" lang="en-US" sz="1600" spc="-1" strike="noStrike" u="sng">
                <a:solidFill>
                  <a:srgbClr val="009999"/>
                </a:solidFill>
                <a:uFillTx/>
                <a:latin typeface="Arial"/>
                <a:hlinkClick r:id="rId2"/>
              </a:rPr>
              <a:t>http://</a:t>
            </a:r>
            <a:r>
              <a:rPr b="0" lang="en-US" sz="1600" spc="-1" strike="noStrike" u="sng">
                <a:solidFill>
                  <a:srgbClr val="009999"/>
                </a:solidFill>
                <a:uFillTx/>
                <a:latin typeface="Arial"/>
                <a:hlinkClick r:id="rId3"/>
              </a:rPr>
              <a:t>www.kfupm.edu.sa</a:t>
            </a:r>
            <a:r>
              <a:rPr b="0" lang="en-US" sz="1600" spc="-1" strike="noStrike" u="sng">
                <a:solidFill>
                  <a:srgbClr val="009999"/>
                </a:solidFill>
                <a:uFillTx/>
                <a:latin typeface="Arial"/>
                <a:hlinkClick r:id="rId4"/>
              </a:rPr>
              <a:t>/da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2124000" y="2565360"/>
            <a:ext cx="48261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333399"/>
                </a:solidFill>
                <a:latin typeface="Arial"/>
                <a:cs typeface="AL-Mohanad Bold"/>
              </a:rPr>
              <a:t>وشكرا لكم</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63480" y="1600200"/>
            <a:ext cx="8229600" cy="4525920"/>
          </a:xfrm>
          <a:prstGeom prst="rect">
            <a:avLst/>
          </a:prstGeom>
          <a:noFill/>
          <a:ln w="0">
            <a:noFill/>
          </a:ln>
        </p:spPr>
        <p:txBody>
          <a:bodyPr lIns="90000" rIns="90000" tIns="46800" bIns="46800" anchor="t">
            <a:normAutofit fontScale="90000"/>
          </a:bodyPr>
          <a:p>
            <a:pPr marL="548280" indent="-548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يهدف تقويم البرامج إلى معرفة ما إذا كانت البرامج الأكاديمية تحقق الغرض منها في دعم تعلم الطلاب وتطوير مهاراتهم. ويركز التقويم الأكاديمي على البرامج ومخرجاتها ككل دون الاقتصار على فرادى الطلاب أو المواد الدراسية. ويعطي التقويم معلومات عن ما إذا كان المنهج ككل يحقق أهدافه من خلال تزويد الطلاب </a:t>
            </a:r>
            <a:r>
              <a:rPr b="0" lang="ar-SA" sz="3200" spc="-1" strike="noStrike">
                <a:solidFill>
                  <a:srgbClr val="333399"/>
                </a:solidFill>
                <a:latin typeface="Arial"/>
                <a:cs typeface="AL-Mohanad Bold"/>
              </a:rPr>
              <a:t>بالمعرفة</a:t>
            </a:r>
            <a:r>
              <a:rPr b="0" lang="ar-SA" sz="3200" spc="-1" strike="noStrike">
                <a:solidFill>
                  <a:srgbClr val="000000"/>
                </a:solidFill>
                <a:latin typeface="Arial"/>
                <a:cs typeface="AL-Mohanad Bold"/>
              </a:rPr>
              <a:t>، </a:t>
            </a:r>
            <a:r>
              <a:rPr b="0" lang="ar-SA" sz="3200" spc="-1" strike="noStrike">
                <a:solidFill>
                  <a:srgbClr val="333399"/>
                </a:solidFill>
                <a:latin typeface="Arial"/>
                <a:cs typeface="AL-Mohanad Bold"/>
              </a:rPr>
              <a:t>والمهارات</a:t>
            </a:r>
            <a:r>
              <a:rPr b="0" lang="ar-SA" sz="3200" spc="-1" strike="noStrike">
                <a:solidFill>
                  <a:srgbClr val="000000"/>
                </a:solidFill>
                <a:latin typeface="Arial"/>
                <a:cs typeface="AL-Mohanad Bold"/>
              </a:rPr>
              <a:t>، </a:t>
            </a:r>
            <a:r>
              <a:rPr b="0" lang="ar-SA" sz="3200" spc="-1" strike="noStrike">
                <a:solidFill>
                  <a:srgbClr val="333399"/>
                </a:solidFill>
                <a:latin typeface="Arial"/>
                <a:cs typeface="AL-Mohanad Bold"/>
              </a:rPr>
              <a:t>والقيم</a:t>
            </a:r>
            <a:r>
              <a:rPr b="0" lang="ar-SA" sz="3200" spc="-1" strike="noStrike">
                <a:solidFill>
                  <a:srgbClr val="000000"/>
                </a:solidFill>
                <a:latin typeface="Arial"/>
                <a:ea typeface="AL-Mohanad Bold"/>
              </a:rPr>
              <a:t> اللازمة لكل خريج لأداء مهمته في الحياة بنجاح بما يتفق مع رسالة الجامعة وأهدافها التعليمية. </a:t>
            </a:r>
            <a:endParaRPr b="0" lang="en-US" sz="3200" spc="-1" strike="noStrike">
              <a:solidFill>
                <a:srgbClr val="000000"/>
              </a:solidFill>
              <a:latin typeface="Arial"/>
            </a:endParaRPr>
          </a:p>
        </p:txBody>
      </p:sp>
      <p:sp>
        <p:nvSpPr>
          <p:cNvPr id="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هدف من التقوي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توجهات الجديدة في التقويم</a:t>
            </a:r>
            <a:endParaRPr b="0" lang="en-US" sz="4400" spc="-1" strike="noStrike">
              <a:solidFill>
                <a:srgbClr val="000000"/>
              </a:solidFill>
              <a:latin typeface="Arial"/>
            </a:endParaRPr>
          </a:p>
        </p:txBody>
      </p:sp>
      <p:graphicFrame>
        <p:nvGraphicFramePr>
          <p:cNvPr id="47" name=""/>
          <p:cNvGraphicFramePr/>
          <p:nvPr/>
        </p:nvGraphicFramePr>
        <p:xfrm>
          <a:off x="468360" y="1628640"/>
          <a:ext cx="8207280" cy="3876480"/>
        </p:xfrm>
        <a:graphic>
          <a:graphicData uri="http://schemas.openxmlformats.org/drawingml/2006/table">
            <a:tbl>
              <a:tblPr/>
              <a:tblGrid>
                <a:gridCol w="4208400"/>
                <a:gridCol w="399888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AL-Mohanad"/>
                        </a:rPr>
                        <a:t>يركز المفهوم الجديد عل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AL-Mohanad"/>
                        </a:rPr>
                        <a:t>يركز المفهوم التقليدي عل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ما يمكن الطلاب عمله</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ما يعطى إلى الطلاب</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مخرجات</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مدخلات</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تعلم الطلاب</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تدريس</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تعليم بمفهومه الشامل</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مناهج</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عملية التعليمية كوسيلة وليست غاية</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عملية التعليمية كغاية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كيف</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كم</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أهمية جودة المدخلات إلا أنها وحدها لا    تضمن جودة المخرجات ما لم يتم قياسها</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فتراض أن جودة المدخلات تضمن جودة المخرجات</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أسئلة الأساسية للتقويم</a:t>
            </a:r>
            <a:endParaRPr b="0" lang="en-US" sz="4400" spc="-1" strike="noStrike">
              <a:solidFill>
                <a:srgbClr val="000000"/>
              </a:solidFill>
              <a:latin typeface="Arial"/>
            </a:endParaRPr>
          </a:p>
        </p:txBody>
      </p:sp>
      <p:sp>
        <p:nvSpPr>
          <p:cNvPr id="49" name="PlaceHolder 2"/>
          <p:cNvSpPr>
            <a:spLocks noGrp="1"/>
          </p:cNvSpPr>
          <p:nvPr>
            <p:ph/>
          </p:nvPr>
        </p:nvSpPr>
        <p:spPr>
          <a:xfrm>
            <a:off x="468360" y="1699920"/>
            <a:ext cx="8229600" cy="4105080"/>
          </a:xfrm>
          <a:prstGeom prst="rect">
            <a:avLst/>
          </a:prstGeom>
          <a:noFill/>
          <a:ln w="0">
            <a:noFill/>
          </a:ln>
        </p:spPr>
        <p:txBody>
          <a:bodyPr lIns="90000" rIns="90000" tIns="46800" bIns="46800" anchor="t">
            <a:normAutofit fontScale="88000"/>
          </a:bodyPr>
          <a:p>
            <a:pPr marL="3016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هدف عملية التقويم الناجحة إلى الإجابة على عدد من الأسئلة المتعلقة بالعملية التعليمية والأطراف المشاركة فيها. وتشتمل على مجموعة الأسئلة التالية:</a:t>
            </a:r>
            <a:endParaRPr b="0" lang="en-US" sz="3200" spc="-1" strike="noStrike">
              <a:solidFill>
                <a:srgbClr val="000000"/>
              </a:solidFill>
              <a:latin typeface="Arial"/>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ن هم المستفيدين من البرنامج ومخرجاته؟</a:t>
            </a:r>
            <a:endParaRPr b="0" lang="en-US" sz="32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الذي يراد تحقيقه من البرنامج (المخرجات والأهداف) ؟</a:t>
            </a:r>
            <a:endParaRPr b="0" lang="en-US" sz="32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يعرف المستفيدون من البرنامج ما هي أهدافه بوضوح؟</a:t>
            </a:r>
            <a:endParaRPr b="0" lang="en-US" sz="32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مدى جودة أداء ما يقوم به البرنام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أسئلة الأساسية للتقويم</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هي العملية المتبعة للتنفيذ؟</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هو مستوى الجودة التي يطمح إليها؟</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كيف يمكن قياس مستوى الجودة التي يراد تحقيقها؟</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كيف يمكن استخدام النتائج للتطوير والتحسين المستمرين؟</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تحققت الأهداف المرسوم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تحققت احتياجات المستفيدين من البرنامج؟</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العملية ناجحة؟</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 name=""/>
          <p:cNvGrpSpPr/>
          <p:nvPr/>
        </p:nvGrpSpPr>
        <p:grpSpPr>
          <a:xfrm>
            <a:off x="971640" y="476280"/>
            <a:ext cx="7416720" cy="5375160"/>
            <a:chOff x="971640" y="476280"/>
            <a:chExt cx="7416720" cy="5375160"/>
          </a:xfrm>
        </p:grpSpPr>
        <p:sp>
          <p:nvSpPr>
            <p:cNvPr id="53" name=""/>
            <p:cNvSpPr/>
            <p:nvPr/>
          </p:nvSpPr>
          <p:spPr>
            <a:xfrm>
              <a:off x="1116000" y="1343160"/>
              <a:ext cx="1895400" cy="86652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أساتذة</a:t>
              </a:r>
              <a:endParaRPr b="0" lang="en-US" sz="2400" spc="-1" strike="noStrike">
                <a:solidFill>
                  <a:srgbClr val="000000"/>
                </a:solidFill>
                <a:latin typeface="Arial"/>
              </a:endParaRPr>
            </a:p>
          </p:txBody>
        </p:sp>
        <p:sp>
          <p:nvSpPr>
            <p:cNvPr id="54" name=""/>
            <p:cNvSpPr/>
            <p:nvPr/>
          </p:nvSpPr>
          <p:spPr>
            <a:xfrm>
              <a:off x="3780000" y="476280"/>
              <a:ext cx="1896840" cy="86688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طلاب</a:t>
              </a:r>
              <a:endParaRPr b="0" lang="en-US" sz="2400" spc="-1" strike="noStrike">
                <a:solidFill>
                  <a:srgbClr val="000000"/>
                </a:solidFill>
                <a:latin typeface="Arial"/>
              </a:endParaRPr>
            </a:p>
          </p:txBody>
        </p:sp>
        <p:sp>
          <p:nvSpPr>
            <p:cNvPr id="55" name=""/>
            <p:cNvSpPr/>
            <p:nvPr/>
          </p:nvSpPr>
          <p:spPr>
            <a:xfrm>
              <a:off x="4694400" y="1343160"/>
              <a:ext cx="0" cy="69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492960" y="1343160"/>
              <a:ext cx="1893960" cy="86652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سوق العم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3197160" y="2036880"/>
              <a:ext cx="2844720" cy="1463400"/>
            </a:xfrm>
            <a:prstGeom prst="ellipse">
              <a:avLst/>
            </a:prstGeom>
            <a:solidFill>
              <a:srgbClr val="80808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أطراف المؤثرة في عملية التقويم الأكاديمي</a:t>
              </a:r>
              <a:endParaRPr b="0" lang="en-US" sz="2400" spc="-1" strike="noStrike">
                <a:solidFill>
                  <a:srgbClr val="000000"/>
                </a:solidFill>
                <a:latin typeface="Arial"/>
              </a:endParaRPr>
            </a:p>
          </p:txBody>
        </p:sp>
        <p:sp>
          <p:nvSpPr>
            <p:cNvPr id="58" name=""/>
            <p:cNvSpPr/>
            <p:nvPr/>
          </p:nvSpPr>
          <p:spPr>
            <a:xfrm>
              <a:off x="6492960" y="3424320"/>
              <a:ext cx="1895400" cy="101268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مسئولون الإداريون</a:t>
              </a:r>
              <a:endParaRPr b="0" lang="en-US" sz="2400" spc="-1" strike="noStrike">
                <a:solidFill>
                  <a:srgbClr val="000000"/>
                </a:solidFill>
                <a:latin typeface="Arial"/>
              </a:endParaRPr>
            </a:p>
          </p:txBody>
        </p:sp>
        <p:sp>
          <p:nvSpPr>
            <p:cNvPr id="59" name=""/>
            <p:cNvSpPr/>
            <p:nvPr/>
          </p:nvSpPr>
          <p:spPr>
            <a:xfrm>
              <a:off x="3635280" y="4138560"/>
              <a:ext cx="1900440" cy="96696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جهات الرسمية</a:t>
              </a:r>
              <a:endParaRPr b="0" lang="en-US" sz="2400" spc="-1" strike="noStrike">
                <a:solidFill>
                  <a:srgbClr val="000000"/>
                </a:solidFill>
                <a:latin typeface="Arial"/>
              </a:endParaRPr>
            </a:p>
          </p:txBody>
        </p:sp>
        <p:sp>
          <p:nvSpPr>
            <p:cNvPr id="60" name=""/>
            <p:cNvSpPr/>
            <p:nvPr/>
          </p:nvSpPr>
          <p:spPr>
            <a:xfrm>
              <a:off x="1116000" y="3459240"/>
              <a:ext cx="1895400" cy="97776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هيئات الاعتماد</a:t>
              </a:r>
              <a:endParaRPr b="0" lang="en-US" sz="2400" spc="-1" strike="noStrike">
                <a:solidFill>
                  <a:srgbClr val="000000"/>
                </a:solidFill>
                <a:latin typeface="Arial"/>
              </a:endParaRPr>
            </a:p>
          </p:txBody>
        </p:sp>
        <p:sp>
          <p:nvSpPr>
            <p:cNvPr id="61" name=""/>
            <p:cNvSpPr/>
            <p:nvPr/>
          </p:nvSpPr>
          <p:spPr>
            <a:xfrm flipV="1">
              <a:off x="2676600" y="3131640"/>
              <a:ext cx="671400" cy="43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849400" y="2036880"/>
              <a:ext cx="584280" cy="31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5971680" y="2036880"/>
              <a:ext cx="69372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flipV="1">
              <a:off x="5867280" y="3116160"/>
              <a:ext cx="798480" cy="48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4584600" y="3500280"/>
              <a:ext cx="0" cy="6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71640" y="5330880"/>
              <a:ext cx="7345440" cy="52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mohammad bold art 1"/>
                </a:rPr>
                <a:t>الأطراف المؤثرة في عملية التقويم الأكاديمي</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نهج التقويم</a:t>
            </a:r>
            <a:endParaRPr b="0" lang="en-US" sz="4400" spc="-1" strike="noStrike">
              <a:solidFill>
                <a:srgbClr val="000000"/>
              </a:solidFill>
              <a:latin typeface="Arial"/>
            </a:endParaRPr>
          </a:p>
        </p:txBody>
      </p:sp>
      <p:sp>
        <p:nvSpPr>
          <p:cNvPr id="68" name="PlaceHolder 2"/>
          <p:cNvSpPr>
            <a:spLocks noGrp="1"/>
          </p:cNvSpPr>
          <p:nvPr>
            <p:ph/>
          </p:nvPr>
        </p:nvSpPr>
        <p:spPr>
          <a:xfrm>
            <a:off x="457200" y="1484280"/>
            <a:ext cx="8229600" cy="4681440"/>
          </a:xfrm>
          <a:prstGeom prst="rect">
            <a:avLst/>
          </a:prstGeom>
          <a:noFill/>
          <a:ln w="0">
            <a:noFill/>
          </a:ln>
        </p:spPr>
        <p:txBody>
          <a:bodyPr lIns="90000" rIns="90000" tIns="46800" bIns="46800" anchor="t">
            <a:normAutofit fontScale="96000"/>
          </a:bodyPr>
          <a:p>
            <a:pPr marL="329040" indent="-32904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AL-Mohanad Bold"/>
              </a:rPr>
              <a:t>ما الذي يراد تقويمه؟</a:t>
            </a:r>
            <a:endParaRPr b="0" lang="en-US" sz="36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وهذا يتمثل في المخرجات التعليمية بعناصرها الأساسية الثلاثة التالية:</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L-Mohanad Bold"/>
              </a:rPr>
              <a:t>1</a:t>
            </a:r>
            <a:r>
              <a:rPr b="1" lang="ar-SA" sz="3200" spc="-1" strike="noStrike">
                <a:solidFill>
                  <a:srgbClr val="000000"/>
                </a:solidFill>
                <a:latin typeface="Arial"/>
                <a:ea typeface="AL-Mohanad Bold"/>
              </a:rPr>
              <a:t>- </a:t>
            </a:r>
            <a:r>
              <a:rPr b="1" lang="ar-SA" sz="3200" spc="-1" strike="noStrike">
                <a:solidFill>
                  <a:srgbClr val="333399"/>
                </a:solidFill>
                <a:latin typeface="Arial"/>
                <a:cs typeface="AL-Mohanad Bold"/>
              </a:rPr>
              <a:t>المعرفة:</a:t>
            </a:r>
            <a:r>
              <a:rPr b="1"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اذا يجب على الطلاب أن يتعلموه من علوم ومعارف</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L-Mohanad Bold"/>
              </a:rPr>
              <a:t>2</a:t>
            </a:r>
            <a:r>
              <a:rPr b="1" lang="ar-SA" sz="3200" spc="-1" strike="noStrike">
                <a:solidFill>
                  <a:srgbClr val="000000"/>
                </a:solidFill>
                <a:latin typeface="Arial"/>
                <a:ea typeface="AL-Mohanad Bold"/>
              </a:rPr>
              <a:t>- </a:t>
            </a:r>
            <a:r>
              <a:rPr b="1" lang="ar-SA" sz="3200" spc="-1" strike="noStrike">
                <a:solidFill>
                  <a:srgbClr val="333399"/>
                </a:solidFill>
                <a:latin typeface="Arial"/>
                <a:cs typeface="AL-Mohanad Bold"/>
              </a:rPr>
              <a:t>المهارات:</a:t>
            </a:r>
            <a:r>
              <a:rPr b="1"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ا المهارات الشخصية والوظيفية التي يجب على الطلاب إتقانها لنجاحهم في الحياة</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L-Mohanad Bold"/>
              </a:rPr>
              <a:t>3</a:t>
            </a:r>
            <a:r>
              <a:rPr b="1" lang="ar-SA" sz="3200" spc="-1" strike="noStrike">
                <a:solidFill>
                  <a:srgbClr val="000000"/>
                </a:solidFill>
                <a:latin typeface="Arial"/>
                <a:ea typeface="AL-Mohanad Bold"/>
              </a:rPr>
              <a:t>- </a:t>
            </a:r>
            <a:r>
              <a:rPr b="1" lang="ar-SA" sz="3200" spc="-1" strike="noStrike">
                <a:solidFill>
                  <a:srgbClr val="333399"/>
                </a:solidFill>
                <a:latin typeface="Arial"/>
                <a:cs typeface="AL-Mohanad Bold"/>
              </a:rPr>
              <a:t>القيم والأخلاق:</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ا القيم والأخلاقيات السلوكية والمهنية التي يجب على الطلاب تقديرها واحترامها في حياتهم</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نهج التقويم</a:t>
            </a:r>
            <a:endParaRPr b="0" lang="en-US" sz="4400" spc="-1" strike="noStrike">
              <a:solidFill>
                <a:srgbClr val="000000"/>
              </a:solidFill>
              <a:latin typeface="Arial"/>
            </a:endParaRPr>
          </a:p>
        </p:txBody>
      </p:sp>
      <p:sp>
        <p:nvSpPr>
          <p:cNvPr id="70" name=""/>
          <p:cNvSpPr/>
          <p:nvPr/>
        </p:nvSpPr>
        <p:spPr>
          <a:xfrm>
            <a:off x="3286080" y="5487840"/>
            <a:ext cx="25081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مثــلـث التعـــلم</a:t>
            </a:r>
            <a:endParaRPr b="0" lang="en-US" sz="3200" spc="-1" strike="noStrike">
              <a:solidFill>
                <a:srgbClr val="000000"/>
              </a:solidFill>
              <a:latin typeface="Arial"/>
            </a:endParaRPr>
          </a:p>
        </p:txBody>
      </p:sp>
      <p:sp>
        <p:nvSpPr>
          <p:cNvPr id="71" name=""/>
          <p:cNvSpPr/>
          <p:nvPr/>
        </p:nvSpPr>
        <p:spPr>
          <a:xfrm flipH="1">
            <a:off x="2728800" y="1494000"/>
            <a:ext cx="178776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516560" y="1494000"/>
            <a:ext cx="1836720" cy="346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2714400" y="4960800"/>
            <a:ext cx="362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347640" y="4187880"/>
            <a:ext cx="2289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مخرجات</a:t>
            </a:r>
            <a:r>
              <a:rPr b="0" lang="ar-SA" sz="1800" spc="-1" strike="noStrike">
                <a:solidFill>
                  <a:srgbClr val="000000"/>
                </a:solidFill>
                <a:latin typeface="Arial"/>
              </a:rPr>
              <a:t> </a:t>
            </a:r>
            <a:r>
              <a:rPr b="0" lang="ar-SA" sz="1800" spc="-1" strike="noStrike">
                <a:solidFill>
                  <a:srgbClr val="6666ff"/>
                </a:solidFill>
                <a:latin typeface="Arial"/>
              </a:rPr>
              <a:t>على مستوى</a:t>
            </a:r>
            <a:r>
              <a:rPr b="0" lang="ar-SA" sz="1800" spc="-1" strike="noStrike">
                <a:solidFill>
                  <a:srgbClr val="6666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66ff"/>
                </a:solidFill>
                <a:latin typeface="Arial"/>
              </a:rPr>
              <a:t>المواد الدراسية</a:t>
            </a:r>
            <a:endParaRPr b="0" lang="en-US" sz="1800" spc="-1" strike="noStrike">
              <a:solidFill>
                <a:srgbClr val="000000"/>
              </a:solidFill>
              <a:latin typeface="Arial"/>
            </a:endParaRPr>
          </a:p>
        </p:txBody>
      </p:sp>
      <p:sp>
        <p:nvSpPr>
          <p:cNvPr id="75" name=""/>
          <p:cNvSpPr/>
          <p:nvPr/>
        </p:nvSpPr>
        <p:spPr>
          <a:xfrm>
            <a:off x="3603600" y="3294000"/>
            <a:ext cx="180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مخرجات على مستوى </a:t>
            </a:r>
            <a:r>
              <a:rPr b="1" lang="ar-SA" sz="1800" spc="-1" strike="noStrike">
                <a:solidFill>
                  <a:srgbClr val="6666ff"/>
                </a:solidFill>
                <a:latin typeface="Arial"/>
              </a:rPr>
              <a:t>البرنامج الأكاديمي</a:t>
            </a:r>
            <a:endParaRPr b="0" lang="en-US" sz="1800" spc="-1" strike="noStrike">
              <a:solidFill>
                <a:srgbClr val="000000"/>
              </a:solidFill>
              <a:latin typeface="Arial"/>
            </a:endParaRPr>
          </a:p>
        </p:txBody>
      </p:sp>
      <p:sp>
        <p:nvSpPr>
          <p:cNvPr id="76" name=""/>
          <p:cNvSpPr/>
          <p:nvPr/>
        </p:nvSpPr>
        <p:spPr>
          <a:xfrm>
            <a:off x="3759120" y="2205000"/>
            <a:ext cx="156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مخرجات</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على مستوى</a:t>
            </a:r>
            <a:r>
              <a:rPr b="0" lang="ar-SA" sz="1800" spc="-1" strike="noStrike">
                <a:solidFill>
                  <a:srgbClr val="6666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66ff"/>
                </a:solidFill>
                <a:latin typeface="Arial"/>
              </a:rPr>
              <a:t>المؤسسة التعليمية</a:t>
            </a:r>
            <a:endParaRPr b="0" lang="en-US" sz="1800" spc="-1" strike="noStrike">
              <a:solidFill>
                <a:srgbClr val="000000"/>
              </a:solidFill>
              <a:latin typeface="Arial"/>
            </a:endParaRPr>
          </a:p>
        </p:txBody>
      </p:sp>
      <p:sp>
        <p:nvSpPr>
          <p:cNvPr id="77" name=""/>
          <p:cNvSpPr/>
          <p:nvPr/>
        </p:nvSpPr>
        <p:spPr>
          <a:xfrm rot="12502200">
            <a:off x="2934000" y="2261160"/>
            <a:ext cx="546120" cy="2041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المهــــــارات</a:t>
            </a:r>
            <a:endParaRPr b="0" lang="en-US" sz="2400" spc="-1" strike="noStrike">
              <a:solidFill>
                <a:srgbClr val="000000"/>
              </a:solidFill>
              <a:latin typeface="Arial"/>
            </a:endParaRPr>
          </a:p>
        </p:txBody>
      </p:sp>
      <p:sp>
        <p:nvSpPr>
          <p:cNvPr id="78" name=""/>
          <p:cNvSpPr/>
          <p:nvPr/>
        </p:nvSpPr>
        <p:spPr>
          <a:xfrm rot="3796200">
            <a:off x="4658400" y="3147120"/>
            <a:ext cx="231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القيم والأخلاق</a:t>
            </a:r>
            <a:endParaRPr b="0" lang="en-US" sz="2400" spc="-1" strike="noStrike">
              <a:solidFill>
                <a:srgbClr val="000000"/>
              </a:solidFill>
              <a:latin typeface="Arial"/>
            </a:endParaRPr>
          </a:p>
        </p:txBody>
      </p:sp>
      <p:sp>
        <p:nvSpPr>
          <p:cNvPr id="79" name=""/>
          <p:cNvSpPr/>
          <p:nvPr/>
        </p:nvSpPr>
        <p:spPr>
          <a:xfrm>
            <a:off x="3868560" y="497988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المعارف</a:t>
            </a:r>
            <a:endParaRPr b="0" lang="en-US" sz="2400" spc="-1" strike="noStrike">
              <a:solidFill>
                <a:srgbClr val="000000"/>
              </a:solidFill>
              <a:latin typeface="Arial"/>
            </a:endParaRPr>
          </a:p>
        </p:txBody>
      </p:sp>
      <p:sp>
        <p:nvSpPr>
          <p:cNvPr id="80" name=""/>
          <p:cNvSpPr/>
          <p:nvPr/>
        </p:nvSpPr>
        <p:spPr>
          <a:xfrm>
            <a:off x="3137040" y="4159080"/>
            <a:ext cx="278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676680" y="3137040"/>
            <a:ext cx="170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516560" y="1484280"/>
            <a:ext cx="183672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2714400" y="4951440"/>
            <a:ext cx="362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714400" y="1494000"/>
            <a:ext cx="178740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502160" y="1484280"/>
            <a:ext cx="183672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700360" y="4951440"/>
            <a:ext cx="362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2714760" y="1484280"/>
            <a:ext cx="3638520" cy="3477960"/>
            <a:chOff x="2714760" y="1484280"/>
            <a:chExt cx="3638520" cy="3477960"/>
          </a:xfrm>
        </p:grpSpPr>
        <p:sp>
          <p:nvSpPr>
            <p:cNvPr id="88" name=""/>
            <p:cNvSpPr/>
            <p:nvPr/>
          </p:nvSpPr>
          <p:spPr>
            <a:xfrm flipH="1">
              <a:off x="2728800" y="1493640"/>
              <a:ext cx="178740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516560" y="1484280"/>
              <a:ext cx="1836720" cy="346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2714760" y="4951080"/>
              <a:ext cx="362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22:57:35Z</dcterms:created>
  <dc:creator>Naif Badawi</dc:creator>
  <dc:description/>
  <dc:language>en-US</dc:language>
  <cp:lastModifiedBy>ITC/ACS</cp:lastModifiedBy>
  <dcterms:modified xsi:type="dcterms:W3CDTF">2005-01-29T10:54:03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11188990</vt:r8>
  </property>
  <property fmtid="{D5CDD505-2E9C-101B-9397-08002B2CF9AE}" pid="3" name="_AuthorEmail">
    <vt:lpwstr>alhomoud@kfupm.edu.sa</vt:lpwstr>
  </property>
  <property fmtid="{D5CDD505-2E9C-101B-9397-08002B2CF9AE}" pid="4" name="_AuthorEmailDisplayName">
    <vt:lpwstr>Dr. Al-Homoud</vt:lpwstr>
  </property>
  <property fmtid="{D5CDD505-2E9C-101B-9397-08002B2CF9AE}" pid="5" name="_EmailSubject">
    <vt:lpwstr>عرض د. محمد آل حمود</vt:lpwstr>
  </property>
</Properties>
</file>