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9A197-FAEB-4077-B575-F9268A772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0EAD8-ABB3-44F5-BB27-93A4C36D7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73937-BEC5-4A40-B371-6D2EB4328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0FBC6-3B41-4C42-937A-5DDBCCED6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EC018-FA93-414D-9341-B064B57DB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1BA88-DAB3-43BB-8E0C-C30AA8E0B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155B9-B431-4ABA-90AA-601D87AE8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197AB-9AA2-487C-BB4C-E6B42CCA3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A1239-26F7-4353-9100-4C7D6C893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96E07-4285-4934-9CC2-E602C44AC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EE18C-A160-4497-A1F8-AD90AE2F6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95738-AE6D-477B-AD00-6BD3133A1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866E-2D84-4444-9208-7B9F83955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alhomoud@kfupm.edu.s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fupm.edu.sa/dad/" TargetMode="External"/><Relationship Id="rId3" Type="http://schemas.openxmlformats.org/officeDocument/2006/relationships/hyperlink" Target="http://www.kfupm.edu.sa/dad/" TargetMode="External"/><Relationship Id="rId4" Type="http://schemas.openxmlformats.org/officeDocument/2006/relationships/hyperlink" Target="http://www.kfupm.edu.sa/dad/"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fontScale="88000"/>
          </a:bodyPr>
          <a:p>
            <a:pPr marL="3016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دور التقويم الذاتي للبرامج في</a:t>
            </a:r>
            <a:endParaRPr b="0" lang="en-US" sz="4400" spc="-1" strike="noStrike">
              <a:solidFill>
                <a:srgbClr val="000000"/>
              </a:solidFill>
              <a:latin typeface="Arial"/>
            </a:endParaRPr>
          </a:p>
          <a:p>
            <a:pPr marL="3016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تحقيق الجودة</a:t>
            </a:r>
            <a:r>
              <a:rPr b="1" lang="en-US" sz="4400" spc="-1" strike="noStrike">
                <a:solidFill>
                  <a:srgbClr val="ff0066"/>
                </a:solidFill>
                <a:latin typeface="Arial"/>
                <a:ea typeface="mohammad bold art 1"/>
              </a:rPr>
              <a:t> </a:t>
            </a:r>
            <a:r>
              <a:rPr b="1" lang="ar-SA" sz="4400" spc="-1" strike="noStrike">
                <a:solidFill>
                  <a:srgbClr val="ff0066"/>
                </a:solidFill>
                <a:latin typeface="Arial"/>
                <a:cs typeface="mohammad bold art 1"/>
              </a:rPr>
              <a:t>في مخرجات التعليم</a:t>
            </a:r>
            <a:r>
              <a:rPr b="1" lang="en-US" sz="4000" spc="-1" strike="noStrike">
                <a:solidFill>
                  <a:srgbClr val="ff0066"/>
                </a:solidFill>
                <a:latin typeface="Arial"/>
                <a:ea typeface="mohammad bold art 1"/>
              </a:rPr>
              <a:t> </a:t>
            </a:r>
            <a:endParaRPr b="0" lang="en-US" sz="40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د. محمد بن سعد آل حمود</a:t>
            </a:r>
            <a:endParaRPr b="0" lang="en-US" sz="32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مدير مركز تقويم البرامج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عمادة التطوير الأكاديمي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جامعة الملك فهد للبترول والمعادن</a:t>
            </a:r>
            <a:endParaRPr b="0" lang="en-US" sz="2400" spc="-1" strike="noStrike">
              <a:solidFill>
                <a:srgbClr val="000000"/>
              </a:solidFill>
              <a:latin typeface="Arial"/>
            </a:endParaRPr>
          </a:p>
          <a:p>
            <a:pPr marL="3016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الظهران </a:t>
            </a:r>
            <a:r>
              <a:rPr b="0" lang="ar-SA" sz="1800" spc="-1" strike="noStrike">
                <a:solidFill>
                  <a:srgbClr val="333399"/>
                </a:solidFill>
                <a:latin typeface="Arial"/>
                <a:ea typeface="AL-Mohanad Bold"/>
              </a:rPr>
              <a:t>31261</a:t>
            </a:r>
            <a:endParaRPr b="0" lang="en-US" sz="18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ea typeface="AL-Mohanad Bold"/>
                <a:hlinkClick r:id="rId2"/>
              </a:rPr>
              <a:t>alhomoud@kfupm.edu.sa</a:t>
            </a: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92"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ن أو ما الذي يراد تقويمه؟</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a:t>
            </a:r>
            <a:r>
              <a:rPr b="0" lang="ar-SA" sz="3200" spc="-1" strike="noStrike">
                <a:solidFill>
                  <a:srgbClr val="000000"/>
                </a:solidFill>
                <a:latin typeface="Arial"/>
                <a:cs typeface="AL-Mohanad Bold"/>
              </a:rPr>
              <a:t>الطلاب</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أساتذ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واد الدراسي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برنامج الأكاديمي</a:t>
            </a:r>
            <a:endParaRPr b="0" lang="en-US" sz="3200" spc="-1" strike="noStrike">
              <a:solidFill>
                <a:srgbClr val="000000"/>
              </a:solidFill>
              <a:latin typeface="Arial"/>
            </a:endParaRPr>
          </a:p>
          <a:p>
            <a:pPr lvl="1" marL="743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L-Mohanad Bold"/>
              </a:rPr>
              <a:t> </a:t>
            </a:r>
            <a:endParaRPr b="0" lang="en-US" sz="1600" spc="-1" strike="noStrike">
              <a:solidFill>
                <a:srgbClr val="000000"/>
              </a:solidFill>
              <a:latin typeface="Arial"/>
            </a:endParaRPr>
          </a:p>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غرض من التقويم؟</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طوير والتحس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دراك لأهميتها والالتزام بدعمها من قبل الأطراف المعن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جهات المستفيدة من مخرجات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الجامعة (المؤسسة التعليمية) ورسالة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أهداف التعليمية للبرنامج والتي تتوافق مع رسالته ورسالة المؤسسة التعليم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مخرجات التعليمية المتوخاة (المتوقعة) للبرنام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6" name="PlaceHolder 2"/>
          <p:cNvSpPr>
            <a:spLocks noGrp="1"/>
          </p:cNvSpPr>
          <p:nvPr>
            <p:ph/>
          </p:nvPr>
        </p:nvSpPr>
        <p:spPr>
          <a:xfrm>
            <a:off x="394920" y="1628280"/>
            <a:ext cx="8373960" cy="3961080"/>
          </a:xfrm>
          <a:prstGeom prst="rect">
            <a:avLst/>
          </a:prstGeom>
          <a:noFill/>
          <a:ln w="0">
            <a:noFill/>
          </a:ln>
        </p:spPr>
        <p:txBody>
          <a:bodyPr lIns="90000" rIns="90000" tIns="46800" bIns="46800"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endParaRPr b="0" lang="en-US" sz="24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عايير قياس الأداء</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وسائل المناسبة لقياس الأهداف والمخرجات التعليمية </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جمع المعلومات اللازمة</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ركيز على المخرجات (مدى إعداد الخريجين للعمل المهني)</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يجاد الأدلة والبراهين على مدى تحقيق الأهداف والمخرجات</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عانة بمراجعة خارجية محايدة للنتائ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r>
              <a:rPr b="1" lang="ar-SA" sz="3200" spc="-1" strike="noStrike">
                <a:solidFill>
                  <a:srgbClr val="333399"/>
                </a:solidFill>
                <a:latin typeface="Arial"/>
                <a:ea typeface="AL-Mohanad Bold"/>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جوانب القوة للمحافظة عليها وجوانب الضعف لتعزيزها والخطوات اللازمة لتحقيق ذلك</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خطة لتطبيق نتائج التقويم والخطوات اللازمة للتصحيح والتطوير وتطبيقها</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تابعة والتقييم لنتائج التطوير</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hanad Bold"/>
              </a:rPr>
              <a:t> </a:t>
            </a:r>
            <a:r>
              <a:rPr b="0" lang="ar-SA" sz="3200" spc="-1" strike="noStrike">
                <a:solidFill>
                  <a:srgbClr val="000000"/>
                </a:solidFill>
                <a:latin typeface="Arial"/>
                <a:cs typeface="AL-Mohanad Bold"/>
              </a:rPr>
              <a:t>إعادة العملية والاستمرارية ف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250560" y="260280"/>
            <a:ext cx="8462880" cy="5769000"/>
            <a:chOff x="250560" y="260280"/>
            <a:chExt cx="8462880" cy="5769000"/>
          </a:xfrm>
        </p:grpSpPr>
        <p:sp>
          <p:nvSpPr>
            <p:cNvPr id="100" name=""/>
            <p:cNvSpPr/>
            <p:nvPr/>
          </p:nvSpPr>
          <p:spPr>
            <a:xfrm>
              <a:off x="369720" y="1486080"/>
              <a:ext cx="946440" cy="86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خبرة ما قبل الجامعة</a:t>
              </a:r>
              <a:endParaRPr b="0" lang="en-US" sz="1400" spc="-1" strike="noStrike">
                <a:solidFill>
                  <a:srgbClr val="000000"/>
                </a:solidFill>
                <a:latin typeface="Arial"/>
              </a:endParaRPr>
            </a:p>
          </p:txBody>
        </p:sp>
        <p:sp>
          <p:nvSpPr>
            <p:cNvPr id="101" name=""/>
            <p:cNvSpPr/>
            <p:nvPr/>
          </p:nvSpPr>
          <p:spPr>
            <a:xfrm>
              <a:off x="2911680" y="260280"/>
              <a:ext cx="1325880" cy="12970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6058440" y="1554120"/>
              <a:ext cx="94788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مخرجات التعليمية</a:t>
              </a:r>
              <a:endParaRPr b="0" lang="en-US" sz="1400" spc="-1" strike="noStrike">
                <a:solidFill>
                  <a:srgbClr val="000000"/>
                </a:solidFill>
                <a:latin typeface="Arial"/>
              </a:endParaRPr>
            </a:p>
          </p:txBody>
        </p:sp>
        <p:sp>
          <p:nvSpPr>
            <p:cNvPr id="103" name=""/>
            <p:cNvSpPr/>
            <p:nvPr/>
          </p:nvSpPr>
          <p:spPr>
            <a:xfrm>
              <a:off x="7481880" y="1554120"/>
              <a:ext cx="106524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أهداف التعليمية</a:t>
              </a:r>
              <a:endParaRPr b="0" lang="en-US" sz="1400" spc="-1" strike="noStrike">
                <a:solidFill>
                  <a:srgbClr val="000000"/>
                </a:solidFill>
                <a:latin typeface="Arial"/>
              </a:endParaRPr>
            </a:p>
          </p:txBody>
        </p:sp>
        <p:sp>
          <p:nvSpPr>
            <p:cNvPr id="104" name=""/>
            <p:cNvSpPr/>
            <p:nvPr/>
          </p:nvSpPr>
          <p:spPr>
            <a:xfrm>
              <a:off x="1579680" y="1413000"/>
              <a:ext cx="1398240" cy="995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907360" y="2278080"/>
              <a:ext cx="1540080" cy="14032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237920" y="1440000"/>
              <a:ext cx="1607760" cy="968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317960" y="1919160"/>
              <a:ext cx="26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flipV="1">
              <a:off x="2978280" y="1917720"/>
              <a:ext cx="1259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5775120" y="1917720"/>
              <a:ext cx="2833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
            <p:cNvSpPr/>
            <p:nvPr/>
          </p:nvSpPr>
          <p:spPr>
            <a:xfrm>
              <a:off x="7006680" y="1919160"/>
              <a:ext cx="474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flipV="1">
              <a:off x="5585400" y="2163240"/>
              <a:ext cx="47304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585400" y="820800"/>
              <a:ext cx="473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237920" y="820800"/>
              <a:ext cx="134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4447440" y="2895480"/>
              <a:ext cx="113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4167000" y="1197000"/>
              <a:ext cx="419040" cy="2890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2628360" y="1211040"/>
              <a:ext cx="381960" cy="2746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768400" y="2278080"/>
              <a:ext cx="279000" cy="2872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307040" y="2349360"/>
              <a:ext cx="279000" cy="21600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436400" y="3749760"/>
              <a:ext cx="5807880" cy="14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flipH="1">
              <a:off x="250560" y="3749760"/>
              <a:ext cx="1185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7282800" y="3770280"/>
              <a:ext cx="1421280" cy="18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143640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4464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665560" y="2041560"/>
              <a:ext cx="47880" cy="2955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523240" y="5229360"/>
              <a:ext cx="3760200" cy="36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خبرة التعليمية خلال الدراسة الجامعية</a:t>
              </a:r>
              <a:endParaRPr b="0" lang="en-US" sz="2000" spc="-1" strike="noStrike">
                <a:solidFill>
                  <a:srgbClr val="000000"/>
                </a:solidFill>
                <a:latin typeface="Arial"/>
              </a:endParaRPr>
            </a:p>
          </p:txBody>
        </p:sp>
        <p:sp>
          <p:nvSpPr>
            <p:cNvPr id="126" name=""/>
            <p:cNvSpPr/>
            <p:nvPr/>
          </p:nvSpPr>
          <p:spPr>
            <a:xfrm>
              <a:off x="7349040" y="4941720"/>
              <a:ext cx="1304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بعد الجامعة</a:t>
              </a:r>
              <a:endParaRPr b="0" lang="en-US" sz="2000" spc="-1" strike="noStrike">
                <a:solidFill>
                  <a:srgbClr val="000000"/>
                </a:solidFill>
                <a:latin typeface="Arial"/>
              </a:endParaRPr>
            </a:p>
          </p:txBody>
        </p:sp>
        <p:sp>
          <p:nvSpPr>
            <p:cNvPr id="127" name=""/>
            <p:cNvSpPr/>
            <p:nvPr/>
          </p:nvSpPr>
          <p:spPr>
            <a:xfrm>
              <a:off x="250920" y="4941720"/>
              <a:ext cx="118548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قبل الجامعة</a:t>
              </a:r>
              <a:endParaRPr b="0" lang="en-US" sz="2000" spc="-1" strike="noStrike">
                <a:solidFill>
                  <a:srgbClr val="000000"/>
                </a:solidFill>
                <a:latin typeface="Arial"/>
              </a:endParaRPr>
            </a:p>
          </p:txBody>
        </p:sp>
        <p:sp>
          <p:nvSpPr>
            <p:cNvPr id="128" name=""/>
            <p:cNvSpPr/>
            <p:nvPr/>
          </p:nvSpPr>
          <p:spPr>
            <a:xfrm>
              <a:off x="2628360" y="3871800"/>
              <a:ext cx="3427200" cy="611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مخرجات التعليمية</a:t>
              </a:r>
              <a:endParaRPr b="0" lang="en-US" sz="2000" spc="-1" strike="noStrike">
                <a:solidFill>
                  <a:srgbClr val="000000"/>
                </a:solidFill>
                <a:latin typeface="Arial"/>
              </a:endParaRPr>
            </a:p>
          </p:txBody>
        </p:sp>
        <p:sp>
          <p:nvSpPr>
            <p:cNvPr id="129" name=""/>
            <p:cNvSpPr/>
            <p:nvPr/>
          </p:nvSpPr>
          <p:spPr>
            <a:xfrm>
              <a:off x="7349040" y="3860640"/>
              <a:ext cx="1258200" cy="935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أهداف التعليمية</a:t>
              </a:r>
              <a:endParaRPr b="0" lang="en-US" sz="2000" spc="-1" strike="noStrike">
                <a:solidFill>
                  <a:srgbClr val="000000"/>
                </a:solidFill>
                <a:latin typeface="Arial"/>
              </a:endParaRPr>
            </a:p>
          </p:txBody>
        </p:sp>
        <p:sp>
          <p:nvSpPr>
            <p:cNvPr id="130" name=""/>
            <p:cNvSpPr/>
            <p:nvPr/>
          </p:nvSpPr>
          <p:spPr>
            <a:xfrm>
              <a:off x="1160640" y="5661000"/>
              <a:ext cx="6362640" cy="3682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ea typeface="mohammad bold art 1"/>
                </a:rPr>
                <a:t> العوامل التعليمية والبيئية المؤثرة في تعلم وشخصية الطالب </a:t>
              </a:r>
              <a:endParaRPr b="0" lang="en-US" sz="2400" spc="-1" strike="noStrike">
                <a:solidFill>
                  <a:srgbClr val="000000"/>
                </a:solidFill>
                <a:latin typeface="Arial"/>
              </a:endParaRPr>
            </a:p>
          </p:txBody>
        </p:sp>
        <p:sp>
          <p:nvSpPr>
            <p:cNvPr id="131" name=""/>
            <p:cNvSpPr/>
            <p:nvPr/>
          </p:nvSpPr>
          <p:spPr>
            <a:xfrm>
              <a:off x="2873520" y="344520"/>
              <a:ext cx="1188720" cy="13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نهج:</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مواد 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واد العامة</a:t>
              </a:r>
              <a:endParaRPr b="0" lang="en-US" sz="1400" spc="-1" strike="noStrike">
                <a:solidFill>
                  <a:srgbClr val="000000"/>
                </a:solidFill>
                <a:latin typeface="Arial"/>
              </a:endParaRPr>
            </a:p>
          </p:txBody>
        </p:sp>
        <p:sp>
          <p:nvSpPr>
            <p:cNvPr id="132" name=""/>
            <p:cNvSpPr/>
            <p:nvPr/>
          </p:nvSpPr>
          <p:spPr>
            <a:xfrm>
              <a:off x="4302720" y="1504800"/>
              <a:ext cx="146772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خارج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عمل التعاوني</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دريب الصيفي</a:t>
              </a:r>
              <a:endParaRPr b="0" lang="en-US" sz="1400" spc="-1" strike="noStrike">
                <a:solidFill>
                  <a:srgbClr val="000000"/>
                </a:solidFill>
                <a:latin typeface="Arial"/>
              </a:endParaRPr>
            </a:p>
          </p:txBody>
        </p:sp>
        <p:sp>
          <p:nvSpPr>
            <p:cNvPr id="133" name=""/>
            <p:cNvSpPr/>
            <p:nvPr/>
          </p:nvSpPr>
          <p:spPr>
            <a:xfrm>
              <a:off x="1547640" y="1486080"/>
              <a:ext cx="1467720" cy="1159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بيئة المحيط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جامع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اجتماعية</a:t>
              </a:r>
              <a:endParaRPr b="0" lang="en-US" sz="1400" spc="-1" strike="noStrike">
                <a:solidFill>
                  <a:srgbClr val="000000"/>
                </a:solidFill>
                <a:latin typeface="Arial"/>
              </a:endParaRPr>
            </a:p>
          </p:txBody>
        </p:sp>
        <p:sp>
          <p:nvSpPr>
            <p:cNvPr id="134" name=""/>
            <p:cNvSpPr/>
            <p:nvPr/>
          </p:nvSpPr>
          <p:spPr>
            <a:xfrm>
              <a:off x="2908800" y="2503440"/>
              <a:ext cx="153864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داخل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طرق التدريس</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أساتذ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دمات المتوفرة</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مركز تقويم البرامج بالجامعة</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تولى مركز تقويم البرامج بعمادة التطوير الأكاديمي تنسيق وتخطيط ومتابعة فعاليات التقويم الذاتي لبرامج الجامعة المختلفة</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رسالة المركز:</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ر ثقافة التقويم الذاتي في الجامعة بهدف تحقيق أعلى مستويات الجودة في برامجها بما يواكب المستجدات التقنية العالمية ويحقق متطلبات سوق العمل المحلية في ضوء قيمنا الإسلامي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8" name="PlaceHolder 2"/>
          <p:cNvSpPr>
            <a:spLocks noGrp="1"/>
          </p:cNvSpPr>
          <p:nvPr>
            <p:ph/>
          </p:nvPr>
        </p:nvSpPr>
        <p:spPr>
          <a:xfrm>
            <a:off x="324000" y="1600200"/>
            <a:ext cx="8424720" cy="4525920"/>
          </a:xfrm>
          <a:prstGeom prst="rect">
            <a:avLst/>
          </a:prstGeom>
          <a:noFill/>
          <a:ln w="0">
            <a:noFill/>
          </a:ln>
        </p:spPr>
        <p:txBody>
          <a:bodyPr lIns="90000" rIns="90000" tIns="46800" bIns="46800" anchor="t">
            <a:normAutofit fontScale="88000"/>
          </a:bodyPr>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ea typeface="AL-Mohanad Bold"/>
              </a:rPr>
              <a:t> </a:t>
            </a:r>
            <a:r>
              <a:rPr b="1" lang="ar-SA" sz="3200" spc="-1" strike="noStrike">
                <a:solidFill>
                  <a:srgbClr val="333399"/>
                </a:solidFill>
                <a:latin typeface="Arial"/>
                <a:cs typeface="mohammad bold art 1"/>
              </a:rPr>
              <a:t>أهداف التقويم الذاتي للبرامج بالجامعة:</a:t>
            </a:r>
            <a:endParaRPr b="0" lang="en-US" sz="3200" spc="-1" strike="noStrike">
              <a:solidFill>
                <a:srgbClr val="000000"/>
              </a:solidFill>
              <a:latin typeface="Arial"/>
            </a:endParaRPr>
          </a:p>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ea typeface="mohammad bold art 1"/>
              </a:rPr>
              <a:t> </a:t>
            </a:r>
            <a:r>
              <a:rPr b="0" lang="ar-SA" sz="3200" spc="-1" strike="noStrike">
                <a:solidFill>
                  <a:srgbClr val="000000"/>
                </a:solidFill>
                <a:latin typeface="Arial"/>
                <a:cs typeface="AL-Mohanad Bold"/>
              </a:rPr>
              <a:t>تتمثل أهداف التقويم الذاتي للبرامج في الجامعة في ما يلي: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حافظة على المعايير الأكاديمية وتطويرها</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عزيز تعلم الطلاب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حقق من توافق البرامج التعليمية مع أهدافها المطروح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 لضمان كفاءة البرامج الأكاديمي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البرامج الأكاديمية للاعتم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معايير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أول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رسالة البرنامج ، أهدافه  ومخرجاته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ني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صميم وتنظيم المنهج الدراس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لث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ختبرات ومرافق الحاسب الآل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ر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دعم وإرشاد الطلاب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خام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أعضاء هيئة التدريس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د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تحكم في الإجراءات</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افق المؤسسية</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من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دعم المؤسس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2" name="PlaceHolder 2"/>
          <p:cNvSpPr>
            <a:spLocks noGrp="1"/>
          </p:cNvSpPr>
          <p:nvPr>
            <p:ph/>
          </p:nvPr>
        </p:nvSpPr>
        <p:spPr>
          <a:xfrm>
            <a:off x="468360" y="1773000"/>
            <a:ext cx="8229600" cy="4319640"/>
          </a:xfrm>
          <a:prstGeom prst="rect">
            <a:avLst/>
          </a:prstGeom>
          <a:noFill/>
          <a:ln w="0">
            <a:noFill/>
          </a:ln>
        </p:spPr>
        <p:txBody>
          <a:bodyPr lIns="90000" rIns="90000" tIns="46800" bIns="46800" anchor="t">
            <a:normAutofit fontScale="85000"/>
          </a:bodyPr>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طلب لوائح التقويم بالجامعة أن يتم تقويم كل برامجها الأكاديمية مرة واحدة كل خمس سنوات (دورة التقويم).</a:t>
            </a:r>
            <a:endParaRPr b="0" lang="en-US" sz="3200" spc="-1" strike="noStrike">
              <a:solidFill>
                <a:srgbClr val="000000"/>
              </a:solidFill>
              <a:latin typeface="Arial"/>
            </a:endParaRPr>
          </a:p>
          <a:p>
            <a:pPr marL="51804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وتتمثل خطوات تنفيذ التقويم الذاتي فيما يلي: </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علن مركز تقويم البرامج بعمادة التطوير الأكاديمي بدء عملية التقويم قبل فصل دراسي واحد من دورة التقويم.</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2</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شكل القسم المعني فريق تمثيل البرنامج لإعداد تقرير التقويم الذاتي.</a:t>
            </a:r>
            <a:r>
              <a:rPr b="0" lang="ar-SA"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3</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راجع مركز تقويم البرامج تقرير التقويم الذاتي خلا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شهر واحد من استلامه للتأكد من اكتماله.</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4</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شكل مركز تقويم البرامج فريق تقويم ال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التنسيق مع عميد التطوير الأكاديمي ووكي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جامعة للشؤؤن الأكاديمية.</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5</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تخطيط وجدولة 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زيارة لفريق التقوي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ا هو التقويم؟</a:t>
            </a:r>
            <a:r>
              <a:rPr b="1" lang="ar-SA" sz="4800" spc="-1" strike="noStrike">
                <a:solidFill>
                  <a:srgbClr val="ff0066"/>
                </a:solidFill>
                <a:latin typeface="Arial"/>
                <a:ea typeface="AL-Mohanad Bold"/>
              </a:rPr>
              <a:t> </a:t>
            </a:r>
            <a:endParaRPr b="0" lang="en-US" sz="4800" spc="-1" strike="noStrike">
              <a:solidFill>
                <a:srgbClr val="000000"/>
              </a:solidFill>
              <a:latin typeface="Arial"/>
            </a:endParaRPr>
          </a:p>
        </p:txBody>
      </p:sp>
      <p:sp>
        <p:nvSpPr>
          <p:cNvPr id="4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fontScale="92000"/>
          </a:bodyPr>
          <a:p>
            <a:pPr marL="560520" indent="-56052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لتقويم عملية مستمرة تعنى بجمع المعلومات وتحليلها بشكل دوري للتعرف على مواطن القوة والضعف بهدف تحسين الأداء وتمثل أساساً للتطوير وضمان الجودة.</a:t>
            </a:r>
            <a:r>
              <a:rPr b="0" lang="en-US" sz="3600" spc="-1" strike="noStrike">
                <a:solidFill>
                  <a:srgbClr val="000000"/>
                </a:solidFill>
                <a:latin typeface="Arial"/>
                <a:ea typeface="AL-Mohanad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6</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مثل مهمة فريق التقويم في تنفيذ عملية التقويم وكتابة التقرير وتقديم نتائجه في الاجتماع النهائي الذي يحضره المسئولين في الجامعة وأعضاء هيئة التدريس في البرنامج المعني.</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7</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عد مركز تقويم البرامج تقريرا تنفيذيا لمدير الجامعة حول نتائج عملية التقويم.</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8</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القسم بإعداد خطة للتنفيذ تعتمد على نتائج وتوصيات فريق التقو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8" name="PlaceHolder 2"/>
          <p:cNvSpPr>
            <a:spLocks noGrp="1"/>
          </p:cNvSpPr>
          <p:nvPr>
            <p:ph/>
          </p:nvPr>
        </p:nvSpPr>
        <p:spPr>
          <a:xfrm>
            <a:off x="468360" y="1773000"/>
            <a:ext cx="8229600" cy="3816360"/>
          </a:xfrm>
          <a:prstGeom prst="rect">
            <a:avLst/>
          </a:prstGeom>
          <a:noFill/>
          <a:ln w="0">
            <a:noFill/>
          </a:ln>
        </p:spPr>
        <p:txBody>
          <a:bodyPr lIns="90000" rIns="90000" tIns="46800" bIns="46800"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9</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شمل الخطة قائمة بالخطوات المراد عملها وتحديد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ه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لهذه الخطوات والوقت المحدد لها </a:t>
            </a:r>
            <a:endParaRPr b="0" lang="en-US" sz="3200" spc="-1" strike="noStrike">
              <a:solidFill>
                <a:srgbClr val="000000"/>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0</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عمادة التطوير الأكاديمي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مراجعة عملية التنفيذ في كل عام دراسي. كما يقو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كز بمتابعة خطة التنفيذ حتى يتأكد أن الأقس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لتزمة بتنفيذ الخطة التطوير حسب نتائج التقويم.</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333399"/>
                </a:solidFill>
                <a:latin typeface="Arial"/>
                <a:cs typeface="AL-Mohanad Bold"/>
              </a:rPr>
              <a:t>تتلخص أهم عوامل نجاح عملية التقويم الأكاديمي في تحقيق أعلى معايير الجودة التعليم العالي فيما يلي:</a:t>
            </a:r>
            <a:endParaRPr b="0" lang="en-US" sz="3200" spc="-1" strike="noStrike">
              <a:solidFill>
                <a:srgbClr val="000000"/>
              </a:solidFill>
              <a:latin typeface="Arial"/>
            </a:endParaRPr>
          </a:p>
          <a:p>
            <a:pPr marL="31536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دراك أهمية التقويم والالتزام بها من قبل جميع المسئولين والمعنيين في المؤسسة التعليمي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وأهداف واضحة للمؤسسة التعليمية وبرامجها</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خرجات تعليمية للبرنامج وربطها بأهدافه ورسال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شاركة من قبل كل المعني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فاعل مع الأصوات المختلفة والاستجابة للمفيد من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نفيذ خطوات التطوير والتحسين ومتابعت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ربط التقويم بالحياة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نهجية في جمع وتحليل وعرض النتائج</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حتفاظ بسجل النتائج مع الوق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سؤو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وفر الموارد اللازم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كافأة لمن يستحق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مرارية والمرو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مراجع</a:t>
            </a:r>
            <a:r>
              <a:rPr b="0" lang="ar-SA" sz="4400" spc="-1" strike="noStrike">
                <a:solidFill>
                  <a:srgbClr val="ff0066"/>
                </a:solidFill>
                <a:latin typeface="Arial"/>
                <a:ea typeface="mohammad bold art 1"/>
              </a:rPr>
              <a:t> </a:t>
            </a:r>
            <a:endParaRPr b="0" lang="en-US" sz="4400" spc="-1" strike="noStrike">
              <a:solidFill>
                <a:srgbClr val="000000"/>
              </a:solidFill>
              <a:latin typeface="Arial"/>
            </a:endParaRPr>
          </a:p>
        </p:txBody>
      </p:sp>
      <p:sp>
        <p:nvSpPr>
          <p:cNvPr id="156" name="PlaceHolder 2"/>
          <p:cNvSpPr>
            <a:spLocks noGrp="1"/>
          </p:cNvSpPr>
          <p:nvPr>
            <p:ph/>
          </p:nvPr>
        </p:nvSpPr>
        <p:spPr>
          <a:xfrm>
            <a:off x="457200" y="142416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Arial"/>
              </a:rPr>
              <a:t>	</a:t>
            </a:r>
            <a:r>
              <a:rPr b="1" lang="en-US" sz="2400" spc="-1" strike="noStrike">
                <a:solidFill>
                  <a:srgbClr val="333399"/>
                </a:solidFill>
                <a:latin typeface="Arial"/>
              </a:rPr>
              <a:t>Bibliography</a:t>
            </a:r>
            <a:endParaRPr b="0" lang="en-US" sz="24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omba, C. A. and T. W. Banta, 1999. “Assessment Essentials: Planning, Implementing, and Improving Assessment in Higher Education”,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 Program Assessment Center at KFUPM, 2004. “Guidelines for Self-Assessment of Undergraduate Programs at King Fahd University of Petroleum &amp; Minerals”, KFUPM, Dhahran, KSA</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 Peggy. “</a:t>
            </a:r>
            <a:r>
              <a:rPr b="0" i="1" lang="en-US" sz="1600" spc="-1" strike="noStrike">
                <a:solidFill>
                  <a:srgbClr val="000000"/>
                </a:solidFill>
                <a:latin typeface="Arial"/>
              </a:rPr>
              <a:t>Using Multiple Assessment Methods to Explore Student Learning and Development Inside and Outside of the Classroom</a:t>
            </a:r>
            <a:r>
              <a:rPr b="0" lang="en-US" sz="1600" spc="-1" strike="noStrike">
                <a:solidFill>
                  <a:srgbClr val="000000"/>
                </a:solidFill>
                <a:latin typeface="Arial"/>
              </a:rPr>
              <a:t>” NASPA’s NetResults, January 2002.</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sciani, Marilee. “</a:t>
            </a:r>
            <a:r>
              <a:rPr b="0" i="1" lang="en-US" sz="1600" spc="-1" strike="noStrike">
                <a:solidFill>
                  <a:srgbClr val="000000"/>
                </a:solidFill>
                <a:latin typeface="Arial"/>
              </a:rPr>
              <a:t>The Updated Outline fore Assessment Plans</a:t>
            </a:r>
            <a:r>
              <a:rPr b="0" lang="en-US" sz="1600" spc="-1" strike="noStrike">
                <a:solidFill>
                  <a:srgbClr val="000000"/>
                </a:solidFill>
                <a:latin typeface="Arial"/>
              </a:rPr>
              <a:t>” NASPA’s NetResults, March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T “ABET International Faculty Workshop for Continuous Program Improvement”, the National University of Singapore, Singapore, December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ff, Jerry G. and James L. Ratcliff, and Associates. 1997. Handbook of the Undergraduate curriculum: A Comprehensive guide to purposes, structures, practices, and change. Chapters 28, 29, and 30.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websites on assessment (list of related websites is available on the Program Assessment Webpage- </a:t>
            </a:r>
            <a:r>
              <a:rPr b="0" lang="en-US" sz="1600" spc="-1" strike="noStrike" u="sng">
                <a:solidFill>
                  <a:srgbClr val="009999"/>
                </a:solidFill>
                <a:uFillTx/>
                <a:latin typeface="Arial"/>
                <a:hlinkClick r:id="rId2"/>
              </a:rPr>
              <a:t>http://</a:t>
            </a:r>
            <a:r>
              <a:rPr b="0" lang="en-US" sz="1600" spc="-1" strike="noStrike" u="sng">
                <a:solidFill>
                  <a:srgbClr val="009999"/>
                </a:solidFill>
                <a:uFillTx/>
                <a:latin typeface="Arial"/>
                <a:hlinkClick r:id="rId3"/>
              </a:rPr>
              <a:t>www.kfupm.edu.sa</a:t>
            </a:r>
            <a:r>
              <a:rPr b="0" lang="en-US" sz="1600" spc="-1" strike="noStrike" u="sng">
                <a:solidFill>
                  <a:srgbClr val="009999"/>
                </a:solidFill>
                <a:uFillTx/>
                <a:latin typeface="Arial"/>
                <a:hlinkClick r:id="rId4"/>
              </a:rPr>
              <a:t>/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2124000" y="2565360"/>
            <a:ext cx="48261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333399"/>
                </a:solidFill>
                <a:latin typeface="Arial"/>
                <a:cs typeface="AL-Mohanad Bold"/>
              </a:rPr>
              <a:t>وشكرا لكم</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63480" y="1600200"/>
            <a:ext cx="8229600" cy="4525920"/>
          </a:xfrm>
          <a:prstGeom prst="rect">
            <a:avLst/>
          </a:prstGeom>
          <a:noFill/>
          <a:ln w="0">
            <a:noFill/>
          </a:ln>
        </p:spPr>
        <p:txBody>
          <a:bodyPr lIns="90000" rIns="90000" tIns="46800" bIns="46800" anchor="t">
            <a:normAutofit fontScale="90000"/>
          </a:bodyPr>
          <a:p>
            <a:pPr marL="548280" indent="-548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هدف تقويم البرامج إلى معرفة ما إذا كانت البرامج الأكاديمية تحقق الغرض منها في دعم تعلم الطلاب وتطوير مهاراتهم. ويركز التقويم الأكاديمي على البرامج ومخرجاتها ككل دون الاقتصار على فرادى الطلاب أو المواد الدراسية. ويعطي التقويم معلومات عن ما إذا كان المنهج ككل يحقق أهدافه من خلال تزويد الطلاب </a:t>
            </a:r>
            <a:r>
              <a:rPr b="0" lang="ar-SA" sz="3200" spc="-1" strike="noStrike">
                <a:solidFill>
                  <a:srgbClr val="333399"/>
                </a:solidFill>
                <a:latin typeface="Arial"/>
                <a:cs typeface="AL-Mohanad Bold"/>
              </a:rPr>
              <a:t>بالمعرفة</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مهارات</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قيم</a:t>
            </a:r>
            <a:r>
              <a:rPr b="0" lang="ar-SA" sz="3200" spc="-1" strike="noStrike">
                <a:solidFill>
                  <a:srgbClr val="000000"/>
                </a:solidFill>
                <a:latin typeface="Arial"/>
                <a:ea typeface="AL-Mohanad Bold"/>
              </a:rPr>
              <a:t> اللازمة لكل خريج لأداء مهمته في الحياة بنجاح بما يتفق مع رسالة الجامعة وأهدافها التعليمية. </a:t>
            </a:r>
            <a:endParaRPr b="0" lang="en-US" sz="3200" spc="-1" strike="noStrike">
              <a:solidFill>
                <a:srgbClr val="000000"/>
              </a:solidFill>
              <a:latin typeface="Arial"/>
            </a:endParaRPr>
          </a:p>
        </p:txBody>
      </p:sp>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هدف من التقو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توجهات الجديدة في التقويم</a:t>
            </a:r>
            <a:endParaRPr b="0" lang="en-US" sz="4400" spc="-1" strike="noStrike">
              <a:solidFill>
                <a:srgbClr val="000000"/>
              </a:solidFill>
              <a:latin typeface="Arial"/>
            </a:endParaRPr>
          </a:p>
        </p:txBody>
      </p:sp>
      <p:graphicFrame>
        <p:nvGraphicFramePr>
          <p:cNvPr id="47" name=""/>
          <p:cNvGraphicFramePr/>
          <p:nvPr/>
        </p:nvGraphicFramePr>
        <p:xfrm>
          <a:off x="468360" y="1628640"/>
          <a:ext cx="8207280" cy="3876480"/>
        </p:xfrm>
        <a:graphic>
          <a:graphicData uri="http://schemas.openxmlformats.org/drawingml/2006/table">
            <a:tbl>
              <a:tblPr/>
              <a:tblGrid>
                <a:gridCol w="4208400"/>
                <a:gridCol w="399888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جديد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تقليدي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مكن الطلاب عمله</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عطى إلى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دخل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تعلم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دريس</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عليم بمفهومه الشامل</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ناهج</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وسيلة وليست غاي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غاية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يف</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م</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أهمية جودة المدخلات إلا أنها وحدها لا    تضمن جودة المخرجات ما لم يتم قياسها</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فتراض أن جودة المدخلات تضمن جودة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49" name="PlaceHolder 2"/>
          <p:cNvSpPr>
            <a:spLocks noGrp="1"/>
          </p:cNvSpPr>
          <p:nvPr>
            <p:ph/>
          </p:nvPr>
        </p:nvSpPr>
        <p:spPr>
          <a:xfrm>
            <a:off x="468360" y="1699920"/>
            <a:ext cx="8229600" cy="4105080"/>
          </a:xfrm>
          <a:prstGeom prst="rect">
            <a:avLst/>
          </a:prstGeom>
          <a:noFill/>
          <a:ln w="0">
            <a:noFill/>
          </a:ln>
        </p:spPr>
        <p:txBody>
          <a:bodyPr lIns="90000" rIns="90000" tIns="46800" bIns="46800" anchor="t">
            <a:normAutofit fontScale="88000"/>
          </a:bodyPr>
          <a:p>
            <a:pPr marL="3016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هدف عملية التقويم الناجحة إلى الإجابة على عدد من الأسئلة المتعلقة بالعملية التعليمية والأطراف المشاركة فيها. وتشتمل على مجموعة الأسئلة التالية:</a:t>
            </a:r>
            <a:endParaRPr b="0" lang="en-US" sz="3200" spc="-1" strike="noStrike">
              <a:solidFill>
                <a:srgbClr val="000000"/>
              </a:solidFill>
              <a:latin typeface="Arial"/>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ن هم المستفيدين من البرنامج ومخرجاته؟</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الذي يراد تحقيقه من البرنامج (المخرجات والأهداف) ؟</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يعرف المستفيدون من البرنامج ما هي أهدافه بوضوح؟</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مدى جودة أداء ما يقوم به البرنام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ي العملية المتبعة للتنفيذ؟</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و مستوى الجودة التي يطمح إلي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قياس مستوى الجودة التي يراد تحقيق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استخدام النتائج للتطوير والتحسين المستمر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لأهداف المرسوم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حتياجات المستفيدين من البرنامج؟</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العملية ناجح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 name=""/>
          <p:cNvGrpSpPr/>
          <p:nvPr/>
        </p:nvGrpSpPr>
        <p:grpSpPr>
          <a:xfrm>
            <a:off x="971640" y="476280"/>
            <a:ext cx="7416720" cy="5375160"/>
            <a:chOff x="971640" y="476280"/>
            <a:chExt cx="7416720" cy="5375160"/>
          </a:xfrm>
        </p:grpSpPr>
        <p:sp>
          <p:nvSpPr>
            <p:cNvPr id="53" name=""/>
            <p:cNvSpPr/>
            <p:nvPr/>
          </p:nvSpPr>
          <p:spPr>
            <a:xfrm>
              <a:off x="1116000" y="1343160"/>
              <a:ext cx="189540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ساتذة</a:t>
              </a:r>
              <a:endParaRPr b="0" lang="en-US" sz="2400" spc="-1" strike="noStrike">
                <a:solidFill>
                  <a:srgbClr val="000000"/>
                </a:solidFill>
                <a:latin typeface="Arial"/>
              </a:endParaRPr>
            </a:p>
          </p:txBody>
        </p:sp>
        <p:sp>
          <p:nvSpPr>
            <p:cNvPr id="54" name=""/>
            <p:cNvSpPr/>
            <p:nvPr/>
          </p:nvSpPr>
          <p:spPr>
            <a:xfrm>
              <a:off x="3780000" y="476280"/>
              <a:ext cx="1896840" cy="8668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طلاب</a:t>
              </a:r>
              <a:endParaRPr b="0" lang="en-US" sz="2400" spc="-1" strike="noStrike">
                <a:solidFill>
                  <a:srgbClr val="000000"/>
                </a:solidFill>
                <a:latin typeface="Arial"/>
              </a:endParaRPr>
            </a:p>
          </p:txBody>
        </p:sp>
        <p:sp>
          <p:nvSpPr>
            <p:cNvPr id="55" name=""/>
            <p:cNvSpPr/>
            <p:nvPr/>
          </p:nvSpPr>
          <p:spPr>
            <a:xfrm>
              <a:off x="4694400" y="1343160"/>
              <a:ext cx="0" cy="69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492960" y="1343160"/>
              <a:ext cx="189396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سوق العم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3197160" y="2036880"/>
              <a:ext cx="2844720" cy="1463400"/>
            </a:xfrm>
            <a:prstGeom prst="ellipse">
              <a:avLst/>
            </a:prstGeom>
            <a:solidFill>
              <a:srgbClr val="80808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طراف المؤثرة في عملية التقويم الأكاديمي</a:t>
              </a:r>
              <a:endParaRPr b="0" lang="en-US" sz="2400" spc="-1" strike="noStrike">
                <a:solidFill>
                  <a:srgbClr val="000000"/>
                </a:solidFill>
                <a:latin typeface="Arial"/>
              </a:endParaRPr>
            </a:p>
          </p:txBody>
        </p:sp>
        <p:sp>
          <p:nvSpPr>
            <p:cNvPr id="58" name=""/>
            <p:cNvSpPr/>
            <p:nvPr/>
          </p:nvSpPr>
          <p:spPr>
            <a:xfrm>
              <a:off x="6492960" y="3424320"/>
              <a:ext cx="1895400" cy="10126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مسئولون الإداريون</a:t>
              </a:r>
              <a:endParaRPr b="0" lang="en-US" sz="2400" spc="-1" strike="noStrike">
                <a:solidFill>
                  <a:srgbClr val="000000"/>
                </a:solidFill>
                <a:latin typeface="Arial"/>
              </a:endParaRPr>
            </a:p>
          </p:txBody>
        </p:sp>
        <p:sp>
          <p:nvSpPr>
            <p:cNvPr id="59" name=""/>
            <p:cNvSpPr/>
            <p:nvPr/>
          </p:nvSpPr>
          <p:spPr>
            <a:xfrm>
              <a:off x="3635280" y="4138560"/>
              <a:ext cx="1900440" cy="9669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جهات الرسمية</a:t>
              </a:r>
              <a:endParaRPr b="0" lang="en-US" sz="2400" spc="-1" strike="noStrike">
                <a:solidFill>
                  <a:srgbClr val="000000"/>
                </a:solidFill>
                <a:latin typeface="Arial"/>
              </a:endParaRPr>
            </a:p>
          </p:txBody>
        </p:sp>
        <p:sp>
          <p:nvSpPr>
            <p:cNvPr id="60" name=""/>
            <p:cNvSpPr/>
            <p:nvPr/>
          </p:nvSpPr>
          <p:spPr>
            <a:xfrm>
              <a:off x="1116000" y="3459240"/>
              <a:ext cx="1895400" cy="9777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هيئات الاعتماد</a:t>
              </a:r>
              <a:endParaRPr b="0" lang="en-US" sz="2400" spc="-1" strike="noStrike">
                <a:solidFill>
                  <a:srgbClr val="000000"/>
                </a:solidFill>
                <a:latin typeface="Arial"/>
              </a:endParaRPr>
            </a:p>
          </p:txBody>
        </p:sp>
        <p:sp>
          <p:nvSpPr>
            <p:cNvPr id="61" name=""/>
            <p:cNvSpPr/>
            <p:nvPr/>
          </p:nvSpPr>
          <p:spPr>
            <a:xfrm flipV="1">
              <a:off x="2676600" y="3131640"/>
              <a:ext cx="67140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849400" y="2036880"/>
              <a:ext cx="584280" cy="31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5971680" y="2036880"/>
              <a:ext cx="6937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5867280" y="3116160"/>
              <a:ext cx="79848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4584600" y="3500280"/>
              <a:ext cx="0" cy="6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71640" y="5330880"/>
              <a:ext cx="7345440" cy="52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mohammad bold art 1"/>
                </a:rPr>
                <a:t>الأطراف المؤثرة في عملية التقويم الأكاديمي</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6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fontScale="96000"/>
          </a:bodyPr>
          <a:p>
            <a:pPr marL="329040" indent="-32904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ذي يراد تقويمه؟</a:t>
            </a:r>
            <a:endParaRPr b="0" lang="en-US" sz="36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وهذا يتمثل في المخرجات التعليمية بعناصرها الأساسية الثلاثة التالي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1</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عرفة:</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ذا يجب على الطلاب أن يتعلموه من علوم ومعارف</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2</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هارات:</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مهارات الشخصية والوظيفية التي يجب على الطلاب إتقانها لنجاحهم في الحيا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3</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قيم والأخلاق:</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قيم والأخلاقيات السلوكية والمهنية التي يجب على الطلاب تقديرها واحترامها في حياتهم</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70" name=""/>
          <p:cNvSpPr/>
          <p:nvPr/>
        </p:nvSpPr>
        <p:spPr>
          <a:xfrm>
            <a:off x="3286080" y="5487840"/>
            <a:ext cx="25081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مثــلـث التعـــلم</a:t>
            </a:r>
            <a:endParaRPr b="0" lang="en-US" sz="3200" spc="-1" strike="noStrike">
              <a:solidFill>
                <a:srgbClr val="000000"/>
              </a:solidFill>
              <a:latin typeface="Arial"/>
            </a:endParaRPr>
          </a:p>
        </p:txBody>
      </p:sp>
      <p:sp>
        <p:nvSpPr>
          <p:cNvPr id="71" name=""/>
          <p:cNvSpPr/>
          <p:nvPr/>
        </p:nvSpPr>
        <p:spPr>
          <a:xfrm flipH="1">
            <a:off x="2728800" y="1494000"/>
            <a:ext cx="178776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516560" y="149400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714400" y="496080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47640" y="4187880"/>
            <a:ext cx="2289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r>
              <a:rPr b="0" lang="ar-SA" sz="1800" spc="-1" strike="noStrike">
                <a:solidFill>
                  <a:srgbClr val="000000"/>
                </a:solidFill>
                <a:latin typeface="Arial"/>
              </a:rPr>
              <a:t> </a:t>
            </a: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واد الدراسية</a:t>
            </a:r>
            <a:endParaRPr b="0" lang="en-US" sz="1800" spc="-1" strike="noStrike">
              <a:solidFill>
                <a:srgbClr val="000000"/>
              </a:solidFill>
              <a:latin typeface="Arial"/>
            </a:endParaRPr>
          </a:p>
        </p:txBody>
      </p:sp>
      <p:sp>
        <p:nvSpPr>
          <p:cNvPr id="75" name=""/>
          <p:cNvSpPr/>
          <p:nvPr/>
        </p:nvSpPr>
        <p:spPr>
          <a:xfrm>
            <a:off x="3603600" y="3294000"/>
            <a:ext cx="180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 على مستوى </a:t>
            </a:r>
            <a:r>
              <a:rPr b="1" lang="ar-SA" sz="1800" spc="-1" strike="noStrike">
                <a:solidFill>
                  <a:srgbClr val="6666ff"/>
                </a:solidFill>
                <a:latin typeface="Arial"/>
              </a:rPr>
              <a:t>البرنامج الأكاديمي</a:t>
            </a:r>
            <a:endParaRPr b="0" lang="en-US" sz="1800" spc="-1" strike="noStrike">
              <a:solidFill>
                <a:srgbClr val="000000"/>
              </a:solidFill>
              <a:latin typeface="Arial"/>
            </a:endParaRPr>
          </a:p>
        </p:txBody>
      </p:sp>
      <p:sp>
        <p:nvSpPr>
          <p:cNvPr id="76" name=""/>
          <p:cNvSpPr/>
          <p:nvPr/>
        </p:nvSpPr>
        <p:spPr>
          <a:xfrm>
            <a:off x="3759120" y="2205000"/>
            <a:ext cx="156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ؤسسة التعليمية</a:t>
            </a:r>
            <a:endParaRPr b="0" lang="en-US" sz="1800" spc="-1" strike="noStrike">
              <a:solidFill>
                <a:srgbClr val="000000"/>
              </a:solidFill>
              <a:latin typeface="Arial"/>
            </a:endParaRPr>
          </a:p>
        </p:txBody>
      </p:sp>
      <p:sp>
        <p:nvSpPr>
          <p:cNvPr id="77" name=""/>
          <p:cNvSpPr/>
          <p:nvPr/>
        </p:nvSpPr>
        <p:spPr>
          <a:xfrm rot="12502200">
            <a:off x="2934000" y="2261160"/>
            <a:ext cx="546120" cy="2041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هــــــارات</a:t>
            </a:r>
            <a:endParaRPr b="0" lang="en-US" sz="2400" spc="-1" strike="noStrike">
              <a:solidFill>
                <a:srgbClr val="000000"/>
              </a:solidFill>
              <a:latin typeface="Arial"/>
            </a:endParaRPr>
          </a:p>
        </p:txBody>
      </p:sp>
      <p:sp>
        <p:nvSpPr>
          <p:cNvPr id="78" name=""/>
          <p:cNvSpPr/>
          <p:nvPr/>
        </p:nvSpPr>
        <p:spPr>
          <a:xfrm rot="3796200">
            <a:off x="4658400" y="314712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قيم والأخلاق</a:t>
            </a:r>
            <a:endParaRPr b="0" lang="en-US" sz="2400" spc="-1" strike="noStrike">
              <a:solidFill>
                <a:srgbClr val="000000"/>
              </a:solidFill>
              <a:latin typeface="Arial"/>
            </a:endParaRPr>
          </a:p>
        </p:txBody>
      </p:sp>
      <p:sp>
        <p:nvSpPr>
          <p:cNvPr id="79" name=""/>
          <p:cNvSpPr/>
          <p:nvPr/>
        </p:nvSpPr>
        <p:spPr>
          <a:xfrm>
            <a:off x="3868560" y="497988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عارف</a:t>
            </a:r>
            <a:endParaRPr b="0" lang="en-US" sz="2400" spc="-1" strike="noStrike">
              <a:solidFill>
                <a:srgbClr val="000000"/>
              </a:solidFill>
              <a:latin typeface="Arial"/>
            </a:endParaRPr>
          </a:p>
        </p:txBody>
      </p:sp>
      <p:sp>
        <p:nvSpPr>
          <p:cNvPr id="80" name=""/>
          <p:cNvSpPr/>
          <p:nvPr/>
        </p:nvSpPr>
        <p:spPr>
          <a:xfrm>
            <a:off x="3137040" y="4159080"/>
            <a:ext cx="27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76680" y="3137040"/>
            <a:ext cx="170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5165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2714400" y="495144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714400" y="149400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021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700360" y="495144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2714760" y="1484280"/>
            <a:ext cx="3638520" cy="3477960"/>
            <a:chOff x="2714760" y="1484280"/>
            <a:chExt cx="3638520" cy="3477960"/>
          </a:xfrm>
        </p:grpSpPr>
        <p:sp>
          <p:nvSpPr>
            <p:cNvPr id="88" name=""/>
            <p:cNvSpPr/>
            <p:nvPr/>
          </p:nvSpPr>
          <p:spPr>
            <a:xfrm flipH="1">
              <a:off x="2728800" y="149364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516560" y="148428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714760" y="495108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22:57:35Z</dcterms:created>
  <dc:creator>Naif Badawi</dc:creator>
  <dc:description/>
  <dc:language>en-US</dc:language>
  <cp:lastModifiedBy>ITC/ACS</cp:lastModifiedBy>
  <dcterms:modified xsi:type="dcterms:W3CDTF">2005-01-29T10:54:03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1188990</vt:r8>
  </property>
  <property fmtid="{D5CDD505-2E9C-101B-9397-08002B2CF9AE}" pid="3" name="_AuthorEmail">
    <vt:lpwstr>alhomoud@kfupm.edu.sa</vt:lpwstr>
  </property>
  <property fmtid="{D5CDD505-2E9C-101B-9397-08002B2CF9AE}" pid="4" name="_AuthorEmailDisplayName">
    <vt:lpwstr>Dr. Al-Homoud</vt:lpwstr>
  </property>
  <property fmtid="{D5CDD505-2E9C-101B-9397-08002B2CF9AE}" pid="5" name="_EmailSubject">
    <vt:lpwstr>عرض د. محمد آل حمود</vt:lpwstr>
  </property>
</Properties>
</file>