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0AF-D414-4880-B3BA-54DE68D9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0E6-3626-45CB-B342-A258CAC9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358-7057-4A81-B192-BF7130A8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D6E-BA86-4656-84B2-2489375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E9D-988B-4395-80F5-BA32A3E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631-F946-424B-A7E1-5630AE97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55A-AC4F-4E33-BDEF-2263C0B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FE6-AD4D-476A-BF89-7ACC3AF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779-BC02-480A-BC79-0E3CEAF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C5D-2309-4BAA-82F6-719AE14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3AF-1757-42A2-AC49-A93F1F0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B59-0C3A-42B6-B623-D812C70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051-9A0F-451C-BBC8-DF9CA3C78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2040" y="2514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14800"/>
            <a:ext cx="5105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أ.د. صلاح الدين دســــوق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ئيس المركز العربي للإدارة والتن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153280" y="990720"/>
            <a:ext cx="76212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تقو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و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550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928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07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40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19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02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057400"/>
            <a:ext cx="1600200" cy="12952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قطا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مجتم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8600" y="1523880"/>
            <a:ext cx="1600200" cy="533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267080"/>
            <a:ext cx="1600200" cy="1295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وار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هيك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" y="3733200"/>
            <a:ext cx="1600200" cy="53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832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449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12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737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35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53452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0"/>
            <a:endCxn id="173" idx="0"/>
          </p:cNvCxnSpPr>
          <p:nvPr/>
        </p:nvCxnSpPr>
        <p:spPr>
          <a:xfrm>
            <a:off x="2666520" y="6343200"/>
            <a:ext cx="5868360" cy="1080"/>
          </a:xfrm>
          <a:prstGeom prst="straightConnector1">
            <a:avLst/>
          </a:prstGeom>
          <a:ln w="38160">
            <a:solidFill>
              <a:srgbClr val="cc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630760" y="990720"/>
            <a:ext cx="22860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تطبيق الإستراتيج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990720"/>
            <a:ext cx="30402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صياغة 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23400">
            <a:off x="2012400" y="1939320"/>
            <a:ext cx="119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ه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30000">
            <a:off x="2695680" y="2527920"/>
            <a:ext cx="1360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هد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30000">
            <a:off x="3149280" y="3184920"/>
            <a:ext cx="200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21600">
            <a:off x="5343480" y="4156200"/>
            <a:ext cx="122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ر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28200">
            <a:off x="4061520" y="3610440"/>
            <a:ext cx="167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سياس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29400">
            <a:off x="5871240" y="4738320"/>
            <a:ext cx="168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يز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27000">
            <a:off x="6671520" y="5254920"/>
            <a:ext cx="159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جر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23400">
            <a:off x="8070120" y="5275440"/>
            <a:ext cx="93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29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828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362320"/>
            <a:ext cx="53352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289548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114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22800" y="3408480"/>
            <a:ext cx="785880" cy="496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4572000"/>
            <a:ext cx="533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48640" y="5065560"/>
            <a:ext cx="557280" cy="344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85960" y="304920"/>
            <a:ext cx="534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raditional Arabic"/>
                <a:cs typeface="Monotype Koufi"/>
              </a:rPr>
              <a:t>نموذج الإدارة 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3040" y="5943600"/>
            <a:ext cx="3818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مــــراجـعـــة النــتائـــــ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28800" y="449532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6553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5400000">
            <a:off x="2992320" y="-1773000"/>
            <a:ext cx="873000" cy="5486400"/>
          </a:xfrm>
          <a:prstGeom prst="can">
            <a:avLst>
              <a:gd name="adj" fmla="val 763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8720" y="563400"/>
            <a:ext cx="4615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أداء الذى يجب قياس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00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خطة 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114300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إدا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23115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فن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4797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ع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64832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ا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58332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4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5766480" y="3224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200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إدارة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343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سياسات وبرامج تحسين 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537880" y="429156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26708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وظيف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486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خطط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5309280" y="5510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486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تشغي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924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06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401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115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797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324480" y="2022480"/>
            <a:ext cx="2438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خطيط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120" y="1501920"/>
            <a:ext cx="541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من هم الزبائن / المتعاملين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سمات المنتج / الخدمة المتفقة مع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العمليات الإدارية المحققة لذلك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ول الخطط إلى التشغيل الفعلي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38037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راقبة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1560" y="3597120"/>
            <a:ext cx="536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يم جودة المحقق الفعل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ارن المحقق مع الأهداف الموض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صحح الموق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7364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حسين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93560" y="4968720"/>
            <a:ext cx="74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كون البنية التنظيمية المحققة لتطوير مستمر ل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عرف على احتياجات التطوي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لكل منتج أو خدمة عين مدير مسئول لتحسين ا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دريب / الحوافز / الموارد اللاز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275904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495680"/>
            <a:ext cx="304560" cy="854280"/>
          </a:xfrm>
          <a:prstGeom prst="downArrow">
            <a:avLst>
              <a:gd name="adj1" fmla="val 50000"/>
              <a:gd name="adj2" fmla="val 701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5014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الادارة بالجودة الشا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121284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حض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136520"/>
            <a:ext cx="515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هدف إلى الاستعداد وتهيئة وتنظيم الأفراد الذين سو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تقع عليهم مسئوليــــــة عمليـــــة إعــــــــادة البن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إعادة هندسة المنشآ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2050920"/>
            <a:ext cx="1752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حديد ما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ريده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87640"/>
            <a:ext cx="652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حديد العملاء والعمليات ذات القيمة المضافة، والأنشطة المساندة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والهيــــاكل التنظيمية للعمليــــات، والمــوارد المتاحة مادياً وبشري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193920"/>
            <a:ext cx="1524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خطي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2240" y="3114720"/>
            <a:ext cx="4533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تكوين رؤية كفيلة بتحقيق التغيير الجذري السر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 وهي إيضاح مفصــل لأهـــداف إعادة البنـــ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33692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وضع الخطة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وضع التنفي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218120"/>
            <a:ext cx="5459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وضع الخطة التفصيلية موضع التنفيذ حيث تقوم فرق العمل بمعاون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الإدارة العليا بإنجاز المهام المسندة لها ومحاولة القضــــــاء على أ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صعــــــوبات قد تحـــــول دون إحداث التطـــــــوير المطلـــــــــــو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632560"/>
            <a:ext cx="18288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تابعة الخ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479920"/>
            <a:ext cx="53830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90440"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التأكد من مدى تحقيق خطة إعادة للأهداف اللازمة لإج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التطوير والتحسين الجـــــذري للمؤسســــــــــة من حيث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* مدى رضاء العملاء 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* زيادة المبي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أوجه الاختلاف بين مدخل إعادة الهندسة</a:t>
            </a:r>
            <a:br>
              <a:rPr sz="3000"/>
            </a:b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وغيرها من برامج التطوي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1523880"/>
          <a:ext cx="8610480" cy="4800600"/>
        </p:xfrm>
        <a:graphic>
          <a:graphicData uri="http://schemas.openxmlformats.org/drawingml/2006/table">
            <a:tbl>
              <a:tblPr/>
              <a:tblGrid>
                <a:gridCol w="1295280"/>
                <a:gridCol w="1268280"/>
                <a:gridCol w="1587600"/>
                <a:gridCol w="1209600"/>
                <a:gridCol w="1511280"/>
                <a:gridCol w="1738440"/>
              </a:tblGrid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تطبيق الآ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دارة الجو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شام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T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يك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struct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حج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ightsiz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ندس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البرامج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وجه الاختل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طبيق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كنولو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حتياج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لاقات ب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حدات التنظي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حج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وهر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وأسا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فرو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محل البح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نظ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أسف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أع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سئو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ذ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نطاق التغي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جراء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وجه الأساس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سري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كيفية التطو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H="1">
            <a:off x="7162920" y="15238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إدارة - رؤية مستقبل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0880" y="990720"/>
          <a:ext cx="8534520" cy="521316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838080"/>
                <a:gridCol w="1447920"/>
                <a:gridCol w="1143000"/>
                <a:gridCol w="1143000"/>
                <a:gridCol w="2057400"/>
              </a:tblGrid>
              <a:tr h="21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حدات 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صغيرة غ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نمط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دور أساسي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للمؤسس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في التعليم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التدر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ن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ساعات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أماكن ال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تنظيمات الشبكية +تقلص الإدا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وسيطة +تسه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تخاذ القرار في القواع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عمالة العق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+ رأس المال البشري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زايد أه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ستهل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عادة إكتشا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ؤسسة والاعتما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على التخطي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خطيط قصير المد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رؤية المستقب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كهروميكانيكية إلىالإلكتروني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(إدارة رقمية +روبوت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نمطية إلى التنوع والتمايز من المركزية إلى اللامرك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زامن المحك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زمن العمل 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عليـم النمط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تعليم المست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سعي إلى الضخامة إلى الكيانات الاقتصادية الصغي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858000" y="1143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تأثير المؤسس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057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اتجاه الإدار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57640" y="990720"/>
            <a:ext cx="2057400" cy="1447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4400" y="1295280"/>
            <a:ext cx="7391520" cy="495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9080" y="228600"/>
            <a:ext cx="7326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raditional Arabic"/>
                <a:cs typeface="Monotype Koufi"/>
              </a:rPr>
              <a:t>مؤسسة الاتصالات كنظام مفتو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aditional Arabic"/>
                <a:ea typeface="Traditional Arabic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650700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0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447920"/>
            <a:ext cx="67816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سياسي والحكو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قوانين مكافحة الاحتكار + تشريعات ع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+ تشريعات ضريب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2819520"/>
            <a:ext cx="269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قتصاد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معيش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دول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نظــام الأسعــــ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89040" y="5021280"/>
            <a:ext cx="4140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جتماعى والقيم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الدين + التقاليد + التعليم + 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2768760"/>
            <a:ext cx="296856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    سوق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أج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نقــــا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تطلبات العامل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 المؤسسة كنظا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مفتو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562360" y="1301760"/>
            <a:ext cx="2711160" cy="19749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95280"/>
            <a:ext cx="2666880" cy="19814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14400" y="4571640"/>
            <a:ext cx="266688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562720" y="4571640"/>
            <a:ext cx="274320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4280" y="806400"/>
            <a:ext cx="2314800" cy="5289480"/>
          </a:xfrm>
          <a:prstGeom prst="octagon">
            <a:avLst>
              <a:gd name="adj" fmla="val 1649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806400"/>
            <a:ext cx="2048040" cy="5289480"/>
          </a:xfrm>
          <a:prstGeom prst="octagon">
            <a:avLst>
              <a:gd name="adj" fmla="val 19593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1040" y="762120"/>
            <a:ext cx="3057480" cy="5410080"/>
          </a:xfrm>
          <a:prstGeom prst="octagon">
            <a:avLst>
              <a:gd name="adj" fmla="val 1394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4640" y="762120"/>
            <a:ext cx="203184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ـــــدخل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1040" y="762120"/>
            <a:ext cx="304452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عـمـلي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4280" y="762120"/>
            <a:ext cx="228600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خرج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1812960"/>
            <a:ext cx="2179440" cy="10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فــــــــــــر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علومــــ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كنــــولوجي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مــــــــــو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لوائـح و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981080"/>
            <a:ext cx="2286000" cy="77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إنـتاجيــ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رضـــــــــ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غيــــــــــا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وران العمـ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شكــــــا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1889280"/>
            <a:ext cx="3505320" cy="83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خطيط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إختيــــــار والتعيــــــ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تـــــدريب والتنمــــــ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وصيف وتقويم الوظائ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أجور والحـوافز والمزا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نقـــل والترقيـــــ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انهـــــــــاء  الخدم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شكـــاوى والتظلم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قـــــــــــــــــويم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6324480"/>
            <a:ext cx="4495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تغـــــذية عكسيــــــة        </a:t>
            </a:r>
            <a:r>
              <a:rPr b="1" lang="ar-SA" sz="1600" spc="-1" strike="noStrike">
                <a:solidFill>
                  <a:srgbClr val="000099"/>
                </a:solidFill>
                <a:latin typeface="Times New Roman"/>
              </a:rPr>
              <a:t>FEEDBACK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52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نظام ادارة الموارد البش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1"/>
            <a:endCxn id="278" idx="3"/>
          </p:cNvCxnSpPr>
          <p:nvPr/>
        </p:nvCxnSpPr>
        <p:spPr>
          <a:xfrm flipH="1">
            <a:off x="6234840" y="1288800"/>
            <a:ext cx="55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1"/>
            <a:endCxn id="279" idx="3"/>
          </p:cNvCxnSpPr>
          <p:nvPr/>
        </p:nvCxnSpPr>
        <p:spPr>
          <a:xfrm flipH="1">
            <a:off x="2599920" y="1288800"/>
            <a:ext cx="5911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4" idx="2"/>
            <a:endCxn id="275" idx="2"/>
          </p:cNvCxnSpPr>
          <p:nvPr/>
        </p:nvCxnSpPr>
        <p:spPr>
          <a:xfrm flipH="1" rot="16200000">
            <a:off x="4636800" y="2929320"/>
            <a:ext cx="2520" cy="6334920"/>
          </a:xfrm>
          <a:prstGeom prst="bentConnector3">
            <a:avLst>
              <a:gd name="adj1" fmla="val 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765000" y="577800"/>
            <a:ext cx="106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قومات نجاح التعاون العربى لمواجهة التحد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355760"/>
            <a:ext cx="8686800" cy="905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رسيخ مبدأ الاعتماد المتبادل  وهيكلة قطاع الاتصالات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زيــــادة وتشجــيع الاستثمارات في تنمية الموارد البشرية العر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سهيل انتقال ا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لأ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فـــراد وانتقــال الملكيــــة الفكري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توافر نظام متكامل لتنمية الموارد البشرية تقوم على رعايته آلية عر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د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عم ومساعدة مؤسسات الاتصالات الاقل تقدما فى الوطن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وافــر قاعدة ثقافية مشتركة تسمح ببناء نماذج متقاربة للتنمية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حول خطط التنمية البشرية لخدمة أهداف التكامل المؤسسي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800600"/>
            <a:ext cx="5181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مــــؤسســـــــة الاتصـــــــــالات كنظام مفتو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نظام إدارة و تنمية الموارد البشري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عاون العربي في تنمي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379520"/>
            <a:ext cx="243828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ولا : ملامح التطــــور في مطلع الألفية الثالث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473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نياً : الاتجاهات الحديثة في التطـــــــوير الإد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3388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لثا:الانعكاسات على مؤسسات الإتصا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51051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حرير التجـــــارة الدولي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زيادة الطابع الكوني وازدياد المنافس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قلـــص دور الــدول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عــــولمــــــــة ونظم الإ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514600"/>
            <a:ext cx="57909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طوير التنظيمي وتنمية المنشأ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الإستـــراتيجيــــة وإدارة الأد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بالجـــــــودة الشـــاملــــــ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إعادة هندسة المنشآت وإعادة الهي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.. رؤية 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4960" y="304920"/>
            <a:ext cx="54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نظمة التجارة  العال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2193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متابعة تنفيذ الاتفاقية الخاصة بجولة أورجواى ، وتوفير إطـــار لإدارة وتنفيذ الاتفاقـــات التجارية متعددة الأطــر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1240" y="2641680"/>
            <a:ext cx="81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آلية مراجعـة السياسات التجـارية لـدول الأعض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51648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تهيئة الأطراف الدولية للتفاوض،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و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القواعـد والقوانين و الإجـراءات التى تحكم المناز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94028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وضع اسس التعاون مع كل من الصندوق و البنك ،  فى مجال رسم السياسـات الاقتصادية العالمية وإدارة الاقتصاد العالم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429000"/>
            <a:ext cx="9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بنك ال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84800">
            <a:off x="106668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570000">
            <a:off x="1577880" y="2057040"/>
            <a:ext cx="95400" cy="268128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480400">
            <a:off x="202572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41316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صنــــدوق النقد الــــ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7242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نظمـــــــة التجارة 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447920"/>
            <a:ext cx="1752480" cy="685800"/>
          </a:xfrm>
          <a:prstGeom prst="rect">
            <a:avLst/>
          </a:prstGeom>
          <a:solidFill>
            <a:srgbClr val="004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عولم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قليص الدور الاقتصادي للدو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2860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40680" y="2514600"/>
            <a:ext cx="250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شرو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عا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3434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08440" y="4419720"/>
            <a:ext cx="24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قلـــ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ـــــــــــد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الاجتماع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197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01800" y="4800600"/>
            <a:ext cx="263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إنهاء عص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دولة الرفاه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3623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20" y="2560680"/>
            <a:ext cx="19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خفي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ضرائ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باش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6" idx="2"/>
            <a:endCxn id="68" idx="1"/>
          </p:cNvCxnSpPr>
          <p:nvPr/>
        </p:nvCxnSpPr>
        <p:spPr>
          <a:xfrm>
            <a:off x="4571640" y="1599840"/>
            <a:ext cx="2229480" cy="9658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2"/>
            <a:endCxn id="74" idx="7"/>
          </p:cNvCxnSpPr>
          <p:nvPr/>
        </p:nvCxnSpPr>
        <p:spPr>
          <a:xfrm flipH="1">
            <a:off x="2189880" y="1599840"/>
            <a:ext cx="2382120" cy="1042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2"/>
            <a:endCxn id="70" idx="0"/>
          </p:cNvCxnSpPr>
          <p:nvPr/>
        </p:nvCxnSpPr>
        <p:spPr>
          <a:xfrm>
            <a:off x="4572000" y="1600200"/>
            <a:ext cx="1334160" cy="2743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6" idx="2"/>
            <a:endCxn id="72" idx="0"/>
          </p:cNvCxnSpPr>
          <p:nvPr/>
        </p:nvCxnSpPr>
        <p:spPr>
          <a:xfrm flipH="1">
            <a:off x="3161880" y="1600200"/>
            <a:ext cx="1410480" cy="2820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557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زيادة الطابع الكوني واشتداد المناف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7760" y="2209680"/>
            <a:ext cx="17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حك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شركات العملاق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80" y="2209680"/>
            <a:ext cx="251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رتفاع معدل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مركز الثرو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5280" y="2209680"/>
            <a:ext cx="167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شتدا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منافس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3597120"/>
            <a:ext cx="898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د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18440" y="3597120"/>
            <a:ext cx="1353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قوى 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000" y="3597120"/>
            <a:ext cx="981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أسوا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السل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97120"/>
            <a:ext cx="849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19076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691080" y="4952880"/>
            <a:ext cx="95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ضع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نقاب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892760"/>
            <a:ext cx="98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الناتج العالم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4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التجارة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المدخرات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92760"/>
            <a:ext cx="849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520" y="-76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0" idx="2"/>
            <a:endCxn id="83" idx="0"/>
          </p:cNvCxnSpPr>
          <p:nvPr/>
        </p:nvCxnSpPr>
        <p:spPr>
          <a:xfrm flipH="1">
            <a:off x="4739400" y="1752480"/>
            <a:ext cx="2520" cy="457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0" idx="2"/>
            <a:endCxn id="82" idx="0"/>
          </p:cNvCxnSpPr>
          <p:nvPr/>
        </p:nvCxnSpPr>
        <p:spPr>
          <a:xfrm rot="5400000">
            <a:off x="3036240" y="504720"/>
            <a:ext cx="457920" cy="295344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0" idx="2"/>
            <a:endCxn id="81" idx="0"/>
          </p:cNvCxnSpPr>
          <p:nvPr/>
        </p:nvCxnSpPr>
        <p:spPr>
          <a:xfrm flipH="1" rot="16200000">
            <a:off x="5982120" y="510840"/>
            <a:ext cx="457920" cy="294048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057400" y="3597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971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2"/>
            <a:endCxn id="84" idx="0"/>
          </p:cNvCxnSpPr>
          <p:nvPr/>
        </p:nvCxnSpPr>
        <p:spPr>
          <a:xfrm>
            <a:off x="7682040" y="3124080"/>
            <a:ext cx="69264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1" idx="2"/>
            <a:endCxn id="85" idx="0"/>
          </p:cNvCxnSpPr>
          <p:nvPr/>
        </p:nvCxnSpPr>
        <p:spPr>
          <a:xfrm flipH="1">
            <a:off x="7095600" y="3124080"/>
            <a:ext cx="5868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3" idx="2"/>
            <a:endCxn id="87" idx="0"/>
          </p:cNvCxnSpPr>
          <p:nvPr/>
        </p:nvCxnSpPr>
        <p:spPr>
          <a:xfrm flipH="1">
            <a:off x="4159080" y="3124080"/>
            <a:ext cx="5814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3" idx="2"/>
            <a:endCxn id="86" idx="0"/>
          </p:cNvCxnSpPr>
          <p:nvPr/>
        </p:nvCxnSpPr>
        <p:spPr>
          <a:xfrm>
            <a:off x="4739760" y="3124080"/>
            <a:ext cx="4849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2" idx="2"/>
            <a:endCxn id="97" idx="0"/>
          </p:cNvCxnSpPr>
          <p:nvPr/>
        </p:nvCxnSpPr>
        <p:spPr>
          <a:xfrm flipH="1">
            <a:off x="723240" y="3124080"/>
            <a:ext cx="106596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2"/>
            <a:endCxn id="96" idx="0"/>
          </p:cNvCxnSpPr>
          <p:nvPr/>
        </p:nvCxnSpPr>
        <p:spPr>
          <a:xfrm>
            <a:off x="1789200" y="3124080"/>
            <a:ext cx="9547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27428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60912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800600" y="4952880"/>
            <a:ext cx="914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خرو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منتج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الصغا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52574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عولمة ونظم الإد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8000"/>
                </a:solidFill>
                <a:latin typeface="Times New Roman"/>
              </a:rPr>
              <a:t>آفاق الألفية الجديدة ….عالم بلا جدران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إدارة المعرفة ….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جيل إبتكاري في المستويات الإدارية المختلفة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زيادة القدرة على التنافس ومرونة التعامل مع المتغيرات 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التدريب والتطوير ضرورة حتمية لبقاء المؤسسات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فرق عالم اليوم …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TOP TALENT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قادة المستقبل وبيئة الجودة الشاملة والتميز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SUCCESSION PLANNING, TQM &amp; EXCEL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2193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مساعدة المنشأة على تجديد نفسها وعلى وضع نظام لاكتشاف الأخطاء وتصحيحها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066680"/>
            <a:ext cx="5002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ستكمال السلطة الوظيفية بسلطة المعرفة والكفاء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قريب مركز اتخاذ القرارات من مصادر المعلومات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طوير النظم لتوفير مناخ يسمح بالتغيير والإبداع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تطوير التنظيمي وتنمية المنشأ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8954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تنمية العاملين لزيادة قدرتهم على توسيع دائرة البدائل المتاحة في صنع القرارات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2971800"/>
            <a:ext cx="511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مزيد من المشاركة في حل المشكلات واتخاذ القرا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نمية المعرفية والمهارية والسلوكية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4724280"/>
            <a:ext cx="289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خلق جيل من المديرين قادر علي توقع التغيير المتلاحق والتعامل معه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05320"/>
            <a:ext cx="554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مساعدة المديرين على إدارة وحداتهم بأهداف  معروف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    واضحة بدلا من الإدارة باللوائح التقليد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بناء الثقة بين العاملين لخلق مناخ متفتح لحل المشاك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نظام للحوافز يدعم أهداف المنشأة ويضمن نمو العاملين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زيادة الرقابة الذاتية والتيسير الذاتي للأفراد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خطوات والإجراءات الرئيسية للتطوير التنظي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0560" y="1295280"/>
            <a:ext cx="6069240" cy="234792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219320"/>
            <a:ext cx="36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غيير المخط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8680" y="1895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عملية إحدا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و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لأوض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جدي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1905120"/>
            <a:ext cx="129528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حل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ـ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القد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1895400"/>
            <a:ext cx="12510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عن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وازن جدي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990960"/>
            <a:ext cx="6068880" cy="251928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6114960"/>
            <a:ext cx="367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طوير التنظيم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428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التدخ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العمل واتخا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خطوات إجرائ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تطبيق التغي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444816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شخي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وض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متابعت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تأصي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دورة تخطيط تحسين الأ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57788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بادأة / التشخي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85460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وضع خطة تحسين الأد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873520"/>
            <a:ext cx="274176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راجع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إعــادة النظــ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861080"/>
            <a:ext cx="27432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تطبي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1"/>
            <a:endCxn id="147" idx="3"/>
          </p:cNvCxnSpPr>
          <p:nvPr/>
        </p:nvCxnSpPr>
        <p:spPr>
          <a:xfrm flipH="1">
            <a:off x="3580920" y="5425920"/>
            <a:ext cx="1982160" cy="72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7" idx="0"/>
            <a:endCxn id="146" idx="2"/>
          </p:cNvCxnSpPr>
          <p:nvPr/>
        </p:nvCxnSpPr>
        <p:spPr>
          <a:xfrm flipV="1">
            <a:off x="2209320" y="4016160"/>
            <a:ext cx="1080" cy="84528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2"/>
            <a:endCxn id="145" idx="0"/>
          </p:cNvCxnSpPr>
          <p:nvPr/>
        </p:nvCxnSpPr>
        <p:spPr>
          <a:xfrm>
            <a:off x="7124400" y="2720520"/>
            <a:ext cx="1080" cy="213444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3"/>
          </p:cNvCxnSpPr>
          <p:nvPr/>
        </p:nvCxnSpPr>
        <p:spPr>
          <a:xfrm flipV="1">
            <a:off x="3579480" y="3435120"/>
            <a:ext cx="2826360" cy="10080"/>
          </a:xfrm>
          <a:prstGeom prst="straightConnector1">
            <a:avLst/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24120" y="3429000"/>
            <a:ext cx="762840" cy="3276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9:29:21Z</dcterms:created>
  <dc:creator>madac</dc:creator>
  <dc:description/>
  <dc:language>en-US</dc:language>
  <cp:lastModifiedBy>madac</cp:lastModifiedBy>
  <dcterms:modified xsi:type="dcterms:W3CDTF">2001-11-07T16:36:12Z</dcterms:modified>
  <cp:revision>13</cp:revision>
  <dc:subject/>
  <dc:title>عرض تقديمي من PowerPoint</dc:title>
</cp:coreProperties>
</file>