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40DD-64F0-47ED-B7D7-FA9EB9BD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4D71-72AC-4258-8EF9-2A5D3239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95AF-6C35-48B8-82D5-D05A7D17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4FFD-F74E-40A5-938E-439DDA8F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63D-EF3F-45E4-8FAC-9B6EF7A1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1B99-BA3E-4032-B449-8ABA79C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EB7B-310C-4661-ACFA-9DB88CF7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D6F3-CA84-4096-BA1D-38C962C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6EF-B696-44FD-B989-D3AE871E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62D-0EF5-41F2-B983-1F1CED0B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D685-DA47-43FE-92A1-E40AFC0D5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910-A23C-4E75-9A25-387E16A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FEAE-CDC3-4FC2-90FA-5C426DCCF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2040" y="251460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اتجاهات الحديثة في التطوير الإد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4114800"/>
            <a:ext cx="5105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إعد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أ.د. صلاح الدين دســــوق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</a:rPr>
              <a:t>رئيس المركز العربي للإدارة والتنم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8600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153280" y="990720"/>
            <a:ext cx="76212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تقوي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والرقاب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55000" y="1371600"/>
            <a:ext cx="76176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3928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076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6408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1960" y="1371600"/>
            <a:ext cx="76212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40200" y="1371600"/>
            <a:ext cx="761760" cy="46483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2057400"/>
            <a:ext cx="1600200" cy="129528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يئة القطا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بيئة المجتم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228600" y="1523880"/>
            <a:ext cx="1600200" cy="5335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بيئة الخار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4267080"/>
            <a:ext cx="1600200" cy="129564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ثق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وار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هيك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28600" y="3733200"/>
            <a:ext cx="1600200" cy="5331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البيئ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66688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1832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94496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120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7376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53588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853452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7" idx="0"/>
            <a:endCxn id="173" idx="0"/>
          </p:cNvCxnSpPr>
          <p:nvPr/>
        </p:nvCxnSpPr>
        <p:spPr>
          <a:xfrm>
            <a:off x="2666520" y="6343200"/>
            <a:ext cx="5868360" cy="1080"/>
          </a:xfrm>
          <a:prstGeom prst="straightConnector1">
            <a:avLst/>
          </a:prstGeom>
          <a:ln w="38160">
            <a:solidFill>
              <a:srgbClr val="cc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630760" y="990720"/>
            <a:ext cx="22860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تطبيق الإستراتيجـ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990720"/>
            <a:ext cx="3040200" cy="76176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صياغة 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6223400">
            <a:off x="2012400" y="1939320"/>
            <a:ext cx="1194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ه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6230000">
            <a:off x="2695680" y="2527920"/>
            <a:ext cx="1360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أهد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30000">
            <a:off x="3149280" y="3184920"/>
            <a:ext cx="2000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إستراتيج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rot="16221600">
            <a:off x="5343480" y="4156200"/>
            <a:ext cx="1227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برام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16228200">
            <a:off x="4061520" y="3610440"/>
            <a:ext cx="167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سياس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29400">
            <a:off x="5871240" y="4738320"/>
            <a:ext cx="168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ميزان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27000">
            <a:off x="6671520" y="5254920"/>
            <a:ext cx="1593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إجراء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16223400">
            <a:off x="8070120" y="5275440"/>
            <a:ext cx="930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  <a:cs typeface="Traditional Arabic"/>
              </a:rPr>
              <a:t>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429000" y="6019920"/>
            <a:ext cx="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182880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81280" y="2362320"/>
            <a:ext cx="533520" cy="3045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43400" y="289548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172200" y="4114800"/>
            <a:ext cx="53352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22800" y="3408480"/>
            <a:ext cx="785880" cy="496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4572000"/>
            <a:ext cx="53316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48640" y="5065560"/>
            <a:ext cx="557280" cy="3445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785960" y="304920"/>
            <a:ext cx="5340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raditional Arabic"/>
                <a:cs typeface="Monotype Koufi"/>
              </a:rPr>
              <a:t>نموذج الإدارة الإستراتيج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43040" y="5943600"/>
            <a:ext cx="3818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raditional Arabic"/>
                <a:cs typeface="Traditional Arabic"/>
              </a:rPr>
              <a:t>مــــراجـعـــة النــتائـــــ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2666880"/>
            <a:ext cx="4572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828800" y="4495320"/>
            <a:ext cx="457200" cy="3049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534520" y="655308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401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 rot="5400000">
            <a:off x="2992320" y="-1773000"/>
            <a:ext cx="873000" cy="5486400"/>
          </a:xfrm>
          <a:prstGeom prst="can">
            <a:avLst>
              <a:gd name="adj" fmla="val 763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08720" y="563400"/>
            <a:ext cx="4615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أداء الذى يجب قياس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3200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خطة الإستراتيج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114300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إدا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10800000">
            <a:off x="231156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فن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347976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عملاء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648320" y="1196640"/>
            <a:ext cx="838080" cy="1622520"/>
          </a:xfrm>
          <a:prstGeom prst="can">
            <a:avLst>
              <a:gd name="adj" fmla="val 1077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imes New Roman"/>
              </a:rPr>
              <a:t>الما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05920" y="6583320"/>
            <a:ext cx="7617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20000"/>
                </a:solidFill>
                <a:latin typeface="Times New Roman"/>
                <a:ea typeface="Times New Roman"/>
              </a:rPr>
              <a:t>404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5400000">
            <a:off x="5766480" y="322488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72200" y="320040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إدارة المؤسس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4343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سياسات وبرامج تحسين الأد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537880" y="429156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26708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مستوى الوظيف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5486400"/>
            <a:ext cx="4800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خطط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5400000">
            <a:off x="5309280" y="5510880"/>
            <a:ext cx="430200" cy="990720"/>
          </a:xfrm>
          <a:prstGeom prst="can">
            <a:avLst>
              <a:gd name="adj" fmla="val 2692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15000" y="5486400"/>
            <a:ext cx="2514600" cy="914400"/>
          </a:xfrm>
          <a:prstGeom prst="cube">
            <a:avLst>
              <a:gd name="adj" fmla="val 1602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8489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المستوى التشغيل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9244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6064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2743200"/>
            <a:ext cx="0" cy="5335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4016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0836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371600" y="4114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31156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7976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43000" y="5257800"/>
            <a:ext cx="0" cy="304920"/>
          </a:xfrm>
          <a:prstGeom prst="line">
            <a:avLst/>
          </a:prstGeom>
          <a:ln w="38160">
            <a:solidFill>
              <a:srgbClr val="99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324480" y="2022480"/>
            <a:ext cx="2438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خطيط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11120" y="1501920"/>
            <a:ext cx="5410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دد من هم الزبائن / المتعاملين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دد احتياجاتهم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طور سمات المنتج / الخدمة المتفقة مع احتياجاتهم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طور العمليات الإدارية المحققة لذلك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حول الخطط إلى التشغيل الفعلي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400800" y="380376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راقبة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31560" y="3597120"/>
            <a:ext cx="536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قيم جودة المحقق الفعلي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قارن المحقق مع الأهداف الموضوع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صحح الموقف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00800" y="527364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حسين الجود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493560" y="4968720"/>
            <a:ext cx="74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كون البنية التنظيمية المحققة لتطوير مستمر للجود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عرف على احتياجات التطوير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لكل منتج أو خدمة عين مدير مسئول لتحسين الجود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لتدريب / الحوافز / الموارد اللازم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391520" y="2759040"/>
            <a:ext cx="304560" cy="990720"/>
          </a:xfrm>
          <a:prstGeom prst="downArrow">
            <a:avLst>
              <a:gd name="adj1" fmla="val 50000"/>
              <a:gd name="adj2" fmla="val 8132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495680"/>
            <a:ext cx="304560" cy="854280"/>
          </a:xfrm>
          <a:prstGeom prst="downArrow">
            <a:avLst>
              <a:gd name="adj1" fmla="val 50000"/>
              <a:gd name="adj2" fmla="val 70124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50148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99"/>
                </a:solidFill>
                <a:latin typeface="Times New Roman"/>
                <a:cs typeface="Monotype Koufi"/>
              </a:rPr>
              <a:t>الادارة بالجودة الشام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86600" y="1212840"/>
            <a:ext cx="16765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التحضير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371600" y="1136520"/>
            <a:ext cx="515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تهدف إلى الاستعداد وتهيئة وتنظيم الأفراد الذين سو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تقع عليهم مسئوليــــــة عمليـــــة إعــــــــادة البنـــــاء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إعادة هندسة المنشآ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2050920"/>
            <a:ext cx="1752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تحديد ما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تريده المنظم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087640"/>
            <a:ext cx="652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تحديد العملاء والعمليات ذات القيمة المضافة، والأنشطة المساندة،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والهيــــاكل التنظيمية للعمليــــات، والمــوارد المتاحة مادياً وبشريا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238880" y="3193920"/>
            <a:ext cx="15242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التخطيط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92240" y="3114720"/>
            <a:ext cx="4533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تكوين رؤية كفيلة بتحقيق التغيير الجذري السر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  وهي إيضاح مفصــل لأهـــداف إعادة البنــــــــاء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34320" y="4336920"/>
            <a:ext cx="182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وضع الخطة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موضع التنفي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66680" y="4218120"/>
            <a:ext cx="545940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وضع الخطة التفصيلية موضع التنفيذ حيث تقوم فرق العمل بمعاون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الإدارة العليا بإنجاز المهام المسندة لها ومحاولة القضــــــاء على أ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   صعــــــوبات قد تحـــــول دون إحداث التطـــــــوير المطلـــــــــــوب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632560"/>
            <a:ext cx="182880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r" rtl="1">
              <a:buClr>
                <a:srgbClr val="990033"/>
              </a:buClr>
              <a:buFont typeface="Monotype Sorts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متابعة الخط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3000" y="5479920"/>
            <a:ext cx="5383080" cy="9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indent="190440" algn="r" rtl="1"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التأكد من مدى تحقيق خطة إعادة للأهداف اللازمة لإجر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   التطوير والتحسين الجـــــذري للمؤسســــــــــة من حيث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        * مدى رضاء العملاء .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* زيادة المبيعات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306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أوجه الاختلاف بين مدخل إعادة الهندسة</a:t>
            </a:r>
            <a:br>
              <a:rPr sz="3000"/>
            </a:b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وغيرها من برامج التطوي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304920" y="1523880"/>
          <a:ext cx="8610480" cy="4800600"/>
        </p:xfrm>
        <a:graphic>
          <a:graphicData uri="http://schemas.openxmlformats.org/drawingml/2006/table">
            <a:tbl>
              <a:tblPr/>
              <a:tblGrid>
                <a:gridCol w="1295280"/>
                <a:gridCol w="1268280"/>
                <a:gridCol w="1587600"/>
                <a:gridCol w="1209600"/>
                <a:gridCol w="1511280"/>
                <a:gridCol w="1738440"/>
              </a:tblGrid>
              <a:tr h="140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تطبيق الآ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uto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دارة الجود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شام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TQ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عادة الهيك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estructu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تحج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ightsiz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إعادة الهندس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Reenginee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3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البرامج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أوجه الاختلا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طبيق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تكنولو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حتياج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لاقات ب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حدات التنظي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حج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جوهر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وأساس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فرو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محل البح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نظ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أسف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أعل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تنظي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سئولي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جذ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نطاق التغي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إجراء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ي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الإد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مجال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مجال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وظ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عمليا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الإدا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التوجه الأساس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تدريج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سريع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كيفية التطو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"/>
          <p:cNvSpPr/>
          <p:nvPr/>
        </p:nvSpPr>
        <p:spPr>
          <a:xfrm flipH="1">
            <a:off x="7162920" y="152388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إدارة - رؤية مستقبلي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80880" y="990720"/>
          <a:ext cx="8534520" cy="521316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838080"/>
                <a:gridCol w="1447920"/>
                <a:gridCol w="1143000"/>
                <a:gridCol w="1143000"/>
                <a:gridCol w="2057400"/>
              </a:tblGrid>
              <a:tr h="21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حدات عم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صغيرة غي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نمط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دور أساسي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للمؤسس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في التعليم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التدري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تنو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ساعات</a:t>
                      </a: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وأماكن العم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تنظيمات الشبكية +تقلص الإدار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وسيطة +تسهي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إتخاذ القرار في القواع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عمالة العق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+ رأس المال البشري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تزايد أهم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ستهل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إعادة إكتشا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ؤسسة والاعتما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على التخطيط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المر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خطيط قصير المدى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الرؤية المستقبلي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1368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8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كهروميكانيكية إلىالإلكتروني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(إدارة رقمية +روبوت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نمطية إلى التنوع والتمايز من المركزية إلى اللامركز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زامن المحك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زمن العمل المر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تعليـم النمط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إلى التعليم المستم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من السعي إلى الضخامة إلى الكيانات الاقتصادية الصغير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cc"/>
                      </a:solidFill>
                    </a:lnL>
                    <a:lnR w="1368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6858000" y="1143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cc"/>
                </a:solidFill>
                <a:latin typeface="Times New Roman"/>
              </a:rPr>
              <a:t>التأثير المؤسس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315200" y="2057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3333cc"/>
                </a:solidFill>
                <a:latin typeface="Times New Roman"/>
              </a:rPr>
              <a:t>الاتجاه الإدار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6857640" y="990720"/>
            <a:ext cx="2057400" cy="14475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914400" y="1295280"/>
            <a:ext cx="7391520" cy="4953240"/>
          </a:xfrm>
          <a:prstGeom prst="rect">
            <a:avLst/>
          </a:prstGeom>
          <a:solidFill>
            <a:srgbClr val="ffff99"/>
          </a:solidFill>
          <a:ln w="572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9080" y="228600"/>
            <a:ext cx="73267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3333cc"/>
                </a:solidFill>
                <a:latin typeface="Traditional Arabic"/>
                <a:cs typeface="Monotype Koufi"/>
              </a:rPr>
              <a:t>مؤسسة الاتصالات كنظام مفتو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raditional Arabic"/>
                <a:ea typeface="Traditional Arabic"/>
              </a:rPr>
              <a:t>OPEN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305920" y="6507000"/>
            <a:ext cx="76176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404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43000" y="1447920"/>
            <a:ext cx="67816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سياسي والحكو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قوانين مكافحة الاحتكار + تشريعات عم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+ تشريعات ضريب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2819520"/>
            <a:ext cx="2697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اقتصاد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ستوي المعيش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دور الدولـ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نظــام الأسعــــا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89040" y="5021280"/>
            <a:ext cx="41403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النظام الاجتماعى والقيم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الدين + التقاليد + التعليم + الثقاف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2768760"/>
            <a:ext cx="2968560" cy="27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algn="r" rtl="1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raditional Arabic"/>
              </a:rPr>
              <a:t>    سوق العم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ستوي الأجو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دور النقــــا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algn="r" rtl="1">
              <a:spcAft>
                <a:spcPts val="901"/>
              </a:spcAft>
              <a:buClr>
                <a:srgbClr val="990000"/>
              </a:buClr>
              <a:buFont typeface="Times New Roman"/>
              <a:buChar char="•"/>
              <a:tabLst>
                <a:tab algn="l" pos="28908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</a:tabLst>
            </a:pPr>
            <a:r>
              <a:rPr b="1" lang="ar-SA" sz="2400" spc="-1" strike="noStrike">
                <a:solidFill>
                  <a:srgbClr val="990000"/>
                </a:solidFill>
                <a:latin typeface="Times New Roman"/>
              </a:rPr>
              <a:t> متطلبات العامل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3276720"/>
            <a:ext cx="1981440" cy="12952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aditional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81280" y="3276720"/>
            <a:ext cx="19814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</a:rPr>
              <a:t> المؤسسة كنظا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raditional Arabic"/>
              </a:rPr>
              <a:t>مفتو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562360" y="1301760"/>
            <a:ext cx="2711160" cy="19749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295280"/>
            <a:ext cx="2666880" cy="19814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914400" y="4571640"/>
            <a:ext cx="2666880" cy="1676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562720" y="4571640"/>
            <a:ext cx="2743200" cy="167652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14280" y="806400"/>
            <a:ext cx="2314800" cy="5289480"/>
          </a:xfrm>
          <a:prstGeom prst="octagon">
            <a:avLst>
              <a:gd name="adj" fmla="val 16495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806400"/>
            <a:ext cx="2048040" cy="5289480"/>
          </a:xfrm>
          <a:prstGeom prst="octagon">
            <a:avLst>
              <a:gd name="adj" fmla="val 19593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91040" y="762120"/>
            <a:ext cx="3057480" cy="5410080"/>
          </a:xfrm>
          <a:prstGeom prst="octagon">
            <a:avLst>
              <a:gd name="adj" fmla="val 13944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94640" y="762120"/>
            <a:ext cx="203184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مـــــدخل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Inpu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1040" y="762120"/>
            <a:ext cx="304452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عـمـليـ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oc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4280" y="762120"/>
            <a:ext cx="2286000" cy="1054080"/>
          </a:xfrm>
          <a:prstGeom prst="octagon">
            <a:avLst>
              <a:gd name="adj" fmla="val 23843"/>
            </a:avLst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Monotype Koufi"/>
              </a:rPr>
              <a:t>مخرج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705720" y="1812960"/>
            <a:ext cx="2179440" cy="10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أفــــــــــــرا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معلومـــــا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تكنــــولوجي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أمــــــــــو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 لوائـح ونظ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28600" y="1981080"/>
            <a:ext cx="2286000" cy="77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إنـتاجيـــــــ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رضـــــــــا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ـغيــــــــــا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دوران العمـ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80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Times New Roman"/>
              </a:rPr>
              <a:t>الـشكــــــاو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1889280"/>
            <a:ext cx="3505320" cy="83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خطيط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إختيــــــار والتعيــــــي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تـــــدريب والتنمـــــــ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وصيف وتقويم الوظائ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أجور والحـوافز والمزاي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نقـــل والترقيــــــ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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وانهـــــــــاء  الخدم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الشكـــاوى والتظلم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5000"/>
              </a:lnSpc>
              <a:buClr>
                <a:srgbClr val="ff0033"/>
              </a:buClr>
              <a:buSzPct val="115000"/>
              <a:buFont typeface="Wingdings" charset="2"/>
              <a:buChar char="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400" spc="-1" strike="noStrike">
                <a:solidFill>
                  <a:srgbClr val="000099"/>
                </a:solidFill>
                <a:latin typeface="Times New Roman"/>
              </a:rPr>
              <a:t> تقـــــــــــــــــويم الأد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6324480"/>
            <a:ext cx="44956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تغـــــذية عكسيــــــة        </a:t>
            </a:r>
            <a:r>
              <a:rPr b="1" lang="ar-SA" sz="1600" spc="-1" strike="noStrike">
                <a:solidFill>
                  <a:srgbClr val="000099"/>
                </a:solidFill>
                <a:latin typeface="Times New Roman"/>
              </a:rPr>
              <a:t>FEEDBACK</a:t>
            </a: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152280"/>
            <a:ext cx="4267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3200" spc="-1" strike="noStrike">
                <a:solidFill>
                  <a:srgbClr val="000099"/>
                </a:solidFill>
                <a:latin typeface="Times New Roman"/>
                <a:cs typeface="Monotype Koufi"/>
              </a:rPr>
              <a:t>نظام ادارة الموارد البشر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" name=""/>
          <p:cNvCxnSpPr>
            <a:stCxn id="277" idx="1"/>
            <a:endCxn id="278" idx="3"/>
          </p:cNvCxnSpPr>
          <p:nvPr/>
        </p:nvCxnSpPr>
        <p:spPr>
          <a:xfrm flipH="1">
            <a:off x="6234840" y="1288800"/>
            <a:ext cx="55980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1"/>
            <a:endCxn id="279" idx="3"/>
          </p:cNvCxnSpPr>
          <p:nvPr/>
        </p:nvCxnSpPr>
        <p:spPr>
          <a:xfrm flipH="1">
            <a:off x="2599920" y="1288800"/>
            <a:ext cx="5911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4" idx="2"/>
            <a:endCxn id="275" idx="2"/>
          </p:cNvCxnSpPr>
          <p:nvPr/>
        </p:nvCxnSpPr>
        <p:spPr>
          <a:xfrm flipH="1" rot="16200000">
            <a:off x="4636800" y="2929320"/>
            <a:ext cx="2520" cy="6334920"/>
          </a:xfrm>
          <a:prstGeom prst="bentConnector3">
            <a:avLst>
              <a:gd name="adj1" fmla="val 14400000"/>
            </a:avLst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-765000" y="577800"/>
            <a:ext cx="1065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Monotype Koufi"/>
              </a:rPr>
              <a:t>مقومات نجاح التعاون العربى لمواجهة التحدي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1355760"/>
            <a:ext cx="8686800" cy="905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رسيخ مبدأ الاعتماد المتبادل  وهيكلة قطاع الاتصالات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زيــــادة وتشجــيع الاستثمارات في تنمية الموارد البشرية العرب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سهيل انتقال ا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لأ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فـــراد وانتقــال الملكيــــة الفكريـــــ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توافر نظام متكامل لتنمية الموارد البشرية تقوم على رعايته آلية عربية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د</a:t>
            </a: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عم ومساعدة مؤسسات الاتصالات الاقل تقدما فى الوطن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وافــر قاعدة ثقافية مشتركة تسمح ببناء نماذج متقاربة للتنمية البش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50000"/>
              </a:lnSpc>
              <a:buClr>
                <a:srgbClr val="cc0000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Times New Roman"/>
              </a:rPr>
              <a:t> تحول خطط التنمية البشرية لخدمة أهداف التكامل المؤسسي العر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3049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0000"/>
                </a:solidFill>
                <a:latin typeface="Times New Roman"/>
                <a:cs typeface="Monotype Koufi"/>
              </a:rPr>
              <a:t>الاتجاهات الحديثة في التطوير الإدار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800600"/>
            <a:ext cx="518148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9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مــــؤسســـــــة الاتصـــــــــالات كنظام مفتو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نظام إدارة و تنمية الموارد البشريــ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تعاون العربي في تنمية الموارد البش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00800" y="1379520"/>
            <a:ext cx="2438280" cy="24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أولا : ملامح التطــــور في مطلع الألفية الثالث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72200" y="3473280"/>
            <a:ext cx="266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ثانياً : الاتجاهات الحديثة في التطـــــــوير الإدار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248520" y="53388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ثالثا:الانعكاسات على مؤسسات الإتصال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914400"/>
            <a:ext cx="510516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حرير التجـــــارة الدولي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زيادة الطابع الكوني وازدياد المنافسة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تقلـــص دور الــدول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عــــولمــــــــة ونظم الإدار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20" y="2514600"/>
            <a:ext cx="5790960" cy="37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9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تطوير التنظيمي وتنمية المنشأ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الإستـــراتيجيــــة وإدارة الأدا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بالجـــــــودة الشـــاملــــــــــ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إعادة هندسة المنشآت وإعادة الهيكل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15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الإدارة .. رؤية مستقب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94960" y="304920"/>
            <a:ext cx="540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Times New Roman"/>
                <a:cs typeface="Monotype Koufi"/>
              </a:rPr>
              <a:t>منظمة التجارة  العالم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219320"/>
            <a:ext cx="6095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متابعة تنفيذ الاتفاقية الخاصة بجولة أورجواى ، وتوفير إطـــار لإدارة وتنفيذ الاتفاقـــات التجارية متعددة الأطــرا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91240" y="2641680"/>
            <a:ext cx="81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إدارة آلية مراجعـة السياسات التجـارية لـدول الأعضا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81280" y="351648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تهيئة الأطراف الدولية للتفاوض، </a:t>
            </a: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و</a:t>
            </a: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إدارة القواعـد والقوانين و الإجـراءات التى تحكم المناز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4940280"/>
            <a:ext cx="655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25000"/>
              </a:lnSpc>
              <a:buClr>
                <a:srgbClr val="cc0000"/>
              </a:buClr>
              <a:buFont typeface="Wingding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0000"/>
                </a:solidFill>
                <a:latin typeface="Times New Roman"/>
              </a:rPr>
              <a:t> وضع اسس التعاون مع كل من الصندوق و البنك ،  فى مجال رسم السياسـات الاقتصادية العالمية وإدارة الاقتصاد العالم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3429000"/>
            <a:ext cx="9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البنك الدول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384800">
            <a:off x="1066680" y="1905120"/>
            <a:ext cx="77760" cy="243972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1570000">
            <a:off x="1577880" y="2057040"/>
            <a:ext cx="95400" cy="268128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480400">
            <a:off x="2025720" y="1905120"/>
            <a:ext cx="77760" cy="2439720"/>
          </a:xfrm>
          <a:prstGeom prst="can">
            <a:avLst>
              <a:gd name="adj" fmla="val 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341316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</a:rPr>
              <a:t>صنــــدوق النقد الــــدول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7242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3333cc"/>
                </a:solidFill>
                <a:latin typeface="Times New Roman"/>
                <a:cs typeface="Times New Roman"/>
              </a:rPr>
              <a:t>منظمـــــــة التجارة 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1447920"/>
            <a:ext cx="1752480" cy="685800"/>
          </a:xfrm>
          <a:prstGeom prst="rect">
            <a:avLst/>
          </a:prstGeom>
          <a:solidFill>
            <a:srgbClr val="0042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6002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العولمـــــــ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لامح العولمة </a:t>
            </a:r>
            <a:br>
              <a:rPr sz="3600"/>
            </a:b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تقليص الدور الاقتصادي للدول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2286000"/>
            <a:ext cx="2209680" cy="190512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340680" y="2514600"/>
            <a:ext cx="2504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بي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مشروعا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عام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4343400"/>
            <a:ext cx="2209680" cy="190512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08440" y="4419720"/>
            <a:ext cx="2454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تقلـــ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ـــــــــــــدو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الاجتماع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419720"/>
            <a:ext cx="2209680" cy="19047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801800" y="4800600"/>
            <a:ext cx="2637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إنهاء عص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دولة الرفاه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362320"/>
            <a:ext cx="2209680" cy="1904760"/>
          </a:xfrm>
          <a:prstGeom prst="ellipse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3120" y="2560680"/>
            <a:ext cx="195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تخفي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ضرائ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00"/>
                </a:solidFill>
                <a:latin typeface="Times New Roman"/>
              </a:rPr>
              <a:t>المباش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6" idx="2"/>
            <a:endCxn id="68" idx="1"/>
          </p:cNvCxnSpPr>
          <p:nvPr/>
        </p:nvCxnSpPr>
        <p:spPr>
          <a:xfrm>
            <a:off x="4571640" y="1599840"/>
            <a:ext cx="2229480" cy="96588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6" idx="2"/>
            <a:endCxn id="74" idx="7"/>
          </p:cNvCxnSpPr>
          <p:nvPr/>
        </p:nvCxnSpPr>
        <p:spPr>
          <a:xfrm flipH="1">
            <a:off x="2189880" y="1599840"/>
            <a:ext cx="2382120" cy="10422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2"/>
            <a:endCxn id="70" idx="0"/>
          </p:cNvCxnSpPr>
          <p:nvPr/>
        </p:nvCxnSpPr>
        <p:spPr>
          <a:xfrm>
            <a:off x="4572000" y="1600200"/>
            <a:ext cx="1334160" cy="2743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6" idx="2"/>
            <a:endCxn id="72" idx="0"/>
          </p:cNvCxnSpPr>
          <p:nvPr/>
        </p:nvCxnSpPr>
        <p:spPr>
          <a:xfrm flipH="1">
            <a:off x="3161880" y="1600200"/>
            <a:ext cx="1410480" cy="28202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5572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ملامح العولمة </a:t>
            </a:r>
            <a:br>
              <a:rPr sz="3600"/>
            </a:br>
            <a:r>
              <a:rPr b="0" lang="hi-IN" sz="32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زيادة الطابع الكوني واشتداد المنافس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27760" y="2209680"/>
            <a:ext cx="170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تحكم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لشركات العملاق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0280" y="2209680"/>
            <a:ext cx="251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رتفاع معدلات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تمركز الثرو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05280" y="2209680"/>
            <a:ext cx="167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شتداد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000099"/>
                </a:solidFill>
                <a:latin typeface="Times New Roman"/>
              </a:rPr>
              <a:t>المنافسة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24680" y="3597120"/>
            <a:ext cx="898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بتز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لدو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18440" y="3597120"/>
            <a:ext cx="13539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بتزا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قوى 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34000" y="3597120"/>
            <a:ext cx="9810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أسوا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السل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33920" y="3597120"/>
            <a:ext cx="849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سو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العم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>
            <a:off x="419076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3691080" y="4952880"/>
            <a:ext cx="95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ضع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النقابات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3720" y="4892760"/>
            <a:ext cx="981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5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الناتج العالم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4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  التجارة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5%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  المدخرات العالم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4892760"/>
            <a:ext cx="8492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99"/>
                </a:solidFill>
                <a:latin typeface="Times New Roman"/>
              </a:rPr>
              <a:t>1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74520" y="-763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>
            <a:stCxn id="80" idx="2"/>
            <a:endCxn id="83" idx="0"/>
          </p:cNvCxnSpPr>
          <p:nvPr/>
        </p:nvCxnSpPr>
        <p:spPr>
          <a:xfrm flipH="1">
            <a:off x="4739400" y="1752480"/>
            <a:ext cx="2520" cy="45792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0" idx="2"/>
            <a:endCxn id="82" idx="0"/>
          </p:cNvCxnSpPr>
          <p:nvPr/>
        </p:nvCxnSpPr>
        <p:spPr>
          <a:xfrm rot="5400000">
            <a:off x="3036240" y="504720"/>
            <a:ext cx="457920" cy="2953440"/>
          </a:xfrm>
          <a:prstGeom prst="bentConnector3">
            <a:avLst>
              <a:gd name="adj1" fmla="val 4996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0" idx="2"/>
            <a:endCxn id="81" idx="0"/>
          </p:cNvCxnSpPr>
          <p:nvPr/>
        </p:nvCxnSpPr>
        <p:spPr>
          <a:xfrm flipH="1" rot="16200000">
            <a:off x="5982120" y="510840"/>
            <a:ext cx="457920" cy="2940480"/>
          </a:xfrm>
          <a:prstGeom prst="bentConnector3">
            <a:avLst>
              <a:gd name="adj1" fmla="val 4996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2057400" y="3597120"/>
            <a:ext cx="137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دول العا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5971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80</a:t>
            </a: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hi-IN" sz="2000" spc="-1" strike="noStrike">
                <a:solidFill>
                  <a:srgbClr val="000099"/>
                </a:solidFill>
                <a:latin typeface="Times New Roman"/>
              </a:rPr>
              <a:t>من دول العال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2"/>
            <a:endCxn id="84" idx="0"/>
          </p:cNvCxnSpPr>
          <p:nvPr/>
        </p:nvCxnSpPr>
        <p:spPr>
          <a:xfrm>
            <a:off x="7682040" y="3124080"/>
            <a:ext cx="69264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1" idx="2"/>
            <a:endCxn id="85" idx="0"/>
          </p:cNvCxnSpPr>
          <p:nvPr/>
        </p:nvCxnSpPr>
        <p:spPr>
          <a:xfrm flipH="1">
            <a:off x="7095600" y="3124080"/>
            <a:ext cx="58680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83" idx="2"/>
            <a:endCxn id="87" idx="0"/>
          </p:cNvCxnSpPr>
          <p:nvPr/>
        </p:nvCxnSpPr>
        <p:spPr>
          <a:xfrm flipH="1">
            <a:off x="4159080" y="3124080"/>
            <a:ext cx="58140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3" idx="2"/>
            <a:endCxn id="86" idx="0"/>
          </p:cNvCxnSpPr>
          <p:nvPr/>
        </p:nvCxnSpPr>
        <p:spPr>
          <a:xfrm>
            <a:off x="4739760" y="3124080"/>
            <a:ext cx="48492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2" idx="2"/>
            <a:endCxn id="97" idx="0"/>
          </p:cNvCxnSpPr>
          <p:nvPr/>
        </p:nvCxnSpPr>
        <p:spPr>
          <a:xfrm flipH="1">
            <a:off x="723240" y="3124080"/>
            <a:ext cx="106596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82" idx="2"/>
            <a:endCxn id="96" idx="0"/>
          </p:cNvCxnSpPr>
          <p:nvPr/>
        </p:nvCxnSpPr>
        <p:spPr>
          <a:xfrm>
            <a:off x="1789200" y="3124080"/>
            <a:ext cx="954720" cy="4737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104" name=""/>
          <p:cNvCxnSpPr/>
          <p:nvPr/>
        </p:nvCxnSpPr>
        <p:spPr>
          <a:xfrm>
            <a:off x="274284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cxnSp>
        <p:nvCxnSpPr>
          <p:cNvPr id="105" name=""/>
          <p:cNvCxnSpPr/>
          <p:nvPr/>
        </p:nvCxnSpPr>
        <p:spPr>
          <a:xfrm>
            <a:off x="60912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4800600" y="4952880"/>
            <a:ext cx="9144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خرو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000099"/>
                </a:solidFill>
                <a:latin typeface="Times New Roman"/>
              </a:rPr>
              <a:t>المنتجي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الصغا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/>
          <p:nvPr/>
        </p:nvCxnSpPr>
        <p:spPr>
          <a:xfrm>
            <a:off x="5257440" y="4343040"/>
            <a:ext cx="1080" cy="484920"/>
          </a:xfrm>
          <a:prstGeom prst="straightConnector1">
            <a:avLst/>
          </a:prstGeom>
          <a:ln w="38160">
            <a:solidFill>
              <a:srgbClr val="008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عولمة ونظم الإدار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8000"/>
                </a:solidFill>
                <a:latin typeface="Times New Roman"/>
              </a:rPr>
              <a:t>آفاق الألفية الجديدة ….عالم بلا جدران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إدارة المعرفة ….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KNOWLEDGE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تكوين جيل إبتكاري في المستويات الإدارية المختلفة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زيادة القدرة على التنافس ومرونة التعامل مع المتغيرات 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التدريب والتطوير ضرورة حتمية لبقاء المؤسسات.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تكوين فرق عالم اليوم …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TOP TALENT TE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624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0033cc"/>
                </a:solidFill>
                <a:latin typeface="Times New Roman"/>
              </a:rPr>
              <a:t>قادة المستقبل وبيئة الجودة الشاملة والتميز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SUCCESSION PLANNING, TQM &amp; EXCEL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6804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638680" y="1219320"/>
            <a:ext cx="3353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مساعدة المنشأة على تجديد نفسها وعلى وضع نظام لاكتشاف الأخطاء وتصحيحها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1066680"/>
            <a:ext cx="5002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ستكمال السلطة الوظيفية بسلطة المعرفة والكفاء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قريب مركز اتخاذ القرارات من مصادر المعلومات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تطوير النظم لتوفير مناخ يسمح بالتغيير والإبداع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0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تطوير التنظيمي وتنمية المنشأ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895480"/>
            <a:ext cx="3353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تنمية العاملين لزيادة قدرتهم على توسيع دائرة البدائل المتاحة في صنع القرارات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2971800"/>
            <a:ext cx="5110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مزيد من المشاركة في حل المشكلات واتخاذ القرار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3333cc"/>
                </a:solidFill>
                <a:latin typeface="Times New Roman"/>
              </a:rPr>
              <a:t>التنمية المعرفية والمهارية والسلوكية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4724280"/>
            <a:ext cx="2895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400" indent="-95400"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>
                <a:solidFill>
                  <a:srgbClr val="990033"/>
                </a:solidFill>
                <a:latin typeface="Times New Roman"/>
              </a:rPr>
              <a:t>خلق جيل من المديرين قادر علي توقع التغيير المتلاحق والتعامل معه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4405320"/>
            <a:ext cx="554184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مساعدة المديرين على إدارة وحداتهم بأهداف  معروفة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    واضحة بدلا من الإدارة باللوائح التقليدية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بناء الثقة بين العاملين لخلق مناخ متفتح لحل المشاكل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نظام للحوافز يدعم أهداف المنشأة ويضمن نمو العاملين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20000"/>
              </a:lnSpc>
              <a:buClr>
                <a:srgbClr val="3333cc"/>
              </a:buClr>
              <a:buFont typeface="Wingdings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333cc"/>
                </a:solidFill>
                <a:latin typeface="Times New Roman"/>
              </a:rPr>
              <a:t>زيادة الرقابة الذاتية والتيسير الذاتي للأفراد 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6600"/>
                </a:solidFill>
                <a:latin typeface="Times New Roman"/>
                <a:cs typeface="Monotype Koufi"/>
              </a:rPr>
              <a:t>الخطوات والإجراءات الرئيسية للتطوير التنظيم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90560" y="1295280"/>
            <a:ext cx="6069240" cy="2347920"/>
          </a:xfrm>
          <a:prstGeom prst="cube">
            <a:avLst>
              <a:gd name="adj" fmla="val 1349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1219320"/>
            <a:ext cx="367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i-IN" sz="2200" spc="-1" strike="noStrike">
                <a:solidFill>
                  <a:srgbClr val="000099"/>
                </a:solidFill>
                <a:latin typeface="Times New Roman"/>
              </a:rPr>
              <a:t>خطوات وإجراءات التغيير المخطط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38680" y="1895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عملية إحداث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وتحر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منظم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للأوضا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جديد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1905120"/>
            <a:ext cx="129528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حل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ـ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</a:rPr>
              <a:t> القدي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57400" y="1895400"/>
            <a:ext cx="12510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ثبيت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عن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وازن جدي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1051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1809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3990960"/>
            <a:ext cx="6068880" cy="2519280"/>
          </a:xfrm>
          <a:prstGeom prst="cube">
            <a:avLst>
              <a:gd name="adj" fmla="val 13490"/>
            </a:avLst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6114960"/>
            <a:ext cx="367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200" spc="-1" strike="noStrike">
                <a:solidFill>
                  <a:srgbClr val="000099"/>
                </a:solidFill>
                <a:latin typeface="Times New Roman"/>
              </a:rPr>
              <a:t>خطوات وإجراءات التطوير التنظيمي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4280" y="4451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 التدخ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العمل واتخا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خطوات إجرائ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لتطبيق التغيي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45240" y="444816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مرحل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شخي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وض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أهدا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22400" y="4451400"/>
            <a:ext cx="1371600" cy="1600200"/>
          </a:xfrm>
          <a:prstGeom prst="cube">
            <a:avLst>
              <a:gd name="adj" fmla="val 995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تثبيت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التغيير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متابعت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>
                <a:solidFill>
                  <a:srgbClr val="ffff00"/>
                </a:solidFill>
                <a:latin typeface="Times New Roman"/>
              </a:rPr>
              <a:t>وتأصي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50907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1665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505320"/>
            <a:ext cx="0" cy="91440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3333cc"/>
                </a:solidFill>
                <a:latin typeface="Times New Roman"/>
                <a:cs typeface="Monotype Koufi"/>
              </a:rPr>
              <a:t>دورة تخطيط تحسين الأدا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1051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3180960" y="269568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50907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166560" y="52513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1577880"/>
            <a:ext cx="312408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مبادأة / التشخيص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4854600"/>
            <a:ext cx="312408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وضع خطة تحسين الأد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873520"/>
            <a:ext cx="274176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مراجعة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إعــادة النظــر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4861080"/>
            <a:ext cx="2743200" cy="1143000"/>
          </a:xfrm>
          <a:prstGeom prst="rect">
            <a:avLst/>
          </a:prstGeom>
          <a:solidFill>
            <a:srgbClr val="3333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ffff00"/>
                </a:solidFill>
                <a:latin typeface="Times New Roman"/>
              </a:rPr>
              <a:t>التطبي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5" idx="1"/>
            <a:endCxn id="147" idx="3"/>
          </p:cNvCxnSpPr>
          <p:nvPr/>
        </p:nvCxnSpPr>
        <p:spPr>
          <a:xfrm flipH="1">
            <a:off x="3580920" y="5425920"/>
            <a:ext cx="1982160" cy="72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7" idx="0"/>
            <a:endCxn id="146" idx="2"/>
          </p:cNvCxnSpPr>
          <p:nvPr/>
        </p:nvCxnSpPr>
        <p:spPr>
          <a:xfrm flipV="1">
            <a:off x="2209320" y="4016160"/>
            <a:ext cx="1080" cy="84528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2"/>
            <a:endCxn id="145" idx="0"/>
          </p:cNvCxnSpPr>
          <p:nvPr/>
        </p:nvCxnSpPr>
        <p:spPr>
          <a:xfrm>
            <a:off x="7124400" y="2720520"/>
            <a:ext cx="1080" cy="213444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6" idx="3"/>
          </p:cNvCxnSpPr>
          <p:nvPr/>
        </p:nvCxnSpPr>
        <p:spPr>
          <a:xfrm flipV="1">
            <a:off x="3579480" y="3435120"/>
            <a:ext cx="2826360" cy="10080"/>
          </a:xfrm>
          <a:prstGeom prst="straightConnector1">
            <a:avLst/>
          </a:prstGeom>
          <a:ln w="57240">
            <a:solidFill>
              <a:srgbClr val="3333cc"/>
            </a:solidFill>
            <a:miter/>
          </a:ln>
        </p:spPr>
      </p:cxnSp>
      <p:cxnSp>
        <p:nvCxnSpPr>
          <p:cNvPr id="152" name=""/>
          <p:cNvCxnSpPr/>
          <p:nvPr/>
        </p:nvCxnSpPr>
        <p:spPr>
          <a:xfrm>
            <a:off x="6324120" y="3429000"/>
            <a:ext cx="762840" cy="327600"/>
          </a:xfrm>
          <a:prstGeom prst="straightConnector1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1800" y="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mad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09:29:21Z</dcterms:created>
  <dc:creator>madac</dc:creator>
  <dc:description/>
  <dc:language>en-US</dc:language>
  <cp:lastModifiedBy>madac</cp:lastModifiedBy>
  <dcterms:modified xsi:type="dcterms:W3CDTF">2001-11-07T16:36:12Z</dcterms:modified>
  <cp:revision>13</cp:revision>
  <dc:subject/>
  <dc:title>عرض تقديمي من PowerPoint</dc:title>
</cp:coreProperties>
</file>