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52.png" ContentType="image/png"/>
  <Override PartName="/ppt/media/image19.png" ContentType="image/png"/>
  <Override PartName="/ppt/media/image22.wmf" ContentType="image/x-wmf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4.png" ContentType="image/png"/>
  <Override PartName="/ppt/media/image34.png" ContentType="image/png"/>
  <Override PartName="/ppt/media/image36.wmf" ContentType="image/x-wmf"/>
  <Override PartName="/ppt/media/image54.jpeg" ContentType="image/jpeg"/>
  <Override PartName="/ppt/media/image38.gif" ContentType="image/gif"/>
  <Override PartName="/ppt/media/image43.png" ContentType="image/png"/>
  <Override PartName="/ppt/media/image39.png" ContentType="image/png"/>
  <Override PartName="/ppt/media/image37.gif" ContentType="image/gif"/>
  <Override PartName="/ppt/media/image42.jpeg" ContentType="image/jpeg"/>
  <Override PartName="/ppt/media/image30.wmf" ContentType="image/x-wmf"/>
  <Override PartName="/ppt/media/image28.wmf" ContentType="image/x-wmf"/>
  <Override PartName="/ppt/media/image13.gif" ContentType="image/gif"/>
  <Override PartName="/ppt/media/image46.wmf" ContentType="image/x-wmf"/>
  <Override PartName="/ppt/media/image55.jpeg" ContentType="image/jpeg"/>
  <Override PartName="/ppt/media/image45.jpeg" ContentType="image/jpeg"/>
  <Override PartName="/ppt/media/image12.gif" ContentType="image/gif"/>
  <Override PartName="/ppt/media/image53.jpeg" ContentType="image/jpeg"/>
  <Override PartName="/ppt/media/image47.gif" ContentType="image/gif"/>
  <Override PartName="/ppt/media/image10.gif" ContentType="image/gif"/>
  <Override PartName="/ppt/media/image11.gif" ContentType="image/gif"/>
  <Override PartName="/ppt/media/image44.wmf" ContentType="image/x-wmf"/>
  <Override PartName="/ppt/media/image6.gif" ContentType="image/gif"/>
  <Override PartName="/ppt/media/image35.gif" ContentType="image/gif"/>
  <Override PartName="/ppt/media/image31.wmf" ContentType="image/x-wmf"/>
  <Override PartName="/ppt/media/image7.jpeg" ContentType="image/jpeg"/>
  <Override PartName="/ppt/media/image50.png" ContentType="image/png"/>
  <Override PartName="/ppt/media/image15.gif" ContentType="image/gif"/>
  <Override PartName="/ppt/media/image48.wmf" ContentType="image/x-wmf"/>
  <Override PartName="/ppt/media/image5.wmf" ContentType="image/x-wmf"/>
  <Override PartName="/ppt/media/image9.gif" ContentType="image/gif"/>
  <Override PartName="/ppt/media/image8.jpeg" ContentType="image/jpeg"/>
  <Override PartName="/ppt/media/image4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74A-B768-4399-9D8C-CD782530CA59}" type="slidenum">
              <a:rPr b="0" lang="ar-A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Notes"/>
          <p:cNvSpPr/>
          <p:nvPr/>
        </p:nvSpPr>
        <p:spPr>
          <a:xfrm>
            <a:off x="115920" y="8238960"/>
            <a:ext cx="5122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63440" y="7942320"/>
            <a:ext cx="656136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-1492200" y="426960"/>
            <a:ext cx="9993240" cy="749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embers ranging from 3-12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cus on specific issues to re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nerally meet weekly to analyze work related problems and propose solutions to Management and where possible implement thos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also tend to generate a mutual respect and trust as they work on solutions, which is conducive for collaborating as a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967-2BE3-4D28-80CB-28EF7771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A97-B403-41E9-B7D7-0BF0FCE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EDA-1012-4475-B463-01F8393A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203-8FAA-4161-95F8-8D55646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DF9B-08AB-419D-A4E3-5C41C81D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1ED4-6D81-4BA4-AA8E-EBD243E1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BAF5-A1D4-4AAA-87F7-CAD1867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B32-B3C7-41BA-9D93-B6D359E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885-B3E4-4F01-BD08-D2500B7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3DE4-BA23-435D-B6F8-43C4221C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3E5E-690D-4DDF-83C3-2E0EC70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320-1677-44B5-9703-5EF6941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609-1B4A-4F08-A074-635F98D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F8E3-274F-44B7-A904-90EA174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1BB2-5B34-4DE8-9AFC-519191B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B6D-E722-464A-8ADE-A2A07507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D53-ECEB-4E5B-8056-15F1A6B1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ADA-3497-4B41-A3AC-F4C1020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830-8328-437B-ACFB-281C357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71B-0DC2-46BA-9B14-11193D6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DE1-7DFB-42E6-8117-A205DDE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C0E-214A-4688-81B0-BF7E3F8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6FD-C887-4A11-B76B-5B4B645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D42-E1E0-47F5-B563-2DAAFE1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70A-2459-4030-A261-D1ACCE0E8EB4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C04-E777-4398-8B9C-297F9CC842D2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gi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4.jpeg"/><Relationship Id="rId9" Type="http://schemas.openxmlformats.org/officeDocument/2006/relationships/image" Target="../media/image56.jpeg"/><Relationship Id="rId10" Type="http://schemas.openxmlformats.org/officeDocument/2006/relationships/image" Target="../media/image55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image" Target="../media/image55.jpeg"/><Relationship Id="rId18" Type="http://schemas.openxmlformats.org/officeDocument/2006/relationships/image" Target="../media/image54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55640" y="620640"/>
            <a:ext cx="6769080" cy="1434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مبادئ ومفاهيم إدارة الجودة الش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349360"/>
            <a:ext cx="48247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حمد أحمد المط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67280" y="135000"/>
            <a:ext cx="201780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جودة ه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563920"/>
            <a:ext cx="1656000" cy="32414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للخدمة 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563920"/>
            <a:ext cx="1727280" cy="32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طبي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 أ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89360"/>
            <a:ext cx="3600720" cy="1368360"/>
          </a:xfrm>
          <a:prstGeom prst="leftRightArrow">
            <a:avLst>
              <a:gd name="adj1" fmla="val 50000"/>
              <a:gd name="adj2" fmla="val 52384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ادراك الح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36960" y="1197000"/>
            <a:ext cx="947700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مقدار الفجوة بين توقعات العميل وطبيعة الخدمة/السلعة 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6008760"/>
            <a:ext cx="6767640" cy="733320"/>
          </a:xfrm>
          <a:custGeom>
            <a:avLst/>
            <a:gdLst>
              <a:gd name="textAreaLeft" fmla="*/ 1184400 w 6767640"/>
              <a:gd name="textAreaRight" fmla="*/ 4906800 w 6767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1403280" y="1915920"/>
            <a:ext cx="5905440" cy="576000"/>
          </a:xfrm>
          <a:custGeom>
            <a:avLst/>
            <a:gdLst>
              <a:gd name="textAreaLeft" fmla="*/ 1033200 w 5905440"/>
              <a:gd name="textAreaRight" fmla="*/ 4281480 w 5905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9720" y="1197000"/>
            <a:ext cx="828072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هل الحصول على نسبة 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99.9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 % كاف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989000"/>
            <a:ext cx="7127640" cy="6492960"/>
          </a:xfrm>
          <a:prstGeom prst="rect">
            <a:avLst/>
          </a:prstGeom>
          <a:gradFill rotWithShape="0">
            <a:gsLst>
              <a:gs pos="0">
                <a:srgbClr val="727559"/>
              </a:gs>
              <a:gs pos="100000">
                <a:srgbClr val="f9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اعة شرب واحدة يوميا كل شهر من ماء غير ن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رحلة هبوط خاطئ كل سنة بمطار 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خطاء طبية في عمليات جراحية كل شه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طعة ضائعة في عملية توزيع بريدية كل 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أحذية تباع كل سنة من ازواج متشابه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صفة طبية تصرف بشكل خاطى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189000"/>
            <a:ext cx="28339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مي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07920"/>
            <a:ext cx="9144000" cy="54165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9640" y="1413000"/>
            <a:ext cx="8280360" cy="5137200"/>
            <a:chOff x="539640" y="1413000"/>
            <a:chExt cx="8280360" cy="5137200"/>
          </a:xfrm>
        </p:grpSpPr>
        <p:sp>
          <p:nvSpPr>
            <p:cNvPr id="217" name=""/>
            <p:cNvSpPr/>
            <p:nvPr/>
          </p:nvSpPr>
          <p:spPr>
            <a:xfrm>
              <a:off x="895320" y="2005200"/>
              <a:ext cx="7416720" cy="3846600"/>
            </a:xfrm>
            <a:prstGeom prst="sun">
              <a:avLst>
                <a:gd name="adj" fmla="val 2709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656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64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656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88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5000" y="3173760"/>
              <a:ext cx="2971800" cy="1511280"/>
            </a:xfrm>
            <a:prstGeom prst="octagon">
              <a:avLst>
                <a:gd name="adj" fmla="val 36412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1868760"/>
              <a:ext cx="2852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000" spc="-1" strike="noStrike">
                  <a:solidFill>
                    <a:srgbClr val="000000"/>
                  </a:solidFill>
                  <a:latin typeface="Times New Roman"/>
                </a:rPr>
                <a:t>إدارة عمليات موثقة وفاعل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4560" y="3694320"/>
              <a:ext cx="31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مشاركة العامل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و كسب رضاهم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5320" y="1868760"/>
              <a:ext cx="2581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حقيق</a:t>
              </a: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و اجتياز توقع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عملاء  في جمي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الأوق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1000" y="498168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ل</a:t>
              </a: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تحسين والتطوير المستم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7920" y="4710240"/>
              <a:ext cx="265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إ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لتزا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ومشاركة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العليا  بصفة مستمرة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568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7880" y="1444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260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1000" y="141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0280" y="324180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316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6080" y="4340520"/>
              <a:ext cx="53316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42721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19160" y="434052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2240" y="4264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1680" y="114480"/>
            <a:ext cx="4030200" cy="703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مبادئ إدارة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560" y="1335600"/>
            <a:ext cx="8269560" cy="53600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135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00ff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ن يمشي مكباً على وجهه أهدى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يمشي سويا على صراط مستقيم</a:t>
            </a:r>
            <a:r>
              <a:rPr b="0" lang="ar-SA" sz="6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0" lang="ar-SA" sz="60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لملك : الآية </a:t>
            </a:r>
            <a:r>
              <a:rPr b="0" lang="ar-SA" sz="5000" spc="-1" strike="noStrike">
                <a:solidFill>
                  <a:srgbClr val="ff0000"/>
                </a:solidFill>
                <a:latin typeface="Times New Roman"/>
                <a:ea typeface="DecoType Naskh"/>
              </a:rPr>
              <a:t>22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533880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دارة وتقوية علاقات ال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6960" y="1692000"/>
            <a:ext cx="7788240" cy="4129200"/>
            <a:chOff x="426960" y="1692000"/>
            <a:chExt cx="7788240" cy="4129200"/>
          </a:xfrm>
        </p:grpSpPr>
        <p:sp>
          <p:nvSpPr>
            <p:cNvPr id="243" name=""/>
            <p:cNvSpPr/>
            <p:nvPr/>
          </p:nvSpPr>
          <p:spPr>
            <a:xfrm>
              <a:off x="1900080" y="178272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4680" y="177480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3880" y="1809720"/>
              <a:ext cx="82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15200" y="18111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207280" y="48513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5040" y="58212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7880" y="57564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3480" y="5729400"/>
              <a:ext cx="59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960" y="5740560"/>
              <a:ext cx="44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6040" y="478620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6280" y="1692000"/>
              <a:ext cx="0" cy="15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280" y="1717560"/>
              <a:ext cx="4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31880" y="982800"/>
            <a:ext cx="1339920" cy="1989000"/>
            <a:chOff x="731880" y="982800"/>
            <a:chExt cx="1339920" cy="1989000"/>
          </a:xfrm>
        </p:grpSpPr>
        <p:pic>
          <p:nvPicPr>
            <p:cNvPr id="256" name="" descr="Filename: j0283649.gif&#13;Keywords: academics, children, females ...&#13;File Size: 12 KB"/>
            <p:cNvPicPr/>
            <p:nvPr/>
          </p:nvPicPr>
          <p:blipFill>
            <a:blip r:embed="rId1"/>
            <a:stretch/>
          </p:blipFill>
          <p:spPr>
            <a:xfrm>
              <a:off x="746280" y="982800"/>
              <a:ext cx="13255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31880" y="245124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69760" y="1154160"/>
            <a:ext cx="2277720" cy="1786320"/>
            <a:chOff x="2669760" y="1154160"/>
            <a:chExt cx="2277720" cy="1786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rot="21174000">
              <a:off x="2732040" y="1282680"/>
              <a:ext cx="2152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017880" y="254160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صنيف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68920" y="1079640"/>
            <a:ext cx="2378160" cy="1862280"/>
            <a:chOff x="5668920" y="1079640"/>
            <a:chExt cx="2378160" cy="1862280"/>
          </a:xfrm>
        </p:grpSpPr>
        <p:pic>
          <p:nvPicPr>
            <p:cNvPr id="2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5799240" y="1079640"/>
              <a:ext cx="160812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68920" y="2543040"/>
              <a:ext cx="23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 احتياج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132680" y="2789280"/>
            <a:ext cx="2011320" cy="2398320"/>
            <a:chOff x="7132680" y="2789280"/>
            <a:chExt cx="2011320" cy="239832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192800" y="2789280"/>
              <a:ext cx="1951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32680" y="4514760"/>
              <a:ext cx="198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900" spc="-1" strike="noStrike">
                  <a:solidFill>
                    <a:srgbClr val="ffffff"/>
                  </a:solidFill>
                  <a:latin typeface="Arial"/>
                </a:rPr>
                <a:t>إدارة تضارب المصال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53240" y="4676760"/>
            <a:ext cx="2468520" cy="2178720"/>
            <a:chOff x="5853240" y="4676760"/>
            <a:chExt cx="2468520" cy="217872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6095880" y="4676760"/>
              <a:ext cx="15861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53240" y="6151680"/>
              <a:ext cx="246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حماية سرية معلوم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2680" y="4803840"/>
            <a:ext cx="2683080" cy="2070720"/>
            <a:chOff x="3352680" y="4803840"/>
            <a:chExt cx="2683080" cy="2070720"/>
          </a:xfrm>
        </p:grpSpPr>
        <p:pic>
          <p:nvPicPr>
            <p:cNvPr id="271" name="" descr=""/>
            <p:cNvPicPr/>
            <p:nvPr/>
          </p:nvPicPr>
          <p:blipFill>
            <a:blip r:embed="rId6">
              <a:lum contrast="-20000"/>
            </a:blip>
            <a:stretch/>
          </p:blipFill>
          <p:spPr>
            <a:xfrm>
              <a:off x="3914640" y="4803840"/>
              <a:ext cx="1481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2680" y="6170760"/>
              <a:ext cx="268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لحصول على تغذيتهم الراج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360" y="4830840"/>
            <a:ext cx="3124080" cy="1700640"/>
            <a:chOff x="441360" y="4830840"/>
            <a:chExt cx="3124080" cy="1700640"/>
          </a:xfrm>
        </p:grpSpPr>
        <p:grpSp>
          <p:nvGrpSpPr>
            <p:cNvPr id="274" name=""/>
            <p:cNvGrpSpPr/>
            <p:nvPr/>
          </p:nvGrpSpPr>
          <p:grpSpPr>
            <a:xfrm>
              <a:off x="533160" y="4830840"/>
              <a:ext cx="3032280" cy="1158840"/>
              <a:chOff x="533160" y="4830840"/>
              <a:chExt cx="3032280" cy="1158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1480" y="4830840"/>
                <a:ext cx="1893960" cy="109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533160" y="4954680"/>
                <a:ext cx="1174680" cy="103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441360" y="6132600"/>
              <a:ext cx="24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طلاعهم بالمستجد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57240" y="3214800"/>
            <a:ext cx="2522520" cy="1432080"/>
            <a:chOff x="-57240" y="3214800"/>
            <a:chExt cx="2522520" cy="1432080"/>
          </a:xfrm>
        </p:grpSpPr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1840" y="3214800"/>
              <a:ext cx="1192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-57240" y="424800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      قياس رضا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72025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اعدتين لا ثالث لهما للتعامل مع العم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220400"/>
            <a:ext cx="7993080" cy="5334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أولى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يل دائما على ح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ث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هذا الكلام غير صحيح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ن ... أذهب للقاعدة الأ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العميل دائما .. دائما .. دائما .. على ح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189000"/>
            <a:ext cx="5834160" cy="155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راسة حول رضى العمل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1283760"/>
            <a:ext cx="8569440" cy="4604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ناك مشتكي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من كل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شخص غير راض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غير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شخ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شخا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ا ترتاح إذا كانت الشكاوي قل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x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11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236000" y="3352680"/>
            <a:ext cx="1661760" cy="165420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100000">
                <a:srgbClr val="6699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ستراتيجية 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م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4718160" cy="647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عادلة الولاء-خدمة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520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  <a:cs typeface="Arabic Transparent"/>
              </a:rPr>
              <a:t>الوسائل اللاز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1811160" cy="165420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Verdana"/>
              </a:rPr>
              <a:t>ول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تشجيع وو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امل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38098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84600" y="393372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3320" y="40384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56544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59280" y="1557360"/>
            <a:ext cx="3168720" cy="2376360"/>
          </a:xfrm>
          <a:prstGeom prst="wedgeEllipseCallout">
            <a:avLst>
              <a:gd name="adj1" fmla="val -99000"/>
              <a:gd name="adj2" fmla="val 18671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ظر سوف نتحسن غدا؟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4322880"/>
            <a:ext cx="381816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ة لا تخزن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476388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إدارة وتقوية علاقات ال</a:t>
            </a:r>
            <a:r>
              <a:rPr b="0" lang="ar-AE" sz="3900" spc="-1" strike="noStrike">
                <a:solidFill>
                  <a:srgbClr val="000000"/>
                </a:solidFill>
                <a:latin typeface="Arial"/>
              </a:rPr>
              <a:t>عملا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قاء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ج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تر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تحديد الاحتي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قاب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كز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52920" y="762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زيارات الم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960" y="2908440"/>
            <a:ext cx="52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وسائل تحديد احتي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متعاملين الخارج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15920"/>
            <a:ext cx="585936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يمكنني الوفاء بمتطلبات ال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69120" y="115920"/>
            <a:ext cx="9399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9520"/>
            <a:ext cx="7559640" cy="5031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غرس مفاهيم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ارة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جودة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ش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ل تستحق ادارة الجودة هذا الجه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الفرص للتحاور ومناقشة المواضيع المتعلقة ب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ساعدة في إنشاء خلفية وفكر ايجابي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قيق نتائج وأداء أفض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شجيع ومراعاة وتبنى استخدام أفضل التطبيقات بما يتناسب مع مناخ البيئة المحلي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15920"/>
            <a:ext cx="4519440" cy="5763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907920"/>
            <a:ext cx="1130400" cy="5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02440" y="2279520"/>
            <a:ext cx="533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عميل الداخل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2781360"/>
            <a:ext cx="3267000" cy="2104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هو العميل الداخ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484360" y="1052640"/>
            <a:ext cx="3816360" cy="307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العميل الداخ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أو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لاء بالأقسام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حديد الإحتياجات التدر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مكين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رسم المسار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ظيف الموظفين الملائ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290844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نهجيات التعا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ع الموظ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209680"/>
            <a:ext cx="82915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مثال يشرح عندما يغفل أو يتكاسل موظف ما  في المشاركة في تحسين الج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600200" y="1593720"/>
            <a:ext cx="6324480" cy="351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086600" y="3068640"/>
            <a:ext cx="1622520" cy="2822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981000"/>
            <a:ext cx="2459160" cy="2217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14400" y="105264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96080" y="3789360"/>
            <a:ext cx="1103400" cy="163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2359080" cy="2075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797120"/>
            <a:ext cx="2759040" cy="2073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447920" cy="169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6880" y="41911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1120" y="411480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809880" y="1676520"/>
            <a:ext cx="2062440" cy="2074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466680" y="4038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590920"/>
            <a:ext cx="1463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532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35908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19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7600" y="23623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44332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390720" y="2286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312408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 u="sng">
                <a:solidFill>
                  <a:srgbClr val="000099"/>
                </a:solidFill>
                <a:uFillTx/>
                <a:latin typeface="Times New Roman"/>
              </a:rPr>
              <a:t>ماذا يستطيع الموظف الأول و الثالث فعله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24160" y="380988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قيام بأداء وظيفة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إخطار الادارة بغياب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أجيل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لو تتكرت المشكلة ....البحث عن الاسبا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75248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841320"/>
            <a:ext cx="5761080" cy="606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r" rtl="1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 الفص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مقدمة عامة عن إدار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عمليات فعال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AE" sz="2800" spc="-1" strike="noStrike">
                <a:solidFill>
                  <a:srgbClr val="cc3300"/>
                </a:solidFill>
                <a:latin typeface="Arial"/>
                <a:cs typeface="Arial"/>
              </a:rPr>
              <a:t>الفص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أخطاء شائعة عند تطبيق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دور الق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حسين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ختبار تحري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خلا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ستبا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71280"/>
            <a:ext cx="5095800" cy="621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98800"/>
            <a:ext cx="17794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واض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 rtl="1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300" spc="-1" strike="noStrike">
                <a:solidFill>
                  <a:srgbClr val="000000"/>
                </a:solidFill>
                <a:latin typeface="Arial"/>
              </a:rPr>
              <a:t> من خلال العشر دقائق القادمة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900" spc="-1" strike="noStrike">
                <a:solidFill>
                  <a:srgbClr val="000099"/>
                </a:solidFill>
                <a:latin typeface="Arial"/>
              </a:rPr>
              <a:t>من هو المسئول عن تطبيق الجودة، و لماذا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22160" cy="2590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4680" y="1274760"/>
            <a:ext cx="954576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الجودة هي مسئولية كل فرد في المؤسس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2251080"/>
            <a:ext cx="418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ضابط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امل النظ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ظ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أمين المخ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دير/المشر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س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خ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1973160"/>
            <a:ext cx="7416720" cy="521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التركيز الأهم في أي نشاط هو ارضاء العميل. يتم تصنيف العملاء كداخليين (زملاء في العمل) أو خارجيين. ومن خلال توفير رضاء العملاء (داخليا أو خارجيا)، ستساهم في تعزيز الج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89000"/>
            <a:ext cx="456264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أساهم في تحقيق الجود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2004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91120" y="228600"/>
            <a:ext cx="3695760" cy="7621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  <a:cs typeface="Arabic Transparent"/>
              </a:rPr>
              <a:t>ما هي العملية …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600200"/>
            <a:ext cx="5334120" cy="180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imes New Roman"/>
                <a:cs typeface="Arabic Transparent"/>
              </a:rPr>
              <a:t>العملية هي تحويل مجموعة من المدخلات التي يمكن أن تتضمن أعمال، أساليب وأنشطة إلى مخرجات مطلو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2400" y="3048120"/>
            <a:ext cx="1112760" cy="2562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سال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ه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889440"/>
            <a:ext cx="1066680" cy="1739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خد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42120" y="3962520"/>
            <a:ext cx="1577880" cy="119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796000"/>
            <a:ext cx="106668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91320"/>
            <a:ext cx="106704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57600"/>
            <a:ext cx="46332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3960" y="3657600"/>
            <a:ext cx="46368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124080" y="457200"/>
            <a:ext cx="3200400" cy="5335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فهوم 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مل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428840"/>
            <a:ext cx="8318520" cy="4173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2276640"/>
            <a:ext cx="7345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17080" y="2781360"/>
            <a:ext cx="79200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40720" y="3500280"/>
            <a:ext cx="504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2781360"/>
            <a:ext cx="934920" cy="16556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8124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2781360"/>
            <a:ext cx="914400" cy="158436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2852640"/>
            <a:ext cx="936720" cy="158436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0" y="2781360"/>
            <a:ext cx="72072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يل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3492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0328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268360" y="3500280"/>
            <a:ext cx="36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9964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9840" y="5967360"/>
            <a:ext cx="75722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جموعة من العمليات المتفاعلة داخل الدائ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rot="5406000">
            <a:off x="4066920" y="2629080"/>
            <a:ext cx="646200" cy="5686560"/>
          </a:xfrm>
          <a:custGeom>
            <a:avLst/>
            <a:gdLst>
              <a:gd name="textAreaLeft" fmla="*/ 412920 w 646200"/>
              <a:gd name="textAreaRight" fmla="*/ 646560 w 646200"/>
              <a:gd name="textAreaTop" fmla="*/ 72720 h 5686560"/>
              <a:gd name="textAreaBottom" fmla="*/ 5613840 h 56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10161"/>
                </a:lnTo>
                <a:cubicBezTo>
                  <a:pt x="10800" y="10603"/>
                  <a:pt x="5400" y="11044"/>
                  <a:pt x="0" y="11044"/>
                </a:cubicBezTo>
                <a:cubicBezTo>
                  <a:pt x="5400" y="11044"/>
                  <a:pt x="10800" y="11486"/>
                  <a:pt x="10800" y="11927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150840"/>
            <a:ext cx="305928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إدارة عمليات فاع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33520" y="1125360"/>
            <a:ext cx="8070120" cy="5144400"/>
            <a:chOff x="533520" y="1125360"/>
            <a:chExt cx="8070120" cy="51444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6510600" y="1228320"/>
              <a:ext cx="20930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3521880" y="2671560"/>
              <a:ext cx="2033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798880" y="4217760"/>
              <a:ext cx="218844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33520" y="4391640"/>
              <a:ext cx="21344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960120" y="1125360"/>
              <a:ext cx="1965240" cy="1256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"/>
            <p:cNvCxnSpPr>
              <a:stCxn id="401" idx="0"/>
              <a:endCxn id="404" idx="3"/>
            </p:cNvCxnSpPr>
            <p:nvPr/>
          </p:nvCxnSpPr>
          <p:spPr>
            <a:xfrm flipV="1" rot="16200000">
              <a:off x="3273120" y="1405440"/>
              <a:ext cx="917640" cy="1613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4" idx="2"/>
              <a:endCxn id="403" idx="3"/>
            </p:cNvCxnSpPr>
            <p:nvPr/>
          </p:nvCxnSpPr>
          <p:spPr>
            <a:xfrm flipH="1" rot="16200000">
              <a:off x="1008360" y="3317040"/>
              <a:ext cx="2594880" cy="723960"/>
            </a:xfrm>
            <a:prstGeom prst="bentConnector4">
              <a:avLst>
                <a:gd name="adj1" fmla="val 38740"/>
                <a:gd name="adj2" fmla="val 1590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>
              <a:stCxn id="403" idx="2"/>
              <a:endCxn id="402" idx="2"/>
            </p:cNvCxnSpPr>
            <p:nvPr/>
          </p:nvCxnSpPr>
          <p:spPr>
            <a:xfrm flipH="1" rot="16200000">
              <a:off x="4166640" y="2991600"/>
              <a:ext cx="161280" cy="5293440"/>
            </a:xfrm>
            <a:prstGeom prst="bentConnector3">
              <a:avLst>
                <a:gd name="adj1" fmla="val 2919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"/>
            <p:cNvCxnSpPr>
              <a:stCxn id="402" idx="1"/>
              <a:endCxn id="401" idx="2"/>
            </p:cNvCxnSpPr>
            <p:nvPr/>
          </p:nvCxnSpPr>
          <p:spPr>
            <a:xfrm rot="10800000">
              <a:off x="4537800" y="4015080"/>
              <a:ext cx="1260720" cy="95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"/>
            <p:cNvCxnSpPr>
              <a:stCxn id="401" idx="3"/>
              <a:endCxn id="400" idx="1"/>
            </p:cNvCxnSpPr>
            <p:nvPr/>
          </p:nvCxnSpPr>
          <p:spPr>
            <a:xfrm flipV="1">
              <a:off x="5555880" y="2077920"/>
              <a:ext cx="955440" cy="1265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0" name=""/>
            <p:cNvSpPr/>
            <p:nvPr/>
          </p:nvSpPr>
          <p:spPr>
            <a:xfrm>
              <a:off x="3022920" y="1434600"/>
              <a:ext cx="89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6800" y="298080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2800" y="568908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1840" y="4714200"/>
              <a:ext cx="89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480" y="2259000"/>
              <a:ext cx="139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716360" y="150840"/>
            <a:ext cx="29149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مثال عن عملية م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3fe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206360"/>
          <a:ext cx="80884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6360"/>
                    <a:ext cx="80884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50920" y="5421240"/>
            <a:ext cx="24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الغلاف ويتضمن إسم العملية، المجال، الهدف، والتعدي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5624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خطوات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5481720"/>
            <a:ext cx="26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شرح تفصيلي للخطوات، معلومات إضافية، مراجع إضاقية، ومؤشرات أداء، وغي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485120" y="82440"/>
            <a:ext cx="1441440" cy="1123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924360" y="260280"/>
            <a:ext cx="346392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ثال لعملية حق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81080" y="1905120"/>
            <a:ext cx="5105520" cy="6094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مثالي أو المطل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12708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572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13000" y="3571920"/>
            <a:ext cx="246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81080" y="3338280"/>
            <a:ext cx="0" cy="996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7800" y="2787480"/>
            <a:ext cx="100656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يد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146560"/>
            <a:ext cx="8348760" cy="947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كلة هي الفجوة (الفرق) بين الوضع الحالي والوضع ال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4240" y="2940120"/>
            <a:ext cx="100656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جوة</a:t>
            </a: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419360" y="3316320"/>
            <a:ext cx="9745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74680"/>
            <a:ext cx="382752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900" spc="-1" strike="noStrike">
                <a:solidFill>
                  <a:srgbClr val="000000"/>
                </a:solidFill>
                <a:latin typeface="Arial"/>
              </a:rPr>
              <a:t>تعريف المشكلة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419720" y="1676520"/>
            <a:ext cx="4383000" cy="143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ملية التحسين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12040" y="3333600"/>
            <a:ext cx="143820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ورد الداخلي /الخار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75280" y="3438360"/>
            <a:ext cx="143820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448080"/>
            <a:ext cx="107784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83240"/>
            <a:ext cx="1438200" cy="7038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7640" y="5521320"/>
            <a:ext cx="2302200" cy="1026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ج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00760" y="3505320"/>
            <a:ext cx="12240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دخ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5440" y="3505320"/>
            <a:ext cx="12222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4960" y="4718160"/>
            <a:ext cx="1222200" cy="7365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2000" y="2995560"/>
            <a:ext cx="2301840" cy="39888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دير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2476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61348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7280" y="383868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017440" y="3838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78160" y="5119560"/>
            <a:ext cx="517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5440" y="38498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17800" y="39164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7800" y="43178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21080" y="5989680"/>
            <a:ext cx="136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89840" y="5989680"/>
            <a:ext cx="1365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496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2108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تحليل العملي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781360"/>
            <a:ext cx="3267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ي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57200" y="1828800"/>
            <a:ext cx="8381520" cy="4671000"/>
            <a:chOff x="457200" y="1828800"/>
            <a:chExt cx="8381520" cy="4671000"/>
          </a:xfrm>
        </p:grpSpPr>
        <p:sp>
          <p:nvSpPr>
            <p:cNvPr id="457" name=""/>
            <p:cNvSpPr/>
            <p:nvPr/>
          </p:nvSpPr>
          <p:spPr>
            <a:xfrm>
              <a:off x="1294920" y="4864680"/>
              <a:ext cx="5616000" cy="336960"/>
            </a:xfrm>
            <a:prstGeom prst="parallelogram">
              <a:avLst>
                <a:gd name="adj" fmla="val 416667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2120" y="2569320"/>
              <a:ext cx="12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ت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5880" y="2773080"/>
              <a:ext cx="7292160" cy="16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6600" y="3515040"/>
              <a:ext cx="2095560" cy="14842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1828800"/>
              <a:ext cx="100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وقا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49360" y="3243960"/>
              <a:ext cx="108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600" y="216576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480" y="27730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15600">
              <a:off x="8084160" y="37846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480" y="5430960"/>
              <a:ext cx="687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u="sng">
                  <a:solidFill>
                    <a:srgbClr val="0000ff"/>
                  </a:solidFill>
                  <a:uFillTx/>
                  <a:latin typeface="Times New Roman"/>
                  <a:ea typeface="Monotype Koufi"/>
                </a:rPr>
                <a:t>“التركيز على الوقاية وليس التصحيح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042920" y="228600"/>
            <a:ext cx="779616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</a:rPr>
              <a:t>الحاجة إلى الجودة: تحسين الأداء وخفض التكالي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fe"/>
            </a:gs>
            <a:gs pos="50000">
              <a:srgbClr val="fee7f2"/>
            </a:gs>
            <a:gs pos="100000">
              <a:srgbClr val="c4f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619280" y="333360"/>
            <a:ext cx="63151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طرق والأساليب المستخدمة في ادار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35226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حلقات ال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45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سيجما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igma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0920" y="328464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لمقارن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03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1413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أدوات الاحص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4869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عادة الهي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5516640"/>
            <a:ext cx="23540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شهادة الايزو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900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8920" y="479736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جوائز ال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564000" y="2820960"/>
            <a:ext cx="23032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3160" y="1700280"/>
            <a:ext cx="5497560" cy="667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معايير أو مقاييس أو قواعد  نظامية متراك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 بهدف الوصول للجودة الشاملة, تشرح و توجه من خلالها المتطلبات لكيفية بناء الجوده في الشرك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060720" y="177336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ق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افع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برهن/اثب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حس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322360" cy="403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فوائد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971640" y="1662120"/>
            <a:ext cx="6865920" cy="49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نظام توث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التطوير المست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أول خطوة ل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دعاية تجارية و اعلامية فعالة و ق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886680"/>
            <a:ext cx="8439120" cy="4749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AE" sz="5000" spc="-1" strike="noStrike">
                <a:solidFill>
                  <a:srgbClr val="000000"/>
                </a:solidFill>
                <a:latin typeface="Times New Roman"/>
                <a:cs typeface="DecoType Naskh"/>
              </a:rPr>
              <a:t>يا أيها الذين امنوا لم تقولون مالا تفعلون (*) كبر مقتا عند الله أن تقولوا مالا تفعلون(*)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</a:t>
            </a:r>
            <a:r>
              <a:rPr b="0" lang="ar-AE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لصف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250000" y="2279520"/>
            <a:ext cx="46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4360" y="1159920"/>
            <a:ext cx="71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أخطاء شائعة عند تطبيق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مبادئ الجودة: إلتزام القيادة والتحسين المستم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جوائز الجودة والتمي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دارة التغي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ختبار ت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ستبا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333360"/>
            <a:ext cx="3267000" cy="7642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فصل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47640" y="1614600"/>
            <a:ext cx="64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شعارات والملصقات واللافت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دوائر/أقسام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ندوات وورش العمل المؤق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برنامج رقاب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ستعجال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9000"/>
            <a:ext cx="549936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أخطاء شائعة عند 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611280" y="1442880"/>
            <a:ext cx="2305080" cy="148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55640" y="3429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711080" y="2279520"/>
            <a:ext cx="532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جودة والقياد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62197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765000"/>
            <a:ext cx="8362440" cy="5406480"/>
            <a:chOff x="324000" y="765000"/>
            <a:chExt cx="8362440" cy="5406480"/>
          </a:xfrm>
        </p:grpSpPr>
        <p:sp>
          <p:nvSpPr>
            <p:cNvPr id="168" name=""/>
            <p:cNvSpPr/>
            <p:nvPr/>
          </p:nvSpPr>
          <p:spPr>
            <a:xfrm>
              <a:off x="3486240" y="2434680"/>
              <a:ext cx="1897200" cy="1502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1680" y="2184120"/>
              <a:ext cx="3794760" cy="1966320"/>
            </a:xfrm>
            <a:prstGeom prst="hexagon">
              <a:avLst>
                <a:gd name="adj" fmla="val 55957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7240" y="4203720"/>
              <a:ext cx="4497480" cy="1967760"/>
            </a:xfrm>
            <a:prstGeom prst="hexagon">
              <a:avLst>
                <a:gd name="adj" fmla="val 5714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519720"/>
              <a:ext cx="4638240" cy="2587320"/>
            </a:xfrm>
            <a:prstGeom prst="hexagon">
              <a:avLst>
                <a:gd name="adj" fmla="val 58345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2960" y="3603240"/>
              <a:ext cx="400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عد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وجود أخط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في المنت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أو الخدم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166840"/>
              <a:ext cx="3794760" cy="1964520"/>
            </a:xfrm>
            <a:prstGeom prst="hexagon">
              <a:avLst>
                <a:gd name="adj" fmla="val 56009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5760" y="765000"/>
              <a:ext cx="4005720" cy="2171160"/>
            </a:xfrm>
            <a:prstGeom prst="hexagon">
              <a:avLst>
                <a:gd name="adj" fmla="val 6217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240" y="1266480"/>
              <a:ext cx="211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الالتزام والإيفا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بمتطلبات العملا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" y="2434680"/>
              <a:ext cx="384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لاءمة المنتج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او الخدمة للغر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او الاستخدام</a:t>
              </a: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96480" y="2237400"/>
              <a:ext cx="2908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</a:t>
              </a: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مل الشىء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 الصحيح بالطريق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الصحيحة من أو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مرة وفي كل مر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835600" y="804960"/>
            <a:ext cx="2105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3399"/>
                </a:solidFill>
                <a:latin typeface="Arial"/>
                <a:cs typeface="Arabic Transparent"/>
              </a:rPr>
              <a:t>الجود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1845000" cy="792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560" y="1658880"/>
            <a:ext cx="8002800" cy="464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يئة العليا المسؤولة عن توجيه الدائرة وسياستها بصورة عامة وقيادة مواردها البشرية نحو تحقيق رؤيتها ورسال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ضم المدير العام ونوابه ومساعديه ومدراء الوحدات التنظيمية وغيرهم من المشرفين الذين يتحملون مسؤوليات قياد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71680" y="2503440"/>
            <a:ext cx="8126280" cy="2949480"/>
          </a:xfrm>
          <a:prstGeom prst="rect">
            <a:avLst/>
          </a:prstGeom>
          <a:solidFill>
            <a:srgbClr val="dfeaff"/>
          </a:soli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8440" y="542916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وع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3540240"/>
            <a:ext cx="8180280" cy="1904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التز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4440240"/>
            <a:ext cx="6902640" cy="101268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شا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8320" y="3452760"/>
            <a:ext cx="5712120" cy="9810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تحف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54120" y="2509920"/>
            <a:ext cx="4368960" cy="9396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6520" y="587520"/>
            <a:ext cx="8199360" cy="4870440"/>
            <a:chOff x="506520" y="587520"/>
            <a:chExt cx="8199360" cy="4870440"/>
          </a:xfrm>
        </p:grpSpPr>
        <p:sp>
          <p:nvSpPr>
            <p:cNvPr id="509" name=""/>
            <p:cNvSpPr/>
            <p:nvPr/>
          </p:nvSpPr>
          <p:spPr>
            <a:xfrm>
              <a:off x="579600" y="2497320"/>
              <a:ext cx="8126280" cy="2949480"/>
            </a:xfrm>
            <a:prstGeom prst="rect">
              <a:avLst/>
            </a:prstGeom>
            <a:solidFill>
              <a:srgbClr val="dfeaff"/>
            </a:soli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87520"/>
              <a:ext cx="8180280" cy="190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التزا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67160" y="2514600"/>
              <a:ext cx="4368600" cy="93996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تابع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3457800"/>
              <a:ext cx="5711760" cy="98100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تحفي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57480" y="4445280"/>
              <a:ext cx="6902280" cy="101268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شارك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93975E-006 L -0.00191 -0.13858 E">
                                      <p:cBhvr>
                                        <p:cTn id="43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44444E-006 -0.15365 L -0.00382 -0.28969 E">
                                      <p:cBhvr>
                                        <p:cTn id="447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82 -0.28969 L -0.00209 -0.43036 E">
                                      <p:cBhvr>
                                        <p:cTn id="45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835280" y="1197000"/>
            <a:ext cx="5067000" cy="3924360"/>
          </a:xfrm>
          <a:prstGeom prst="rect">
            <a:avLst/>
          </a:prstGeom>
          <a:gradFill rotWithShape="0">
            <a:gsLst>
              <a:gs pos="0">
                <a:srgbClr val="99bd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84280" y="2540160"/>
            <a:ext cx="3322800" cy="3124080"/>
          </a:xfrm>
          <a:custGeom>
            <a:avLst/>
            <a:gdLst/>
            <a:ahLst/>
            <a:rect l="l" t="t" r="r" b="b"/>
            <a:pathLst>
              <a:path w="2093" h="1968">
                <a:moveTo>
                  <a:pt x="0" y="0"/>
                </a:moveTo>
                <a:cubicBezTo>
                  <a:pt x="80" y="23"/>
                  <a:pt x="160" y="46"/>
                  <a:pt x="250" y="115"/>
                </a:cubicBezTo>
                <a:cubicBezTo>
                  <a:pt x="340" y="184"/>
                  <a:pt x="440" y="302"/>
                  <a:pt x="538" y="413"/>
                </a:cubicBezTo>
                <a:cubicBezTo>
                  <a:pt x="636" y="524"/>
                  <a:pt x="715" y="663"/>
                  <a:pt x="835" y="778"/>
                </a:cubicBezTo>
                <a:cubicBezTo>
                  <a:pt x="955" y="893"/>
                  <a:pt x="1149" y="1026"/>
                  <a:pt x="1258" y="1104"/>
                </a:cubicBezTo>
                <a:cubicBezTo>
                  <a:pt x="1367" y="1182"/>
                  <a:pt x="1416" y="1195"/>
                  <a:pt x="1488" y="1248"/>
                </a:cubicBezTo>
                <a:cubicBezTo>
                  <a:pt x="1560" y="1301"/>
                  <a:pt x="1623" y="1363"/>
                  <a:pt x="1690" y="1421"/>
                </a:cubicBezTo>
                <a:cubicBezTo>
                  <a:pt x="1757" y="1479"/>
                  <a:pt x="1843" y="1533"/>
                  <a:pt x="1891" y="1594"/>
                </a:cubicBezTo>
                <a:cubicBezTo>
                  <a:pt x="1939" y="1655"/>
                  <a:pt x="1944" y="1724"/>
                  <a:pt x="1978" y="1786"/>
                </a:cubicBezTo>
                <a:cubicBezTo>
                  <a:pt x="2012" y="1848"/>
                  <a:pt x="2052" y="1908"/>
                  <a:pt x="2093" y="1968"/>
                </a:cubicBezTo>
              </a:path>
            </a:pathLst>
          </a:custGeom>
          <a:noFill/>
          <a:ln w="76320">
            <a:solidFill>
              <a:srgbClr val="66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57080" y="-801360"/>
            <a:ext cx="8729640" cy="7602840"/>
            <a:chOff x="757080" y="-801360"/>
            <a:chExt cx="8729640" cy="7602840"/>
          </a:xfrm>
        </p:grpSpPr>
        <p:sp>
          <p:nvSpPr>
            <p:cNvPr id="517" name=""/>
            <p:cNvSpPr/>
            <p:nvPr/>
          </p:nvSpPr>
          <p:spPr>
            <a:xfrm rot="186000">
              <a:off x="838080" y="3396960"/>
              <a:ext cx="7620120" cy="3200400"/>
            </a:xfrm>
            <a:prstGeom prst="rect">
              <a:avLst/>
            </a:prstGeom>
            <a:gradFill rotWithShape="0">
              <a:gsLst>
                <a:gs pos="0">
                  <a:srgbClr val="99bdff"/>
                </a:gs>
                <a:gs pos="100000">
                  <a:srgbClr val="e5eeff"/>
                </a:gs>
              </a:gsLst>
              <a:lin ang="5214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64640" y="3210120"/>
              <a:ext cx="3039840" cy="3199680"/>
              <a:chOff x="1664640" y="3210120"/>
              <a:chExt cx="3039840" cy="3199680"/>
            </a:xfrm>
          </p:grpSpPr>
          <p:sp>
            <p:nvSpPr>
              <p:cNvPr id="519" name=""/>
              <p:cNvSpPr/>
              <p:nvPr/>
            </p:nvSpPr>
            <p:spPr>
              <a:xfrm rot="2503800">
                <a:off x="2574720" y="320976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8704400">
                <a:off x="1902240" y="4543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طبي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395160" y="3319200"/>
              <a:ext cx="2915640" cy="3388320"/>
              <a:chOff x="3395160" y="3319200"/>
              <a:chExt cx="2915640" cy="3388320"/>
            </a:xfrm>
          </p:grpSpPr>
          <p:sp>
            <p:nvSpPr>
              <p:cNvPr id="522" name=""/>
              <p:cNvSpPr/>
              <p:nvPr/>
            </p:nvSpPr>
            <p:spPr>
              <a:xfrm rot="2082000">
                <a:off x="4187520" y="3413160"/>
                <a:ext cx="133020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282000">
                <a:off x="3539880" y="470700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قيي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03600" y="5329440"/>
              <a:ext cx="3287160" cy="1469520"/>
              <a:chOff x="5403600" y="5329440"/>
              <a:chExt cx="3287160" cy="1469520"/>
            </a:xfrm>
          </p:grpSpPr>
          <p:sp>
            <p:nvSpPr>
              <p:cNvPr id="525" name=""/>
              <p:cNvSpPr/>
              <p:nvPr/>
            </p:nvSpPr>
            <p:spPr>
              <a:xfrm rot="5673600">
                <a:off x="6437520" y="446400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3600">
                <a:off x="5713560" y="5803920"/>
                <a:ext cx="26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مراجع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2036400">
              <a:off x="1077480" y="1440000"/>
              <a:ext cx="8610840" cy="1904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نتائ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0"/>
            <a:ext cx="10167840" cy="7126200"/>
          </a:xfrm>
          <a:prstGeom prst="rect">
            <a:avLst/>
          </a:prstGeom>
          <a:gradFill rotWithShape="0">
            <a:gsLst>
              <a:gs pos="0">
                <a:srgbClr val="3939ab"/>
              </a:gs>
              <a:gs pos="100000">
                <a:srgbClr val="2727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280" y="531504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669999"/>
                </a:solidFill>
                <a:latin typeface="Arial"/>
              </a:rPr>
              <a:t>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1840" y="2095560"/>
            <a:ext cx="121896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05360" y="2095560"/>
            <a:ext cx="133020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04840" y="2095560"/>
            <a:ext cx="121932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1529280" y="31838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540600" y="31726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57880" y="3435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عمليات فع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0"/>
            <a:ext cx="8610480" cy="1905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نتائج/التحسين والتطو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0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2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4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6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9999998807907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solidFill>
            <a:srgbClr val="dfeaff"/>
          </a:soli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طوير الرؤية والرسالة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تعامل مع جميع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وضع وتطوير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مشارك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بني سياس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بناء ثقافة التميز لدى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فير بيئة مشجعة على الإبد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إلتزام بالقيم المؤس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91760" y="163440"/>
            <a:ext cx="314028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هجيات 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484360" y="2448000"/>
            <a:ext cx="40388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8000" y="1197000"/>
          <a:ext cx="7632720" cy="47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7632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06440" y="11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900" spc="-1" strike="noStrike">
                <a:solidFill>
                  <a:srgbClr val="ffffff"/>
                </a:solidFill>
                <a:latin typeface="Arial"/>
              </a:rPr>
              <a:t>النتائج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76360" y="2276640"/>
            <a:ext cx="1584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0720" y="2276640"/>
            <a:ext cx="1440000" cy="1081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00720" y="1413000"/>
            <a:ext cx="1296720" cy="20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16080" y="163440"/>
            <a:ext cx="5272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طوير والتحسين المست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7342200" y="177336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319640" cy="352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195640" y="260280"/>
            <a:ext cx="4951440" cy="74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9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الم يتغير بسرعة كبيرة جد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4716600">
            <a:off x="6957720" y="11059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55040" y="1155600"/>
            <a:ext cx="2292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 غير راض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94400" y="5835600"/>
            <a:ext cx="865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ط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9924800">
            <a:off x="585000" y="3532320"/>
            <a:ext cx="1015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وب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1482800">
            <a:off x="665280" y="18097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با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848800">
            <a:off x="8006400" y="2182320"/>
            <a:ext cx="105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لوتو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398600">
            <a:off x="7131240" y="3821400"/>
            <a:ext cx="190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جبات سري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47600">
            <a:off x="2414160" y="5835960"/>
            <a:ext cx="1564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غيير مناه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773000">
            <a:off x="860040" y="4437000"/>
            <a:ext cx="2370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وائز جودة و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120" y="5877000"/>
            <a:ext cx="951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و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35000">
            <a:off x="6294960" y="5091480"/>
            <a:ext cx="109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مبي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5600" y="189000"/>
            <a:ext cx="1756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راكز 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0029200">
            <a:off x="4777200" y="4467240"/>
            <a:ext cx="159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غلاء معي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700600" cy="744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جودة و تحديات الانفتاح الاقتصادي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026560" cy="3960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أهم الاتفاقيات الاقتصادية و التجارية التي وقعتها الدول العرب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الشراكة الأورو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نضمام إلى منظمة التجار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العربية الكب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مع امريك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تفاقيات الثن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457200" y="2622600"/>
          <a:ext cx="8229600" cy="3747960"/>
        </p:xfrm>
        <a:graphic>
          <a:graphicData uri="http://schemas.openxmlformats.org/drawingml/2006/table">
            <a:tbl>
              <a:tblPr/>
              <a:tblGrid>
                <a:gridCol w="5735520"/>
                <a:gridCol w="1503360"/>
                <a:gridCol w="990720"/>
              </a:tblGrid>
              <a:tr h="874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ing priz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8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colm Baldrig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10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Quality Aw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Award for Excel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2411280" y="1727280"/>
            <a:ext cx="67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حوالي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 برنامجاً مطبقاً لإدارة الجودة في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49440" y="692280"/>
            <a:ext cx="1606320" cy="16905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عال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مح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177336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ارقة للتمي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حمدان للتميز العل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خليفة للم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ة لطيفة بنت محمد للإأ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راس الخيمة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685800" y="1266840"/>
            <a:ext cx="2814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411280" y="333360"/>
            <a:ext cx="5427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فوائد جوائز الجودة و التمي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3480" y="1562040"/>
            <a:ext cx="8012160" cy="474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خدام معايير الجائزة كدليلٍ للأداء المتميز وموجهٍ لتطوير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قرير تقييمي يوضح نقاط القوة وفرص التحس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داة للتقييم الذاتي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قارنة الأداء مع مؤسسات عالم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ريع الجهود التطوي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فيز الموظفين وفر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زيادة رضا المتعامالين الخارج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عتراف بالدائرة/ الإدارة كجهة رائدة ونموذجٍ للتمي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ذكار الجائزة كحافزٍ وتكريمٍ مع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1600200"/>
            <a:ext cx="8763120" cy="3884400"/>
            <a:chOff x="380880" y="1600200"/>
            <a:chExt cx="8763120" cy="3884400"/>
          </a:xfrm>
        </p:grpSpPr>
        <p:sp>
          <p:nvSpPr>
            <p:cNvPr id="180" name=""/>
            <p:cNvSpPr/>
            <p:nvPr/>
          </p:nvSpPr>
          <p:spPr>
            <a:xfrm>
              <a:off x="529560" y="3588480"/>
              <a:ext cx="8391240" cy="189612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360" y="1600200"/>
              <a:ext cx="8329680" cy="176868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741680"/>
              <a:ext cx="876312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8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قال الله تعالى</a:t>
              </a:r>
              <a:r>
                <a:rPr b="0" lang="ar-SA" sz="2800" spc="-1" strike="noStrike">
                  <a:solidFill>
                    <a:srgbClr val="ff0000"/>
                  </a:solidFill>
                  <a:latin typeface="Times New Roman"/>
                  <a:ea typeface="DecoType Naskh"/>
                </a:rPr>
                <a:t> </a:t>
              </a:r>
              <a:r>
                <a:rPr b="0" lang="ar-SA" sz="3600" spc="-1" strike="noStrike">
                  <a:solidFill>
                    <a:srgbClr val="0000ff"/>
                  </a:solidFill>
                  <a:latin typeface="Times New Roman"/>
                  <a:ea typeface="DecoType Naskh"/>
                </a:rPr>
                <a:t>( يا أيها الذين آمنوا أوفوا بالعقود )</a:t>
              </a:r>
              <a:r>
                <a:rPr b="0" lang="ar-SA" sz="2800" spc="-1" strike="noStrike">
                  <a:solidFill>
                    <a:srgbClr val="008000"/>
                  </a:solidFill>
                  <a:latin typeface="Times New Roman"/>
                  <a:ea typeface="DecoType Naskh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سورة المائدة  : الآية </a:t>
              </a: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ea typeface="DecoType Naskh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14880" y="4078440"/>
            <a:ext cx="666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ن الله يحب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حدكم  إذا عمل  عملاً أن يتقنه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ح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ديث ش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354400" y="227952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إدارة التغي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219640" y="333360"/>
            <a:ext cx="2475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دارة التغي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3429000"/>
            <a:ext cx="52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55736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رجع أسباب التغيير الى اصدار قوانين جديدة او رغبات جديدة أو تغير في التكنولوج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895480"/>
            <a:ext cx="7740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</a:rPr>
              <a:t> للحصول على ردود ايجابية في مرحلة التغيير لا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خطة لإدار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دراسة العوائق و ردود الافع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وضيح الصورة الإيجابية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اعلان الفوائد والنتائ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867360" cy="5327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76360" y="2349360"/>
            <a:ext cx="5975280" cy="381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11280" y="1268280"/>
            <a:ext cx="3816360" cy="1130400"/>
          </a:xfrm>
          <a:prstGeom prst="ellipse">
            <a:avLst/>
          </a:prstGeom>
          <a:noFill/>
          <a:ln w="38160">
            <a:solidFill>
              <a:srgbClr val="7e2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643280" y="189000"/>
            <a:ext cx="3098880" cy="764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قاف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258920" y="2276640"/>
            <a:ext cx="7416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7280" y="371628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116000" y="5011200"/>
            <a:ext cx="7559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81480" y="1916280"/>
            <a:ext cx="1046160" cy="3600360"/>
          </a:xfrm>
          <a:prstGeom prst="flowChartExtra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7120" y="1844640"/>
            <a:ext cx="1046160" cy="3672000"/>
          </a:xfrm>
          <a:prstGeom prst="flowChartMerg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1989000"/>
            <a:ext cx="1057320" cy="352764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24720" y="1989000"/>
            <a:ext cx="914400" cy="352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520" y="1773360"/>
            <a:ext cx="15188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00" y="4676760"/>
            <a:ext cx="15296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دارة الد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164880" y="3213000"/>
            <a:ext cx="194112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حتاج تطبيق الجودة من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سن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توقع بعض من المدراء أن الجودة ستحل جميع مشاكل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سعي إلى الفوز بجوائز الجودة والتميز (هي النها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عدد أساليب وطرق الجودة وعدم ربطها بالخطة الإستراتيجية للدائ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9640" y="189000"/>
            <a:ext cx="2519280" cy="17398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فخ الثقاف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44480" y="122400"/>
            <a:ext cx="4959360" cy="930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ختبار تحريري</a:t>
            </a:r>
            <a:endParaRPr b="1" lang="en-US" sz="5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1686240" y="1752480"/>
            <a:ext cx="12479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أكتب أسمك على الورقة بوضو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دة الإختبار 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دقائق فق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منوع الغ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66"/>
            </a:gs>
            <a:gs pos="50000">
              <a:srgbClr val="fee7f2"/>
            </a:gs>
            <a:gs pos="100000">
              <a:srgbClr val="33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716360" y="476280"/>
            <a:ext cx="31338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ختبار تحري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65840" y="232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989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دة الاجابة خمس دقائ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الدرجة من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(درجة لكل سؤا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منوع الغ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8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ركيز على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شمل كل فرد/جزء ب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تطلب ولاء والتزام كل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أسلوب وق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جودة تحتاج إلى وقت طويل لضمان نتائج ممتا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طوير والتحديث المستمر(التعليم والتدريب المستم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08720" y="189000"/>
            <a:ext cx="2185920" cy="7034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خل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664000" y="228600"/>
            <a:ext cx="5779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99"/>
                </a:solidFill>
                <a:uFillTx/>
                <a:latin typeface="Optim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820880" y="4527720"/>
            <a:ext cx="843120" cy="2664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 rot="19248000">
            <a:off x="569520" y="4816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14400" y="541008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2181240" y="5029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 rot="1536000">
            <a:off x="3517560" y="4105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 rot="2293800">
            <a:off x="1758960" y="58669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281160" y="60768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 rot="19101600">
            <a:off x="2962080" y="534960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1"/>
          <a:stretch/>
        </p:blipFill>
        <p:spPr>
          <a:xfrm>
            <a:off x="2673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rot="961800">
            <a:off x="5221080" y="452736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870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4"/>
          <a:stretch/>
        </p:blipFill>
        <p:spPr>
          <a:xfrm>
            <a:off x="4643280" y="59436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 rot="1391400">
            <a:off x="6691320" y="462600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6"/>
          <a:stretch/>
        </p:blipFill>
        <p:spPr>
          <a:xfrm rot="21018600">
            <a:off x="5698800" y="4950000"/>
            <a:ext cx="844560" cy="266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7"/>
          <a:stretch/>
        </p:blipFill>
        <p:spPr>
          <a:xfrm rot="1261800">
            <a:off x="8053560" y="521604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8"/>
          <a:stretch/>
        </p:blipFill>
        <p:spPr>
          <a:xfrm>
            <a:off x="703440" y="43434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9"/>
          <a:stretch/>
        </p:blipFill>
        <p:spPr>
          <a:xfrm rot="247800">
            <a:off x="1125360" y="6438600"/>
            <a:ext cx="844560" cy="2667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7160" y="260280"/>
            <a:ext cx="5857920" cy="1312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Times New Roman"/>
              </a:rPr>
              <a:t>قصة الطفل صاحب الستة سنوات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29080" y="3068640"/>
            <a:ext cx="374328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99"/>
                </a:solidFill>
                <a:latin typeface="Times New Roman"/>
              </a:rPr>
              <a:t>ملء الاستبا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16360" y="1844640"/>
            <a:ext cx="1656000" cy="381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3429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مقد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6813720"/>
            <a:ext cx="392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4000" y="18446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989000"/>
            <a:ext cx="936720" cy="1368720"/>
          </a:xfrm>
          <a:prstGeom prst="upDownArrow">
            <a:avLst>
              <a:gd name="adj1" fmla="val 50000"/>
              <a:gd name="adj2" fmla="val 29088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306600"/>
            <a:ext cx="4176720" cy="17398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الجودة ليست جي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36800" y="26028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7800" y="3492360"/>
            <a:ext cx="53748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9120" y="544500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3200" spc="-1" strike="noStrike" u="sng">
                <a:solidFill>
                  <a:srgbClr val="000099"/>
                </a:solidFill>
                <a:uFillTx/>
                <a:latin typeface="Times New Roman"/>
              </a:rPr>
              <a:t>الجودة رحلة مستمرة بدون خط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2131920"/>
            <a:ext cx="1820880" cy="381816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131920"/>
            <a:ext cx="1727280" cy="38181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246480"/>
            <a:ext cx="3589200" cy="192276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</a:rPr>
              <a:t> الجودة مقبول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6800" y="33336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3357720"/>
            <a:ext cx="5814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51280" y="1989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3168720" cy="1556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الجودة  ممتاز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060640"/>
            <a:ext cx="936720" cy="1008000"/>
          </a:xfrm>
          <a:prstGeom prst="upDownArrow">
            <a:avLst>
              <a:gd name="adj1" fmla="val 50000"/>
              <a:gd name="adj2" fmla="val 21422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36800" y="22860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5440" y="3433680"/>
            <a:ext cx="62856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820880" cy="25196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1989000"/>
            <a:ext cx="1727280" cy="374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5:42:21Z</dcterms:created>
  <dc:creator>Administrator</dc:creator>
  <dc:description/>
  <dc:language>en-US</dc:language>
  <cp:lastModifiedBy>Acer User</cp:lastModifiedBy>
  <dcterms:modified xsi:type="dcterms:W3CDTF">2006-05-16T16:20:48Z</dcterms:modified>
  <cp:revision>210</cp:revision>
  <dc:subject/>
  <dc:title>Slide 1</dc:title>
</cp:coreProperties>
</file>