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gif" ContentType="image/gif"/>
  <Override PartName="/ppt/media/image52.png" ContentType="image/png"/>
  <Override PartName="/ppt/media/image19.png" ContentType="image/png"/>
  <Override PartName="/ppt/media/image22.wmf" ContentType="image/x-wmf"/>
  <Override PartName="/ppt/media/image16.gif" ContentType="image/gif"/>
  <Override PartName="/ppt/media/image49.wmf" ContentType="image/x-wmf"/>
  <Override PartName="/ppt/media/image51.png" ContentType="image/png"/>
  <Override PartName="/ppt/media/image14.gif" ContentType="image/gif"/>
  <Override PartName="/ppt/media/image1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3.gif" ContentType="image/gif"/>
  <Override PartName="/ppt/media/image3.png" ContentType="image/png"/>
  <Override PartName="/ppt/media/image40.gif" ContentType="image/gif"/>
  <Override PartName="/ppt/media/image56.jpeg" ContentType="image/jpeg"/>
  <Override PartName="/ppt/media/image4.png" ContentType="image/png"/>
  <Override PartName="/ppt/media/image34.png" ContentType="image/png"/>
  <Override PartName="/ppt/media/image36.wmf" ContentType="image/x-wmf"/>
  <Override PartName="/ppt/media/image54.jpeg" ContentType="image/jpeg"/>
  <Override PartName="/ppt/media/image38.gif" ContentType="image/gif"/>
  <Override PartName="/ppt/media/image43.png" ContentType="image/png"/>
  <Override PartName="/ppt/media/image39.png" ContentType="image/png"/>
  <Override PartName="/ppt/media/image37.gif" ContentType="image/gif"/>
  <Override PartName="/ppt/media/image42.jpeg" ContentType="image/jpeg"/>
  <Override PartName="/ppt/media/image30.wmf" ContentType="image/x-wmf"/>
  <Override PartName="/ppt/media/image28.wmf" ContentType="image/x-wmf"/>
  <Override PartName="/ppt/media/image13.gif" ContentType="image/gif"/>
  <Override PartName="/ppt/media/image46.wmf" ContentType="image/x-wmf"/>
  <Override PartName="/ppt/media/image55.jpeg" ContentType="image/jpeg"/>
  <Override PartName="/ppt/media/image45.jpeg" ContentType="image/jpeg"/>
  <Override PartName="/ppt/media/image12.gif" ContentType="image/gif"/>
  <Override PartName="/ppt/media/image53.jpeg" ContentType="image/jpeg"/>
  <Override PartName="/ppt/media/image47.gif" ContentType="image/gif"/>
  <Override PartName="/ppt/media/image10.gif" ContentType="image/gif"/>
  <Override PartName="/ppt/media/image11.gif" ContentType="image/gif"/>
  <Override PartName="/ppt/media/image44.wmf" ContentType="image/x-wmf"/>
  <Override PartName="/ppt/media/image6.gif" ContentType="image/gif"/>
  <Override PartName="/ppt/media/image35.gif" ContentType="image/gif"/>
  <Override PartName="/ppt/media/image31.wmf" ContentType="image/x-wmf"/>
  <Override PartName="/ppt/media/image7.jpeg" ContentType="image/jpeg"/>
  <Override PartName="/ppt/media/image50.png" ContentType="image/png"/>
  <Override PartName="/ppt/media/image15.gif" ContentType="image/gif"/>
  <Override PartName="/ppt/media/image48.wmf" ContentType="image/x-wmf"/>
  <Override PartName="/ppt/media/image5.wmf" ContentType="image/x-wmf"/>
  <Override PartName="/ppt/media/image9.gif" ContentType="image/gif"/>
  <Override PartName="/ppt/media/image8.jpeg" ContentType="image/jpeg"/>
  <Override PartName="/ppt/media/image4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76EC-AC57-4017-BF5E-AB326080D66C}" type="slidenum">
              <a:rPr b="0" lang="ar-A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Notes"/>
          <p:cNvSpPr/>
          <p:nvPr/>
        </p:nvSpPr>
        <p:spPr>
          <a:xfrm>
            <a:off x="115920" y="8238960"/>
            <a:ext cx="51228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280" rIns="44280" tIns="0" bIns="0" anchor="t">
            <a:noAutofit/>
          </a:bodyPr>
          <a:p>
            <a:pPr marL="184320" indent="-184320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163440" y="7942320"/>
            <a:ext cx="656136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ldImg"/>
          </p:nvPr>
        </p:nvSpPr>
        <p:spPr>
          <a:xfrm>
            <a:off x="-1492200" y="426960"/>
            <a:ext cx="9993240" cy="7494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embers ranging from 3-12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cus on specific issues to resolve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nerally meet weekly to analyze work related problems and propose solutions to Management and where possible implement thos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also tend to generate a mutual respect and trust as they work on solutions, which is conducive for collaborating as a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3F34-8044-4DA6-A3D6-AD8987D9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A5B-AA3E-4241-8B70-4CBBFF3A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B2A-3C25-4422-BAB3-B8E19FC5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E6E-E483-4337-80C9-CE03A1B4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C667-FF88-4CFB-9A9F-3352F6C2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BCEA-84CC-453F-8E9C-C718DA54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658E-82A7-4642-9585-B67C9CF4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41E0-AF8F-488C-9988-282D41BA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D64B-9031-44D6-9E3A-8718CCB8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66EA-CE4D-43B7-AA62-D481A204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4246-4663-41EA-BBF5-99B9CF74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35C-0252-4F44-9359-FD596EA8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D682-A2B4-4B5C-8D25-98139625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53F2-0312-43A3-A5BB-EF66DFD4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753A-5F18-4FB7-815B-D44E5BD8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E300-8436-409F-A403-CC884ABA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DA74-AC34-44FC-9044-E93CC995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881-9A45-424E-93D9-E4C0C94A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0514-1DA2-47D5-9BD6-FB66DF15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1CE-3B5B-446C-81A1-EB5FF83E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809-5F8B-41BE-868D-ACCC9A56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350-A220-44DB-AAA9-CFEA8923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0BF-FB31-4EFB-B3F3-2BABC83A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658-7A76-4692-AF18-27DC2279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9AEC-147B-4594-9BE0-F59854545C4D}" type="slidenum">
              <a:rPr b="0" lang="ar-A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84DF-D842-47B0-B756-4D824111A130}" type="slidenum">
              <a:rPr b="0" lang="ar-A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0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0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0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0.gif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4.jpeg"/><Relationship Id="rId9" Type="http://schemas.openxmlformats.org/officeDocument/2006/relationships/image" Target="../media/image56.jpeg"/><Relationship Id="rId10" Type="http://schemas.openxmlformats.org/officeDocument/2006/relationships/image" Target="../media/image55.jpeg"/><Relationship Id="rId11" Type="http://schemas.openxmlformats.org/officeDocument/2006/relationships/image" Target="../media/image54.jpeg"/><Relationship Id="rId12" Type="http://schemas.openxmlformats.org/officeDocument/2006/relationships/image" Target="../media/image55.jpeg"/><Relationship Id="rId13" Type="http://schemas.openxmlformats.org/officeDocument/2006/relationships/image" Target="../media/image54.jpeg"/><Relationship Id="rId14" Type="http://schemas.openxmlformats.org/officeDocument/2006/relationships/image" Target="../media/image54.jpeg"/><Relationship Id="rId15" Type="http://schemas.openxmlformats.org/officeDocument/2006/relationships/image" Target="../media/image55.jpeg"/><Relationship Id="rId16" Type="http://schemas.openxmlformats.org/officeDocument/2006/relationships/image" Target="../media/image56.jpeg"/><Relationship Id="rId17" Type="http://schemas.openxmlformats.org/officeDocument/2006/relationships/image" Target="../media/image55.jpeg"/><Relationship Id="rId18" Type="http://schemas.openxmlformats.org/officeDocument/2006/relationships/image" Target="../media/image54.jpeg"/><Relationship Id="rId19" Type="http://schemas.openxmlformats.org/officeDocument/2006/relationships/image" Target="../media/image56.jpeg"/><Relationship Id="rId2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55640" y="620640"/>
            <a:ext cx="6769080" cy="1434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AE" sz="4400" spc="-1" strike="noStrike">
                <a:solidFill>
                  <a:srgbClr val="ffffff"/>
                </a:solidFill>
                <a:latin typeface="Times New Roman"/>
              </a:rPr>
              <a:t>مبادئ ومفاهيم إدارة الجودة الشام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50920" y="2349360"/>
            <a:ext cx="4824720" cy="1739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حمد أحمد المطو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867280" y="135000"/>
            <a:ext cx="2017800" cy="13129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الجودة ه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88000" y="2563920"/>
            <a:ext cx="1656000" cy="324144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50000">
                <a:srgbClr val="ffffff"/>
              </a:gs>
              <a:gs pos="100000">
                <a:srgbClr val="7e9c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للخدمة أ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السل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2563920"/>
            <a:ext cx="1727280" cy="32414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طبيع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خدمة أ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سلع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مقد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3789360"/>
            <a:ext cx="3600720" cy="1368360"/>
          </a:xfrm>
          <a:prstGeom prst="leftRightArrow">
            <a:avLst>
              <a:gd name="adj1" fmla="val 50000"/>
              <a:gd name="adj2" fmla="val 52384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ادراك الحس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336960" y="1197000"/>
            <a:ext cx="9477000" cy="5205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</a:rPr>
              <a:t>مقدار الفجوة بين توقعات العميل وطبيعة الخدمة/السلعة الم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6008760"/>
            <a:ext cx="6767640" cy="733320"/>
          </a:xfrm>
          <a:custGeom>
            <a:avLst/>
            <a:gdLst>
              <a:gd name="textAreaLeft" fmla="*/ 1184400 w 6767640"/>
              <a:gd name="textAreaRight" fmla="*/ 4906800 w 6767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1403280" y="1915920"/>
            <a:ext cx="5905440" cy="576000"/>
          </a:xfrm>
          <a:custGeom>
            <a:avLst/>
            <a:gdLst>
              <a:gd name="textAreaLeft" fmla="*/ 1033200 w 5905440"/>
              <a:gd name="textAreaRight" fmla="*/ 4281480 w 590544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69720" y="1197000"/>
            <a:ext cx="8280720" cy="642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هل الحصول على نسبة </a:t>
            </a: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99.9</a:t>
            </a: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 % كافية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148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989000"/>
            <a:ext cx="7127640" cy="6492960"/>
          </a:xfrm>
          <a:prstGeom prst="rect">
            <a:avLst/>
          </a:prstGeom>
          <a:gradFill rotWithShape="0">
            <a:gsLst>
              <a:gs pos="0">
                <a:srgbClr val="727559"/>
              </a:gs>
              <a:gs pos="100000">
                <a:srgbClr val="f9ffc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ساعة شرب واحدة يوميا كل شهر من ماء غير نظ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رحلة هبوط خاطئ كل سنة بمطار م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خطاء طبية في عمليات جراحية كل شه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طعة ضائعة في عملية توزيع بريدية كل سا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الأحذية تباع كل سنة من ازواج متشابه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صفة طبية تصرف بشكل خاطى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76720" y="189000"/>
            <a:ext cx="28339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أهمية الجود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907920"/>
            <a:ext cx="9144000" cy="541656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2a106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39640" y="1413000"/>
            <a:ext cx="8280360" cy="5137200"/>
            <a:chOff x="539640" y="1413000"/>
            <a:chExt cx="8280360" cy="5137200"/>
          </a:xfrm>
        </p:grpSpPr>
        <p:sp>
          <p:nvSpPr>
            <p:cNvPr id="217" name=""/>
            <p:cNvSpPr/>
            <p:nvPr/>
          </p:nvSpPr>
          <p:spPr>
            <a:xfrm>
              <a:off x="895320" y="2005200"/>
              <a:ext cx="7416720" cy="3846600"/>
            </a:xfrm>
            <a:prstGeom prst="sun">
              <a:avLst>
                <a:gd name="adj" fmla="val 27097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16560" y="4311720"/>
              <a:ext cx="3251160" cy="223848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9640" y="4311720"/>
              <a:ext cx="3251160" cy="223848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16560" y="1508400"/>
              <a:ext cx="3251160" cy="191772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9880" y="1508400"/>
              <a:ext cx="3251160" cy="191772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05000" y="3173760"/>
              <a:ext cx="2971800" cy="1511280"/>
            </a:xfrm>
            <a:prstGeom prst="octagon">
              <a:avLst>
                <a:gd name="adj" fmla="val 36412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95920" y="1868760"/>
              <a:ext cx="28526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4000" spc="-1" strike="noStrike">
                  <a:solidFill>
                    <a:srgbClr val="000000"/>
                  </a:solidFill>
                  <a:latin typeface="Times New Roman"/>
                </a:rPr>
                <a:t>إدارة عمليات موثقة وفاعلة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4560" y="3694320"/>
              <a:ext cx="3134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800" spc="-1" strike="noStrike">
                  <a:solidFill>
                    <a:srgbClr val="000000"/>
                  </a:solidFill>
                  <a:latin typeface="Times New Roman"/>
                </a:rPr>
                <a:t>مشاركة العاملين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800" spc="-1" strike="noStrike">
                  <a:solidFill>
                    <a:srgbClr val="000000"/>
                  </a:solidFill>
                  <a:latin typeface="Times New Roman"/>
                </a:rPr>
                <a:t>و كسب رضاهم</a:t>
              </a: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95320" y="1868760"/>
              <a:ext cx="2581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تحقيق</a:t>
              </a:r>
              <a:r>
                <a:rPr b="1" lang="ar-A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و اجتياز توقع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لعملاء  في جمي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  الأوق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91000" y="4981680"/>
              <a:ext cx="3429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</a:rPr>
                <a:t>ال</a:t>
              </a:r>
              <a:r>
                <a:rPr b="1" lang="ar-AE" sz="2800" spc="-1" strike="noStrike">
                  <a:solidFill>
                    <a:srgbClr val="000000"/>
                  </a:solidFill>
                  <a:latin typeface="Times New Roman"/>
                </a:rPr>
                <a:t>تحسين والتطوير المستم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7920" y="4710240"/>
              <a:ext cx="26542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400" spc="-1" strike="noStrike">
                  <a:solidFill>
                    <a:srgbClr val="000000"/>
                  </a:solidFill>
                  <a:latin typeface="Times New Roman"/>
                </a:rPr>
                <a:t>إ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لتزا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ومشاركة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العليا  بصفة مستمرة</a:t>
              </a: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85680" y="152424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47880" y="1444680"/>
              <a:ext cx="55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62600" y="152424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31000" y="141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00280" y="324180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78400" y="316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96080" y="4340520"/>
              <a:ext cx="53316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38920" y="427212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19160" y="434052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92240" y="4264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281680" y="114480"/>
            <a:ext cx="4030200" cy="7034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3399"/>
                </a:solidFill>
                <a:latin typeface="Arial"/>
                <a:cs typeface="Times New Roman"/>
              </a:rPr>
              <a:t>مبادئ إدارة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AE" sz="4000" spc="-1" strike="noStrike">
                <a:solidFill>
                  <a:srgbClr val="003399"/>
                </a:solidFill>
                <a:latin typeface="Arial"/>
                <a:cs typeface="Times New Roman"/>
              </a:rPr>
              <a:t>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99880" y="1298520"/>
            <a:ext cx="8520120" cy="53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3560" y="1335600"/>
            <a:ext cx="8269560" cy="536004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13500000"/>
          </a:gradFill>
          <a:ln w="13968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4960" rIns="84960" tIns="502920" bIns="320040" anchor="ctr" anchorCtr="1">
            <a:spAutoFit/>
          </a:bodyPr>
          <a:p>
            <a:pPr algn="ctr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قال تعالى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ar-SA" sz="5000" spc="-1" strike="noStrike">
                <a:solidFill>
                  <a:srgbClr val="00ff00"/>
                </a:solidFill>
                <a:latin typeface="Times New Roman"/>
                <a:ea typeface="DecoType Naskh"/>
              </a:rPr>
              <a:t>(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من يمشي مكباً على وجهه أهدى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 يمشي سويا على صراط مستقيم</a:t>
            </a:r>
            <a:r>
              <a:rPr b="0" lang="ar-SA" sz="6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0" lang="ar-SA" sz="60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)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سورة الملك : الآية </a:t>
            </a:r>
            <a:r>
              <a:rPr b="0" lang="ar-SA" sz="5000" spc="-1" strike="noStrike">
                <a:solidFill>
                  <a:srgbClr val="ff0000"/>
                </a:solidFill>
                <a:latin typeface="Times New Roman"/>
                <a:ea typeface="DecoType Naskh"/>
              </a:rPr>
              <a:t>22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84360" y="189000"/>
            <a:ext cx="5338800" cy="6811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دارة وتقوية علاقات ال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اء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6960" y="1692000"/>
            <a:ext cx="7788240" cy="4129200"/>
            <a:chOff x="426960" y="1692000"/>
            <a:chExt cx="7788240" cy="4129200"/>
          </a:xfrm>
        </p:grpSpPr>
        <p:sp>
          <p:nvSpPr>
            <p:cNvPr id="243" name=""/>
            <p:cNvSpPr/>
            <p:nvPr/>
          </p:nvSpPr>
          <p:spPr>
            <a:xfrm>
              <a:off x="1900080" y="1782720"/>
              <a:ext cx="1138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84680" y="1774800"/>
              <a:ext cx="1138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73880" y="1809720"/>
              <a:ext cx="827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8215200" y="1811160"/>
              <a:ext cx="0" cy="96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8207280" y="4851360"/>
              <a:ext cx="0" cy="96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85040" y="5821200"/>
              <a:ext cx="826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57880" y="5756400"/>
              <a:ext cx="826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73480" y="5729400"/>
              <a:ext cx="598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6960" y="5740560"/>
              <a:ext cx="446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46040" y="4786200"/>
              <a:ext cx="0" cy="96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76280" y="1692000"/>
              <a:ext cx="0" cy="1569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6280" y="1717560"/>
              <a:ext cx="4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31880" y="982800"/>
            <a:ext cx="1339920" cy="1989000"/>
            <a:chOff x="731880" y="982800"/>
            <a:chExt cx="1339920" cy="1989000"/>
          </a:xfrm>
        </p:grpSpPr>
        <p:pic>
          <p:nvPicPr>
            <p:cNvPr id="256" name="" descr="Filename: j0283649.gif&#13;Keywords: academics, children, females ...&#13;File Size: 12 KB"/>
            <p:cNvPicPr/>
            <p:nvPr/>
          </p:nvPicPr>
          <p:blipFill>
            <a:blip r:embed="rId1"/>
            <a:stretch/>
          </p:blipFill>
          <p:spPr>
            <a:xfrm>
              <a:off x="746280" y="982800"/>
              <a:ext cx="132552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731880" y="2451240"/>
              <a:ext cx="133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تحديد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669760" y="1154160"/>
            <a:ext cx="2277720" cy="1786320"/>
            <a:chOff x="2669760" y="1154160"/>
            <a:chExt cx="2277720" cy="1786320"/>
          </a:xfrm>
        </p:grpSpPr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 rot="21174000">
              <a:off x="2732040" y="1282680"/>
              <a:ext cx="21528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017880" y="2541600"/>
              <a:ext cx="162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تصنيف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668920" y="1079640"/>
            <a:ext cx="2378160" cy="1862280"/>
            <a:chOff x="5668920" y="1079640"/>
            <a:chExt cx="2378160" cy="1862280"/>
          </a:xfrm>
        </p:grpSpPr>
        <p:pic>
          <p:nvPicPr>
            <p:cNvPr id="262" name="" descr="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5799240" y="1079640"/>
              <a:ext cx="1608120" cy="14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668920" y="2543040"/>
              <a:ext cx="237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تحديد احتياجات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132680" y="2789280"/>
            <a:ext cx="2011320" cy="2398320"/>
            <a:chOff x="7132680" y="2789280"/>
            <a:chExt cx="2011320" cy="2398320"/>
          </a:xfrm>
        </p:grpSpPr>
        <p:pic>
          <p:nvPicPr>
            <p:cNvPr id="265" name="" descr=""/>
            <p:cNvPicPr/>
            <p:nvPr/>
          </p:nvPicPr>
          <p:blipFill>
            <a:blip r:embed="rId4"/>
            <a:stretch/>
          </p:blipFill>
          <p:spPr>
            <a:xfrm>
              <a:off x="7192800" y="2789280"/>
              <a:ext cx="1951200" cy="16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132680" y="4514760"/>
              <a:ext cx="198108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1900" spc="-1" strike="noStrike">
                  <a:solidFill>
                    <a:srgbClr val="ffffff"/>
                  </a:solidFill>
                  <a:latin typeface="Arial"/>
                </a:rPr>
                <a:t>إدارة تضارب المصالح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853240" y="4676760"/>
            <a:ext cx="2468520" cy="2178720"/>
            <a:chOff x="5853240" y="4676760"/>
            <a:chExt cx="2468520" cy="2178720"/>
          </a:xfrm>
        </p:grpSpPr>
        <p:pic>
          <p:nvPicPr>
            <p:cNvPr id="268" name="" descr=""/>
            <p:cNvPicPr/>
            <p:nvPr/>
          </p:nvPicPr>
          <p:blipFill>
            <a:blip r:embed="rId5"/>
            <a:stretch/>
          </p:blipFill>
          <p:spPr>
            <a:xfrm>
              <a:off x="6095880" y="4676760"/>
              <a:ext cx="158616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853240" y="6151680"/>
              <a:ext cx="246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حماية سرية معلومات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352680" y="4803840"/>
            <a:ext cx="2683080" cy="2070720"/>
            <a:chOff x="3352680" y="4803840"/>
            <a:chExt cx="2683080" cy="2070720"/>
          </a:xfrm>
        </p:grpSpPr>
        <p:pic>
          <p:nvPicPr>
            <p:cNvPr id="271" name="" descr=""/>
            <p:cNvPicPr/>
            <p:nvPr/>
          </p:nvPicPr>
          <p:blipFill>
            <a:blip r:embed="rId6">
              <a:lum contrast="-20000"/>
            </a:blip>
            <a:stretch/>
          </p:blipFill>
          <p:spPr>
            <a:xfrm>
              <a:off x="3914640" y="4803840"/>
              <a:ext cx="148140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3352680" y="6170760"/>
              <a:ext cx="268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الحصول على تغذيتهم الراجع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1360" y="4830840"/>
            <a:ext cx="3124080" cy="1700640"/>
            <a:chOff x="441360" y="4830840"/>
            <a:chExt cx="3124080" cy="1700640"/>
          </a:xfrm>
        </p:grpSpPr>
        <p:grpSp>
          <p:nvGrpSpPr>
            <p:cNvPr id="274" name=""/>
            <p:cNvGrpSpPr/>
            <p:nvPr/>
          </p:nvGrpSpPr>
          <p:grpSpPr>
            <a:xfrm>
              <a:off x="533160" y="4830840"/>
              <a:ext cx="3032280" cy="1158840"/>
              <a:chOff x="533160" y="4830840"/>
              <a:chExt cx="3032280" cy="1158840"/>
            </a:xfrm>
          </p:grpSpPr>
          <p:pic>
            <p:nvPicPr>
              <p:cNvPr id="27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671480" y="4830840"/>
                <a:ext cx="1893960" cy="109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533160" y="4954680"/>
                <a:ext cx="1174680" cy="1035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7" name=""/>
            <p:cNvSpPr/>
            <p:nvPr/>
          </p:nvSpPr>
          <p:spPr>
            <a:xfrm>
              <a:off x="441360" y="6132600"/>
              <a:ext cx="246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اطلاعهم بالمستجد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-57240" y="3214800"/>
            <a:ext cx="2522520" cy="1432080"/>
            <a:chOff x="-57240" y="3214800"/>
            <a:chExt cx="2522520" cy="1432080"/>
          </a:xfrm>
        </p:grpSpPr>
        <p:pic>
          <p:nvPicPr>
            <p:cNvPr id="279" name="" descr=""/>
            <p:cNvPicPr/>
            <p:nvPr/>
          </p:nvPicPr>
          <p:blipFill>
            <a:blip r:embed="rId9"/>
            <a:stretch/>
          </p:blipFill>
          <p:spPr>
            <a:xfrm>
              <a:off x="231840" y="3214800"/>
              <a:ext cx="119232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-57240" y="4248000"/>
              <a:ext cx="252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      قياس رضا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1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1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1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1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1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1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1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1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1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1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1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1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1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1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39640" y="189000"/>
            <a:ext cx="72025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اعدتين لا ثالث لهما للتعامل مع العمي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1220400"/>
            <a:ext cx="7993080" cy="53348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اعدة الأولى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يل دائما على ح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اعدة الثاني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هذا الكلام غير صحيح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ن ... أذهب للقاعدة الأو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العميل دائما .. دائما .. دائما .. على حق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908000" y="189000"/>
            <a:ext cx="5834160" cy="15562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راسة حول رضى العمل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1283760"/>
            <a:ext cx="8569440" cy="46047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هناك مشتكي (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 من كل (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5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 شخص غير راض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كل شخص غير راض ... يخبر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1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شخ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كل شخص راض ... يخبر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3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أشخا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لا ترتاح إذا كانت الشكاوي قلي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ناك 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5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x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11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7236000" y="3352680"/>
            <a:ext cx="1661760" cy="1654200"/>
          </a:xfrm>
          <a:prstGeom prst="rect">
            <a:avLst/>
          </a:prstGeom>
          <a:gradFill rotWithShape="0">
            <a:gsLst>
              <a:gs pos="0">
                <a:srgbClr val="2f4646"/>
              </a:gs>
              <a:gs pos="100000">
                <a:srgbClr val="669999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استراتيجية خد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العملا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4718160" cy="6476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معادلة الولاء-خدمة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32360" y="3357720"/>
            <a:ext cx="1811520" cy="1653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352000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2480" rIns="4248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  <a:cs typeface="Arabic Transparent"/>
              </a:rPr>
              <a:t>الوسائل اللاز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3352680"/>
            <a:ext cx="1811160" cy="165420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2480" rIns="4248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Verdana"/>
              </a:rPr>
              <a:t>ولاء 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27280" y="3357720"/>
            <a:ext cx="1811520" cy="16538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2480" rIns="4248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تشجيع وولا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العاملي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9680" y="3809880"/>
            <a:ext cx="235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84600" y="3933720"/>
            <a:ext cx="235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73320" y="4038480"/>
            <a:ext cx="235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565440" cy="3744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859280" y="1557360"/>
            <a:ext cx="3168720" cy="2376360"/>
          </a:xfrm>
          <a:prstGeom prst="wedgeEllipseCallout">
            <a:avLst>
              <a:gd name="adj1" fmla="val -99000"/>
              <a:gd name="adj2" fmla="val 18671"/>
            </a:avLst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تظر سوف نتحسن غدا؟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4322880"/>
            <a:ext cx="381816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خدمة لا تخزن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58920" y="189000"/>
            <a:ext cx="4763880" cy="6811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000000"/>
                </a:solidFill>
                <a:latin typeface="Arial"/>
              </a:rPr>
              <a:t>إدارة وتقوية علاقات ال</a:t>
            </a:r>
            <a:r>
              <a:rPr b="0" lang="ar-AE" sz="3900" spc="-1" strike="noStrike">
                <a:solidFill>
                  <a:srgbClr val="000000"/>
                </a:solidFill>
                <a:latin typeface="Arial"/>
              </a:rPr>
              <a:t>عملاء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6080" y="949320"/>
            <a:ext cx="8543880" cy="5648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699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" y="1371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335268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51720" y="789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لقاء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86160" y="7905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لج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شترك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5280" y="449748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بانات تحديد الاحتياج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9960" y="26319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جموعات الحو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6440" y="7873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قاب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86160" y="44845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شكاوى والاقتراح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80160" y="26226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راكز ال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60840" y="45054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بانات قياس الرض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61080" y="449424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طلاعات الرأ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52920" y="762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زيارات الميدا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01960" y="2908440"/>
            <a:ext cx="523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Arial"/>
              </a:rPr>
              <a:t>وسائل تحديد احتياج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Arial"/>
              </a:rPr>
              <a:t>المتعاملين الخارجي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115920"/>
            <a:ext cx="585936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كيف يمكنني الوفاء بمتطلبات العميل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8169120" y="115920"/>
            <a:ext cx="9399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9640" y="1559520"/>
            <a:ext cx="7559640" cy="50317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غرس مفاهيم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دارة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جودة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الشام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هل تستحق ادارة الجودة هذا الجهد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الفرص للتحاور ومناقشة المواضيع المتعلقة بالجو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ساعدة في إنشاء خلفية وفكر ايجابي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قيق نتائج وأداء أفض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شجيع ومراعاة وتبنى استخدام أفضل التطبيقات بما يتناسب مع مناخ البيئة المحلي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115920"/>
            <a:ext cx="4519440" cy="57636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مبادئ ومفاهيم إدارة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16720" y="907920"/>
            <a:ext cx="1130400" cy="50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1702440" y="2279520"/>
            <a:ext cx="533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العميل الداخل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987640" y="2781360"/>
            <a:ext cx="3267000" cy="21049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 هو العميل الداخلي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2016000" cy="3240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6804000" y="1413000"/>
            <a:ext cx="187164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484360" y="1052640"/>
            <a:ext cx="3816360" cy="3074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000000"/>
                </a:solidFill>
                <a:uFillTx/>
                <a:latin typeface="Arial"/>
                <a:cs typeface="Arabic Transparent"/>
              </a:rPr>
              <a:t>العميل الداخل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000000"/>
                </a:solidFill>
                <a:uFillTx/>
                <a:latin typeface="Arial"/>
                <a:cs typeface="Arabic Transparent"/>
              </a:rPr>
              <a:t>أول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د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زمي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زملاء بالأقسام ال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16080" y="949320"/>
            <a:ext cx="8543880" cy="5648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699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1371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35268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1720" y="789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ييم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86160" y="7905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حديد الإحتياجات التدريب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49748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مكين الموظف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9960" y="26319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جموعات الحو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6440" y="7873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رسم المسار الوظي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86160" y="44845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شكاوى والاقتراح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680160" y="26226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ديم الحواف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60840" y="45054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بانات قياس الرض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61080" y="449424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طلاعات الرأ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27640" y="76500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وظيف الموظفين الملائم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29080" y="2908440"/>
            <a:ext cx="398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cc3300"/>
                </a:solidFill>
                <a:latin typeface="Arial"/>
              </a:rPr>
              <a:t>منهجيات التعام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cc3300"/>
                </a:solidFill>
                <a:latin typeface="Arial"/>
              </a:rPr>
              <a:t>مع الموظف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57200" y="2209680"/>
            <a:ext cx="8291520" cy="2562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Times New Roman"/>
              </a:rPr>
              <a:t>مثال يشرح عندما يغفل أو يتكاسل موظف ما  في المشاركة في تحسين الجود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600200" y="1593720"/>
            <a:ext cx="6324480" cy="3517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5029200" cy="3886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7086600" y="3068640"/>
            <a:ext cx="1622520" cy="2822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410080" y="981000"/>
            <a:ext cx="2459160" cy="22179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914400" y="1052640"/>
            <a:ext cx="2759040" cy="20714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96080" y="3789360"/>
            <a:ext cx="1103400" cy="16351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477120" y="1752480"/>
            <a:ext cx="2359080" cy="20750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685800" y="1797120"/>
            <a:ext cx="2759040" cy="20732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4038480" y="4876920"/>
            <a:ext cx="1447920" cy="1693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06880" y="419112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أ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41120" y="4114800"/>
            <a:ext cx="26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3809880" y="1676520"/>
            <a:ext cx="2062440" cy="20746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466680" y="403848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ل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479840" y="2511360"/>
            <a:ext cx="1090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2590920"/>
            <a:ext cx="1463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0" y="3505320"/>
            <a:ext cx="115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2359080" cy="13716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2361960" cy="14479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01960" y="236232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أ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7600" y="2362320"/>
            <a:ext cx="26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3200400" y="685800"/>
            <a:ext cx="2443320" cy="14479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390720" y="228600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ل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79840" y="2511360"/>
            <a:ext cx="1090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05000" y="3124080"/>
            <a:ext cx="80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 u="sng">
                <a:solidFill>
                  <a:srgbClr val="000099"/>
                </a:solidFill>
                <a:uFillTx/>
                <a:latin typeface="Times New Roman"/>
              </a:rPr>
              <a:t>ماذا يستطيع الموظف الأول و الثالث فعله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24160" y="3809880"/>
            <a:ext cx="7567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قيام بأداء وظيفة 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إخطار الادارة بغياب 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تأجيل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لو تتكرت المشكلة ....البحث عن الاسباب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1752480"/>
            <a:ext cx="115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4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1280" y="841320"/>
            <a:ext cx="5761080" cy="606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 algn="r" rtl="1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3300"/>
                </a:solidFill>
                <a:latin typeface="Times New Roman"/>
                <a:ea typeface="Arial"/>
              </a:rPr>
              <a:t> الفصل الأو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مقدمة عامة عن إدارة الجو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التركيز على العمل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دارة موارد بشرية متميز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عمليات فعال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AE" sz="2800" spc="-1" strike="noStrike">
                <a:solidFill>
                  <a:srgbClr val="cc3300"/>
                </a:solidFill>
                <a:latin typeface="Arial"/>
                <a:cs typeface="Arial"/>
              </a:rPr>
              <a:t>الفصل الثان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ea typeface="Arial"/>
              </a:rPr>
              <a:t> أخطاء شائعة عند تطبيق الجو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دور القيا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التحسين والتطوير المست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دارة التغي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ختبار تحري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الخلاص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ستبان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71280"/>
            <a:ext cx="5095800" cy="6210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ادئ ومفاهيم إدارة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2998800"/>
            <a:ext cx="1779480" cy="93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المواض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30592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algn="just" rtl="1">
              <a:lnSpc>
                <a:spcPct val="90000"/>
              </a:lnSpc>
              <a:spcBef>
                <a:spcPts val="10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300" spc="-1" strike="noStrike">
                <a:solidFill>
                  <a:srgbClr val="000000"/>
                </a:solidFill>
                <a:latin typeface="Arial"/>
              </a:rPr>
              <a:t> من خلال العشر دقائق القادمة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90000"/>
              </a:lnSpc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AE" sz="3900" spc="-1" strike="noStrike">
                <a:solidFill>
                  <a:srgbClr val="000099"/>
                </a:solidFill>
                <a:latin typeface="Arial"/>
              </a:rPr>
              <a:t>من هو المسئول عن تطبيق الجودة، و لماذا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1622160" cy="25905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2050920" y="189000"/>
            <a:ext cx="58597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من المسئول عن تطبيق الجودة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74680" y="1274760"/>
            <a:ext cx="9545760" cy="642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الجودة هي مسئولية كل فرد في المؤسس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48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24360" y="2251080"/>
            <a:ext cx="4184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ضابط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عامل النظا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موظ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أمين المخز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مدير/المشر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سائ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عم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مو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خ 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0920" y="189000"/>
            <a:ext cx="58597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من المسئول عن تطبيق الجودة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11280" y="1973160"/>
            <a:ext cx="7416720" cy="5212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Times New Roman"/>
              </a:rPr>
              <a:t>التركيز الأهم في أي نشاط هو ارضاء العميل. يتم تصنيف العملاء كداخليين (زملاء في العمل) أو خارجيين. ومن خلال توفير رضاء العملاء (داخليا أو خارجيا)، ستساهم في تعزيز الج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189000"/>
            <a:ext cx="456264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كيف أساهم في تحقيق الجودة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200400" cy="53337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191120" y="228600"/>
            <a:ext cx="3695760" cy="762120"/>
          </a:xfrm>
          <a:prstGeom prst="rect">
            <a:avLst/>
          </a:prstGeom>
          <a:gradFill rotWithShape="0">
            <a:gsLst>
              <a:gs pos="0">
                <a:srgbClr val="669999"/>
              </a:gs>
              <a:gs pos="50000">
                <a:srgbClr val="ffffff"/>
              </a:gs>
              <a:gs pos="100000">
                <a:srgbClr val="669999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  <a:cs typeface="Arabic Transparent"/>
              </a:rPr>
              <a:t>ما هي العملية …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57600" y="1600200"/>
            <a:ext cx="5334120" cy="180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Times New Roman"/>
                <a:cs typeface="Arabic Transparent"/>
              </a:rPr>
              <a:t>العملية هي تحويل مجموعة من المدخلات التي يمكن أن تتضمن أعمال، أساليب وأنشطة إلى مخرجات مطلوب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772400" y="3048120"/>
            <a:ext cx="1112760" cy="25628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و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جراء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سالي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عل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أفر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هار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دو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3889440"/>
            <a:ext cx="1066680" cy="17398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نت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خد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عل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442120" y="3962520"/>
            <a:ext cx="1577880" cy="11912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لعم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5796000"/>
            <a:ext cx="1066680" cy="64260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لمخر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96080" y="5791320"/>
            <a:ext cx="1067040" cy="64260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لمدخل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135920" y="3657600"/>
            <a:ext cx="463320" cy="1523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863960" y="3657600"/>
            <a:ext cx="463680" cy="1523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124080" y="457200"/>
            <a:ext cx="3200400" cy="5335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فهوم 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ملي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39640" y="1428840"/>
            <a:ext cx="8318520" cy="4173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755640" y="2276640"/>
            <a:ext cx="7345440" cy="28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17080" y="2781360"/>
            <a:ext cx="792000" cy="1655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غبات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متط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7740720" y="3500280"/>
            <a:ext cx="50472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04000" y="2781360"/>
            <a:ext cx="914400" cy="165564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37200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435640" y="2781360"/>
            <a:ext cx="934920" cy="165564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غبات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متط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81240" y="2781360"/>
            <a:ext cx="914400" cy="165564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2781360"/>
            <a:ext cx="914400" cy="158436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00360" y="2852640"/>
            <a:ext cx="936720" cy="158436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غبات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متط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920" y="2781360"/>
            <a:ext cx="720720" cy="1655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يل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ارج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63492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00328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268360" y="3500280"/>
            <a:ext cx="36072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89964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89840" y="5967360"/>
            <a:ext cx="7572240" cy="581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مجموعة من العمليات المتفاعلة داخل الدائ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rot="5406000">
            <a:off x="4066920" y="2629080"/>
            <a:ext cx="646200" cy="5686560"/>
          </a:xfrm>
          <a:custGeom>
            <a:avLst/>
            <a:gdLst>
              <a:gd name="textAreaLeft" fmla="*/ 412920 w 646200"/>
              <a:gd name="textAreaRight" fmla="*/ 646560 w 646200"/>
              <a:gd name="textAreaTop" fmla="*/ 72720 h 5686560"/>
              <a:gd name="textAreaBottom" fmla="*/ 5613840 h 568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2"/>
                  <a:pt x="10800" y="883"/>
                </a:cubicBezTo>
                <a:lnTo>
                  <a:pt x="10800" y="10161"/>
                </a:lnTo>
                <a:cubicBezTo>
                  <a:pt x="10800" y="10603"/>
                  <a:pt x="5400" y="11044"/>
                  <a:pt x="0" y="11044"/>
                </a:cubicBezTo>
                <a:cubicBezTo>
                  <a:pt x="5400" y="11044"/>
                  <a:pt x="10800" y="11486"/>
                  <a:pt x="10800" y="11927"/>
                </a:cubicBezTo>
                <a:lnTo>
                  <a:pt x="10800" y="20717"/>
                </a:lnTo>
                <a:cubicBezTo>
                  <a:pt x="10800" y="2115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43280" y="150840"/>
            <a:ext cx="3059280" cy="10688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إدارة عمليات فاعلة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533520" y="1125360"/>
            <a:ext cx="8070120" cy="5144400"/>
            <a:chOff x="533520" y="1125360"/>
            <a:chExt cx="8070120" cy="5144400"/>
          </a:xfrm>
        </p:grpSpPr>
        <p:pic>
          <p:nvPicPr>
            <p:cNvPr id="400" name="" descr=""/>
            <p:cNvPicPr/>
            <p:nvPr/>
          </p:nvPicPr>
          <p:blipFill>
            <a:blip r:embed="rId1"/>
            <a:stretch/>
          </p:blipFill>
          <p:spPr>
            <a:xfrm>
              <a:off x="6510600" y="1228320"/>
              <a:ext cx="2093040" cy="17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2"/>
            <a:stretch/>
          </p:blipFill>
          <p:spPr>
            <a:xfrm>
              <a:off x="3521880" y="2671560"/>
              <a:ext cx="2033640" cy="13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3"/>
            <a:stretch/>
          </p:blipFill>
          <p:spPr>
            <a:xfrm>
              <a:off x="5798880" y="4217760"/>
              <a:ext cx="2188440" cy="15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4"/>
            <a:stretch/>
          </p:blipFill>
          <p:spPr>
            <a:xfrm>
              <a:off x="533520" y="4391640"/>
              <a:ext cx="2134440" cy="11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5"/>
            <a:stretch/>
          </p:blipFill>
          <p:spPr>
            <a:xfrm>
              <a:off x="960120" y="1125360"/>
              <a:ext cx="1965240" cy="1256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05" name=""/>
            <p:cNvCxnSpPr>
              <a:stCxn id="401" idx="0"/>
              <a:endCxn id="404" idx="3"/>
            </p:cNvCxnSpPr>
            <p:nvPr/>
          </p:nvCxnSpPr>
          <p:spPr>
            <a:xfrm flipV="1" rot="16200000">
              <a:off x="3273120" y="1405440"/>
              <a:ext cx="917640" cy="1613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6" name=""/>
            <p:cNvCxnSpPr>
              <a:stCxn id="404" idx="2"/>
              <a:endCxn id="403" idx="3"/>
            </p:cNvCxnSpPr>
            <p:nvPr/>
          </p:nvCxnSpPr>
          <p:spPr>
            <a:xfrm flipH="1" rot="16200000">
              <a:off x="1008360" y="3317040"/>
              <a:ext cx="2594880" cy="723960"/>
            </a:xfrm>
            <a:prstGeom prst="bentConnector4">
              <a:avLst>
                <a:gd name="adj1" fmla="val 38740"/>
                <a:gd name="adj2" fmla="val 15900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7" name=""/>
            <p:cNvCxnSpPr>
              <a:stCxn id="403" idx="2"/>
              <a:endCxn id="402" idx="2"/>
            </p:cNvCxnSpPr>
            <p:nvPr/>
          </p:nvCxnSpPr>
          <p:spPr>
            <a:xfrm flipH="1" rot="16200000">
              <a:off x="4166640" y="2991600"/>
              <a:ext cx="161280" cy="5293440"/>
            </a:xfrm>
            <a:prstGeom prst="bentConnector3">
              <a:avLst>
                <a:gd name="adj1" fmla="val 29194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8" name=""/>
            <p:cNvCxnSpPr>
              <a:stCxn id="402" idx="1"/>
              <a:endCxn id="401" idx="2"/>
            </p:cNvCxnSpPr>
            <p:nvPr/>
          </p:nvCxnSpPr>
          <p:spPr>
            <a:xfrm rot="10800000">
              <a:off x="4537800" y="4015080"/>
              <a:ext cx="1260720" cy="954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9" name=""/>
            <p:cNvCxnSpPr>
              <a:stCxn id="401" idx="3"/>
              <a:endCxn id="400" idx="1"/>
            </p:cNvCxnSpPr>
            <p:nvPr/>
          </p:nvCxnSpPr>
          <p:spPr>
            <a:xfrm flipV="1">
              <a:off x="5555880" y="2077920"/>
              <a:ext cx="955440" cy="1265400"/>
            </a:xfrm>
            <a:prstGeom prst="bentConnector3">
              <a:avLst>
                <a:gd name="adj1" fmla="val 4998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0" name=""/>
            <p:cNvSpPr/>
            <p:nvPr/>
          </p:nvSpPr>
          <p:spPr>
            <a:xfrm>
              <a:off x="3022920" y="1434600"/>
              <a:ext cx="89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دقيق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56800" y="2980800"/>
              <a:ext cx="79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ساع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22800" y="5689080"/>
              <a:ext cx="79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ساع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1840" y="4714200"/>
              <a:ext cx="895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ساع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14480" y="2259000"/>
              <a:ext cx="139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دقيق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716360" y="150840"/>
            <a:ext cx="2914920" cy="10688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مثال عن عملية ما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3fe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79280" y="1206360"/>
          <a:ext cx="808848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06360"/>
                    <a:ext cx="808848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250920" y="5421240"/>
            <a:ext cx="242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3399"/>
                </a:solidFill>
                <a:latin typeface="Comic Sans MS"/>
              </a:rPr>
              <a:t>الغلاف ويتضمن إسم العملية، المجال، الهدف، والتعديل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76720" y="56246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3399"/>
                </a:solidFill>
                <a:latin typeface="Comic Sans MS"/>
              </a:rPr>
              <a:t>خطوات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508720" y="5481720"/>
            <a:ext cx="261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3399"/>
                </a:solidFill>
                <a:latin typeface="Comic Sans MS"/>
              </a:rPr>
              <a:t>شرح تفصيلي للخطوات، معلومات إضافية، مراجع إضاقية، ومؤشرات أداء، وغير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7485120" y="82440"/>
            <a:ext cx="1441440" cy="11239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924360" y="260280"/>
            <a:ext cx="346392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مثال لعملية حقيق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981080" y="1905120"/>
            <a:ext cx="5105520" cy="60948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ضع المثالي أو المطلو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191120" y="2514600"/>
            <a:ext cx="0" cy="1828800"/>
          </a:xfrm>
          <a:prstGeom prst="line">
            <a:avLst/>
          </a:prstGeom>
          <a:ln w="12708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09680" y="4343400"/>
            <a:ext cx="4876920" cy="0"/>
          </a:xfrm>
          <a:prstGeom prst="line">
            <a:avLst/>
          </a:prstGeom>
          <a:ln w="572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13000" y="3571920"/>
            <a:ext cx="24667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2e2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ضع الحا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981080" y="3338280"/>
            <a:ext cx="0" cy="996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77800" y="2787480"/>
            <a:ext cx="1006560" cy="5205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2e2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يد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0880" y="5146560"/>
            <a:ext cx="8348760" cy="9471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كلة هي الفجوة (الفرق) بين الوضع الحالي والوضع المطلو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94240" y="2940120"/>
            <a:ext cx="1006560" cy="1068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2e2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جوة</a:t>
            </a: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4419360" y="3316320"/>
            <a:ext cx="974520" cy="0"/>
          </a:xfrm>
          <a:prstGeom prst="line">
            <a:avLst/>
          </a:prstGeom>
          <a:ln w="7632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59280" y="274680"/>
            <a:ext cx="3827520" cy="7160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900" spc="-1" strike="noStrike">
                <a:solidFill>
                  <a:srgbClr val="000000"/>
                </a:solidFill>
                <a:latin typeface="Arial"/>
              </a:rPr>
              <a:t>تعريف المشكلة؟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4419720" y="1676520"/>
            <a:ext cx="4383000" cy="1434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عملية التحسين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412040" y="3333600"/>
            <a:ext cx="1438200" cy="1008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مورد الداخلي /الخارج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175280" y="3438360"/>
            <a:ext cx="1438200" cy="64260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39960" y="3448080"/>
            <a:ext cx="1077840" cy="1008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حتياجات العم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39960" y="4683240"/>
            <a:ext cx="1438200" cy="7038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حتياجات العم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87640" y="5521320"/>
            <a:ext cx="2302200" cy="10263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جو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900760" y="3505320"/>
            <a:ext cx="1224000" cy="73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مدخل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665440" y="3505320"/>
            <a:ext cx="1222200" cy="73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مخرج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554960" y="4718160"/>
            <a:ext cx="1222200" cy="73656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رج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672000" y="2995560"/>
            <a:ext cx="2301840" cy="39888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مدير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7124760" y="38386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613480" y="38386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887280" y="3838680"/>
            <a:ext cx="28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017440" y="38386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378160" y="5119560"/>
            <a:ext cx="51768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65440" y="3849840"/>
            <a:ext cx="0" cy="601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017800" y="3916440"/>
            <a:ext cx="0" cy="601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017800" y="431784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521080" y="5989680"/>
            <a:ext cx="1366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6189840" y="5989680"/>
            <a:ext cx="13651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554960" y="5119560"/>
            <a:ext cx="0" cy="12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21080" y="5119560"/>
            <a:ext cx="0" cy="12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209680" y="304920"/>
            <a:ext cx="4572000" cy="6094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000000"/>
                </a:solidFill>
                <a:latin typeface="Arial"/>
              </a:rPr>
              <a:t>تحليل العملية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87640" y="2781360"/>
            <a:ext cx="3267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ي الجودة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016000" cy="324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04000" y="1413000"/>
            <a:ext cx="187164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457200" y="1828800"/>
            <a:ext cx="8381520" cy="4671000"/>
            <a:chOff x="457200" y="1828800"/>
            <a:chExt cx="8381520" cy="4671000"/>
          </a:xfrm>
        </p:grpSpPr>
        <p:sp>
          <p:nvSpPr>
            <p:cNvPr id="457" name=""/>
            <p:cNvSpPr/>
            <p:nvPr/>
          </p:nvSpPr>
          <p:spPr>
            <a:xfrm>
              <a:off x="1294920" y="4864680"/>
              <a:ext cx="5616000" cy="336960"/>
            </a:xfrm>
            <a:prstGeom prst="parallelogram">
              <a:avLst>
                <a:gd name="adj" fmla="val 416667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42120" y="2569320"/>
              <a:ext cx="125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cs typeface="Simplified Arabic"/>
                </a:rPr>
                <a:t>التصحي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5880" y="2773080"/>
              <a:ext cx="7292160" cy="16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06600" y="3515040"/>
              <a:ext cx="2095560" cy="148428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7200" y="1828800"/>
              <a:ext cx="100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cs typeface="Simplified Arabic"/>
                </a:rPr>
                <a:t>الوقا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49360" y="3243960"/>
              <a:ext cx="108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cs typeface="Simplified Arabic"/>
                </a:rPr>
                <a:t>الجود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4600" y="2165760"/>
              <a:ext cx="502920" cy="539280"/>
            </a:xfrm>
            <a:prstGeom prst="downArrow">
              <a:avLst>
                <a:gd name="adj1" fmla="val 50000"/>
                <a:gd name="adj2" fmla="val 2680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480" y="2773080"/>
              <a:ext cx="502920" cy="539280"/>
            </a:xfrm>
            <a:prstGeom prst="downArrow">
              <a:avLst>
                <a:gd name="adj1" fmla="val 50000"/>
                <a:gd name="adj2" fmla="val 2680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0815600">
              <a:off x="8084160" y="3784680"/>
              <a:ext cx="502920" cy="539280"/>
            </a:xfrm>
            <a:prstGeom prst="downArrow">
              <a:avLst>
                <a:gd name="adj1" fmla="val 50000"/>
                <a:gd name="adj2" fmla="val 2680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8480" y="5430960"/>
              <a:ext cx="6872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 u="sng">
                  <a:solidFill>
                    <a:srgbClr val="0000ff"/>
                  </a:solidFill>
                  <a:uFillTx/>
                  <a:latin typeface="Times New Roman"/>
                  <a:ea typeface="Monotype Koufi"/>
                </a:rPr>
                <a:t>“التركيز على الوقاية وليس التصحيح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042920" y="228600"/>
            <a:ext cx="7796160" cy="7160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</a:rPr>
              <a:t>الحاجة إلى الجودة: تحسين الأداء وخفض التكاليف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afe"/>
            </a:gs>
            <a:gs pos="50000">
              <a:srgbClr val="fee7f2"/>
            </a:gs>
            <a:gs pos="100000">
              <a:srgbClr val="c4f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619280" y="333360"/>
            <a:ext cx="6315120" cy="10688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طرق والأساليب المستخدمة في ادارة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26920" y="352260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حلقات الجو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114560" y="191628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سيجما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Sigma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30920" y="328464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المقارنة المرج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940360" y="191628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إدارة التغ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492360" y="141300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أدوات الاحص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547640" y="486900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اعادة الهيك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19640" y="5516640"/>
            <a:ext cx="235404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شهادة الايزو </a:t>
            </a: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9000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938920" y="479736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جوائز التمي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564000" y="2820960"/>
            <a:ext cx="230328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771640" y="260280"/>
            <a:ext cx="497700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ما هي شهادة الأيزو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03160" y="1700280"/>
            <a:ext cx="5497560" cy="667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Times New Roman"/>
              </a:rPr>
              <a:t>معايير أو مقاييس أو قواعد  نظامية متراك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Times New Roman"/>
              </a:rPr>
              <a:t> بهدف الوصول للجودة الشاملة, تشرح و توجه من خلالها المتطلبات لكيفية بناء الجوده في الشرك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060720" y="1773360"/>
            <a:ext cx="489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ق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افع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برهن/اثب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حس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2322360" cy="40320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771640" y="260280"/>
            <a:ext cx="497700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ما هي شهادة الأيزو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771640" y="260280"/>
            <a:ext cx="497700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فوائد شهادة الأيزو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728720" cy="10080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971640" y="1662120"/>
            <a:ext cx="6865920" cy="496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lin ang="10800000"/>
          </a:gradFill>
          <a:ln w="9360">
            <a:solidFill>
              <a:srgbClr val="cc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نظام توثيق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التطوير المستم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أول خطوة لتطبيق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دعاية تجارية و اعلامية فعالة و قو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99880" y="1298520"/>
            <a:ext cx="8520120" cy="53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4000" y="886680"/>
            <a:ext cx="8439120" cy="47494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50000">
                <a:srgbClr val="ffffff"/>
              </a:gs>
              <a:gs pos="100000">
                <a:srgbClr val="006666"/>
              </a:gs>
            </a:gsLst>
            <a:lin ang="5400000"/>
          </a:gradFill>
          <a:ln w="13968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4960" rIns="84960" tIns="502920" bIns="320040" anchor="ctr" anchorCtr="1">
            <a:spAutoFit/>
          </a:bodyPr>
          <a:p>
            <a:pPr algn="ctr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قال تعالى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ar-SA" sz="5000" spc="-1" strike="noStrike">
                <a:solidFill>
                  <a:srgbClr val="cc3300"/>
                </a:solidFill>
                <a:latin typeface="Times New Roman"/>
                <a:ea typeface="DecoType Naskh"/>
              </a:rPr>
              <a:t>(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ar-AE" sz="5000" spc="-1" strike="noStrike">
                <a:solidFill>
                  <a:srgbClr val="000000"/>
                </a:solidFill>
                <a:latin typeface="Times New Roman"/>
                <a:cs typeface="DecoType Naskh"/>
              </a:rPr>
              <a:t>يا أيها الذين امنوا لم تقولون مالا تفعلون (*) كبر مقتا عند الله أن تقولوا مالا تفعلون(*)</a:t>
            </a:r>
            <a:r>
              <a:rPr b="0" lang="ar-SA" sz="5000" spc="-1" strike="noStrike">
                <a:solidFill>
                  <a:srgbClr val="cc3300"/>
                </a:solidFill>
                <a:latin typeface="Times New Roman"/>
                <a:ea typeface="DecoType Naskh"/>
              </a:rPr>
              <a:t>)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سورة ا</a:t>
            </a:r>
            <a:r>
              <a:rPr b="0" lang="ar-AE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لصف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2250000" y="2279520"/>
            <a:ext cx="461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الفصل الثان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684360" y="1159920"/>
            <a:ext cx="7129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أخطاء شائعة عند تطبيق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مبادئ الجودة: إلتزام القيادة والتحسين المستمر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جوائز الجودة والتمي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ادارة التغي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اختبار تحري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استبا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284720" y="333360"/>
            <a:ext cx="3267000" cy="76428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لفصل الثان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547640" y="1614600"/>
            <a:ext cx="64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الشعارات والملصقات واللافت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دوائر/أقسام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الندوات وورش العمل المؤقت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برنامج رقابة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استعجال النتائ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411280" y="189000"/>
            <a:ext cx="5499360" cy="13129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أخطاء شائعة عند تطبيق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611280" y="1442880"/>
            <a:ext cx="2305080" cy="14814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0"/>
          <a:stretch/>
        </p:blipFill>
        <p:spPr>
          <a:xfrm>
            <a:off x="755640" y="3429000"/>
            <a:ext cx="2232000" cy="187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1711080" y="2279520"/>
            <a:ext cx="532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الجودة والقياد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333360"/>
            <a:ext cx="9144000" cy="62197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2a106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4000" y="765000"/>
            <a:ext cx="8362440" cy="5406480"/>
            <a:chOff x="324000" y="765000"/>
            <a:chExt cx="8362440" cy="5406480"/>
          </a:xfrm>
        </p:grpSpPr>
        <p:sp>
          <p:nvSpPr>
            <p:cNvPr id="168" name=""/>
            <p:cNvSpPr/>
            <p:nvPr/>
          </p:nvSpPr>
          <p:spPr>
            <a:xfrm>
              <a:off x="3486240" y="2434680"/>
              <a:ext cx="1897200" cy="15026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91680" y="2184120"/>
              <a:ext cx="3794760" cy="1966320"/>
            </a:xfrm>
            <a:prstGeom prst="hexagon">
              <a:avLst>
                <a:gd name="adj" fmla="val 55957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0099"/>
                </a:gs>
              </a:gsLst>
              <a:lin ang="108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27240" y="4203720"/>
              <a:ext cx="4497480" cy="1967760"/>
            </a:xfrm>
            <a:prstGeom prst="hexagon">
              <a:avLst>
                <a:gd name="adj" fmla="val 57140"/>
                <a:gd name="vf" fmla="val 1154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51000" y="3519720"/>
              <a:ext cx="4638240" cy="2587320"/>
            </a:xfrm>
            <a:prstGeom prst="hexagon">
              <a:avLst>
                <a:gd name="adj" fmla="val 58345"/>
                <a:gd name="vf" fmla="val 115470"/>
              </a:avLst>
            </a:prstGeom>
            <a:gradFill rotWithShape="0">
              <a:gsLst>
                <a:gs pos="0">
                  <a:srgbClr val="990099"/>
                </a:gs>
                <a:gs pos="100000">
                  <a:srgbClr val="ffffff"/>
                </a:gs>
              </a:gsLst>
              <a:lin ang="54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12960" y="3603240"/>
              <a:ext cx="4007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66"/>
                  </a:solidFill>
                  <a:latin typeface="Times New Roman"/>
                  <a:ea typeface="Arabic Transparent"/>
                </a:rPr>
                <a:t>      </a:t>
              </a: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عدم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وجود أخطا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ea typeface="Arabic Transparent"/>
                </a:rPr>
                <a:t> في المنت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ea typeface="Arabic Transparent"/>
                </a:rPr>
                <a:t> أو الخدم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4000" y="2166840"/>
              <a:ext cx="3794760" cy="1964520"/>
            </a:xfrm>
            <a:prstGeom prst="hexagon">
              <a:avLst>
                <a:gd name="adj" fmla="val 56009"/>
                <a:gd name="vf" fmla="val 115470"/>
              </a:avLst>
            </a:prstGeom>
            <a:gradFill rotWithShape="0">
              <a:gsLst>
                <a:gs pos="0">
                  <a:srgbClr val="990099"/>
                </a:gs>
                <a:gs pos="100000">
                  <a:srgbClr val="ffffff"/>
                </a:gs>
              </a:gsLst>
              <a:lin ang="108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25760" y="765000"/>
              <a:ext cx="4005720" cy="2171160"/>
            </a:xfrm>
            <a:prstGeom prst="hexagon">
              <a:avLst>
                <a:gd name="adj" fmla="val 62173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0099"/>
                </a:gs>
              </a:gsLst>
              <a:lin ang="54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77240" y="1266480"/>
              <a:ext cx="211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الالتزام والإيفاء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بمتطلبات العملا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" y="2434680"/>
              <a:ext cx="38476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66ff33"/>
                  </a:solidFill>
                  <a:latin typeface="Times New Roman"/>
                  <a:ea typeface="Arabic Transparent"/>
                </a:rPr>
                <a:t>      </a:t>
              </a: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ملاءمة المنتج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او الخدمة للغر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  او الاستخدام</a:t>
              </a:r>
              <a:r>
                <a:rPr b="1" lang="ar-SA" sz="2800" spc="-1" strike="noStrike">
                  <a:solidFill>
                    <a:srgbClr val="66ff33"/>
                  </a:solidFill>
                  <a:latin typeface="Times New Roman"/>
                  <a:ea typeface="Arabic Transparent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96480" y="2237400"/>
              <a:ext cx="29088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66ff33"/>
                  </a:solidFill>
                  <a:latin typeface="Times New Roman"/>
                  <a:ea typeface="Arabic Transparent"/>
                </a:rPr>
                <a:t>     </a:t>
              </a: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عمل الشىء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   الصحيح بالطريقة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 الصحيحة من أول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مرة وفي كل مرة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835600" y="804960"/>
            <a:ext cx="2105640" cy="5814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3399"/>
                </a:solidFill>
                <a:latin typeface="Arial"/>
                <a:cs typeface="Arabic Transparent"/>
              </a:rPr>
              <a:t>الجودة 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724000" y="189000"/>
            <a:ext cx="1845000" cy="7920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ادة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9560" y="1658880"/>
            <a:ext cx="8002800" cy="46497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ريف 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اد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يئة العليا المسؤولة عن توجيه الدائرة وسياستها بصورة عامة وقيادة مواردها البشرية نحو تحقيق رؤيتها ورسالته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ضم المدير العام ونوابه ومساعديه ومدراء الوحدات التنظيمية وغيرهم من المشرفين الذين يتحملون مسؤوليات قياد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571680" y="2503440"/>
            <a:ext cx="8126280" cy="2949480"/>
          </a:xfrm>
          <a:prstGeom prst="rect">
            <a:avLst/>
          </a:prstGeom>
          <a:solidFill>
            <a:srgbClr val="dfeaff"/>
          </a:soli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68440" y="5429160"/>
            <a:ext cx="8153280" cy="95256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وع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3540240"/>
            <a:ext cx="8180280" cy="1904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التزا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144440" y="4440240"/>
            <a:ext cx="6902640" cy="101268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مشارك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68320" y="3452760"/>
            <a:ext cx="5712120" cy="9810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تحفي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454120" y="2509920"/>
            <a:ext cx="4368960" cy="9396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متا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06520" y="587520"/>
            <a:ext cx="8199360" cy="4870440"/>
            <a:chOff x="506520" y="587520"/>
            <a:chExt cx="8199360" cy="4870440"/>
          </a:xfrm>
        </p:grpSpPr>
        <p:sp>
          <p:nvSpPr>
            <p:cNvPr id="509" name=""/>
            <p:cNvSpPr/>
            <p:nvPr/>
          </p:nvSpPr>
          <p:spPr>
            <a:xfrm>
              <a:off x="579600" y="2497320"/>
              <a:ext cx="8126280" cy="2949480"/>
            </a:xfrm>
            <a:prstGeom prst="rect">
              <a:avLst/>
            </a:prstGeom>
            <a:solidFill>
              <a:srgbClr val="dfeaff"/>
            </a:soli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6520" y="587520"/>
              <a:ext cx="8180280" cy="1905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التزا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67160" y="2514600"/>
              <a:ext cx="4368600" cy="939960"/>
            </a:xfrm>
            <a:prstGeom prst="rect">
              <a:avLst/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متابع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81360" y="3457800"/>
              <a:ext cx="5711760" cy="981000"/>
            </a:xfrm>
            <a:prstGeom prst="rect">
              <a:avLst/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تحفي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57480" y="4445280"/>
              <a:ext cx="6902280" cy="1012680"/>
            </a:xfrm>
            <a:prstGeom prst="rect">
              <a:avLst/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مشارك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4.72222E-006 -3.93975E-006 L -0.00191 -0.13858 E">
                                      <p:cBhvr>
                                        <p:cTn id="439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4.44444E-006 -0.15365 L -0.00382 -0.28969 E">
                                      <p:cBhvr>
                                        <p:cTn id="447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382 -0.28969 L -0.00209 -0.43036 E">
                                      <p:cBhvr>
                                        <p:cTn id="455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835280" y="1197000"/>
            <a:ext cx="5067000" cy="3924360"/>
          </a:xfrm>
          <a:prstGeom prst="rect">
            <a:avLst/>
          </a:prstGeom>
          <a:gradFill rotWithShape="0">
            <a:gsLst>
              <a:gs pos="0">
                <a:srgbClr val="99bdff"/>
              </a:gs>
              <a:gs pos="100000">
                <a:srgbClr val="e5e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384280" y="2540160"/>
            <a:ext cx="3322800" cy="3124080"/>
          </a:xfrm>
          <a:custGeom>
            <a:avLst/>
            <a:gdLst/>
            <a:ahLst/>
            <a:rect l="l" t="t" r="r" b="b"/>
            <a:pathLst>
              <a:path w="2093" h="1968">
                <a:moveTo>
                  <a:pt x="0" y="0"/>
                </a:moveTo>
                <a:cubicBezTo>
                  <a:pt x="80" y="23"/>
                  <a:pt x="160" y="46"/>
                  <a:pt x="250" y="115"/>
                </a:cubicBezTo>
                <a:cubicBezTo>
                  <a:pt x="340" y="184"/>
                  <a:pt x="440" y="302"/>
                  <a:pt x="538" y="413"/>
                </a:cubicBezTo>
                <a:cubicBezTo>
                  <a:pt x="636" y="524"/>
                  <a:pt x="715" y="663"/>
                  <a:pt x="835" y="778"/>
                </a:cubicBezTo>
                <a:cubicBezTo>
                  <a:pt x="955" y="893"/>
                  <a:pt x="1149" y="1026"/>
                  <a:pt x="1258" y="1104"/>
                </a:cubicBezTo>
                <a:cubicBezTo>
                  <a:pt x="1367" y="1182"/>
                  <a:pt x="1416" y="1195"/>
                  <a:pt x="1488" y="1248"/>
                </a:cubicBezTo>
                <a:cubicBezTo>
                  <a:pt x="1560" y="1301"/>
                  <a:pt x="1623" y="1363"/>
                  <a:pt x="1690" y="1421"/>
                </a:cubicBezTo>
                <a:cubicBezTo>
                  <a:pt x="1757" y="1479"/>
                  <a:pt x="1843" y="1533"/>
                  <a:pt x="1891" y="1594"/>
                </a:cubicBezTo>
                <a:cubicBezTo>
                  <a:pt x="1939" y="1655"/>
                  <a:pt x="1944" y="1724"/>
                  <a:pt x="1978" y="1786"/>
                </a:cubicBezTo>
                <a:cubicBezTo>
                  <a:pt x="2012" y="1848"/>
                  <a:pt x="2052" y="1908"/>
                  <a:pt x="2093" y="1968"/>
                </a:cubicBezTo>
              </a:path>
            </a:pathLst>
          </a:custGeom>
          <a:noFill/>
          <a:ln w="76320">
            <a:solidFill>
              <a:srgbClr val="66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57080" y="-801360"/>
            <a:ext cx="8729640" cy="7602840"/>
            <a:chOff x="757080" y="-801360"/>
            <a:chExt cx="8729640" cy="7602840"/>
          </a:xfrm>
        </p:grpSpPr>
        <p:sp>
          <p:nvSpPr>
            <p:cNvPr id="517" name=""/>
            <p:cNvSpPr/>
            <p:nvPr/>
          </p:nvSpPr>
          <p:spPr>
            <a:xfrm rot="186000">
              <a:off x="838080" y="3396960"/>
              <a:ext cx="7620120" cy="3200400"/>
            </a:xfrm>
            <a:prstGeom prst="rect">
              <a:avLst/>
            </a:prstGeom>
            <a:gradFill rotWithShape="0">
              <a:gsLst>
                <a:gs pos="0">
                  <a:srgbClr val="99bdff"/>
                </a:gs>
                <a:gs pos="100000">
                  <a:srgbClr val="e5eeff"/>
                </a:gs>
              </a:gsLst>
              <a:lin ang="5214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664640" y="3210120"/>
              <a:ext cx="3039840" cy="3199680"/>
              <a:chOff x="1664640" y="3210120"/>
              <a:chExt cx="3039840" cy="3199680"/>
            </a:xfrm>
          </p:grpSpPr>
          <p:sp>
            <p:nvSpPr>
              <p:cNvPr id="519" name=""/>
              <p:cNvSpPr/>
              <p:nvPr/>
            </p:nvSpPr>
            <p:spPr>
              <a:xfrm rot="2503800">
                <a:off x="2574720" y="3209760"/>
                <a:ext cx="1218960" cy="3200400"/>
              </a:xfrm>
              <a:prstGeom prst="rect">
                <a:avLst/>
              </a:prstGeom>
              <a:gradFill rotWithShape="0">
                <a:gsLst>
                  <a:gs pos="0">
                    <a:srgbClr val="81aeff"/>
                  </a:gs>
                  <a:gs pos="50000">
                    <a:srgbClr val="e5eeff"/>
                  </a:gs>
                  <a:gs pos="100000">
                    <a:srgbClr val="81aeff"/>
                  </a:gs>
                </a:gsLst>
                <a:lin ang="10800000"/>
              </a:gradFill>
              <a:ln w="12600">
                <a:solidFill>
                  <a:srgbClr val="002a7e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8704400">
                <a:off x="1902240" y="4543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800" spc="-1" strike="noStrike">
                    <a:solidFill>
                      <a:srgbClr val="669999"/>
                    </a:solidFill>
                    <a:latin typeface="Arial"/>
                  </a:rPr>
                  <a:t>التطبي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3395160" y="3319200"/>
              <a:ext cx="2915640" cy="3388320"/>
              <a:chOff x="3395160" y="3319200"/>
              <a:chExt cx="2915640" cy="3388320"/>
            </a:xfrm>
          </p:grpSpPr>
          <p:sp>
            <p:nvSpPr>
              <p:cNvPr id="522" name=""/>
              <p:cNvSpPr/>
              <p:nvPr/>
            </p:nvSpPr>
            <p:spPr>
              <a:xfrm rot="2082000">
                <a:off x="4187520" y="3413160"/>
                <a:ext cx="1330200" cy="3200400"/>
              </a:xfrm>
              <a:prstGeom prst="rect">
                <a:avLst/>
              </a:prstGeom>
              <a:gradFill rotWithShape="0">
                <a:gsLst>
                  <a:gs pos="0">
                    <a:srgbClr val="81aeff"/>
                  </a:gs>
                  <a:gs pos="50000">
                    <a:srgbClr val="e5eeff"/>
                  </a:gs>
                  <a:gs pos="100000">
                    <a:srgbClr val="81aeff"/>
                  </a:gs>
                </a:gsLst>
                <a:lin ang="10800000"/>
              </a:gradFill>
              <a:ln w="12600">
                <a:solidFill>
                  <a:srgbClr val="002a7e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8282000">
                <a:off x="3539880" y="470700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800" spc="-1" strike="noStrike">
                    <a:solidFill>
                      <a:srgbClr val="669999"/>
                    </a:solidFill>
                    <a:latin typeface="Arial"/>
                  </a:rPr>
                  <a:t>التقيي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5403600" y="5329440"/>
              <a:ext cx="3287160" cy="1469520"/>
              <a:chOff x="5403600" y="5329440"/>
              <a:chExt cx="3287160" cy="1469520"/>
            </a:xfrm>
          </p:grpSpPr>
          <p:sp>
            <p:nvSpPr>
              <p:cNvPr id="525" name=""/>
              <p:cNvSpPr/>
              <p:nvPr/>
            </p:nvSpPr>
            <p:spPr>
              <a:xfrm rot="5673600">
                <a:off x="6437520" y="4464000"/>
                <a:ext cx="1218960" cy="3200400"/>
              </a:xfrm>
              <a:prstGeom prst="rect">
                <a:avLst/>
              </a:prstGeom>
              <a:gradFill rotWithShape="0">
                <a:gsLst>
                  <a:gs pos="0">
                    <a:srgbClr val="81aeff"/>
                  </a:gs>
                  <a:gs pos="50000">
                    <a:srgbClr val="e5eeff"/>
                  </a:gs>
                  <a:gs pos="100000">
                    <a:srgbClr val="81aeff"/>
                  </a:gs>
                </a:gsLst>
                <a:lin ang="10800000"/>
              </a:gradFill>
              <a:ln w="12600">
                <a:solidFill>
                  <a:srgbClr val="002a7e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273600">
                <a:off x="5713560" y="5803920"/>
                <a:ext cx="2667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800" spc="-1" strike="noStrike">
                    <a:solidFill>
                      <a:srgbClr val="669999"/>
                    </a:solidFill>
                    <a:latin typeface="Arial"/>
                  </a:rPr>
                  <a:t>المراجع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 rot="2036400">
              <a:off x="1077480" y="1440000"/>
              <a:ext cx="8610840" cy="1904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نتائ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0" y="0"/>
            <a:ext cx="10167840" cy="7126200"/>
          </a:xfrm>
          <a:prstGeom prst="rect">
            <a:avLst/>
          </a:prstGeom>
          <a:gradFill rotWithShape="0">
            <a:gsLst>
              <a:gs pos="0">
                <a:srgbClr val="3939ab"/>
              </a:gs>
              <a:gs pos="100000">
                <a:srgbClr val="2727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57280" y="5315040"/>
            <a:ext cx="8153280" cy="95256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669999"/>
                </a:solidFill>
                <a:latin typeface="Arial"/>
              </a:rPr>
              <a:t>القيا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81840" y="2095560"/>
            <a:ext cx="1218960" cy="32004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5eeff"/>
              </a:gs>
              <a:gs pos="100000">
                <a:srgbClr val="81aeff"/>
              </a:gs>
            </a:gsLst>
            <a:lin ang="108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005360" y="2095560"/>
            <a:ext cx="1330200" cy="32004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5eeff"/>
              </a:gs>
              <a:gs pos="100000">
                <a:srgbClr val="81aeff"/>
              </a:gs>
            </a:gsLst>
            <a:lin ang="108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04840" y="2095560"/>
            <a:ext cx="1219320" cy="32004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5eeff"/>
              </a:gs>
              <a:gs pos="100000">
                <a:srgbClr val="81aeff"/>
              </a:gs>
            </a:gsLst>
            <a:lin ang="108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16200000">
            <a:off x="1529280" y="318384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669999"/>
                </a:solidFill>
                <a:latin typeface="Arial"/>
              </a:rPr>
              <a:t>موارد بشرية متميز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6200000">
            <a:off x="3540600" y="317268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669999"/>
                </a:solidFill>
                <a:latin typeface="Arial"/>
              </a:rPr>
              <a:t>التركيز على العمل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6200000">
            <a:off x="5357880" y="3435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669999"/>
                </a:solidFill>
                <a:latin typeface="Arial"/>
              </a:rPr>
              <a:t>عمليات فع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3520" y="0"/>
            <a:ext cx="8610480" cy="1905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669999"/>
                </a:solidFill>
                <a:latin typeface="Arial"/>
              </a:rPr>
              <a:t>النتائج/التحسين والتطو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669999"/>
                </a:solidFill>
                <a:latin typeface="Arial"/>
              </a:rPr>
              <a:t>المستم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04" dur="1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06" dur="1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08" dur="1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0" dur="1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2" dur="1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4" dur="1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6" dur="1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indefinite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9999998807907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500"/>
                            </p:stCondLst>
                            <p:childTnLst>
                              <p:par>
                                <p:cTn id="5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16080" y="949320"/>
            <a:ext cx="8543880" cy="5648400"/>
          </a:xfrm>
          <a:prstGeom prst="rect">
            <a:avLst/>
          </a:prstGeom>
          <a:solidFill>
            <a:srgbClr val="dfeaff"/>
          </a:solidFill>
          <a:ln w="12600">
            <a:solidFill>
              <a:srgbClr val="6699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14400" y="1371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143000" y="335268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51720" y="789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ييم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86160" y="7905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طوير الرؤية والرسالة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5280" y="449748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تعامل مع جميع الفئ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99960" y="26319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وضع وتطوير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06440" y="7873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مشاركة 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86160" y="44845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بني سياسة التغ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680160" y="26226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ديم الحواف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60840" y="45054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بناء ثقافة التميز لدى الموظف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61080" y="449424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وفير بيئة مشجعة على الإبدا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427640" y="76500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إلتزام بالقيم المؤسس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91760" y="163440"/>
            <a:ext cx="3140280" cy="642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هجيات القيا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2484360" y="2448000"/>
            <a:ext cx="40388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500"/>
                            </p:stCondLst>
                            <p:childTnLst>
                              <p:par>
                                <p:cTn id="5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0"/>
                            </p:stCondLst>
                            <p:childTnLst>
                              <p:par>
                                <p:cTn id="5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108000" y="1197000"/>
          <a:ext cx="7632720" cy="478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97000"/>
                    <a:ext cx="763272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406440" y="111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900" spc="-1" strike="noStrike">
                <a:solidFill>
                  <a:srgbClr val="ffffff"/>
                </a:solidFill>
                <a:latin typeface="Arial"/>
              </a:rPr>
              <a:t>النتائج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476360" y="2276640"/>
            <a:ext cx="1584360" cy="15840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060720" y="2276640"/>
            <a:ext cx="1440000" cy="1081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500720" y="1413000"/>
            <a:ext cx="1296720" cy="20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016080" y="163440"/>
            <a:ext cx="5272560" cy="642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تطوير والتحسين المستم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7342200" y="1773360"/>
            <a:ext cx="162252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2556000" y="1773360"/>
            <a:ext cx="4319640" cy="35272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2195640" y="260280"/>
            <a:ext cx="4951440" cy="7462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9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الم يتغير بسرعة كبيرة جدا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4716600">
            <a:off x="6957720" y="1105920"/>
            <a:ext cx="9946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ترن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055040" y="1155600"/>
            <a:ext cx="2292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اء غير راض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694400" y="5835600"/>
            <a:ext cx="865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طا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19924800">
            <a:off x="585000" y="3532320"/>
            <a:ext cx="1015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وبر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11482800">
            <a:off x="665280" y="1809720"/>
            <a:ext cx="9946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وبا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20848800">
            <a:off x="8006400" y="2182320"/>
            <a:ext cx="1052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بلوتو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4398600">
            <a:off x="7131240" y="3821400"/>
            <a:ext cx="1904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جبات سري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9047600">
            <a:off x="2414160" y="5835960"/>
            <a:ext cx="1564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غيير مناه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773000">
            <a:off x="860040" y="4437000"/>
            <a:ext cx="2370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وائز جودة وتمي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56120" y="5877000"/>
            <a:ext cx="951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ول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10635000">
            <a:off x="6294960" y="5091480"/>
            <a:ext cx="10951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مبيوت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5600" y="189000"/>
            <a:ext cx="1756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راكز تسو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20029200">
            <a:off x="4777200" y="4467240"/>
            <a:ext cx="15980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غلاء معيش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3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" presetSubtype="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3" dur="2000" fill="hold"/>
                                        <p:tgtEl>
                                          <p:spTgt spid="5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5700600" cy="7444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جودة و تحديات الانفتاح الاقتصادي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026560" cy="39607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أهم الاتفاقيات الاقتصادية و التجارية التي وقعتها الدول العرب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تفاقية الشراكة الأوروب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نضمام إلى منظمة التجارة العال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تفاقية منطقة التجارة الحرة العربية الكب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تفاقية منطقة التجارة الحرة مع امريك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تفاقيات الثنا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"/>
          <p:cNvGraphicFramePr/>
          <p:nvPr/>
        </p:nvGraphicFramePr>
        <p:xfrm>
          <a:off x="457200" y="2622600"/>
          <a:ext cx="8229600" cy="3747960"/>
        </p:xfrm>
        <a:graphic>
          <a:graphicData uri="http://schemas.openxmlformats.org/drawingml/2006/table">
            <a:tbl>
              <a:tblPr/>
              <a:tblGrid>
                <a:gridCol w="5735520"/>
                <a:gridCol w="1503360"/>
                <a:gridCol w="990720"/>
              </a:tblGrid>
              <a:tr h="87408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ing priz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280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colm Baldrig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100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ropean Quality Awa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ro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008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 Award for Excell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"/>
          <p:cNvSpPr/>
          <p:nvPr/>
        </p:nvSpPr>
        <p:spPr>
          <a:xfrm>
            <a:off x="2411280" y="1727280"/>
            <a:ext cx="67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000" spc="-1" strike="noStrike">
                <a:solidFill>
                  <a:srgbClr val="000000"/>
                </a:solidFill>
                <a:latin typeface="Times New Roman"/>
              </a:rPr>
              <a:t>حوالي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ar-JO" sz="3000" spc="-1" strike="noStrike">
                <a:solidFill>
                  <a:srgbClr val="000000"/>
                </a:solidFill>
                <a:latin typeface="Times New Roman"/>
              </a:rPr>
              <a:t> برنامجاً مطبقاً لإدارة الجودة في العال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649440" y="692280"/>
            <a:ext cx="1606320" cy="169056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2340000" y="333360"/>
            <a:ext cx="5499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جوائز الجودة و التميز العال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2340000" y="333360"/>
            <a:ext cx="5499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جوائز الجودة و التميز المح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00200" y="1773360"/>
            <a:ext cx="7086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ارقة للتمي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يخ حمدان للتميز العلم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يخ خليفة للمعل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دبي للجو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يخة لطيفة بنت محمد للإأبدا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دبي للأداء الحكومي المتمي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راس الخيمة للأداء الحكومي المتمي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8"/>
          <a:stretch/>
        </p:blipFill>
        <p:spPr>
          <a:xfrm>
            <a:off x="685800" y="1266840"/>
            <a:ext cx="28144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411280" y="333360"/>
            <a:ext cx="54277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فوائد جوائز الجودة و التمي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3480" y="1562040"/>
            <a:ext cx="8012160" cy="474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ستخدام معايير الجائزة كدليلٍ للأداء المتميز وموجهٍ لتطوير الأد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ستلام تقرير تقييمي يوضح نقاط القوة وفرص التحس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أداة للتقييم الذاتي والتطوير المست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قارنة الأداء مع مؤسسات عالمية متميز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ريع الجهود التطوي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فيز الموظفين وفرق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زيادة رضا المتعامالين الخارجي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لاعتراف بالدائرة/ الإدارة كجهة رائدة ونموذجٍ للتمي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ستلام تذكار الجائزة كحافزٍ وتكريمٍ معن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380880" y="1600200"/>
            <a:ext cx="8763120" cy="3884400"/>
            <a:chOff x="380880" y="1600200"/>
            <a:chExt cx="8763120" cy="3884400"/>
          </a:xfrm>
        </p:grpSpPr>
        <p:sp>
          <p:nvSpPr>
            <p:cNvPr id="180" name=""/>
            <p:cNvSpPr/>
            <p:nvPr/>
          </p:nvSpPr>
          <p:spPr>
            <a:xfrm>
              <a:off x="529560" y="3588480"/>
              <a:ext cx="8391240" cy="1896120"/>
            </a:xfrm>
            <a:prstGeom prst="octagon">
              <a:avLst>
                <a:gd name="adj" fmla="val 2928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7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3360" y="1600200"/>
              <a:ext cx="8329680" cy="1768680"/>
            </a:xfrm>
            <a:prstGeom prst="octagon">
              <a:avLst>
                <a:gd name="adj" fmla="val 2928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7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880" y="1741680"/>
              <a:ext cx="8763120" cy="17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spAutoFit/>
            </a:bodyPr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0" lang="ar-SA" sz="2800" spc="-1" strike="noStrike">
                  <a:solidFill>
                    <a:srgbClr val="ff3300"/>
                  </a:solidFill>
                  <a:latin typeface="Times New Roman"/>
                  <a:cs typeface="DecoType Naskh"/>
                </a:rPr>
                <a:t>قال الله تعالى</a:t>
              </a:r>
              <a:r>
                <a:rPr b="0" lang="ar-SA" sz="2800" spc="-1" strike="noStrike">
                  <a:solidFill>
                    <a:srgbClr val="ff0000"/>
                  </a:solidFill>
                  <a:latin typeface="Times New Roman"/>
                  <a:ea typeface="DecoType Naskh"/>
                </a:rPr>
                <a:t> </a:t>
              </a:r>
              <a:r>
                <a:rPr b="0" lang="ar-SA" sz="3600" spc="-1" strike="noStrike">
                  <a:solidFill>
                    <a:srgbClr val="0000ff"/>
                  </a:solidFill>
                  <a:latin typeface="Times New Roman"/>
                  <a:ea typeface="DecoType Naskh"/>
                </a:rPr>
                <a:t>( يا أيها الذين آمنوا أوفوا بالعقود )</a:t>
              </a:r>
              <a:r>
                <a:rPr b="0" lang="ar-SA" sz="2800" spc="-1" strike="noStrike">
                  <a:solidFill>
                    <a:srgbClr val="008000"/>
                  </a:solidFill>
                  <a:latin typeface="Times New Roman"/>
                  <a:ea typeface="DecoType Naskh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0" lang="ar-SA" sz="2000" spc="-1" strike="noStrike">
                  <a:solidFill>
                    <a:srgbClr val="ff3300"/>
                  </a:solidFill>
                  <a:latin typeface="Times New Roman"/>
                  <a:cs typeface="DecoType Naskh"/>
                </a:rPr>
                <a:t>سورة المائدة  : الآية </a:t>
              </a:r>
              <a:r>
                <a:rPr b="0" lang="ar-SA" sz="2000" spc="-1" strike="noStrike">
                  <a:solidFill>
                    <a:srgbClr val="ff3300"/>
                  </a:solidFill>
                  <a:latin typeface="Times New Roman"/>
                  <a:ea typeface="DecoType Naskh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514880" y="4078440"/>
            <a:ext cx="6665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(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Times New Roman"/>
              </a:rPr>
              <a:t>أن الله يحب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cs typeface="Times New Roman"/>
              </a:rPr>
              <a:t>أ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Times New Roman"/>
              </a:rPr>
              <a:t>حدكم  إذا عمل  عملاً أن يتقنه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cs typeface="Times New Roman"/>
              </a:rPr>
              <a:t>ح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  <a:cs typeface="Times New Roman"/>
              </a:rPr>
              <a:t>ديث شري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2354400" y="2279520"/>
            <a:ext cx="42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إدارة التغيي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219640" y="333360"/>
            <a:ext cx="2475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دارة التغي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429000" y="3429000"/>
            <a:ext cx="525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43000" y="1557360"/>
            <a:ext cx="77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ترجع أسباب التغيير الى اصدار قوانين جديدة او رغبات جديدة أو تغير في التكنولوجي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042920" y="2895480"/>
            <a:ext cx="77407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Times New Roman"/>
              </a:rPr>
              <a:t> للحصول على ردود ايجابية في مرحلة التغيير لابد من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خطة لإدارة ال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دراسة العوائق و ردود الافع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توضيح الصورة الإيجابية لل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اعلان الفوائد والنتائ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6867360" cy="5327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476360" y="2349360"/>
            <a:ext cx="5975280" cy="381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411280" y="1268280"/>
            <a:ext cx="3816360" cy="1130400"/>
          </a:xfrm>
          <a:prstGeom prst="ellipse">
            <a:avLst/>
          </a:prstGeom>
          <a:noFill/>
          <a:ln w="38160">
            <a:solidFill>
              <a:srgbClr val="7e2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4643280" y="189000"/>
            <a:ext cx="3098880" cy="7642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قافة الجود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258920" y="2276640"/>
            <a:ext cx="7416720" cy="7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87280" y="3716280"/>
            <a:ext cx="748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116000" y="5011200"/>
            <a:ext cx="755964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381480" y="1916280"/>
            <a:ext cx="1046160" cy="3600360"/>
          </a:xfrm>
          <a:prstGeom prst="flowChartExtra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797120" y="1844640"/>
            <a:ext cx="1046160" cy="3672000"/>
          </a:xfrm>
          <a:prstGeom prst="flowChartMerg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076720" y="1989000"/>
            <a:ext cx="1057320" cy="352764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524720" y="1989000"/>
            <a:ext cx="914400" cy="3527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4520" y="1773360"/>
            <a:ext cx="1518840" cy="368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Arial"/>
              </a:rPr>
              <a:t>الإدارة العل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600" y="4676760"/>
            <a:ext cx="1529640" cy="368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دارة الدن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-164880" y="3213000"/>
            <a:ext cx="1941120" cy="368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Arial"/>
              </a:rPr>
              <a:t>الإدارة الوسط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50920" y="148428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يحتاج تطبيق الجودة من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3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إلى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5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سنو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يتوقع بعض من المدراء أن الجودة ستحل جميع مشاكل العم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السعي إلى الفوز بجوائز الجودة والتميز (هي النهاية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تعدد أساليب وطرق الجودة وعدم ربطها بالخطة الإستراتيجية للدائ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219640" y="189000"/>
            <a:ext cx="2519280" cy="17398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Times New Roman"/>
              </a:rPr>
              <a:t>فخ الثقاف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644480" y="122400"/>
            <a:ext cx="4959360" cy="930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6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ختبار تحريري</a:t>
            </a:r>
            <a:endParaRPr b="1" lang="en-US" sz="5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-1686240" y="1752480"/>
            <a:ext cx="12479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أكتب أسمك على الورقة بوضو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مدة الإختبار </a:t>
            </a: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دقائق فق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ممنوع الغ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66"/>
            </a:gs>
            <a:gs pos="50000">
              <a:srgbClr val="fee7f2"/>
            </a:gs>
            <a:gs pos="100000">
              <a:srgbClr val="33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4716360" y="476280"/>
            <a:ext cx="31338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ختبار تحري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765840" y="2324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971640" y="198900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مدة الاجابة خمس دقائ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الدرجة من </a:t>
            </a: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(درجة لكل سؤال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ممنوع الغ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1268280"/>
            <a:ext cx="8064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التركيز على العم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تشمل كل فرد/جزء بالنظ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تتطلب ولاء والتزام كل ف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أسلوب وق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الجودة تحتاج إلى وقت طويل لضمان نتائج ممتاز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التطوير والتحديث المستمر(التعليم والتدريب المستم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508720" y="189000"/>
            <a:ext cx="2185920" cy="7034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الخلاص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2664000" y="228600"/>
            <a:ext cx="57798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9999"/>
                </a:solidFill>
                <a:uFillTx/>
                <a:latin typeface="Optim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669999"/>
              </a:buClr>
              <a:buFont typeface="Optim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669999"/>
              </a:buClr>
              <a:buFont typeface="Optim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1820880" y="4527720"/>
            <a:ext cx="843120" cy="26640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4"/>
          <a:stretch/>
        </p:blipFill>
        <p:spPr>
          <a:xfrm rot="19248000">
            <a:off x="569520" y="4816080"/>
            <a:ext cx="266760" cy="84456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5"/>
          <a:stretch/>
        </p:blipFill>
        <p:spPr>
          <a:xfrm>
            <a:off x="914400" y="541008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6"/>
          <a:stretch/>
        </p:blipFill>
        <p:spPr>
          <a:xfrm>
            <a:off x="2181240" y="50292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7"/>
          <a:stretch/>
        </p:blipFill>
        <p:spPr>
          <a:xfrm rot="1536000">
            <a:off x="3517560" y="4105080"/>
            <a:ext cx="266760" cy="8445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8"/>
          <a:stretch/>
        </p:blipFill>
        <p:spPr>
          <a:xfrm rot="2293800">
            <a:off x="1758960" y="586692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9"/>
          <a:stretch/>
        </p:blipFill>
        <p:spPr>
          <a:xfrm>
            <a:off x="281160" y="6076800"/>
            <a:ext cx="844200" cy="26676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10"/>
          <a:stretch/>
        </p:blipFill>
        <p:spPr>
          <a:xfrm rot="19101600">
            <a:off x="2962080" y="5349600"/>
            <a:ext cx="266400" cy="84456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11"/>
          <a:stretch/>
        </p:blipFill>
        <p:spPr>
          <a:xfrm>
            <a:off x="2673360" y="61722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12"/>
          <a:stretch/>
        </p:blipFill>
        <p:spPr>
          <a:xfrm rot="961800">
            <a:off x="5221080" y="4527360"/>
            <a:ext cx="266400" cy="84456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3"/>
          <a:stretch/>
        </p:blipFill>
        <p:spPr>
          <a:xfrm>
            <a:off x="3870360" y="61722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14"/>
          <a:stretch/>
        </p:blipFill>
        <p:spPr>
          <a:xfrm>
            <a:off x="4643280" y="59436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5"/>
          <a:stretch/>
        </p:blipFill>
        <p:spPr>
          <a:xfrm rot="1391400">
            <a:off x="6691320" y="4626000"/>
            <a:ext cx="266760" cy="8445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16"/>
          <a:stretch/>
        </p:blipFill>
        <p:spPr>
          <a:xfrm rot="21018600">
            <a:off x="5698800" y="4950000"/>
            <a:ext cx="844560" cy="2664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17"/>
          <a:stretch/>
        </p:blipFill>
        <p:spPr>
          <a:xfrm rot="1261800">
            <a:off x="8053560" y="5216040"/>
            <a:ext cx="266400" cy="8445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18"/>
          <a:stretch/>
        </p:blipFill>
        <p:spPr>
          <a:xfrm>
            <a:off x="703440" y="4343400"/>
            <a:ext cx="844200" cy="2667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19"/>
          <a:stretch/>
        </p:blipFill>
        <p:spPr>
          <a:xfrm rot="247800">
            <a:off x="1125360" y="6438600"/>
            <a:ext cx="844560" cy="26676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2027160" y="260280"/>
            <a:ext cx="5857920" cy="13129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99"/>
                </a:solidFill>
                <a:latin typeface="Times New Roman"/>
              </a:rPr>
              <a:t>قصة الطفل صاحب الستة سنوات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2629080" y="3068640"/>
            <a:ext cx="3743280" cy="764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99"/>
                </a:solidFill>
                <a:latin typeface="Times New Roman"/>
              </a:rPr>
              <a:t>ملء الاستبان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716360" y="1844640"/>
            <a:ext cx="1656000" cy="38163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لهذ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خدمة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93080" y="3429000"/>
            <a:ext cx="1800000" cy="230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طبي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خدم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مقدم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6813720"/>
            <a:ext cx="392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804000" y="184464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51640" y="1989000"/>
            <a:ext cx="936720" cy="1368720"/>
          </a:xfrm>
          <a:prstGeom prst="upDownArrow">
            <a:avLst>
              <a:gd name="adj1" fmla="val 50000"/>
              <a:gd name="adj2" fmla="val 29088"/>
            </a:avLst>
          </a:prstGeom>
          <a:gradFill rotWithShape="0">
            <a:gsLst>
              <a:gs pos="0">
                <a:srgbClr val="ffffff"/>
              </a:gs>
              <a:gs pos="50000">
                <a:srgbClr val="d8d8ec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3306600"/>
            <a:ext cx="4176720" cy="17398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</a:rPr>
              <a:t>الجودة ليست جيد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36800" y="260280"/>
            <a:ext cx="51912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7800" y="3492360"/>
            <a:ext cx="53748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789120" y="5445000"/>
            <a:ext cx="72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AE" sz="3200" spc="-1" strike="noStrike" u="sng">
                <a:solidFill>
                  <a:srgbClr val="000099"/>
                </a:solidFill>
                <a:uFillTx/>
                <a:latin typeface="Times New Roman"/>
              </a:rPr>
              <a:t>الجودة رحلة مستمرة بدون خط نه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211640" y="2131920"/>
            <a:ext cx="1820880" cy="381816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50000">
                <a:srgbClr val="ffffff"/>
              </a:gs>
              <a:gs pos="100000">
                <a:srgbClr val="7e9c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لهذ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خدمة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48360" y="2131920"/>
            <a:ext cx="1727280" cy="38181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  <a:cs typeface="Arabic Transparent"/>
              </a:rPr>
              <a:t>طبيع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خدم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مقدم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246480"/>
            <a:ext cx="3589200" cy="1922760"/>
          </a:xfrm>
          <a:prstGeom prst="rect">
            <a:avLst/>
          </a:prstGeom>
          <a:gradFill rotWithShape="0">
            <a:gsLst>
              <a:gs pos="0">
                <a:srgbClr val="669999"/>
              </a:gs>
              <a:gs pos="50000">
                <a:srgbClr val="ffffff"/>
              </a:gs>
              <a:gs pos="100000">
                <a:srgbClr val="66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</a:rPr>
              <a:t> الجودة مقبولة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36800" y="333360"/>
            <a:ext cx="51912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57800" y="3357720"/>
            <a:ext cx="5814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51280" y="1989000"/>
            <a:ext cx="302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429000"/>
            <a:ext cx="3168720" cy="1556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5000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الجودة  ممتاز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060640"/>
            <a:ext cx="936720" cy="1008000"/>
          </a:xfrm>
          <a:prstGeom prst="upDownArrow">
            <a:avLst>
              <a:gd name="adj1" fmla="val 50000"/>
              <a:gd name="adj2" fmla="val 21422"/>
            </a:avLst>
          </a:prstGeom>
          <a:gradFill rotWithShape="0">
            <a:gsLst>
              <a:gs pos="0">
                <a:srgbClr val="ffffff"/>
              </a:gs>
              <a:gs pos="50000">
                <a:srgbClr val="d8d8ec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36800" y="228600"/>
            <a:ext cx="51912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75440" y="3433680"/>
            <a:ext cx="628560" cy="100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11640" y="3213000"/>
            <a:ext cx="1820880" cy="251964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50000">
                <a:srgbClr val="ffffff"/>
              </a:gs>
              <a:gs pos="100000">
                <a:srgbClr val="7e9c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لهذ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الخدمة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48360" y="1989000"/>
            <a:ext cx="1727280" cy="3743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  <a:cs typeface="Arabic Transparent"/>
              </a:rPr>
              <a:t>طبيع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خدم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مقدم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05:42:21Z</dcterms:created>
  <dc:creator>Administrator</dc:creator>
  <dc:description/>
  <dc:language>en-US</dc:language>
  <cp:lastModifiedBy>Acer User</cp:lastModifiedBy>
  <dcterms:modified xsi:type="dcterms:W3CDTF">2006-05-16T16:20:48Z</dcterms:modified>
  <cp:revision>210</cp:revision>
  <dc:subject/>
  <dc:title>Slide 1</dc:title>
</cp:coreProperties>
</file>