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199-A73F-4D73-9DD4-E71953C4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A81-66D8-4419-A393-14E5726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B5C-FC34-4DAE-A1A9-8F294910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42D-68C8-4A5F-BCA9-4D92B4F0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F09-CA49-40BA-8D07-D38CD0EC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B27-DD03-4529-903A-E1FDB842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FAC-8997-4350-8F12-BD072044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2A85-79B8-49DD-A9A7-E771ECF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3A0-9203-4756-BBF6-8E5682E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2A8-9336-4DCF-A297-846BF5C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792-80DF-4330-A256-D6FF253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A49-8729-4F12-AA84-2CEA438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D21-D6D4-4DE6-B44E-AC6DDC7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437B-7766-4228-A124-187D72B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ADD-FA96-417B-8BE5-C69B6292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7EFA-6A96-4A0B-AD7C-DE7B98BC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4A0-8883-4923-8CB0-56D9AFC5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140-8AFE-46E7-ADDB-8F76BE6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4F2-96AB-4A7C-B2D6-2E13A4F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46C-0CF8-4922-A24F-D728FD1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2BB-B96F-4138-AAAE-349D52D2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827-C81A-441D-9998-DD97261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D41-7F41-4589-B920-8F3CE7F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862-CF8A-4555-B038-0F996A1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F47F-AD91-4064-9A46-AD283CE5278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CF50-FBEE-496E-94C3-675D8506B0E1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0"/>
            <a:ext cx="541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تطوير الأداء الإداري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71800" y="4495680"/>
            <a:ext cx="31813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.د. علي السلمي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4A2-DD3E-40D9-9F5D-FC925153A2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1295640"/>
            <a:ext cx="779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 rtl="1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تتجه منظمات الأعمال والمنظمات الحكومية في معظم دول العالم الآن إلى تطوير نظمها وإجراءاتها وتحسين مستوى خدماتها للمتعاملين معها تحقيقاً للغرض من تواجدها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43600" y="533520"/>
            <a:ext cx="24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نتيج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4876920"/>
            <a:ext cx="502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 أهداف المنظمات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نهاية الأمر؟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82D-2824-4F80-AC64-36AF0E8AC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ل تملك 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ظمات[ حتى الحكومية] الآن رفاهية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دم الاستجابة لرغبات وتطلعات المستفيدين؟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157-6102-40D8-8B8B-2053D5A88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95280" y="13716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أسئلة المهمة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سعي المنظمات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بناء جودة خدماتها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AE5-D25E-405B-BD66-F76AC3202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ن العامل المسلم يتميز بميزة كبرى حباه الله عز وجل بها، وأنعم عليه بنعمة غالية توفر له الإطار الفكري السليم، وتمكنه من التفوق والتميز والفوز بالنجاح في الدنــــيا والآخرة ، ومنها يستمد إطاره الفكري، لذا ينبغي أن يصوغ المدير المسلم لنفسه إطاراً فكرياً ينطلق من عقيدته ومصادره الإيمانية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ول الحق تبارك وتعالى " يا أيها الذين آمنوا اتقوا الله وقولوا قولاً سديداً يصلح لكم أعمالكم ويغفر لكم ذنوبكم، ومن يطع الله ورسوله فقد فاز فوزاً عظيماً" [الأحزاب: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600200"/>
            <a:ext cx="6248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المقصود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الجـــــــــودة؟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A90-DB9C-4AF3-BDA3-4F83F4925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ك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4B7-B9FF-4656-BD87-07129B4F3C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152388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معنى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ضافة " إدارة"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لى تعبير "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32F-AAB2-4E3F-9680-CAD5205E51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1447920"/>
            <a:ext cx="74674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علاق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تطوير الأداء الإداري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158-B5C7-41DD-AE1B-E56F7CB5F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4920" y="1447920"/>
            <a:ext cx="85150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يف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بق المنظمات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لوب إدا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703-8FB7-44C5-8D7F-28BC2CD3A0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09560" y="1542960"/>
            <a:ext cx="8124840" cy="41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قومات الإدارية والتنظيمي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البشريــــــة لتفعيـــــل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4F3-E4F0-4C42-B5E3-FB4B0E6E69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57280" y="1295280"/>
            <a:ext cx="80294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إجابة 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 الأسئلة السابقة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ا بد من التعرف علـــــى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ركائز الموضوع ومحركاته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331-47CC-4DCD-81F0-1A1AE51705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1280" y="3000240"/>
            <a:ext cx="55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سم الله الرحمن الرحيم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A44-46CA-4560-B698-37DA72E1FD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ركائز إدارة الجودة الشاملة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2286000"/>
            <a:ext cx="33530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حرك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تغيرات العالمي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133720"/>
            <a:ext cx="396216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2320"/>
            <a:ext cx="26384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افس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3200400" cy="221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267080"/>
            <a:ext cx="396252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320040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57800" y="4419720"/>
            <a:ext cx="3114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عا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ختراع الحكوم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495680"/>
            <a:ext cx="2590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ولم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7B0-6357-4A99-898D-AA539074F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3048120"/>
            <a:ext cx="6534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حقيق النتائـج المستهدفة من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4191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نسبة الأخطـــــاء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334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معدلات إعـــــــــــادة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AB8-4480-4FDE-BC2A-E69F9222F0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2680" y="304812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خفيض تكاليـــــــــــــــــــــــف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8240" y="4191120"/>
            <a:ext cx="6597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سريع أداء الخدمــــــات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53341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لتحسين المستمــــــــــــــر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E74-C48D-4497-8ABA-E7915C3B99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2680" y="301464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وقت المناسب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48769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أمكنة المناسبة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C0F-7D6E-490B-A771-236AD6BB0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رأيك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ي المعانــــــي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يعبر عن " الجودة"؟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9AF-A1CD-4083-8E42-6FBB2FCD06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هيئة المواصفات البريط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2438280"/>
            <a:ext cx="762012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التوج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شباع احتياجات العميل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حالية والمستقبلة"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C8E-52D3-496D-9360-48B16B588B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De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2014560"/>
            <a:ext cx="716292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</a:t>
            </a: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طابقة للاحتياجات"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937-FAFC-4640-B94F-27D8F4992B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Cro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1905120"/>
            <a:ext cx="65912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مسئولية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ل فرد في التنظيم، وهذ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ي الجودة الشاملة.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B7A-3DBF-43AF-A134-F7FE6467BF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8600" y="2001960"/>
            <a:ext cx="3141720" cy="4960440"/>
          </a:xfrm>
          <a:custGeom>
            <a:avLst/>
            <a:gdLst>
              <a:gd name="textAreaLeft" fmla="*/ 153360 w 3141720"/>
              <a:gd name="textAreaRight" fmla="*/ 2988360 w 3141720"/>
              <a:gd name="textAreaTop" fmla="*/ 153360 h 4960440"/>
              <a:gd name="textAreaBottom" fmla="*/ 4807080 h 4960440"/>
            </a:gdLst>
            <a:ahLst/>
            <a:rect l="textAreaLeft" t="textAreaTop" r="textAreaRight" b="textAreaBottom"/>
            <a:pathLst>
              <a:path w="21600" h="34103">
                <a:moveTo>
                  <a:pt x="3600" y="0"/>
                </a:moveTo>
                <a:arcTo wR="3600" hR="3600" stAng="16200000" swAng="-5400000"/>
                <a:lnTo>
                  <a:pt x="0" y="30503"/>
                </a:lnTo>
                <a:arcTo wR="3600" hR="3600" stAng="10800000" swAng="-5400000"/>
                <a:lnTo>
                  <a:pt x="18000" y="34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لاحتياجات العمل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338640"/>
            <a:ext cx="3138480" cy="5871240"/>
          </a:xfrm>
          <a:custGeom>
            <a:avLst/>
            <a:gdLst>
              <a:gd name="textAreaLeft" fmla="*/ 153000 w 3138480"/>
              <a:gd name="textAreaRight" fmla="*/ 2985480 w 3138480"/>
              <a:gd name="textAreaTop" fmla="*/ 153000 h 5871240"/>
              <a:gd name="textAreaBottom" fmla="*/ 5718240 h 5871240"/>
            </a:gdLst>
            <a:ahLst/>
            <a:rect l="textAreaLeft" t="textAreaTop" r="textAreaRight" b="textAreaBottom"/>
            <a:pathLst>
              <a:path w="21600" h="40406">
                <a:moveTo>
                  <a:pt x="3600" y="0"/>
                </a:moveTo>
                <a:arcTo wR="3600" hR="3600" stAng="16200000" swAng="-5400000"/>
                <a:lnTo>
                  <a:pt x="0" y="36806"/>
                </a:lnTo>
                <a:arcTo wR="3600" hR="3600" stAng="10800000" swAng="-5400000"/>
                <a:lnTo>
                  <a:pt x="18000" y="40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مع مواصفات التصمي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153-F57D-4084-9B4D-030EAF7F3E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19560" y="2887560"/>
            <a:ext cx="3887640" cy="271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طابقة م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ستوى العال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895480"/>
            <a:ext cx="1946160" cy="247356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2473560"/>
              <a:gd name="textAreaBottom" fmla="*/ 2378880 h 2473560"/>
            </a:gdLst>
            <a:ahLst/>
            <a:rect l="textAreaLeft" t="textAreaTop" r="textAreaRight" b="textAreaBottom"/>
            <a:pathLst>
              <a:path w="21600" h="27452">
                <a:moveTo>
                  <a:pt x="3600" y="0"/>
                </a:moveTo>
                <a:arcTo wR="3600" hR="3600" stAng="16200000" swAng="-5400000"/>
                <a:lnTo>
                  <a:pt x="0" y="23852"/>
                </a:lnTo>
                <a:arcTo wR="3600" hR="3600" stAng="10800000" swAng="-5400000"/>
                <a:lnTo>
                  <a:pt x="18000" y="27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والدقـــ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952880"/>
            <a:ext cx="2385720" cy="192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قتص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2DB-8E58-4675-85F3-DB0604FEBE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05000" y="2557440"/>
            <a:ext cx="556272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حور الأول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فاهيم إدارة الجودة الشامل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مقوماتها الإدارية والتنظيمي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E44-9324-4C4A-9027-76410293E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1840" y="1371600"/>
            <a:ext cx="7420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عنى الحقيقي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جــــــــــــــــــــــو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و تحقيق أهداف وتوقعات المستفيدين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9B8-1855-46B4-AEFB-3EC2B231EF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8080" y="1523880"/>
            <a:ext cx="74678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اصرعملية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C02-8272-47AC-ACBD-19A61DFFA9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حتياجات وتوقعات المستفيدين من ا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لمستويات العالمية لجودة الخدمات التي تقدمها منظمات مماثلة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840-4989-48B1-BB16-116C4E36A4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 ل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264-097C-4ABF-B4B1-8B5DBB86EC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spcBef>
                <a:spcPts val="20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333399"/>
                </a:solidFill>
                <a:latin typeface="Tahoma"/>
              </a:rPr>
              <a:t>نشر مفهوم الجودة في جميع أنحاء ومستويات المنظم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19C-9A38-423B-8BA9-76883F71C9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just" rtl="1"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دماج معايير جودة الأداء في نظم الرقابة والتوجيه وتقويم العاملين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F2C-2EB7-44C9-A724-A819CCC683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شراك المستفيدين من الخدمات في تصميم أساليب وتوقيت وتكلفة تقديمها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B83-4DB7-4CA7-8860-64E40256F3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81480" y="533520"/>
            <a:ext cx="31910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خلاصة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243828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قنية إدارية في المقام الأول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شمل كل قطاعات المنظمــ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28F-F7C8-4A45-8DFB-DC0E5679DB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7692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اهتمامات الأساس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6320" y="2232000"/>
            <a:ext cx="7807320" cy="226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وفير الخدمات للمستفيدين بما يتفق واحتياجاتهم وتوقعاتهم، والتحسين المستمر في طرق تقديم الخد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40240"/>
            <a:ext cx="7807320" cy="11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حسين كفاءة العمليات لتقليل التكلفة والوقت وتطوير المنتج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876920"/>
            <a:ext cx="7807320" cy="172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مواكبة حركة التحسين والتطوير العالمية في مواصفات الخدمات وأساليب تقديم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80C-58E5-4C2D-A516-1551CE2046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91120" y="533520"/>
            <a:ext cx="4552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جوهـــــــر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2743200"/>
            <a:ext cx="603900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وير كافة عناصر المنظمة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ملياتـــــها ومنتجاتهـــــا 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لاقاتها مع عملاءها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897-7AB7-445C-84A4-65AD2C6B2C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79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" إدارة الجودة الشاملــــــة" 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Total Quality Management[TQM]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تعبير شاع في أدبيات الإدارة المعاصرة ويعبر عن توجه عام يسيطر على فكر وتصرفات ممارسي الإدارة في كافة المنظمات، وأصبح من معايير تقويم الإدارة والحكم على كفاءة المنظمات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453-8C1B-413E-8B08-233F249BE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7391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م تنشأ حركة ” إدارة الجودة الشاملة“ من فراغ، بل انطلقت من مجموعة متكاملة من المفاهيم الإدارية المتطورة تشكل في مجموعها ” نموذج الإدارة الحديثة“، وتوفر البنية التحتية لتطبيق الجودة الشامل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076-F589-4172-9C3F-488AA44F98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38800" y="4486320"/>
            <a:ext cx="251460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عادة اختراع الحكو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inv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2200" y="219852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عولمـــــي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057400"/>
            <a:ext cx="2495520" cy="153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266688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فت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200" y="4572000"/>
            <a:ext cx="283536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حول للإدارة الإلكترو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83D-F0D8-441D-8F94-90B3A4AB03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237360" y="4486320"/>
            <a:ext cx="25178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ظ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055960"/>
            <a:ext cx="2590560" cy="274536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2745360"/>
              <a:gd name="textAreaBottom" fmla="*/ 2619000 h 2745360"/>
            </a:gdLst>
            <a:ahLst/>
            <a:rect l="textAreaLeft" t="textAreaTop" r="textAreaRight" b="textAreaBottom"/>
            <a:pathLst>
              <a:path w="21600" h="22891">
                <a:moveTo>
                  <a:pt x="3600" y="0"/>
                </a:moveTo>
                <a:arcTo wR="3600" hR="3600" stAng="16200000" swAng="-5400000"/>
                <a:lnTo>
                  <a:pt x="0" y="19291"/>
                </a:lnTo>
                <a:arcTo wR="3600" hR="3600" stAng="10800000" swAng="-5400000"/>
                <a:lnTo>
                  <a:pt x="18000" y="22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tegic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0" y="2027160"/>
            <a:ext cx="25304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6760" y="2657520"/>
            <a:ext cx="249228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ناف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040" y="4562640"/>
            <a:ext cx="2857320" cy="1742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970-52A6-4A41-9C17-4ABB1CB8E6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9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Symbol"/>
                <a:ea typeface="Symbol"/>
              </a:rPr>
              <a:t>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cs typeface="Times New Roman"/>
              </a:rPr>
              <a:t>تتعدد أسباب اهتمام منظمات الأعمــال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Business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والمنظمات العام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Public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والحكومي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Government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بقضية الجودة، ولكنها تتركز في مجموعة الأسباب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762120"/>
            <a:ext cx="340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باب الاهتمام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مفهوم الجودة الشامل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20F-8C7A-437F-BF9B-D9355C45D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779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التطورات التقنية والعلمية الحديثة التي جعلت الجودة الشاملة أمراً ممكناً مما لا يستساغ معه ممارسة العمليات الإنتاجية والإدارية عموماً بذات الأساليب التقليدية التي كانت تفتقد عنصر الجودة بالقدر الكافي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10080" y="76212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طورات التقن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33A-BC71-483B-A0E3-C8CB8E0D54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      اشتداد الضغوط التنافسية وحدة الصراع بين المنظمات المختلفة على اجتذاب العملاء والفوز بنسب أكبر من الأسواق التي تتسع بدرجات هائلة نتيجة: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استخدام تقنيات الاتصالات والمعلومات.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 زيادة مستويات جودة المنتجات والخدمات التي تقدمها المنظمات المتميز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62720" y="914400"/>
            <a:ext cx="2381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 المنافس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402-08CE-4368-8A10-5DD10B30F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اكتشاف مختلف النظم الاقتصادية في العالم المعاصر لأهمية احترام العمــــــلاء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Customers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 الذين تتعامل معهم المنظمات،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وضرورة بذل أقصى الجهد والعناية في تقديم منتجات وخدمات متميزة وعلى جودة عالي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5520" y="609480"/>
            <a:ext cx="299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وجه الاستراتيجي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اهتمام ب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089-1EC8-4CD7-A81E-027530A2C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9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 ارتفاع المستويات التعليمية والثقافية والاقتصادية لنسب متزايدة من أفراد المجتمعات المعاصرة، مما يجعلهم يتشددون في ضرورة الحصول على مستوى من الخدمة الجيدة يتفق مع تطلعاتهم وتوقعاته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99072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4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رتفاع توقعات 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B72-DA9D-42B7-A330-3CE8C3C0AB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20:47Z</dcterms:created>
  <dc:creator>Dr. Ali Elsalmi</dc:creator>
  <dc:description/>
  <dc:language>en-US</dc:language>
  <cp:lastModifiedBy>Mohamed sultan</cp:lastModifiedBy>
  <dcterms:modified xsi:type="dcterms:W3CDTF">2005-12-23T16:23:09Z</dcterms:modified>
  <cp:revision>25</cp:revision>
  <dc:subject/>
  <dc:title>عرض تقديمي من PowerPoint</dc:title>
</cp:coreProperties>
</file>