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50E-79C7-4BB3-A5A5-3E2EC3C5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C49-C03B-47BD-AB1D-5283E474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7D0-EFB5-4FDA-ADB7-31FD7D33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F50-D1ED-4221-96E0-6BF2E813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BAC7-EC73-474C-88EC-BD50E6B2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1CC1-1920-42E0-98EC-4136B88B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8323-5715-4F1C-8B51-BA57A6D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C53-CDCA-4C1F-8406-1BDBB58D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EF7-27CC-4F16-9EA5-B8F5F39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959B-3F3A-4AB4-80B7-E821CE66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E06F-EC99-4DD1-AA28-4F4AB16B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54B-D831-401E-8244-AB06F39E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2032-A100-4078-ABF2-08C5E66E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9DE-1390-4013-B2F5-C21B9419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C54E-F5D3-41EE-BBA3-29BD492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A955-0B5C-4BBE-B643-1298AEC8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50B-B5C0-475F-A2B9-CF3EEF5E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2BA-F9BA-40C6-ABEE-95A43F6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482-F3CF-4DCC-B7FA-9845766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110-0B9B-4598-A3C2-382A2330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46E-0AF8-4AB4-9455-2611E7B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D80-ADD4-42C7-AB02-6C59FBC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80A-9E23-4169-8898-C180E0E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6B6-DAE2-459D-A84E-4B8B409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C8C5-D74B-4832-8DF0-08A6801250C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9985-34F2-4A69-B7A0-8DD6FB5D273A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0"/>
            <a:ext cx="541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تطوير الأداء الإداري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71800" y="4495680"/>
            <a:ext cx="31813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.د. علي السلمي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B6A-68CC-4484-9F0E-A78CD2F740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1295640"/>
            <a:ext cx="779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 rtl="1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تتجه منظمات الأعمال والمنظمات الحكومية في معظم دول العالم الآن إلى تطوير نظمها وإجراءاتها وتحسين مستوى خدماتها للمتعاملين معها تحقيقاً للغرض من تواجدها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43600" y="533520"/>
            <a:ext cx="24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نتيج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4876920"/>
            <a:ext cx="502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 أهداف المنظمات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نهاية الأمر؟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BC4-225E-4CF6-9C66-E77CCF3593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ل تملك 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ظمات[ حتى الحكومية] الآن رفاهية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دم الاستجابة لرغبات وتطلعات المستفيدين؟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99B-59DE-47F5-ADF2-B349FAD7C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95280" y="13716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أسئلة المهمة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سعي المنظمات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بناء جودة خدماتها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F54-D5F5-4F6B-8064-E325E65F39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ن العامل المسلم يتميز بميزة كبرى حباه الله عز وجل بها، وأنعم عليه بنعمة غالية توفر له الإطار الفكري السليم، وتمكنه من التفوق والتميز والفوز بالنجاح في الدنــــيا والآخرة ، ومنها يستمد إطاره الفكري، لذا ينبغي أن يصوغ المدير المسلم لنفسه إطاراً فكرياً ينطلق من عقيدته ومصادره الإيمانية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ول الحق تبارك وتعالى " يا أيها الذين آمنوا اتقوا الله وقولوا قولاً سديداً يصلح لكم أعمالكم ويغفر لكم ذنوبكم، ومن يطع الله ورسوله فقد فاز فوزاً عظيماً" [الأحزاب: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600200"/>
            <a:ext cx="6248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المقصود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الجـــــــــودة؟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27E-4DCB-4F60-9DD6-F8C3F1278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ك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551-276F-41B2-8585-9A5638465E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152388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معنى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ضافة " إدارة"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لى تعبير "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851-8C61-46D8-9278-40283276D4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1447920"/>
            <a:ext cx="74674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علاق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تطوير الأداء الإداري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D77-4636-4417-AEBE-D3B9E80F4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4920" y="1447920"/>
            <a:ext cx="85150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يف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بق المنظمات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لوب إدا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089-CC50-44A9-BDB4-397E9B42BB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09560" y="1542960"/>
            <a:ext cx="8124840" cy="41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قومات الإدارية والتنظيمي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البشريــــــة لتفعيـــــل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AE0-9D3E-4ED0-B440-E05CA9EE3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57280" y="1295280"/>
            <a:ext cx="80294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إجابة 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 الأسئلة السابقة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ا بد من التعرف علـــــى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ركائز الموضوع ومحركاته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587-F3A2-47A8-8606-AB6842224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1280" y="3000240"/>
            <a:ext cx="55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سم الله الرحمن الرحيم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EAD-D3AD-4832-9525-350EF186B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ركائز إدارة الجودة الشاملة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2286000"/>
            <a:ext cx="33530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حرك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تغيرات العالمي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133720"/>
            <a:ext cx="396216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2320"/>
            <a:ext cx="26384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افس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3200400" cy="221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267080"/>
            <a:ext cx="396252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320040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57800" y="4419720"/>
            <a:ext cx="3114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عا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ختراع الحكوم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495680"/>
            <a:ext cx="2590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ولم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620-94E9-42C7-A9A9-F2C9E062D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3048120"/>
            <a:ext cx="6534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حقيق النتائـج المستهدفة من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4191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نسبة الأخطـــــاء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334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معدلات إعـــــــــــادة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00C-D9CC-4083-BF7D-E2D39DFB64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2680" y="304812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خفيض تكاليـــــــــــــــــــــــف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8240" y="4191120"/>
            <a:ext cx="6597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سريع أداء الخدمــــــات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53341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لتحسين المستمــــــــــــــر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8A9-AC54-4E33-AAFE-A2700E137B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2680" y="301464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وقت المناسب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48769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أمكنة المناسبة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BFC-ED29-4661-BFD9-A2895C95A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رأيك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ي المعانــــــي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يعبر عن " الجودة"؟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188-F352-483B-88F0-21578ADB3D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هيئة المواصفات البريط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2438280"/>
            <a:ext cx="762012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التوج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شباع احتياجات العميل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حالية والمستقبلة"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FD9-60D8-45C1-AB44-9721AEE206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De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2014560"/>
            <a:ext cx="716292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</a:t>
            </a: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طابقة للاحتياجات"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6EB-E6BC-4A01-B0B4-23F954795F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Cro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1905120"/>
            <a:ext cx="65912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مسئولية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ل فرد في التنظيم، وهذ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ي الجودة الشاملة.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AB2-EEE5-4D7B-AAF3-42CB375811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8600" y="2001960"/>
            <a:ext cx="3141720" cy="4960440"/>
          </a:xfrm>
          <a:custGeom>
            <a:avLst/>
            <a:gdLst>
              <a:gd name="textAreaLeft" fmla="*/ 153360 w 3141720"/>
              <a:gd name="textAreaRight" fmla="*/ 2988360 w 3141720"/>
              <a:gd name="textAreaTop" fmla="*/ 153360 h 4960440"/>
              <a:gd name="textAreaBottom" fmla="*/ 4807080 h 4960440"/>
            </a:gdLst>
            <a:ahLst/>
            <a:rect l="textAreaLeft" t="textAreaTop" r="textAreaRight" b="textAreaBottom"/>
            <a:pathLst>
              <a:path w="21600" h="34103">
                <a:moveTo>
                  <a:pt x="3600" y="0"/>
                </a:moveTo>
                <a:arcTo wR="3600" hR="3600" stAng="16200000" swAng="-5400000"/>
                <a:lnTo>
                  <a:pt x="0" y="30503"/>
                </a:lnTo>
                <a:arcTo wR="3600" hR="3600" stAng="10800000" swAng="-5400000"/>
                <a:lnTo>
                  <a:pt x="18000" y="34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لاحتياجات العمل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338640"/>
            <a:ext cx="3138480" cy="5871240"/>
          </a:xfrm>
          <a:custGeom>
            <a:avLst/>
            <a:gdLst>
              <a:gd name="textAreaLeft" fmla="*/ 153000 w 3138480"/>
              <a:gd name="textAreaRight" fmla="*/ 2985480 w 3138480"/>
              <a:gd name="textAreaTop" fmla="*/ 153000 h 5871240"/>
              <a:gd name="textAreaBottom" fmla="*/ 5718240 h 5871240"/>
            </a:gdLst>
            <a:ahLst/>
            <a:rect l="textAreaLeft" t="textAreaTop" r="textAreaRight" b="textAreaBottom"/>
            <a:pathLst>
              <a:path w="21600" h="40406">
                <a:moveTo>
                  <a:pt x="3600" y="0"/>
                </a:moveTo>
                <a:arcTo wR="3600" hR="3600" stAng="16200000" swAng="-5400000"/>
                <a:lnTo>
                  <a:pt x="0" y="36806"/>
                </a:lnTo>
                <a:arcTo wR="3600" hR="3600" stAng="10800000" swAng="-5400000"/>
                <a:lnTo>
                  <a:pt x="18000" y="40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مع مواصفات التصمي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728-202F-43D9-A64E-0F0CB6FDD6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19560" y="2887560"/>
            <a:ext cx="3887640" cy="271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طابقة م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ستوى العال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895480"/>
            <a:ext cx="1946160" cy="247356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2473560"/>
              <a:gd name="textAreaBottom" fmla="*/ 2378880 h 2473560"/>
            </a:gdLst>
            <a:ahLst/>
            <a:rect l="textAreaLeft" t="textAreaTop" r="textAreaRight" b="textAreaBottom"/>
            <a:pathLst>
              <a:path w="21600" h="27452">
                <a:moveTo>
                  <a:pt x="3600" y="0"/>
                </a:moveTo>
                <a:arcTo wR="3600" hR="3600" stAng="16200000" swAng="-5400000"/>
                <a:lnTo>
                  <a:pt x="0" y="23852"/>
                </a:lnTo>
                <a:arcTo wR="3600" hR="3600" stAng="10800000" swAng="-5400000"/>
                <a:lnTo>
                  <a:pt x="18000" y="27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والدقـــ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952880"/>
            <a:ext cx="2385720" cy="192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قتص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9B7-168C-488B-A2C8-1B2D37C89F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05000" y="2557440"/>
            <a:ext cx="556272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حور الأول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فاهيم إدارة الجودة الشامل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مقوماتها الإدارية والتنظيمي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49E-F063-4FCA-B66C-2737935C6C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1840" y="1371600"/>
            <a:ext cx="7420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عنى الحقيقي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جــــــــــــــــــــــو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و تحقيق أهداف وتوقعات المستفيدين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1BD-031A-4C6D-9025-CF2AC307D0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8080" y="1523880"/>
            <a:ext cx="74678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اصرعملية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570-5C5E-45C5-A751-2421E0C22A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حتياجات وتوقعات المستفيدين من ا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لمستويات العالمية لجودة الخدمات التي تقدمها منظمات مماثلة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C02-67F2-4B95-AA3E-E40FD113C9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 ل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2D5-EA03-4C4F-9FC1-7C31438235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spcBef>
                <a:spcPts val="20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333399"/>
                </a:solidFill>
                <a:latin typeface="Tahoma"/>
              </a:rPr>
              <a:t>نشر مفهوم الجودة في جميع أنحاء ومستويات المنظم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C16-58C8-481B-93A2-BE96507C72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just" rtl="1"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دماج معايير جودة الأداء في نظم الرقابة والتوجيه وتقويم العاملين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4D2-6029-4258-9D7F-628C2D039F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شراك المستفيدين من الخدمات في تصميم أساليب وتوقيت وتكلفة تقديمها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034-57BA-4219-BF43-A6C9A76BD6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81480" y="533520"/>
            <a:ext cx="31910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خلاصة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243828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قنية إدارية في المقام الأول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شمل كل قطاعات المنظمــ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DC2-998F-4401-8535-D827DFB270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7692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اهتمامات الأساس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6320" y="2232000"/>
            <a:ext cx="7807320" cy="226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وفير الخدمات للمستفيدين بما يتفق واحتياجاتهم وتوقعاتهم، والتحسين المستمر في طرق تقديم الخد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40240"/>
            <a:ext cx="7807320" cy="11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حسين كفاءة العمليات لتقليل التكلفة والوقت وتطوير المنتج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876920"/>
            <a:ext cx="7807320" cy="172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مواكبة حركة التحسين والتطوير العالمية في مواصفات الخدمات وأساليب تقديم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AEA-8E5B-4DA2-9585-347D72461F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91120" y="533520"/>
            <a:ext cx="4552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جوهـــــــر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2743200"/>
            <a:ext cx="603900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وير كافة عناصر المنظمة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ملياتـــــها ومنتجاتهـــــا 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لاقاتها مع عملاءها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3D5-4211-4639-B9F0-08C869B73D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79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" إدارة الجودة الشاملــــــة" 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Total Quality Management[TQM]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تعبير شاع في أدبيات الإدارة المعاصرة ويعبر عن توجه عام يسيطر على فكر وتصرفات ممارسي الإدارة في كافة المنظمات، وأصبح من معايير تقويم الإدارة والحكم على كفاءة المنظمات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0D0-C860-4486-9AE7-DFD9FC906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7391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م تنشأ حركة ” إدارة الجودة الشاملة“ من فراغ، بل انطلقت من مجموعة متكاملة من المفاهيم الإدارية المتطورة تشكل في مجموعها ” نموذج الإدارة الحديثة“، وتوفر البنية التحتية لتطبيق الجودة الشامل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043-76F1-4ACD-8D6A-2492A097F1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38800" y="4486320"/>
            <a:ext cx="251460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عادة اختراع الحكو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inv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2200" y="219852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عولمـــــي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057400"/>
            <a:ext cx="2495520" cy="153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266688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فت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200" y="4572000"/>
            <a:ext cx="283536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حول للإدارة الإلكترو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320-3648-4572-80B5-7DFCE60123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237360" y="4486320"/>
            <a:ext cx="25178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ظ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055960"/>
            <a:ext cx="2590560" cy="274536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2745360"/>
              <a:gd name="textAreaBottom" fmla="*/ 2619000 h 2745360"/>
            </a:gdLst>
            <a:ahLst/>
            <a:rect l="textAreaLeft" t="textAreaTop" r="textAreaRight" b="textAreaBottom"/>
            <a:pathLst>
              <a:path w="21600" h="22891">
                <a:moveTo>
                  <a:pt x="3600" y="0"/>
                </a:moveTo>
                <a:arcTo wR="3600" hR="3600" stAng="16200000" swAng="-5400000"/>
                <a:lnTo>
                  <a:pt x="0" y="19291"/>
                </a:lnTo>
                <a:arcTo wR="3600" hR="3600" stAng="10800000" swAng="-5400000"/>
                <a:lnTo>
                  <a:pt x="18000" y="22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tegic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0" y="2027160"/>
            <a:ext cx="25304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6760" y="2657520"/>
            <a:ext cx="249228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ناف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040" y="4562640"/>
            <a:ext cx="2857320" cy="1742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E92-4C5F-4805-9317-D70866399B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9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Symbol"/>
                <a:ea typeface="Symbol"/>
              </a:rPr>
              <a:t>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cs typeface="Times New Roman"/>
              </a:rPr>
              <a:t>تتعدد أسباب اهتمام منظمات الأعمــال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Business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والمنظمات العام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Public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والحكومي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Government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بقضية الجودة، ولكنها تتركز في مجموعة الأسباب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762120"/>
            <a:ext cx="340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باب الاهتمام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مفهوم الجودة الشامل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EDD-F61E-4A19-856A-7E6568562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779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التطورات التقنية والعلمية الحديثة التي جعلت الجودة الشاملة أمراً ممكناً مما لا يستساغ معه ممارسة العمليات الإنتاجية والإدارية عموماً بذات الأساليب التقليدية التي كانت تفتقد عنصر الجودة بالقدر الكافي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10080" y="76212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طورات التقن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338-3416-420F-9597-9248ABFFB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      اشتداد الضغوط التنافسية وحدة الصراع بين المنظمات المختلفة على اجتذاب العملاء والفوز بنسب أكبر من الأسواق التي تتسع بدرجات هائلة نتيجة: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استخدام تقنيات الاتصالات والمعلومات.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 زيادة مستويات جودة المنتجات والخدمات التي تقدمها المنظمات المتميز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62720" y="914400"/>
            <a:ext cx="2381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 المنافس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2D6-E257-43DA-9D8F-A2896271E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اكتشاف مختلف النظم الاقتصادية في العالم المعاصر لأهمية احترام العمــــــلاء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Customers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 الذين تتعامل معهم المنظمات،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وضرورة بذل أقصى الجهد والعناية في تقديم منتجات وخدمات متميزة وعلى جودة عالي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5520" y="609480"/>
            <a:ext cx="299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وجه الاستراتيجي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اهتمام ب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9A8-4467-4B7C-9618-8E83E0182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9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 ارتفاع المستويات التعليمية والثقافية والاقتصادية لنسب متزايدة من أفراد المجتمعات المعاصرة، مما يجعلهم يتشددون في ضرورة الحصول على مستوى من الخدمة الجيدة يتفق مع تطلعاتهم وتوقعاته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99072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4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رتفاع توقعات 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7AE-8DA1-49DB-899D-C5F93B8F7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20:47Z</dcterms:created>
  <dc:creator>Dr. Ali Elsalmi</dc:creator>
  <dc:description/>
  <dc:language>en-US</dc:language>
  <cp:lastModifiedBy>Mohamed sultan</cp:lastModifiedBy>
  <dcterms:modified xsi:type="dcterms:W3CDTF">2005-12-23T16:23:09Z</dcterms:modified>
  <cp:revision>25</cp:revision>
  <dc:subject/>
  <dc:title>عرض تقديمي من PowerPoint</dc:title>
</cp:coreProperties>
</file>