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A31-A061-4ECF-801F-E07C3516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621-2812-4A4B-BF8A-9585FC43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759-3A9F-46A8-9570-9437639E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37E-EB8C-4BB3-9AE4-EEF6AA5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EBA7-FD93-4465-B8D4-4B3A81D2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00D-6D9A-46F4-A857-66D6A8F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2EE6-7686-41A5-9B56-2DAF9529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1698-2106-44A5-9DED-76976976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7CB3-DA8D-4B17-ACAE-DCD39A4C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1CEB-1399-4BA6-B2A5-A318A136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28F2-23EC-441F-ABA5-BCD552A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75E-1FBC-4F4A-9A4F-C7368F0D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C43F-C98A-4D73-9334-5C29B61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DE4-84E1-4B29-B54E-B0E4439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DD80-D400-43FE-9E54-F89A323B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28D0-8C42-4309-BF5C-D4903854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718B-E826-4016-94E6-A95D1CBB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F9A-9BFB-486C-9FAC-9F60463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71C-1256-4078-AB64-3F20DB5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FDF-279C-4893-8588-DD155890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30F-D8D7-4842-9491-4F1DBC03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E79-ED0F-4A0E-9F38-4DDD411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681-41D0-48FA-ADA6-F01128D1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774-ED0C-4865-B3FA-97F9599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8C6-B765-48E6-92AE-911ED65B07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E5EA-C8C3-4B59-8C1B-D889EDA4029B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0"/>
            <a:ext cx="541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تطوير الأداء الإداري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71800" y="4495680"/>
            <a:ext cx="31813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.د. علي السلمي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225-E3F2-44D4-A1AB-D9C5CEA3B1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1295640"/>
            <a:ext cx="779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 rtl="1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تتجه منظمات الأعمال والمنظمات الحكومية في معظم دول العالم الآن إلى تطوير نظمها وإجراءاتها وتحسين مستوى خدماتها للمتعاملين معها تحقيقاً للغرض من تواجدها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43600" y="533520"/>
            <a:ext cx="24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نتيج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4876920"/>
            <a:ext cx="502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 أهداف المنظمات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نهاية الأمر؟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921-FFB6-4BDF-9914-BF17EE6287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ل تملك 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ظمات[ حتى الحكومية] الآن رفاهية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دم الاستجابة لرغبات وتطلعات المستفيدين؟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870-9ED0-4B14-A6AF-DB8DA0D00B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95280" y="13716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أسئلة المهمة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سعي المنظمات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بناء جودة خدماتها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BF9-7B93-4598-BE7D-3DF34FBE57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ن العامل المسلم يتميز بميزة كبرى حباه الله عز وجل بها، وأنعم عليه بنعمة غالية توفر له الإطار الفكري السليم، وتمكنه من التفوق والتميز والفوز بالنجاح في الدنــــيا والآخرة ، ومنها يستمد إطاره الفكري، لذا ينبغي أن يصوغ المدير المسلم لنفسه إطاراً فكرياً ينطلق من عقيدته ومصادره الإيمانية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ول الحق تبارك وتعالى " يا أيها الذين آمنوا اتقوا الله وقولوا قولاً سديداً يصلح لكم أعمالكم ويغفر لكم ذنوبكم، ومن يطع الله ورسوله فقد فاز فوزاً عظيماً" [الأحزاب: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1600200"/>
            <a:ext cx="6248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المقصود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الجـــــــــودة؟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BDD-8653-4D05-9E01-A2C2703BC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43000" y="182880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ك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AC1-03B8-4128-8A9D-79D76B0DC5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152388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معنى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ضافة " إدارة"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لى تعبير "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20D-7B02-4E54-91E3-3FFD51D7E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14400" y="1447920"/>
            <a:ext cx="74674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علاق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تطوير الأداء الإداري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76A-1B2B-4B4F-AB09-85061BC8E7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4920" y="1447920"/>
            <a:ext cx="85150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يف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بق المنظمات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لوب إدا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596-AF78-4A2A-A022-26F4FCDF0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09560" y="1542960"/>
            <a:ext cx="8124840" cy="41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قومات الإدارية والتنظيمي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البشريــــــة لتفعيـــــل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237-3C6E-4817-A84E-99E1EF4CE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57280" y="1295280"/>
            <a:ext cx="80294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إجابة 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 الأسئلة السابقة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ا بد من التعرف علـــــى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ركائز الموضوع ومحركاته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DC6-B37C-480A-9994-11E6E9ACA7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1280" y="3000240"/>
            <a:ext cx="558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سم الله الرحمن الرحيم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FA1-AFF8-45E5-B8D5-2D7A0B48DE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ركائز إدارة الجودة الشاملة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2286000"/>
            <a:ext cx="33530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حرك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تغيرات العالمي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133720"/>
            <a:ext cx="396216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2320"/>
            <a:ext cx="26384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افس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81080"/>
            <a:ext cx="3200400" cy="221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267080"/>
            <a:ext cx="396252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14800"/>
            <a:ext cx="3200400" cy="220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57800" y="4419720"/>
            <a:ext cx="3114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عا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ختراع الحكوم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4495680"/>
            <a:ext cx="2590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ولم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9C9-99A5-4781-B97F-4D1D6CA3F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4360" y="3048120"/>
            <a:ext cx="6534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حقيق النتائـج المستهدفة من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4191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نسبة الأخطـــــاء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9920" y="5334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معدلات إعـــــــــــادة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FEE-B293-4687-AFC6-E1C4D6450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2680" y="304812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خفيض تكاليـــــــــــــــــــــــف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8240" y="4191120"/>
            <a:ext cx="6597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سريع أداء الخدمــــــات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53341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لتحسين المستمــــــــــــــر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CEA-8EDF-4B65-AAAB-CD330C61DE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82680" y="301464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وقت المناسب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48769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أمكنة المناسبة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82D-6BDF-4F86-A9D0-1D24E8A66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رأيك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ي المعانــــــي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يعبر عن " الجودة"؟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4DB-791D-4452-B7AB-EDC30A1190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هيئة المواصفات البريطا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2438280"/>
            <a:ext cx="762012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التوج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شباع احتياجات العميل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حالية والمستقبلة"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660-693B-4E6F-ADDF-28605F2285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De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2014560"/>
            <a:ext cx="7162920" cy="34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</a:t>
            </a: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طابقة للاحتياجات"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8B7-0CDB-470F-AD37-00FB03FBED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Cros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19320" y="1905120"/>
            <a:ext cx="659124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مسئولية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ل فرد في التنظيم، وهذ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ي الجودة الشاملة.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CE9-C747-415C-B58F-FBBCB9324B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38600" y="2001960"/>
            <a:ext cx="3141720" cy="4960440"/>
          </a:xfrm>
          <a:custGeom>
            <a:avLst/>
            <a:gdLst>
              <a:gd name="textAreaLeft" fmla="*/ 153360 w 3141720"/>
              <a:gd name="textAreaRight" fmla="*/ 2988360 w 3141720"/>
              <a:gd name="textAreaTop" fmla="*/ 153360 h 4960440"/>
              <a:gd name="textAreaBottom" fmla="*/ 4807080 h 4960440"/>
            </a:gdLst>
            <a:ahLst/>
            <a:rect l="textAreaLeft" t="textAreaTop" r="textAreaRight" b="textAreaBottom"/>
            <a:pathLst>
              <a:path w="21600" h="34103">
                <a:moveTo>
                  <a:pt x="3600" y="0"/>
                </a:moveTo>
                <a:arcTo wR="3600" hR="3600" stAng="16200000" swAng="-5400000"/>
                <a:lnTo>
                  <a:pt x="0" y="30503"/>
                </a:lnTo>
                <a:arcTo wR="3600" hR="3600" stAng="10800000" swAng="-5400000"/>
                <a:lnTo>
                  <a:pt x="18000" y="34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لاحتياجات العمل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338640"/>
            <a:ext cx="3138480" cy="5871240"/>
          </a:xfrm>
          <a:custGeom>
            <a:avLst/>
            <a:gdLst>
              <a:gd name="textAreaLeft" fmla="*/ 153000 w 3138480"/>
              <a:gd name="textAreaRight" fmla="*/ 2985480 w 3138480"/>
              <a:gd name="textAreaTop" fmla="*/ 153000 h 5871240"/>
              <a:gd name="textAreaBottom" fmla="*/ 5718240 h 5871240"/>
            </a:gdLst>
            <a:ahLst/>
            <a:rect l="textAreaLeft" t="textAreaTop" r="textAreaRight" b="textAreaBottom"/>
            <a:pathLst>
              <a:path w="21600" h="40406">
                <a:moveTo>
                  <a:pt x="3600" y="0"/>
                </a:moveTo>
                <a:arcTo wR="3600" hR="3600" stAng="16200000" swAng="-5400000"/>
                <a:lnTo>
                  <a:pt x="0" y="36806"/>
                </a:lnTo>
                <a:arcTo wR="3600" hR="3600" stAng="10800000" swAng="-5400000"/>
                <a:lnTo>
                  <a:pt x="18000" y="404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مع مواصفات التصمي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D5B-125E-4AAB-A0AD-AF89251984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19560" y="2887560"/>
            <a:ext cx="3887640" cy="271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طابقة م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ستوى العالم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895480"/>
            <a:ext cx="1946160" cy="247356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2473560"/>
              <a:gd name="textAreaBottom" fmla="*/ 2378880 h 2473560"/>
            </a:gdLst>
            <a:ahLst/>
            <a:rect l="textAreaLeft" t="textAreaTop" r="textAreaRight" b="textAreaBottom"/>
            <a:pathLst>
              <a:path w="21600" h="27452">
                <a:moveTo>
                  <a:pt x="3600" y="0"/>
                </a:moveTo>
                <a:arcTo wR="3600" hR="3600" stAng="16200000" swAng="-5400000"/>
                <a:lnTo>
                  <a:pt x="0" y="23852"/>
                </a:lnTo>
                <a:arcTo wR="3600" hR="3600" stAng="10800000" swAng="-5400000"/>
                <a:lnTo>
                  <a:pt x="18000" y="27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سرعة والدقــــ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952880"/>
            <a:ext cx="2385720" cy="1927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اقتص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6A2-329C-4E0E-9F97-40F41CB6A3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05000" y="2557440"/>
            <a:ext cx="556272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حور الأول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فاهيم إدارة الجودة الشامل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مقوماتها الإدارية والتنظيمي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65A-C980-47DB-95B7-F22145F9D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61840" y="1371600"/>
            <a:ext cx="7420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عنى الحقيقي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جــــــــــــــــــــــو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و تحقيق أهداف وتوقعات المستفيدين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9D4-05D7-40D1-AE17-E1A7352CD1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8080" y="1523880"/>
            <a:ext cx="74678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اصرعملية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FA7-1D56-4564-8DB7-65B7DE6C15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حتياجات وتوقعات المستفيدين من ا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لمستويات العالمية لجودة الخدمات التي تقدمها منظمات مماثلة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3E6-1E16-44EB-A0E0-5BE715CEFC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 ل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C3E-E48A-4158-A261-FE1BDBEBA0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spcBef>
                <a:spcPts val="2001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333399"/>
                </a:solidFill>
                <a:latin typeface="Tahoma"/>
              </a:rPr>
              <a:t>نشر مفهوم الجودة في جميع أنحاء ومستويات المنظم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692-4029-478B-B574-BDFD729609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just" rtl="1"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دماج معايير جودة الأداء في نظم الرقابة والتوجيه وتقويم العاملين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14B-1B1A-4464-A1A8-3A3B65B373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شراك المستفيدين من الخدمات في تصميم أساليب وتوقيت وتكلفة تقديمها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9D3-219E-4512-9527-58E1D695D0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81480" y="533520"/>
            <a:ext cx="31910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خلاصة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243828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قنية إدارية في المقام الأول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شمل كل قطاعات المنظمــ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3D7-3ADD-4624-82DD-1F4E14D8AC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7692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اهتمامات الأساس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6320" y="2232000"/>
            <a:ext cx="7807320" cy="226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وفير الخدمات للمستفيدين بما يتفق واحتياجاتهم وتوقعاتهم، والتحسين المستمر في طرق تقديم الخد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540240"/>
            <a:ext cx="7807320" cy="118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حسين كفاءة العمليات لتقليل التكلفة والوقت وتطوير المنتج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876920"/>
            <a:ext cx="7807320" cy="172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مواكبة حركة التحسين والتطوير العالمية في مواصفات الخدمات وأساليب تقديم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A26-4A50-4D92-8A0B-C84FD88B47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191120" y="533520"/>
            <a:ext cx="45529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جوهـــــــر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2743200"/>
            <a:ext cx="603900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وير كافة عناصر المنظمة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ملياتـــــها ومنتجاتهـــــا 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لاقاتها مع عملاءها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3FB-A151-4223-8391-47A23D5F11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79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" إدارة الجودة الشاملــــــة" 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Total Quality Management[TQM]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تعبير شاع في أدبيات الإدارة المعاصرة ويعبر عن توجه عام يسيطر على فكر وتصرفات ممارسي الإدارة في كافة المنظمات، وأصبح من معايير تقويم الإدارة والحكم على كفاءة المنظمات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EE5-710C-4565-828B-8872699AB3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0"/>
            <a:ext cx="7391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لم تنشأ حركة ” إدارة الجودة الشاملة“ من فراغ، بل انطلقت من مجموعة متكاملة من المفاهيم الإدارية المتطورة تشكل في مجموعها ” نموذج الإدارة الحديثة“، وتوفر البنية التحتية لتطبيق الجودة الشامل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558-E231-4BFB-B6E2-AE91694D8D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38800" y="4486320"/>
            <a:ext cx="251460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عادة اختراع الحكو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inv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2200" y="219852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عولمـــــي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057400"/>
            <a:ext cx="2495520" cy="153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266688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فت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200" y="4572000"/>
            <a:ext cx="283536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حول للإدارة الإلكترو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8F0-B2AA-4A31-B2C9-41F50B1C544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237360" y="4486320"/>
            <a:ext cx="25178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ظ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055960"/>
            <a:ext cx="2590560" cy="274536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2745360"/>
              <a:gd name="textAreaBottom" fmla="*/ 2619000 h 2745360"/>
            </a:gdLst>
            <a:ahLst/>
            <a:rect l="textAreaLeft" t="textAreaTop" r="textAreaRight" b="textAreaBottom"/>
            <a:pathLst>
              <a:path w="21600" h="22891">
                <a:moveTo>
                  <a:pt x="3600" y="0"/>
                </a:moveTo>
                <a:arcTo wR="3600" hR="3600" stAng="16200000" swAng="-5400000"/>
                <a:lnTo>
                  <a:pt x="0" y="19291"/>
                </a:lnTo>
                <a:arcTo wR="3600" hR="3600" stAng="10800000" swAng="-5400000"/>
                <a:lnTo>
                  <a:pt x="18000" y="22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tegic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0" y="2027160"/>
            <a:ext cx="25304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6760" y="2657520"/>
            <a:ext cx="249228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ناف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040" y="4562640"/>
            <a:ext cx="2857320" cy="1742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C10-0A2B-485D-B8DB-98900DBEA2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9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Symbol"/>
                <a:ea typeface="Symbol"/>
              </a:rPr>
              <a:t>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cs typeface="Times New Roman"/>
              </a:rPr>
              <a:t>تتعدد أسباب اهتمام منظمات الأعمــال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Business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والمنظمات العام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Public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والحكومي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Government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بقضية الجودة، ولكنها تتركز في مجموعة الأسباب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762120"/>
            <a:ext cx="340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باب الاهتمام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مفهوم الجودة الشامل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8B9-5E1A-4D81-B7E7-F9471DE62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779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التطورات التقنية والعلمية الحديثة التي جعلت الجودة الشاملة أمراً ممكناً مما لا يستساغ معه ممارسة العمليات الإنتاجية والإدارية عموماً بذات الأساليب التقليدية التي كانت تفتقد عنصر الجودة بالقدر الكافي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10080" y="76212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طورات التقن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ABC-C4F3-4335-A0A7-B6EF233A0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      اشتداد الضغوط التنافسية وحدة الصراع بين المنظمات المختلفة على اجتذاب العملاء والفوز بنسب أكبر من الأسواق التي تتسع بدرجات هائلة نتيجة: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استخدام تقنيات الاتصالات والمعلومات.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 زيادة مستويات جودة المنتجات والخدمات التي تقدمها المنظمات المتميز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562720" y="914400"/>
            <a:ext cx="2381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 المنافس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A72-9570-4367-8BE2-2B9C6A401A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اكتشاف مختلف النظم الاقتصادية في العالم المعاصر لأهمية احترام العمــــــلاء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Customers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 الذين تتعامل معهم المنظمات،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وضرورة بذل أقصى الجهد والعناية في تقديم منتجات وخدمات متميزة وعلى جودة عالي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05520" y="609480"/>
            <a:ext cx="299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3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وجه الاستراتيجي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اهتمام ب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0F3-D9A1-4F28-B326-EED516D64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9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 ارتفاع المستويات التعليمية والثقافية والاقتصادية لنسب متزايدة من أفراد المجتمعات المعاصرة، مما يجعلهم يتشددون في ضرورة الحصول على مستوى من الخدمة الجيدة يتفق مع تطلعاتهم وتوقعاته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99072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4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رتفاع توقعات 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31C-9BF6-419D-A837-66B039E971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20:47Z</dcterms:created>
  <dc:creator>Dr. Ali Elsalmi</dc:creator>
  <dc:description/>
  <dc:language>en-US</dc:language>
  <cp:lastModifiedBy>Mohamed sultan</cp:lastModifiedBy>
  <dcterms:modified xsi:type="dcterms:W3CDTF">2005-12-23T16:23:09Z</dcterms:modified>
  <cp:revision>25</cp:revision>
  <dc:subject/>
  <dc:title>عرض تقديمي من PowerPoint</dc:title>
</cp:coreProperties>
</file>