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56AC-DF9D-4DE5-A66D-0522184F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C3C8-C087-4DD7-AA33-134F571B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5AC0-2A21-407D-A61B-DED9096F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FBE-BCB6-42FE-9E2A-99CACC576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473D-953A-4FF3-9693-D5CE7E4FD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5676-62FD-4A60-B681-3DB381EA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B811-CC84-4E15-BB9A-72BB6C5E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C083-9956-4785-94AB-38A7E9D7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E517-93BA-4AD4-BCEB-79572308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C31A-8314-4E3C-BED1-E79A3DA4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BB70-5258-40C6-8D89-7E3E1BA3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D43F-3602-42EE-B390-BB339B8B0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5874-484E-4196-BB6B-62A4A4E1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45F77-009C-42C6-ACC4-50D7F1DB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1AA3-72B3-4001-ADBB-5FB943A5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D3D1-71D2-4BFC-B972-41CA5DD1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4CF7-AC13-4FBE-8B3C-57DE314DE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ECE2-7554-4EBA-BF1C-3395F273D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0ACD-D409-4570-9E33-275F46CD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1047-79EC-4BB1-8539-61BE81F5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96B7-D4EC-427C-B973-E423FA71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4D99-B261-431D-9214-826C86A5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25C2-614B-4142-9B3A-2B2C9648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1099-303B-4955-B115-2E35A6B1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B731-09C8-487B-817F-3D7AA643E914}" type="slidenum">
              <a:rPr b="0" lang="ar-SA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3D76-52F8-48C3-95E1-5C75CB142A7E}" type="slidenum">
              <a:rPr b="0" lang="ar-SA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676520" y="2286000"/>
            <a:ext cx="541944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</a:t>
            </a:r>
            <a:endParaRPr b="1" lang="en-US" sz="6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وتطوير الأداء الإداري</a:t>
            </a:r>
            <a:endParaRPr b="1" lang="en-US" sz="6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971800" y="4495680"/>
            <a:ext cx="3181320" cy="6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أ.د. علي السلمي</a:t>
            </a:r>
            <a:endParaRPr b="1" lang="en-US" sz="4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FDCC-276B-4A74-95F6-17DE697C59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-1295640"/>
            <a:ext cx="7792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just" rtl="1"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 تتجه منظمات الأعمال والمنظمات الحكومية في معظم دول العالم الآن إلى تطوير نظمها وإجراءاتها وتحسين مستوى خدماتها للمتعاملين معها تحقيقاً للغرض من تواجدها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943600" y="533520"/>
            <a:ext cx="24051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نتيج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905120" y="4876920"/>
            <a:ext cx="5029200" cy="116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هي أهداف المنظمات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ي نهاية الأمر؟</a:t>
            </a:r>
            <a:endParaRPr b="1" lang="en-US" sz="4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5647-6945-42E1-93F5-DB797033F9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5800" y="1219320"/>
            <a:ext cx="78487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هل تملك 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نظمات[ حتى الحكومية] الآن رفاهية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عدم الاستجابة لرغبات وتطلعات المستفيدين؟</a:t>
            </a:r>
            <a:endParaRPr b="0" lang="en-US" sz="24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A6B-4DEF-4FF2-BD96-0DD6D56D2A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295280" y="1371600"/>
            <a:ext cx="662940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أسئلة المهمة</a:t>
            </a:r>
            <a:endParaRPr b="1" lang="en-US" sz="72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ي سعي المنظمات</a:t>
            </a:r>
            <a:endParaRPr b="1" lang="en-US" sz="72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بناء جودة خدماتها</a:t>
            </a:r>
            <a:endParaRPr b="1" lang="en-US" sz="72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93D-7289-44DB-8626-20B5BE2548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596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9936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9360" indent="-99360" algn="just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إن العامل المسلم يتميز بميزة كبرى حباه الله عز وجل بها، وأنعم عليه بنعمة غالية توفر له الإطار الفكري السليم، وتمكنه من التفوق والتميز والفوز بالنجاح في الدنــــيا والآخرة ، ومنها يستمد إطاره الفكري، لذا ينبغي أن يصوغ المدير المسلم لنفسه إطاراً فكرياً ينطلق من عقيدته ومصادره الإيمانية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9360" indent="0" algn="just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99360" indent="-99360" algn="just" rtl="1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قول الحق تبارك وتعالى " يا أيها الذين آمنوا اتقوا الله وقولوا قولاً سديداً يصلح لكم أعمالكم ويغفر لكم ذنوبكم، ومن يطع الله ورسوله فقد فاز فوزاً عظيماً" [الأحزاب: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7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]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447920" y="1600200"/>
            <a:ext cx="624816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المقصود</a:t>
            </a:r>
            <a:endParaRPr b="1" lang="en-US" sz="72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بالجـــــــــودة؟</a:t>
            </a:r>
            <a:endParaRPr b="1" lang="en-US" sz="72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5095-38D1-4F7C-A3C7-4C1161C3F7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39" end="3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41" end="4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143000" y="1828800"/>
            <a:ext cx="685800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هي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كرة الجودة الشاملة؟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4B7A-9CBF-4BC2-9266-C6E25540F9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990720" y="1523880"/>
            <a:ext cx="72388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معنى 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ضافة " إدارة"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لى تعبير " الجودة الشاملة"؟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9B0E-8C3B-4797-A8C1-0AA6B6DF14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14400" y="1447920"/>
            <a:ext cx="746748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علاقة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بتطوير الأداء الإداري؟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4F0E-8421-42A2-A0CF-4E32803F9D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304920" y="1447920"/>
            <a:ext cx="8515080" cy="37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كيف 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تطبق المنظمات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أسلوب إدارة الجودة الشاملة؟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6EFB-6631-46D9-A14A-EB861B6299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09560" y="1542960"/>
            <a:ext cx="8124840" cy="415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ا هي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قومات الإدارية والتنظيمية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والبشريــــــة لتفعيـــــل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r>
              <a:rPr b="0" lang="hi-IN" sz="72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"؟</a:t>
            </a:r>
            <a:endParaRPr b="1" lang="en-US" sz="72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7A8-7E11-4498-8B34-8AFD568437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57280" y="1295280"/>
            <a:ext cx="802944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لإجابة </a:t>
            </a:r>
            <a:endParaRPr b="1" lang="en-US" sz="66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عن الأسئلة السابقة</a:t>
            </a:r>
            <a:endParaRPr b="1" lang="en-US" sz="66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ا بد من التعرف علـــــى</a:t>
            </a:r>
            <a:endParaRPr b="1" lang="en-US" sz="66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ركائز الموضوع ومحركاته</a:t>
            </a:r>
            <a:endParaRPr b="1" lang="en-US" sz="6600" spc="1" strike="noStrike">
              <a:ln w="0">
                <a:noFill/>
              </a:ln>
              <a:solidFill>
                <a:srgbClr val="3333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B55A-561C-4B1E-B676-54C9BC13B0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81280" y="3000240"/>
            <a:ext cx="558144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بسم الله الرحمن الرحيم</a:t>
            </a:r>
            <a:endParaRPr b="1" lang="en-US" sz="60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21C-871F-488C-BF72-5F7D8BA10AE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ركائز إدارة الجودة الشاملة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952880" y="2286000"/>
            <a:ext cx="335304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حركة</a:t>
            </a:r>
            <a:endParaRPr b="1" lang="en-US" sz="4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تغيرات العالمية</a:t>
            </a:r>
            <a:endParaRPr b="1" lang="en-US" sz="4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2133720"/>
            <a:ext cx="3962160" cy="1752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2320"/>
            <a:ext cx="263844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شدة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نافسة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981080"/>
            <a:ext cx="3200400" cy="221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4267080"/>
            <a:ext cx="3962520" cy="1752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4114800"/>
            <a:ext cx="3200400" cy="2209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257800" y="4419720"/>
            <a:ext cx="311472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عادة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ختراع الحكومة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14400" y="4495680"/>
            <a:ext cx="25909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عولمة</a:t>
            </a:r>
            <a:endParaRPr b="1" lang="en-US" sz="4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E332-95A8-4B6A-A1F0-1E5A6577E02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5072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معانى ”الجــــــــــودة“؟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400800" y="1905120"/>
            <a:ext cx="20764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: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14360" y="3048120"/>
            <a:ext cx="6534360" cy="1454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تحقيق النتائـج المستهدفة من الأداء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9920" y="4191120"/>
            <a:ext cx="6534000" cy="1454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انخفاض نسبة الأخطـــــاء في الأداء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39920" y="5334120"/>
            <a:ext cx="6534000" cy="1454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انخفاض معدلات إعـــــــــــادة الأداء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C3FA-5B86-4F1D-BC1C-FFC4127A6B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5108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معانى ”الجــــــــــودة“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400800" y="1905120"/>
            <a:ext cx="20764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: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82680" y="3048120"/>
            <a:ext cx="6597720" cy="212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تخفيض تكاليـــــــــــــــــــــــف الأداء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08240" y="4191120"/>
            <a:ext cx="6597360" cy="1454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تسريع أداء الخدمــــــات للمستفيدين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08240" y="5334120"/>
            <a:ext cx="6597360" cy="212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التحسين المستمــــــــــــــر في الأداء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66C-D4AC-452D-864A-1F46D71339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5108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معانى ”الجــــــــــودة“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400800" y="1905120"/>
            <a:ext cx="207648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: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82680" y="3014640"/>
            <a:ext cx="6597720" cy="212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تقديم الخدمات في الوقت المناسب للمستفيدين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08240" y="4876920"/>
            <a:ext cx="6597360" cy="2129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ahoma"/>
              </a:rPr>
              <a:t> تقديم الخدمات في الأمكنة المناسبة للمستفيدين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BD6D-30A2-4CC6-8BBC-1D83CB20AC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990720" y="1143000"/>
            <a:ext cx="731520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ي رأيك</a:t>
            </a:r>
            <a:endParaRPr b="1" lang="en-US" sz="7200" spc="1" strike="noStrike">
              <a:ln w="0">
                <a:noFill/>
              </a:ln>
              <a:solidFill>
                <a:srgbClr val="3333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ي المعانــــــي</a:t>
            </a:r>
            <a:endParaRPr b="1" lang="en-US" sz="7200" spc="1" strike="noStrike">
              <a:ln w="0">
                <a:noFill/>
              </a:ln>
              <a:solidFill>
                <a:srgbClr val="3333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hi-IN" sz="72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يعبر عن " الجودة"؟</a:t>
            </a:r>
            <a:endParaRPr b="1" lang="en-US" sz="7200" spc="1" strike="noStrike">
              <a:ln w="0">
                <a:noFill/>
              </a:ln>
              <a:solidFill>
                <a:srgbClr val="3333cc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B2F4-1097-4FDC-B74E-641E55C7D8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عريف هيئة المواصفات البريطانية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680" y="2438280"/>
            <a:ext cx="7620120" cy="377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 التوجه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إشباع احتياجات العميل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حالية والمستقبلة" 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9D96-B354-4B51-949B-8FC20254BC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badi MT Condensed Light"/>
              </a:rPr>
              <a:t>تعريف </a:t>
            </a:r>
            <a:r>
              <a:rPr b="1" lang="en-US" sz="4400" spc="-1" strike="noStrike">
                <a:solidFill>
                  <a:srgbClr val="ff0000"/>
                </a:solidFill>
                <a:latin typeface="Abadi MT Condensed Light"/>
              </a:rPr>
              <a:t>Dem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914400" y="2014560"/>
            <a:ext cx="7162920" cy="34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 </a:t>
            </a: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</a:t>
            </a:r>
            <a:r>
              <a:rPr b="1" lang="en-US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طابقة للاحتياجات"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191D-9952-4AE1-BD17-D8A2AF0F32E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badi MT Condensed Light"/>
              </a:rPr>
              <a:t>تعريف </a:t>
            </a:r>
            <a:r>
              <a:rPr b="1" lang="en-US" sz="4400" spc="-1" strike="noStrike">
                <a:solidFill>
                  <a:srgbClr val="ff0000"/>
                </a:solidFill>
                <a:latin typeface="Abadi MT Condensed Light"/>
              </a:rPr>
              <a:t>Crosb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219320" y="1905120"/>
            <a:ext cx="6591240" cy="377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 </a:t>
            </a: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جودة هي مسئولية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كل فرد في التنظيم، وهذه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هي الجودة الشاملة.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49F1-A399-4335-A321-737B02D788D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343400" y="762120"/>
            <a:ext cx="3733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عناصر الرئيسية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ي مفهوم الجودة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38600" y="2001960"/>
            <a:ext cx="3141720" cy="4960440"/>
          </a:xfrm>
          <a:custGeom>
            <a:avLst/>
            <a:gdLst>
              <a:gd name="textAreaLeft" fmla="*/ 153360 w 3141720"/>
              <a:gd name="textAreaRight" fmla="*/ 2988360 w 3141720"/>
              <a:gd name="textAreaTop" fmla="*/ 153360 h 4960440"/>
              <a:gd name="textAreaBottom" fmla="*/ 4807080 h 4960440"/>
            </a:gdLst>
            <a:ahLst/>
            <a:rect l="textAreaLeft" t="textAreaTop" r="textAreaRight" b="textAreaBottom"/>
            <a:pathLst>
              <a:path w="21600" h="34103">
                <a:moveTo>
                  <a:pt x="3600" y="0"/>
                </a:moveTo>
                <a:arcTo wR="3600" hR="3600" stAng="16200000" swAng="-5400000"/>
                <a:lnTo>
                  <a:pt x="0" y="30503"/>
                </a:lnTo>
                <a:arcTo wR="3600" hR="3600" stAng="10800000" swAng="-5400000"/>
                <a:lnTo>
                  <a:pt x="18000" y="341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99"/>
                </a:solidFill>
                <a:latin typeface="Abadi MT Condensed Light"/>
                <a:cs typeface="DecoType Naskh Variants"/>
              </a:rPr>
              <a:t>المطابقة لاحتياجات العملاء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3338640"/>
            <a:ext cx="3138480" cy="5871240"/>
          </a:xfrm>
          <a:custGeom>
            <a:avLst/>
            <a:gdLst>
              <a:gd name="textAreaLeft" fmla="*/ 153000 w 3138480"/>
              <a:gd name="textAreaRight" fmla="*/ 2985480 w 3138480"/>
              <a:gd name="textAreaTop" fmla="*/ 153000 h 5871240"/>
              <a:gd name="textAreaBottom" fmla="*/ 5718240 h 5871240"/>
            </a:gdLst>
            <a:ahLst/>
            <a:rect l="textAreaLeft" t="textAreaTop" r="textAreaRight" b="textAreaBottom"/>
            <a:pathLst>
              <a:path w="21600" h="40406">
                <a:moveTo>
                  <a:pt x="3600" y="0"/>
                </a:moveTo>
                <a:arcTo wR="3600" hR="3600" stAng="16200000" swAng="-5400000"/>
                <a:lnTo>
                  <a:pt x="0" y="36806"/>
                </a:lnTo>
                <a:arcTo wR="3600" hR="3600" stAng="10800000" swAng="-5400000"/>
                <a:lnTo>
                  <a:pt x="18000" y="404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99"/>
                </a:solidFill>
                <a:latin typeface="Abadi MT Condensed Light"/>
                <a:cs typeface="DecoType Naskh Variants"/>
              </a:rPr>
              <a:t>المطابقة مع مواصفات التصمي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8254-5A36-43A9-87C4-8D080DE6389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219560" y="2887560"/>
            <a:ext cx="3887640" cy="271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لمطابقة م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لمستوى العالم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2895480"/>
            <a:ext cx="1946160" cy="2473560"/>
          </a:xfrm>
          <a:custGeom>
            <a:avLst/>
            <a:gdLst>
              <a:gd name="textAreaLeft" fmla="*/ 94680 w 1946160"/>
              <a:gd name="textAreaRight" fmla="*/ 1851480 w 1946160"/>
              <a:gd name="textAreaTop" fmla="*/ 94680 h 2473560"/>
              <a:gd name="textAreaBottom" fmla="*/ 2378880 h 2473560"/>
            </a:gdLst>
            <a:ahLst/>
            <a:rect l="textAreaLeft" t="textAreaTop" r="textAreaRight" b="textAreaBottom"/>
            <a:pathLst>
              <a:path w="21600" h="27452">
                <a:moveTo>
                  <a:pt x="3600" y="0"/>
                </a:moveTo>
                <a:arcTo wR="3600" hR="3600" stAng="16200000" swAng="-5400000"/>
                <a:lnTo>
                  <a:pt x="0" y="23852"/>
                </a:lnTo>
                <a:arcTo wR="3600" hR="3600" stAng="10800000" swAng="-5400000"/>
                <a:lnTo>
                  <a:pt x="18000" y="274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لسرعة والدقـــــ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343400" y="762120"/>
            <a:ext cx="3733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عناصر الرئيسي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في مفهوم الجود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4952880"/>
            <a:ext cx="2385720" cy="1927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لاقتصاد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1A65-38DC-44CB-BF8B-D7048632D7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205000" y="2557440"/>
            <a:ext cx="5562720" cy="20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حور الأول</a:t>
            </a:r>
            <a:endParaRPr b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مفاهيم إدارة الجودة الشاملة</a:t>
            </a:r>
            <a:endParaRPr b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ومقوماتها الإدارية والتنظيمية</a:t>
            </a:r>
            <a:endParaRPr b="1" lang="en-US" sz="4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46D2-4093-4D5F-9954-A670F8DC2CE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61840" y="1371600"/>
            <a:ext cx="742032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عنى الحقيقي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لجــــــــــــــــــــــودة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هو تحقيق أهداف وتوقعات المستفيدين</a:t>
            </a:r>
            <a:endParaRPr b="1" lang="en-US" sz="4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35AB-E27C-43A4-8F00-D842E8C8D3E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8080" y="1523880"/>
            <a:ext cx="746784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عناصرعملية</a:t>
            </a:r>
            <a:endParaRPr b="1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1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 </a:t>
            </a:r>
            <a:r>
              <a:rPr b="0" lang="hi-IN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</a:t>
            </a:r>
            <a:r>
              <a:rPr b="1" lang="en-US" sz="6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endParaRPr b="1" lang="en-US" sz="6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5132-3073-4BC6-AED7-382AEF40F13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تتضمن فكرة ” إدارة الجودة الشاملة“ العناصر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322920" indent="-322920" algn="just" rtl="1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Tahoma"/>
              </a:rPr>
              <a:t>معرفة احتياجات وتوقعات المستفيدين من الخدمات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22920" indent="-322920" algn="just" rtl="1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Tahoma"/>
              </a:rPr>
              <a:t>معرفة المستويات العالمية لجودة الخدمات التي تقدمها منظمات مماثلة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22920" indent="-322920" algn="just" rtl="1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Tahoma"/>
              </a:rPr>
              <a:t>تحديد الأساليب والتقنيات الواجب استخدامها للوصول إلى المستوى العالمي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B0F-D3D6-4B84-8453-CB6AE815FB9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تتضمن فكرة ” إدارة الجودة الشاملة“ العناصر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 algn="just" rtl="1">
              <a:lnSpc>
                <a:spcPct val="90000"/>
              </a:lnSpc>
              <a:spcBef>
                <a:spcPts val="1650"/>
              </a:spcBef>
              <a:buClr>
                <a:srgbClr val="3333cc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333399"/>
                </a:solidFill>
                <a:latin typeface="Tahoma"/>
              </a:rPr>
              <a:t>تحديد الأساليب والتقنيات الواجب استخدامها للوصول إلى المستوى العالمي للخدمات.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9E14-AA27-4FE3-969D-7DC207F54E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تتضمن فكرة ” إدارة الجودة الشاملة“ العناصر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-493560" algn="just" rtl="1">
              <a:spcBef>
                <a:spcPts val="2001"/>
              </a:spcBef>
              <a:buClr>
                <a:srgbClr val="3333cc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333399"/>
                </a:solidFill>
                <a:latin typeface="Tahoma"/>
              </a:rPr>
              <a:t>نشر مفهوم الجودة في جميع أنحاء ومستويات المنظمة.</a:t>
            </a:r>
            <a:endParaRPr b="0" lang="en-US" sz="8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A4A-6FD5-44AF-90B9-8A71CD108C1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تتضمن فكرة ” إدارة الجودة الشاملة“ العناصر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-548280" algn="just" rtl="1">
              <a:spcBef>
                <a:spcPts val="1800"/>
              </a:spcBef>
              <a:buClr>
                <a:srgbClr val="3333cc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333399"/>
                </a:solidFill>
                <a:latin typeface="Tahoma"/>
              </a:rPr>
              <a:t>إدماج معايير جودة الأداء في نظم الرقابة والتوجيه وتقويم العاملين.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2C53-4A8D-4E08-94BC-D5F469B01C8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تتضمن فكرة ” إدارة الجودة الشاملة“ العناصر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493560" indent="-493560" algn="just" rtl="1">
              <a:lnSpc>
                <a:spcPct val="90000"/>
              </a:lnSpc>
              <a:spcBef>
                <a:spcPts val="1800"/>
              </a:spcBef>
              <a:buClr>
                <a:srgbClr val="3333cc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333399"/>
                </a:solidFill>
                <a:latin typeface="Tahoma"/>
              </a:rPr>
              <a:t>إشراك المستفيدين من الخدمات في تصميم أساليب وتوقيت وتكلفة تقديمها.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A3E6-A24D-4829-8966-0022F0280C4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181480" y="533520"/>
            <a:ext cx="31910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خلاصة</a:t>
            </a:r>
            <a:endParaRPr b="1" lang="en-US" sz="4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523880" y="2438280"/>
            <a:ext cx="64008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</a:t>
            </a: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تقنية إدارية في المقام الأول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-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تشمل كل قطاعات المنظمــ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C486-C755-4005-8341-5966D4F08EE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876920" y="533520"/>
            <a:ext cx="37814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اهتمامات الأساسي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إدارة الجودة الشامل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6320" y="2232000"/>
            <a:ext cx="7807320" cy="2264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وفير الخدمات للمستفيدين بما يتفق واحتياجاتهم وتوقعاتهم، والتحسين المستمر في طرق تقديم الخدم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3540240"/>
            <a:ext cx="7807320" cy="118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تحسين كفاءة العمليات لتقليل التكلفة والوقت وتطوير المنتجات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4876920"/>
            <a:ext cx="7807320" cy="172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 rtl="1"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ahoma"/>
              </a:rPr>
              <a:t>مواكبة حركة التحسين والتطوير العالمية في مواصفات الخدمات وأساليب تقديمه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265A-8495-43B1-AAE6-B4746043BAA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191120" y="533520"/>
            <a:ext cx="455292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جوهـــــــر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 </a:t>
            </a:r>
            <a:r>
              <a:rPr b="0" lang="hi-IN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إدارة الجودة الشاملة</a:t>
            </a:r>
            <a:r>
              <a:rPr b="1" lang="en-US" sz="4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"</a:t>
            </a:r>
            <a:endParaRPr b="1" lang="en-US" sz="4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371600" y="2743200"/>
            <a:ext cx="603900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تطوير كافة عناصر المنظمة</a:t>
            </a:r>
            <a:endParaRPr b="1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وعملياتـــــها ومنتجاتهـــــا </a:t>
            </a:r>
            <a:endParaRPr b="1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وعلاقاتها مع عملاءها</a:t>
            </a:r>
            <a:endParaRPr b="1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40B9-3AF3-4100-BEDC-C982DD860A4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7792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</a:rPr>
              <a:t>	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</a:rPr>
              <a:t>" إدارة الجودة الشاملــــــة" </a:t>
            </a:r>
            <a:br>
              <a:rPr sz="4000"/>
            </a:br>
            <a:r>
              <a:rPr b="1" lang="ar-SA" sz="4000" spc="-1" strike="noStrike">
                <a:solidFill>
                  <a:srgbClr val="333399"/>
                </a:solidFill>
                <a:latin typeface="Abadi MT Condensed Light"/>
              </a:rPr>
              <a:t> </a:t>
            </a:r>
            <a:r>
              <a:rPr b="1" lang="en-US" sz="4000" spc="-1" strike="noStrike">
                <a:solidFill>
                  <a:srgbClr val="333399"/>
                </a:solidFill>
                <a:latin typeface="Abadi MT Condensed Light"/>
              </a:rPr>
              <a:t>Total Quality Management[TQM]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</a:rPr>
              <a:t> </a:t>
            </a:r>
            <a:br>
              <a:rPr sz="4400"/>
            </a:b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</a:rPr>
              <a:t>تعبير شاع في أدبيات الإدارة المعاصرة ويعبر عن توجه عام يسيطر على فكر وتصرفات ممارسي الإدارة في كافة المنظمات، وأصبح من معايير تقويم الإدارة والحكم على كفاءة المنظمات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052-343E-4B21-82A9-355F9C2A0F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4724280" y="533520"/>
            <a:ext cx="37814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نطلقات الفكري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إدارة الجودة الشامل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2286000"/>
            <a:ext cx="73915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لم تنشأ حركة ” إدارة الجودة الشاملة“ من فراغ، بل انطلقت من مجموعة متكاملة من المفاهيم الإدارية المتطورة تشكل في مجموعها ” نموذج الإدارة الحديثة“، وتوفر البنية التحتية لتطبيق الجودة الشاملة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295F-CFBD-4E01-9976-502996F9D88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238800" y="4486320"/>
            <a:ext cx="2514600" cy="2147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إعادة اختراع الحكو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inve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over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2200" y="2198520"/>
            <a:ext cx="2492280" cy="1936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إدارة العولمـــــيـ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obal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24480" y="2057400"/>
            <a:ext cx="2495520" cy="153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إدارة التغي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g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6760" y="2666880"/>
            <a:ext cx="2492280" cy="1936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إدارة المنفتح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n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2200" y="4572000"/>
            <a:ext cx="2835360" cy="1936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تحول للإدارة الإلكترو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ُ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-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724280" y="533520"/>
            <a:ext cx="37814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نطلقات الفكري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إدارة الجودة الشامل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A68A-DF14-42B3-897A-B2FA4FB553B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6237360" y="4486320"/>
            <a:ext cx="2517840" cy="2147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إدارة المنظو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2055960"/>
            <a:ext cx="2590560" cy="2745360"/>
          </a:xfrm>
          <a:custGeom>
            <a:avLst/>
            <a:gdLst>
              <a:gd name="textAreaLeft" fmla="*/ 126360 w 2590560"/>
              <a:gd name="textAreaRight" fmla="*/ 2464200 w 2590560"/>
              <a:gd name="textAreaTop" fmla="*/ 126360 h 2745360"/>
              <a:gd name="textAreaBottom" fmla="*/ 2619000 h 2745360"/>
            </a:gdLst>
            <a:ahLst/>
            <a:rect l="textAreaLeft" t="textAreaTop" r="textAreaRight" b="textAreaBottom"/>
            <a:pathLst>
              <a:path w="21600" h="22891">
                <a:moveTo>
                  <a:pt x="3600" y="0"/>
                </a:moveTo>
                <a:arcTo wR="3600" hR="3600" stAng="16200000" swAng="-5400000"/>
                <a:lnTo>
                  <a:pt x="0" y="19291"/>
                </a:lnTo>
                <a:arcTo wR="3600" hR="3600" stAng="10800000" swAng="-5400000"/>
                <a:lnTo>
                  <a:pt x="18000" y="228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إدارة الموارد البش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إستراتي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ategic 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07200" y="2027160"/>
            <a:ext cx="2530440" cy="2147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توجه بالسو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rket-Dr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6760" y="2657520"/>
            <a:ext cx="2492280" cy="2147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إدارة المنافس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040" y="4562640"/>
            <a:ext cx="2857320" cy="1742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التوجه ب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y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724280" y="533520"/>
            <a:ext cx="37814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منطلقات الفكري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إدارة الجودة الشاملة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E9F-A04D-40C6-9645-6D10E80E9CE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9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3399"/>
                </a:solidFill>
                <a:latin typeface="Symbol"/>
                <a:ea typeface="Symbol"/>
              </a:rPr>
              <a:t>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  <a:cs typeface="Times New Roman"/>
              </a:rPr>
              <a:t>تتعدد أسباب اهتمام منظمات الأعمــال </a:t>
            </a:r>
            <a:r>
              <a:rPr b="1" lang="en-US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Business Organizations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 والمنظمات العامة </a:t>
            </a:r>
            <a:r>
              <a:rPr b="1" lang="en-US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Public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  والحكومية </a:t>
            </a:r>
            <a:r>
              <a:rPr b="1" lang="en-US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Government Organizations</a:t>
            </a:r>
            <a:r>
              <a:rPr b="1" lang="ar-SA" sz="4400" spc="-1" strike="noStrike">
                <a:solidFill>
                  <a:srgbClr val="333399"/>
                </a:solidFill>
                <a:latin typeface="Abadi MT Condensed Light"/>
                <a:ea typeface="Times New Roman"/>
              </a:rPr>
              <a:t>  بقضية الجودة، ولكنها تتركز في مجموعة الأسباب التالية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8120" y="762120"/>
            <a:ext cx="34099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أسباب الاهتمام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بمفهوم الجودة الشامل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5F1D-9652-49E7-B491-5AFBA68104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294920"/>
            <a:ext cx="7792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التطورات التقنية والعلمية الحديثة التي جعلت الجودة الشاملة أمراً ممكناً مما لا يستساغ معه ممارسة العمليات الإنتاجية والإدارية عموماً بذات الأساليب التقليدية التي كانت تفتقد عنصر الجودة بالقدر الكافي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10080" y="762120"/>
            <a:ext cx="2390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1.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تطورات التقني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7138-C570-4007-B5AD-B3BE5455FC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       اشتداد الضغوط التنافسية وحدة الصراع بين المنظمات المختلفة على اجتذاب العملاء والفوز بنسب أكبر من الأسواق التي تتسع بدرجات هائلة نتيجة:</a:t>
            </a:r>
            <a:br>
              <a:rPr sz="4000"/>
            </a:b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.استخدام تقنيات الاتصالات والمعلومات.</a:t>
            </a:r>
            <a:br>
              <a:rPr sz="4000"/>
            </a:b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ar-SA" sz="4000" spc="-1" strike="noStrike">
                <a:solidFill>
                  <a:srgbClr val="333399"/>
                </a:solidFill>
                <a:latin typeface="Tahoma"/>
              </a:rPr>
              <a:t>. زيادة مستويات جودة المنتجات والخدمات التي تقدمها المنظمات المتميزة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562720" y="914400"/>
            <a:ext cx="2381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2.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شدة المنافسة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472-DFF3-4D02-AA9D-BB749FBE8A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1738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ar-SA" sz="4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1" lang="ar-SA" sz="4000" spc="-1" strike="noStrike">
                <a:solidFill>
                  <a:srgbClr val="333399"/>
                </a:solidFill>
                <a:latin typeface="Abadi MT Condensed Light"/>
              </a:rPr>
              <a:t>اكتشاف مختلف النظم الاقتصادية في العالم المعاصر لأهمية احترام العمــــــلاء </a:t>
            </a:r>
            <a:r>
              <a:rPr b="1" lang="en-US" sz="4000" spc="-1" strike="noStrike">
                <a:solidFill>
                  <a:srgbClr val="333399"/>
                </a:solidFill>
                <a:latin typeface="Abadi MT Condensed Light"/>
              </a:rPr>
              <a:t>Customers</a:t>
            </a:r>
            <a:r>
              <a:rPr b="1" lang="ar-SA" sz="4000" spc="-1" strike="noStrike">
                <a:solidFill>
                  <a:srgbClr val="333399"/>
                </a:solidFill>
                <a:latin typeface="Abadi MT Condensed Light"/>
              </a:rPr>
              <a:t>  الذين تتعامل معهم المنظمات،</a:t>
            </a:r>
            <a:r>
              <a:rPr b="1" lang="ar-SA" sz="4000" spc="-1" strike="noStrike">
                <a:solidFill>
                  <a:srgbClr val="333399"/>
                </a:solidFill>
                <a:latin typeface="Abadi MT Condensed Light"/>
              </a:rPr>
              <a:t>	</a:t>
            </a:r>
            <a:r>
              <a:rPr b="1" lang="ar-SA" sz="4000" spc="-1" strike="noStrike">
                <a:solidFill>
                  <a:srgbClr val="333399"/>
                </a:solidFill>
                <a:latin typeface="Abadi MT Condensed Light"/>
              </a:rPr>
              <a:t>وضرورة بذل أقصى الجهد والعناية في تقديم منتجات وخدمات متميزة وعلى جودة عالية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105520" y="609480"/>
            <a:ext cx="29908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3.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لتوجه الاستراتيجي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للاهتمام بالمستفيدين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C97A-AC8E-45D4-8D91-7D3B73CE95D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779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99"/>
                </a:solidFill>
                <a:latin typeface="Tahoma"/>
              </a:rPr>
              <a:t> ارتفاع المستويات التعليمية والثقافية والاقتصادية لنسب متزايدة من أفراد المجتمعات المعاصرة، مما يجعلهم يتشددون في ضرورة الحصول على مستوى من الخدمة الجيدة يتفق مع تطلعاتهم وتوقعاتهم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0" y="990720"/>
            <a:ext cx="37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4. </a:t>
            </a:r>
            <a:r>
              <a:rPr b="0" lang="hi-IN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ارتفاع توقعات المستفيدين</a:t>
            </a:r>
            <a:endParaRPr b="1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FF94-4899-4108-B57B-4A735FA850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12:20:47Z</dcterms:created>
  <dc:creator>Dr. Ali Elsalmi</dc:creator>
  <dc:description/>
  <dc:language>en-US</dc:language>
  <cp:lastModifiedBy>Mohamed sultan</cp:lastModifiedBy>
  <dcterms:modified xsi:type="dcterms:W3CDTF">2005-12-23T16:23:09Z</dcterms:modified>
  <cp:revision>25</cp:revision>
  <dc:subject/>
  <dc:title>عرض تقديمي من PowerPoint</dc:title>
</cp:coreProperties>
</file>