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692900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4215-BC72-43AD-9082-9E9089D0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A3A4-3B24-4E00-9B65-A35D21EC1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69F-0FEC-4EA7-B910-E0BE4AC7B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77AB-94A8-45B6-AF55-18CB699C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B35E-7B19-4559-9E60-BE08194F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2C1-FAF2-42B0-8F94-E997E234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F2B2-5A12-42A6-B353-B53E432F9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204-393F-4A64-81F9-DE189185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675C-0848-4A3B-915F-C93F658B1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E5D-112D-4738-89D3-803CE2EE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FCD7-1551-4FC5-A30C-ADBCC5FB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CB8-BC76-49CB-8D3B-648AA47F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794D-BCE3-49D5-949F-43D37EDC38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3280" y="345960"/>
            <a:ext cx="8637840" cy="18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إدارة المعرف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إلى إدارة الكفاءات في المؤسسات</a:t>
            </a:r>
            <a:br>
              <a:rPr sz="4000"/>
            </a:br>
            <a:r>
              <a:rPr b="1" lang="ar-SY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المنهجية والآل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93440" y="3504960"/>
            <a:ext cx="761508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 . د.محمد مرعي مرعي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عميد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عهد العالي للتنمية الادار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جامعة دمش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3600" spc="-1" strike="noStrike">
                <a:solidFill>
                  <a:srgbClr val="000000"/>
                </a:solidFill>
                <a:latin typeface="Times New Roman"/>
              </a:rPr>
              <a:t>1-6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ثو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ن المفيد موضعة ثورة المعرفة قياساً إلى سابقاتها في اللوحة التي تظهر بعض الاتجاه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168560"/>
          <a:ext cx="9144000" cy="5689080"/>
        </p:xfrm>
        <a:graphic>
          <a:graphicData uri="http://schemas.openxmlformats.org/drawingml/2006/table">
            <a:tbl>
              <a:tblPr/>
              <a:tblGrid>
                <a:gridCol w="2286000"/>
                <a:gridCol w="2287440"/>
                <a:gridCol w="2284560"/>
                <a:gridCol w="228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ح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صر الاو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تجاه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تبوي/ الهرم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لك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قطاع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مط 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س ال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ر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ثرو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/ الأم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مل/ الغذ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خيرات/ الحما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بادل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 الم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ثروة الشخص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ولاد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صدر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رأسما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ال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الك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ائد أعم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هليات 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رق الكب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ة الصغي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شير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وزيع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صراع بالإدا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ظيم ، تخفيض الكلفة ، الاستثما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زيادة السل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</a:t>
                      </a: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لإ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ارة، التحفي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بادرة ، المخاط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طة الجس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اه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آلات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 متطور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د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قان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تمتة، أمث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قييس، 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طرق تنفي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الواقع نتساءل عن الثورة في إدارة المعرفة ويتمثل التحدي بجعل المعارف في متناول اليد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بزيادة مردو ديتها كما تعرض اللوحة الت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479600"/>
          <a:ext cx="9144000" cy="53780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علاق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إدار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فك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جهات المعن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جموعات الممار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ش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وظف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اقات تعاو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ضاء المشارك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قاعدة معطيات المعارف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يئة التعل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دفق 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المال البنيو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ؤسس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جموعات الافتراضي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Y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حقيبة المعرف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أس مال 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زبائ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7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إدراكي /المعرف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 يستطيع أي منا ،فردياً أو جماعياً .جمع كم هائل من المعلومات المحيطة به،نحن نبحث عن بعض الأجزاء الصغيرة من المعلومات الثمينة القابلة للفهم . يعرض الأشخاص والمؤسسات بشكل خرائط ،بيئة المعلومات كل على طريقت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اكتساب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التقاط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الخلق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في تلك البيئات ،نحن نقر ، ثم نجمع أجزاء المعلومات الأكثر أهمية  .تلك المرحلة تدخل عادات البحث الفردية أو ال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ة التي توضع المعلومات الموجهة لتصبح طريقة عمل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الإطار / توفير الشروط 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تتوفر بعض أشكال الدعم لتحديد إطار لتلك المعلومات ،البريد الالكتروني ،الصوت ، الوسائط المتعددة ،..... تكمن المشكلة الرئيسية بدقة المعنى الذي يستخلصه الآخرو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1040" y="420840"/>
            <a:ext cx="843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9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خزين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خزن الأشخاص والمؤسسات المعلومات في نظام ذاكرتهم بأنماط مختلفة . ينطلق ذلك من المخ البشري إلى القرص الصلب ،وذاكرة التصنيف ، والمكتب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طبيق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مشارك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النق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عترف إدارة المعارف ضمنياً بالطابع الاجتماعي للمعلومات ، وتبدأ إدارة المعرفة أيضاً من تأكيد الفكرة التي تتعلق قيمة المعرفة بالأعمال التي تولد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بتكار – التطوير –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لا أن تتطور المعارف لتبقى في مرحلة مع التغييرات التي تمس البيئة التي تندرج فيها ، وفي المخاطر ، وإلا ،سيتم فقد القيمة . يتطلب ذلك ،برامج بحث – تطوير قائمة على التجربة في السوق ،ومسارات ابتكار وإبداع توسع الآفاق العقل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دارة المعرفة :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رسملة وتقاسم المعارف : المناهج والأدو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كتساب المصطلحات ومعرفة مفاهيم إدارة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منهجيات والأدوات العمليات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ال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والمشروعات الفرعية ،والمهام الجديدة للأقسا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 –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ون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قاربة الشام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ات الجديدة في التنظيم ( المؤسسة )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رسملة المعارف والممارسات و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حاور التوجيهية لمسار إدارة المعارف : ذاكرة التنظيم ،التقانات في خدمة التنظيم،خلق القيمة في مسار العمل من خلال انبثاق واستثمار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فاهيم الرئيسية في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أسس العملياتية ل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إدارة المعلومات (الوثائق ، نظم الأرشفة ) إلى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عالم المناهج والنماذج المستخدمة في المؤس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الحيوية ،وتحليل الموارد الداخلية والخارجية عبر السيطرة على مسار الاكتساب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مثلة دورة حياة المعلومات : من الإنتاج إلى الاستثما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عمالات تقانات المعلومات و الاتصال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نات المعلومات و الاتصالات والحلول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سار مشروع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شف ع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مارسات وتنظيم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يل جماعات العمل ، وتحديد الأفعال ،والموارد والتهديد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الاتصالات : تحريك الفاعلين في الأقسام / المؤسس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عمال مرافقة التغيير وتطور التنظي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محاور التحسين ،والمشروعات الفرعية ،والمهام الجديدة في القس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حديث المنهجي للمحتوى تبعاً للتطورات التقان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محتويات : التعزيز ،الرسملة ،النجاح ،الجريان ،المشاركة ،تثمين المعارف والكفاءات الضمنية والظاهرة الضرورية لاتخاذ القرارات والأعمال اليومية ....والتي تخلق القيم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ستخدام نظام يشجع التطوير وتقاسم المعارف الج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دوات يمكن تطبيقها مباش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طاقات عمل فنية حول إدارة المعرف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عداد قائمة فحص تقييم ذاتي عملية عن التنظي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شبكة مقارنة عن الحلول التقنية :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قييم وظيفي ومال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منتقاة للمراجع المنهجية والوثائق ومواقع مرجع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بادئ توجيهية لمسار مشروع في ميدان إدارة المعرفة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4400" spc="-1" strike="noStrike">
                <a:solidFill>
                  <a:srgbClr val="000000"/>
                </a:solidFill>
                <a:latin typeface="Times New Roman"/>
              </a:rPr>
              <a:t>1-9-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خلق المعرفة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ن نظرية خلق المعرفة التي طورها (توناكا ) و( تاكوشي) ،تعتبر أن الوظيفة الأولى للمؤسسة تتمثل بخلق مزايا تنافسية قائمة على المعرفة الجماعي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أن دور المديرين يتمثل بتوجيه نشاطات خلق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قوم أنموذج خلق المعارف على التمييز بين 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غير المرمز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معرفة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( المرمزة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ون المعرف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متجذرة في العمل ،و الروتين . في السياق الخاص (الأمر الذي يعطي الإنتاجية الشخصية في المستوى الفردي والمزايا التنافسية في مستوى المؤسس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تتمثل المعرفة المعلنة بالمعرفة المرمزة ، القابلة للنقل بلغة رسمية ومنهجية ( انتاج المعطيات على المستوى الفردي ، والإدارة الالكترونية الوثائقية على مستوى المؤسسة ) في مستوى أكثر ارتفاعا ( التنظيم الذي يتعلم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في مؤسسة ما ، يتدخل خلق المعرفة في ثلاثة مستويات ، وتفيد في أربع طرق تحويل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على المستوى الفردي : الاستقلالية من أجل التجري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جموعة : التفاعل والحوا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لى مستوى المؤسسة : المنافسة للدخول إلى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الموار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ق التحو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ويل عبر التنشئة التربوية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علن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سم مكان العمل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التلمذ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: من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إلى المعرفة المعلنة ( الاستعارات ، المفاهيم ، الفرضيات ، النماذج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جميع : المعارف المعلنة ( إدارة الكترونية وثائقية ،و شبكات المعرفة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ضمين الداخلي : من المعرفة المعلنة إلى المعرفة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مضم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04880" y="-360"/>
            <a:ext cx="777240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10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هارات المدير التسع ل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30240"/>
            <a:ext cx="91440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دث بشكل مختلف وممارسة الصم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إن ترك الآخرين يتحدثون يعلمنا بسرعة أن الناس لديهم شيء يقولونه حتى بالنسبة للأشياء التي لا يسيطرون عليها ،ولا يعرفون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معرفة شخص آخر ،وقيادته إلى التحدث بحرية والتسليم له إلى الحد الأقصى ، يجب ملاحظة سلوكه : الاتجاه الحياد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 ، الملاحظة ، الحفظ بالذاكر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إصغاء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يسهل علينا معرفة وفهم ما يقوله الآخرون ، تخفيض آلة التفسير لدينا التي تقودنا عموما إلى سماع ليس ما يقوله الآخرون بل الاعتقاد بما يقولونه ، عدم التأويلات ،وممارسة الإصغاء على المدى القصي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لاحظة 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أصعب من الإصغاء ،وتتطلب شبكة تغطي ملاحظة الإشارات ، الايماءات ،تعابير الوجه ، حركات الجسد </a:t>
            </a:r>
            <a:r>
              <a:rPr b="1" lang="ar-SY" sz="24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ملاحظة العناصر المطلوب ملاحظتها ،ملاحظة المحادثة بالوقت نفس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حفظ بالذاكر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:الاعتقاد بسوء التذكر مشكلة تقود إلى صعوبة الاحتفاظ بالذاكرة :ممارسة الحفظ بالذاكرة للنصوص القصيرة ،مناهج تسمح بزيادة النتائ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400" spc="-1" strike="noStrike">
                <a:solidFill>
                  <a:srgbClr val="000000"/>
                </a:solidFill>
                <a:latin typeface="Times New Roman"/>
              </a:rPr>
              <a:t>أولا -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إدارة المعرف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ا هي بالضبط إدارة المعرفة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و أين تكمن التجارب الحقيقية  لها في المؤسس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ماذا نتكلم عن هذا الموضوع و بشكل خاص اليوم ؟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يقول البعض بأن الموضوع قديم قدم العالم ،  لكن لماذا لم نتكلم عنه إلا منذ عشر سنوات 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ليل اللهجة والسلوك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تطلب كل معرفة تصنيف ،وكل تصنيف شبكة تحلي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تعلم ما هي العناصر المناسبة للهجة : الكلمات ،الموضوعات ،الجمل ،والاعتراف بمؤشرات اللهجة الموجودة في كل خطاب :درجة تجريد اللهجة ،طبيعة الهدف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ويات الثلاثة لتحليل لهجة ما : الكلمات (التعابير ) ،الموضوعات (الموضوعاتية ) ،الجمل ( التركيبات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طرائق الأربع للموضوع حول المحور المجرد الملموس : النظري ،الممارسة ،المثال ،المحاكا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نيون باللغة : المرسل ،الرسالة ، المستقبل ، لغة العلاقة ولغة المحتوى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طرح المشكلات والأهداف بعبارات محسوس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فترض كل تغيير علاقاتي ،الذي يخص ذاتنا أو الآخرين وصفاً جيداً ،من جهة الوضع الحالي الذي نريد تغييره ،ومن جهة أخرى الهدف أو الحالة الجديدة التي نريد خلق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مذجة التفاعلات مع الشركاء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علاقة ما : أداة دعم في الوصف والنمذجة :شبكة وضع علاقات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نمذجة العلاقات :فئات المحتو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داة دعم النمذجة : الحركات الرئيسية البلاغية المستخدمة في الاتص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مذجة الوضع المأمو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ناء استراتيجيات التغي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وجد دوماً عدة طرق للذهاب من حالة غير مرضية نحوحالة مأمولة وبالوقت نفسه توجد عموما عدة طرق بغية الوصول إلى قمة الجبل . يجب التنبؤ بإمكانات عديدة للسير وحلول بديل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صنف الاستراتيجيات في الخطوط الكبير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جب على الاستراتيجية الجيدة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لمعالج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مشكلة هامة (مشكلة مؤلمة أو الكائنة من وقت طويل ) أن تتضمن مراحل عدي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نها سياسة الخطوات الصغيرة ، نحدد الأهداف الوسيطة ،الأقل طموحاً للوصول في نهاية السباق إلى الهدف النهائ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زيادة التنوع في سلوكياتنا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في أغلبية أفعالنا اليومية التي تخص طريقة عاداتنا والذهاب إلى المكتب ،والدخول في علاقات مع أمثالنا ،نتجه إلى التصرف بطريقة نمطية ،بعمل الشيء نفسه في الظروف نفس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ذا نلاحظ ؟ في عدد من الحالات المحسوسة الملفتة ،لدينا جواب واحد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إذا ما أردنا السيطرة على علاقاتنا مع الآخرين يجب أن نمتلك تنوعاً مطلوباًًُ أعلى من شركائنا ،ويجب امتلاك الكثير من التنوع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تبر التنوع الضعيف مثل الضعف الخط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ديد معالم التن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ائحة الأوضاع الأكثر تواتراً – تحديد معالم برمجتنا السلوك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8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عرف منذ زمن طويل أنه في حالات النزاع ،يمتلك الشخص الأكثر هدوءاً بين المتحاورين كل الفرص في الربح ، يكفي البحث عن الهدوء للوصول بسرعة إلى حالة الارتياح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لاحظ أن شخصاً هادئ يحفظ بسهولة رؤية ”موضوعية ” عن الحالة ،إن ممارسة الانفصال تساعد في الحصول على الهدوء في حالات حرجة في حيات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يد معالم الحالات التي يصعب علينا التخلي عنها – ممارسة الانفص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9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غيير سلوكيات شركائن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نفهم أنه لا يمكن تغيير العلاقة دون التغيير المتزامن معها للشركاء : تغيير النفس ، تغيير العلاقة مع الآخر ، تغيير 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دأ التغيير بالنفس ثم بالآخ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نطبق المبادئ نفسها : تعرف ، حلل ، غي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رفة الآخري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ستويات الثلاثة للمعرفة : معرفة الخريطة : الخريطة الذهنية ، معرفة اللغة ، معرفة السلوكي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حل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ليل بنية الخريطة الذهنية ، تحليل اللغة ، تحليل السلوكيات ، تحديد معالم            ملائمة،  وفك الارتباط بين تلك التحليلات الثلاث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غيير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نيات تغيير اللغة   ، التقنيات السلوك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Y" sz="2800" spc="-1" strike="noStrike">
                <a:solidFill>
                  <a:srgbClr val="000000"/>
                </a:solidFill>
                <a:latin typeface="Times New Roman"/>
              </a:rPr>
              <a:t>1-11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صانع المعرفة في المجتمع والمؤسسات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منتج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راكز البحث والتطوير في الجامعات ، المصانع ، المراكز المستقلة ، الحدائق التكنولوجية ، تشرف عليه مؤسسات مثل : تعليم عالي ، صناعة ، علم وتكنولوجيا ، تنمية إدارة ، تخطيط ،ـ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ناقل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جامعات ، والمعاهد ، والمدارس ،ودور النشر ، وسائل الاتصالات ، الأعلام ، شبكات البث ، الانترنيت ، تشرف عليه مؤسسات مثل : تعليم عالي ،تربية إعلام ، ثقافة ، مواصلات ، صناعة ،صحة ، تموين ، تنمية إدارة ، تخطيط ، علوم وتكنولوجيا ، مقابلات ، قطاع خاص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طاع الخازن للمعرف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% 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مكتبات ، بنوك المعلومات ، المتاحف والآثار ، الاتحادات المهنية ، الذاكرة       العادات والتقاليد ،الأعراف ،.تشرف عليه مؤسسات مثل : الثقافة ، الإعلام ،الاجتماعية ، البلديات ، الاتحادات ، النقابات ، القطاع الخاص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ثانيا 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ن إدارة المعرفة إلى إدارة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1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- العبور من المعرفة إلى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عبر الشخص العامل المراحل التالية في عمله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*  مرحلة الاستكشاف(التحري)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: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شف الشخص العمل,و المهام ,و النشاطات,و السياق الذي يعمل في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مرين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كتسب فيها الشخص كفاءات أساسية ضرورية لشغل وظيفة أو مهنة,ولم يتمكن من السيطرة عليها بع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سيطرة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ستطيع ان يواجه الشخص متطلبات عمله بكفاءة و باستقلال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تجديد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ذا كان الشخص يمتلك الكفاءات ,و الطاقات الازمة,فهو يستطيع اتخاذ المبادرات الجديدة , ويجدد و يقترح التغييرات في الاجراء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رحلة الروتين 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ود الشخص بسرعة الى حالة الركود و الاحب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راحل الخمس لاشغال الوظي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43040" y="1447920"/>
            <a:ext cx="77724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957240" y="6171840"/>
            <a:ext cx="712944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8101080" y="1442880"/>
            <a:ext cx="0" cy="468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3760" y="5415120"/>
            <a:ext cx="1671480" cy="757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714920" y="4486320"/>
            <a:ext cx="2643120" cy="928800"/>
          </a:xfrm>
          <a:prstGeom prst="rect">
            <a:avLst/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71880" y="2571840"/>
            <a:ext cx="3900600" cy="1871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14400" y="1600200"/>
            <a:ext cx="4375440" cy="100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72440" y="1071720"/>
            <a:ext cx="11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ا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0160" y="5672160"/>
            <a:ext cx="140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مدة الزمن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2614680"/>
            <a:ext cx="986040" cy="2514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روت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 الاحبا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72400" y="1700280"/>
            <a:ext cx="628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900320" y="6372000"/>
            <a:ext cx="3128760" cy="1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2557080" y="6543720"/>
            <a:ext cx="36147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371600" y="6343560"/>
            <a:ext cx="12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8043840" y="6172200"/>
            <a:ext cx="42840" cy="20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943520" y="618660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172200" y="6214680"/>
            <a:ext cx="1440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2628720" y="6114600"/>
            <a:ext cx="140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414440" y="6143760"/>
            <a:ext cx="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0480" y="6315120"/>
            <a:ext cx="24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ترة الاستثم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14600" y="6386400"/>
            <a:ext cx="15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فترة المردو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00160" y="6415200"/>
            <a:ext cx="135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نهاية الدو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444000">
            <a:off x="1544760" y="1998360"/>
            <a:ext cx="6815160" cy="3733920"/>
          </a:xfrm>
          <a:custGeom>
            <a:avLst/>
            <a:gdLst/>
            <a:ahLst/>
            <a:rect l="l" t="t" r="r" b="b"/>
            <a:pathLst>
              <a:path w="4056" h="2202">
                <a:moveTo>
                  <a:pt x="4056" y="2202"/>
                </a:moveTo>
                <a:cubicBezTo>
                  <a:pt x="2908" y="1278"/>
                  <a:pt x="1761" y="354"/>
                  <a:pt x="1113" y="177"/>
                </a:cubicBezTo>
                <a:cubicBezTo>
                  <a:pt x="465" y="0"/>
                  <a:pt x="336" y="971"/>
                  <a:pt x="168" y="1140"/>
                </a:cubicBezTo>
                <a:cubicBezTo>
                  <a:pt x="0" y="1309"/>
                  <a:pt x="52" y="1251"/>
                  <a:pt x="105" y="119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98520" y="1386000"/>
            <a:ext cx="1602000" cy="728640"/>
          </a:xfrm>
          <a:custGeom>
            <a:avLst/>
            <a:gdLst/>
            <a:ahLst/>
            <a:rect l="l" t="t" r="r" b="b"/>
            <a:pathLst>
              <a:path w="1009" h="459">
                <a:moveTo>
                  <a:pt x="1009" y="459"/>
                </a:moveTo>
                <a:cubicBezTo>
                  <a:pt x="658" y="447"/>
                  <a:pt x="308" y="436"/>
                  <a:pt x="154" y="360"/>
                </a:cubicBezTo>
                <a:cubicBezTo>
                  <a:pt x="0" y="284"/>
                  <a:pt x="91" y="60"/>
                  <a:pt x="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9880" y="83196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ظيفة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98760" y="2722680"/>
            <a:ext cx="30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سيطر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25520" y="1749600"/>
            <a:ext cx="33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جديد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68800" y="459252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تمر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1560" y="5465880"/>
            <a:ext cx="153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استكش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1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فهو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ظهر مفهوم إدارة المعرفة في ميادين متعددة منها " الذكاء الصنعي ، وإدارة الابتكار ، والتسويق ، والتصميم ، وإدارة الكفاءات ،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لتدريب ، وغيرها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ولد المفهوم من تجارب عملية تبحث عن تنظيم المؤسس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بغية تعظيم الربح ، وتحسين الصورة ، واختراق الاسواق ، والرصد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كنولوجي ، والتصميم ، وإرضاء الزبون ، وأمثلة إدارة الموارد البشرية ، والبحث وتقاسم المعلومات ، والمشاركة في التجارب ، وبناء نظم مساعدة في اتخاذ القر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شكل تلك المعارف ، ثروة المؤسسة ،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و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حد مكتسبات العناصر البشرية ، ويمكن نمذجتها وحفظها في الحواسيب أو في الوثائق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يستدعي عرض المراحل استخلاص فكرتين هما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 هي تكاليف الأداء الضعيف للأشخاص الكثيرين,الذين هم منذ سنوات في مرحلة الروتين و الاحباط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اهي تكاليف حالة الأشخاص في المواقف الصعبة, الذين يواجهون تطورا أو تغييرا تنظيميا او تقانيا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واقع مستوى التنمية البشرية في العالم العرب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786960"/>
            <a:ext cx="9144000" cy="60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عرض تقرير برنامج الأمم المتحدة الإنمائي لعام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0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مستوى التنمية البشرية في العالم  ، فيه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-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رتفعة ( بينها من الدول العرب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(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بحرين ، الكويت ، الإمارات ، قطر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)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فقط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ذات التنمية البشرية المتوسطة ( منها سوريا ، لبنان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ؤشرات التقانة ( تصنيعها ، وتوظيفها ، وتسويقها ، واستثمارها 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،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نها إسرائي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قادة المحتمل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، لا وجود للدول العربية ، ماليزي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نشطة (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) دولة منها عربية ( مصر ، تونس ، سوريا ، الجزائر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مهمش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دول الأخر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2-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دارة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رير الح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ول اسم الإنسان في العمل من العامل /الفرد إلى اسم المورد البشر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ابق المختصون على تعظيم قيمة الإنسان في عمله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طلق عليه الاقتصاديون اسم (رأس المال البشر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سماه المحاسبون(الأصول البشر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حدده علماء الإدارة (رأس المال المعرفي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أفرزت مرحلة الثورة الصناعية في القرن العشرين طبقة من المديرين لتنفيذ العملية الإدار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وغيرت ثورة المعلومات والاتصالات في بداية القرن الحادي والعشرين نهج العمل وأصبح التركيز على الإبداع والتعامل مع المتغيرات المستمرة ، وأصبحت الإدارة تواكب إدارة عمليات التغيير للوصول إلى إدارة الجودة الشاملة يقودها إداريون متميزو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منظمات الأمس إلى مؤسسات لها أهداف واضحة ومحددة ، وبنية شبكية مرنة ، وتدار بأسلوب المشروع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حولت القيادة الإدارية إلى قيادة استراتيجية ، تنتقل من التطوير إلى التحسين المستمر بل إلى الإدارة الوقائية التطوري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جاوز التدريب إجراء الدورات التدريبية ، ومنح شهادات الحضور ، وأصبح خيارا” استراتيجيا” في منظومة استثمار الموارد البشرية وتنميتها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م اعتماد أسلوب الجدارة في إدارة الموارد البشرية ، وأسقط على التدريب للوصول إلى مخرجات عالية المستوى ، تتسم بخصائص الجدارة التي تجمع بين ( الدوافع ، الصفات ، التوجهات الذاتية ، المعرفة ، المهارة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44080" y="0"/>
            <a:ext cx="88995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عتمد تكريس اسلوب الجدارة على طرائق تدريبية عالية المستوى تهدف إلى تحقيق : ( تعليم التفوق ، تعليم الاكتشاف ، التدريب على التعامل مع الآخرين ، والعمل القانوني ، هندسة التغيي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خلص برنامج الأمم المتحدة للتعليم المهني عام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إلى أربعة محاور تخص التدريب هي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بتكار الطرق والأساليب لتحسين نظام التعليم الفني والمهني ( تطوير شخصية  الفرد وقدراته). 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- مد جسور التعليم للجميع ( منح الفرص لكل شخص وفي كافة المستويات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إصلاح العملية التعليمية لتوافق نظام التعليم والحياة ( مهارة التحليل واستثمار المعلومات)</a:t>
            </a:r>
            <a:br>
              <a:rPr sz="3200"/>
            </a:b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  - تحديد أدوار الجهات المساهمة في التعليم والتدريب لتشمل القطاعين العام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والخاص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6440" y="27000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3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ادارة الكفاءات في مراكز العمل,الوظائف,المهن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010880"/>
            <a:ext cx="9144000" cy="58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مفهوم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حديث ذو اشكالية قديمة:مرتبط بالسيطرة على العمل و تنفيذه بشكل صحيح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م يستقر بعد,وهو العنصر المركزي في البعد النوعي لادارة الموارد البشرية,و مادة لمناقش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برر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ظ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وره:حل محل مفهوم التأهيل الجامد و الجماعي بينما الكفاءات أداة غنية مرنة نافعة للادارة الفردية و الجماعية على السواء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عمل:تقابل المعارف,و المهارات , و السلوكيات الضرورية للتحرك بغية التمكن من الانجاز الصحيح للمهام و النشاطات في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فاءات الشخص:تقابل المعارف و المهارات و السلوكيات التي يمتلكها فعليا,و يكون قادرا على تنفيذها في حالة الحاجة لها و حسن ادار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309600"/>
            <a:ext cx="9144000" cy="65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مكونات فئات الكفاءات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*المعارف: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معارف العامة و الخصوصية حول موضوع محدد التي يتم اكتسابها عبر الأنظمة التربوية التقليدية مثل المحاضرات,و التقارير,و المؤتمرات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هارات: 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السيطرة عللى جميع التقنيات و المناهج و الأدوات,أي المهارات اليدوية و الادراكية و الاجتماعية,التي يتم اكتسابها عبر الممارسة الواقعية او المحاكاة او دراسة الحالات و التمار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سلوكيات: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قابل سيطرة الاتجاهات السلوكية التي يتم اكتسابها مثل المهارات و تتطلب مواقف تربوية تسهل وعيا لدى المتدرب بأهمية السلوكيات في عمله و السيطرة على السلوك في ميدان العم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237600"/>
            <a:ext cx="9144000" cy="66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 algn="r" rtl="1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صارع العناصر المكونة لنمط الكفاءات الذي يشكل مرجع معلومات الكفاءات مثل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ضرورية للوصول الى انجاز صحيح للمهام و النشاطات و الاعمال ال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سم واقع المجتمع الحالي بزيادة منتظمة لحصة الخدمات قياسا الى الان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شكل السلوكيات فئة من الكفاءات الهامشية أكثر من غيرها على الرغم من اهميت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كن اكتساب كفاءات السلوكيات الجديدة عبر ممارسات التدريب الفعا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إسقاطات تصنيف الكفاءات و ممارستها في العمل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عامة/ الشمولية:تناسب وظيفة / مهنة ما و تفيد أعمال عديدة(استخدام مناهج عمل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هنية:خاصة بمهنة محددة(استخدام منهجية تدريب الموظفي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خاصة:مختصة ببنية محددة و لا توجد في غيرها(معرفة اجراءات ادارة الصيانة في الابنية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6320" y="-360"/>
            <a:ext cx="77724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2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مصفوفة الكفاءات و ممارست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7360" y="690480"/>
          <a:ext cx="8364600" cy="6002280"/>
        </p:xfrm>
        <a:graphic>
          <a:graphicData uri="http://schemas.openxmlformats.org/drawingml/2006/table">
            <a:tbl>
              <a:tblPr/>
              <a:tblGrid>
                <a:gridCol w="2187720"/>
                <a:gridCol w="1658880"/>
                <a:gridCol w="1788840"/>
                <a:gridCol w="1339920"/>
                <a:gridCol w="1389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خصو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مهن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 العامة الشمو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كفاء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الاجراءات المتعلقة بادارة مطالبات الزبائ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لتحليل الما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معرفة مبادىء ادارة الجودة الشام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رف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جراءات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الادارة المال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هم طريقة ادارة الجود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فه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ستخدام اجراءات تصنيف الطلبات الخاصة بالخدم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تقنيات التدقيق المحاسب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فيذ منهجيات حل المشكل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واتية الادراكية الاجتماع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لبية الطلبيات في اطار تعاون كا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فاعل بايجاب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قدرة على الاصغاء للآخر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دقة في اعداد تقرير العم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لاقات الخارج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الشخصي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95240" y="0"/>
            <a:ext cx="77724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5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سير عمل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050480"/>
            <a:ext cx="9144000" cy="58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فهوم حزمة الكفاءات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ا تسير الكفاءة المعرفية وحدها,بل تشترك مع غيرها لتسهيل انجاز المهام و العمليات بشكل صحيح. مثلا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معرفة: معرفة قانون السي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مهارة: تنفيذ تقنيات قيادة السيا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- السلوكيات: الحذر ,اليقظة,احترام حقوق الآخر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الكفاءات ليس مستقرا عبر الزمن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لا يكون رأسمال كفاءات الشخص ثابتا, بل يخضع للتعديل و التطوير باستمرار(اكتساب معارف جديدة,مهارات حديثة, سلوكيات ايجابية) خلال ممارسة العمل و خوض غمار الحيا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ائما“   يتم هجر كفاءات أخرى أو نسيانها.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500"/>
                            </p:stCondLst>
                            <p:childTnLst>
                              <p:par>
                                <p:cTn id="3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3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500"/>
                            </p:stCondLst>
                            <p:childTnLst>
                              <p:par>
                                <p:cTn id="3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8160" y="0"/>
            <a:ext cx="8745480" cy="62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تعريف إدارة المعرف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تعرف بأنها نظام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يحوي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بادرات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ناهج و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 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أدوات </a:t>
            </a:r>
            <a:r>
              <a:rPr b="1" lang="ar-SY" sz="54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موجهة لخلق تدفق مثالي للمعارف بغية تحقيق نجاح المؤسسة  وشركائها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5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84400" y="2038320"/>
            <a:ext cx="4151160" cy="2924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22600" y="23684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16200" y="3405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49680" y="26733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54440" y="30495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1000" y="22273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78520" y="3535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3320" y="2789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24520" y="24462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72040" y="40226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59320" y="40543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95880" y="314172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432900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46880" y="35226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04040" y="258120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62400" y="44276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14920" y="390528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3760" y="33084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9280" y="217476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48240" y="2927520"/>
            <a:ext cx="23940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19440" y="4429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292120" y="1170000"/>
            <a:ext cx="555480" cy="2457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2280960" y="1336320"/>
            <a:ext cx="135000" cy="2189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86080" y="1217520"/>
            <a:ext cx="436320" cy="171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602080" y="1147680"/>
            <a:ext cx="2968560" cy="185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3786120" y="713880"/>
            <a:ext cx="811440" cy="17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3549600" y="762120"/>
            <a:ext cx="76320" cy="176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3701520" y="794880"/>
            <a:ext cx="435240" cy="143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4680000" y="1127160"/>
            <a:ext cx="930240" cy="13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92640" y="1114560"/>
            <a:ext cx="479520" cy="155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643720" y="1161720"/>
            <a:ext cx="118800" cy="17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902120" y="554040"/>
            <a:ext cx="1573200" cy="50976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87280" y="615960"/>
            <a:ext cx="1573560" cy="509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73320" y="249120"/>
            <a:ext cx="1573200" cy="509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نشاط 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21000" y="384660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08400" y="2768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179960" y="408924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48080" y="331308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95720" y="301608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1679040" y="4062240"/>
            <a:ext cx="1752840" cy="600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1814040" y="4541760"/>
            <a:ext cx="197820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202360" y="4331880"/>
            <a:ext cx="1347840" cy="195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095800" y="4122360"/>
            <a:ext cx="1454400" cy="149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62640" y="367812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124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14920" y="3500280"/>
            <a:ext cx="23940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202360" y="3478320"/>
            <a:ext cx="1917720" cy="2397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51280" y="3222720"/>
            <a:ext cx="2249640" cy="120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29040" y="46195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89200" y="3722760"/>
            <a:ext cx="239760" cy="284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32080" y="3651120"/>
            <a:ext cx="239760" cy="28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33680" y="3072960"/>
            <a:ext cx="110952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1588680" y="3222720"/>
            <a:ext cx="854280" cy="63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847960"/>
            <a:ext cx="18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خروج من  المخزن(رأسم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5120" y="4632480"/>
            <a:ext cx="143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فقدان الكف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1000" y="3878280"/>
            <a:ext cx="138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كتساب كفاءات جدي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300800" y="2608200"/>
            <a:ext cx="161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156440" y="2892600"/>
            <a:ext cx="198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دخول الى المخزن(رأسمال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70120" y="4962600"/>
            <a:ext cx="623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رأسمال مخزون الكفاء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57704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بعض الكفاءات الضرورية اليوم قد تصبح غير مفيدة في الغد بفضل التطورات الحاصلة في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6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طرائق اكتساب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هنية:)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تمهن):هناك مسلكان لاكتساب كفاءات المهنة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عبر النظام التربوي التعليمي ,أو التدريب المستمر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     - عبر التجارب الشخصية , الخبرات المأخوذة من الغير (كفاءات تجريبي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يتم حصر الكفاءات المكتسبة في العمل في (مرجع معلومات الكفاءات)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بينما يتم احصاء الكفاءات المملوكة للأشخاص في( حقيبة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84080" y="271080"/>
            <a:ext cx="77724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كفاءات الجم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01320"/>
            <a:ext cx="7772400" cy="48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تتكون من ثلاثة عناصر أساسية هي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   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ليات  الأعضاء في الفريق على العمل جماعيا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متلاك مفردات مشتركة تستخدم في العم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   - التكاملية بين الأعضاء خلال ممارسة الفريق عمل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04880" y="0"/>
            <a:ext cx="77724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2-7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إعداد مرجع معلومات ا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725040"/>
            <a:ext cx="9144000" cy="61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قاطع بين وصف أوضاع العمل و مرجع معلوماتها من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و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صي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أوضاع العمل(مراكز العمل,الوظائف,المهنة,عائلة المهن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نطلاق لاعداد مرجع معلومات الكفاءات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م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مستوى كل نشا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مثل النشاط ما نفعله, وما يجب علينا فعله في مركز العمل ,الوظيفة,المهنة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يتطلب كل نشاط كفاءات عدي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وحة تحديد الكفاء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184400" y="4167360"/>
          <a:ext cx="6116400" cy="2587320"/>
        </p:xfrm>
        <a:graphic>
          <a:graphicData uri="http://schemas.openxmlformats.org/drawingml/2006/table">
            <a:tbl>
              <a:tblPr/>
              <a:tblGrid>
                <a:gridCol w="1438200"/>
                <a:gridCol w="1619280"/>
                <a:gridCol w="1484280"/>
                <a:gridCol w="157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سلوكي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ها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عار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نشاط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1000"/>
                            </p:stCondLst>
                            <p:childTnLst>
                              <p:par>
                                <p:cTn id="4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500"/>
                            </p:stCondLst>
                            <p:childTnLst>
                              <p:par>
                                <p:cTn id="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3000"/>
                            </p:stCondLst>
                            <p:childTnLst>
                              <p:par>
                                <p:cTn id="4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ياغة مرجع معلومات الكفاء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185840"/>
            <a:ext cx="914400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حدد المسار الدقيق للكفاءات التي تندرج في مرجع معلومات وفق مراحل المستويات الت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اول : يناسب اكتساب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ني :  يناسب القدرة على الاستخدام الجزئي لكفاءات المفرد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ثالث :  يناسب القدرة على الاستخدام الكلي للكفاءات بطريقة مستق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ستوى الرابع :  يناسب الخبرة الحقيق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التسلسل الهرمي للكفاءا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35120"/>
            <a:ext cx="914400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نشاطات المفضل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طلوبة للعمل البسيط,و الأساسية لوحدة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تسلسل تبعا للفاعلية في العم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كثر نفعا للحصول على النتائج وهي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استراتيجية: الأكثر أهمية للفاعلية و الأد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ثانوية: الأقل أهمية من سابقتها, لكنها هامة وه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استثنائية: لا تنفذ غالبا و تعرقل عملنا اذا لم نكتسب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الثانوية الروتينية: التي لا تعرقل العمل , و يمكن استعمالها ببساط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كفاءات المتنوعة : التي تعد أقل أهمية , ولا تعرقل العمل و تستخدم في حالات قليل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4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500"/>
                            </p:stCondLst>
                            <p:childTnLst>
                              <p:par>
                                <p:cTn id="5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500"/>
                            </p:stCondLst>
                            <p:childTnLst>
                              <p:par>
                                <p:cTn id="5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1-2-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الأهداف العامة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كيفية اقتطاف أفضل فائدة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ارف الحالية ، وكيفية توليد كفاءات جديدة انطلاقاً من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ل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قدرات الفردية الحال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أهداف الخاص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اعتراف وحماية المعرفة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المعارف والكفاءات في المؤسسة التي توجد خارج جدران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علم كيفية تحسين الذاكرة العمليات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 يعرف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اذا ،أين ، ومتى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عتراف جماعات تقاسم الممارسات بنجاح المؤسسة وتشجيع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المعارف الضرورية لتطوير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المعارف والكفاءات الموجود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سين إمكانية الدخول إلى تلك المعارف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3-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قاربات إدارة المعرفة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ازلة ( الاستراتيجية أو إدارة أرباب العمل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هي تتكون من تحليل النشاطات في المؤسسة في عشرة أبعاد 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سار التعاوني                   - قياس الاداء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تدريب                              - الشبكة الموزعة التي تتعلم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حالة التسويق                       - المنتجات والخد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ختراق السوق                     - نظم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صورة المؤسسة                   - القيادة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بهدف تصور وتطبيق وتنشيط تدفق شامل للمعارف، وتكون التغييرات المقترحة جذر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5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مقاربة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الصاعدة (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لإشرافية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/ التطبيقية)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ولدت من تجربة تنمية الحلول بغية حل المشكلات المعقدة ، مستخدمة منهجيات وتقنيات معالجة المعلومات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هي تتالف من البدء بتحليل حالة ما ، واستخدام نظام مؤتمت داعم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يتم تحليل تلك المشكلة في سياقها الاجمالي بهدف تحديد ما هي المعطيات ، والمعلومات والمعارف المطلوب استخدامها ، وأين وجدت، وكيف ، ومن قبل من تستخدم وسط المؤسسة ، وباية نشاطات لامتلاك صورة متكاملة عن تدفق المعارف المولد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r">
              <a:lnSpc>
                <a:spcPct val="8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3600" spc="-1" strike="noStrike">
                <a:solidFill>
                  <a:srgbClr val="000000"/>
                </a:solidFill>
                <a:latin typeface="Times New Roman"/>
              </a:rPr>
              <a:t>1-4-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لماذا الاهتمام بإدارة المعرف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نتائج المأمول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: تضمن إدارة المعرفة نجاح مب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درات عديدة وسط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علمة ودعم شبكات المعارف وجماعات تقاسم الممارس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قياس المقارن والرصد التنافس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حديد هوية رأس المال الفكري ( براءات الاختراع ، والعلامات التجارية ،والشهرة ،....)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عادة تشكيل الكفاءات الحيو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ناهج التنظيم الذي يتعلم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خلق قواعد معطيات حركية تستخلص فائدة حقيقية من المعلومات والمعارف في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طوير مراكز الكفاءات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ستخدام مراكز عمل ضرورية لخلق والحفاظ على إدارة المعرفة ( الخبراء ،الوسطاء ،الوثائقيون ، ...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Y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إدخال التقانات الجديدة للمعلومات والاتصالات لتشجيع التعاون (الانترنيت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1-5- </a:t>
            </a:r>
            <a:r>
              <a:rPr b="1" lang="ar-SY" sz="4000" spc="-1" strike="noStrike">
                <a:solidFill>
                  <a:srgbClr val="000000"/>
                </a:solidFill>
                <a:latin typeface="Times New Roman"/>
              </a:rPr>
              <a:t>محاور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 إدارة المعرف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تحدد إدارة المعرفة وتدعم سبعة محاور نجاح في المؤسس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وهي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معارف المؤسسة الكائنة في أدمغة الزبائن.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وجودة في المنتجات والخدم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بشرية وسط المؤسسة (رأس المال البشري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4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المحتواة في مسار العمليات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5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ذاكرة التنظيمية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6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ين الأشخا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7- 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معارف باعتبارها موجودات غير مادية (معنوية )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0T09:40:37Z</dcterms:created>
  <dc:creator>naser</dc:creator>
  <dc:description/>
  <dc:language>en-US</dc:language>
  <cp:lastModifiedBy>*</cp:lastModifiedBy>
  <dcterms:modified xsi:type="dcterms:W3CDTF">2004-05-11T05:37:17Z</dcterms:modified>
  <cp:revision>313</cp:revision>
  <dc:subject/>
  <dc:title>الدور الجديد لإدارة الموارد البشرية في تطوير مؤسساتنا</dc:title>
</cp:coreProperties>
</file>