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92900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DBD-5960-4CE9-AE2C-7490B17F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BC6-0D5D-4CFF-AF43-A16D516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512-A766-43CC-9819-7AB4C6C5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12A-8BD9-44CE-AC82-7FC373AE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4D5-0201-4E6D-899E-D5CD427A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B70-F6CB-45F4-B4EA-021A44C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290-EDF0-4A27-A94A-BC0C876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756-C27A-45CF-8C4A-02B71A87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2E1-FE9A-4E14-AEFC-0F5C511A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9EE-1A8A-41D8-ADA0-7C9FB54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71C-17C3-49CB-80A8-211D108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CD1-9741-4BA4-A914-4EEC145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6088-B070-44B5-BF82-0F77928E66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280" y="345960"/>
            <a:ext cx="86378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دارة المعرف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إلى إدارة الكفاءات في المؤسسات</a:t>
            </a:r>
            <a:br>
              <a:rPr sz="4000"/>
            </a:br>
            <a:r>
              <a:rPr b="1" lang="ar-SY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المنهجية والآل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3440" y="3504960"/>
            <a:ext cx="76150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 . د.محمد مرعي مرع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عميد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عهد العالي للتنمية الادا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معة دمش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</a:rPr>
              <a:t>1-6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ثو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ن المفيد موضعة ثورة المعرفة قياساً إلى سابقاتها في اللوحة التي تظهر بعض الاتجاه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68560"/>
          <a:ext cx="9144000" cy="568908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ح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تجاه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تبوي/ الهر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ل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قط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مط 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س ال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ثر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/ الأم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/ الغذ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خيرات/ الحما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باد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 الم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ثروة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ل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أس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ال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الك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ئد أ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هليات 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ق الكب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ة الصغ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شير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زيع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راع بالإدا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ظيم ، تخفيض الكلفة ، الاستثم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زيادة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</a:t>
                      </a: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إ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، التحف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بادرة ، المخاط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طة الجس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آل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 متطو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قا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تمتة، أمث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قييس، 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رق تنفي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الواقع نتساءل عن الثورة في إدارة المعرفة ويتمثل التحدي بجعل المعارف في متناول اليد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بزيادة مردو ديتها كما تعرض اللوحة الت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479600"/>
          <a:ext cx="9144000" cy="5378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علاق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فك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هات المع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ات الممار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ش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ظف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اقات تعا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ضاء المشارك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اعدة معطيات المعارف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يئة الت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دفق 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نيو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مال 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7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إدراكي /المعرف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 يستطيع أي منا ،فردياً أو جماعياً .جمع كم هائل من المعلومات المحيطة به،نحن نبحث عن بعض الأجزاء الصغيرة من المعلومات الثمينة القابلة للفهم . يعرض الأشخاص والمؤسسات بشكل خرائط ،بيئة المعلومات كل على طريق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كتساب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التقاط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خلق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في تلك البيئات ،نحن نقر ، ثم نجمع أجزاء المعلومات الأكثر أهمية  .تلك المرحلة تدخل عادات البحث الفردية أو ال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ة التي توضع المعلومات الموجهة لتصبح طريقة عمل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الإطار / توفير الشروط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توفر بعض أشكال الدعم لتحديد إطار لتلك المعلومات ،البريد الالكتروني ،الصوت ، الوسائط المتعددة ،..... تكمن المشكلة الرئيسية بدقة المعنى الذي يستخلصه الآخرو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420840"/>
            <a:ext cx="843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خزي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خزن الأشخاص والمؤسسات المعلومات في نظام ذاكرتهم بأنماط مختلفة . ينطلق ذلك من المخ البشري إلى القرص الصلب ،وذاكرة التصنيف ، والمكت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طبيق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مشارك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نق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عترف إدارة المعارف ضمنياً بالطابع الاجتماعي للمعلومات ، وتبدأ إدارة المعرفة أيضاً من تأكيد الفكرة التي تتعلق قيمة المعرفة بالأعمال التي تولد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بتكار – التطوير –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لا أن تتطور المعارف لتبقى في مرحلة مع التغييرات التي تمس البيئة التي تندرج فيها ، وفي المخاطر ، وإلا ،سيتم فقد القيمة . يتطلب ذلك ،برامج بحث – تطوير قائمة على التجربة في السوق ،ومسارات ابتكار وإبداع توسع الآفاق العق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دارة المعرفة :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سملة وتقاسم المعارف : المناهج والأدو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كتساب المصطلحات ومعرفة مفاهيم إدارة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منهجيات والأدوات العملي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ال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والمشروعات الفرعية ،والمهام الجديدة للأقسا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ون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قاربة الشام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ات الجديدة في التنظيم ( المؤسسة )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سملة المعارف والممارسات و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ور التوجيهية لمسار إدارة المعارف : ذاكرة التنظيم ،التقانات في خدمة التنظيم،خلق القيمة في مسار العمل من خلال انبثاق واستثمار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فاهيم الرئيسية في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سس العملياتية ل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إدارة المعلومات (الوثائق ، نظم الأرشفة ) إلى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عالم المناهج والنماذج المستخدمة في المؤس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الحيوية ،وتحليل الموارد الداخلية والخارجية عبر السيطرة على مسار الاكتساب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مثلة دورة حياة المعلومات : من الإنتاج إلى الاستثما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عمالات تقانات المعلومات و الاتصال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نات المعلومات و الاتصالات والحلول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ار مشروع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يل جماعات العمل ، وتحديد الأفعال ،والموارد والتهدي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الاتصالات : تحريك الفاعلين في الأقسام / المؤسس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مرافقة التغيير وتطور التنظي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،والمشروعات الفرعية ،والمهام الجديدة في القس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حديث المنهجي للمحتوى تبعاً للتطورات التقان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محتويات : التعزيز ،الرسملة ،النجاح ،الجريان ،المشاركة ،تثمين المعارف والكفاءات الضمنية والظاهرة الضرورية لاتخاذ القرارات والأعمال اليومية ....والتي تخلق القي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خدام نظام يشجع التطوير وتقاسم المعارف الج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دوات يمكن تطبيقها مباش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طاقات عمل فنية حول إدارة المعرف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عداد قائمة فحص تقييم ذاتي عملية عن التنظي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شبكة مقارنة عن الحلول التقنية :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ييم وظيفي وم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منتقاة للمراجع المنهجية والوثائق ومواقع مرجع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بادئ توجيهية لمسار مشروع في ميدان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4400" spc="-1" strike="noStrike">
                <a:solidFill>
                  <a:srgbClr val="000000"/>
                </a:solidFill>
                <a:latin typeface="Times New Roman"/>
              </a:rPr>
              <a:t>1-9-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خلق المعرف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ن نظرية خلق المعرفة التي طورها (توناكا ) و( تاكوشي) ،تعتبر أن الوظيفة الأولى للمؤسسة تتمثل بخلق مزايا تنافسية قائمة على المعرفة الجماعي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 دور المديرين يتمثل بتوجيه نشاطات خلق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قوم أنموذج خلق المعارف على التمييز بين 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غير المرمز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المرمزة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ون المعرف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متجذرة في العمل ،و الروتين . في السياق الخاص (الأمر الذي يعطي الإنتاجية الشخصية في المستوى الفردي والمزايا التنافسية في مستوى المؤسس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تتمثل المعرفة المعلنة بالمعرفة المرمزة ، القابلة للنقل بلغة رسمية ومنهجية ( انتاج المعطيات على المستوى الفردي ، والإدارة الالكترونية الوثائقية على مستوى المؤسسة ) في مستوى أكثر ارتفاعا ( التنظيم الذي يتعلم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مؤسسة ما ، يتدخل خلق المعرفة في ثلاثة مستويات ، وتفيد في أربع طرق تحويل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على المستوى الفردي : الاستقلالية من أجل التج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جموعة : التفاعل والحو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ؤسسة : المنافسة للدخول إلى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المو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ق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ويل عبر التنشئة التربوية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سم مكان العمل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التلمذ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إلى المعرفة المعلنة ( الاستعارات ، المفاهيم ، الفرضيات ، النماذج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جميع : المعارف المعلنة ( إدارة الكترونية وثائقية ،و شبكات المعرف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ضمين الداخلي : من المعرفة المعلنة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10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هارات المدير التسع ل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30240"/>
            <a:ext cx="9144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دث بشكل مختلف وممارسة الصم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ن ترك الآخرين يتحدثون يعلمنا بسرعة أن الناس لديهم شيء يقولونه حتى بالنسبة للأشياء التي لا يسيطرون عليها ،ولا يعرفون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معرفة شخص آخر ،وقيادته إلى التحدث بحرية والتسليم له إلى الحد الأقصى ، يجب ملاحظة سلوكه : الاتجاه الحيا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 ، الملاحظة ، الحفظ بالذاك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هل علينا معرفة وفهم ما يقوله الآخرون ، تخفيض آلة التفسير لدينا التي تقودنا عموما إلى سماع ليس ما يقوله الآخرون بل الاعتقاد بما يقولونه ، عدم التأويلات ،وممارسة الإصغاء على المدى القصي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لاحظة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صعب من الإصغاء ،وتتطلب شبكة تغطي ملاحظة الإشارات ، الايماءات ،تعابير الوجه ، حركات الجسد 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ظة العناصر المطلوب ملاحظتها ،ملاحظة المحادثة بالوقت نفس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حفظ بالذاك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الاعتقاد بسوء التذكر مشكلة تقود إلى صعوبة الاحتفاظ بالذاكرة :ممارسة الحفظ بالذاكرة للنصوص القصيرة ،مناهج تسمح بزيادة النتائ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أولا -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إدارة المعرف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ا هي بالضبط إدارة المعرفة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 أين تكمن التجارب الحقيقية  لها في المؤسس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ماذا نتكلم عن هذا الموضوع و بشكل خاص اليوم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يقول البعض بأن الموضوع قديم قدم العالم ،  لكن لماذا لم نتكلم عنه إلا منذ عشر سنو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ليل اللهجة والسلو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تطلب كل معرفة تصنيف ،وكل تصنيف شبكة تحل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تعلم ما هي العناصر المناسبة للهجة : الكلمات ،الموضوعات ،الجمل ،والاعتراف بمؤشرات اللهجة الموجودة في كل خطاب :درجة تجريد اللهجة ،طبيعة الهد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ويات الثلاثة لتحليل لهجة ما : الكلمات (التعابير ) ،الموضوعات (الموضوعاتية ) ،الجمل ( التركيبات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طرائق الأربع للموضوع حول المحور المجرد الملموس : النظري ،الممارسة ،المثال ،المحاكا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نيون باللغة : المرسل ،الرسالة ، المستقبل ، لغة العلاقة ولغة المحتوى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ح المشكلات والأهداف بعبارات محسوس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فترض كل تغيير علاقاتي ،الذي يخص ذاتنا أو الآخرين وصفاً جيداً ،من جهة الوضع الحالي الذي نريد تغييره ،ومن جهة أخرى الهدف أو الحالة الجديدة التي نريد خلق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مذجة التفاعلات مع الشركاء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علاقة ما : أداة دعم في الوصف والنمذجة :شبكة وضع علاقات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نمذجة العلاقات :فئات المحتو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النمذجة : الحركات الرئيسية البلاغية المستخدمة في الاتص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الوضع المأم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ناء استراتيجيات التغي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جد دوماً عدة طرق للذهاب من حالة غير مرضية نحوحالة مأمولة وبالوقت نفسه توجد عموما عدة طرق بغية الوصول إلى قمة الجبل . يجب التنبؤ بإمكانات عديدة للسير وحلول بديل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نف الاستراتيجيات في الخطوط الكبي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على الاستراتيجية الجيد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لمعالج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شكلة هامة (مشكلة مؤلمة أو الكائنة من وقت طويل ) أن تتضمن مراحل ع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نها سياسة الخطوات الصغيرة ، نحدد الأهداف الوسيطة ،الأقل طموحاً للوصول في نهاية السباق إلى الهدف النهائ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زيادة التنوع في سلوكي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أغلبية أفعالنا اليومية التي تخص طريقة عاداتنا والذهاب إلى المكتب ،والدخول في علاقات مع أمثالنا ،نتجه إلى التصرف بطريقة نمطية ،بعمل الشيء نفسه في الظروف نفس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ذا نلاحظ ؟ في عدد من الحالات المحسوسة الملفتة ،لدينا جواب واح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إذا ما أردنا السيطرة على علاقاتنا مع الآخرين يجب أن نمتلك تنوعاً مطلوباًًُ أعلى من شركائنا ،ويجب امتلاك الكثير من التنوع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تبر التنوع الضعيف مثل الضعف الخط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معالم التن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الأوضاع الأكثر تواتراً – تحديد معالم برمجتنا السلوك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رف منذ زمن طويل أنه في حالات النزاع ،يمتلك الشخص الأكثر هدوءاً بين المتحاورين كل الفرص في الربح ، يكفي البحث عن الهدوء للوصول بسرعة إلى حالة الارتياح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لاحظ أن شخصاً هادئ يحفظ بسهولة رؤية ”موضوعية ” عن الحالة ،إن ممارسة الانفصال تساعد في الحصول على الهدوء في حالات حرجة في حيات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يد معالم الحالات التي يصعب علينا التخلي عنها – 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غيير سلوكيات شركائ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فهم أنه لا يمكن تغيير العلاقة دون التغيير المتزامن معها للشركاء : تغيير النفس ، تغيير العلاقة مع الآخر ، تغيير 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دأ التغيير بالنفس ثم ب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طبق المبادئ نفسها : تعرف ، حلل ، غ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آخر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ستويات الثلاثة للمعرفة : معرفة الخريطة : الخريطة الذهنية ، معرفة اللغة ، معرفة السلوك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ليل بنية الخريطة الذهنية ، تحليل اللغة ، تحليل السلوكيات ، تحديد معالم            ملائمة،  وفك الارتباط بين تلك التحليلات الثلاث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نيات تغيير اللغة   ، التقنيات السلوك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1-11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صانع المعرفة في المجتمع والمؤسس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منتج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كز البحث والتطوير في الجامعات ، المصانع ، المراكز المستقلة ، الحدائق التكنولوجية ، تشرف عليه مؤسسات مثل : تعليم عالي ، صناعة ، علم وتكنولوجيا ، تنمية إدارة ، تخطيط ،ـ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ناقل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جامعات ، والمعاهد ، والمدارس ،ودور النشر ، وسائل الاتصالات ، الأعلام ، شبكات البث ، الانترنيت ، تشرف عليه مؤسسات مثل : تعليم عالي ،تربية إعلام ، ثقافة ، مواصلات ، صناعة ،صحة ، تموين ، تنمية إدارة ، تخطيط ، علوم وتكنولوجيا ، مقابلات ،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خازن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تبات ، بنوك المعلومات ، المتاحف والآثار ، الاتحادات المهنية ، الذاكرة       العادات والتقاليد ،الأعراف ،.تشرف عليه مؤسسات مثل : الثقافة ، الإعلام ،الاجتماعية ، البلديات ، الاتحادات ، النقابات ، القطاع الخاص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ثانيا 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دارة المعرفة إلى إدارة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- العبور من المعرفة إلى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عبر الشخص العامل المراحل التالية في عمل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*  مرحلة الاستكشاف(التحري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شف الشخص العمل,و المهام ,و النشاطات,و السياق الذي يعمل ف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مرين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سب فيها الشخص كفاءات أساسية ضرورية لشغل وظيفة أو مهنة,ولم يتمكن من السيطرة عليها بع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سيطرة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ستطيع ان يواجه الشخص متطلبات عمله بكفاءة و باستقلا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جديد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ذا كان الشخص يمتلك الكفاءات ,و الطاقات الازمة,فهو يستطيع اتخاذ المبادرات الجديدة , ويجدد و يقترح التغييرات في الاجراء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روتين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ود الشخص بسرعة الى حالة الركود و الاحب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راحل الخمس لاشغال الوظي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77724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957240" y="6171840"/>
            <a:ext cx="71294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01080" y="1442880"/>
            <a:ext cx="0" cy="468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5415120"/>
            <a:ext cx="1671480" cy="75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4486320"/>
            <a:ext cx="2643120" cy="9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71880" y="2571840"/>
            <a:ext cx="390060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1600200"/>
            <a:ext cx="4375440" cy="100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2440" y="107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21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دة الزم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2614680"/>
            <a:ext cx="9860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روت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 الاحبا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700280"/>
            <a:ext cx="6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00320" y="6372000"/>
            <a:ext cx="312876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557080" y="6543720"/>
            <a:ext cx="361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6343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043840" y="6172200"/>
            <a:ext cx="428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6186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172200" y="6214680"/>
            <a:ext cx="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8720" y="6114600"/>
            <a:ext cx="140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414440" y="61437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63151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ترة الاستثم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638640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فترة المردو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0160" y="64152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نهاية الد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44000">
            <a:off x="1544760" y="1998360"/>
            <a:ext cx="6815160" cy="3733920"/>
          </a:xfrm>
          <a:custGeom>
            <a:avLst/>
            <a:gdLst/>
            <a:ahLst/>
            <a:rect l="l" t="t" r="r" b="b"/>
            <a:pathLst>
              <a:path w="4056" h="2202">
                <a:moveTo>
                  <a:pt x="4056" y="2202"/>
                </a:moveTo>
                <a:cubicBezTo>
                  <a:pt x="2908" y="1278"/>
                  <a:pt x="1761" y="354"/>
                  <a:pt x="1113" y="177"/>
                </a:cubicBezTo>
                <a:cubicBezTo>
                  <a:pt x="465" y="0"/>
                  <a:pt x="336" y="971"/>
                  <a:pt x="168" y="1140"/>
                </a:cubicBezTo>
                <a:cubicBezTo>
                  <a:pt x="0" y="1309"/>
                  <a:pt x="52" y="1251"/>
                  <a:pt x="105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8520" y="1386000"/>
            <a:ext cx="1602000" cy="728640"/>
          </a:xfrm>
          <a:custGeom>
            <a:avLst/>
            <a:gdLst/>
            <a:ahLst/>
            <a:rect l="l" t="t" r="r" b="b"/>
            <a:pathLst>
              <a:path w="1009" h="459">
                <a:moveTo>
                  <a:pt x="1009" y="459"/>
                </a:moveTo>
                <a:cubicBezTo>
                  <a:pt x="658" y="447"/>
                  <a:pt x="308" y="436"/>
                  <a:pt x="154" y="360"/>
                </a:cubicBezTo>
                <a:cubicBezTo>
                  <a:pt x="0" y="284"/>
                  <a:pt x="91" y="60"/>
                  <a:pt x="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9880" y="831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ظيفة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8760" y="272268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سيطر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5520" y="1749600"/>
            <a:ext cx="33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جد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8800" y="4592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مر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560" y="546588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ستكش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1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فهو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ظهر مفهوم إدارة المعرفة في ميادين متعددة منها " الذكاء الصنعي ، وإدارة الابتكار ، والتسويق ، والتصميم ، وإدارة الكفاءات ،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دريب ، وغير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ولد المفهوم من تجارب عملية تبحث عن تنظيم الم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غية تعظيم الربح ، وتحسين الصورة ، واختراق الاسواق ، والرصد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نولوجي ، والتصميم ، وإرضاء الزبون ، وأمثلة إدارة الموارد البشرية ، والبحث وتقاسم المعلومات ، والمشاركة في التجارب ، وبناء نظم مساعدة في اتخاذ القر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شكل تلك المعارف ، ثروة المؤسسة ،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حد مكتسبات العناصر البشرية ، ويمكن نمذجتها وحفظها في الحواسيب أو في الوثائ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ستدعي عرض المراحل استخلاص فكرتين هما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 هي تكاليف الأداء الضعيف للأشخاص الكثيرين,الذين هم منذ سنوات في مرحلة الروتين و الاحباط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هي تكاليف حالة الأشخاص في المواقف الصعبة, الذين يواجهون تطورا أو تغييرا تنظيميا او تقانيا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اقع مستوى التنمية البشرية في العالم العر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رض تقرير برنامج الأمم المتحدة الإنمائي لعام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مستوى التنمية البشرية في العالم  ، في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رتفعة ( بينها من الدول العرب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بحرين ، الكويت ، الإمارات ، قط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ق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توسطة ( منها سوريا ، لبنان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التقانة ( تصنيعها ، وتوظيفها ، وتسويقها ، واستثمارها 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،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نها إسرائ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المحتمل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اليز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نشط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منها عربية ( مصر ، تونس ، سوريا ، الجزائر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مهمش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أخر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2-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رير الح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ول اسم الإنسان في العمل من العامل /الفرد إلى اسم المورد ال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ابق المختصون على تعظيم قيمة الإنسان في عمل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طلق عليه الاقتصاديون اسم (رأس المال البشر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ماه المحاسبون(الأصول البش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حدده علماء الإدارة (رأس المال المعرف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فرزت مرحلة الثورة الصناعية في القرن العشرين طبقة من المديرين لتنفيذ العملية الإدار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غيرت ثورة المعلومات والاتصالات في بداية القرن الحادي والعشرين نهج العمل وأصبح التركيز على الإبداع والتعامل مع المتغيرات المستمرة ، وأصبحت الإدارة تواكب إدارة عمليات التغيير للوصول إلى إدارة الجودة الشاملة يقودها إداريون متميز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منظمات الأمس إلى مؤسسات لها أهداف واضحة ومحددة ، وبنية شبكية مرنة ، وتدار بأسلوب المشر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القيادة الإدارية إلى قيادة استراتيجية ، تنتقل من التطوير إلى التحسين المستمر بل إلى الإدارة الوقائية التطوري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جاوز التدريب إجراء الدورات التدريبية ، ومنح شهادات الحضور ، وأصبح خيارا” استراتيجيا” في منظومة استثمار الموارد البشرية وتنمي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م اعتماد أسلوب الجدارة في إدارة الموارد البشرية ، وأسقط على التدريب للوصول إلى مخرجات عالية المستوى ، تتسم بخصائص الجدارة التي تجمع بين ( الدوافع ، الصفات ، التوجهات الذاتية ، المعرفة ، المهارة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4080" y="0"/>
            <a:ext cx="8899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عتمد تكريس اسلوب الجدارة على طرائق تدريبية عالية المستوى تهدف إلى تحقيق : ( تعليم التفوق ، تعليم الاكتشاف ، التدريب على التعامل مع الآخرين ، والعمل القانوني ، هندسة التغيي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خلص برنامج الأمم المتحدة للتعليم المهني عام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إلى أربعة محاور تخص التدريب ه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بتكار الطرق والأساليب لتحسين نظام التعليم الفني والمهني ( تطوير شخصية  الفرد وقدراته)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- مد جسور التعليم للجميع ( منح الفرص لكل شخص وفي كافة المستو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صلاح العملية التعليمية لتوافق نظام التعليم والحياة ( مهارة التحليل واستثمار المعلومات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 - تحديد أدوار الجهات المساهمة في التعليم والتدريب لتشمل القطاعين العا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خاص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440" y="2700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ادارة الكفاءات في مراكز العمل,الوظائف,المه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فهوم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ديث ذو اشكالية قديمة:مرتبط بالسيطرة على العمل و تنفيذه بشكل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 يستقر بعد,وهو العنصر المركزي في البعد النوعي لادارة الموارد البشرية,و مادة لمناقش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رر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ظ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وره:حل محل مفهوم التأهيل الجامد و الجماعي بينما الكفاءات أداة غنية مرنة نافعة للادارة الفردية و الجماعية على السو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عمل:تقابل المعارف,و المهارات , و السلوكيات الضرورية للتحرك بغية التمكن من الانجاز الصحيح للمهام و النشاطات في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شخص:تقابل المعارف و المهارات و السلوكيات التي يمتلكها فعليا,و يكون قادرا على تنفيذها في حالة الحاجة لها و حسن ادار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9600"/>
            <a:ext cx="91440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مكونات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المعارف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معارف العامة و الخصوصية حول موضوع محدد التي يتم اكتسابها عبر الأنظمة التربوية التقليدية مثل المحاضرات,و التقارير,و المؤتم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هارات: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سيطرة عللى جميع التقنيات و المناهج و الأدوات,أي المهارات اليدوية و الادراكية و الاجتماعية,التي يتم اكتسابها عبر الممارسة الواقعية او المحاكاة او دراسة الحالات و التما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سلوكيات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سيطرة الاتجاهات السلوكية التي يتم اكتسابها مثل المهارات و تتطلب مواقف تربوية تسهل وعيا لدى المتدرب بأهمية السلوكيات في عمله و السيطرة على السلوك في ميدان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37600"/>
            <a:ext cx="9144000" cy="66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صارع العناصر المكونة لنمط الكفاءات الذي يشكل مرجع معلومات الكفاءات مث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ضرورية للوصول الى انجاز صحيح للمهام و النشاطات و الاعمال ال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م واقع المجتمع الحالي بزيادة منتظمة لحصة الخدمات قياسا الى الان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ل السلوكيات فئة من الكفاءات الهامشية أكثر من غيرها على الرغم من اهمي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كن اكتساب كفاءات السلوكيات الجديدة عبر ممارسات التدريب الفعا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إسقاطات تصنيف الكفاءات و ممارستها في العم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عامة/ الشمولية:تناسب وظيفة / مهنة ما و تفيد أعمال عديدة(استخدام مناهج عم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هنية:خاصة بمهنة محددة(استخدام منهجية تدريب الموظفي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خاصة:مختصة ببنية محددة و لا توجد في غيرها(معرفة اجراءات ادارة الصيانة في الابن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صفوفة الكفاءات و ممارست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690480"/>
          <a:ext cx="8364600" cy="6002280"/>
        </p:xfrm>
        <a:graphic>
          <a:graphicData uri="http://schemas.openxmlformats.org/drawingml/2006/table">
            <a:tbl>
              <a:tblPr/>
              <a:tblGrid>
                <a:gridCol w="2187720"/>
                <a:gridCol w="1658880"/>
                <a:gridCol w="1788840"/>
                <a:gridCol w="1339920"/>
                <a:gridCol w="1389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خصو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مه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عامة الشم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الاجراءات المتعلقة بادارة مطالبات الزب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لتحليل الم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دارة الجودة الشا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جراءات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لادارة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طريقة ادارة الجو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ه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اجراءات تصنيف الطلبات الخاصة بالخد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تقنيات التدقيق المحاس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منهجيات حل المش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واتية الادراكية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لبية الطلبيات في اطار تعاون كا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فاعل بايجاب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قدرة على الاصغاء للآ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دقة في اعداد تقرير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لاقات الخارج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الشخ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5240" y="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ير عمل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هوم حزمة الكفاء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ير الكفاءة المعرفية وحدها,بل تشترك مع غيرها لتسهيل انجاز المهام و العمليات بشكل صحيح. مثل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معرفة: معرفة قانون ال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مهارة: تنفيذ تقنيات قيادة السي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السلوكيات: الحذر ,اليقظة,احترام حقوق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الكفاءات ليس مستقرا عبر الزم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يكون رأسمال كفاءات الشخص ثابتا, بل يخضع للتعديل و التطوير باستمرار(اكتساب معارف جديدة,مهارات حديثة, سلوكيات ايجابية) خلال ممارسة العمل و خوض غمار 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ائما“   يتم هجر كفاءات أخرى أو نسيانها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8160" y="0"/>
            <a:ext cx="8745480" cy="62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عريف 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عرف بأنها نظام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يحوي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بادرات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ناهج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دوات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وجهة لخلق تدفق مثالي للمعارف بغية تحقيق نجاح المؤسسة  وشركائها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4400" y="2038320"/>
            <a:ext cx="4151160" cy="292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2600" y="23684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3405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26733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4440" y="30495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000" y="22273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8520" y="3535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3320" y="2789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4520" y="2446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2040" y="40226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9320" y="40543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5880" y="31417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43290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6880" y="35226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4040" y="25812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44276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4920" y="3905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3084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217476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8240" y="292752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429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92120" y="1170000"/>
            <a:ext cx="55548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0960" y="1336320"/>
            <a:ext cx="135000" cy="21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86080" y="1217520"/>
            <a:ext cx="436320" cy="171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02080" y="1147680"/>
            <a:ext cx="2968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86120" y="713880"/>
            <a:ext cx="8114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49600" y="762120"/>
            <a:ext cx="7632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1520" y="794880"/>
            <a:ext cx="43524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80000" y="1127160"/>
            <a:ext cx="93024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92640" y="1114560"/>
            <a:ext cx="479520" cy="15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3720" y="1161720"/>
            <a:ext cx="11880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554040"/>
            <a:ext cx="1573200" cy="509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615960"/>
            <a:ext cx="1573560" cy="509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3320" y="249120"/>
            <a:ext cx="1573200" cy="509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21000" y="38466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8400" y="2768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9960" y="40892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313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301608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79040" y="4062240"/>
            <a:ext cx="175284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14040" y="4541760"/>
            <a:ext cx="197820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02360" y="4331880"/>
            <a:ext cx="134784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95800" y="4122360"/>
            <a:ext cx="1454400" cy="14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2640" y="367812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1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350028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02360" y="3478320"/>
            <a:ext cx="191772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3222720"/>
            <a:ext cx="2249640" cy="12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46195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9200" y="3722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32080" y="36511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33680" y="3072960"/>
            <a:ext cx="11095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88680" y="3222720"/>
            <a:ext cx="85428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4796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خروج من  المخزن(رأس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4632480"/>
            <a:ext cx="14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قدان الكف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1000" y="3878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كتساب كفاءات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0800" y="2608200"/>
            <a:ext cx="16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56440" y="289260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دخول الى المخزن(رأسما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120" y="49626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مخزون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70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عض الكفاءات الضرورية اليوم قد تصبح غير مفيدة في الغد بفضل التطورات الحاصلة في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طرائق اكتساب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هنية: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تمهن):هناك مسلكان لاكتساب كفاءات المهن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بر النظام التربوي التعليمي ,أو التدريب ال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 عبر التجارب الشخصية , الخبرات المأخوذة من الغير (كفاءات تجريب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م حصر الكفاءات المكتسبة في العمل في (مرجع معلومات الكفاءات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ينما يتم احصاء الكفاءات المملوكة للأشخاص في( حقيبة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4080" y="2710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كفاءات الجم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013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كون من ثلاثة عناصر أساسية ه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ليات  الأعضاء في الفريق على العمل جما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متلاك مفردات مشتركة تستخدم في العم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لتكاملية بين الأعضاء خلال ممارسة الفريق عم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مرجع معلومات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25040"/>
            <a:ext cx="9144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بين وصف أوضاع العمل و مرجع معلوماتها من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و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صي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وضاع العمل(مراكز العمل,الوظائف,المهنة,عائلة المه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نطلاق لاعداد مرجع معلومات الكفاء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مستوى كل نش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ثل النشاط ما نفعله, وما يجب علينا فعله في مركز العمل ,الوظيفة,المهن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طلب كل نشاط كفاء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وحة تحديد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4400" y="4167360"/>
          <a:ext cx="6116400" cy="2587320"/>
        </p:xfrm>
        <a:graphic>
          <a:graphicData uri="http://schemas.openxmlformats.org/drawingml/2006/table">
            <a:tbl>
              <a:tblPr/>
              <a:tblGrid>
                <a:gridCol w="1438200"/>
                <a:gridCol w="1619280"/>
                <a:gridCol w="1484280"/>
                <a:gridCol w="157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نشاط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ياغة مرجع معلومات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حدد المسار الدقيق للكفاءات التي تندرج في مرجع معلومات وفق مراحل المستويات الت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اول : يناسب اكتساب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ني :  يناسب القدرة على الاستخدام الجزئي لكفاءات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لث :  يناسب القدرة على الاستخدام الكلي للكفاءات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رابع :  يناسب الخبرة الحقيق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سلسل الهرمي ل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نشاطات المفض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طلوبة للعمل البسيط,و الأساسية لوحدة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فاعلية في العم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كثر نفعا للحصول على النتائج وهي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ستراتيجية: الأكثر أهمية للفاعلية و الأد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ثانوية: الأقل أهمية من سابقتها, لكنها هامة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استثنائية: لا تنفذ غالبا و تعرقل عملنا اذا لم نكتسب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روتينية: التي لا تعرقل العمل , و يمكن استعمالها ببسا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تنوعة : التي تعد أقل أهمية , ولا تعرقل العمل و تستخدم في حالات قلي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1-2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أهداف العام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ية اقتطاف أفضل فائدة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ارف الحالية ، وكيفية توليد كفاءات جديدة انطلاقاً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رات الفردية الح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 الخاص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عتراف وحماية المعرفة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والكفاءات في المؤسسة التي توجد خارج جدران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لم كيفية تحسين الذاكرة العمليات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يعرف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اذا ،أين ، ومت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عتراف جماعات تقاسم الممارسات بنجاح المؤسسة وتشجيع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المعارف الضرورية لتطوير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المعارف والكفاءات الموجود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سين إمكانية الدخول إلى تلك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3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اربات إدا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ازلة ( الاستراتيجية أو إدارة أرباب العمل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ي تتكون من تحليل النشاطات في المؤسسة في عشرة أبعاد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تعاوني                   - قياس الاداء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تدريب                              - الشبكة الموزعة التي ت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حالة التسويق                       - المنتجات والخد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ختراق السوق                     - نظم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ورة المؤسسة                   - القيا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دف تصور وتطبيق وتنشيط تدفق شامل للمعارف، وتكون التغييرات المقترحة جذر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قاربة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الصاعدة 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إشرافي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 التطبيقية)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لدت من تجربة تنمية الحلول بغية حل المشكلات المعقدة ، مستخدمة منهجيات وتقنيات معالجة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هي تتالف من البدء بتحليل حالة ما ، واستخدام نظام مؤتمت داع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م تحليل تلك المشكلة في سياقها الاجمالي بهدف تحديد ما هي المعطيات ، والمعلومات والمعارف المطلوب استخدامها ، وأين وجدت، وكيف ، ومن قبل من تستخدم وسط المؤسسة ، وباية نشاطات لامتلاك صورة متكاملة عن تدفق المعارف المول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الاهتمام بإدارة المعر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تائج المأمو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تضمن إدارة المعرفة نجاح مب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رات عديدة وسط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لمة ودعم شبكات المعارف وجماعات تقاسم الممار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ياس المقارن والرصد التنافس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هوية رأس المال الفكري ( براءات الاختراع ، والعلامات التجارية ،والشهرة ،....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عادة تشكيل الكفاءات الحيو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اهج التنظيم الذي يتع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قواعد معطيات حركية تستخلص فائدة حقيقية من المعلومات والمعارف في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مراكز 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خدام مراكز عمل ضرورية لخلق والحفاظ على إدارة المعرفة ( الخبراء ،الوسطاء ،الوثائقيون ، 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دخال التقانات الجديدة للمعلومات والاتصالات لتشجيع التعاون (الانترني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5-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محا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د إدارة المعرفة وتدعم سبعة محاور نجاح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عارف المؤسسة الكائنة في أدمغة الزبائن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وجودة في المنتجات والخدم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بشرية وسط المؤسسة (رأس المال البشري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حتواة في مسار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ذاكرة التنظيم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ين الأ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اعتبارها موجودات غير مادية (معنوي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9:40:37Z</dcterms:created>
  <dc:creator>naser</dc:creator>
  <dc:description/>
  <dc:language>en-US</dc:language>
  <cp:lastModifiedBy>*</cp:lastModifiedBy>
  <dcterms:modified xsi:type="dcterms:W3CDTF">2004-05-11T05:37:17Z</dcterms:modified>
  <cp:revision>313</cp:revision>
  <dc:subject/>
  <dc:title>الدور الجديد لإدارة الموارد البشرية في تطوير مؤسساتنا</dc:title>
</cp:coreProperties>
</file>