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692900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AE9E-9D5A-4491-904D-4C851795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5DCC-92B3-443F-8A03-02E6C290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0580-FD55-42D4-82E1-49469EAB5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9132-C74D-44F3-BAF8-839894B1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F765-6EE6-4815-A829-B290CDF8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DC2C-AB5A-4343-B060-052D9F54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5D8E-B754-4B2A-ACA9-05173372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5132-D782-40DA-A637-6AF385B4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AA7E-6A9A-4E5D-AFB7-E847B271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75A7-FB9D-4BCA-AEE9-752005E5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F2AE-6970-4950-860A-A3E7CFC0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A7FC-E73F-47B6-A702-216C467E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F9B0-76BD-4B2D-B97C-7A42B18221A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3280" y="345960"/>
            <a:ext cx="8637840" cy="18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من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إدارة المعرفة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إلى إدارة الكفاءات في المؤسسات</a:t>
            </a:r>
            <a:br>
              <a:rPr sz="4000"/>
            </a:br>
            <a:r>
              <a:rPr b="1" lang="ar-SY" sz="32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(المنهجية والآليات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93440" y="3504960"/>
            <a:ext cx="761508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أ . د.محمد مرعي مرعي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عميد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معهد العالي للتنمية الادار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جامعة دمش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Y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Y" sz="3600" spc="-1" strike="noStrike">
                <a:solidFill>
                  <a:srgbClr val="000000"/>
                </a:solidFill>
                <a:latin typeface="Times New Roman"/>
              </a:rPr>
              <a:t>1-6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ثورة المعرف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ن المفيد موضعة ثورة المعرفة قياساً إلى سابقاتها في اللوحة التي تظهر بعض الاتجاه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1168560"/>
          <a:ext cx="9144000" cy="5689080"/>
        </p:xfrm>
        <a:graphic>
          <a:graphicData uri="http://schemas.openxmlformats.org/drawingml/2006/table">
            <a:tbl>
              <a:tblPr/>
              <a:tblGrid>
                <a:gridCol w="2286000"/>
                <a:gridCol w="2287440"/>
                <a:gridCol w="2284560"/>
                <a:gridCol w="228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عصر الحال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عصر الث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عصر الاو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اتجاه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رتبوي/ الهرم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لك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اقطاع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نمط التنظي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اس الما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عم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ار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صدر الثرو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واهب/ الأموا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عمل/ الغذا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خيرات/ الحما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تبادل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واهب المال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ثروة الشخص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ولاد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صدر السلط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رأسمال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ال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سي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الك السلط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قياد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ائد أعما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هليات المدي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فرق الكبير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جموعة الصغير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عشير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وزيع السلط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صراع بالإدار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تنظيم ، تخفيض الكلفة ، الاستثما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عار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زيادة السلط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</a:t>
                      </a:r>
                      <a:r>
                        <a:rPr b="1" lang="ar-SY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لإ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ارة، التحفي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بادرة ، المخاطر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سلطة الجسد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واه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آلات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دوات متطور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دو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تقان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تمتة، أمثل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قييس، تنظي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طرق تنفي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في الواقع نتساءل عن الثورة في إدارة المعرفة ويتمثل التحدي بجعل المعارف في متناول اليد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وبزيادة مردو ديتها كما تعرض اللوحة التال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1479600"/>
          <a:ext cx="9144000" cy="53780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إدارة العلاق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إدارة المعرف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أس المال الفكر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جهات المعن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جموعات الممارس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حقيبة المعرف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أس المال البشر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وظفو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اقات تعاو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ضاء المشارك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ؤسسات الافتراض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قاعدة معطيات المعارف</a:t>
                      </a: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يئة التعل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دفق المعار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أس المال البنيو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ؤسس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جموعات الافتراض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حقيبة المعرف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أس مال الزبائ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زبائ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1-7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مسار الإدراكي /المعرفي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لا يستطيع أي منا ،فردياً أو جماعياً .جمع كم هائل من المعلومات المحيطة به،نحن نبحث عن بعض الأجزاء الصغيرة من المعلومات الثمينة القابلة للفهم . يعرض الأشخاص والمؤسسات بشكل خرائط ،بيئة المعلومات كل على طريقته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اكتساب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الالتقاط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الخلق :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في تلك البيئات ،نحن نقر ، ثم نجمع أجزاء المعلومات الأكثر أهمية  .تلك المرحلة تدخل عادات البحث الفردية أو ال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م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ؤسس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ة التي توضع المعلومات الموجهة لتصبح طريقة عملن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حديد الإطار / توفير الشروط :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تتوفر بعض أشكال الدعم لتحديد إطار لتلك المعلومات ،البريد الالكتروني ،الصوت ، الوسائط المتعددة ،..... تكمن المشكلة الرئيسية بدقة المعنى الذي يستخلصه الآخرون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1040" y="420840"/>
            <a:ext cx="843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9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تخزين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خزن الأشخاص والمؤسسات المعلومات في نظام ذاكرتهم بأنماط مختلفة . ينطلق ذلك من المخ البشري إلى القرص الصلب ،وذاكرة التصنيف ، والمكتب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تطبيق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المشاركة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النق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عترف إدارة المعارف ضمنياً بالطابع الاجتماعي للمعلومات ، وتبدأ إدارة المعرفة أيضاً من تأكيد الفكرة التي تتعلق قيمة المعرفة بالأعمال التي تولده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ابتكار – التطوير – التحوي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جب لا أن تتطور المعارف لتبقى في مرحلة مع التغييرات التي تمس البيئة التي تندرج فيها ، وفي المخاطر ، وإلا ،سيتم فقد القيمة . يتطلب ذلك ،برامج بحث – تطوير قائمة على التجربة في السوق ،ومسارات ابتكار وإبداع توسع الآفاق العقلي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1-8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إدارة المعرفة :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رسملة وتقاسم المعارف : المناهج والأدو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أهداف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كتساب المصطلحات ومعرفة مفاهيم إدارة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عرفة المنهجيات والأدوات العمليات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شف عن الممارسات وتنظيمه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ديد محاور التحسين والمشروعات الفرعية ،والمهام الجديدة للأقسام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2 –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مكون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مقاربة الشامل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غييرات الجديدة في التنظيم ( المؤسسة )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رسملة المعارف والممارسات والكفاء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محاور التوجيهية لمسار إدارة المعارف : ذاكرة التنظيم ،التقانات في خدمة التنظيم،خلق القيمة في مسار العمل من خلال انبثاق واستثمار المعارف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مفاهيم الرئيسية في إدارة المعرف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أسس العملياتية لإدارة المعرف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ن إدارة المعلومات (الوثائق ، نظم الأرشفة ) إلى إدارة المعرف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ديد معالم المناهج والنماذج المستخدمة في المؤسس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ديد المعارف الحيوية ،وتحليل الموارد الداخلية والخارجية عبر السيطرة على مسار الاكتساب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مثلة دورة حياة المعلومات : من الإنتاج إلى الاستثمار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ستعمالات تقانات المعلومات و الاتصال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انات المعلومات و الاتصالات والحلول في المؤسس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سار مشروع إدارة المعرف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شف عن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مارسات وتنظيمه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شكيل جماعات العمل ، وتحديد الأفعال ،والموارد والتهديد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عمال الاتصالات : تحريك الفاعلين في الأقسام / المؤسسة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عمال مرافقة التغيير وتطور التنظيم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ديد محاور التحسين ،والمشروعات الفرعية ،والمهام الجديدة في القسم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تحديث المنهجي للمحتوى تبعاً للتطورات التقاني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إدارة المحتويات : التعزيز ،الرسملة ،النجاح ،الجريان ،المشاركة ،تثمين المعارف والكفاءات الضمنية والظاهرة الضرورية لاتخاذ القرارات والأعمال اليومية ....والتي تخلق القيم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ستخدام نظام يشجع التطوير وتقاسم المعارف الجديد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3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أدوات يمكن تطبيقها مباشر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بطاقات عمل فنية حول إدارة المعرف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إعداد قائمة فحص تقييم ذاتي عملية عن التنظيم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شبكة مقارنة عن الحلول التقنية :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قييم وظيفي ومال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لائحة منتقاة للمراجع المنهجية والوثائق ومواقع مرجعي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بادئ توجيهية لمسار مشروع في ميدان إدارة المعرفة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Y" sz="4400" spc="-1" strike="noStrike">
                <a:solidFill>
                  <a:srgbClr val="000000"/>
                </a:solidFill>
                <a:latin typeface="Times New Roman"/>
              </a:rPr>
              <a:t>1-9- 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خلق المعرفة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إن نظرية خلق المعرفة التي طورها (توناكا ) و( تاكوشي) ،تعتبر أن الوظيفة الأولى للمؤسسة تتمثل بخلق مزايا تنافسية قائمة على المعرفة الجماعية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أن دور المديرين يتمثل بتوجيه نشاطات خلق المعرف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قوم أنموذج خلق المعارف على التمييز بين المعرفة 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المضم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غير المرمزة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والمعرفة 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المعلن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( المرمزة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كون المعرفة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المضمر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 متجذرة في العمل ،و الروتين . في السياق الخاص (الأمر الذي يعطي الإنتاجية الشخصية في المستوى الفردي والمزايا التنافسية في مستوى المؤسسة 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وتتمثل المعرفة المعلنة بالمعرفة المرمزة ، القابلة للنقل بلغة رسمية ومنهجية ( انتاج المعطيات على المستوى الفردي ، والإدارة الالكترونية الوثائقية على مستوى المؤسسة ) في مستوى أكثر ارتفاعا ( التنظيم الذي يتعلم 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في مؤسسة ما ، يتدخل خلق المعرفة في ثلاثة مستويات ، وتفيد في أربع طرق تحويل هي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ستوي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: على المستوى الفردي : الاستقلالية من أجل التجري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لى مستوى المجموعة : التفاعل والحو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لى مستوى المؤسسة : المنافسة للدخول إلى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الموار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طرق التحوي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حويل عبر التنشئة التربوية : من المعرفة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لمضمر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إلى المعرفة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لمعلن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اسم مكان العمل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والتلمذ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قاطع : من المعرفة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لمضمر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إلى المعرفة المعلنة ( الاستعارات ، المفاهيم ، الفرضيات ، النماذج 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جميع : المعارف المعلنة ( إدارة الكترونية وثائقية ،و شبكات المعرفة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ضمين الداخلي : من المعرفة المعلنة إلى المعرفة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لمضمر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04880" y="-360"/>
            <a:ext cx="77724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1-10-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مهارات المدير التسع لإدارة المعرف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930240"/>
            <a:ext cx="9144000" cy="59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حدث بشكل مختلف وممارسة الصم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إن ترك الآخرين يتحدثون يعلمنا بسرعة أن الناس لديهم شيء يقولونه حتى بالنسبة للأشياء التي لا يسيطرون عليها ،ولا يعرفونه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لمعرفة شخص آخر ،وقيادته إلى التحدث بحرية والتسليم له إلى الحد الأقصى ، يجب ملاحظة سلوكه : الاتجاه الحياد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2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إصغاء ، الملاحظة ، الحفظ بالذاكر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إصغاء</a:t>
            </a:r>
            <a:r>
              <a:rPr b="1" lang="ar-SY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يسهل علينا معرفة وفهم ما يقوله الآخرون ، تخفيض آلة التفسير لدينا التي تقودنا عموما إلى سماع ليس ما يقوله الآخرون بل الاعتقاد بما يقولونه ، عدم التأويلات ،وممارسة الإصغاء على المدى القصير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ملاحظة 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أصعب من الإصغاء ،وتتطلب شبكة تغطي ملاحظة الإشارات ، الايماءات ،تعابير الوجه ، حركات الجسد </a:t>
            </a:r>
            <a:r>
              <a:rPr b="1" lang="ar-SY" sz="24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ملاحظة العناصر المطلوب ملاحظتها ،ملاحظة المحادثة بالوقت نفسه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حفظ بالذاكر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:الاعتقاد بسوء التذكر مشكلة تقود إلى صعوبة الاحتفاظ بالذاكرة :ممارسة الحفظ بالذاكرة للنصوص القصيرة ،مناهج تسمح بزيادة النتائج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4400" spc="-1" strike="noStrike">
                <a:solidFill>
                  <a:srgbClr val="000000"/>
                </a:solidFill>
                <a:latin typeface="Times New Roman"/>
              </a:rPr>
              <a:t>أولا -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إدارة المعرف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ما هي بالضبط إدارة المعرفة ؟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و أين تكمن التجارب الحقيقية  لها في المؤسسات 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ماذا نتكلم عن هذا الموضوع و بشكل خاص اليوم ؟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يقول البعض بأن الموضوع قديم قدم العالم ،  لكن لماذا لم نتكلم عنه إلا منذ عشر سنوات 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3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حليل اللهجة والسلوك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تطلب كل معرفة تصنيف ،وكل تصنيف شبكة تحلي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جب تعلم ما هي العناصر المناسبة للهجة : الكلمات ،الموضوعات ،الجمل ،والاعتراف بمؤشرات اللهجة الموجودة في كل خطاب :درجة تجريد اللهجة ،طبيعة الهدف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سويات الثلاثة لتحليل لهجة ما : الكلمات (التعابير ) ،الموضوعات (الموضوعاتية ) ،الجمل ( التركيبات 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طرائق الأربع للموضوع حول المحور المجرد الملموس : النظري ،الممارسة ،المثال ،المحاكا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عنيون باللغة : المرسل ،الرسالة ، المستقبل ، لغة العلاقة ولغة المحتوى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4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طرح المشكلات والأهداف بعبارات محسوس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فترض كل تغيير علاقاتي ،الذي يخص ذاتنا أو الآخرين وصفاً جيداً ،من جهة الوضع الحالي الذي نريد تغييره ،ومن جهة أخرى الهدف أو الحالة الجديدة التي نريد خلقه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5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نمذجة التفاعلات مع الشركاء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نمذجة علاقة ما : أداة دعم في الوصف والنمذجة :شبكة وضع علاقاتي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داة دعم نمذجة العلاقات :فئات المحتوى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داة دعم النمذجة : الحركات الرئيسية البلاغية المستخدمة في الاتصا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نمذجة الوضع المأمو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6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بناء استراتيجيات التغيير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وجد دوماً عدة طرق للذهاب من حالة غير مرضية نحوحالة مأمولة وبالوقت نفسه توجد عموما عدة طرق بغية الوصول إلى قمة الجبل . يجب التنبؤ بإمكانات عديدة للسير وحلول بديل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صنف الاستراتيجيات في الخطوط الكبير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جب على الاستراتيجية الجيدة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لمعالج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مشكلة هامة (مشكلة مؤلمة أو الكائنة من وقت طويل ) أن تتضمن مراحل عديد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إنها سياسة الخطوات الصغيرة ، نحدد الأهداف الوسيطة ،الأقل طموحاً للوصول في نهاية السباق إلى الهدف النهائ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7-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زيادة التنوع في سلوكياتنا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في أغلبية أفعالنا اليومية التي تخص طريقة عاداتنا والذهاب إلى المكتب ،والدخول في علاقات مع أمثالنا ،نتجه إلى التصرف بطريقة نمطية ،بعمل الشيء نفسه في الظروف نفسه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اذا نلاحظ ؟ في عدد من الحالات المحسوسة الملفتة ،لدينا جواب واحد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وإذا ما أردنا السيطرة على علاقاتنا مع الآخرين يجب أن نمتلك تنوعاً مطلوباًًُ أعلى من شركائنا ،ويجب امتلاك الكثير من التنوع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نعتبر التنوع الضعيف مثل الضعف الخطير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حديد معالم التنوعات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لائحة الأوضاع الأكثر تواتراً – تحديد معالم برمجتنا السلوكي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8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ممارسة الانفصا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نعرف منذ زمن طويل أنه في حالات النزاع ،يمتلك الشخص الأكثر هدوءاً بين المتحاورين كل الفرص في الربح ، يكفي البحث عن الهدوء للوصول بسرعة إلى حالة الارتياح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نلاحظ أن شخصاً هادئ يحفظ بسهولة رؤية ”موضوعية ” عن الحالة ،إن ممارسة الانفصال تساعد في الحصول على الهدوء في حالات حرجة في حياتن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انفصا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حديد معالم الحالات التي يصعب علينا التخلي عنها – ممارسة الانفصا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9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غيير سلوكيات شركائن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نفهم أنه لا يمكن تغيير العلاقة دون التغيير المتزامن معها للشركاء : تغيير النفس ، تغيير العلاقة مع الآخر ، تغيير الآخر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بدأ التغيير بالنفس ثم بالآخر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نطبق المبادئ نفسها : تعرف ، حلل ، غير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عرفة الآخري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مستويات الثلاثة للمعرفة : معرفة الخريطة : الخريطة الذهنية ، معرفة اللغة ، معرفة السلوكي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حلي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ليل بنية الخريطة الذهنية ، تحليل اللغة ، تحليل السلوكيات ، تحديد معالم            ملائمة،  وفك الارتباط بين تلك التحليلات الثلاث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غيير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نيات تغيير اللغة   ، التقنيات السلوك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ar-SY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Times New Roman"/>
              </a:rPr>
              <a:t>1-11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صانع المعرفة في المجتمع والمؤسسات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قطاع المنتج للمعرفة (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% 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راكز البحث والتطوير في الجامعات ، المصانع ، المراكز المستقلة ، الحدائق التكنولوجية ، تشرف عليه مؤسسات مثل : تعليم عالي ، صناعة ، علم وتكنولوجيا ، تنمية إدارة ، تخطيط ،ـ قطاع خاص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قطاع الناقل للمعرفة (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جامعات ، والمعاهد ، والمدارس ،ودور النشر ، وسائل الاتصالات ، الأعلام ، شبكات البث ، الانترنيت ، تشرف عليه مؤسسات مثل : تعليم عالي ،تربية إعلام ، ثقافة ، مواصلات ، صناعة ،صحة ، تموين ، تنمية إدارة ، تخطيط ، علوم وتكنولوجيا ، مقابلات ، قطاع خاص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قطاع الخازن للمعرفة (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% 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مكتبات ، بنوك المعلومات ، المتاحف والآثار ، الاتحادات المهنية ، الذاكرة       العادات والتقاليد ،الأعراف ،.تشرف عليه مؤسسات مثل : الثقافة ، الإعلام ،الاجتماعية ، البلديات ، الاتحادات ، النقابات ، القطاع الخاص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ثانيا -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من إدارة المعرفة إلى إدارة الكفاء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2-1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- العبور من المعرفة إلى الكفاء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يعبر الشخص العامل المراحل التالية في عمله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*  مرحلة الاستكشاف(التحري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: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كتشف الشخص العمل,و المهام ,و النشاطات,و السياق الذي يعمل في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مرحلة التمرين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كتسب فيها الشخص كفاءات أساسية ضرورية لشغل وظيفة أو مهنة,ولم يتمكن من السيطرة عليها بع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مرحلة السيطرة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ستطيع ان يواجه الشخص متطلبات عمله بكفاءة و باستقلال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مرحلة التجديد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ذا كان الشخص يمتلك الكفاءات ,و الطاقات الازمة,فهو يستطيع اتخاذ المبادرات الجديدة , ويجدد و يقترح التغييرات في الاجراءا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مرحلة الروتين 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ود الشخص بسرعة الى حالة الركود و الاحبا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مراحل الخمس لاشغال الوظيف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3040" y="1447920"/>
            <a:ext cx="7772400" cy="51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957240" y="6171840"/>
            <a:ext cx="7129440" cy="2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8101080" y="1442880"/>
            <a:ext cx="0" cy="468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43760" y="5415120"/>
            <a:ext cx="1671480" cy="757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14920" y="4486320"/>
            <a:ext cx="2643120" cy="92880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71880" y="2571840"/>
            <a:ext cx="3900600" cy="18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14400" y="1600200"/>
            <a:ext cx="4375440" cy="1000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72440" y="1071720"/>
            <a:ext cx="11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لاد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0160" y="5672160"/>
            <a:ext cx="140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مدة الزمن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57280" y="2614680"/>
            <a:ext cx="986040" cy="2514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روتين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و الاحبا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72400" y="1700280"/>
            <a:ext cx="62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900320" y="6372000"/>
            <a:ext cx="3128760" cy="1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2557080" y="6543720"/>
            <a:ext cx="361476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371600" y="6343560"/>
            <a:ext cx="120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8043840" y="6172200"/>
            <a:ext cx="4284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943520" y="618660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6172200" y="6214680"/>
            <a:ext cx="144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2628720" y="6114600"/>
            <a:ext cx="1404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414440" y="614376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0480" y="6315120"/>
            <a:ext cx="24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فترة الاستثم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14600" y="6386400"/>
            <a:ext cx="154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فترة المردو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00160" y="6415200"/>
            <a:ext cx="13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نهاية الدو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444000">
            <a:off x="1544760" y="1998360"/>
            <a:ext cx="6815160" cy="3733920"/>
          </a:xfrm>
          <a:custGeom>
            <a:avLst/>
            <a:gdLst/>
            <a:ahLst/>
            <a:rect l="l" t="t" r="r" b="b"/>
            <a:pathLst>
              <a:path w="4056" h="2202">
                <a:moveTo>
                  <a:pt x="4056" y="2202"/>
                </a:moveTo>
                <a:cubicBezTo>
                  <a:pt x="2908" y="1278"/>
                  <a:pt x="1761" y="354"/>
                  <a:pt x="1113" y="177"/>
                </a:cubicBezTo>
                <a:cubicBezTo>
                  <a:pt x="465" y="0"/>
                  <a:pt x="336" y="971"/>
                  <a:pt x="168" y="1140"/>
                </a:cubicBezTo>
                <a:cubicBezTo>
                  <a:pt x="0" y="1309"/>
                  <a:pt x="52" y="1251"/>
                  <a:pt x="105" y="119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8520" y="1386000"/>
            <a:ext cx="1602000" cy="728640"/>
          </a:xfrm>
          <a:custGeom>
            <a:avLst/>
            <a:gdLst/>
            <a:ahLst/>
            <a:rect l="l" t="t" r="r" b="b"/>
            <a:pathLst>
              <a:path w="1009" h="459">
                <a:moveTo>
                  <a:pt x="1009" y="459"/>
                </a:moveTo>
                <a:cubicBezTo>
                  <a:pt x="658" y="447"/>
                  <a:pt x="308" y="436"/>
                  <a:pt x="154" y="360"/>
                </a:cubicBezTo>
                <a:cubicBezTo>
                  <a:pt x="0" y="284"/>
                  <a:pt x="91" y="60"/>
                  <a:pt x="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29880" y="83196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وظيفة جدي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98760" y="2722680"/>
            <a:ext cx="30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سيطر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25520" y="1749600"/>
            <a:ext cx="33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تجدي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68800" y="459252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تمر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81560" y="5465880"/>
            <a:ext cx="153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استكشا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50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500"/>
                            </p:stCondLst>
                            <p:childTnLst>
                              <p:par>
                                <p:cTn id="1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9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1-1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مفهوم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ظهر مفهوم إدارة المعرفة في ميادين متعددة منها " الذكاء الصنعي ، وإدارة الابتكار ، والتسويق ، والتصميم ، وإدارة الكفاءات ،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و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لتدريب ، وغيره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وولد المفهوم من تجارب عملية تبحث عن تنظيم المؤسس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ات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بغية تعظيم الربح ، وتحسين الصورة ، واختراق الاسواق ، والرصد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ا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كنولوجي ، والتصميم ، وإرضاء الزبون ، وأمثلة إدارة الموارد البشرية ، والبحث وتقاسم المعلومات ، والمشاركة في التجارب ، وبناء نظم مساعدة في اتخاذ القرار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شكل تلك المعارف ، ثروة المؤسسة ،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و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أحد مكتسبات العناصر البشرية ، ويمكن نمذجتها وحفظها في الحواسيب أو في الوثائق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يستدعي عرض المراحل استخلاص فكرتين هما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ا هي تكاليف الأداء الضعيف للأشخاص الكثيرين,الذين هم منذ سنوات في مرحلة الروتين و الاحباط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اهي تكاليف حالة الأشخاص في المواقف الصعبة, الذين يواجهون تطورا أو تغييرا تنظيميا او تقانيا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027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واقع مستوى التنمية البشرية في العالم العرب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786960"/>
            <a:ext cx="9144000" cy="60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يعرض تقرير برنامج الأمم المتحدة الإنمائي لعام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001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مؤشرات مستوى التنمية البشرية في العالم  ، فيه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-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دول ذات التنمية البشرية المرتفعة ( بينها من الدول العربية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(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بحرين ، الكويت ، الإمارات ، قطر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)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فقط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دول ذات التنمية البشرية المتوسطة ( منها سوريا ، لبنان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مؤشرات التقانة ( تصنيعها ، وتوظيفها ، وتسويقها ، واستثمارها )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دول القادة ، (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8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) دولة ، لا وجود للدول العربية ، منها إسرائي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دول القادة المحتملة (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8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) دولة ، لا وجود للدول العربية ، ماليزي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دول النشطة (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6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) دولة منها عربية ( مصر ، تونس ، سوريا ، الجزائر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دول المهمش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دول الأخرى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2-2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إدارة الكفاء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رير الحا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ول اسم الإنسان في العمل من العامل /الفرد إلى اسم المورد البشر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تسابق المختصون على تعظيم قيمة الإنسان في عمله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طلق عليه الاقتصاديون اسم (رأس المال البشري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سماه المحاسبون(الأصول البشري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حدده علماء الإدارة (رأس المال المعرفي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فرزت مرحلة الثورة الصناعية في القرن العشرين طبقة من المديرين لتنفيذ العملية الإدار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غيرت ثورة المعلومات والاتصالات في بداية القرن الحادي والعشرين نهج العمل وأصبح التركيز على الإبداع والتعامل مع المتغيرات المستمرة ، وأصبحت الإدارة تواكب إدارة عمليات التغيير للوصول إلى إدارة الجودة الشاملة يقودها إداريون متميزو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حولت منظمات الأمس إلى مؤسسات لها أهداف واضحة ومحددة ، وبنية شبكية مرنة ، وتدار بأسلوب المشروعات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حولت القيادة الإدارية إلى قيادة استراتيجية ، تنتقل من التطوير إلى التحسين المستمر بل إلى الإدارة الوقائية التطورية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جاوز التدريب إجراء الدورات التدريبية ، ومنح شهادات الحضور ، وأصبح خيارا” استراتيجيا” في منظومة استثمار الموارد البشرية وتنميتها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م اعتماد أسلوب الجدارة في إدارة الموارد البشرية ، وأسقط على التدريب للوصول إلى مخرجات عالية المستوى ، تتسم بخصائص الجدارة التي تجمع بين ( الدوافع ، الصفات ، التوجهات الذاتية ، المعرفة ، المهارة)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44080" y="0"/>
            <a:ext cx="88995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عتمد تكريس اسلوب الجدارة على طرائق تدريبية عالية المستوى تهدف إلى تحقيق : ( تعليم التفوق ، تعليم الاكتشاف ، التدريب على التعامل مع الآخرين ، والعمل القانوني ، هندسة التغيير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خلص برنامج الأمم المتحدة للتعليم المهني عام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1998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إلى أربعة محاور تخص التدريب ه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بتكار الطرق والأساليب لتحسين نظام التعليم الفني والمهني ( تطوير شخصية  الفرد وقدراته). 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   - مد جسور التعليم للجميع ( منح الفرص لكل شخص وفي كافة المستويات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إصلاح العملية التعليمية لتوافق نظام التعليم والحياة ( مهارة التحليل واستثمار المعلومات)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    - تحديد أدوار الجهات المساهمة في التعليم والتدريب لتشمل القطاعين العام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والخاص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6440" y="27000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2-3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ادارة الكفاءات في مراكز العمل,الوظائف,المهن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010880"/>
            <a:ext cx="9144000" cy="58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مفهوم الكفاءات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حديث ذو اشكالية قديمة:مرتبط بالسيطرة على العمل و تنفيذه بشكل صحي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م يستقر بعد,وهو العنصر المركزي في البعد النوعي لادارة الموارد البشرية,و مادة لمناقشات عديد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بررات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ظ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هوره:حل محل مفهوم التأهيل الجامد و الجماعي بينما الكفاءات أداة غنية مرنة نافعة للادارة الفردية و الجماعية على السواء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فئات الكفاءات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كفاءات العمل:تقابل المعارف,و المهارات , و السلوكيات الضرورية للتحرك بغية التمكن من الانجاز الصحيح للمهام و النشاطات في العمل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كفاءات الشخص:تقابل المعارف و المهارات و السلوكيات التي يمتلكها فعليا,و يكون قادرا على تنفيذها في حالة الحاجة لها و حسن ادارت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309600"/>
            <a:ext cx="9144000" cy="65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مكونات فئات الكفاءات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*المعارف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ابل المعارف العامة و الخصوصية حول موضوع محدد التي يتم اكتسابها عبر الأنظمة التربوية التقليدية مثل المحاضرات,و التقارير,و المؤتمرا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هارات: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ابل السيطرة عللى جميع التقنيات و المناهج و الأدوات,أي المهارات اليدوية و الادراكية و الاجتماعية,التي يتم اكتسابها عبر الممارسة الواقعية او المحاكاة او دراسة الحالات و التمار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سلوكيات: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ابل سيطرة الاتجاهات السلوكية التي يتم اكتسابها مثل المهارات و تتطلب مواقف تربوية تسهل وعيا لدى المتدرب بأهمية السلوكيات في عمله و السيطرة على السلوك في ميدان العمل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237600"/>
            <a:ext cx="9144000" cy="66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تصارع العناصر المكونة لنمط الكفاءات الذي يشكل مرجع معلومات الكفاءات مثل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ضرورية للوصول الى انجاز صحيح للمهام و النشاطات و الاعمال المح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تسم واقع المجتمع الحالي بزيادة منتظمة لحصة الخدمات قياسا الى الان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شكل السلوكيات فئة من الكفاءات الهامشية أكثر من غيرها على الرغم من اهميت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مكن اكتساب كفاءات السلوكيات الجديدة عبر ممارسات التدريب الفعال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إسقاطات تصنيف الكفاءات و ممارستها في العمل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العامة/ الشمولية:تناسب وظيفة / مهنة ما و تفيد أعمال عديدة(استخدام مناهج عمل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المهنية:خاصة بمهنة محددة(استخدام منهجية تدريب الموظفين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الخاصة:مختصة ببنية محددة و لا توجد في غيرها(معرفة اجراءات ادارة الصيانة في الابنية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50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06320" y="-36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2-4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مصفوفة الكفاءات و ممارست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7360" y="690480"/>
          <a:ext cx="8364600" cy="6002280"/>
        </p:xfrm>
        <a:graphic>
          <a:graphicData uri="http://schemas.openxmlformats.org/drawingml/2006/table">
            <a:tbl>
              <a:tblPr/>
              <a:tblGrid>
                <a:gridCol w="2187720"/>
                <a:gridCol w="1658880"/>
                <a:gridCol w="1788840"/>
                <a:gridCol w="1339920"/>
                <a:gridCol w="13892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كفاءات الخصوص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كفاءات المهن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كفاءات العامة الشمول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كفاء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عرفة الاجراءات المتعلقة بادارة مطالبات الزبائ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عرفة مبادىء التحليل المال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عرفة مبادىء ادارة الجودة الشامل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عرف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عار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هم اجراءات العم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هم الادارة المال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هم طريقة ادارة الجود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فه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ستخدام اجراءات تصنيف الطلبات الخاصة بالخدم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نفيذ تقنيات التدقيق المحاسب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نفيذ منهجيات حل المشكل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ادواتية الادراكية الاجتماع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هار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لبية الطلبيات في اطار تعاون كام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تفاعل بايجاب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قدرة على الاصغاء للآخري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دقة في اعداد تقرير العم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علاقات الخارج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الشخص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سلوكي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95240" y="0"/>
            <a:ext cx="77724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2-5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سير عمل الكفاء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050480"/>
            <a:ext cx="9144000" cy="58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فهوم حزمة الكفاءات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ا تسير الكفاءة المعرفية وحدها,بل تشترك مع غيرها لتسهيل انجاز المهام و العمليات بشكل صحيح. مثلا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        -معرفة: معرفة قانون السي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        - مهارة: تنفيذ تقنيات قيادة السيار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        - السلوكيات: الحذر ,اليقظة,احترام حقوق الآخرين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رأسمال الكفاءات ليس مستقرا عبر الزمن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لا يكون رأسمال كفاءات الشخص ثابتا, بل يخضع للتعديل و التطوير باستمرار(اكتساب معارف جديدة,مهارات حديثة, سلوكيات ايجابية) خلال ممارسة العمل و خوض غمار الحيا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دائما“   يتم هجر كفاءات أخرى أو نسيانها.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500"/>
                            </p:stCondLst>
                            <p:childTnLst>
                              <p:par>
                                <p:cTn id="3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8160" y="0"/>
            <a:ext cx="8745480" cy="626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تعريف إدارة المعرف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تعرف بأنها نظام </a:t>
            </a:r>
            <a:r>
              <a:rPr b="1" lang="ar-SY" sz="5400" spc="-1" strike="noStrike">
                <a:solidFill>
                  <a:srgbClr val="000000"/>
                </a:solidFill>
                <a:latin typeface="Times New Roman"/>
              </a:rPr>
              <a:t>يحوي ال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مبادرات و</a:t>
            </a:r>
            <a:r>
              <a:rPr b="1" lang="ar-SY" sz="5400" spc="-1" strike="noStrike">
                <a:solidFill>
                  <a:srgbClr val="000000"/>
                </a:solidFill>
                <a:latin typeface="Times New Roman"/>
              </a:rPr>
              <a:t>ال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مناهج و</a:t>
            </a:r>
            <a:r>
              <a:rPr b="1" lang="ar-SY" sz="5400" spc="-1" strike="noStrike">
                <a:solidFill>
                  <a:srgbClr val="000000"/>
                </a:solidFill>
                <a:latin typeface="Times New Roman"/>
              </a:rPr>
              <a:t> ال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أدوات </a:t>
            </a:r>
            <a:r>
              <a:rPr b="1" lang="ar-SY" sz="5400" spc="-1" strike="noStrike">
                <a:solidFill>
                  <a:srgbClr val="000000"/>
                </a:solidFill>
                <a:latin typeface="Times New Roman"/>
              </a:rPr>
              <a:t>ال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موجهة لخلق تدفق مثالي للمعارف بغية تحقيق نجاح المؤسسة  وشركائها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084400" y="2038320"/>
            <a:ext cx="4151160" cy="2924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22600" y="236844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16200" y="340524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49680" y="267336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54440" y="304956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1000" y="222732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78520" y="353520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43320" y="2789280"/>
            <a:ext cx="23940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24520" y="244620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72040" y="402264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59320" y="405432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95880" y="314172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03640" y="432900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46880" y="3522600"/>
            <a:ext cx="23940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04040" y="2581200"/>
            <a:ext cx="23940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2400" y="442764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14920" y="3905280"/>
            <a:ext cx="23940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63760" y="330840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59280" y="217476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48240" y="2927520"/>
            <a:ext cx="23940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19440" y="442908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2292120" y="1170000"/>
            <a:ext cx="555480" cy="24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2280960" y="1336320"/>
            <a:ext cx="135000" cy="218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86080" y="1217520"/>
            <a:ext cx="436320" cy="171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602080" y="1147680"/>
            <a:ext cx="2968560" cy="185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786120" y="713880"/>
            <a:ext cx="811440" cy="178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549600" y="762120"/>
            <a:ext cx="76320" cy="176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3701520" y="794880"/>
            <a:ext cx="435240" cy="143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680000" y="1127160"/>
            <a:ext cx="930240" cy="13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92640" y="1114560"/>
            <a:ext cx="479520" cy="155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643720" y="1161720"/>
            <a:ext cx="118800" cy="172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02120" y="554040"/>
            <a:ext cx="1573200" cy="5097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نشاط 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87280" y="615960"/>
            <a:ext cx="1573560" cy="509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نشاط 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73320" y="249120"/>
            <a:ext cx="1573200" cy="509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نشاط 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21000" y="384660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08400" y="276876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79960" y="408924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48080" y="331308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95720" y="301608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679040" y="4062240"/>
            <a:ext cx="1752840" cy="600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814040" y="4541760"/>
            <a:ext cx="1978200" cy="239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202360" y="4331880"/>
            <a:ext cx="1347840" cy="195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095800" y="4122360"/>
            <a:ext cx="1454400" cy="149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62640" y="3678120"/>
            <a:ext cx="23940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91120" y="335124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14920" y="3500280"/>
            <a:ext cx="23940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202360" y="3478320"/>
            <a:ext cx="1917720" cy="239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51280" y="3222720"/>
            <a:ext cx="2249640" cy="120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29040" y="461952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89200" y="372276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32080" y="365112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1633680" y="3072960"/>
            <a:ext cx="110952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1588680" y="3222720"/>
            <a:ext cx="854280" cy="63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847960"/>
            <a:ext cx="18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خروج من  المخزن(رأسمال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5120" y="4632480"/>
            <a:ext cx="143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فقدان الكفاء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61000" y="3878280"/>
            <a:ext cx="13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كتساب كفاءات جدي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00800" y="2608200"/>
            <a:ext cx="161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56440" y="2892600"/>
            <a:ext cx="198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دخول الى المخزن(رأسمال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70120" y="4962600"/>
            <a:ext cx="623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رأسمال مخزون الكفاء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57704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بعض الكفاءات الضرورية اليوم قد تصبح غير مفيدة في الغد بفضل التطورات الحاصلة في البيئ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2-6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طرائق اكتساب الكفاء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185840"/>
            <a:ext cx="9144000" cy="56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مهنية:)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التمهن):هناك مسلكان لاكتساب كفاءات المهنة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  -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عبر النظام التربوي التعليمي ,أو التدريب المستم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  - عبر التجارب الشخصية , الخبرات المأخوذة من الغير (كفاءات تجريبي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يتم حصر الكفاءات المكتسبة في العمل في (مرجع معلومات الكفاءات)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بينما يتم احصاء الكفاءات المملوكة للأشخاص في( حقيبة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84080" y="271080"/>
            <a:ext cx="77724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الكفاءات الجم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01320"/>
            <a:ext cx="777240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r" rtl="1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تكون من ثلاثة عناصر أساسية هي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   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أهليات  الأعضاء في الفريق على العمل جماعيا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  - امتلاك مفردات مشتركة تستخدم في العمل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  - التكاملية بين الأعضاء خلال ممارسة الفريق عمل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04880" y="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2-7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إعداد مرجع معلومات الكفاء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725040"/>
            <a:ext cx="91440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قاطع بين وصف أوضاع العمل و مرجع معلوماتها من الكفاء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و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صيف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أوضاع العمل(مراكز العمل,الوظائف,المهنة,عائلة المهن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انطلاق لاعداد مرجع معلومات الكفاءات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م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مستوى كل نشا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مثل النشاط ما نفعله, وما يجب علينا فعله في مركز العمل ,الوظيفة,المهن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تطلب كل نشاط كفاءات عديد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وحة تحديد الكفاء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184400" y="4167360"/>
          <a:ext cx="6116400" cy="2587320"/>
        </p:xfrm>
        <a:graphic>
          <a:graphicData uri="http://schemas.openxmlformats.org/drawingml/2006/table">
            <a:tbl>
              <a:tblPr/>
              <a:tblGrid>
                <a:gridCol w="1438200"/>
                <a:gridCol w="1619280"/>
                <a:gridCol w="1484280"/>
                <a:gridCol w="1574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سلوكي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هار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عار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نشاط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500"/>
                            </p:stCondLst>
                            <p:childTnLst>
                              <p:par>
                                <p:cTn id="4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صياغة مرجع معلومات الكفاء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185840"/>
            <a:ext cx="9144000" cy="56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تحدد المسار الدقيق للكفاءات التي تندرج في مرجع معلومات وفق مراحل المستويات التالي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ستوى الاول : يناسب اكتساب المفرد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ستوى الثاني :  يناسب القدرة على الاستخدام الجزئي لكفاءات المفرد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ستوى الثالث :  يناسب القدرة على الاستخدام الكلي للكفاءات بطريقة مستق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ستوى الرابع :  يناسب الخبرة الحقيقي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500"/>
                            </p:stCondLst>
                            <p:childTnLst>
                              <p:par>
                                <p:cTn id="4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التسلسل الهرمي للكفاء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735120"/>
            <a:ext cx="914400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تسلسل تبعا للنشاطات المفضلة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المطلوبة للعمل البسيط,و الأساسية لوحدة العم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تسلسل تبعا للفاعلية في العمل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الاكثر نفعا للحصول على النتائج وهي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الاستراتيجية: الأكثر أهمية للفاعلية و الأدا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الثانوية: الأقل أهمية من سابقتها, لكنها هامة وهي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الثانوية الاستثنائية: لا تنفذ غالبا و تعرقل عملنا اذا لم نكتسب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الثانوية الروتينية: التي لا تعرقل العمل , و يمكن استعمالها ببساط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المتنوعة : التي تعد أقل أهمية , ولا تعرقل العمل و تستخدم في حالات قليل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500"/>
                            </p:stCondLst>
                            <p:childTnLst>
                              <p:par>
                                <p:cTn id="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000"/>
                            </p:stCondLst>
                            <p:childTnLst>
                              <p:par>
                                <p:cTn id="5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500"/>
                            </p:stCondLst>
                            <p:childTnLst>
                              <p:par>
                                <p:cTn id="5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1-2-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أهدا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الأهداف العامة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كيفية اقتطاف أفضل فائدة من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عارف الحالية ، وكيفية توليد كفاءات جديدة انطلاقاً من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قدرات الفردية الحال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أهداف الخاص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اعتراف وحماية المعرفة في المؤسس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ديد المعارف والكفاءات في المؤسسة التي توجد خارج جدران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علم كيفية تحسين الذاكرة العمليات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ن يعرف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اذا ،أين ، ومتى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عتراف جماعات تقاسم الممارسات بنجاح المؤسسة وتشجيعه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خلق المعارف الضرورية لتطوير المؤسس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طوير المعارف والكفاءات الموجود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سين إمكانية الدخول إلى تلك المعارف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1-3-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مقاربات إدارة المعرف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نازلة ( الاستراتيجية أو إدارة أرباب العمل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هي تتكون من تحليل النشاطات في المؤسسة في عشرة أبعاد هي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مسار التعاوني                   - قياس الاداء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تدريب                              - الشبكة الموزعة التي تتعلم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حالة التسويق                       - المنتجات والخدمات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ختراق السوق                     - نظم المعلومات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صورة المؤسسة                   - القيادة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بهدف تصور وتطبيق وتنشيط تدفق شامل للمعارف، وتكون التغييرات المقترحة جذري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مقاربة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الصاعدة (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إشرافية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/ التطبيقية)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ولدت من تجربة تنمية الحلول بغية حل المشكلات المعقدة ، مستخدمة منهجيات وتقنيات معالجة المعلومات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هي تتالف من البدء بتحليل حالة ما ، واستخدام نظام مؤتمت داعم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تم تحليل تلك المشكلة في سياقها الاجمالي بهدف تحديد ما هي المعطيات ، والمعلومات والمعارف المطلوب استخدامها ، وأين وجدت، وكيف ، ومن قبل من تستخدم وسط المؤسسة ، وباية نشاطات لامتلاك صورة متكاملة عن تدفق المعارف المولد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1-4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لماذا الاهتمام بإدارة المعرف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نتائج المأمول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: تضمن إدارة المعرفة نجاح مب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درات عديدة وسط المؤسس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علمة ودعم شبكات المعارف وجماعات تقاسم الممارس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قياس المقارن والرصد التنافسي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ديد هوية رأس المال الفكري ( براءات الاختراع ، والعلامات التجارية ،والشهرة ،....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إعادة تشكيل الكفاءات الحيو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ناهج التنظيم الذي يتعلم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خلق قواعد معطيات حركية تستخلص فائدة حقيقية من المعلومات والمعارف في المؤس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طوير مراكز الكفاء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ستخدام مراكز عمل ضرورية لخلق والحفاظ على إدارة المعرفة ( الخبراء ،الوسطاء ،الوثائقيون ، .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إدخال التقانات الجديدة للمعلومات والاتصالات لتشجيع التعاون (الانترنيت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1-5- </a:t>
            </a: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محاور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إدارة المعرف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حدد إدارة المعرفة وتدعم سبعة محاور نجاح في المؤسس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وهي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عارف المؤسسة الكائنة في أدمغة الزبائن.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2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عارف الموجودة في المنتجات والخدمات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3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عارف البشرية وسط المؤسسة (رأس المال البشري 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4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عارف المحتواة في مسار العمليات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5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ذاكرة التنظيمي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6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عارف بين الأشخا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7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عارف باعتبارها موجودات غير مادية (معنوية 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0T09:40:37Z</dcterms:created>
  <dc:creator>naser</dc:creator>
  <dc:description/>
  <dc:language>en-US</dc:language>
  <cp:lastModifiedBy>*</cp:lastModifiedBy>
  <dcterms:modified xsi:type="dcterms:W3CDTF">2004-05-11T05:37:17Z</dcterms:modified>
  <cp:revision>313</cp:revision>
  <dc:subject/>
  <dc:title>الدور الجديد لإدارة الموارد البشرية في تطوير مؤسساتنا</dc:title>
</cp:coreProperties>
</file>