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44E6-E809-439F-9085-8BA8CF515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082B-6012-4E91-912F-4F882BDA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FFA1-C224-4A3D-8FE1-48289E394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546D-FFF2-486B-AFE8-D32BDB106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6EF2-0F3A-4085-A955-6B85FF4A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CBA0-7FB6-4296-B7AD-3832411A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55AC-5275-4788-A6BE-BCC209E7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9B4D-6A96-4E3F-B571-B7AD6761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C393-1142-4C5D-B278-9D0273D4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11C9-13B3-424A-81CB-81ECBEF6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8E37-0AF5-4B40-BE2F-99E789A9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61C0-EF8F-470A-A73E-9F5D0916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6629-6045-4B6A-A507-B306DDF8D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155736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أثر تدريس العلوم باستخدام المنحى المنظومي المعرفي الشامل في اكتساب المفاهيم العلمية لدى طلبة الصف الرابع الأساس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د. سليمان أحمد القادر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قسم المناهج والتدري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كلية العلوم التربوية –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جامعة آل البي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فرق الأرد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lqadere@aabu.edu.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ميتا معرف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تتمثل بوعي المتعل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نظامه المعرف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نواتج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عمليا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من خلال مراقبته لعمليات تفكيره وتنظيمها وتقويهما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 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 تتضح أهمية مهارات التفكير الميتا معرفية في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طوير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علم الذاتي وتعلم كيف نتعل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وتشتمل الميتا معرفة على بعدين أساسين هم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عد موجه نحو الأداء , ويتصل بمتابعة أداء المهارة الفعلي , والمحافظة على المكان والتتابع , واكتشاف الأخطاء وتصحيحها وتنظيم العم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عد استراتيجي ويتضمن استخدام مهارة معينة في ظروف معينة مثل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ركيز الانتباه على ما هو مطلو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ربط التعلم الجديد بالسابق ذي العلاق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قياس صحة الاستراتيجية المناسب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ولذلك فإن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بعد الميتامعرفي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يمكن أن يساعد على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كتساب المفاهيم المختلف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بصورة وظيفية وذات معن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نمي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هارات التفكير العليا 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وزياد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عي الفرد لتفكيره و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لم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تزيد من قدرته على تطبيق ما تعلم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شف الأخطاء التي قد يقع فيها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طوير تفكيره , ليصبح فردا مستقلا في تفكير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مراحل النموذج المعرفي الشامل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شتمل النموذج المقترح  على ثلاث مراحل رئيسي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-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رحلة الانطلاق من البعد المعرف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تبدأ الممارسات التدريسية للمعلم بالبعد المعرفي لمحتوى التعلم كنقطة انطلاق، وقد تتمثل بتوجيه اهتمام طلبته لظاهرة علمية أو مفهوم علمي أو حادثة غريب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رحلة تقصي الظاهرة أو المفهوم ابستمولوجياً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يتم ذلك من خلال البحث ف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طبيعة ذلك المحتو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مدى دقته وصحت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انسجامه مع المنطق ومع الواقع العمل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الدعم التجريبي ل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اعتبارها من المعايير الابستمولوجية التي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ستخدمه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متعلم في أثناء تعلمه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رحلة التفكير الميتامعرفي للتعلم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يقوم فيها المعلم بتوجي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طلبته لوعي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مليات التفكير المتصلة بمحتوى التعل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بطرق بنائ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وعي مدى دقة الدعم التجريبي ل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أي يتم فيها وعي لما يحدث في المرحلتين السابقتين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يمكن توضيح ذلك بالشكل الآت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971640" y="333360"/>
            <a:ext cx="7272000" cy="5544720"/>
            <a:chOff x="971640" y="333360"/>
            <a:chExt cx="7272000" cy="5544720"/>
          </a:xfrm>
        </p:grpSpPr>
        <p:sp>
          <p:nvSpPr>
            <p:cNvPr id="70" name=""/>
            <p:cNvSpPr/>
            <p:nvPr/>
          </p:nvSpPr>
          <p:spPr>
            <a:xfrm>
              <a:off x="971640" y="3351600"/>
              <a:ext cx="2671560" cy="25264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بعد الميتامعرفي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وتشمل وعي الفرد لسلوكه وللعلم الذي يدرّسه ، أي وعي التفكير المتصل بالمعرفة ونظرية الم</a:t>
              </a:r>
              <a:r>
                <a:rPr b="1" lang="ar-JO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ع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رفة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23160" y="333360"/>
              <a:ext cx="2453400" cy="23799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بعد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معرف</a:t>
              </a:r>
              <a:r>
                <a:rPr b="1" lang="ar-JO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ي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وتشمل محتوى العلم وعملياته وطرق بنائه وشروط تطبيق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76560" y="3139200"/>
              <a:ext cx="2467080" cy="25041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1" lang="ar-JO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بعد الابستمولوجي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وتشمل سلوك المعلم في التحقق من دقة ممارساته التدريسية والعلم الذي يدرسة وحدود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طبيق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67600" y="2416680"/>
              <a:ext cx="920160" cy="9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29520" y="4650480"/>
              <a:ext cx="214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913480" y="2500920"/>
              <a:ext cx="817560" cy="9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يمكن تبسيط هذا النموذج بالشكل التالي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258920" y="1112760"/>
            <a:ext cx="6121080" cy="4979880"/>
            <a:chOff x="1258920" y="1112760"/>
            <a:chExt cx="6121080" cy="4979880"/>
          </a:xfrm>
        </p:grpSpPr>
        <p:sp>
          <p:nvSpPr>
            <p:cNvPr id="78" name=""/>
            <p:cNvSpPr/>
            <p:nvPr/>
          </p:nvSpPr>
          <p:spPr>
            <a:xfrm>
              <a:off x="1258920" y="3823560"/>
              <a:ext cx="2248920" cy="22690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كيف تحققت من صحة معرفتك ومن طرق الوصول إليه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38200" y="1112760"/>
              <a:ext cx="2065320" cy="21376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ماذا تعلم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معرفة إجرائية أو</a:t>
              </a:r>
              <a:r>
                <a:rPr b="1" lang="ar-JO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قريرية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وشرط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303520" y="3632760"/>
              <a:ext cx="2076480" cy="224892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كيف توصلت إلى معرفت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59360" y="2983680"/>
              <a:ext cx="774360" cy="85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96320" y="4989960"/>
              <a:ext cx="180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2893680" y="3059280"/>
              <a:ext cx="688320" cy="85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زايا النموذج المقترح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نقل الممارسات التدريسية من الإلقاء والتلقين إلى الممارسات التي تؤكد على التفكير الحر الموج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تركيز على التفكير الذي يبدأ بالمعلومة فيستقصيها بالبحث والتدقيق باعتماد معايير ابستمولوجية مناسبة لتحويلها إلى معرفة ح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تركيز على إعادة  التفكير فيما أنتجه من معرفة ليعي مدى دقة تلك المعرفة ومدى دقة العمليات المتصلة بها, ومدى دقة المعايير المستخدمة في الحكم على صحة ادعاءاته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وهذا يتضمن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إعادة التفكير بالمعرفة وبنظرية المعرفة المتصلة ب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هداف الدراسة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سعى الدراسة إلى الإجابة عن السؤالين الآتيي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 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هل توجد فروق ذات دلالة إحصائية في مستوى تحصيل طلبة الصف الرابع الأساسي للمفاهيم العلمية تعزى لطريقة التدريس(نموذج منظومي,طريقة تقليدية)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- 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هل توجد فروق ذات دلالة إحصائية في مستوى تحصيل طلبة الصف الرابع الأساسي للمفاهيم العلمية تعزى للتفاعل بين طريقة التدريس (نموذج منظومي, طريقة تقليدية) والجنس(ذكور,إناث)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مقدمة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زداد اهتمام الأنظمة التربوي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بتطوير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نماذج تدريس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جدي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رفع سوية العملية التربو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لتصبح قادرة على إعداد أفراد يملكون القدرة على مواكبة روح العصر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من هذه النماذج المقترح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( النموذج المنظومي المعرفي الشام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طريقة والإجراءات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تكونت عينة الدراسة من ثمانية شعب من طلبة الصف الرابع الأساسي في مدارس كفرعوان/ بشمال الأردن للعام الدراسي 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تم اختيار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العين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بالطريقة العشوائية العنقودية وبلغ عدد أفراد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ه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6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 طالبا وطالب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ستخدم في الدراسة  اختبار تحصيلي تكون من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 فقره من نوع الاختيار من متعدد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بعد أن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م التحقق من معاملات الصعوبة والتمييز لفقرات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 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وكذلك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التحقق من صدق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ه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ثبات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تم تطبيق الاختبار التحصيلي على المجموعتين قبل البدء بالدراسة وبعد الانتهاء منها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مباشر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أدخلت البيانات إلى الحاسوب وجرى تحليلها باستخدام (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PSS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تغيرات الدراسة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 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تغيرات المستقل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: وتتمثل في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‌-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طريقة التدريس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نموذج المنظومي المعرفي الشامل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طريقة التدريس التقليد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ب‌-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  الجنس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له مستويان هما: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ذكور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إناث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تغير التابع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: - وتتمثل في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مستوى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تحصيل في  المفاهيم العل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صميم الدراس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        تعد هذه الدراسة من الدراسات شبة التجريبية وفق  التصميم الآت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مجموعة التجريبية( إختبار قبلي _  تدريس بإستخدام النموذج _  إختبار بعدي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                               (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O2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X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  O1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مجموعة الضابطة( إختبار قبلي _  تدريس تقليدي _  إختبار بعدي)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O2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ــــــــــ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O1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نتائج الدراس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 كانت على النحو الآتي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توسطات الحسابية والانحرافات المعيارية لعلامات الطلبة على الإختبار القبلي والبعدي للتحصيل للمجموعتين الضابطة والتجريبية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50920" y="1341360"/>
          <a:ext cx="8447040" cy="5216760"/>
        </p:xfrm>
        <a:graphic>
          <a:graphicData uri="http://schemas.openxmlformats.org/drawingml/2006/table">
            <a:tbl>
              <a:tblPr/>
              <a:tblGrid>
                <a:gridCol w="1616040"/>
                <a:gridCol w="1371600"/>
                <a:gridCol w="1495440"/>
                <a:gridCol w="1332000"/>
                <a:gridCol w="695160"/>
                <a:gridCol w="958680"/>
                <a:gridCol w="978120"/>
              </a:tblGrid>
              <a:tr h="1618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         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اختبار ا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لبعد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متوسط حسابي  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نحراف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 معيار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           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اختبار القبل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متوسط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حسابي انحراف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 معيار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 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جن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طريق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.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2.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ذكو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تجريب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6.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.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إنا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.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4.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.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مجمو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0.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.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ذكو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ضابط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1.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.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إنا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1.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.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مجمو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.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1.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.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ذكو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مجموع الكل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.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3.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.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5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إنا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.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2.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مجمو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ظهر النتائج الواردة في الجدول رقم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الآت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ن متوسط علامات طلبة المجموعتين التجريبية والضابطة قد ازداد بشكل عام على الاختبار البعدي عنه على الاختبار القب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إلا أن مقدار الزيادة في متوسط علامات المجموعة التجريبية(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1.8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ان أكبر من مقدار الزيادة في متوسطات علامات المجموعة الضابطة(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8.6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0"/>
            <a:ext cx="88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جدول رقم(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تائج تحليل التباين المصاحب لأثر الطريقة والجنس والتفاعل بينهما على الاختبار البعدي للتحصيل بعد أخذ متغير التغاير( الأداء على الاختبار القبلي) بعين الاعتبا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68360" y="1266840"/>
          <a:ext cx="8136000" cy="4387680"/>
        </p:xfrm>
        <a:graphic>
          <a:graphicData uri="http://schemas.openxmlformats.org/drawingml/2006/table">
            <a:tbl>
              <a:tblPr/>
              <a:tblGrid>
                <a:gridCol w="1306440"/>
                <a:gridCol w="1320840"/>
                <a:gridCol w="1335240"/>
                <a:gridCol w="1077840"/>
                <a:gridCol w="1368360"/>
                <a:gridCol w="17272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مستوى الدلال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قيمة   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متوسطات المربع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درجات الحر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مجموع المربع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مصدر التباي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0.0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3.4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27.4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27.4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الاختبار القبل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49.2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389.7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389.7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طريقة التدري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25.9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205.3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205.6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الجن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6.3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29.4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29.4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الجنس×الطريق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7.9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226.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الخط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300.4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المجموع الكل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شير النتائج الواردة في الجدول رقم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إلى الآت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وجود فرق دال إحصائيا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في مستوى التحصيل في المفاهيم العلمي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 بمستوى دلالة مرتفعة يعزى لطريقة التدريس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لصالح استخدام النموذج المنظومي المعرفي الشام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ما تشير النتائج الواردة في الجدول رقم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إلى وجود فرق دال إحصائيا يعزى للتفاعل بين طريقة التدريس والجن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لصالح مجموعة الإناث التي درست باستخدام النموذج المنظومي المعرفي الشامل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فسير النتائ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مكن أن ترجع هذه النتائج إلى أن التدريس باستخدام النموذج المنظومي المعرفي الشامل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بط بصورة تبادلية بين المعرفة ونظرية المعرفة والميتامعرفة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و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يح للطالب أن يربط بنفسه بين ما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رفة و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لمة والطريقة التي أوصلته إلى ذلك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- التحقق من صحة هذه المعرفة من خلال إعادة التفكير ب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جعل الطالب قادرا على تقويم ما يتعلم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ويترتب على ذلك الآتي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قبل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معرف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ي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تحقق من صحته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يضمها إلى بنيت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مفهوم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بصورة منظمة وذات معنى ووظيف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رفض المعرفة التي لا يتحقق منها ولا تنسجم مع المعايير الابستمولوج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، إذ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تبقى غير منسجمة مع بنيته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مفهوم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Arial"/>
              </a:rPr>
              <a:t>بخلاف ما يحدث في طريقة التدريس التقليدية الت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تركز فقط على الحفظ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عاد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, أي على بعد واحد من هذه الأبعاد الثلاث وهو المعرف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دون التركيز على كيفية الوصول إلى المعرفة أو كيفية التحقق من صحتها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توصيات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ضرورة إجراء دراسات أخرى لبيان مدى فعالية النموذج المنظومي المعرفي الشامل في تدريس مباحث دراسية أخرى غير العلوم ومراحل تعليمية مختلف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ضرورة إ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ا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ء هذا النموذج الاهتمام من قبل المتخصصين في التربية والتعليم وعقد دورات تدريبية لمعلمي العلوم أثناء الخدمة في المراحل المختلفة, لتدريبهم على استخدام النموذج المنظومي المعرفي الشام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يقوم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هذا النموذج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لى مبدأ النظرة الشاملة لكل من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عرف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نظرية المعرفة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( الابستمولوجيا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ورائية المعرفة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( الميتامعرفة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كل ذلك من خلال توظيف الرؤية المنظومية الت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تنظم الخبرات التعليم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وتوضح العلاقات بين المفاهي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وتربطه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عا بعلاقات شبكية تبادلية تفاعلية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منظ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لذلك فإن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بنية النموذج المنظومي المعرفي الشام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تتأل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ن عناصر أساسية ثلاثة ه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المعرف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 وتشمل كل من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عرفة التقرير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والمعرفة الإجرائ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والمعرفة الشرط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نظرية المعرفة  ( المعرفة الابستمولوجية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وتتمثل في المهارات المرتبطة بحدود معرفتن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وبطبيعة المشكلات التي تواجهنا وتسعى للإجابة عن سؤال رئيس هو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ا الذي يميز المعرفة الصحيحة من المعرفة الخطأ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لهذا فهي تؤثر في قدرة الفرد على فهم طبيعة التعل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مصدر الاختلافات الحاصلة في كيف يفكر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فرد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ف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علم الذي يحمل ابستمولوجيا ساذجة يعتقد غالبا بان المعرف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سيط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واضح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محد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مطلق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غير قابلة للتغيي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هي  قابلة للتعلم بسرع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يتوجب على المتعلمين حفظ المفاهيم والحقائق بالمحاضرة أو الإلقا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ما المعلم  الذي يحمل ابستمولوجيا سوية فيعتقد غالبا بـان المعرف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عق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نسب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غير حتم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مكتسب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يمكن فحص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يمكن للمتعلم بناء معرفته العلم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تدقيقها بنفس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هذا يؤكد على ضرورة التوكيد على البعد الابستمولوجي في التعليم لأنه مفيدة للمعلم ف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حكم على صحة المعايير الحاصلة لدى طلبت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حكم على صحة معرفته وعلى تفسيراته وتعليلات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حكم على مدى مناسبة أساليب التدريس التي يستخدمها في تحسين تعلم المفاهيم العلمية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22:03:27Z</dcterms:created>
  <dc:creator>nn</dc:creator>
  <dc:description/>
  <dc:language>en-US</dc:language>
  <cp:lastModifiedBy>netvista</cp:lastModifiedBy>
  <dcterms:modified xsi:type="dcterms:W3CDTF">2005-11-17T08:08:54Z</dcterms:modified>
  <cp:revision>28</cp:revision>
  <dc:subject/>
  <dc:title>الشريحة 1</dc:title>
</cp:coreProperties>
</file>