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6B33-BE8A-4E16-ADE1-F85570771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23FA-54CB-45D6-AFF1-DC1780125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022B-BCA2-4A2D-8BC7-B38221492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60F4-DE6D-4545-A774-835F88540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4AB6-8BBC-42BE-A5D1-12E10DCC8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DF68-4E4F-4EE5-9AE8-CD919E66F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ADE4-B457-49D0-8B23-51A0CDA7A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9FC9-0133-4815-97C5-67225FA01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3AAB-E941-402C-A8BC-C781D4A87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AB38-9036-4517-9A59-E3FC76896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082D-F7E2-46A1-87C4-C732B5307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8782-6D82-4545-9295-FA13F0F42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E3CAA-DBF4-4EEF-9DB0-E6E3A04A9C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1557360"/>
            <a:ext cx="7920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أثر تدريس العلوم باستخدام المنحى المنظومي المعرفي الشامل في اكتساب المفاهيم العلمية لدى طلبة الصف الرابع الأساس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د. سليمان أحمد القادر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قسم المناهج والتدري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كلية العلوم التربوية –</a:t>
            </a:r>
            <a:r>
              <a:rPr b="1" lang="ar-JO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جامعة آل البي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لمفرق الأرد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alqadere@aabu.edu.j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الميتا معرفة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تتمثل بوعي المتعل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بنظامه المعرفي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نواتجه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عمليات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 من خلال مراقبته لعمليات تفكيره وتنظيمها وتقويهما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SimSun"/>
              </a:rPr>
              <a:t> 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 تتضح أهمية مهارات التفكير الميتا معرفية في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تطوير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تعلم الذاتي وتعلم كيف نتعل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وتشتمل الميتا معرفة على بعدين أساسين هم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- 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بعد موجه نحو الأداء , ويتصل بمتابعة أداء المهارة الفعلي , والمحافظة على المكان والتتابع , واكتشاف الأخطاء وتصحيحها وتنظيم العمل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- 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بعد استراتيجي ويتضمن استخدام مهارة معينة في ظروف معينة مثل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ركيز الانتباه على ما هو مطلوب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وربط التعلم الجديد بالسابق ذي العلاق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قياس صحة الاستراتيجية المناسبة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ولذلك فإن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البعد الميتامعرفي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يمكن أن يساعد على</a:t>
            </a: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كتساب المفاهيم المختلفة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بصورة وظيفية وذات معن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تنمية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هارات التفكير العليا ؛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وزيادة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وعي الفرد لتفكيره و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ل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علمه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تزيد من قدرته على تطبيق ما تعلمه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كشف الأخطاء التي قد يقع فيها 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طوير تفكيره , ليصبح فردا مستقلا في تفكير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مراحل النموذج المعرفي الشامل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JO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شتمل النموذج المقترح  على ثلاث مراحل رئيسية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SimSun"/>
              </a:rPr>
              <a:t> -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مرحلة الانطلاق من البعد المعرفي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تبدأ الممارسات التدريسية للمعلم بالبعد المعرفي لمحتوى التعلم كنقطة انطلاق، وقد تتمثل بتوجيه اهتمام طلبته لظاهرة علمية أو مفهوم علمي أو حادثة غريبة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39528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JO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مرحلة تقصي الظاهرة أو المفهوم ابستمولوجياً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ويتم ذلك من خلال البحث في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طبيعة ذلك المحتو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مدى دقته وصحته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انسجامه مع المنطق ومع الواقع العملي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الدعم التجريبي ل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باعتبارها من المعايير الابستمولوجية التي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يستخدمها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المتعلم في أثناء تعلمه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9528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مرحلة التفكير الميتامعرفي للتعلم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يقوم فيها المعلم بتوجي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ه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طلبته لوعي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عمليات التفكير المتصلة بمحتوى التعل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بطرق بنائه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ووعي مدى دقة الدعم التجريبي له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أي يتم فيها وعي لما يحدث في المرحلتين السابقتين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ويمكن توضيح ذلك بالشكل الآتي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8964720" cy="59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971640" y="333360"/>
            <a:ext cx="7272000" cy="5544720"/>
            <a:chOff x="971640" y="333360"/>
            <a:chExt cx="7272000" cy="5544720"/>
          </a:xfrm>
        </p:grpSpPr>
        <p:sp>
          <p:nvSpPr>
            <p:cNvPr id="70" name=""/>
            <p:cNvSpPr/>
            <p:nvPr/>
          </p:nvSpPr>
          <p:spPr>
            <a:xfrm>
              <a:off x="971640" y="3351600"/>
              <a:ext cx="2671560" cy="252648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JO" sz="20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البعد الميتامعرفي</a:t>
              </a: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 وتشمل وعي الفرد لسلوكه وللعلم الذي يدرّسه ، أي وعي التفكير المتصل بالمعرفة ونظرية الم</a:t>
              </a:r>
              <a:r>
                <a:rPr b="1" lang="ar-JO" sz="20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ع</a:t>
              </a: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رفة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323160" y="333360"/>
              <a:ext cx="2453400" cy="23799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JO" sz="20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البعد </a:t>
              </a: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المعرف</a:t>
              </a:r>
              <a:r>
                <a:rPr b="1" lang="ar-JO" sz="20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ي</a:t>
              </a: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وتشمل محتوى العلم وعملياته وطرق بنائه وشروط تطبيقه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776560" y="3139200"/>
              <a:ext cx="2467080" cy="250416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</a:t>
              </a:r>
              <a:r>
                <a:rPr b="1" lang="ar-JO" sz="20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البعد الابستمولوجي</a:t>
              </a: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وتشمل سلوك المعلم في التحقق من دقة ممارساته التدريسية والعلم الذي يدرسة وحدود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</a:t>
              </a: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تطبيقه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367600" y="2416680"/>
              <a:ext cx="920160" cy="95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629520" y="4650480"/>
              <a:ext cx="214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2913480" y="2500920"/>
              <a:ext cx="817560" cy="95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539640" y="333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يمكن تبسيط هذا النموذج بالشكل التالي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1258920" y="1112760"/>
            <a:ext cx="6121080" cy="4979880"/>
            <a:chOff x="1258920" y="1112760"/>
            <a:chExt cx="6121080" cy="4979880"/>
          </a:xfrm>
        </p:grpSpPr>
        <p:sp>
          <p:nvSpPr>
            <p:cNvPr id="78" name=""/>
            <p:cNvSpPr/>
            <p:nvPr/>
          </p:nvSpPr>
          <p:spPr>
            <a:xfrm>
              <a:off x="1258920" y="3823560"/>
              <a:ext cx="2248920" cy="226908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كيف تحققت من صحة معرفتك ومن طرق الوصول إليها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238200" y="1112760"/>
              <a:ext cx="2065320" cy="213768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ماذا تعلمت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 </a:t>
              </a: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معرفة إجرائية أو</a:t>
              </a:r>
              <a:r>
                <a:rPr b="1" lang="ar-JO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تقريرية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وشرطي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303520" y="3632760"/>
              <a:ext cx="2076480" cy="224892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كيف توصلت إلى معرفت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959360" y="2983680"/>
              <a:ext cx="774360" cy="85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496320" y="4989960"/>
              <a:ext cx="180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2893680" y="3059280"/>
              <a:ext cx="688320" cy="85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مزايا النموذج المقترح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نقل الممارسات التدريسية من الإلقاء والتلقين إلى الممارسات التي تؤكد على التفكير الحر الموجه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التركيز على التفكير الذي يبدأ بالمعلومة فيستقصيها بالبحث والتدقيق باعتماد معايير ابستمولوجية مناسبة لتحويلها إلى معرفة ح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التركيز على إعادة  التفكير فيما أنتجه من معرفة ليعي مدى دقة تلك المعرفة ومدى دقة العمليات المتصلة بها, ومدى دقة المعايير المستخدمة في الحكم على صحة ادعاءاتها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وهذا يتضمن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إعادة التفكير بالمعرفة وبنظرية المعرفة المتصلة بها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أهداف الدراسة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تسعى الدراسة إلى الإجابة عن السؤالين الآتيين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 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هل توجد فروق ذات دلالة إحصائية في مستوى تحصيل طلبة الصف الرابع الأساسي للمفاهيم العلمية تعزى لطريقة التدريس(نموذج منظومي,طريقة تقليدية)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- 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هل توجد فروق ذات دلالة إحصائية في مستوى تحصيل طلبة الصف الرابع الأساسي للمفاهيم العلمية تعزى للتفاعل بين طريقة التدريس (نموذج منظومي, طريقة تقليدية) والجنس(ذكور,إناث)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مقدمة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زداد اهتمام الأنظمة التربوية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بتطوير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نماذج تدريس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جديد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لرفع سوية العملية التربو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لتصبح قادرة على إعداد أفراد يملكون القدرة على مواكبة روح العصر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ومن هذه النماذج المقترح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( النموذج المنظومي المعرفي الشامل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الطريقة والإجراءات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8920" y="1600200"/>
            <a:ext cx="87138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- تكونت عينة الدراسة من ثمانية شعب من طلبة الصف الرابع الأساسي في مدارس كفرعوان/ بشمال الأردن للعام الدراسي (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2005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- تم اختيار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 العينة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بالطريقة العشوائية العنقودية وبلغ عدد أفراد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ها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160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) طالبا وطالب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استخدم في الدراسة  اختبار تحصيلي تكون من(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) فقره من نوع الاختيار من متعدد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 بعد أن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تم التحقق من معاملات الصعوبة والتمييز لفقراته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 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وكذلك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التحقق من صدق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ه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وثباته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- تم تطبيق الاختبار التحصيلي على المجموعتين قبل البدء بالدراسة وبعد الانتهاء منها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 مباشر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- أدخلت البيانات إلى الحاسوب وجرى تحليلها باستخدام (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SPSS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متغيرات الدراسة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  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متغيرات المستقلة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: وتتمثل في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أ‌-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طريقة التدريس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النموذج المنظومي المعرفي الشامل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،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طريقة التدريس التقليد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ب‌-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  الجنس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وله مستويان هما: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ذكور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،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إناث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متغير التابع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: - وتتمثل في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مستوى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التحصيل في  المفاهيم العلم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تصميم الدراسة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        تعد هذه الدراسة من الدراسات شبة التجريبية وفق  التصميم الآتي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لمجموعة التجريبية( إختبار قبلي _  تدريس بإستخدام النموذج _  إختبار بعدي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                                     (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O2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X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  O1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لمجموعة الضابطة( إختبار قبلي _  تدريس تقليدي _  إختبار بعدي)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(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O2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ــــــــــ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O1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r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200" spc="-1" strike="noStrike">
                <a:solidFill>
                  <a:srgbClr val="000000"/>
                </a:solidFill>
                <a:latin typeface="Arial"/>
              </a:rPr>
              <a:t>نتائج الدراسة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200" spc="-1" strike="noStrike">
                <a:solidFill>
                  <a:srgbClr val="000000"/>
                </a:solidFill>
                <a:latin typeface="Arial"/>
              </a:rPr>
              <a:t> كانت على النحو الآتي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لمتوسطات الحسابية والانحرافات المعيارية لعلامات الطلبة على الإختبار القبلي والبعدي للتحصيل للمجموعتين الضابطة والتجريبية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50920" y="1341360"/>
          <a:ext cx="8447040" cy="5216760"/>
        </p:xfrm>
        <a:graphic>
          <a:graphicData uri="http://schemas.openxmlformats.org/drawingml/2006/table">
            <a:tbl>
              <a:tblPr/>
              <a:tblGrid>
                <a:gridCol w="1616040"/>
                <a:gridCol w="1371600"/>
                <a:gridCol w="1495440"/>
                <a:gridCol w="1332000"/>
                <a:gridCol w="695160"/>
                <a:gridCol w="958680"/>
                <a:gridCol w="978120"/>
              </a:tblGrid>
              <a:tr h="1618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           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الاختبار ا</a:t>
                      </a: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لبعد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متوسط حسابي  </a:t>
                      </a: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انحراف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 معيار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             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الاختبار القبل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متوسط</a:t>
                      </a: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 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حسابي انحراف</a:t>
                      </a: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 معيار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 </a:t>
                      </a: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          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العد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الجن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الطريق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3.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12.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1.6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2.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ذكو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التجريب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2.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16.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1.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2.7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إناث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3.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14.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1.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2.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المجمو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2.8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10.9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1.6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2.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ذكو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الضابط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2.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11.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1.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2.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إناث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2.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11.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1.6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2.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المجمو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3.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11.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1.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2.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ذكو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المجموع الكل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3.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13.9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3.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5.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إناث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3.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12.7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3.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3.6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1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المجمو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ظهر النتائج الواردة في الجدول رقم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)الآتي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أن متوسط علامات طلبة المجموعتين التجريبية والضابطة قد ازداد بشكل عام على الاختبار البعدي عنه على الاختبار القبل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إلا أن مقدار الزيادة في متوسط علامات المجموعة التجريبية(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11.82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كان أكبر من مقدار الزيادة في متوسطات علامات المجموعة الضابطة(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8.68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50920" y="0"/>
            <a:ext cx="889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جدول رقم(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نتائج تحليل التباين المصاحب لأثر الطريقة والجنس والتفاعل بينهما على الاختبار البعدي للتحصيل بعد أخذ متغير التغاير( الأداء على الاختبار القبلي) بعين الاعتبار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468360" y="1266840"/>
          <a:ext cx="8136000" cy="4387680"/>
        </p:xfrm>
        <a:graphic>
          <a:graphicData uri="http://schemas.openxmlformats.org/drawingml/2006/table">
            <a:tbl>
              <a:tblPr/>
              <a:tblGrid>
                <a:gridCol w="1306440"/>
                <a:gridCol w="1320840"/>
                <a:gridCol w="1335240"/>
                <a:gridCol w="1077840"/>
                <a:gridCol w="1368360"/>
                <a:gridCol w="172728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333333"/>
                          </a:solidFill>
                          <a:latin typeface="Times New Roman"/>
                          <a:cs typeface="Simplified Arabic"/>
                        </a:rPr>
                        <a:t>مستوى الدلال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333333"/>
                          </a:solidFill>
                          <a:latin typeface="Times New Roman"/>
                          <a:cs typeface="Simplified Arabic"/>
                        </a:rPr>
                        <a:t>قيمة   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333333"/>
                          </a:solidFill>
                          <a:latin typeface="Times New Roman"/>
                          <a:cs typeface="Simplified Arabic"/>
                        </a:rPr>
                        <a:t>متوسطات المربعا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333333"/>
                          </a:solidFill>
                          <a:latin typeface="Times New Roman"/>
                          <a:cs typeface="Simplified Arabic"/>
                        </a:rPr>
                        <a:t>درجات الحر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333333"/>
                          </a:solidFill>
                          <a:latin typeface="Times New Roman"/>
                          <a:cs typeface="Simplified Arabic"/>
                        </a:rPr>
                        <a:t>مجموع المربعا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333333"/>
                          </a:solidFill>
                          <a:latin typeface="Times New Roman"/>
                          <a:cs typeface="Simplified Arabic"/>
                        </a:rPr>
                        <a:t>مصدر التباي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400" spc="-1" strike="noStrike">
                          <a:solidFill>
                            <a:srgbClr val="000000"/>
                          </a:solidFill>
                          <a:latin typeface="Dutch801 XBd BT"/>
                          <a:ea typeface="Simplified Arabic"/>
                        </a:rPr>
                        <a:t>0.0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400" spc="-1" strike="noStrike">
                          <a:solidFill>
                            <a:srgbClr val="000000"/>
                          </a:solidFill>
                          <a:latin typeface="Dutch801 XBd BT"/>
                          <a:ea typeface="Simplified Arabic"/>
                        </a:rPr>
                        <a:t>3.47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400" spc="-1" strike="noStrike">
                          <a:solidFill>
                            <a:srgbClr val="000000"/>
                          </a:solidFill>
                          <a:latin typeface="Dutch801 XBd BT"/>
                          <a:ea typeface="Simplified Arabic"/>
                        </a:rPr>
                        <a:t>27.46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400" spc="-1" strike="noStrike">
                          <a:solidFill>
                            <a:srgbClr val="000000"/>
                          </a:solidFill>
                          <a:latin typeface="Dutch801 XBd BT"/>
                          <a:ea typeface="Simplified Arabic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400" spc="-1" strike="noStrike">
                          <a:solidFill>
                            <a:srgbClr val="000000"/>
                          </a:solidFill>
                          <a:latin typeface="Dutch801 XBd BT"/>
                          <a:ea typeface="Simplified Arabic"/>
                        </a:rPr>
                        <a:t>27.46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333333"/>
                          </a:solidFill>
                          <a:latin typeface="Times New Roman"/>
                          <a:cs typeface="Simplified Arabic"/>
                        </a:rPr>
                        <a:t>الاختبار القبلي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400" spc="-1" strike="noStrike">
                          <a:solidFill>
                            <a:srgbClr val="000000"/>
                          </a:solidFill>
                          <a:latin typeface="Dutch801 XBd BT"/>
                          <a:ea typeface="Simplified Arabic"/>
                        </a:rPr>
                        <a:t>0.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400" spc="-1" strike="noStrike">
                          <a:solidFill>
                            <a:srgbClr val="000000"/>
                          </a:solidFill>
                          <a:latin typeface="Dutch801 XBd BT"/>
                          <a:ea typeface="Simplified Arabic"/>
                        </a:rPr>
                        <a:t>49.25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400" spc="-1" strike="noStrike">
                          <a:solidFill>
                            <a:srgbClr val="000000"/>
                          </a:solidFill>
                          <a:latin typeface="Dutch801 XBd BT"/>
                          <a:ea typeface="Simplified Arabic"/>
                        </a:rPr>
                        <a:t>389.7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400" spc="-1" strike="noStrike">
                          <a:solidFill>
                            <a:srgbClr val="000000"/>
                          </a:solidFill>
                          <a:latin typeface="Dutch801 XBd BT"/>
                          <a:ea typeface="Simplified Arabic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400" spc="-1" strike="noStrike">
                          <a:solidFill>
                            <a:srgbClr val="000000"/>
                          </a:solidFill>
                          <a:latin typeface="Dutch801 XBd BT"/>
                          <a:ea typeface="Simplified Arabic"/>
                        </a:rPr>
                        <a:t>389.7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333333"/>
                          </a:solidFill>
                          <a:latin typeface="Times New Roman"/>
                          <a:cs typeface="Simplified Arabic"/>
                        </a:rPr>
                        <a:t>طريقة التدري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400" spc="-1" strike="noStrike">
                          <a:solidFill>
                            <a:srgbClr val="000000"/>
                          </a:solidFill>
                          <a:latin typeface="Dutch801 XBd BT"/>
                          <a:ea typeface="Simplified Arabic"/>
                        </a:rPr>
                        <a:t>0.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400" spc="-1" strike="noStrike">
                          <a:solidFill>
                            <a:srgbClr val="000000"/>
                          </a:solidFill>
                          <a:latin typeface="Dutch801 XBd BT"/>
                          <a:ea typeface="Simplified Arabic"/>
                        </a:rPr>
                        <a:t>25.98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400" spc="-1" strike="noStrike">
                          <a:solidFill>
                            <a:srgbClr val="000000"/>
                          </a:solidFill>
                          <a:latin typeface="Dutch801 XBd BT"/>
                          <a:ea typeface="Simplified Arabic"/>
                        </a:rPr>
                        <a:t>205.3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400" spc="-1" strike="noStrike">
                          <a:solidFill>
                            <a:srgbClr val="000000"/>
                          </a:solidFill>
                          <a:latin typeface="Dutch801 XBd BT"/>
                          <a:ea typeface="Simplified Arabic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400" spc="-1" strike="noStrike">
                          <a:solidFill>
                            <a:srgbClr val="000000"/>
                          </a:solidFill>
                          <a:latin typeface="Dutch801 XBd BT"/>
                          <a:ea typeface="Simplified Arabic"/>
                        </a:rPr>
                        <a:t>205.6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333333"/>
                          </a:solidFill>
                          <a:latin typeface="Times New Roman"/>
                          <a:cs typeface="Simplified Arabic"/>
                        </a:rPr>
                        <a:t>الجن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400" spc="-1" strike="noStrike">
                          <a:solidFill>
                            <a:srgbClr val="000000"/>
                          </a:solidFill>
                          <a:latin typeface="Dutch801 XBd BT"/>
                          <a:ea typeface="Simplified Arabic"/>
                        </a:rPr>
                        <a:t>0.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400" spc="-1" strike="noStrike">
                          <a:solidFill>
                            <a:srgbClr val="000000"/>
                          </a:solidFill>
                          <a:latin typeface="Dutch801 XBd BT"/>
                          <a:ea typeface="Simplified Arabic"/>
                        </a:rPr>
                        <a:t>16.36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400" spc="-1" strike="noStrike">
                          <a:solidFill>
                            <a:srgbClr val="000000"/>
                          </a:solidFill>
                          <a:latin typeface="Dutch801 XBd BT"/>
                          <a:ea typeface="Simplified Arabic"/>
                        </a:rPr>
                        <a:t>129.4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400" spc="-1" strike="noStrike">
                          <a:solidFill>
                            <a:srgbClr val="000000"/>
                          </a:solidFill>
                          <a:latin typeface="Dutch801 XBd BT"/>
                          <a:ea typeface="Simplified Arabic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400" spc="-1" strike="noStrike">
                          <a:solidFill>
                            <a:srgbClr val="000000"/>
                          </a:solidFill>
                          <a:latin typeface="Dutch801 XBd BT"/>
                          <a:ea typeface="Simplified Arabic"/>
                        </a:rPr>
                        <a:t>129.4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333333"/>
                          </a:solidFill>
                          <a:latin typeface="Times New Roman"/>
                          <a:cs typeface="Simplified Arabic"/>
                        </a:rPr>
                        <a:t>الجنس×الطريق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400" spc="-1" strike="noStrike">
                          <a:solidFill>
                            <a:srgbClr val="000000"/>
                          </a:solidFill>
                          <a:latin typeface="Dutch801 XBd BT"/>
                          <a:ea typeface="Simplified Arabic"/>
                        </a:rPr>
                        <a:t>7.9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400" spc="-1" strike="noStrike">
                          <a:solidFill>
                            <a:srgbClr val="000000"/>
                          </a:solidFill>
                          <a:latin typeface="Dutch801 XBd BT"/>
                          <a:ea typeface="Simplified Arabic"/>
                        </a:rPr>
                        <a:t>15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400" spc="-1" strike="noStrike">
                          <a:solidFill>
                            <a:srgbClr val="000000"/>
                          </a:solidFill>
                          <a:latin typeface="Dutch801 XBd BT"/>
                          <a:ea typeface="Simplified Arabic"/>
                        </a:rPr>
                        <a:t>1226.5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333333"/>
                          </a:solidFill>
                          <a:latin typeface="Times New Roman"/>
                          <a:cs typeface="Simplified Arabic"/>
                        </a:rPr>
                        <a:t>الخطأ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400" spc="-1" strike="noStrike">
                          <a:solidFill>
                            <a:srgbClr val="000000"/>
                          </a:solidFill>
                          <a:latin typeface="Dutch801 XBd BT"/>
                          <a:ea typeface="Simplified Arabic"/>
                        </a:rPr>
                        <a:t>15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400" spc="-1" strike="noStrike">
                          <a:solidFill>
                            <a:srgbClr val="000000"/>
                          </a:solidFill>
                          <a:latin typeface="Dutch801 XBd BT"/>
                          <a:ea typeface="Simplified Arabic"/>
                        </a:rPr>
                        <a:t>300.49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333333"/>
                          </a:solidFill>
                          <a:latin typeface="Times New Roman"/>
                          <a:cs typeface="Simplified Arabic"/>
                        </a:rPr>
                        <a:t>المجموع الكلي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شير النتائج الواردة في الجدول رقم(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) إلى الآتي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 وجود فرق دال إحصائيا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في مستوى التحصيل في المفاهيم العلمية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 بمستوى دلالة مرتفعة يعزى لطريقة التدريس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ولصالح استخدام النموذج المنظومي المعرفي الشامل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كما تشير النتائج الواردة في الجدول رقم(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) إلى وجود فرق دال إحصائيا يعزى للتفاعل بين طريقة التدريس والجنس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لصالح مجموعة الإناث التي درست باستخدام النموذج المنظومي المعرفي الشامل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فسير النتائ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يمكن أن ترجع هذه النتائج إلى أن التدريس باستخدام النموذج المنظومي المعرفي الشامل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ربط بصورة تبادلية بين المعرفة ونظرية المعرفة والميتامعرفة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 و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يح للطالب أن يربط بنفسه بين ما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عرفة و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علمة والطريقة التي أوصلته إلى ذلك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- التحقق من صحة هذه المعرفة من خلال إعادة التفكير به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و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يجعل الطالب قادرا على تقويم ما يتعلم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ويترتب على ذلك الآتي</a:t>
            </a: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يقبل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المعرفة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تي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يتحقق من صحتها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ويضمها إلى بنيت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ه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المفهومية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بصورة منظمة وذات معنى ووظيف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يرفض المعرفة التي لا يتحقق منها ولا تنسجم مع المعايير الابستمولوجية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، إذ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تبقى غير منسجمة مع بنيته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المفهومية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Arial"/>
              </a:rPr>
              <a:t>بخلاف ما يحدث في طريقة التدريس التقليدية التي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 تركز فقط على الحفظ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عادة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, أي على بعد واحد من هذه الأبعاد الثلاث وهو المعرف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 دون التركيز على كيفية الوصول إلى المعرفة أو كيفية التحقق من صحتها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التوصيات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 ضرورة إجراء دراسات أخرى لبيان مدى فعالية النموذج المنظومي المعرفي الشامل في تدريس مباحث دراسية أخرى غير العلوم ومراحل تعليمية مختلف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 ضرورة إ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لا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ء هذا النموذج الاهتمام من قبل المتخصصين في التربية والتعليم وعقد دورات تدريبية لمعلمي العلوم أثناء الخدمة في المراحل المختلفة, لتدريبهم على استخدام النموذج المنظومي المعرفي الشامل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يقوم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هذا النموذج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على مبدأ النظرة الشاملة لكل من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معرف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نظرية المعرفة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( الابستمولوجيا)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اورائية المعرفة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( الميتامعرفة)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كل ذلك من خلال توظيف الرؤية المنظومية الت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 تنظم الخبرات التعليم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 وتوضح العلاقات بين المفاهي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وتربطها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معا بعلاقات شبكية تبادلية تفاعلية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منظم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لذلك فإن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بنية النموذج المنظومي المعرفي الشامل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تتأل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ن عناصر أساسية ثلاثة هي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- المعرفة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: وتشمل كل من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معرفة التقريري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 والمعرفة الإجرائي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 والمعرفة الشرطي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200" spc="-1" strike="noStrike">
                <a:solidFill>
                  <a:srgbClr val="000000"/>
                </a:solidFill>
                <a:latin typeface="Arial"/>
              </a:rPr>
              <a:t>2-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نظرية المعرفة  ( المعرفة الابستمولوجية</a:t>
            </a:r>
            <a:r>
              <a:rPr b="1" lang="ar-JO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 وتتمثل في المهارات المرتبطة بحدود معرفتنا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 وبطبيعة المشكلات التي تواجهنا وتسعى للإجابة عن سؤال رئيس هو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ما الذي يميز المعرفة الصحيحة من المعرفة الخطأ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ولهذا فهي تؤثر في قدرة الفرد على فهم طبيعة التعل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مصدر الاختلافات الحاصلة في كيف يفكر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ا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لفرد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ف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معلم الذي يحمل ابستمولوجيا ساذجة يعتقد غالبا بان المعرف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بسيط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واضح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ومحدد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مطلق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غير قابلة للتغيير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وهي  قابلة للتعلم بسرع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يتوجب على المتعلمين حفظ المفاهيم والحقائق بالمحاضرة أو الإلقاء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أما المعلم  الذي يحمل ابستمولوجيا سوية فيعتقد غالبا بـان المعرفة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عقد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نسبي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غير حتمي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مكتسب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يمكن فحصه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ويمكن للمتعلم بناء معرفته العلمي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تدقيقها بنفس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هذا يؤكد على ضرورة التوكيد على البعد الابستمولوجي في التعليم لأنه مفيدة للمعلم ف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- 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حكم على صحة المعايير الحاصلة لدى طلبت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ه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   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حكم على صحة معرفته وعلى تفسيراته وتعليلات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   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حكم على مدى مناسبة أساليب التدريس التي يستخدمها في تحسين تعلم المفاهيم العلمية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6T22:03:27Z</dcterms:created>
  <dc:creator>nn</dc:creator>
  <dc:description/>
  <dc:language>en-US</dc:language>
  <cp:lastModifiedBy>netvista</cp:lastModifiedBy>
  <dcterms:modified xsi:type="dcterms:W3CDTF">2005-11-17T08:08:54Z</dcterms:modified>
  <cp:revision>28</cp:revision>
  <dc:subject/>
  <dc:title>الشريحة 1</dc:title>
</cp:coreProperties>
</file>