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F2D3-B562-4037-851E-1EF32DC1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FA9-3420-48CB-ADB5-965743DC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29B-1B2D-4F13-B67C-53B6103D5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D145-10D4-4E6C-A017-34823F89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E02B-109B-457C-9295-2CC258A0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A3B8-C6B3-422F-8F67-C229DAF0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EA6-EA20-4150-BB02-BB353186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F221-F7F7-413E-AE8E-D22E10E7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C9C-E9CD-4345-BA96-20C0DE804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2781-7C6A-402C-AEB5-F6FB39CD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5B1-1788-4819-A759-DD48A372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5740-3270-4F8E-A009-2C900193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4F92-7FB7-4944-B5A1-8280BDC95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1557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أثر تدريس العلوم باستخدام المنحى المنظومي المعرفي الشامل في اكتساب المفاهيم العلمية لدى طلبة الصف الرابع الأساس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. سليمان أحمد القادر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قسم المناهج والتدري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كلية العلوم التربوية –</a:t>
            </a:r>
            <a:r>
              <a:rPr b="1" lang="ar-JO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امعة آل البي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فرق الأرد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alqadere@aabu.edu.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الميتا معرف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تمثل بوعي الم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نظامه المعر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واتج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عمليات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من خلال مراقبته لعمليات تفكيره وتنظيمها وتقويهما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تتضح أهمية مهارات التفكير الميتا معرفية ف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طوير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علم الذاتي وتعلم كيف ن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وتشتمل الميتا معرفة على بعدين أساسين هم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موجه نحو الأداء , ويتصل بمتابعة أداء المهارة الفعلي , والمحافظة على المكان والتتابع , واكتشاف الأخطاء وتصحيحها وتنظيم الع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عد استراتيجي ويتضمن استخدام مهارة معينة في ظروف معينة مث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ركيز الانتباه على ما هو مطلو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ربط التعلم الجديد بالسابق ذي العلا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قياس صحة الاستراتيجية المناس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لذلك فإ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بعد الميتامعرف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يمكن أن يساعد على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كتساب المفاهيم المختلف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صورة وظيفية وذات معن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تن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هارات التفكير العليا 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زي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عي الفرد لتفكيره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زيد من قدرته على تطبيق ما تعلم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شف الأخطاء التي قد يقع فيها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طوير تفكيره , ليصبح فردا مستقلا في تفكير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راحل النموذج المعرفي الشامل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شتمل النموذج المقترح  على ثلاث مراحل رئيسي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انطلاق من البعد المعرف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بدأ الممارسات التدريسية للمعلم بالبعد المعرفي لمحتوى التعلم كنقطة انطلاق، وقد تتمثل بتوجيه اهتمام طلبته لظاهرة علمية أو مفهوم علمي أو حادثة غريبة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تقصي الظاهرة أو المفهوم ابستمولوجياً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تم ذلك من خلال البحث ف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طبيعة ذلك المحتو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دى دقته وصحت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نسجامه مع المنطق ومع الواقع العمل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الدعم التجريبي ل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اعتبارها من المعايير الابستمولوجية 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ستخدم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المتعلم في أثناء تعلم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رحلة التفكير الميتامعرفي للتعلم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فيها المعلم بتوجي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طلبته لوع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مليات التفكير المتصلة بمحتوى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بطرق بنائ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وعي مدى دقة الدعم التجريبي ل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أي يتم فيها وعي لما يحدث في المرحلتين السابقتين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توضيح ذلك بالشكل الآتي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96472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971640" y="333360"/>
            <a:ext cx="7272000" cy="5544720"/>
            <a:chOff x="971640" y="333360"/>
            <a:chExt cx="7272000" cy="5544720"/>
          </a:xfrm>
        </p:grpSpPr>
        <p:sp>
          <p:nvSpPr>
            <p:cNvPr id="70" name=""/>
            <p:cNvSpPr/>
            <p:nvPr/>
          </p:nvSpPr>
          <p:spPr>
            <a:xfrm>
              <a:off x="971640" y="3351600"/>
              <a:ext cx="2671560" cy="25264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ميتامعرف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 وتشمل وعي الفرد لسلوكه وللعلم الذي يدرّسه ، أي وعي التفكير المتصل بالمعرفة ونظرية الم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ع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رفة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323160" y="333360"/>
              <a:ext cx="2453400" cy="23799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معرف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وتشمل محتوى العلم وعملياته وطرق بنائه وشروط 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76560" y="3139200"/>
              <a:ext cx="2467080" cy="250416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البعد الابستمولوجي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تشمل سلوك المعلم في التحقق من دقة ممارساته التدريسية والعلم الذي يدرسة وحدود 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طبيق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367600" y="2416680"/>
              <a:ext cx="9201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29520" y="4650480"/>
              <a:ext cx="214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2913480" y="2500920"/>
              <a:ext cx="817560" cy="9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تبسيط هذا النموذج بالشكل التالي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1258920" y="1112760"/>
            <a:ext cx="6121080" cy="4979880"/>
            <a:chOff x="1258920" y="1112760"/>
            <a:chExt cx="6121080" cy="4979880"/>
          </a:xfrm>
        </p:grpSpPr>
        <p:sp>
          <p:nvSpPr>
            <p:cNvPr id="78" name=""/>
            <p:cNvSpPr/>
            <p:nvPr/>
          </p:nvSpPr>
          <p:spPr>
            <a:xfrm>
              <a:off x="1258920" y="3823560"/>
              <a:ext cx="2248920" cy="22690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حققت من صحة معرفتك ومن طرق الوصول إليه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38200" y="1112760"/>
              <a:ext cx="2065320" cy="213768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اذا تعلمت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معرفة إجرائية أو</a:t>
              </a:r>
              <a:r>
                <a:rPr b="1" lang="ar-JO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تقريرية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وشرطية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303520" y="3632760"/>
              <a:ext cx="2076480" cy="2248920"/>
            </a:xfrm>
            <a:prstGeom prst="ellipse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000" spc="-1" strike="noStrike">
                  <a:solidFill>
                    <a:srgbClr val="000000"/>
                  </a:solidFill>
                  <a:latin typeface="Times New Roman"/>
                  <a:cs typeface="Times New Roman"/>
                </a:rPr>
                <a:t>كيف توصلت إلى معرفت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59360" y="2983680"/>
              <a:ext cx="77436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6320" y="4989960"/>
              <a:ext cx="180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2893680" y="3059280"/>
              <a:ext cx="688320" cy="85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مزايا النموذج المقترح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نقل الممارسات التدريسية من الإلقاء والتلقين إلى الممارسات التي تؤكد على التفكير الحر الموج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التفكير الذي يبدأ بالمعلومة فيستقصيها بالبحث والتدقيق باعتماد معايير ابستمولوجية مناسبة لتحويلها إلى معرفة ح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ركيز على إعادة  التفكير فيما أنتجه من معرفة ليعي مدى دقة تلك المعرفة ومدى دقة العمليات المتصلة بها, ومدى دقة المعايير المستخدمة في الحكم على صحة ادعاءاتها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هذا يتضمن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إعادة التفكير بالمعرفة وبنظرية المعرفة المتصلة بها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هداف الدراس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سعى الدراسة إلى الإجابة عن السؤالين الآتيين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طريقة التدريس(نموذج منظومي,طريقة تقليدية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هل توجد فروق ذات دلالة إحصائية في مستوى تحصيل طلبة الصف الرابع الأساسي للمفاهيم العلمية تعزى للتفاعل بين طريقة التدريس (نموذج منظومي, طريقة تقليدية) والجنس(ذكور,إناث)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مقدمة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زداد اهتمام الأنظمة التربوية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بتطوير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نماذج تدريس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جديد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رفع سوية العملية التربو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تصبح قادرة على إعداد أفراد يملكون القدرة على مواكبة روح العصر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ن هذه النماذج المقترح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(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طريقة والإجراءا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كونت عينة الدراسة من ثمانية شعب من طلبة الصف الرابع الأساسي في مدارس كفرعوان/ بشمال الأردن للعام الدراسي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اختيا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العين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بالطريقة العشوائية العنقودية وبلغ عدد أفراد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ا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طالبا وطالب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ستخدم في الدراسة  اختبار تحصيلي تكون من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) فقره من نوع الاختيار من متعدد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بعد أن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تم التحقق من معاملات الصعوبة والتمييز لفقرات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 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وكذلك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التحقق من صدق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ه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ثباته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تم تطبيق الاختبار التحصيلي على المجموعتين قبل البدء بالدراسة وبعد الانتهاء منها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مباشر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أدخلت البيانات إلى الحاسوب وجرى تحليلها باستخدام (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PSS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متغيرات الدراسة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 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ات المستقل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وتتمثل في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‌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طريقة التدريس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نموذج المنظومي المعرفي الشامل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طريقة التدريس التقليد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ب‌-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  الجنس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وله مستويان هما: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ذكور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،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إناث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المتغير التابع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 - وتتمثل في </a:t>
            </a:r>
            <a:r>
              <a:rPr b="0" lang="ar-JO" sz="2800" spc="-1" strike="noStrike">
                <a:solidFill>
                  <a:srgbClr val="000000"/>
                </a:solidFill>
                <a:latin typeface="Arial"/>
              </a:rPr>
              <a:t>مستوى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التحصيل في  المفاهيم العلم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صميم الدراسة</a:t>
            </a:r>
            <a:r>
              <a:rPr b="0" lang="ar-SA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       تعد هذه الدراسة من الدراسات شبة التجريبية وفق  التصميم الآتي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تجريبية( إختبار قبلي _  تدريس بإستخدام النموذج _  إختبار بعدي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                                     (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X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  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مجموعة الضابطة( إختبار قبلي _  تدريس تقليدي _  إختبار بعدي)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(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2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ــــــــــ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O1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نتائج الدراسة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 كانت على النحو الآتي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المتوسطات الحسابية والانحرافات المعيارية لعلامات الطلبة على الإختبار القبلي والبعدي للتحصيل للمجموعتين الضابطة والتجريبي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341360"/>
          <a:ext cx="8447040" cy="5216760"/>
        </p:xfrm>
        <a:graphic>
          <a:graphicData uri="http://schemas.openxmlformats.org/drawingml/2006/table">
            <a:tbl>
              <a:tblPr/>
              <a:tblGrid>
                <a:gridCol w="1616040"/>
                <a:gridCol w="1371600"/>
                <a:gridCol w="1495440"/>
                <a:gridCol w="1332000"/>
                <a:gridCol w="695160"/>
                <a:gridCol w="958680"/>
                <a:gridCol w="978120"/>
              </a:tblGrid>
              <a:tr h="1618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لبعد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 حسابي 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نحراف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    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متوسط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حسابي انحراف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معيار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</a:t>
                      </a: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تجريب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.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4.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0.9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ضابط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1.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.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2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ذكو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3.9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5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إنا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2.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3.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Simplified Arabic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000000"/>
                          </a:solidFill>
                          <a:latin typeface="Times New Roman"/>
                          <a:cs typeface="Simplified Arabic"/>
                        </a:rPr>
                        <a:t>المجمو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ظهر النتائج الواردة في الجدول رقم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أن متوسط علامات طلبة المجموعتين التجريبية والضابطة قد ازداد بشكل عام على الاختبار البعدي عنه على الاختبار القبل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إلا أن مقدار الزيادة في متوسط علامات المجموعة التجريبية(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1.82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ان أكبر من مقدار الزيادة في متوسطات علامات المجموعة الضابطة(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8.6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0"/>
            <a:ext cx="88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جدول رقم(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نتائج تحليل التباين المصاحب لأثر الطريقة والجنس والتفاعل بينهما على الاختبار البعدي للتحصيل بعد أخذ متغير التغاير( الأداء على الاختبار القبلي) بعين الاعتبار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266840"/>
          <a:ext cx="8136000" cy="4387680"/>
        </p:xfrm>
        <a:graphic>
          <a:graphicData uri="http://schemas.openxmlformats.org/drawingml/2006/table">
            <a:tbl>
              <a:tblPr/>
              <a:tblGrid>
                <a:gridCol w="1306440"/>
                <a:gridCol w="1320840"/>
                <a:gridCol w="1335240"/>
                <a:gridCol w="1077840"/>
                <a:gridCol w="1368360"/>
                <a:gridCol w="17272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ستوى الدلال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قيمة   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توسطات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درجات الحر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جموع المرب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مصدر التباي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.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7.4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اختبار القب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49.2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89.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طريقة التدري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5.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3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205.6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0.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6.3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9.4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0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جنس×الطريق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7.9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226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خط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JO" sz="2400" spc="-1" strike="noStrike">
                          <a:solidFill>
                            <a:srgbClr val="000000"/>
                          </a:solidFill>
                          <a:latin typeface="Dutch801 XBd BT"/>
                          <a:ea typeface="Simplified Arabic"/>
                        </a:rPr>
                        <a:t>300.4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400" spc="-1" strike="noStrike">
                          <a:solidFill>
                            <a:srgbClr val="333333"/>
                          </a:solidFill>
                          <a:latin typeface="Times New Roman"/>
                          <a:cs typeface="Simplified Arabic"/>
                        </a:rPr>
                        <a:t>المجموع الكل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الآت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جود فرق دال إحصائي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ي مستوى التحصيل في المفاهيم العلمي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 بمستوى دلالة مرتفعة يعزى لطريقة التدريس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صالح استخدام النموذج المنظومي المعرفي الشامل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كما تشير النتائج الواردة في الجدول رقم(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) إلى وجود فرق دال إحصائيا يعزى للتفاعل بين طريقة التدريس والجن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صالح مجموعة الإناث التي درست باستخدام النموذج المنظومي المعرفي الشامل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فسير النتائ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مكن أن ترجع هذه النتائج إلى أن التدريس باستخدام النموذج المنظومي المعرفي الشام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ربط بصورة تبادلية بين المعرفة ونظرية المعرفة والميتامعرفة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يح للطالب أن يربط بنفسه بين ما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رفة و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تعلمة والطريقة التي أوصلته إلى ذلك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 التحقق من صحة هذه المعرفة من خلال إعادة التفكير ب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جعل الطالب قادرا على تقويم ما يتعلم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ويترتب على ذلك الآتي</a:t>
            </a: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يقبل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تي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حقق من صحت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ضمها إلى بني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بصورة منظمة وذات معنى ووظيف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رفض المعرفة التي لا يتحقق منها ولا تنسجم مع المعايير الابستمولوج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، إذ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بقى غير منسجمة مع بنيته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لمفهومي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Arial"/>
              </a:rPr>
              <a:t>بخلاف ما يحدث في طريقة التدريس التقليدية التي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ركز فقط على الحفظ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عادة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, أي على بعد واحد من هذه الأبعاد الثلاث وهو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دون التركيز على كيفية الوصول إلى المعرفة أو كيفية التحقق من صحتها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التوصيات</a:t>
            </a:r>
            <a:r>
              <a:rPr b="1" lang="ar-SA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جراء دراسات أخرى لبيان مدى فعالية النموذج المنظومي المعرفي الشامل في تدريس مباحث دراسية أخرى غير العلوم ومراحل تعليمية مختلف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ضرورة إ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ا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ء هذا النموذج الاهتمام من قبل المتخصصين في التربية والتعليم وعقد دورات تدريبية لمعلمي العلوم أثناء الخدمة في المراحل المختلفة, لتدريبهم على استخدام النموذج المنظومي المعرفي الشامل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قوم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ذا النموذج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على مبدأ النظرة الشاملة لكل من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ظر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ابستمولوجيا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اورائية المعرف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( الميتامعرفة)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Arial"/>
              </a:rPr>
              <a:t>كل ذلك من خلال توظيف الرؤية المنظومية الت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تنظم الخبرات التعليم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وضح العلاقات بين المفاهي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وتربطه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عا بعلاقات شبكية تبادلية تفاعلية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منظم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لذلك فإن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بنية النموذج المنظومي المعرفي الشامل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تتأل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ن عناصر أساسية ثلاثة هي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- المعرفة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: وتشمل كل من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رفة التقرير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إجرائ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المعرفة الشرطي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2-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نظرية المعرفة  ( المعرفة الابستمولوجية</a:t>
            </a:r>
            <a:r>
              <a:rPr b="1" lang="ar-JO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تتمثل في المهارات المرتبطة بحدود معرفتن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- وبطبيعة المشكلات التي تواجهنا وتسعى للإجابة عن سؤال رئيس هو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ما الذي يميز المعرفة الصحيحة من المعرفة الخطأ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لهذا فهي تؤثر في قدرة الفرد على فهم طبيعة التعل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صدر الاختلافات الحاصلة في كيف يفكر 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ا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لفرد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ف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معلم الذي يحمل ابستمولوجيا ساذجة يعتقد غالبا بان المعرف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بسيط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واضح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محد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طلق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قابلة للتغيي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هي  قابلة للتعلم بسرع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توجب على المتعلمين حفظ المفاهيم والحقائق بالمحاضرة أو الإلقا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أما المعلم  الذي يحمل ابستمولوجيا سوية فيعتقد غالبا بـان المعرفة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معقد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نسب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غير حت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مكتسب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يمكن فحصه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ويمكن للمتعلم بناء معرفته العلمي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تدقيقها بنفس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وهذا يؤكد على ضرورة التوكيد على البعد الابستمولوجي في التعليم لأنه مفيدة للمعلم ف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-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المعايير الحاصلة لدى طلبت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ه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صحة معرفته وعلى تفسيراته وتعليلات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الحكم على مدى مناسبة أساليب التدريس التي يستخدمها في تحسين تعلم المفاهيم العلمية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6T22:03:27Z</dcterms:created>
  <dc:creator>nn</dc:creator>
  <dc:description/>
  <dc:language>en-US</dc:language>
  <cp:lastModifiedBy>netvista</cp:lastModifiedBy>
  <dcterms:modified xsi:type="dcterms:W3CDTF">2005-11-17T08:08:54Z</dcterms:modified>
  <cp:revision>28</cp:revision>
  <dc:subject/>
  <dc:title>الشريحة 1</dc:title>
</cp:coreProperties>
</file>