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3C6-2438-4802-B412-5CE9E988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C97-8996-47F1-AD43-77E6296D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F0E-11D9-4115-9953-228698FA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9D7-1000-4427-9315-3AF1D4C8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225-7F64-4684-8155-97CEB6E1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77F-4A93-4AFF-9EEC-05DED2E4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251-419E-4063-9430-100A1E84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B89-BC51-4047-82FD-DB3D5CD4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A40-4088-4125-8913-3004C644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839-0DB6-46EE-BC99-96CFE61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1E2-E746-4E03-9AF5-C5D0141D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820-9EEB-4B25-9BD6-C380179E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F0EB-3F3F-4B0A-92CE-77EE1E73C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557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ثر تدريس العلوم باستخدام المنحى المنظومي المعرفي الشامل في اكتساب المفاهيم العلمية لدى طلبة الصف الرابع الأس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. سليمان أحمد القاد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سم المناهج والتدري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ية العلوم التربوية –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امعة آل الب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فرق الأر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lqadere@aabu.edu.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يتا معر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تمثل بوعي الم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ظامه المعر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وات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عمل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من خلال مراقبته لعمليات تفكيره وتنظيمها وتقويهم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تتضح أهمية مهارات التفكير الميتا معرفية ف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طوي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لم الذاتي وتعلم كيف ن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تشتمل الميتا معرفة على بعدين أساسين هم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موجه نحو الأداء , ويتصل بمتابعة أداء المهارة الفعلي , والمحافظة على المكان والتتابع , واكتشاف الأخطاء وتصحيحها وتنظيم الع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ستراتيجي ويتضمن استخدام مهارة معينة في ظروف معينة مث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ركيز الانتباه على ما هو مطل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ربط التعلم الجديد بالسابق ذي العلا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ياس صحة الاستراتيجية المناس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لذلك فإ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بعد الميتامعرف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مكن أن يساعد على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تساب المفاهيم المختلف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صورة وظيفية وذات معن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رات التفكير العليا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زي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عي الفرد لتفكيره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زيد من قدرته على تطبيق ما 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شف الأخطاء التي قد يقع فيه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طوير تفكيره , ليصبح فردا مستقلا في تفك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راحل النموذج المعرفي الشامل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شتمل النموذج المقترح  على ثلاث مراحل رئيس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انطلاق من البعد المعر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بدأ الممارسات التدريسية للمعلم بالبعد المعرفي لمحتوى التعلم كنقطة انطلاق، وقد تتمثل بتوجيه اهتمام طلبته لظاهرة علمية أو مفهوم علمي أو حادثة غري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تقصي الظاهرة أو المفهوم ابستمولوج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تم ذلك من خلال البحث 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بيعة ذلك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دى دقته وصح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نسجامه مع المنطق ومع الواقع العم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دعم التجريبي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عتبارها من المعايير الابستمولوجية 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ستخدم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تعلم في أثناء تعلم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تفكير الميتامعرفي للتعل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فيها المعلم بتوج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لبته لوع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مليات التفكير المتصلة بمحتوى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بطرق بنائ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وعي مدى دقة الدعم التجريبي 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ي يتم فيها وعي لما يحدث في المرحلتين السابقت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توضيح ذلك بالشكل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71640" y="333360"/>
            <a:ext cx="7272000" cy="5544720"/>
            <a:chOff x="971640" y="333360"/>
            <a:chExt cx="7272000" cy="5544720"/>
          </a:xfrm>
        </p:grpSpPr>
        <p:sp>
          <p:nvSpPr>
            <p:cNvPr id="70" name=""/>
            <p:cNvSpPr/>
            <p:nvPr/>
          </p:nvSpPr>
          <p:spPr>
            <a:xfrm>
              <a:off x="971640" y="3351600"/>
              <a:ext cx="2671560" cy="2526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ميتامعرف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وتشمل وعي الفرد لسلوكه وللعلم الذي يدرّسه ، أي وعي التفكير المتصل بالمعرفة ونظرية الم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رف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23160" y="333360"/>
              <a:ext cx="2453400" cy="237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عرف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وتشمل محتوى العلم وعملياته وطرق بنائه وشروط 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76560" y="3139200"/>
              <a:ext cx="2467080" cy="25041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ابستمولوج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تشمل سلوك المعلم في التحقق من دقة ممارساته التدريسية والعلم الذي يدرسة وحدود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67600" y="2416680"/>
              <a:ext cx="9201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29520" y="4650480"/>
              <a:ext cx="214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13480" y="2500920"/>
              <a:ext cx="8175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تبسيط هذا النموذج بالشكل التالي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58920" y="1112760"/>
            <a:ext cx="6121080" cy="4979880"/>
            <a:chOff x="1258920" y="1112760"/>
            <a:chExt cx="6121080" cy="4979880"/>
          </a:xfrm>
        </p:grpSpPr>
        <p:sp>
          <p:nvSpPr>
            <p:cNvPr id="78" name=""/>
            <p:cNvSpPr/>
            <p:nvPr/>
          </p:nvSpPr>
          <p:spPr>
            <a:xfrm>
              <a:off x="1258920" y="3823560"/>
              <a:ext cx="2248920" cy="2269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حققت من صحة معرفتك ومن طرق الوصول إلي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38200" y="1112760"/>
              <a:ext cx="2065320" cy="21376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اذا تعلم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عرفة إجرائية أو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ريرية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شرط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03520" y="3632760"/>
              <a:ext cx="2076480" cy="22489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وصلت إلى معرفت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9360" y="2983680"/>
              <a:ext cx="77436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6320" y="4989960"/>
              <a:ext cx="180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893680" y="3059280"/>
              <a:ext cx="68832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زايا النموذج المقترح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ممارسات التدريسية من الإلقاء والتلقين إلى الممارسات التي تؤكد على التفكير الحر الموج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التفكير الذي يبدأ بالمعلومة فيستقصيها بالبحث والتدقيق باعتماد معايير ابستمولوجية مناسبة لتحويلها إلى معرفة ح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إعادة  التفكير فيما أنتجه من معرفة ليعي مدى دقة تلك المعرفة ومدى دقة العمليات المتصلة بها, ومدى دقة المعايير المستخدمة في الحكم على صحة ادعاء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هذا يتضم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عادة التفكير بالمعرفة وبنظرية المعرفة المتصلة ب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هداف الدراس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عى الدراسة إلى الإجابة عن السؤالين الآتي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طريقة التدريس(نموذج منظومي,طريقة تقليدية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لتفاعل بين طريقة التدريس (نموذج منظومي, طريقة تقليدية) والجنس(ذكور,إناث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دم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داد اهتمام الأنظمة التربو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تطوي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ماذج تدريس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رفع سوية العملية الترب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تصبح قادرة على إعداد أفراد يملكون القدرة على مواكبة روح العص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ن هذه النماذج المقتر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طريقة والإجراءا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كونت عينة الدراسة من ثمانية شعب من طلبة الصف الرابع الأساسي في مدارس كفرعوان/ بشمال الأردن للعام الدراسي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اختيا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العين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الطريقة العشوائية العنقودية وبلغ عدد أفراد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طالبا وطال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ستخدم في الدراسة  اختبار تحصيلي تكون من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فقره من نوع الاختيار من متعدد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بعد أ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م التحقق من معاملات الصعوبة والتمييز لفقرا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كذلك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حقق من صدق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ثبات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تطبيق الاختبار التحصيلي على المجموعتين قبل البدء بالدراسة وبعد الانتهاء منها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مباش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أدخلت البيانات إلى الحاسوب وجرى تحليلها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PSS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تغيرات الدراس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ات المستقل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وتتمثل في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‌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ريقة التدري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نموذج المنظومي المعرفي الشام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يقة التدريس التقلي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‌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  الجنس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له مستويان هما: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ذكو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اث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 التاب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- وتتمثل في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ستو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حصيل في  المفاهيم الع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صميم الدراس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       تعد هذه الدراسة من الدراسات شبة التجريبية وفق  التصميم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تجريبية( إختبار قبلي _  تدريس بإستخدام النموذج _  إختبار بعد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ضابطة( إختبار قبلي _  تدريس تقليدي _  إختبار بعدي)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ـــــــــ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نتائج الدراس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كانت على النحو الآتي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وسطات الحسابية والانحرافات المعيارية لعلامات الطلبة على الإختبار القبلي والبعدي للتحصيل للمجموعتين الضابطة والتجريبي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341360"/>
          <a:ext cx="8447040" cy="5216760"/>
        </p:xfrm>
        <a:graphic>
          <a:graphicData uri="http://schemas.openxmlformats.org/drawingml/2006/table">
            <a:tbl>
              <a:tblPr/>
              <a:tblGrid>
                <a:gridCol w="1616040"/>
                <a:gridCol w="1371600"/>
                <a:gridCol w="1495440"/>
                <a:gridCol w="1332000"/>
                <a:gridCol w="695160"/>
                <a:gridCol w="958680"/>
                <a:gridCol w="978120"/>
              </a:tblGrid>
              <a:tr h="161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لبع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 حسابي 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نحراف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حسابي انحراف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ج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4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ضاب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3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ظهر النتائج الواردة في الجدول رق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متوسط علامات طلبة المجموعتين التجريبية والضابطة قد ازداد بشكل عام على الاختبار البعدي عنه على الاختبار القب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لا أن مقدار الزيادة في متوسط علامات المجموعة التجريبية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.8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ان أكبر من مقدار الزيادة في متوسطات علامات المجموعة الضابطة(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دول رقم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تائج تحليل التباين المصاحب لأثر الطريقة والجنس والتفاعل بينهما على الاختبار البعدي للتحصيل بعد أخذ متغير التغاير( الأداء على الاختبار القبلي) بعين الاعتبا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266840"/>
          <a:ext cx="8136000" cy="4387680"/>
        </p:xfrm>
        <a:graphic>
          <a:graphicData uri="http://schemas.openxmlformats.org/drawingml/2006/table">
            <a:tbl>
              <a:tblPr/>
              <a:tblGrid>
                <a:gridCol w="1306440"/>
                <a:gridCol w="1320840"/>
                <a:gridCol w="1335240"/>
                <a:gridCol w="1077840"/>
                <a:gridCol w="1368360"/>
                <a:gridCol w="1727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ستوى الدلا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قيمة   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توسطات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درجات الح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جموع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صدر التبا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.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49.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طريقة التدري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5.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6.3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×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7.9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2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خط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00.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جود فرق دال إحصائي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مستوى التحصيل في المفاهيم العل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مستوى دلالة مرتفعة يعزى لطريقة التدريس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صالح استخدام النموذج المنظومي المعرفي الشا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ما 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وجود فرق دال إحصائيا يعزى للتفاعل بين طريقة التدريس والجن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صالح مجموعة الإناث التي درست باستخدام النموذج المنظومي المعرفي الشام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فسير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أن ترجع هذه النتائج إلى أن التدريس باستخدام النموذج المنظومي المعرفي الشام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بط بصورة تبادلية بين المعرفة ونظرية المعرفة والميتامعرف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يح للطالب أن يربط بنفسه بين م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رفة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ة والطريقة التي أوصلته إلى ذلك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التحقق من صحة هذه المعرفة من خلال إعادة التفكير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عل الطالب قادرا على تقويم ما يتعل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ويترتب على ذلك الآتي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ب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حقق من صحت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ضمها إلى بني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صورة منظمة وذات معنى ووظي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رفض المعرفة التي لا يتحقق منها ولا تنسجم مع المعايير الابستمولوج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إذ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قى غير منسجمة مع بنيت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بخلاف ما يحدث في طريقة التدريس التقليدية الت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ركز فقط على الحفظ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ع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أي على بعد واحد من هذه الأبعاد الثلاث وهو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دون التركيز على كيفية الوصول إلى المعرفة أو كيفية التحقق من صحتها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وصيات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جراء دراسات أخرى لبيان مدى فعالية النموذج المنظومي المعرفي الشامل في تدريس مباحث دراسية أخرى غير العلوم ومراحل تعليمية 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ء هذا النموذج الاهتمام من قبل المتخصصين في التربية والتعليم وعقد دورات تدريبية لمعلمي العلوم أثناء الخدمة في المراحل المختلفة, لتدريبهم على استخدام النموذج المنظومي المعرفي الشا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ذا النموذج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مبدأ النظرة الشاملة لكل م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ظر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ابستمولوجيا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ورائ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ميتامعرفة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ل ذلك من خلال توظيف الرؤية المنظومية ا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نظم الخبرات التعلي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وضح العلاقات بين ال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تربط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ا بعلاقات شبكية تبادلية تفاعل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ذلك فإ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نية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أل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عناصر أساسية ثلاث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وتشمل كل م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التقرير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إجرائ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شرط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رية المعرفة  ( المعرفة الابستمولوجية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تمثل في المهارات المرتبطة بحدود معرفت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بطبيعة المشكلات التي تواجهنا وتسعى للإجابة عن سؤال رئيس ه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ا الذي يميز المعرفة الصحيحة من المعرفة الخطأ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هذا فهي تؤثر في قدرة الفرد على فهم طبيعة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صدر الاختلافات الحاصلة في كيف يفكر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فرد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لم الذي يحمل ابستمولوجيا ساذجة يعتقد غالبا بان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يط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واض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حد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طل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قابلة للتغي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ي  قابلة للتعلم بسر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توجب على المتعلمين حفظ المفاهيم والحقائق بالمحاضرة أو الإلق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ما المعلم  الذي يحمل ابستمولوجيا سوية فيعتقد غالبا بـان المعرف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حت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كت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فحص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للمتعلم بناء معرفته العل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دقيقها ب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ا يؤكد على ضرورة التوكيد على البعد الابستمولوجي في التعليم لأنه مفيدة للمعلم 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المعايير الحاصلة لدى طلب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معرفته وعلى تفسيراته وتعليل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مدى مناسبة أساليب التدريس التي يستخدمها في تحسين تعلم المفاهيم العلمية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2:03:27Z</dcterms:created>
  <dc:creator>nn</dc:creator>
  <dc:description/>
  <dc:language>en-US</dc:language>
  <cp:lastModifiedBy>netvista</cp:lastModifiedBy>
  <dcterms:modified xsi:type="dcterms:W3CDTF">2005-11-17T08:08:54Z</dcterms:modified>
  <cp:revision>28</cp:revision>
  <dc:subject/>
  <dc:title>الشريحة 1</dc:title>
</cp:coreProperties>
</file>