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1BA76-56BF-431E-833C-20B4012CC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B5653-B1DE-43AF-A454-1FDADD25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5FCF5-8CA6-4EBC-9F4A-B5BBECB17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74D23-6DA6-4AB2-8E83-E82674235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0661-F48F-4A70-93CF-09ADB2AA8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0C5D-F6F4-45C0-9979-2886E135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426D-4262-446C-93AD-B1086141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D12D-A867-4D3B-8004-7BC4B833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75BF4-FEB6-4AC4-A243-6370F732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5953-8757-46BD-A84C-697D93FB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0B6E-E331-4617-8D04-804FE7CF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2709C-069F-4326-BABB-6E545831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3F5F-3765-4670-B2DE-AC433689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EF14-CCFA-4F50-9D5B-A90A4A70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4DC3-5520-40CE-9EA7-A6D43463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64A0-3136-4289-92B1-10194CAD0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30A9-3698-4BCA-A69C-CCD10858F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73946-1E6F-4D44-AD58-6E1F9F262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911F8-F9D7-4832-BAF2-1BCBCF25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F6DF4-622D-4EAB-9E9C-CBDBACCF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AE83B-08BC-4EBD-829E-C2190A40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73758-79D2-4D61-B477-B3C46122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77F09-73F4-42F1-A2E2-B50E76B0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604DB-9746-43F1-8370-715C6DEA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A4012-D374-44A0-961D-D7AADE69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2ABC9-FA9E-455D-89E3-AE649AD3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EA1E9-9463-45C5-8429-9AD5B2A7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49A05-01D1-426B-ACDF-6BEFDD79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BF384-E469-4EA7-867D-23021AC84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36001-B4E5-496A-946C-83A215E9A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3F65A-E13C-4413-80F5-7B533DFAD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67177-6CDA-4DAD-A063-F2DEFC85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BDC58-BAB6-401C-90FD-E44DEFE4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FC94A-5231-4522-AD10-9B908D27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F4E51-156E-4BB7-B1C8-776CBBA1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E9E29-3D2A-4324-A0D0-9CBF038C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F703A-DFCB-455C-8256-1F4C6B07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BC940-9803-4AA1-8BE6-06DF6906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20D26-DAC2-4B06-A141-9C6DD2D5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5D289-E475-4DB0-B902-8B0E9DF5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28EC4-9059-4A5E-B374-31CD145F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1CC4C-5E9E-4F89-861C-5DB7B59AD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2DF7A-5BF9-4BFA-BF4C-268D3E31D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0F2C3-C916-4A8A-9D2D-918B3078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1B637-1102-4EBF-A9C0-E746A2F4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3B6C0-87F4-4C8E-88D2-1CA49212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4F815-2147-47D6-B228-32C1655F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2786D-D2B5-464D-A355-D2C14AE0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B923-82AA-41AF-977E-315EDE93B7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5ED4-6198-4D8C-AF39-9CDF47E89C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06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07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10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13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6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24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27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45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3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8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F99C-0E2C-4B06-8D71-F2C814EE7591}" type="slidenum">
              <a:rPr b="0" lang="ar-SA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82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83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0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91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92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4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95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7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98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01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04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07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9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10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13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5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16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19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22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4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25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7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28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0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31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34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6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37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9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40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2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43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5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46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49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52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4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6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57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9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60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2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63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5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66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1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72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4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75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7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78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0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81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3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84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89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90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8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9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00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A417-BCE2-43BF-AFE8-DB9191260E17}" type="slidenum">
              <a:rPr b="0" lang="ar-SA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321840" y="1196640"/>
            <a:ext cx="6874200" cy="13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ff3300"/>
                </a:solidFill>
                <a:latin typeface="Arial Black"/>
              </a:rPr>
              <a:t>استراتيجية التعلم التعاوني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611280" y="2565000"/>
            <a:ext cx="6767280" cy="302436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اعداد وتقديم 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المعلمة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/ حليمة يوسف العرب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مدرسة الشيماء الثانوية للبنات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af273e"/>
                </a:solidFill>
                <a:latin typeface="Arial Black"/>
              </a:rPr>
              <a:t>ب – مرحلة التخطيط</a:t>
            </a:r>
            <a:r>
              <a:rPr b="1" lang="en-US" sz="4400" spc="-1" strike="noStrike">
                <a:solidFill>
                  <a:srgbClr val="af273e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af273e"/>
                </a:solidFill>
                <a:latin typeface="Arial Black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24000" y="1889280"/>
            <a:ext cx="8353440" cy="4968720"/>
          </a:xfrm>
          <a:prstGeom prst="rect">
            <a:avLst/>
          </a:prstGeom>
          <a:noFill/>
          <a:ln w="76320">
            <a:solidFill>
              <a:srgbClr val="af273e"/>
            </a:solidFill>
            <a:miter/>
          </a:ln>
        </p:spPr>
        <p:txBody>
          <a:bodyPr anchor="t">
            <a:normAutofit fontScale="97000"/>
          </a:bodyPr>
          <a:p>
            <a:pPr marL="332640" indent="-332640" algn="r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1- </a:t>
            </a:r>
            <a:r>
              <a:rPr b="1" lang="hi-IN" sz="2800" spc="-1" strike="noStrike">
                <a:solidFill>
                  <a:srgbClr val="ffcc00"/>
                </a:solidFill>
                <a:latin typeface="Arial Black"/>
              </a:rPr>
              <a:t>اختيار وحدة من المنهج الدراسي لتطبيق طريقة التعلم التعاوني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 algn="r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2- </a:t>
            </a:r>
            <a:r>
              <a:rPr b="1" lang="hi-IN" sz="2800" spc="-1" strike="noStrike">
                <a:solidFill>
                  <a:srgbClr val="ffcc00"/>
                </a:solidFill>
                <a:latin typeface="Arial Black"/>
              </a:rPr>
              <a:t>تحديد الاهداف الاكاديمية والتعاونية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 algn="r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2- </a:t>
            </a:r>
            <a:r>
              <a:rPr b="1" lang="hi-IN" sz="2800" spc="-1" strike="noStrike">
                <a:solidFill>
                  <a:srgbClr val="ffcc00"/>
                </a:solidFill>
                <a:latin typeface="Arial Black"/>
              </a:rPr>
              <a:t>توفير مصادر معلومات مختلفة ( كتب – مواقع نت – اشرطة فيديو – برامج كمبيوترجاهزه – اعداد برامج بور بوينت .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 algn="r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3-</a:t>
            </a:r>
            <a:r>
              <a:rPr b="1" lang="hi-IN" sz="2800" spc="-1" strike="noStrike">
                <a:solidFill>
                  <a:srgbClr val="ffcc00"/>
                </a:solidFill>
                <a:latin typeface="Arial Black"/>
              </a:rPr>
              <a:t>اعداد رزمة تعليمية ( دليل الطالب )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 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 algn="r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4- </a:t>
            </a:r>
            <a:r>
              <a:rPr b="1" lang="hi-IN" sz="2800" spc="-1" strike="noStrike">
                <a:solidFill>
                  <a:srgbClr val="ffcc00"/>
                </a:solidFill>
                <a:latin typeface="Arial Black"/>
              </a:rPr>
              <a:t>تعديل جدول الحصص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 algn="r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5- </a:t>
            </a:r>
            <a:r>
              <a:rPr b="1" lang="hi-IN" sz="2800" spc="-1" strike="noStrike">
                <a:solidFill>
                  <a:srgbClr val="ffcc00"/>
                </a:solidFill>
                <a:latin typeface="Arial Black"/>
              </a:rPr>
              <a:t>توفير وسائل تكنولوجية ( الحاسب –الداتاشو – الفيديو – التلفاز 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 algn="r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6- </a:t>
            </a:r>
            <a:r>
              <a:rPr b="1" lang="hi-IN" sz="2800" spc="-1" strike="noStrike">
                <a:solidFill>
                  <a:srgbClr val="ffcc00"/>
                </a:solidFill>
                <a:latin typeface="Arial Black"/>
              </a:rPr>
              <a:t>حجز قاعة في المدرسة لتنفيذ الطريقة فيها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 algn="r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7- </a:t>
            </a:r>
            <a:r>
              <a:rPr b="1" lang="hi-IN" sz="2800" spc="-1" strike="noStrike">
                <a:solidFill>
                  <a:srgbClr val="ffcc00"/>
                </a:solidFill>
                <a:latin typeface="Arial Black"/>
              </a:rPr>
              <a:t>توعية الطالبات حول التعلم التعاوني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321840" y="1988640"/>
            <a:ext cx="864252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3399"/>
                </a:solidFill>
                <a:latin typeface="Arial Black"/>
              </a:rPr>
              <a:t>تم تنفيذ الخطة بناءَ على مراحل تنفيذ استراتيجية التعلم التعاوني</a:t>
            </a:r>
            <a:r>
              <a:rPr b="1" lang="en-US" sz="3200" spc="-1" strike="noStrike">
                <a:solidFill>
                  <a:srgbClr val="ff3399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684000" y="10062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af273e"/>
                </a:solidFill>
                <a:latin typeface="Arial Black"/>
              </a:rPr>
              <a:t>جـ – مرحلة التنفيذ</a:t>
            </a:r>
            <a:r>
              <a:rPr b="1" lang="en-US" sz="4400" spc="-1" strike="noStrike">
                <a:solidFill>
                  <a:srgbClr val="af273e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af273e"/>
                </a:solidFill>
                <a:latin typeface="Arial Black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5" name=""/>
          <p:cNvSpPr/>
          <p:nvPr/>
        </p:nvSpPr>
        <p:spPr>
          <a:xfrm>
            <a:off x="900000" y="3141720"/>
            <a:ext cx="700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af273e"/>
                </a:solidFill>
                <a:latin typeface="Arial Black"/>
              </a:rPr>
              <a:t>د – مرحلة الملاحظة</a:t>
            </a:r>
            <a:r>
              <a:rPr b="1" lang="en-US" sz="4400" spc="-1" strike="noStrike">
                <a:solidFill>
                  <a:srgbClr val="af273e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af273e"/>
                </a:solidFill>
                <a:latin typeface="Arial Black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84360" y="4365720"/>
            <a:ext cx="78562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3399"/>
                </a:solidFill>
                <a:latin typeface="Arial Black"/>
              </a:rPr>
              <a:t>تدوين ملاحظة المعلمة على مدى كفاءة تنفيذ الخطة</a:t>
            </a:r>
            <a:r>
              <a:rPr b="1" lang="en-US" sz="3200" spc="-1" strike="noStrike">
                <a:solidFill>
                  <a:srgbClr val="ff3399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50840" y="934920"/>
            <a:ext cx="8713800" cy="5257800"/>
          </a:xfrm>
          <a:prstGeom prst="rect">
            <a:avLst/>
          </a:prstGeom>
          <a:noFill/>
          <a:ln w="76320">
            <a:solidFill>
              <a:srgbClr val="af27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545840" y="312480"/>
            <a:ext cx="564660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>
                <a:solidFill>
                  <a:srgbClr val="af273e"/>
                </a:solidFill>
                <a:latin typeface="Arial Black"/>
              </a:rPr>
              <a:t>د – التقييم</a:t>
            </a:r>
            <a:r>
              <a:rPr b="1" lang="ar-OM" sz="4400" spc="-1" strike="noStrike">
                <a:solidFill>
                  <a:srgbClr val="af273e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30040" y="1628640"/>
            <a:ext cx="8686800" cy="3888000"/>
          </a:xfrm>
          <a:prstGeom prst="rect">
            <a:avLst/>
          </a:prstGeom>
          <a:noFill/>
          <a:ln w="76320">
            <a:solidFill>
              <a:srgbClr val="af273e"/>
            </a:solidFill>
            <a:miter/>
          </a:ln>
        </p:spPr>
        <p:txBody>
          <a:bodyPr lIns="90000" rIns="90000" tIns="46800" bIns="46800" anchor="t">
            <a:normAutofit fontScale="86000"/>
          </a:bodyPr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التقييم قائم على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اختبار قبلي                      *  اختبار بعدي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تطبيقات                          * الواجبات المنزلية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الملاحظة المنظمة على اداء الطالبات خلال الحصص التعاونية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الملاحظة المنظمة من قبل الموجه الفني والمعلم الزميل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استبيان حول اراء الطالبات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>
                <a:solidFill>
                  <a:srgbClr val="af273e"/>
                </a:solidFill>
                <a:latin typeface="Arial Black"/>
              </a:rPr>
              <a:t>هـ - النتائج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76320">
            <a:solidFill>
              <a:srgbClr val="af273e"/>
            </a:solidFill>
            <a:miter/>
          </a:ln>
        </p:spPr>
        <p:txBody>
          <a:bodyPr lIns="90000" rIns="90000" tIns="46800" bIns="46800" anchor="t">
            <a:normAutofit fontScale="88000"/>
          </a:bodyPr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Arial Black"/>
              </a:rPr>
              <a:t>1-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بعد تحليل نتائج الاختبارات كان هناك تحسن كبير في مستوى الطالبات التحصيلي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Arial Black"/>
              </a:rPr>
              <a:t>2- </a:t>
            </a:r>
            <a:r>
              <a:rPr b="1" lang="ar-SA" sz="3200" spc="-1" strike="noStrike">
                <a:solidFill>
                  <a:srgbClr val="ff3399"/>
                </a:solidFill>
                <a:latin typeface="Arial Black"/>
              </a:rPr>
              <a:t>كذلك انعكست النتائج على شخصية الطالبات</a:t>
            </a:r>
            <a:r>
              <a:rPr b="1" lang="ar-SA" sz="3200" spc="-1" strike="noStrike">
                <a:solidFill>
                  <a:srgbClr val="ff3399"/>
                </a:solidFill>
                <a:latin typeface="Arial Black"/>
              </a:rPr>
              <a:t> </a:t>
            </a:r>
            <a:r>
              <a:rPr b="1" lang="ar-SA" sz="3200" spc="-1" strike="noStrike">
                <a:solidFill>
                  <a:srgbClr val="ff33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Arial Black"/>
              </a:rPr>
              <a:t>3- </a:t>
            </a:r>
            <a:r>
              <a:rPr b="1" lang="ar-SA" sz="3200" spc="-1" strike="noStrike">
                <a:solidFill>
                  <a:srgbClr val="ff3399"/>
                </a:solidFill>
                <a:latin typeface="Arial Black"/>
              </a:rPr>
              <a:t>استفادت الطالبات كذلك في اكتساب مهارات جديدة مثل المهارات الاجتماعية – البحثية  - استخدام الخرائط الذهنية - مهارات التفكير الابداعي</a:t>
            </a:r>
            <a:r>
              <a:rPr b="1" lang="ar-SA" sz="3200" spc="-1" strike="noStrike">
                <a:solidFill>
                  <a:srgbClr val="ff3399"/>
                </a:solidFill>
                <a:latin typeface="Arial Black"/>
              </a:rPr>
              <a:t> </a:t>
            </a:r>
            <a:r>
              <a:rPr b="1" lang="ar-SA" sz="3200" spc="-1" strike="noStrike">
                <a:solidFill>
                  <a:srgbClr val="ff33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1</a:t>
            </a:r>
            <a:r>
              <a:rPr b="1" lang="ar-SA" sz="4000" spc="-1" strike="noStrike">
                <a:solidFill>
                  <a:srgbClr val="006666"/>
                </a:solidFill>
                <a:latin typeface="Arial"/>
              </a:rPr>
              <a:t>- تحليل تحصيل الطالبات:</a:t>
            </a:r>
            <a:br>
              <a:rPr sz="4000"/>
            </a:br>
            <a:r>
              <a:rPr b="1" lang="ar-OM" sz="4000" spc="-1" strike="noStrike">
                <a:solidFill>
                  <a:srgbClr val="006666"/>
                </a:solidFill>
                <a:latin typeface="Arial"/>
              </a:rPr>
              <a:t>أ – تحليل نتائج الاختبار القبل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4211640" y="2362320"/>
          <a:ext cx="4753080" cy="4087800"/>
        </p:xfrm>
        <a:graphic>
          <a:graphicData uri="http://schemas.openxmlformats.org/drawingml/2006/table">
            <a:tbl>
              <a:tblPr/>
              <a:tblGrid>
                <a:gridCol w="1533600"/>
                <a:gridCol w="752400"/>
                <a:gridCol w="1085760"/>
                <a:gridCol w="1381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ستوى الطالب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كرا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ركز الفئ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نسبة المئو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متا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جيد جدا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جي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توس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حت المتوس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ضعي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ضعيف جدا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gradFill rotWithShape="0">
            <a:gsLst>
              <a:gs pos="0">
                <a:srgbClr val="98cc98">
                  <a:alpha val="49019"/>
                </a:srgbClr>
              </a:gs>
              <a:gs pos="100000">
                <a:srgbClr val="b9dcb9">
                  <a:alpha val="4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356000" y="198900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درجة الامتحان : (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درجة ) عدد الطالبات : (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طالبة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0" y="2492280"/>
          <a:ext cx="367200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92280"/>
                    <a:ext cx="367200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9" name=""/>
          <p:cNvSpPr/>
          <p:nvPr/>
        </p:nvSpPr>
        <p:spPr>
          <a:xfrm>
            <a:off x="3348000" y="551664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1800" spc="-1" strike="noStrike">
                <a:solidFill>
                  <a:srgbClr val="000000"/>
                </a:solidFill>
                <a:latin typeface="Arial"/>
              </a:rPr>
              <a:t>مراكز الفئ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227664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1800" spc="-1" strike="noStrike">
                <a:solidFill>
                  <a:srgbClr val="000000"/>
                </a:solidFill>
                <a:latin typeface="Arial"/>
              </a:rPr>
              <a:t>التكرا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50920" y="1700280"/>
            <a:ext cx="3456000" cy="642600"/>
          </a:xfrm>
          <a:prstGeom prst="rect">
            <a:avLst/>
          </a:prstGeom>
          <a:noFill/>
          <a:ln w="763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1800" spc="-1" strike="noStrike">
                <a:solidFill>
                  <a:srgbClr val="000000"/>
                </a:solidFill>
                <a:latin typeface="Arial"/>
              </a:rPr>
              <a:t>التمثيل البياني : باستخدام الأعمدة البيان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1</a:t>
            </a:r>
            <a:r>
              <a:rPr b="1" lang="ar-SA" sz="4000" spc="-1" strike="noStrike">
                <a:solidFill>
                  <a:srgbClr val="006666"/>
                </a:solidFill>
                <a:latin typeface="Arial"/>
              </a:rPr>
              <a:t>- تحليل تحصيل الطالبات:</a:t>
            </a:r>
            <a:br>
              <a:rPr sz="4000"/>
            </a:br>
            <a:r>
              <a:rPr b="1" lang="ar-SA" sz="4000" spc="-1" strike="noStrike">
                <a:solidFill>
                  <a:srgbClr val="006666"/>
                </a:solidFill>
                <a:latin typeface="Arial"/>
              </a:rPr>
              <a:t>ب</a:t>
            </a:r>
            <a:r>
              <a:rPr b="1" lang="ar-OM" sz="4000" spc="-1" strike="noStrike">
                <a:solidFill>
                  <a:srgbClr val="006666"/>
                </a:solidFill>
                <a:latin typeface="Arial"/>
              </a:rPr>
              <a:t> – تحليل نتائج الاختبار </a:t>
            </a:r>
            <a:r>
              <a:rPr b="1" lang="ar-SA" sz="4000" spc="-1" strike="noStrike">
                <a:solidFill>
                  <a:srgbClr val="006666"/>
                </a:solidFill>
                <a:latin typeface="Arial"/>
              </a:rPr>
              <a:t>البعد</a:t>
            </a:r>
            <a:r>
              <a:rPr b="1" lang="ar-OM" sz="4000" spc="-1" strike="noStrike">
                <a:solidFill>
                  <a:srgbClr val="006666"/>
                </a:solidFill>
                <a:latin typeface="Arial"/>
              </a:rPr>
              <a:t>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4211640" y="2421000"/>
          <a:ext cx="4753080" cy="4087800"/>
        </p:xfrm>
        <a:graphic>
          <a:graphicData uri="http://schemas.openxmlformats.org/drawingml/2006/table">
            <a:tbl>
              <a:tblPr/>
              <a:tblGrid>
                <a:gridCol w="1533600"/>
                <a:gridCol w="752400"/>
                <a:gridCol w="1085760"/>
                <a:gridCol w="1381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ستوى الطالب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كرا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ركز الفئ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نسبة المئو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متا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جيد جدا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جي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توس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حت المتوس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ضعي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ضعيف جدا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5" name=""/>
          <p:cNvSpPr/>
          <p:nvPr/>
        </p:nvSpPr>
        <p:spPr>
          <a:xfrm>
            <a:off x="0" y="1989000"/>
            <a:ext cx="9144000" cy="4869000"/>
          </a:xfrm>
          <a:prstGeom prst="rect">
            <a:avLst/>
          </a:prstGeom>
          <a:gradFill rotWithShape="0">
            <a:gsLst>
              <a:gs pos="0">
                <a:srgbClr val="98cc98">
                  <a:alpha val="49019"/>
                </a:srgbClr>
              </a:gs>
              <a:gs pos="100000">
                <a:srgbClr val="b9dcb9">
                  <a:alpha val="4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356000" y="198900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درجة الامتحان : (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درجة ) عدد الطالبات : (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طالبة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68360" y="2205000"/>
            <a:ext cx="3456000" cy="642600"/>
          </a:xfrm>
          <a:prstGeom prst="rect">
            <a:avLst/>
          </a:prstGeom>
          <a:noFill/>
          <a:ln w="763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1800" spc="-1" strike="noStrike">
                <a:solidFill>
                  <a:srgbClr val="000000"/>
                </a:solidFill>
                <a:latin typeface="Arial"/>
              </a:rPr>
              <a:t>التمثيل البياني : باستخدام الأعمدة البيان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0" y="2708280"/>
          <a:ext cx="3708360" cy="41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08280"/>
                    <a:ext cx="3708360" cy="41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"/>
          <p:cNvSpPr/>
          <p:nvPr/>
        </p:nvSpPr>
        <p:spPr>
          <a:xfrm>
            <a:off x="250920" y="26370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1800" spc="-1" strike="noStrike">
                <a:solidFill>
                  <a:srgbClr val="000000"/>
                </a:solidFill>
                <a:latin typeface="Arial"/>
              </a:rPr>
              <a:t>التكرا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492360" y="573408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1800" spc="-1" strike="noStrike">
                <a:solidFill>
                  <a:srgbClr val="000000"/>
                </a:solidFill>
                <a:latin typeface="Arial"/>
              </a:rPr>
              <a:t>مراكز الفئ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16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2</a:t>
            </a:r>
            <a:r>
              <a:rPr b="1" lang="ar-SA" sz="4000" spc="-1" strike="noStrike">
                <a:solidFill>
                  <a:srgbClr val="006666"/>
                </a:solidFill>
                <a:latin typeface="Arial"/>
              </a:rPr>
              <a:t>- تحليل نتائج استبيان آراء الطالبات حول تطبيق طريقة التعلم التعاوني 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4572000" y="2133720"/>
          <a:ext cx="4319640" cy="4362480"/>
        </p:xfrm>
        <a:graphic>
          <a:graphicData uri="http://schemas.openxmlformats.org/drawingml/2006/table">
            <a:tbl>
              <a:tblPr/>
              <a:tblGrid>
                <a:gridCol w="1121040"/>
                <a:gridCol w="729720"/>
                <a:gridCol w="842040"/>
                <a:gridCol w="841320"/>
                <a:gridCol w="785520"/>
              </a:tblGrid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نسبة المئو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قم السؤا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اعر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ى حد م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نع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cc9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cc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cc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cc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cc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cc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cc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8cc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5" name=""/>
          <p:cNvSpPr/>
          <p:nvPr/>
        </p:nvSpPr>
        <p:spPr>
          <a:xfrm>
            <a:off x="0" y="1268280"/>
            <a:ext cx="9144000" cy="5445360"/>
          </a:xfrm>
          <a:prstGeom prst="rect">
            <a:avLst/>
          </a:prstGeom>
          <a:gradFill rotWithShape="0">
            <a:gsLst>
              <a:gs pos="0">
                <a:srgbClr val="98cc98">
                  <a:alpha val="49019"/>
                </a:srgbClr>
              </a:gs>
              <a:gs pos="100000">
                <a:srgbClr val="b9dcb9">
                  <a:alpha val="4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356000" y="162864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درجة الامتحان : (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درجة ) عدد الطالبات : (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طالبة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0" y="1700280"/>
          <a:ext cx="4427640" cy="49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00280"/>
                    <a:ext cx="4427640" cy="49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"/>
          <p:cNvSpPr/>
          <p:nvPr/>
        </p:nvSpPr>
        <p:spPr>
          <a:xfrm>
            <a:off x="0" y="14842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1800" spc="-1" strike="noStrike">
                <a:solidFill>
                  <a:srgbClr val="000000"/>
                </a:solidFill>
                <a:latin typeface="Arial"/>
              </a:rPr>
              <a:t>التمثيل البياني : باستخدام الأعمدة البيان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>
                <a:solidFill>
                  <a:srgbClr val="ff3300"/>
                </a:solidFill>
                <a:latin typeface="Arial Black"/>
              </a:rPr>
              <a:t>السلبيات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50560" y="2492280"/>
            <a:ext cx="8342280" cy="2376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spcBef>
                <a:spcPts val="11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800" spc="-1" strike="noStrike">
                <a:solidFill>
                  <a:srgbClr val="ffcc00"/>
                </a:solidFill>
                <a:latin typeface="Arial Black"/>
              </a:rPr>
              <a:t>لم أعثر بعد على سلبيات للتعلم التعاوني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>
                <a:solidFill>
                  <a:srgbClr val="ff3300"/>
                </a:solidFill>
                <a:latin typeface="Arial Black"/>
              </a:rPr>
              <a:t>الصعوبات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353440" cy="530064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زمن الحصة لم يكن كافياً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عدم توفر بعض الادوات المعملية بعدد المجموعات بسهولة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عدم توفر الوسائل التكنولوجية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 algn="r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صعوبة الحصول على مصادر معلومات متعلقة بالمنهج الدراسي لتوفيرها للمجموعات ( كتب – برامج حاسب)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 algn="r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لايمكن اعطاء الطالبات درجات فعلية على اعمالهن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>
                <a:solidFill>
                  <a:srgbClr val="ff3300"/>
                </a:solidFill>
                <a:latin typeface="Arial Black"/>
              </a:rPr>
              <a:t>التوصيات</a:t>
            </a:r>
            <a:r>
              <a:rPr b="1" lang="ar-OM" sz="44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8964720" cy="4751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-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أوصي بتوفير كافة الإمكانات التي تسهل تنفيذ هذه الطريقة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-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تدريب المعلمين على مهارة التدريس باستخدام طريقة التعلم التعاوني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-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يفضل تطبيق هذه الطريقة على الطالبات من المراحل الابتدائية الأولى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4-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تخصيص درجات أعلى لأعمال الطالبات  اسوة بالمدارس المستقلة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.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987280" y="692280"/>
            <a:ext cx="20401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ff3300"/>
                </a:solidFill>
                <a:latin typeface="Arial Black"/>
              </a:rPr>
              <a:t>المقدمة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411480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600" spc="-1" strike="noStrike">
                <a:solidFill>
                  <a:srgbClr val="ffcc00"/>
                </a:solidFill>
                <a:latin typeface="Arial Black"/>
              </a:rPr>
              <a:t>من خلال النهضة التعليمة والتطوير في مجال التربية والتعلم ظهرت عدة طرائق للتدريس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600" spc="-1" strike="noStrike">
                <a:solidFill>
                  <a:srgbClr val="ffcc00"/>
                </a:solidFill>
                <a:latin typeface="Arial Black"/>
              </a:rPr>
              <a:t>للنهوض بفكر الطالب لمستويات تعليمية 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أفضل</a:t>
            </a:r>
            <a:r>
              <a:rPr b="1" lang="ar-OM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 .</a:t>
            </a:r>
            <a:r>
              <a:rPr b="1" lang="ar-OM" sz="3600" spc="-1" strike="noStrike">
                <a:solidFill>
                  <a:srgbClr val="ffcc00"/>
                </a:solidFill>
                <a:latin typeface="Arial Black"/>
              </a:rPr>
              <a:t> وكان من بين الطرائق طريقة التعلم التعاوني التي كانت لها الأثر الواضح في الميدان التعليمي من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600" spc="-1" strike="noStrike">
                <a:solidFill>
                  <a:srgbClr val="ffcc00"/>
                </a:solidFill>
                <a:latin typeface="Arial Black"/>
              </a:rPr>
              <a:t>خلال النتائج الإيجابية على أرض الواقع</a:t>
            </a:r>
            <a:r>
              <a:rPr b="1" lang="ar-OM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6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79280" y="1196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 u="sng">
                <a:solidFill>
                  <a:srgbClr val="ff3300"/>
                </a:solidFill>
                <a:uFillTx/>
                <a:latin typeface="Arial Black"/>
              </a:rPr>
              <a:t>ما مفهوم التعلم التعاوني ؟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24000" y="2708280"/>
            <a:ext cx="8229600" cy="2519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التعلم التعاوني عبارة عن تفاعل مشترك بين عدد من الطلاب تختل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ف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بينهم الفروق الفردية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يعملون في ورشة عمل ضمن أهداف ومهارات تعاونية للوصول لهدف محدد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 u="sng">
                <a:solidFill>
                  <a:srgbClr val="ff3300"/>
                </a:solidFill>
                <a:uFillTx/>
                <a:latin typeface="Arial Black"/>
              </a:rPr>
              <a:t>أهداف التعلم التعاوني</a:t>
            </a:r>
            <a:r>
              <a:rPr b="1" lang="en-US" sz="4400" spc="-1" strike="noStrike" u="sng">
                <a:solidFill>
                  <a:srgbClr val="ff3300"/>
                </a:solidFill>
                <a:uFillTx/>
                <a:latin typeface="Arial Black"/>
              </a:rPr>
              <a:t> </a:t>
            </a:r>
            <a:r>
              <a:rPr b="1" lang="en-US" sz="4400" spc="-1" strike="noStrike" u="sng">
                <a:solidFill>
                  <a:srgbClr val="ff3300"/>
                </a:solidFill>
                <a:uFillTx/>
                <a:latin typeface="Arial Black"/>
              </a:rPr>
              <a:t>:</a:t>
            </a:r>
            <a:r>
              <a:rPr b="1" lang="en-US" sz="44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1" name=""/>
          <p:cNvSpPr/>
          <p:nvPr/>
        </p:nvSpPr>
        <p:spPr>
          <a:xfrm>
            <a:off x="971640" y="2133720"/>
            <a:ext cx="6335640" cy="521460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 - زرع روح التعاون بين الطلاب 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-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تطوير مهارات الطالب وارتقائه لمستوى أفضل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-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تفجير الطاقات العقلية الكامنة لدى الطلاب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–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 تحمل المسؤولية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5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- اتخاذ القرار السليم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- الجرأة والتقدم والبحث عما هو مفيد في مجرى حياته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 u="sng">
                <a:solidFill>
                  <a:srgbClr val="ff3300"/>
                </a:solidFill>
                <a:uFillTx/>
                <a:latin typeface="Arial Black"/>
              </a:rPr>
              <a:t>أهداف التعلم التعاوني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"/>
          <p:cNvSpPr/>
          <p:nvPr/>
        </p:nvSpPr>
        <p:spPr>
          <a:xfrm>
            <a:off x="684360" y="2133720"/>
            <a:ext cx="6840360" cy="521460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إتقان مهارة فن الاستماع والرد بطريقة مباشرة مهذبة</a:t>
            </a:r>
            <a:r>
              <a:rPr b="1" lang="ar-QA" sz="2400" spc="-1" strike="noStrike">
                <a:solidFill>
                  <a:srgbClr val="ffcc00"/>
                </a:solidFill>
                <a:latin typeface="Arial"/>
              </a:rPr>
              <a:t> 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-استنتاج المعلومات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المنافسة الشريفة التي تولد الطاقة عند الطالب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0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-إتاحة الفرصة للطالب لإبراز مواهبه وقدراته العقلية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قوة التركيز والانتباه والتأمل</a:t>
            </a:r>
            <a:r>
              <a:rPr b="1" lang="ar-QA" sz="24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مساعدة الآخرين والصعود للقمة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 u="sng">
                <a:solidFill>
                  <a:srgbClr val="ff3300"/>
                </a:solidFill>
                <a:uFillTx/>
                <a:latin typeface="Arial Black"/>
              </a:rPr>
              <a:t>لماذا التعلم التعاوني ؟</a:t>
            </a:r>
            <a:r>
              <a:rPr b="1" lang="ar-OM" sz="44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تحصيل أعلى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التذكر لفترة أطول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3200"/>
            </a:b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    *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استعمال أكثر لعمليات التفكير العليا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زيادة الأخذ بوجهات النظر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3200"/>
            </a:b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    *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مزيد من الدافعية الداخلية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مزيد من العلاقات الإيجابية بين الفئات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3200"/>
            </a:b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    *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احترام الذات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مزيد من التوافق النفسي الإيجابي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r>
              <a:rPr b="0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70920" y="404280"/>
            <a:ext cx="694548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>
                <a:solidFill>
                  <a:srgbClr val="ff3399"/>
                </a:solidFill>
                <a:latin typeface="Arial Black"/>
              </a:rPr>
              <a:t>عناصر نجاح التعلم التعاوني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684360" y="3019320"/>
            <a:ext cx="5786640" cy="2111760"/>
          </a:xfrm>
          <a:prstGeom prst="rect">
            <a:avLst/>
          </a:prstGeom>
          <a:solidFill>
            <a:srgbClr val="ff3399">
              <a:alpha val="49000"/>
            </a:srgbClr>
          </a:solidFill>
          <a:ln w="5724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OM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إن نجاح التعلم التعاوني يرتكز على المعلم والطالب معاٌ في إتقان كل منهما دور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ة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لتحقيق الهدف المرسوم لنجاح العملية التعليمية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1199880" y="2495160"/>
            <a:ext cx="6744240" cy="30866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ffe10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OM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ar-OM" sz="3200" spc="-1" strike="noStrike">
                <a:solidFill>
                  <a:srgbClr val="000000"/>
                </a:solidFill>
                <a:latin typeface="Arial Black"/>
              </a:rPr>
              <a:t>يعتبر التعلم التعاوني طريقة تثير الحماس والحيوية والتفكير في التعليم وهذا ما نسعى له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000000"/>
                </a:solidFill>
                <a:latin typeface="Arial Black"/>
              </a:rPr>
              <a:t>لتطوير مستويات الطلاب ونرتقي بفكرهم لدرجات عليا</a:t>
            </a:r>
            <a:r>
              <a:rPr b="0" lang="ar-OM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2453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af273e"/>
                </a:solidFill>
                <a:latin typeface="Arial Black"/>
              </a:rPr>
              <a:t>مراحل</a:t>
            </a:r>
            <a:r>
              <a:rPr b="1" lang="ar-OM" sz="3600" spc="-1" strike="noStrike">
                <a:solidFill>
                  <a:srgbClr val="af273e"/>
                </a:solidFill>
                <a:latin typeface="Arial Black"/>
              </a:rPr>
              <a:t> استخدام استراتيجية التعلم</a:t>
            </a:r>
            <a:r>
              <a:rPr b="1" lang="ar-OM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ar-OM" sz="3600" spc="-1" strike="noStrike">
                <a:solidFill>
                  <a:srgbClr val="af273e"/>
                </a:solidFill>
                <a:latin typeface="Arial Black"/>
              </a:rPr>
              <a:t>التعاوني</a:t>
            </a:r>
            <a:r>
              <a:rPr b="1" lang="ar-OM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ar-QA" sz="3600" spc="-1" strike="noStrike">
                <a:solidFill>
                  <a:srgbClr val="af273e"/>
                </a:solidFill>
                <a:latin typeface="Arial Black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76320">
            <a:solidFill>
              <a:srgbClr val="af273e"/>
            </a:solidFill>
            <a:miter/>
          </a:ln>
        </p:spPr>
        <p:txBody>
          <a:bodyPr anchor="t">
            <a:normAutofit fontScale="85000"/>
          </a:bodyPr>
          <a:p>
            <a:pPr marL="291600" indent="-29160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أ - مرحلة البحث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من خلال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-29160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دورات تدريبية عن استراتيجية التعلم التعاوني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-29160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*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الاطلاع على مراجع استراتيجية التعلم التعاوني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-29160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حضور دروس تطبق فيها التعلم التعاوني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-29160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استشارة خبراء تربويين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-29160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اجتماع مع موجهات ومعلمات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08:40:37Z</dcterms:created>
  <dc:creator>ahmed</dc:creator>
  <dc:description/>
  <dc:language>en-US</dc:language>
  <cp:lastModifiedBy>ahmed</cp:lastModifiedBy>
  <dcterms:modified xsi:type="dcterms:W3CDTF">2006-03-12T04:26:10Z</dcterms:modified>
  <cp:revision>18</cp:revision>
  <dc:subject/>
  <dc:title>السيرة الذاتية</dc:title>
</cp:coreProperties>
</file>