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729FF-43A2-4D82-AEC4-1553CFBC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79AFF-7C1A-4DE5-A428-7C86E047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940FC-243B-44DE-9F96-F4A3DC3B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ABED-0B18-4C2C-A774-64C9C82F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69F1-1E66-4F63-8BB0-183D2A6E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EFBC-3B1B-43E1-ABC5-72C3682A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F15D-BE2A-4751-B131-0002AD9B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E0FB-0E56-4CCA-AD27-A66F537D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6FFB-BB8F-48E0-BFF8-7D626D9B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C7FE-4C38-46A4-98D8-DA273B5A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67C1-8CEB-4CE6-B96E-E88A42C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D5AA-4EC8-4A02-8158-CB2BE541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24A9-48B5-4E47-ADE4-47D28632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C77F-02E4-4D64-A0D9-928B6A85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FC58-006B-4597-BB97-C4C540BC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E5F7-5E3A-4892-8A06-C066FF0A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A7F0-F75C-4836-9B4C-95C83A72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8CCAD-B200-4935-A464-FC9FF670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4B64F-1F45-4A30-9E21-56545BDC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B1127-77DA-4FF3-95AF-75E60E2A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BF1E0-122E-4656-8D1B-4CCB333D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42ED-BA75-428D-AA21-988E7186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C148-CC91-495A-B058-5FDA3CA4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AA8B1-9C5E-4C2E-8911-08032248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E89F-EDF1-4679-8494-4C869D91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FD1A6-5DBD-4D01-9845-DB25D89B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5547-BD0F-4812-B984-D00710A5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E0D22-8DB3-45A9-934A-548273F9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CB40A-CA48-40B5-A9FF-B332DD14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62F4-08A9-468E-9114-58B838E3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47663-4A59-426A-ADF4-9D9FFF79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67E98-B223-4EF2-B6FC-1ECD251B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1A0E7-285F-45E7-BAB2-71F95BF1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2E24-94A0-4600-81DB-7BE47E8E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EC034-4CB1-4AD2-A0CF-D6AF998C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1411B-7B69-4369-A79D-ED52E307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908E7-F9E9-4728-AC7A-6E6F1907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63330-4573-4FDF-A9E7-19C51F9A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5158-2424-4733-9651-CB63A552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E46F9-4386-42E1-8437-6E0B3FFE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8999-2EBB-4B25-8A3D-CD2C1C17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3AE7C-47D1-4412-BF3A-7290B551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32195-8611-4411-A53D-2BA06A48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F5DD-6FDE-42E6-90D2-0623830F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23A8-62E2-4803-972F-94208BF5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60121-30A2-4462-9F94-284C5894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2A39B-0829-4014-B1BE-FF7FEDD5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97D4-B6E0-4C20-B3F3-576E7C4D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9738-7A6D-4473-B143-B1BCF2F37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6AEB-B281-4A05-8588-5057731FE6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0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3A8A-F95D-4D06-8510-00F8504D41F1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8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B8B7-600D-48FE-9367-569AEE9F4F7B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21840" y="1196640"/>
            <a:ext cx="687420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3300"/>
                </a:solidFill>
                <a:latin typeface="Arial Black"/>
              </a:rPr>
              <a:t>استراتيجية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611280" y="2565000"/>
            <a:ext cx="6767280" cy="30243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اعداد وتقديم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لمعلم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/ حليمة يوسف العرب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مدرسة الشيماء الثانوية للبنات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ب – مرحلة التخطيط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353440" cy="496872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anchor="t">
            <a:normAutofit fontScale="97000"/>
          </a:bodyPr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1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اختيار وحدة من المنهج الدراسي لتطبيق طريقة التعلم التعاوني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حديد الاهداف الاكاديمية والتعاونية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2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فير مصادر معلومات مختلفة ( كتب – مواقع نت – اشرطة فيديو – برامج كمبيوترجاهزه – اعداد برامج بور بوينت .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3-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اعداد رزمة تعليمية ( دليل الطالب )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4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عديل جدول الحصص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5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فير وسائل تكنولوجية ( الحاسب –الداتاشو – الفيديو – التلفاز 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6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حجز قاعة في المدرسة لتنفيذ الطريقة فيها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 algn="r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7- </a:t>
            </a:r>
            <a:r>
              <a:rPr b="1" lang="hi-IN" sz="2800" spc="-1" strike="noStrike">
                <a:solidFill>
                  <a:srgbClr val="ffcc00"/>
                </a:solidFill>
                <a:latin typeface="Arial Black"/>
              </a:rPr>
              <a:t>توعية الطالبات حول التعلم التعاوني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21840" y="1988640"/>
            <a:ext cx="86425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99"/>
                </a:solidFill>
                <a:latin typeface="Arial Black"/>
              </a:rPr>
              <a:t>تم تنفيذ الخطة بناءَ على مراحل تنفيذ استراتيجية التعلم التعاوني</a:t>
            </a:r>
            <a:r>
              <a:rPr b="1" lang="en-US" sz="3200" spc="-1" strike="noStrike">
                <a:solidFill>
                  <a:srgbClr val="ff3399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684000" y="10062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جـ – مرحلة التنفيذ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"/>
          <p:cNvSpPr/>
          <p:nvPr/>
        </p:nvSpPr>
        <p:spPr>
          <a:xfrm>
            <a:off x="900000" y="3141720"/>
            <a:ext cx="700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af273e"/>
                </a:solidFill>
                <a:latin typeface="Arial Black"/>
              </a:rPr>
              <a:t>د – مرحلة الملاحظة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4360" y="4365720"/>
            <a:ext cx="7856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3399"/>
                </a:solidFill>
                <a:latin typeface="Arial Black"/>
              </a:rPr>
              <a:t>تدوين ملاحظة المعلمة على مدى كفاءة تنفيذ الخطة</a:t>
            </a:r>
            <a:r>
              <a:rPr b="1" lang="en-US" sz="3200" spc="-1" strike="noStrike">
                <a:solidFill>
                  <a:srgbClr val="ff3399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50840" y="934920"/>
            <a:ext cx="8713800" cy="52578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45840" y="312480"/>
            <a:ext cx="56466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د – التقييم</a:t>
            </a: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30040" y="1628640"/>
            <a:ext cx="8686800" cy="38880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lIns="90000" rIns="90000" tIns="46800" bIns="46800"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تقييم قائم على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ختبار قبلي                      *  اختبار بعدي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تطبيقات                          * الواجبات المنزلية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ملاحظة المنظمة على اداء الطالبات خلال الحصص التعاونية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لملاحظة المنظمة من قبل الموجه الفني والمعلم الزميل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استبيان حول اراء الطالبات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af273e"/>
                </a:solidFill>
                <a:latin typeface="Arial Black"/>
              </a:rPr>
              <a:t>هـ - النتائج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1-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بعد تحليل نتائج الاختبارات كان هناك تحسن كبير في مستوى الطالبات التحصيلي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2-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كذلك انعكست النتائج على شخصية الطالبات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3-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استفادت الطالبات كذلك في اكتساب مهارات جديدة مثل المهارات الاجتماعية – البحثية  - استخدام الخرائط الذهنية - مهارات التفكير الابداعي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3399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تحصيل الطالبات:</a:t>
            </a:r>
            <a:br>
              <a:rPr sz="4000"/>
            </a:b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أ – تحليل نتائج الاختبار القبل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4211640" y="2362320"/>
          <a:ext cx="4753080" cy="4087800"/>
        </p:xfrm>
        <a:graphic>
          <a:graphicData uri="http://schemas.openxmlformats.org/drawingml/2006/table">
            <a:tbl>
              <a:tblPr/>
              <a:tblGrid>
                <a:gridCol w="1533600"/>
                <a:gridCol w="752400"/>
                <a:gridCol w="1085760"/>
                <a:gridCol w="1381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توى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كز الفئ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متا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56000" y="19890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0" y="2492280"/>
          <a:ext cx="36720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92280"/>
                    <a:ext cx="36720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3348000" y="55166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مراكز الفئ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22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ك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50920" y="1700280"/>
            <a:ext cx="3456000" cy="6426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تحصيل الطالبات:</a:t>
            </a:r>
            <a:br>
              <a:rPr sz="4000"/>
            </a:b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ب</a:t>
            </a: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 – تحليل نتائج الاختبار 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البعد</a:t>
            </a:r>
            <a:r>
              <a:rPr b="1" lang="ar-OM" sz="4000" spc="-1" strike="noStrike">
                <a:solidFill>
                  <a:srgbClr val="006666"/>
                </a:solidFill>
                <a:latin typeface="Arial"/>
              </a:rPr>
              <a:t>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4211640" y="2421000"/>
          <a:ext cx="4753080" cy="4087800"/>
        </p:xfrm>
        <a:graphic>
          <a:graphicData uri="http://schemas.openxmlformats.org/drawingml/2006/table">
            <a:tbl>
              <a:tblPr/>
              <a:tblGrid>
                <a:gridCol w="1533600"/>
                <a:gridCol w="752400"/>
                <a:gridCol w="1085760"/>
                <a:gridCol w="1381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توى الطالب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ركز الفئ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متا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جي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حت المتوس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ضعيف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"/>
          <p:cNvSpPr/>
          <p:nvPr/>
        </p:nvSpPr>
        <p:spPr>
          <a:xfrm>
            <a:off x="0" y="1989000"/>
            <a:ext cx="9144000" cy="486900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56000" y="198900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8360" y="2205000"/>
            <a:ext cx="3456000" cy="642600"/>
          </a:xfrm>
          <a:prstGeom prst="rect">
            <a:avLst/>
          </a:prstGeom>
          <a:noFill/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2708280"/>
          <a:ext cx="3708360" cy="41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370836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250920" y="2637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كر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492360" y="573408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مراكز الفئ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- تحليل نتائج استبيان آراء الطالبات حول تطبيق طريقة التعلم التعاوني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4572000" y="2133720"/>
          <a:ext cx="4319640" cy="4362480"/>
        </p:xfrm>
        <a:graphic>
          <a:graphicData uri="http://schemas.openxmlformats.org/drawingml/2006/table">
            <a:tbl>
              <a:tblPr/>
              <a:tblGrid>
                <a:gridCol w="1121040"/>
                <a:gridCol w="729720"/>
                <a:gridCol w="842040"/>
                <a:gridCol w="841320"/>
                <a:gridCol w="7855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سبة المئ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قم السؤ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اعر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ى حد 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ع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8c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"/>
          <p:cNvSpPr/>
          <p:nvPr/>
        </p:nvSpPr>
        <p:spPr>
          <a:xfrm>
            <a:off x="0" y="1268280"/>
            <a:ext cx="9144000" cy="5445360"/>
          </a:xfrm>
          <a:prstGeom prst="rect">
            <a:avLst/>
          </a:prstGeom>
          <a:gradFill rotWithShape="0">
            <a:gsLst>
              <a:gs pos="0">
                <a:srgbClr val="98cc98">
                  <a:alpha val="49019"/>
                </a:srgbClr>
              </a:gs>
              <a:gs pos="100000">
                <a:srgbClr val="b9dcb9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56000" y="162864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رجة الامتحان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درجة ) عدد الطالبات :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طالبة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0" y="1700280"/>
          <a:ext cx="44276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00280"/>
                    <a:ext cx="44276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0" y="148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000000"/>
                </a:solidFill>
                <a:latin typeface="Arial"/>
              </a:rPr>
              <a:t>التمثيل البياني : باستخدام الأعمدة البي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سلبيات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342280" cy="2376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spcBef>
                <a:spcPts val="11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800" spc="-1" strike="noStrike">
                <a:solidFill>
                  <a:srgbClr val="ffcc00"/>
                </a:solidFill>
                <a:latin typeface="Arial Black"/>
              </a:rPr>
              <a:t>لم أعثر بعد على سلبيات للتعلم التعاوني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صعوبات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5300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زمن الحصة لم يكن كافياً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عدم توفر بعض الادوات المعملية بعدد المجموعات بسهولة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عدم توفر الوسائل التكنولوجية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 algn="r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صعوبة الحصول على مصادر معلومات متعلقة بالمنهج الدراسي لتوفيرها للمجموعات ( كتب – برامج حاسب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-325800" algn="r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لايمكن اعطاء الطالبات درجات فعلية على اعمالهن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التوصيات</a:t>
            </a: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751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أوصي بتوفير كافة الإمكانات التي تسهل تنفيذ هذه الطريق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تدريب المعلمين على مهارة التدريس باستخدام طريقة التعلم التعاوني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يفضل تطبيق هذه الطريقة على الطالبات من المراحل الابتدائية الأولى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4-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تخصيص درجات أعلى لأعمال الطالبات  اسوة بالمدارس المستقلة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987280" y="692280"/>
            <a:ext cx="2040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3300"/>
                </a:solidFill>
                <a:latin typeface="Arial Black"/>
              </a:rPr>
              <a:t>المقدم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1148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من خلال النهضة التعليمة والتطوير في مجال التربية والتعلم ظهرت عدة طرائق للتدريس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للنهوض بفكر الطالب لمستويات تعليمية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أفضل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ffcc00"/>
                </a:solidFill>
                <a:latin typeface="Arial Black"/>
              </a:rPr>
              <a:t> .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وكان من بين الطرائق طريقة التعلم التعاوني التي كانت لها الأثر الواضح في الميدان التعليمي من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خلال النتائج الإيجابية على أرض الواقع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ما مفهوم التعلم التعاوني ؟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229600" cy="2519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لتعلم التعاوني عبارة عن تفاعل مشترك بين عدد من الطلاب تختل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ف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بينهم الفروق الفردية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يعملون في ورشة عمل ضمن أهداف ومهارات تعاونية للوصول لهدف محدد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أهداف التعلم التعاوني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 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Arial Black"/>
              </a:rPr>
              <a:t>:</a:t>
            </a:r>
            <a:r>
              <a:rPr b="1" lang="en-US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"/>
          <p:cNvSpPr/>
          <p:nvPr/>
        </p:nvSpPr>
        <p:spPr>
          <a:xfrm>
            <a:off x="971640" y="2133720"/>
            <a:ext cx="6335640" cy="5214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- زرع روح التعاون بين الطلاب 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تطوير مهارات الطالب وارتقائه لمستوى أفضل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-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تفجير الطاقات العقلية الكامنة لدى الطلاب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–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 تحمل المسؤولي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5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 اتخاذ القرار السليم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 الجرأة والتقدم والبحث عما هو مفيد في مجرى حياته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أهداف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"/>
          <p:cNvSpPr/>
          <p:nvPr/>
        </p:nvSpPr>
        <p:spPr>
          <a:xfrm>
            <a:off x="684360" y="2133720"/>
            <a:ext cx="6840360" cy="52146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إتقان مهارة فن الاستماع والرد بطريقة مباشرة مهذبة</a:t>
            </a:r>
            <a:r>
              <a:rPr b="1" lang="ar-QA" sz="2400" spc="-1" strike="noStrike">
                <a:solidFill>
                  <a:srgbClr val="ffcc00"/>
                </a:solidFill>
                <a:latin typeface="Arial"/>
              </a:rPr>
              <a:t> 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استنتاج المعلومات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المنافسة الشريفة التي تولد الطاقة عند الطالب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-إتاحة الفرصة للطالب لإبراز مواهبه وقدراته العقلي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قوة التركيز والانتباه والتأمل</a:t>
            </a:r>
            <a:r>
              <a:rPr b="1" lang="ar-QA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مساعدة الآخرين والصعود للقمة </a:t>
            </a:r>
            <a:r>
              <a:rPr b="1" lang="ar-OM" sz="2400" spc="-1" strike="noStrike">
                <a:solidFill>
                  <a:srgbClr val="ffcc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 u="sng">
                <a:solidFill>
                  <a:srgbClr val="ff3300"/>
                </a:solidFill>
                <a:uFillTx/>
                <a:latin typeface="Arial Black"/>
              </a:rPr>
              <a:t>لماذا التعلم التعاوني ؟</a:t>
            </a:r>
            <a:r>
              <a:rPr b="1" lang="ar-OM" sz="4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تحصيل أعلى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لتذكر لفترة أطول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ستعمال أكثر لعمليات التفكير العليا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زيادة الأخذ بوجهات النظر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دافعية الداخلية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علاقات الإيجابية بين الفئات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3200"/>
            </a:b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   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احترام الذات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مزيد من التوافق النفسي الإيجابي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70920" y="404280"/>
            <a:ext cx="694548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ff3399"/>
                </a:solidFill>
                <a:latin typeface="Arial Black"/>
              </a:rPr>
              <a:t>عناصر نجاح التعلم التعاوني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4360" y="3019320"/>
            <a:ext cx="5786640" cy="2111760"/>
          </a:xfrm>
          <a:prstGeom prst="rect">
            <a:avLst/>
          </a:prstGeom>
          <a:solidFill>
            <a:srgbClr val="ff3399">
              <a:alpha val="49000"/>
            </a:srgbClr>
          </a:solidFill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إن نجاح التعلم التعاوني يرتكز على المعلم والطالب معاٌ في إتقان كل منهما دور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ة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لتحقيق الهدف المرسوم لنجاح العملية التعليمية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199880" y="2495160"/>
            <a:ext cx="6744240" cy="30866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ffe10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66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يعتبر التعلم التعاوني طريقة تثير الحماس والحيوية والتفكير في التعليم وهذا ما نسعى له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000000"/>
                </a:solidFill>
                <a:latin typeface="Arial Black"/>
              </a:rPr>
              <a:t>لتطوير مستويات الطلاب ونرتقي بفكرهم لدرجات عليا</a:t>
            </a:r>
            <a:r>
              <a:rPr b="0" lang="ar-OM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245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af273e"/>
                </a:solidFill>
                <a:latin typeface="Arial Black"/>
              </a:rPr>
              <a:t>مراحل</a:t>
            </a:r>
            <a:r>
              <a:rPr b="1" lang="ar-OM" sz="3600" spc="-1" strike="noStrike">
                <a:solidFill>
                  <a:srgbClr val="af273e"/>
                </a:solidFill>
                <a:latin typeface="Arial Black"/>
              </a:rPr>
              <a:t> استخدام استراتيجية التعلم</a:t>
            </a:r>
            <a:r>
              <a:rPr b="1" lang="ar-OM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ar-OM" sz="3600" spc="-1" strike="noStrike">
                <a:solidFill>
                  <a:srgbClr val="af273e"/>
                </a:solidFill>
                <a:latin typeface="Arial Black"/>
              </a:rPr>
              <a:t>التعاوني</a:t>
            </a:r>
            <a:r>
              <a:rPr b="1" lang="ar-OM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ar-QA" sz="3600" spc="-1" strike="noStrike">
                <a:solidFill>
                  <a:srgbClr val="af273e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76320">
            <a:solidFill>
              <a:srgbClr val="af273e"/>
            </a:solidFill>
            <a:miter/>
          </a:ln>
        </p:spPr>
        <p:txBody>
          <a:bodyPr anchor="t">
            <a:normAutofit fontScale="85000"/>
          </a:bodyPr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أ - مرحلة البحث</a:t>
            </a:r>
            <a:r>
              <a:rPr b="1" lang="ar-QA" sz="3200" spc="-1" strike="noStrike">
                <a:solidFill>
                  <a:srgbClr val="ffcc00"/>
                </a:solidFill>
                <a:latin typeface="Arial Black"/>
              </a:rPr>
              <a:t> من خلال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دورات تدريبية عن استراتيجية التعلم التعاوني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cc00"/>
                </a:solidFill>
                <a:latin typeface="Arial Black"/>
              </a:rPr>
              <a:t>*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لاطلاع على مراجع استراتيجية التعلم التعاوني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حضور دروس تطبق فيها التعلم التعاوني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ستشارة خبراء تربويين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-291600" algn="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*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اجتماع مع موجهات ومعلمات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ar-SA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08:40:37Z</dcterms:created>
  <dc:creator>ahmed</dc:creator>
  <dc:description/>
  <dc:language>en-US</dc:language>
  <cp:lastModifiedBy>ahmed</cp:lastModifiedBy>
  <dcterms:modified xsi:type="dcterms:W3CDTF">2006-03-12T04:26:10Z</dcterms:modified>
  <cp:revision>18</cp:revision>
  <dc:subject/>
  <dc:title>السيرة الذاتية</dc:title>
</cp:coreProperties>
</file>