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9AE3-3787-435D-92E4-366EE8E7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44AE-8800-4E1E-A6A5-6D9448E1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983E-6529-4422-91C6-1CB94E52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92FD-D956-4979-AA73-11D13F48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6C1A-BB2F-47BF-AD42-4543967F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C237-B6A1-46A2-A01B-E3947869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0A57-6D11-4387-85F5-A5A6742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EF66-82CE-48EC-BBCC-C2BD9CFD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B097-2324-470E-924B-5CCD42C3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93BE-A9F4-4748-A66F-12FE3794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578D-EF81-4738-8D55-206AD92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7789-25B0-412B-BDD0-4D30FECC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3CC-71C7-46E4-BC57-67A46CC5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3943-1564-4C7D-A1B0-BB021384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D702-A479-4128-8CFC-2B595679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EE1D-21FA-4C83-A74F-3C7ED0FC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031-7AFF-4F03-927D-28FDC331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2545-E22E-470F-929E-04232216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34E1-9046-4B42-AC63-C7A30FB4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B7D3-3F19-44AD-BDEF-6BF9C6B0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F1BE-89F1-41D9-B5E8-9C37494F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6FF6-71CC-40FF-A998-5AD36444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AECC-C155-4275-B651-BA6E04EB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2D9FD-0ED8-4039-A539-E30AE804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80FC-5D6A-4D33-8676-06635DCA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BBEE-D448-453E-906E-56691ED9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7533-1CD0-44A1-AAD1-4491FB8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E429-C79C-4319-BC1A-F423204A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5EC9-E071-4876-B267-C8C6B06B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717E-26D0-46F9-AED0-6D7CEB07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C72D-3F06-4016-946A-FCFE87E6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B7CE8-C8D5-44CF-AC33-BEEFD962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C6786-ACD4-4734-80A0-4348DB6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EE35-5773-4380-A836-C5451298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5030-0D2B-4823-B54D-FEC0D649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C82D4-0A8C-4994-897A-6E21B254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1798-469F-48F5-A812-916110C8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5BBC-DB3B-4743-B239-68B85F8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8E9B8-F04A-4D4E-9735-47422BA1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809F0-1D43-4940-A6BD-5575A3C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530ED-D5C8-442F-9B48-238D50DF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66E9-EA4D-4FBD-BA65-E50C02BC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8296-6191-41C7-89C9-D7FA352D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1CBB9-4E8F-45EA-8ED1-4E70C23D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018A-84B0-4AC3-B807-0ACDAA95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BEB2-C01B-44C4-BEA8-0F87F10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BEE8-2226-46B2-8EA3-286A39DB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50C9-177D-4534-9F47-91B40A82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4484-9659-495F-8E95-E72C3E82C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19DA-5C8E-440E-B4B7-76A14D9BD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BC41-7DF6-45A7-9567-6EB4B0D8344A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EF8D-60A2-47D2-9D42-E9DCD375F3AC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21840" y="1196640"/>
            <a:ext cx="687420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ستراتيجية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11280" y="2565000"/>
            <a:ext cx="6767280" cy="3024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اعداد وتقديم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معلم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/ حليمة يوسف العر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مدرسة الشيماء الثانوية للبن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ب – مرحلة التخطيط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353440" cy="49687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1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ختيار وحدة من المنهج الدراسي لتطبيق طريقة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حديد الاهداف الاكاديمية والتعاونية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مصادر معلومات مختلفة ( كتب – مواقع نت – اشرطة فيديو – برامج كمبيوترجاهزه – اعداد برامج بور بوينت 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3-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عداد رزمة تعليمية ( دليل الطالب )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عديل جدول الحصص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5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وسائل تكنولوجية ( الحاسب –الداتاشو – الفيديو – التلفاز 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6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حجز قاعة في المدرسة لتنفيذ الطريقة فيها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7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عية الطالبات حول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21840" y="1988640"/>
            <a:ext cx="8642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م تنفيذ الخطة بناءَ على مراحل تنفيذ استراتيجية التعلم التعاوني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4000" y="10062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جـ – مرحلة التنفيذ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900000" y="3141720"/>
            <a:ext cx="700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د – مرحلة الملاحظة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4360" y="4365720"/>
            <a:ext cx="7856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دوين ملاحظة المعلمة على مدى كفاءة تنفيذ الخطة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0840" y="934920"/>
            <a:ext cx="8713800" cy="5257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45840" y="312480"/>
            <a:ext cx="56466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د – التقييم</a:t>
            </a: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30040" y="1628640"/>
            <a:ext cx="8686800" cy="38880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تقييم قائم على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ختبار قبلي                      *  اختبار بعد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تطبيقات                          * الواجبات المنزل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على اداء الطالبات خلال الحصص التعاون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من قبل الموجه الفني والمعلم الزميل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ستبيان حول اراء الطالبات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هـ - النتائج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1-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بعد تحليل نتائج الاختبارات كان هناك تحسن كبير في مستوى الطالبات التحصيل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كذلك انعكست النتائج على شخصية الطالبات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3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استفادت الطالبات كذلك في اكتساب مهارات جديدة مثل المهارات الاجتماعية – البحثية  - استخدام الخرائط الذهنية - مهارات التفكير الابداعي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أ – تحليل نتائج الاختبار القبل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4211640" y="236232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2492280"/>
          <a:ext cx="36720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3672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48000" y="5516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2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0920" y="170028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ب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 – تحليل نتائج الاختبار 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البعد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211640" y="242100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220500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2708280"/>
          <a:ext cx="37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37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250920" y="263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573408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نتائج استبيان آراء الطالبات حول تطبيق طريقة التعلم التعاوني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72000" y="2133720"/>
          <a:ext cx="4319640" cy="4362480"/>
        </p:xfrm>
        <a:graphic>
          <a:graphicData uri="http://schemas.openxmlformats.org/drawingml/2006/table">
            <a:tbl>
              <a:tblPr/>
              <a:tblGrid>
                <a:gridCol w="1121040"/>
                <a:gridCol w="729720"/>
                <a:gridCol w="842040"/>
                <a:gridCol w="841320"/>
                <a:gridCol w="7855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قم السؤ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اع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ى حد 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ع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0" y="1268280"/>
            <a:ext cx="9144000" cy="5445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56000" y="16286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1700280"/>
          <a:ext cx="44276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4276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148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سلبي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342280" cy="2376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ffcc00"/>
                </a:solidFill>
                <a:latin typeface="Arial Black"/>
              </a:rPr>
              <a:t>لم أعثر بعد على سلبيات للتعلم التعاوني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صعوب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300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زمن الحصة لم يكن كافياً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بعض الادوات المعملية بعدد المجموعات بسهول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الوسائل التكنولوجي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صعوبة الحصول على مصادر معلومات متعلقة بالمنهج الدراسي لتوفيرها للمجموعات ( كتب – برامج حاسب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لايمكن اعطاء الطالبات درجات فعلية على اعماله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توصيات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1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أوصي بتوفير كافة الإمكانات التي تسهل تنفيذ هذه الطريق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دريب المعلمين على مهارة التدريس باستخدام طريقة التعلم التعاوني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يفضل تطبيق هذه الطريقة على الطالبات من المراحل الابتدائية الأولى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خصيص درجات أعلى لأعمال الطالبات  اسوة بالمدارس المستقل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87280" y="692280"/>
            <a:ext cx="2040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لمقدم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من خلال النهضة التعليمة والتطوير في مجال التربية والتعلم ظهرت عدة طرائق للتدريس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للنهوض بفكر الطالب لمستويات تعليمية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أفضل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.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وكان من بين الطرائق طريقة التعلم التعاوني التي كانت لها الأثر الواضح في الميدان التعليمي من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خلال النتائج الإيجابية على أرض الواقع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ما مفهوم التعلم التعاوني ؟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229600" cy="251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علم التعاوني عبارة عن تفاعل مشترك بين عدد من الطلاب تختل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ف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بينهم الفروق الفردية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يعملون في ورشة عمل ضمن أهداف ومهارات تعاونية للوصول لهدف محدد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"/>
          <p:cNvSpPr/>
          <p:nvPr/>
        </p:nvSpPr>
        <p:spPr>
          <a:xfrm>
            <a:off x="971640" y="2133720"/>
            <a:ext cx="633564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- زرع روح التعاون بين الطلاب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طوير مهارات الطالب وارتقائه لمستوى أفضل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فجير الطاقات العقلية الكامنة لدى الطلا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تحمل المسؤو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تخاذ القرار السليم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لجرأة والتقدم والبحث عما هو مفيد في مجرى حياته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684360" y="2133720"/>
            <a:ext cx="684036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إتقان مهارة فن الاستماع والرد بطريقة مباشرة مهذبة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استنتاج المعلومات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المنافسة الشريفة التي تولد الطاقة عند الطال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إتاحة الفرصة للطالب لإبراز مواهبه وقدراته العق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قوة التركيز والانتباه والتأمل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مساعدة الآخرين والصعود للقم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لماذا التعلم التعاوني ؟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تحصيل أعلى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ذكر لفترة أطول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ستعمال أكثر لعمليات التفكير العليا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زيادة الأخذ بوجهات النظر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دافعية الداخل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علاقات الإيجابية بين الفئات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حترام الذات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توافق النفسي الإيجابي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70920" y="404280"/>
            <a:ext cx="694548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99"/>
                </a:solidFill>
                <a:latin typeface="Arial Black"/>
              </a:rPr>
              <a:t>عناصر نجاح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4360" y="3019320"/>
            <a:ext cx="5786640" cy="2111760"/>
          </a:xfrm>
          <a:prstGeom prst="rect">
            <a:avLst/>
          </a:prstGeom>
          <a:solidFill>
            <a:srgbClr val="ff3399">
              <a:alpha val="49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إن نجاح التعلم التعاوني يرتكز على المعلم والطالب معاٌ في إتقان كل منهما دور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ة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لتحقيق الهدف المرسوم لنجاح العملية التعليم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199880" y="2495160"/>
            <a:ext cx="6744240" cy="3086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fe10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يعتبر التعلم التعاوني طريقة تثير الحماس والحيوية والتفكير في التعليم وهذا ما نسعى له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لتطوير مستويات الطلاب ونرتقي بفكرهم لدرجات عليا</a:t>
            </a: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245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مراحل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 استخدام استراتيجية التعلم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التعاوني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85000"/>
          </a:bodyPr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أ - مرحلة البحث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من خلال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دورات تدريبية عن استراتيجية التعلم التعاوني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اطلاع على مراجع استراتيجية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حضور دروس تطبق فيها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ستشارة خبراء تربويين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جتماع مع موجهات ومعلمات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8:40:37Z</dcterms:created>
  <dc:creator>ahmed</dc:creator>
  <dc:description/>
  <dc:language>en-US</dc:language>
  <cp:lastModifiedBy>ahmed</cp:lastModifiedBy>
  <dcterms:modified xsi:type="dcterms:W3CDTF">2006-03-12T04:26:10Z</dcterms:modified>
  <cp:revision>18</cp:revision>
  <dc:subject/>
  <dc:title>السيرة الذاتية</dc:title>
</cp:coreProperties>
</file>