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EDD6-3BD7-4916-B360-C79566E6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E8BE-448C-466A-AC72-169BA8F9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257F-703E-442F-8A59-A6A9F4B2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6958-023C-4EE0-88FE-CD27C399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59A1-7FA3-4B8A-AB7D-614CA0D9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D5B4-42D2-4CA0-BAE2-39848D57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287C-EA1A-40C3-82D1-49E3BC03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2FAC-2C32-4556-A067-D324890D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79BC-9C18-42D5-829D-8D9377E0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3FFE-CED6-46AF-B225-F5BF3A01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FC8E-117F-4CFE-AF1F-9515A2B1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E051A-B748-435E-925A-9EAE71E2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538B-5EE8-4BA7-963A-1104B560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1DEA-1B74-4889-A350-8B1AEB8B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6EFB-A5BD-44FA-99F5-3267DFFA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6E89-1744-47C5-A80D-DE0140DB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E62F-41B2-46D0-B2BF-375AB1D5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7F389-AAEE-49D7-94D2-529B5830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AC322-D9F0-4D8B-BB85-873070F7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A8586-842A-499D-BA27-F73066B7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5D53D-AF94-4C00-B848-80B71AA1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C46CA-8CF8-4E53-8643-45D9775A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CEE7-1BFB-496B-A18F-9496EF6E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204CC-CAC1-4733-A437-2053FE0F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3343-32E3-4512-A5C1-F4E9B63D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0197A-BF5F-46D7-80C4-067959B6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A3BB-8C5E-4BE5-8184-01608793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6433D-615C-41F4-9F46-C469FDD1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5B46-C56F-4F89-AC0B-47B7447E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7A40-C8D0-4D33-82AD-92ACED85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37B81-0836-412B-9A31-C5DF0B4A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B19F7-4503-4C6D-AC61-AACD37F0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E72E4-14A2-4CC2-8814-7C1D95DC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1D8D-5991-40D0-AEB8-9CAC15CD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3B5C0-CDAD-4F6C-90CE-337D83B1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C634A-B984-48E1-B15E-96FFE3AB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D3387-396A-4AF9-B153-64C3E508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8D29F-5E66-42FD-BF35-3F48CB8D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690B0-5896-4D04-91FD-7B6A4BE5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6C00B-6BC4-41D1-939D-5303E0A5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ECDE5-53D4-4080-A746-FE6D532E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56750-6C43-4EF8-92E4-B74A6C1E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8A0AA-4349-4E9A-81DC-9AE88AAB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2787F-542A-4788-929A-1974458E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6DBB-DCA2-4295-BE19-E83ABC4A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17701-A2CE-44A5-8A30-EE46EDD9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271C-EBD0-4397-8064-C7FE8DD0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BF380-EE0E-4DC1-AD1A-53691099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A8D7-F859-45E8-8743-E776ACA6E5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4456-9CAE-4DBE-B916-08E72063E2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C5CF-EADA-41A1-A6F2-2FF3E42D6DA3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8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6F0F-0691-429B-974B-5186D592ADDD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21840" y="1196640"/>
            <a:ext cx="687420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3300"/>
                </a:solidFill>
                <a:latin typeface="Arial Black"/>
              </a:rPr>
              <a:t>استراتيجية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11280" y="2565000"/>
            <a:ext cx="6767280" cy="30243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اعداد وتقديم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لمعلم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/ حليمة يوسف العرب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مدرسة الشيماء الثانوية للبنات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ب – مرحلة التخطيط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353440" cy="496872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1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اختيار وحدة من المنهج الدراسي لتطبيق طريقة التعلم التعاوني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2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حديد الاهداف الاكاديمية والتعاونية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2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فير مصادر معلومات مختلفة ( كتب – مواقع نت – اشرطة فيديو – برامج كمبيوترجاهزه – اعداد برامج بور بوينت .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3-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اعداد رزمة تعليمية ( دليل الطالب )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4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عديل جدول الحصص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5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فير وسائل تكنولوجية ( الحاسب –الداتاشو – الفيديو – التلفاز 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6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حجز قاعة في المدرسة لتنفيذ الطريقة فيها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7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عية الطالبات حول التعلم التعاوني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21840" y="1988640"/>
            <a:ext cx="86425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99"/>
                </a:solidFill>
                <a:latin typeface="Arial Black"/>
              </a:rPr>
              <a:t>تم تنفيذ الخطة بناءَ على مراحل تنفيذ استراتيجية التعلم التعاوني</a:t>
            </a:r>
            <a:r>
              <a:rPr b="1" lang="en-US" sz="3200" spc="-1" strike="noStrike">
                <a:solidFill>
                  <a:srgbClr val="ff3399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684000" y="10062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جـ – مرحلة التنفيذ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"/>
          <p:cNvSpPr/>
          <p:nvPr/>
        </p:nvSpPr>
        <p:spPr>
          <a:xfrm>
            <a:off x="900000" y="3141720"/>
            <a:ext cx="700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د – مرحلة الملاحظة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4360" y="4365720"/>
            <a:ext cx="7856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99"/>
                </a:solidFill>
                <a:latin typeface="Arial Black"/>
              </a:rPr>
              <a:t>تدوين ملاحظة المعلمة على مدى كفاءة تنفيذ الخطة</a:t>
            </a:r>
            <a:r>
              <a:rPr b="1" lang="en-US" sz="3200" spc="-1" strike="noStrike">
                <a:solidFill>
                  <a:srgbClr val="ff3399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0840" y="934920"/>
            <a:ext cx="8713800" cy="52578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45840" y="312480"/>
            <a:ext cx="56466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د – التقييم</a:t>
            </a: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30040" y="1628640"/>
            <a:ext cx="8686800" cy="38880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تقييم قائم على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ختبار قبلي                      *  اختبار بعدي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تطبيقات                          * الواجبات المنزلية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ملاحظة المنظمة على اداء الطالبات خلال الحصص التعاونية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ملاحظة المنظمة من قبل الموجه الفني والمعلم الزميل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ستبيان حول اراء الطالبات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هـ - النتائج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1-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بعد تحليل نتائج الاختبارات كان هناك تحسن كبير في مستوى الطالبات التحصيلي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2-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كذلك انعكست النتائج على شخصية الطالبات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3-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استفادت الطالبات كذلك في اكتساب مهارات جديدة مثل المهارات الاجتماعية – البحثية  - استخدام الخرائط الذهنية - مهارات التفكير الابداعي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تحصيل الطالبات:</a:t>
            </a:r>
            <a:br>
              <a:rPr sz="4000"/>
            </a:b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أ – تحليل نتائج الاختبار القبل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4211640" y="2362320"/>
          <a:ext cx="4753080" cy="4087800"/>
        </p:xfrm>
        <a:graphic>
          <a:graphicData uri="http://schemas.openxmlformats.org/drawingml/2006/table">
            <a:tbl>
              <a:tblPr/>
              <a:tblGrid>
                <a:gridCol w="1533600"/>
                <a:gridCol w="752400"/>
                <a:gridCol w="1085760"/>
                <a:gridCol w="1381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توى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ر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كز الفئ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متا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ت ال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56000" y="198900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2492280"/>
          <a:ext cx="36720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2280"/>
                    <a:ext cx="36720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3348000" y="55166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مراكز الفئ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2276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ك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50920" y="1700280"/>
            <a:ext cx="3456000" cy="642600"/>
          </a:xfrm>
          <a:prstGeom prst="rect">
            <a:avLst/>
          </a:prstGeom>
          <a:noFill/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تحصيل الطالبات:</a:t>
            </a:r>
            <a:br>
              <a:rPr sz="4000"/>
            </a:b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ب</a:t>
            </a: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 – تحليل نتائج الاختبار 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البعد</a:t>
            </a: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4211640" y="2421000"/>
          <a:ext cx="4753080" cy="4087800"/>
        </p:xfrm>
        <a:graphic>
          <a:graphicData uri="http://schemas.openxmlformats.org/drawingml/2006/table">
            <a:tbl>
              <a:tblPr/>
              <a:tblGrid>
                <a:gridCol w="1533600"/>
                <a:gridCol w="752400"/>
                <a:gridCol w="1085760"/>
                <a:gridCol w="1381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توى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ر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كز الفئ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متا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ت ال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0" y="1989000"/>
            <a:ext cx="9144000" cy="486900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356000" y="198900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8360" y="2205000"/>
            <a:ext cx="3456000" cy="642600"/>
          </a:xfrm>
          <a:prstGeom prst="rect">
            <a:avLst/>
          </a:prstGeom>
          <a:noFill/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0" y="2708280"/>
          <a:ext cx="37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37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250920" y="2637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ك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92360" y="573408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مراكز الفئ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نتائج استبيان آراء الطالبات حول تطبيق طريقة التعلم التعاوني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4572000" y="2133720"/>
          <a:ext cx="4319640" cy="4362480"/>
        </p:xfrm>
        <a:graphic>
          <a:graphicData uri="http://schemas.openxmlformats.org/drawingml/2006/table">
            <a:tbl>
              <a:tblPr/>
              <a:tblGrid>
                <a:gridCol w="1121040"/>
                <a:gridCol w="729720"/>
                <a:gridCol w="842040"/>
                <a:gridCol w="841320"/>
                <a:gridCol w="7855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قم السؤ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اعر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ى حد 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ع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0" y="1268280"/>
            <a:ext cx="9144000" cy="544536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56000" y="162864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0" y="1700280"/>
          <a:ext cx="44276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44276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0" y="1484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سلبيات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342280" cy="2376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800" spc="-1" strike="noStrike">
                <a:solidFill>
                  <a:srgbClr val="ffcc00"/>
                </a:solidFill>
                <a:latin typeface="Arial Black"/>
              </a:rPr>
              <a:t>لم أعثر بعد على سلبيات للتعلم التعاوني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صعوبات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5300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زمن الحصة لم يكن كافياً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عدم توفر بعض الادوات المعملية بعدد المجموعات بسهولة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عدم توفر الوسائل التكنولوجية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 algn="r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صعوبة الحصول على مصادر معلومات متعلقة بالمنهج الدراسي لتوفيرها للمجموعات ( كتب – برامج حاسب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 algn="r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لايمكن اعطاء الطالبات درجات فعلية على اعمالهن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توصيات</a:t>
            </a: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751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أوصي بتوفير كافة الإمكانات التي تسهل تنفيذ هذه الطريق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تدريب المعلمين على مهارة التدريس باستخدام طريقة التعلم التعاوني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يفضل تطبيق هذه الطريقة على الطالبات من المراحل الابتدائية الأولى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4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تخصيص درجات أعلى لأعمال الطالبات  اسوة بالمدارس المستقل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987280" y="692280"/>
            <a:ext cx="2040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3300"/>
                </a:solidFill>
                <a:latin typeface="Arial Black"/>
              </a:rPr>
              <a:t>المقدمة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1148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من خلال النهضة التعليمة والتطوير في مجال التربية والتعلم ظهرت عدة طرائق للتدريس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للنهوض بفكر الطالب لمستويات تعليمية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أفضل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.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وكان من بين الطرائق طريقة التعلم التعاوني التي كانت لها الأثر الواضح في الميدان التعليمي من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خلال النتائج الإيجابية على أرض الواقع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ما مفهوم التعلم التعاوني ؟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229600" cy="2519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لتعلم التعاوني عبارة عن تفاعل مشترك بين عدد من الطلاب تختل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ف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بينهم الفروق الفردية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يعملون في ورشة عمل ضمن أهداف ومهارات تعاونية للوصول لهدف محدد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أهداف التعلم التعاوني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 Black"/>
              </a:rPr>
              <a:t> 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 Black"/>
              </a:rPr>
              <a:t>:</a:t>
            </a: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"/>
          <p:cNvSpPr/>
          <p:nvPr/>
        </p:nvSpPr>
        <p:spPr>
          <a:xfrm>
            <a:off x="971640" y="2133720"/>
            <a:ext cx="6335640" cy="52146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- زرع روح التعاون بين الطلاب 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تطوير مهارات الطالب وارتقائه لمستوى أفضل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-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تفجير الطاقات العقلية الكامنة لدى الطلاب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تحمل المسؤولي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 اتخاذ القرار السليم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 الجرأة والتقدم والبحث عما هو مفيد في مجرى حياته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أهداف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"/>
          <p:cNvSpPr/>
          <p:nvPr/>
        </p:nvSpPr>
        <p:spPr>
          <a:xfrm>
            <a:off x="684360" y="2133720"/>
            <a:ext cx="6840360" cy="52146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إتقان مهارة فن الاستماع والرد بطريقة مباشرة مهذبة</a:t>
            </a:r>
            <a:r>
              <a:rPr b="1" lang="ar-QA" sz="2400" spc="-1" strike="noStrike">
                <a:solidFill>
                  <a:srgbClr val="ffcc00"/>
                </a:solidFill>
                <a:latin typeface="Arial"/>
              </a:rPr>
              <a:t> 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استنتاج المعلومات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المنافسة الشريفة التي تولد الطاقة عند الطالب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إتاحة الفرصة للطالب لإبراز مواهبه وقدراته العقلي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قوة التركيز والانتباه والتأمل</a:t>
            </a:r>
            <a:r>
              <a:rPr b="1" lang="ar-QA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مساعدة الآخرين والصعود للقم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لماذا التعلم التعاوني ؟</a:t>
            </a: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تحصيل أعلى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لتذكر لفترة أطول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ستعمال أكثر لعمليات التفكير العليا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زيادة الأخذ بوجهات النظر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دافعية الداخلية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علاقات الإيجابية بين الفئات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حترام الذات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توافق النفسي الإيجابي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70920" y="404280"/>
            <a:ext cx="694548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99"/>
                </a:solidFill>
                <a:latin typeface="Arial Black"/>
              </a:rPr>
              <a:t>عناصر نجاح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84360" y="3019320"/>
            <a:ext cx="5786640" cy="2111760"/>
          </a:xfrm>
          <a:prstGeom prst="rect">
            <a:avLst/>
          </a:prstGeom>
          <a:solidFill>
            <a:srgbClr val="ff3399">
              <a:alpha val="49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إن نجاح التعلم التعاوني يرتكز على المعلم والطالب معاٌ في إتقان كل منهما دور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ة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لتحقيق الهدف المرسوم لنجاح العملية التعليمية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199880" y="2495160"/>
            <a:ext cx="6744240" cy="3086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ffe10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يعتبر التعلم التعاوني طريقة تثير الحماس والحيوية والتفكير في التعليم وهذا ما نسعى له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لتطوير مستويات الطلاب ونرتقي بفكرهم لدرجات عليا</a:t>
            </a:r>
            <a:r>
              <a:rPr b="0" lang="ar-OM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245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af273e"/>
                </a:solidFill>
                <a:latin typeface="Arial Black"/>
              </a:rPr>
              <a:t>مراحل</a:t>
            </a:r>
            <a:r>
              <a:rPr b="1" lang="ar-OM" sz="3600" spc="-1" strike="noStrike">
                <a:solidFill>
                  <a:srgbClr val="af273e"/>
                </a:solidFill>
                <a:latin typeface="Arial Black"/>
              </a:rPr>
              <a:t> استخدام استراتيجية التعلم</a:t>
            </a:r>
            <a:r>
              <a:rPr b="1" lang="ar-OM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af273e"/>
                </a:solidFill>
                <a:latin typeface="Arial Black"/>
              </a:rPr>
              <a:t>التعاوني</a:t>
            </a:r>
            <a:r>
              <a:rPr b="1" lang="ar-OM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anchor="t">
            <a:normAutofit fontScale="85000"/>
          </a:bodyPr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أ - مرحلة البحث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من خلال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دورات تدريبية عن استراتيجية التعلم التعاوني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لاطلاع على مراجع استراتيجية التعلم التعاوني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حضور دروس تطبق فيها التعلم التعاوني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ستشارة خبراء تربويين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جتماع مع موجهات ومعلمات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8:40:37Z</dcterms:created>
  <dc:creator>ahmed</dc:creator>
  <dc:description/>
  <dc:language>en-US</dc:language>
  <cp:lastModifiedBy>ahmed</cp:lastModifiedBy>
  <dcterms:modified xsi:type="dcterms:W3CDTF">2006-03-12T04:26:10Z</dcterms:modified>
  <cp:revision>18</cp:revision>
  <dc:subject/>
  <dc:title>السيرة الذاتية</dc:title>
</cp:coreProperties>
</file>