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36E7-959D-47EA-9EB4-5015448F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E215-6F1B-4F4B-8F57-125749B9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A862-EE4E-4FC8-959B-5CA921B4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5BC1-B3F8-44D2-A38D-96348D56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2942-7225-4957-9F60-53CE8E3F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7355-A28F-496B-A931-63091A7A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8296-A1DB-438A-85B0-19647E54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E484-81F4-4ABB-8F90-8C39D33B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A639-E392-495D-90EC-3E079091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623F-3A68-4AAC-8F41-08031C13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50A2-55F6-424D-90A1-A7A0496A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E792-4183-4EF0-955D-73DA4BEA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44DA-1EF2-4BDE-9F54-0F3DD0A2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C3BE-DD0D-44E7-95D3-1792988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FD6A-411A-44DD-9D77-647B7D82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15BC-1F6F-4D3E-BFB4-5EF1F9F2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3A99-D1BB-42E0-A2D9-97C749EF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A401-0352-4EC3-B5D9-3BF54E36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0B7D-B43D-4DB5-AD5C-ECC3467B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AF4C-737F-4DC3-9C47-782E3BF2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21BB-E90F-4586-8E05-52212BCC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4284-5148-46B9-A8CA-6377E5F3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68447-7665-4A00-9396-4B670730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0A6F-569F-4ABA-9FCF-F4717132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F959-F27D-40BC-BE92-1BF82B4F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CAF7-7F08-4C32-B1F1-A64A91B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BBF0-1A46-4CF2-B3CD-F1CD6806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6C91-3B44-4AB1-AD61-2999075E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5BDE-AB65-4EFD-A4AB-8BDCFCCC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AA0A-4895-4475-ABF8-4EF9A6BA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DF3C-CF3B-4B9A-AAF1-4A0B8442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FDF8-61FD-4362-AFCE-DBD6F03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17A7-E542-465B-AC9C-C088365A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3DB9-3A0C-4371-9513-18BD23C7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86989-EBB8-4A25-A558-1D300481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53E0C-8F5E-4D36-AF12-3CEC0D8C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26CBD-21BA-4D94-9E79-0F7997D1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91E9-8FE8-48CF-8093-C6EDAEB9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23A81-8D6F-41D5-8001-56271E0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491BA-B986-4898-BE29-5BEB891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EC87-14BB-43F1-A49F-178B4667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4CA5-7253-4527-AA77-A4BD9F2D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07A0-2FEF-405C-8796-31005B11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512E-D246-4A70-9325-876AC910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DBB3-32B7-4920-869A-5D41FEE2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F459-AA9B-4EDF-A17E-26F7BFB4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BA65-32D4-454E-AB69-E0BF2CE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D24CA-BE4C-40EB-B0E6-AE4CE98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282C-50F5-493E-B45A-0DD7897F0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1B46-914C-46F9-806A-BB29FFD77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C5EB-79E5-44C5-9091-512E7B3EEB41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58B-54A2-46A5-849E-4492EB2399A0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21840" y="1196640"/>
            <a:ext cx="687420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ستراتيجية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11280" y="2565000"/>
            <a:ext cx="6767280" cy="3024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اعداد وتقديم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معلم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/ حليمة يوسف العر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مدرسة الشيماء الثانوية للبن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ب – مرحلة التخطيط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353440" cy="49687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1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ختيار وحدة من المنهج الدراسي لتطبيق طريقة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حديد الاهداف الاكاديمية والتعاونية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مصادر معلومات مختلفة ( كتب – مواقع نت – اشرطة فيديو – برامج كمبيوترجاهزه – اعداد برامج بور بوينت 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3-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عداد رزمة تعليمية ( دليل الطالب )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عديل جدول الحصص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5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وسائل تكنولوجية ( الحاسب –الداتاشو – الفيديو – التلفاز 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6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حجز قاعة في المدرسة لتنفيذ الطريقة فيها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7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عية الطالبات حول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21840" y="1988640"/>
            <a:ext cx="8642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م تنفيذ الخطة بناءَ على مراحل تنفيذ استراتيجية التعلم التعاوني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4000" y="10062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جـ – مرحلة التنفيذ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900000" y="3141720"/>
            <a:ext cx="700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د – مرحلة الملاحظة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4360" y="4365720"/>
            <a:ext cx="7856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دوين ملاحظة المعلمة على مدى كفاءة تنفيذ الخطة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0840" y="934920"/>
            <a:ext cx="8713800" cy="5257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45840" y="312480"/>
            <a:ext cx="56466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د – التقييم</a:t>
            </a: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30040" y="1628640"/>
            <a:ext cx="8686800" cy="38880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تقييم قائم على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ختبار قبلي                      *  اختبار بعد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تطبيقات                          * الواجبات المنزل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على اداء الطالبات خلال الحصص التعاون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من قبل الموجه الفني والمعلم الزميل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ستبيان حول اراء الطالبات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هـ - النتائج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1-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بعد تحليل نتائج الاختبارات كان هناك تحسن كبير في مستوى الطالبات التحصيل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كذلك انعكست النتائج على شخصية الطالبات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3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استفادت الطالبات كذلك في اكتساب مهارات جديدة مثل المهارات الاجتماعية – البحثية  - استخدام الخرائط الذهنية - مهارات التفكير الابداعي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أ – تحليل نتائج الاختبار القبل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4211640" y="236232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2492280"/>
          <a:ext cx="36720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3672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48000" y="5516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2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0920" y="170028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ب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 – تحليل نتائج الاختبار 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البعد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211640" y="242100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220500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2708280"/>
          <a:ext cx="37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37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250920" y="263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573408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نتائج استبيان آراء الطالبات حول تطبيق طريقة التعلم التعاوني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72000" y="2133720"/>
          <a:ext cx="4319640" cy="4362480"/>
        </p:xfrm>
        <a:graphic>
          <a:graphicData uri="http://schemas.openxmlformats.org/drawingml/2006/table">
            <a:tbl>
              <a:tblPr/>
              <a:tblGrid>
                <a:gridCol w="1121040"/>
                <a:gridCol w="729720"/>
                <a:gridCol w="842040"/>
                <a:gridCol w="841320"/>
                <a:gridCol w="7855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قم السؤ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اع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ى حد 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ع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0" y="1268280"/>
            <a:ext cx="9144000" cy="5445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56000" y="16286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1700280"/>
          <a:ext cx="44276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4276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148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سلبي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342280" cy="2376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ffcc00"/>
                </a:solidFill>
                <a:latin typeface="Arial Black"/>
              </a:rPr>
              <a:t>لم أعثر بعد على سلبيات للتعلم التعاوني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صعوب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300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زمن الحصة لم يكن كافياً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بعض الادوات المعملية بعدد المجموعات بسهول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الوسائل التكنولوجي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صعوبة الحصول على مصادر معلومات متعلقة بالمنهج الدراسي لتوفيرها للمجموعات ( كتب – برامج حاسب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لايمكن اعطاء الطالبات درجات فعلية على اعماله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توصيات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1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أوصي بتوفير كافة الإمكانات التي تسهل تنفيذ هذه الطريق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دريب المعلمين على مهارة التدريس باستخدام طريقة التعلم التعاوني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يفضل تطبيق هذه الطريقة على الطالبات من المراحل الابتدائية الأولى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خصيص درجات أعلى لأعمال الطالبات  اسوة بالمدارس المستقل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87280" y="692280"/>
            <a:ext cx="2040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لمقدم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من خلال النهضة التعليمة والتطوير في مجال التربية والتعلم ظهرت عدة طرائق للتدريس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للنهوض بفكر الطالب لمستويات تعليمية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أفضل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.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وكان من بين الطرائق طريقة التعلم التعاوني التي كانت لها الأثر الواضح في الميدان التعليمي من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خلال النتائج الإيجابية على أرض الواقع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ما مفهوم التعلم التعاوني ؟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229600" cy="251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علم التعاوني عبارة عن تفاعل مشترك بين عدد من الطلاب تختل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ف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بينهم الفروق الفردية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يعملون في ورشة عمل ضمن أهداف ومهارات تعاونية للوصول لهدف محدد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"/>
          <p:cNvSpPr/>
          <p:nvPr/>
        </p:nvSpPr>
        <p:spPr>
          <a:xfrm>
            <a:off x="971640" y="2133720"/>
            <a:ext cx="633564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- زرع روح التعاون بين الطلاب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طوير مهارات الطالب وارتقائه لمستوى أفضل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فجير الطاقات العقلية الكامنة لدى الطلا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تحمل المسؤو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تخاذ القرار السليم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لجرأة والتقدم والبحث عما هو مفيد في مجرى حياته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684360" y="2133720"/>
            <a:ext cx="684036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إتقان مهارة فن الاستماع والرد بطريقة مباشرة مهذبة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استنتاج المعلومات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المنافسة الشريفة التي تولد الطاقة عند الطال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إتاحة الفرصة للطالب لإبراز مواهبه وقدراته العق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قوة التركيز والانتباه والتأمل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مساعدة الآخرين والصعود للقم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لماذا التعلم التعاوني ؟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تحصيل أعلى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ذكر لفترة أطول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ستعمال أكثر لعمليات التفكير العليا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زيادة الأخذ بوجهات النظر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دافعية الداخل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علاقات الإيجابية بين الفئات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حترام الذات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توافق النفسي الإيجابي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70920" y="404280"/>
            <a:ext cx="694548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99"/>
                </a:solidFill>
                <a:latin typeface="Arial Black"/>
              </a:rPr>
              <a:t>عناصر نجاح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4360" y="3019320"/>
            <a:ext cx="5786640" cy="2111760"/>
          </a:xfrm>
          <a:prstGeom prst="rect">
            <a:avLst/>
          </a:prstGeom>
          <a:solidFill>
            <a:srgbClr val="ff3399">
              <a:alpha val="49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إن نجاح التعلم التعاوني يرتكز على المعلم والطالب معاٌ في إتقان كل منهما دور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ة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لتحقيق الهدف المرسوم لنجاح العملية التعليم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199880" y="2495160"/>
            <a:ext cx="6744240" cy="3086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fe10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يعتبر التعلم التعاوني طريقة تثير الحماس والحيوية والتفكير في التعليم وهذا ما نسعى له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لتطوير مستويات الطلاب ونرتقي بفكرهم لدرجات عليا</a:t>
            </a: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245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مراحل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 استخدام استراتيجية التعلم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التعاوني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85000"/>
          </a:bodyPr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أ - مرحلة البحث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من خلال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دورات تدريبية عن استراتيجية التعلم التعاوني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اطلاع على مراجع استراتيجية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حضور دروس تطبق فيها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ستشارة خبراء تربويين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جتماع مع موجهات ومعلمات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8:40:37Z</dcterms:created>
  <dc:creator>ahmed</dc:creator>
  <dc:description/>
  <dc:language>en-US</dc:language>
  <cp:lastModifiedBy>ahmed</cp:lastModifiedBy>
  <dcterms:modified xsi:type="dcterms:W3CDTF">2006-03-12T04:26:10Z</dcterms:modified>
  <cp:revision>18</cp:revision>
  <dc:subject/>
  <dc:title>السيرة الذاتية</dc:title>
</cp:coreProperties>
</file>