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8.gif" ContentType="image/gif"/>
  <Override PartName="/ppt/media/image7.gif" ContentType="image/gif"/>
  <Override PartName="/ppt/media/image5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jpeg" ContentType="image/jpeg"/>
  <Override PartName="/ppt/media/image4.png" ContentType="image/png"/>
  <Override PartName="/ppt/media/image1.png" ContentType="image/png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234-5642-498E-AE97-B8F7A661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3C8-1EED-4549-A06A-F0027BB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785-DF0A-4A3A-9BB0-11A1F162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2FB-449F-4802-BF1C-644A516F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4F2-2687-4C96-AEFC-4027D571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DC8-DECD-4A95-B82C-977D0301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582-DFD9-4C94-A36A-758084E7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148-B522-49CC-AA98-857716EB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DBE-CB5D-4715-9B2B-9B999A54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6E3-D37A-4F77-BACE-4556F60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0E1-FCCA-4964-AB3B-641423B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0CD-214D-4932-84A6-9BB2C29C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A274-6881-4D99-92BD-CCE1A1F71314}" type="slidenum">
              <a:rPr b="0" lang="ar-A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333360"/>
            <a:ext cx="57150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Diwani Bent"/>
              </a:rPr>
              <a:t>يدا بيد لتشرق شمس الغ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Diwani Bent"/>
              <a:ea typeface="Diwani Ben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95640" y="2492280"/>
            <a:ext cx="5790960" cy="352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78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492360" y="1628640"/>
            <a:ext cx="320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   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دورة تدريب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(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التعلم التعاوني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10201"/>
                  </a:outerShdw>
                </a:effectLst>
                <a:latin typeface="PT Bold Arch"/>
              </a:rPr>
              <a:t>)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310201"/>
                </a:outerShdw>
              </a:effectLst>
              <a:latin typeface="PT Bold Arch"/>
              <a:ea typeface="PT Bold Arch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5013360"/>
            <a:ext cx="30481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  </a:t>
            </a: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عداد:أ. غزوه مسعود مبارك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وجهة التاريخ بمنطقة دبي التعليمية</a:t>
            </a: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52480" y="68580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DecoType Naskh Swashes"/>
              </a:rPr>
              <a:t>الخطوات الأساسية في تخطيط الدرس بأسلوب التعلم التعاوني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DecoType Naskh Swashes"/>
              <a:ea typeface="DecoType Naskh Swashes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905120"/>
            <a:ext cx="79246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حدد الدرس الذي تحب أن تتبناه للتعلم التعاون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اتخذ قرارات 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عيّن أهداف الدرس والمهمات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طور طرقا للمراقبة وكيفية معالجة الطلبة للمادة التعل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ubular"/>
              </a:rPr>
              <a:t>- ضع معايير ل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91120" y="1066680"/>
            <a:ext cx="609480" cy="1905120"/>
          </a:xfrm>
          <a:prstGeom prst="upArrow">
            <a:avLst>
              <a:gd name="adj1" fmla="val 50000"/>
              <a:gd name="adj2" fmla="val 7814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3276720"/>
            <a:ext cx="609480" cy="1371600"/>
          </a:xfrm>
          <a:prstGeom prst="downArrow">
            <a:avLst>
              <a:gd name="adj1" fmla="val 50000"/>
              <a:gd name="adj2" fmla="val 5626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819520"/>
            <a:ext cx="1447920" cy="685800"/>
          </a:xfrm>
          <a:prstGeom prst="leftArrow">
            <a:avLst>
              <a:gd name="adj1" fmla="val 50000"/>
              <a:gd name="adj2" fmla="val 52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2819520"/>
            <a:ext cx="1523880" cy="685800"/>
          </a:xfrm>
          <a:prstGeom prst="rightArrow">
            <a:avLst>
              <a:gd name="adj1" fmla="val 50000"/>
              <a:gd name="adj2" fmla="val 55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95480" y="4724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عبة الكبري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572000" y="22096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44792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/>
                  </a:outerShdw>
                </a:effectLst>
                <a:latin typeface="Tahoma"/>
              </a:rPr>
              <a:t>إنطلق من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09480" y="304920"/>
            <a:ext cx="53341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648320"/>
            <a:ext cx="60948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32004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4572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2286000"/>
            <a:ext cx="6094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32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286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533412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124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1460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124080"/>
            <a:ext cx="7596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396252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876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4876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53341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3429000"/>
            <a:ext cx="7632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34290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39625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4120" y="251460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480060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4800600"/>
            <a:ext cx="7632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5410080"/>
            <a:ext cx="7632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3124080"/>
            <a:ext cx="75960" cy="15264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124080"/>
            <a:ext cx="76320" cy="15264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51460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6019920"/>
            <a:ext cx="7596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733920"/>
            <a:ext cx="7596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34290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343400"/>
            <a:ext cx="30492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7339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4648320"/>
            <a:ext cx="7596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6019920"/>
            <a:ext cx="76320" cy="15228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990720"/>
            <a:ext cx="533520" cy="457200"/>
          </a:xfrm>
          <a:prstGeom prst="beve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1295640" cy="1368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2133720" y="1676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75248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324480" y="1676520"/>
            <a:ext cx="25146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حجم المجموعة(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:2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\\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6:4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48520" y="2286000"/>
            <a:ext cx="2590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أعضاء المجموعة( التحصيل)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91520" y="3048120"/>
            <a:ext cx="15145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غرفة الص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93080" y="3716280"/>
            <a:ext cx="17240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مواد التعليم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16720" y="4292640"/>
            <a:ext cx="231444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تحديد الأدوار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24480" y="685800"/>
            <a:ext cx="2571840" cy="5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b2b2b2"/>
                    </a:gs>
                    <a:gs pos="100000">
                      <a:srgbClr val="00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6a6a6a"/>
                  </a:outerShdw>
                </a:effectLst>
                <a:latin typeface="Tahoma"/>
              </a:rPr>
              <a:t>القرارات التنظيمية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b2b2b2"/>
                  </a:gs>
                  <a:gs pos="100000">
                    <a:srgbClr val="000000"/>
                  </a:gs>
                </a:gsLst>
                <a:lin ang="8100000"/>
              </a:gradFill>
              <a:effectLst>
                <a:outerShdw dist="153753" dir="2700000" blurRad="0" rotWithShape="0">
                  <a:srgbClr val="6a6a6a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4869000"/>
            <a:ext cx="2376360" cy="115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59640" y="544500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59640" y="4941720"/>
            <a:ext cx="129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ضعي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جيد جي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000000"/>
                </a:solidFill>
                <a:latin typeface="Times New Roman"/>
              </a:rPr>
              <a:t>ممتا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72360" y="5734080"/>
            <a:ext cx="73080" cy="1443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72360" y="5013360"/>
            <a:ext cx="7308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5373720"/>
            <a:ext cx="73080" cy="144360"/>
          </a:xfrm>
          <a:prstGeom prst="flowChartConnector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533520" y="1295280"/>
          <a:ext cx="8153280" cy="42325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914400"/>
                <a:gridCol w="457200"/>
                <a:gridCol w="914400"/>
                <a:gridCol w="457200"/>
                <a:gridCol w="1067040"/>
                <a:gridCol w="533160"/>
                <a:gridCol w="1067040"/>
                <a:gridCol w="129528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لاحظ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يوم والتاري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طم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ري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أثن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 txBox="1"/>
          <p:nvPr/>
        </p:nvSpPr>
        <p:spPr>
          <a:xfrm>
            <a:off x="58672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447920"/>
            <a:ext cx="381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971800" y="1447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343400" y="152388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ستوى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3720" y="380880"/>
            <a:ext cx="502920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ndalus"/>
              </a:rPr>
              <a:t>جدول بأسماء مقررات المجموعات</a:t>
            </a:r>
            <a:endParaRPr b="0" lang="en-US" sz="16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ndalus"/>
              <a:ea typeface="Andalu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3573360" cy="3962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29200" y="1523880"/>
            <a:ext cx="312408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CS Modern E_I 3d."/>
              </a:rPr>
              <a:t>إستراح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CS Modern E_I 3d."/>
              <a:ea typeface="MCS Modern E_I 3d.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895480" y="2286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التطبيق العمل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10666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أنت معلم متميز تؤمن بالتطوير والارتقاء بالعملية التعليمية, فكنت مبادرا بتطبيق أسلوب التعلم التعاوني في فصلك المكون من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طالبا) منهم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لاب ضعاف) و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طالبا ممتازا) والبقيه متوسطي التحصيل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700280"/>
            <a:ext cx="4419720" cy="4876560"/>
          </a:xfrm>
          <a:custGeom>
            <a:avLst/>
            <a:gdLst>
              <a:gd name="textAreaLeft" fmla="*/ 215640 w 4419720"/>
              <a:gd name="textAreaRight" fmla="*/ 4204080 w 4419720"/>
              <a:gd name="textAreaTop" fmla="*/ 215640 h 4876560"/>
              <a:gd name="textAreaBottom" fmla="*/ 4660920 h 4876560"/>
            </a:gdLst>
            <a:ahLst/>
            <a:rect l="textAreaLeft" t="textAreaTop" r="textAreaRight" b="textAreaBottom"/>
            <a:pathLst>
              <a:path w="21600" h="23832">
                <a:moveTo>
                  <a:pt x="3600" y="0"/>
                </a:moveTo>
                <a:arcTo wR="3600" hR="3600" stAng="16200000" swAng="-5400000"/>
                <a:lnTo>
                  <a:pt x="0" y="20232"/>
                </a:lnTo>
                <a:arcTo wR="3600" hR="3600" stAng="10800000" swAng="-5400000"/>
                <a:lnTo>
                  <a:pt x="18000" y="23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676520"/>
            <a:ext cx="160020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981080"/>
            <a:ext cx="3352680" cy="39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عنوان الدرس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غرفة الصف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حجم المجموعة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طرق اختيا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أعضاء المجموعة.)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تحديد الأدوار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مواد التعليمية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35640" y="4869000"/>
            <a:ext cx="274320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5013360"/>
            <a:ext cx="228600" cy="15228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80360" y="5300640"/>
            <a:ext cx="304560" cy="228600"/>
          </a:xfrm>
          <a:prstGeom prst="flowChartExtra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80360" y="5661000"/>
            <a:ext cx="228600" cy="2286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372360" y="5013360"/>
            <a:ext cx="792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متا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443640" y="5300640"/>
            <a:ext cx="7923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جيد جد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43640" y="5661000"/>
            <a:ext cx="7207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ضعي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1218960" cy="1600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1440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751040" cy="1744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09680" y="45720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2590920"/>
            <a:ext cx="655344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4724280"/>
            <a:ext cx="6553080" cy="18288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438280" y="685800"/>
            <a:ext cx="115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وائد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914400"/>
            <a:ext cx="4876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90920" y="2895480"/>
            <a:ext cx="129528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سلبيات التعلم التعاون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0481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90920" y="4952880"/>
            <a:ext cx="129528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عوائق التعلم ال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5181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276720" y="457200"/>
            <a:ext cx="2895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alligrapher"/>
              </a:rPr>
              <a:t>فوائد التعلم التعاوني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alligrapher"/>
              <a:ea typeface="Calligrapher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600200"/>
            <a:ext cx="8458200" cy="4492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23623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1905120"/>
            <a:ext cx="7696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رفع التحصيل الأكاديم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عمل بروح الفريق الواح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لأخذ بوجهات نظر الآخر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تكوين مواقف أفضل تجاه المدرسة والم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احتمال الوقوع في الخطأ ضئيل بالقياس بالتعلم الفرد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imes New Roman"/>
              </a:rPr>
              <a:t>بناء تصور موحد في العمل الجماعي من خلال الطاقات الذهنية لدى كافة المتعلم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26920" y="1557360"/>
            <a:ext cx="7925040" cy="79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تعلم التعاوني.. ديفيد جونسون,روجر جونسون,إديث جونسون ( ترجمة : مدارس الظهران الأهلي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ذكاء المشاعر .. دانيال جولمان..ترجمة د. هشام الحناوي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سترتيجيات التعلم التعاوني .. د. عبدالله بن صالح  المقب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 التعلم التعاوني تخطيطه وتنفيذه.. الأونروا ..دائرة التربية والتعليم ..قسم تربية المعلمين والتعليم العالي ( معهد التربية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Diwani Letter"/>
              </a:rPr>
              <a:t>المعلم (الع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12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) سبتمب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200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Diwani Letter"/>
              </a:rPr>
              <a:t>(معاناة تربوية\ د. حسان داود الشمر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0"/>
            <a:ext cx="22100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50000">
                      <a:srgbClr val="ffccff"/>
                    </a:gs>
                    <a:gs pos="100000">
                      <a:srgbClr val="9900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68686"/>
                  </a:outerShdw>
                </a:effectLst>
                <a:latin typeface="Farsi Simple Bold"/>
              </a:rPr>
              <a:t>المراج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50000">
                    <a:srgbClr val="ffccff"/>
                  </a:gs>
                  <a:gs pos="100000">
                    <a:srgbClr val="990099"/>
                  </a:gs>
                </a:gsLst>
                <a:lin ang="13500000"/>
              </a:gradFill>
              <a:effectLst>
                <a:outerShdw dist="153753" dir="2700000" blurRad="0" rotWithShape="0">
                  <a:srgbClr val="868686"/>
                </a:outerShdw>
              </a:effectLst>
              <a:latin typeface="Farsi Simple Bold"/>
              <a:ea typeface="Farsi Simple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2940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676520" cy="1295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724280"/>
            <a:ext cx="1676520" cy="1295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971800"/>
            <a:ext cx="2438280" cy="1752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3657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72428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80060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532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2057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4382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2438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6668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6668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362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05740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4864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752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752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7913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5627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53341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5105520"/>
            <a:ext cx="7596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5334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8672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410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57150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638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02920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5181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5181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34340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505320"/>
            <a:ext cx="152640" cy="152280"/>
          </a:xfrm>
          <a:prstGeom prst="flowChartSummingJunction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0384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0384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7596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267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3526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3124080"/>
            <a:ext cx="76320" cy="763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1911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962520"/>
            <a:ext cx="76320" cy="7596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14600" y="304920"/>
            <a:ext cx="441972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Diwani Letter"/>
              </a:rPr>
              <a:t>كيف تنظم جلوس طلابك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63244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مجلة المعلم (العدد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162920" y="2895480"/>
            <a:ext cx="7048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محاضرة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2895480"/>
            <a:ext cx="7239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اقش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038480" y="4876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علم تعاو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0" y="6019920"/>
            <a:ext cx="12096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دريس مصغ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47920" y="6172200"/>
            <a:ext cx="504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بارا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828800" y="6858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MCS Khaybar E_U 3D."/>
              </a:rPr>
              <a:t>جميع الأنماط تهدف إلى ( التعلم والتعليم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MCS Khaybar E_U 3D."/>
              <a:ea typeface="MCS Khaybar E_U 3D.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752480"/>
            <a:ext cx="830592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 : مجهود شخصي ونشاط ذاتي يصدر عن      المتعلم نفسه ويمكن أن يكون بمعونة المعلم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2819520"/>
            <a:ext cx="777240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cc0000"/>
                </a:solidFill>
                <a:latin typeface="Times New Roman"/>
                <a:cs typeface="Led Italic Font"/>
              </a:rPr>
              <a:t>التعلي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Led Italic Font"/>
              </a:rPr>
              <a:t>:هو مجرد مجهود شخصي لمعونة شخص آخر على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200400"/>
            <a:ext cx="1752480" cy="1295280"/>
          </a:xfrm>
          <a:prstGeom prst="irregularSeal1">
            <a:avLst/>
          </a:prstGeom>
          <a:gradFill rotWithShape="0">
            <a:gsLst>
              <a:gs pos="0">
                <a:srgbClr val="ff9999"/>
              </a:gs>
              <a:gs pos="100000">
                <a:srgbClr val="dddddd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391520" y="3505320"/>
            <a:ext cx="1047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واع التعل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3962520"/>
            <a:ext cx="5486400" cy="251460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4419720"/>
            <a:ext cx="480060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فردي :  الاعتماد على النفس ( هدف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نافسي : تنافس الطلاب لتحقيق هدف ( الأفض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تعاوني : الجميع يعمل ضمن مجموعات لتحقيق هدف تعليم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مشترك ( الاتقان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533520"/>
            <a:ext cx="8305560" cy="5790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57600" y="762120"/>
            <a:ext cx="4952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Diwani Letter"/>
              </a:rPr>
              <a:t>حدد نوع التعلم في العبارات التالية: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Diwani Letter"/>
              <a:ea typeface="Diwani Letter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038480" y="2057400"/>
            <a:ext cx="443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أنا أنجو, أنت تغرق, أنا أغرق , أنت تنجو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62520" y="3200400"/>
            <a:ext cx="44193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كل منا يعمل بمفرده لتحقيق هذا الهد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62520" y="4419720"/>
            <a:ext cx="44956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نغرق معا أو ننجو مع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2590920" cy="3063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2062080" cy="2052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1074600"/>
            <a:ext cx="2743200" cy="186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3138480" cy="292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66680" y="3809880"/>
            <a:ext cx="2451240" cy="24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1600200"/>
            <a:ext cx="8218440" cy="48769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4360" y="2666880"/>
            <a:ext cx="7926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و نشاط تعلمي موجه نحو هدف مشترك يبدو فيه المتعلمون جماعة متفاعلة 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اعتبار كل واحد منهم مؤثرا في بناء النشاط التعلمي وتوجيه وتعديل سيره.</a:t>
            </a:r>
            <a:endParaRPr b="0" lang="en-US" sz="1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457200"/>
            <a:ext cx="449568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ahoma"/>
              </a:rPr>
              <a:t>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81080" y="609480"/>
            <a:ext cx="5791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MCS Mamloky E_I 3D."/>
              </a:rPr>
              <a:t>أنواع التعلم التعاوني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MCS Mamloky E_I 3D."/>
              <a:ea typeface="MCS Mamloky E_I 3D.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752480"/>
            <a:ext cx="7696080" cy="4484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133720"/>
            <a:ext cx="6400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رسم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( من حصة صفية واحدة إلى أسابي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اونية غير الرسم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 هي مجموعات ذات غرض خاص قد يدوم بضع دقائق إلى    حصة  صفية واحد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hi-IN" sz="2400" spc="-1" strike="noStrike">
                <a:solidFill>
                  <a:srgbClr val="3333cc"/>
                </a:solidFill>
                <a:latin typeface="Times New Roman"/>
              </a:rPr>
              <a:t>المجموعات التعليمية التعاونية الأساسي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مجموعات طويلة الأجل وغير متجانسة وذات عضوية ثابتة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90920" y="6094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ahoma"/>
              </a:rPr>
              <a:t>المبادئ الأساسي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619280" y="1125360"/>
            <a:ext cx="6477120" cy="19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Tahoma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ahoma"/>
              </a:rPr>
              <a:t>*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ahoma"/>
              </a:rPr>
              <a:t>الاعتماد المتبادل الايجابي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ahoma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637000"/>
            <a:ext cx="684072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2637000"/>
            <a:ext cx="7416720" cy="30978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Arial Unicode MS"/>
              </a:rPr>
              <a:t>إن نجاح المجموعة يعتمد على نجاح جهد كل عضو في المجموعة والإعتماد الإيجابي يعني توافر بيئة تسمح بمساعدة الطلاب بعضهم بعضا على التعلم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 التفكير في نحن وليس أنا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067280" y="692280"/>
            <a:ext cx="47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المسؤولية الفرد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844640"/>
            <a:ext cx="8642160" cy="1068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محاسبة الفردية وتعني مسؤولية الفرد في تعلمه لمادته العلم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11640" y="3068640"/>
            <a:ext cx="45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*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المهارات الإجتماع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4221000"/>
            <a:ext cx="8640720" cy="1068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التواصل بين الأشخاص.. ( تسمح للطلبة بالعمل معا بشكل جيد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غزوه..م\دبي التعليمية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8:33:15Z</dcterms:created>
  <dc:creator>..</dc:creator>
  <dc:description/>
  <dc:language>en-US</dc:language>
  <cp:lastModifiedBy>**</cp:lastModifiedBy>
  <dcterms:modified xsi:type="dcterms:W3CDTF">2005-01-05T20:15:33Z</dcterms:modified>
  <cp:revision>26</cp:revision>
  <dc:subject/>
  <dc:title>عرض تقديمي من PowerPoint</dc:title>
</cp:coreProperties>
</file>