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40C-4389-4FA0-A04C-29B5C2D4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FFE-B6F0-4FD5-ADC3-E67100C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051-4ADD-45E7-BB5F-6BBCA1ED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FCA-993E-4ECC-9672-AC84B036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B26-513D-452B-B833-4CC77D8C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A68-5680-418A-A2B2-4CF67465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881-B1DA-40D8-BC20-9F6E50B2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28B-7AB6-4822-B3E2-0435FA49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FF9-E6E7-4295-AA8D-CB4D49AD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B20-9594-46AD-A72A-92AD3A2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306-3BB4-4F10-AD52-FAFD2A3D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65C-AE1C-496A-8087-29A3789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9A2-2C03-47C6-B317-FA54E28E3CDB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333360"/>
            <a:ext cx="57150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iwani Bent"/>
              </a:rPr>
              <a:t>يدا بيد لتشرق شمس الغ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iwani Bent"/>
              <a:ea typeface="Diwani Ben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790960" cy="352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162864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   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دورة تدريب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(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التعلم التعاوني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5013360"/>
            <a:ext cx="30481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  </a:t>
            </a: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عداد:أ. غزوه مسعود مبار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وجهة التاريخ بمنطقة دبي التعليمية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52480" y="685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DecoType Naskh Swashes"/>
              </a:rPr>
              <a:t>الخطوات الأساسية في تخطيط الدرس بأسلوب التعلم التعاوني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905120"/>
            <a:ext cx="79246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حدد الدرس الذي تحب أن تتبناه للتعلم التعاو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اتخذ قرارات 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عيّن أهداف الدرس والمهمات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طور طرقا للمراقبة وكيفية معالجة الطلبة للمادة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ضع معايير ل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91120" y="1066680"/>
            <a:ext cx="609480" cy="1905120"/>
          </a:xfrm>
          <a:prstGeom prst="upArrow">
            <a:avLst>
              <a:gd name="adj1" fmla="val 50000"/>
              <a:gd name="adj2" fmla="val 7814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27672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819520"/>
            <a:ext cx="1447920" cy="685800"/>
          </a:xfrm>
          <a:prstGeom prst="leftArrow">
            <a:avLst>
              <a:gd name="adj1" fmla="val 50000"/>
              <a:gd name="adj2" fmla="val 52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819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4724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عبة الكبري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إنطلق من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304920"/>
            <a:ext cx="53341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648320"/>
            <a:ext cx="6094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2004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572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33412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1460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7596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96252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76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876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42900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9625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5146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480060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80060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410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7596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124080"/>
            <a:ext cx="7632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1992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7339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733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6483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6019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990720"/>
            <a:ext cx="533520" cy="457200"/>
          </a:xfrm>
          <a:prstGeom prst="beve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2133720" y="1676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752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24480" y="1676520"/>
            <a:ext cx="2514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حجم المجموعة(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:2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\\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6:4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8520" y="2286000"/>
            <a:ext cx="2590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أعضاء المجموعة( التحصيل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91520" y="3048120"/>
            <a:ext cx="1514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غرفة الص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93080" y="371628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اد التعليم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16720" y="4292640"/>
            <a:ext cx="2314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تحديد الأدوار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685800"/>
            <a:ext cx="257184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6a6a6a"/>
                  </a:outerShdw>
                </a:effectLst>
                <a:latin typeface="Tahoma"/>
              </a:rPr>
              <a:t>القرارات التنظيم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8100000"/>
              </a:gradFill>
              <a:effectLst>
                <a:outerShdw dist="153753" dir="2700000" blurRad="0" rotWithShape="0">
                  <a:srgbClr val="6a6a6a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4869000"/>
            <a:ext cx="237636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445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941720"/>
            <a:ext cx="129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ضعي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جيد جي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ممتا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5734080"/>
            <a:ext cx="73080" cy="1443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5013360"/>
            <a:ext cx="7308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5373720"/>
            <a:ext cx="73080" cy="14436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33520" y="1295280"/>
          <a:ext cx="8153280" cy="42325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914400"/>
                <a:gridCol w="457200"/>
                <a:gridCol w="914400"/>
                <a:gridCol w="457200"/>
                <a:gridCol w="1067040"/>
                <a:gridCol w="533160"/>
                <a:gridCol w="1067040"/>
                <a:gridCol w="12952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يوم والتاري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ط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ي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ث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 txBox="1"/>
          <p:nvPr/>
        </p:nvSpPr>
        <p:spPr>
          <a:xfrm>
            <a:off x="58672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1447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43400" y="1523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380880"/>
            <a:ext cx="5029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ndalus"/>
              </a:rPr>
              <a:t>جدول بأسماء مقررات المجموعات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57336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29200" y="1523880"/>
            <a:ext cx="31240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إستراح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CS Modern E_I 3d."/>
              <a:ea typeface="MCS Modern E_I 3d.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95480" y="2286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لتطبيق العمل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أنت معلم متميز تؤمن بالتطوير والارتقاء بالعملية التعليمية, فكنت مبادرا بتطبيق أسلوب التعلم التعاوني في فصلك المكون من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طالبا) منه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لاب ضعاف) و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البا ممتازا) والبقيه متوسطي التحصي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700280"/>
            <a:ext cx="4419720" cy="487656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876560"/>
              <a:gd name="textAreaBottom" fmla="*/ 4660920 h 4876560"/>
            </a:gdLst>
            <a:ahLst/>
            <a:rect l="textAreaLeft" t="textAreaTop" r="textAreaRight" b="textAreaBottom"/>
            <a:pathLst>
              <a:path w="21600" h="23832">
                <a:moveTo>
                  <a:pt x="3600" y="0"/>
                </a:moveTo>
                <a:arcTo wR="3600" hR="3600" stAng="16200000" swAng="-5400000"/>
                <a:lnTo>
                  <a:pt x="0" y="20232"/>
                </a:lnTo>
                <a:arcTo wR="3600" hR="3600" stAng="10800000" swAng="-5400000"/>
                <a:lnTo>
                  <a:pt x="18000" y="23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676520"/>
            <a:ext cx="1600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981080"/>
            <a:ext cx="335268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عنوان الدرس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غرفة الصف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حجم المجموعة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طرق اختيا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أعضاء المجموعة.)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تحديد الأدوار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واد التعليمية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4869000"/>
            <a:ext cx="27432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5013360"/>
            <a:ext cx="22860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5300640"/>
            <a:ext cx="304560" cy="22860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661000"/>
            <a:ext cx="228600" cy="2286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013360"/>
            <a:ext cx="79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متا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3640" y="5300640"/>
            <a:ext cx="792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يد جد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43640" y="5661000"/>
            <a:ext cx="7207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ضعي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21896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751040" cy="174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45720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59092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724280"/>
            <a:ext cx="6553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685800"/>
            <a:ext cx="11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وائد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914400"/>
            <a:ext cx="4876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90920" y="2895480"/>
            <a:ext cx="1295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سلبيات التعلم التعاون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048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90920" y="4952880"/>
            <a:ext cx="1295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وائق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181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276720" y="4572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alligrapher"/>
              </a:rPr>
              <a:t>فوائد التعلم التعاوني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458200" cy="4492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رفع التحصيل الأكاديم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مل بروح الفريق ال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أخذ بوجهات نظر الآخر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تكوين مواقف أفضل تجاه المدرسة والم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حتمال الوقوع في الخطأ ضئيل بالقياس بالتعلم الفرد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ناء تصور موحد في العمل الجماعي من خلال الطاقات الذهنية لدى كافة المت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6920" y="1557360"/>
            <a:ext cx="792504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تعلم التعاوني.. ديفيد جونسون,روجر جونسون,إديث جونسون ( ترجمة : مدارس الظهران الأهل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ذكاء المشاعر .. دانيال جولمان..ترجمة د. هشام الحناو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سترتيجيات التعلم التعاوني .. د. عبدالله بن صالح  المقب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لتعلم التعاوني تخطيطه وتنفيذه.. الأونروا ..دائرة التربية والتعليم ..قسم تربية المعلمين والتعليم العالي ( معهد الترب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معلم (الع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12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 سبتمب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200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(معاناة تربوية\ د. حسان داود الشم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0"/>
            <a:ext cx="22100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50000">
                      <a:srgbClr val="ffccff"/>
                    </a:gs>
                    <a:gs pos="100000">
                      <a:srgbClr val="99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Farsi Simple Bold"/>
              </a:rPr>
              <a:t>المراج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50000">
                    <a:srgbClr val="ffccff"/>
                  </a:gs>
                  <a:gs pos="100000">
                    <a:srgbClr val="9900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Farsi Simple Bold"/>
              <a:ea typeface="Farsi Simple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2940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67652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7242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971800"/>
            <a:ext cx="2438280" cy="1752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657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72428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800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486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5627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41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1055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867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10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7150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0292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181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038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038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920"/>
            <a:ext cx="4419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كيف تنظم جلوس طلابك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مجلة المعلم (العدد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2895480"/>
            <a:ext cx="704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محاضر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اقش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038480" y="4876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علم 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6019920"/>
            <a:ext cx="1209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دريس مصغ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920" y="6172200"/>
            <a:ext cx="50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بارا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858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CS Khaybar E_U 3D."/>
              </a:rPr>
              <a:t>جميع الأنماط تهدف إلى ( التعلم والتعليم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CS Khaybar E_U 3D."/>
              <a:ea typeface="MCS Khaybar E_U 3D.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0592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 : مجهود شخصي ونشاط ذاتي يصدر عن      المتعلم نفسه ويمكن أن يكون بمعونة المعلم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819520"/>
            <a:ext cx="77724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ي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:هو مجرد مجهود شخصي لمعونة شخص آخر على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200400"/>
            <a:ext cx="1752480" cy="1295280"/>
          </a:xfrm>
          <a:prstGeom prst="irregularSeal1">
            <a:avLst/>
          </a:prstGeom>
          <a:gradFill rotWithShape="0">
            <a:gsLst>
              <a:gs pos="0">
                <a:srgbClr val="ff9999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91520" y="3505320"/>
            <a:ext cx="104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واع التعل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5486400" cy="25146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419720"/>
            <a:ext cx="4800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فردي :  الاعتماد على النفس ( هد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نافسي : تنافس الطلاب لتحقيق هدف ( الأفض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عاوني : الجميع يعمل ضمن مجموعات لتحقيق هدف تعليم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مشترك ( الاتق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8305560" cy="57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57600" y="762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iwani Letter"/>
              </a:rPr>
              <a:t>حدد نوع التعلم في العبارات التالية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2057400"/>
            <a:ext cx="44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ا أنجو, أنت تغرق, أنا أغرق , أنت تنجو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62520" y="3200400"/>
            <a:ext cx="4419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كل منا يعمل بمفرده لتحقيق هذا الهد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4419720"/>
            <a:ext cx="44956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نغرق معا أو ننجو مع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2590920" cy="3063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2062080" cy="20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1074600"/>
            <a:ext cx="2743200" cy="186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3848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66680" y="3809880"/>
            <a:ext cx="2451240" cy="24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600200"/>
            <a:ext cx="8218440" cy="4876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66880"/>
            <a:ext cx="7926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و نشاط تعلمي موجه نحو هدف مشترك يبدو فيه المتعلمون جماعة متفاعلة 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اعتبار كل واحد منهم مؤثرا في بناء النشاط التعلمي وتوجيه وتعديل سيره.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457200"/>
            <a:ext cx="4495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1080" y="609480"/>
            <a:ext cx="5791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CS Mamloky E_I 3D."/>
              </a:rPr>
              <a:t>أنواع 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CS Mamloky E_I 3D."/>
              <a:ea typeface="MCS Mamloky E_I 3D.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2480"/>
            <a:ext cx="7696080" cy="4484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رس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 من حصة صفية واحدة إلى أسابي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اونية غير الرس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 هي مجموعات ذات غرض خاص قد يدوم بضع دقائق إلى    حصة  صفية واح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أساس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مجموعات طويلة الأجل وغير متجانسة وذات عضوية ثابتة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90920" y="6094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المبادئ الأساسي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19280" y="1125360"/>
            <a:ext cx="64771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ahoma"/>
              </a:rPr>
              <a:t>*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ahoma"/>
              </a:rPr>
              <a:t>الاعتماد المتبادل الايجاب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6840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7416720" cy="3097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Arial Unicode MS"/>
              </a:rPr>
              <a:t>إن نجاح المجموعة يعتمد على نجاح جهد كل عضو في المجموعة والإعتماد الإيجابي يعني توافر بيئة تسمح بمساعدة الطلاب بعضهم بعضا على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التفكير في نحن وليس أنا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7280" y="69228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المسؤولية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44640"/>
            <a:ext cx="864216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محاسبة الفردية وتعني مسؤولية الفرد في تعلمه لمادته الع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306864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هارات الإجتماع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21000"/>
            <a:ext cx="864072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تواصل بين الأشخاص.. ( تسمح للطلبة بالعمل معا بشكل جيد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33:15Z</dcterms:created>
  <dc:creator>..</dc:creator>
  <dc:description/>
  <dc:language>en-US</dc:language>
  <cp:lastModifiedBy>**</cp:lastModifiedBy>
  <dcterms:modified xsi:type="dcterms:W3CDTF">2005-01-05T20:15:33Z</dcterms:modified>
  <cp:revision>26</cp:revision>
  <dc:subject/>
  <dc:title>عرض تقديمي من PowerPoint</dc:title>
</cp:coreProperties>
</file>