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0.wmf" ContentType="image/x-wmf"/>
  <Override PartName="/ppt/media/image8.gif" ContentType="image/gif"/>
  <Override PartName="/ppt/media/image7.gif" ContentType="image/gif"/>
  <Override PartName="/ppt/media/image5.jpeg" ContentType="image/jpeg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3.jpeg" ContentType="image/jpeg"/>
  <Override PartName="/ppt/media/image4.png" ContentType="image/png"/>
  <Override PartName="/ppt/media/image1.png" ContentType="image/png"/>
  <Override PartName="/ppt/media/image2.wmf" ContentType="image/x-wmf"/>
  <Override PartName="/ppt/media/image9.wmf" ContentType="image/x-wmf"/>
  <Override PartName="/ppt/media/image14.wmf" ContentType="image/x-wmf"/>
  <Override PartName="/ppt/media/image3.gif" ContentType="image/gif"/>
  <Override PartName="/ppt/media/image6.wmf" ContentType="image/x-wmf"/>
  <Override PartName="/ppt/media/image11.wmf" ContentType="image/x-wmf"/>
  <Override PartName="/ppt/media/chimes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5CBE6-2789-4FBC-8434-78219A9EB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02C5C-ABB9-4CCA-BEB1-FFF5169BE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B40EF-345B-486D-9303-4FC6CD3DF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8B7E1-1761-4241-93BE-8A9E24F62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0A77C-026E-4849-9C87-6209EC12E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2C22F-A3E0-4683-8A0F-4CEFE2257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82773-D21D-4841-924E-4680BA90F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7EDD6-5680-4B18-989A-CD31AA7F9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C3AB8-3732-4D9D-BE69-A0DC634F7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9FCFE-74C6-4B6B-A241-8C65EE1AA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B49D4-64D8-4706-B116-53A97EC5C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D6A58-036E-4908-81BE-B114EBF99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A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FDBF9-3747-4A4C-B76D-1497F10B3511}" type="slidenum">
              <a:rPr b="0" lang="ar-A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gif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gif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image" Target="../media/image11.wmf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image" Target="../media/image12.jpeg"/><Relationship Id="rId6" Type="http://schemas.openxmlformats.org/officeDocument/2006/relationships/image" Target="../media/image12.jpeg"/><Relationship Id="rId7" Type="http://schemas.openxmlformats.org/officeDocument/2006/relationships/image" Target="../media/image12.jpeg"/><Relationship Id="rId8" Type="http://schemas.openxmlformats.org/officeDocument/2006/relationships/image" Target="../media/image12.jpeg"/><Relationship Id="rId9" Type="http://schemas.openxmlformats.org/officeDocument/2006/relationships/image" Target="../media/image13.jpeg"/><Relationship Id="rId1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2.jpeg"/><Relationship Id="rId7" Type="http://schemas.openxmlformats.org/officeDocument/2006/relationships/image" Target="../media/image12.jpeg"/><Relationship Id="rId8" Type="http://schemas.openxmlformats.org/officeDocument/2006/relationships/image" Target="../media/image12.jpeg"/><Relationship Id="rId9" Type="http://schemas.openxmlformats.org/officeDocument/2006/relationships/image" Target="../media/image12.jpeg"/><Relationship Id="rId10" Type="http://schemas.openxmlformats.org/officeDocument/2006/relationships/image" Target="../media/image13.jpeg"/><Relationship Id="rId1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124000" y="333360"/>
            <a:ext cx="5715000" cy="1000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Diwani Bent"/>
              </a:rPr>
              <a:t>يدا بيد لتشرق شمس الغد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Diwani Bent"/>
              <a:ea typeface="Diwani Bent"/>
            </a:endParaRPr>
          </a:p>
        </p:txBody>
      </p:sp>
      <p:pic>
        <p:nvPicPr>
          <p:cNvPr id="42" name="" descr=""/>
          <p:cNvPicPr/>
          <p:nvPr/>
        </p:nvPicPr>
        <p:blipFill>
          <a:blip r:embed="rId3"/>
          <a:stretch/>
        </p:blipFill>
        <p:spPr>
          <a:xfrm>
            <a:off x="2195640" y="2492280"/>
            <a:ext cx="5790960" cy="35211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4"/>
          <a:stretch/>
        </p:blipFill>
        <p:spPr>
          <a:xfrm>
            <a:off x="228600" y="304920"/>
            <a:ext cx="914400" cy="7826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3492360" y="1628640"/>
            <a:ext cx="32004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310201"/>
                  </a:outerShdw>
                </a:effectLst>
                <a:latin typeface="PT Bold Arch"/>
              </a:rPr>
              <a:t>    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310201"/>
                  </a:outerShdw>
                </a:effectLst>
                <a:latin typeface="PT Bold Arch"/>
              </a:rPr>
              <a:t>دورة تدريبية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7819" dir="2700000" blurRad="0" rotWithShape="0">
                  <a:srgbClr val="310201"/>
                </a:outerShdw>
              </a:effectLst>
              <a:latin typeface="PT Bold Arch"/>
              <a:ea typeface="PT Bold Arch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310201"/>
                  </a:outerShdw>
                </a:effectLst>
                <a:latin typeface="PT Bold Arch"/>
              </a:rPr>
              <a:t> 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310201"/>
                  </a:outerShdw>
                </a:effectLst>
                <a:latin typeface="PT Bold Arch"/>
              </a:rPr>
              <a:t>(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310201"/>
                  </a:outerShdw>
                </a:effectLst>
                <a:latin typeface="PT Bold Arch"/>
              </a:rPr>
              <a:t>التعلم التعاوني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310201"/>
                  </a:outerShdw>
                </a:effectLst>
                <a:latin typeface="PT Bold Arch"/>
              </a:rPr>
              <a:t>)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7819" dir="2700000" blurRad="0" rotWithShape="0">
                  <a:srgbClr val="310201"/>
                </a:outerShdw>
              </a:effectLst>
              <a:latin typeface="PT Bold Arch"/>
              <a:ea typeface="PT Bold Arch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609480" y="5013360"/>
            <a:ext cx="3048120" cy="184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DecoType Naskh Variants"/>
              </a:rPr>
              <a:t> </a:t>
            </a:r>
            <a:endParaRPr b="1" i="1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DecoType Naskh Variants"/>
              <a:ea typeface="DecoType Naskh Variant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DecoType Naskh Variants"/>
              </a:rPr>
              <a:t>   </a:t>
            </a:r>
            <a:r>
              <a:rPr b="0" lang="hi-IN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DecoType Naskh Variants"/>
              </a:rPr>
              <a:t>اعداد:أ. غزوه مسعود مبارك</a:t>
            </a:r>
            <a:endParaRPr b="1" i="1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DecoType Naskh Variants"/>
              <a:ea typeface="DecoType Naskh Variants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DecoType Naskh Variants"/>
              </a:rPr>
              <a:t>موجهة التاريخ بمنطقة دبي التعليمية</a:t>
            </a:r>
            <a:endParaRPr b="1" i="1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DecoType Naskh Variants"/>
              <a:ea typeface="DecoType Naskh Variant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DecoType Naskh Variants"/>
              <a:ea typeface="DecoType Naskh Variant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غزوه..م\دبي التعليمية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3000"/>
                            </p:stCondLst>
                            <p:childTnLst>
                              <p:par>
                                <p:cTn id="1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4000"/>
                            </p:stCondLst>
                            <p:childTnLst>
                              <p:par>
                                <p:cTn id="20" nodeType="afterEffect" fill="hold" presetClass="entr" presetID="5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3" presetSubtype="1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1752480" y="685800"/>
            <a:ext cx="62485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cc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DecoType Naskh Swashes"/>
              </a:rPr>
              <a:t>الخطوات الأساسية في تخطيط الدرس بأسلوب التعلم التعاوني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cc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DecoType Naskh Swashes"/>
              <a:ea typeface="DecoType Naskh Swashes"/>
            </a:endParaRPr>
          </a:p>
        </p:txBody>
      </p:sp>
      <p:sp>
        <p:nvSpPr>
          <p:cNvPr id="158" name=""/>
          <p:cNvSpPr/>
          <p:nvPr/>
        </p:nvSpPr>
        <p:spPr>
          <a:xfrm>
            <a:off x="762120" y="1905120"/>
            <a:ext cx="7924680" cy="39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ubular"/>
              </a:rPr>
              <a:t>- حدد الدرس الذي تحب أن تتبناه للتعلم التعاوني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ubular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ubular"/>
              </a:rPr>
              <a:t>- اتخذ قرارات تنظيمي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ubular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Tubular"/>
              </a:rPr>
              <a:t>- عيّن أهداف الدرس والمهمات التعليمي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ubular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Tubular"/>
              </a:rPr>
              <a:t>- طور طرقا للمراقبة وكيفية معالجة الطلبة للمادة التعليمي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ubular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Tubular"/>
              </a:rPr>
              <a:t>- ضع معايير للنجاح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غزوه..م\دبي التعليمية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5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4191120" y="1066680"/>
            <a:ext cx="609480" cy="1905120"/>
          </a:xfrm>
          <a:prstGeom prst="upArrow">
            <a:avLst>
              <a:gd name="adj1" fmla="val 50000"/>
              <a:gd name="adj2" fmla="val 78145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191120" y="3276720"/>
            <a:ext cx="609480" cy="1371600"/>
          </a:xfrm>
          <a:prstGeom prst="downArrow">
            <a:avLst>
              <a:gd name="adj1" fmla="val 50000"/>
              <a:gd name="adj2" fmla="val 56261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895480" y="2819520"/>
            <a:ext cx="1447920" cy="685800"/>
          </a:xfrm>
          <a:prstGeom prst="leftArrow">
            <a:avLst>
              <a:gd name="adj1" fmla="val 50000"/>
              <a:gd name="adj2" fmla="val 52782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648320" y="2819520"/>
            <a:ext cx="1523880" cy="685800"/>
          </a:xfrm>
          <a:prstGeom prst="rightArrow">
            <a:avLst>
              <a:gd name="adj1" fmla="val 50000"/>
              <a:gd name="adj2" fmla="val 55551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2895480" y="4724280"/>
            <a:ext cx="32004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لعبة الكبريت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4572000" y="220968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638680" y="1447920"/>
            <a:ext cx="1914480" cy="69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000000"/>
                  </a:outerShdw>
                </a:effectLst>
                <a:latin typeface="Tahoma"/>
              </a:rPr>
              <a:t> </a:t>
            </a: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000000"/>
                  </a:outerShdw>
                </a:effectLst>
                <a:latin typeface="Tahoma"/>
              </a:rPr>
              <a:t>إنطلق من هنا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effectLst>
                <a:outerShdw dist="153753" dir="2700000" blurRad="0" rotWithShape="0">
                  <a:srgbClr val="000000"/>
                </a:outerShdw>
              </a:effectLst>
              <a:latin typeface="Tahoma"/>
              <a:ea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غزوه..م\دبي التعليمية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1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609480" y="304920"/>
            <a:ext cx="5334120" cy="617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143000" y="2286000"/>
            <a:ext cx="609480" cy="11430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143000" y="4648320"/>
            <a:ext cx="609480" cy="10666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47920" y="46483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971800" y="3200400"/>
            <a:ext cx="609480" cy="11430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648320" y="4572000"/>
            <a:ext cx="609480" cy="11430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648320" y="2286000"/>
            <a:ext cx="609480" cy="11430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47920" y="228600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276720" y="320040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952880" y="457200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228600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143000" y="51814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143000" y="28954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648320" y="51814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971800" y="38098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648320" y="28954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990720" y="5334120"/>
            <a:ext cx="75960" cy="152280"/>
          </a:xfrm>
          <a:prstGeom prst="flowChartConnector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828800" y="5334120"/>
            <a:ext cx="76320" cy="15228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828800" y="2514600"/>
            <a:ext cx="76320" cy="152280"/>
          </a:xfrm>
          <a:prstGeom prst="flowChartConnector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828800" y="3124080"/>
            <a:ext cx="76320" cy="152640"/>
          </a:xfrm>
          <a:prstGeom prst="flowChartConnector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990720" y="2514600"/>
            <a:ext cx="75960" cy="152280"/>
          </a:xfrm>
          <a:prstGeom prst="flowChartConnector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990720" y="3124080"/>
            <a:ext cx="75960" cy="15264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657600" y="3962520"/>
            <a:ext cx="76320" cy="15228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990720" y="4876920"/>
            <a:ext cx="75960" cy="152280"/>
          </a:xfrm>
          <a:prstGeom prst="flowChartConnector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4876920"/>
            <a:ext cx="76320" cy="152280"/>
          </a:xfrm>
          <a:prstGeom prst="flowChartConnector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334120" y="5334120"/>
            <a:ext cx="75960" cy="152280"/>
          </a:xfrm>
          <a:prstGeom prst="flowChartConnector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657600" y="3429000"/>
            <a:ext cx="76320" cy="15228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3429000"/>
            <a:ext cx="75960" cy="15228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819520" y="3962520"/>
            <a:ext cx="75960" cy="15228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334120" y="2514600"/>
            <a:ext cx="75960" cy="15228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334120" y="4800600"/>
            <a:ext cx="75960" cy="15228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95680" y="4800600"/>
            <a:ext cx="76320" cy="15228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495680" y="5410080"/>
            <a:ext cx="76320" cy="152640"/>
          </a:xfrm>
          <a:prstGeom prst="flowChartConnector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334120" y="3124080"/>
            <a:ext cx="75960" cy="152640"/>
          </a:xfrm>
          <a:prstGeom prst="flowChartConnector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3124080"/>
            <a:ext cx="76320" cy="15264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495680" y="2514600"/>
            <a:ext cx="76320" cy="152280"/>
          </a:xfrm>
          <a:prstGeom prst="flowChartConnector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295280" y="3429000"/>
            <a:ext cx="304920" cy="228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295280" y="5715000"/>
            <a:ext cx="304920" cy="228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447920" y="6019920"/>
            <a:ext cx="75960" cy="15228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447920" y="3733920"/>
            <a:ext cx="75960" cy="15228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800600" y="5715000"/>
            <a:ext cx="304920" cy="228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800600" y="3429000"/>
            <a:ext cx="304920" cy="228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124080" y="4343400"/>
            <a:ext cx="304920" cy="228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876920" y="3733920"/>
            <a:ext cx="75960" cy="152280"/>
          </a:xfrm>
          <a:prstGeom prst="flowChartConnector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276720" y="4648320"/>
            <a:ext cx="75960" cy="152280"/>
          </a:xfrm>
          <a:prstGeom prst="flowChartConnector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52880" y="6019920"/>
            <a:ext cx="76320" cy="152280"/>
          </a:xfrm>
          <a:prstGeom prst="flowChartConnector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029200" y="990720"/>
            <a:ext cx="533520" cy="457200"/>
          </a:xfrm>
          <a:prstGeom prst="bevel">
            <a:avLst>
              <a:gd name="adj" fmla="val 1250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2666880" y="533520"/>
            <a:ext cx="1295640" cy="136836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 flipH="1">
            <a:off x="2133720" y="1676520"/>
            <a:ext cx="8380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809880" y="1752480"/>
            <a:ext cx="53352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352680" y="2286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6324480" y="1676520"/>
            <a:ext cx="2514600" cy="39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* </a:t>
            </a: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حجم المجموعة( </a:t>
            </a: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5:2</a:t>
            </a: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\\</a:t>
            </a: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6:4</a:t>
            </a: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 )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6248520" y="2286000"/>
            <a:ext cx="2590560" cy="46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* </a:t>
            </a:r>
            <a:r>
              <a:rPr b="0" lang="hi-IN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أعضاء المجموعة( التحصيل)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7391520" y="3048120"/>
            <a:ext cx="1514520" cy="39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* </a:t>
            </a: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غرفة الصف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7093080" y="3716280"/>
            <a:ext cx="1724040" cy="39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* </a:t>
            </a: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المواد التعليمي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516720" y="4292640"/>
            <a:ext cx="2314440" cy="39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* </a:t>
            </a: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تحديد الأدوار الفردي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6324480" y="685800"/>
            <a:ext cx="2571840" cy="509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00"/>
                    </a:gs>
                    <a:gs pos="50000">
                      <a:srgbClr val="b2b2b2"/>
                    </a:gs>
                    <a:gs pos="100000">
                      <a:srgbClr val="000000"/>
                    </a:gs>
                  </a:gsLst>
                  <a:lin ang="8100000"/>
                </a:gradFill>
                <a:effectLst>
                  <a:outerShdw dist="153753" dir="2700000" blurRad="0" rotWithShape="0">
                    <a:srgbClr val="6a6a6a"/>
                  </a:outerShdw>
                </a:effectLst>
                <a:latin typeface="Tahoma"/>
              </a:rPr>
              <a:t>القرارات التنظيمية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00"/>
                  </a:gs>
                  <a:gs pos="50000">
                    <a:srgbClr val="b2b2b2"/>
                  </a:gs>
                  <a:gs pos="100000">
                    <a:srgbClr val="000000"/>
                  </a:gs>
                </a:gsLst>
                <a:lin ang="8100000"/>
              </a:gradFill>
              <a:effectLst>
                <a:outerShdw dist="153753" dir="2700000" blurRad="0" rotWithShape="0">
                  <a:srgbClr val="6a6a6a"/>
                </a:outerShdw>
              </a:effectLst>
              <a:latin typeface="Tahoma"/>
              <a:ea typeface="Tahoma"/>
            </a:endParaRPr>
          </a:p>
        </p:txBody>
      </p:sp>
      <p:sp>
        <p:nvSpPr>
          <p:cNvPr id="223" name=""/>
          <p:cNvSpPr/>
          <p:nvPr/>
        </p:nvSpPr>
        <p:spPr>
          <a:xfrm>
            <a:off x="6372360" y="4869000"/>
            <a:ext cx="2376360" cy="11523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659640" y="5445000"/>
            <a:ext cx="201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659640" y="4941720"/>
            <a:ext cx="129708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1600" spc="-1" strike="noStrike">
                <a:solidFill>
                  <a:srgbClr val="000000"/>
                </a:solidFill>
                <a:latin typeface="Times New Roman"/>
              </a:rPr>
              <a:t>ضعي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1600" spc="-1" strike="noStrike">
                <a:solidFill>
                  <a:srgbClr val="000000"/>
                </a:solidFill>
                <a:latin typeface="Times New Roman"/>
              </a:rPr>
              <a:t>جيد جيد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1600" spc="-1" strike="noStrike">
                <a:solidFill>
                  <a:srgbClr val="000000"/>
                </a:solidFill>
                <a:latin typeface="Times New Roman"/>
              </a:rPr>
              <a:t>ممتاز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172360" y="5734080"/>
            <a:ext cx="73080" cy="14436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172360" y="5013360"/>
            <a:ext cx="73080" cy="14436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8172360" y="5373720"/>
            <a:ext cx="73080" cy="144360"/>
          </a:xfrm>
          <a:prstGeom prst="flowChartConnector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غزوه..م\دبي التعليمية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9" name=""/>
          <p:cNvGraphicFramePr/>
          <p:nvPr/>
        </p:nvGraphicFramePr>
        <p:xfrm>
          <a:off x="533520" y="1295280"/>
          <a:ext cx="8153280" cy="4232520"/>
        </p:xfrm>
        <a:graphic>
          <a:graphicData uri="http://schemas.openxmlformats.org/drawingml/2006/table">
            <a:tbl>
              <a:tblPr/>
              <a:tblGrid>
                <a:gridCol w="990360"/>
                <a:gridCol w="457200"/>
                <a:gridCol w="914400"/>
                <a:gridCol w="457200"/>
                <a:gridCol w="914400"/>
                <a:gridCol w="457200"/>
                <a:gridCol w="1067040"/>
                <a:gridCol w="533160"/>
                <a:gridCol w="1067040"/>
                <a:gridCol w="1295280"/>
              </a:tblGrid>
              <a:tr h="94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ملاحظات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مجموع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مجموع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مجموع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مجموع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يوم والتاري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طم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مري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أثني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\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\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1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1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0" name=""/>
          <p:cNvSpPr txBox="1"/>
          <p:nvPr/>
        </p:nvSpPr>
        <p:spPr>
          <a:xfrm>
            <a:off x="5867280" y="1447920"/>
            <a:ext cx="3812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مستوى</a:t>
            </a:r>
            <a:endParaRPr b="0" lang="en-US" sz="9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1523880" y="1447920"/>
            <a:ext cx="3812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مستوى</a:t>
            </a:r>
            <a:endParaRPr b="0" lang="en-US" sz="9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2971800" y="1447920"/>
            <a:ext cx="3808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مستوى</a:t>
            </a:r>
            <a:endParaRPr b="0" lang="en-US" sz="9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343400" y="1523880"/>
            <a:ext cx="3808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مستوى</a:t>
            </a:r>
            <a:endParaRPr b="0" lang="en-US" sz="9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2133720" y="380880"/>
            <a:ext cx="5029200" cy="79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808080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Andalus"/>
              </a:rPr>
              <a:t>جدول بأسماء مقررات المجموعات</a:t>
            </a:r>
            <a:endParaRPr b="0" lang="en-US" sz="1600" spc="1" strike="noStrike">
              <a:ln w="9360">
                <a:solidFill>
                  <a:srgbClr val="808080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Andalus"/>
              <a:ea typeface="Andalu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غزوه..م\دبي التعليمية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1219320" y="1371600"/>
            <a:ext cx="3573360" cy="396252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 txBox="1"/>
          <p:nvPr/>
        </p:nvSpPr>
        <p:spPr>
          <a:xfrm>
            <a:off x="5029200" y="1523880"/>
            <a:ext cx="3124080" cy="3353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MCS Modern E_I 3d."/>
              </a:rPr>
              <a:t> </a:t>
            </a: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MCS Modern E_I 3d."/>
              </a:rPr>
              <a:t>إستراحه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MCS Modern E_I 3d."/>
              <a:ea typeface="MCS Modern E_I 3d.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غزوه..م\دبي التعليمية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2895480" y="228600"/>
            <a:ext cx="350532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التطبيق العملي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85800" y="1066680"/>
            <a:ext cx="815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000000"/>
                </a:solidFill>
                <a:latin typeface="Times New Roman"/>
              </a:rPr>
              <a:t>أنت معلم متميز تؤمن بالتطوير والارتقاء بالعملية التعليمية, فكنت مبادرا بتطبيق أسلوب التعلم التعاوني في فصلك المكون من (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طالبا) منهم (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hi-IN" sz="1800" spc="-1" strike="noStrike">
                <a:solidFill>
                  <a:srgbClr val="000000"/>
                </a:solidFill>
                <a:latin typeface="Times New Roman"/>
              </a:rPr>
              <a:t>طلاب ضعاف) و (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0" lang="hi-IN" sz="1800" spc="-1" strike="noStrike">
                <a:solidFill>
                  <a:srgbClr val="000000"/>
                </a:solidFill>
                <a:latin typeface="Times New Roman"/>
              </a:rPr>
              <a:t>طالبا ممتازا) والبقيه متوسطي التحصيل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95280" y="1700280"/>
            <a:ext cx="4419720" cy="4876560"/>
          </a:xfrm>
          <a:custGeom>
            <a:avLst/>
            <a:gdLst>
              <a:gd name="textAreaLeft" fmla="*/ 215640 w 4419720"/>
              <a:gd name="textAreaRight" fmla="*/ 4204080 w 4419720"/>
              <a:gd name="textAreaTop" fmla="*/ 215640 h 4876560"/>
              <a:gd name="textAreaBottom" fmla="*/ 4660920 h 4876560"/>
            </a:gdLst>
            <a:ahLst/>
            <a:rect l="textAreaLeft" t="textAreaTop" r="textAreaRight" b="textAreaBottom"/>
            <a:pathLst>
              <a:path w="21600" h="23832">
                <a:moveTo>
                  <a:pt x="3600" y="0"/>
                </a:moveTo>
                <a:arcTo wR="3600" hR="3600" stAng="16200000" swAng="-5400000"/>
                <a:lnTo>
                  <a:pt x="0" y="20232"/>
                </a:lnTo>
                <a:arcTo wR="3600" hR="3600" stAng="10800000" swAng="-5400000"/>
                <a:lnTo>
                  <a:pt x="18000" y="238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ffcc"/>
              </a:gs>
              <a:gs pos="50000">
                <a:srgbClr val="ffffff"/>
              </a:gs>
              <a:gs pos="100000">
                <a:srgbClr val="ffffcc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600200" y="1676520"/>
            <a:ext cx="1600200" cy="304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1981080"/>
            <a:ext cx="3352680" cy="395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000000"/>
                </a:solidFill>
                <a:latin typeface="Times New Roman"/>
              </a:rPr>
              <a:t>عنوان الدرس.....................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000000"/>
                </a:solidFill>
                <a:latin typeface="Times New Roman"/>
              </a:rPr>
              <a:t>غرفة الصف......................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000000"/>
                </a:solidFill>
                <a:latin typeface="Times New Roman"/>
              </a:rPr>
              <a:t>حجم المجموعة...................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000000"/>
                </a:solidFill>
                <a:latin typeface="Times New Roman"/>
              </a:rPr>
              <a:t>طرق اختيار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أعضاء المجموعة.)..........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000000"/>
                </a:solidFill>
                <a:latin typeface="Times New Roman"/>
              </a:rPr>
              <a:t>تحديد الأدوار....................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000000"/>
                </a:solidFill>
                <a:latin typeface="Times New Roman"/>
              </a:rPr>
              <a:t>المواد التعليمية..................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435640" y="4869000"/>
            <a:ext cx="2743200" cy="12952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451640" y="5013360"/>
            <a:ext cx="228600" cy="15228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380360" y="5300640"/>
            <a:ext cx="304560" cy="228600"/>
          </a:xfrm>
          <a:prstGeom prst="flowChartExtra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380360" y="5661000"/>
            <a:ext cx="228600" cy="228600"/>
          </a:xfrm>
          <a:prstGeom prst="flowChartProcess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6372360" y="5013360"/>
            <a:ext cx="792000" cy="1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ممتاز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443640" y="5300640"/>
            <a:ext cx="792360" cy="262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جيد جدا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6443640" y="5661000"/>
            <a:ext cx="720720" cy="262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ضعيف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غزوه..م\دبي التعليمية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304920" y="2514600"/>
            <a:ext cx="1218960" cy="160020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457200" y="457200"/>
            <a:ext cx="914400" cy="144792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3"/>
          <a:stretch/>
        </p:blipFill>
        <p:spPr>
          <a:xfrm>
            <a:off x="457200" y="4572000"/>
            <a:ext cx="1751040" cy="174456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/>
          <p:nvPr/>
        </p:nvSpPr>
        <p:spPr>
          <a:xfrm>
            <a:off x="2209680" y="457200"/>
            <a:ext cx="6553440" cy="182880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209680" y="2590920"/>
            <a:ext cx="6553440" cy="182880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286000" y="4724280"/>
            <a:ext cx="6553080" cy="182880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2438280" y="685800"/>
            <a:ext cx="11527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فوائد التعلم التعاوني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733920" y="914400"/>
            <a:ext cx="48765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.........................................................................................................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2590920" y="2895480"/>
            <a:ext cx="1295280" cy="120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سلبيات التعلم التعاوني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809880" y="3048120"/>
            <a:ext cx="464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.....................................................................................................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2590920" y="4952880"/>
            <a:ext cx="1295280" cy="116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عوائق التعلم التعاوني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260" name=""/>
          <p:cNvSpPr/>
          <p:nvPr/>
        </p:nvSpPr>
        <p:spPr>
          <a:xfrm>
            <a:off x="4114800" y="5181480"/>
            <a:ext cx="4495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.................................................................................................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غزوه..م\دبي التعليمية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 txBox="1"/>
          <p:nvPr/>
        </p:nvSpPr>
        <p:spPr>
          <a:xfrm>
            <a:off x="3276720" y="457200"/>
            <a:ext cx="28954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53753" dir="2700000" blurRad="0" rotWithShape="0">
                    <a:srgbClr val="875b0d"/>
                  </a:outerShdw>
                </a:effectLst>
                <a:latin typeface="Calligrapher"/>
              </a:rPr>
              <a:t>فوائد التعلم التعاوني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53753" dir="2700000" blurRad="0" rotWithShape="0">
                  <a:srgbClr val="875b0d"/>
                </a:outerShdw>
              </a:effectLst>
              <a:latin typeface="Calligrapher"/>
              <a:ea typeface="Calligrapher"/>
            </a:endParaRPr>
          </a:p>
        </p:txBody>
      </p:sp>
      <p:sp>
        <p:nvSpPr>
          <p:cNvPr id="262" name=""/>
          <p:cNvSpPr/>
          <p:nvPr/>
        </p:nvSpPr>
        <p:spPr>
          <a:xfrm>
            <a:off x="380880" y="1600200"/>
            <a:ext cx="8458200" cy="449280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676520" y="2362320"/>
            <a:ext cx="6781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914400" y="1905120"/>
            <a:ext cx="7696080" cy="45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hi-IN" sz="2400" spc="-1" strike="noStrike">
                <a:solidFill>
                  <a:srgbClr val="000000"/>
                </a:solidFill>
                <a:latin typeface="Times New Roman"/>
              </a:rPr>
              <a:t>رفع التحصيل الأكاديمي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Times New Roman"/>
              </a:rPr>
              <a:t>العمل بروح الفريق الواحد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Times New Roman"/>
              </a:rPr>
              <a:t>الأخذ بوجهات نظر الآخرين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Times New Roman"/>
              </a:rPr>
              <a:t>تكوين مواقف أفضل تجاه المدرسة والمعلمين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Times New Roman"/>
              </a:rPr>
              <a:t>احتمال الوقوع في الخطأ ضئيل بالقياس بالتعلم الفردي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Times New Roman"/>
              </a:rPr>
              <a:t>بناء تصور موحد في العمل الجماعي من خلال الطاقات الذهنية لدى كافة المتعلمين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غزوه..م\دبي التعليمية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fill="hold">
                      <p:stCondLst>
                        <p:cond delay="0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2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826920" y="1557360"/>
            <a:ext cx="7925040" cy="793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Diwani Letter"/>
              </a:rPr>
              <a:t>التعلم التعاوني.. ديفيد جونسون,روجر جونسون,إديث جونسون ( ترجمة : مدارس الظهران الأهلية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  <a:ea typeface="Diwani Letter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Diwani Letter"/>
              </a:rPr>
              <a:t> ذكاء المشاعر .. دانيال جولمان..ترجمة د. هشام الحناوي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Diwani Letter"/>
              </a:rPr>
              <a:t> استرتيجيات التعلم التعاوني .. د. عبدالله بن صالح  المقبل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Diwani Letter"/>
              </a:rPr>
              <a:t> التعلم التعاوني تخطيطه وتنفيذه.. الأونروا ..دائرة التربية والتعليم ..قسم تربية المعلمين والتعليم العالي ( معهد التربية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Diwani Letter"/>
              </a:rPr>
              <a:t>المعلم (العدد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Diwani Letter"/>
              </a:rPr>
              <a:t>121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Diwani Letter"/>
              </a:rPr>
              <a:t>) سبتمبر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Diwani Letter"/>
              </a:rPr>
              <a:t>2003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Diwani Letter"/>
              </a:rPr>
              <a:t>(معاناة تربوية\ د. حسان داود الشمر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838080" y="0"/>
            <a:ext cx="2210040" cy="2293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0099"/>
                    </a:gs>
                    <a:gs pos="50000">
                      <a:srgbClr val="ffccff"/>
                    </a:gs>
                    <a:gs pos="100000">
                      <a:srgbClr val="990099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868686"/>
                  </a:outerShdw>
                </a:effectLst>
                <a:latin typeface="Farsi Simple Bold"/>
              </a:rPr>
              <a:t>المراج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90099"/>
                  </a:gs>
                  <a:gs pos="50000">
                    <a:srgbClr val="ffccff"/>
                  </a:gs>
                  <a:gs pos="100000">
                    <a:srgbClr val="990099"/>
                  </a:gs>
                </a:gsLst>
                <a:lin ang="13500000"/>
              </a:gradFill>
              <a:effectLst>
                <a:outerShdw dist="153753" dir="2700000" blurRad="0" rotWithShape="0">
                  <a:srgbClr val="868686"/>
                </a:outerShdw>
              </a:effectLst>
              <a:latin typeface="Farsi Simple Bold"/>
              <a:ea typeface="Farsi Simple Bold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غزوه..م\دبي التعليمية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غزوه..م\دبي التعليمية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6629400" y="1523880"/>
            <a:ext cx="1676520" cy="129564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38080" y="1523880"/>
            <a:ext cx="1676520" cy="129564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553080" y="4648320"/>
            <a:ext cx="1676520" cy="129528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14400" y="4724280"/>
            <a:ext cx="1676520" cy="129564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276720" y="2971800"/>
            <a:ext cx="2438280" cy="175248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391520" y="1676520"/>
            <a:ext cx="228600" cy="228600"/>
          </a:xfrm>
          <a:prstGeom prst="flowChar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343400" y="3657600"/>
            <a:ext cx="228600" cy="228600"/>
          </a:xfrm>
          <a:prstGeom prst="flowChar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315200" y="4724280"/>
            <a:ext cx="228600" cy="228600"/>
          </a:xfrm>
          <a:prstGeom prst="flowChar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4800600"/>
            <a:ext cx="228600" cy="228600"/>
          </a:xfrm>
          <a:prstGeom prst="flowChar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00200" y="1676520"/>
            <a:ext cx="228600" cy="228600"/>
          </a:xfrm>
          <a:prstGeom prst="flowChar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153280" y="2057400"/>
            <a:ext cx="76320" cy="76320"/>
          </a:xfrm>
          <a:prstGeom prst="flowChartConnector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848720" y="2057400"/>
            <a:ext cx="75960" cy="76320"/>
          </a:xfrm>
          <a:prstGeom prst="flowChartConnector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467480" y="2057400"/>
            <a:ext cx="76320" cy="76320"/>
          </a:xfrm>
          <a:prstGeom prst="flowChartConnector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86600" y="2057400"/>
            <a:ext cx="76320" cy="76320"/>
          </a:xfrm>
          <a:prstGeom prst="flowChartConnector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705720" y="2057400"/>
            <a:ext cx="75960" cy="76320"/>
          </a:xfrm>
          <a:prstGeom prst="flowChartConnector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153280" y="2438280"/>
            <a:ext cx="76320" cy="76320"/>
          </a:xfrm>
          <a:prstGeom prst="flowChartConnector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848720" y="2438280"/>
            <a:ext cx="75960" cy="76320"/>
          </a:xfrm>
          <a:prstGeom prst="flowChartConnector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467480" y="2438280"/>
            <a:ext cx="76320" cy="76320"/>
          </a:xfrm>
          <a:prstGeom prst="flowChartConnector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705720" y="2438280"/>
            <a:ext cx="75960" cy="76320"/>
          </a:xfrm>
          <a:prstGeom prst="flowChartConnector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086600" y="2438280"/>
            <a:ext cx="76320" cy="76320"/>
          </a:xfrm>
          <a:prstGeom prst="flowChartConnector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057400" y="1752480"/>
            <a:ext cx="76320" cy="76320"/>
          </a:xfrm>
          <a:prstGeom prst="flowChartConnector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1752480"/>
            <a:ext cx="75960" cy="76320"/>
          </a:xfrm>
          <a:prstGeom prst="flowChartConnector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057400"/>
            <a:ext cx="75960" cy="76320"/>
          </a:xfrm>
          <a:prstGeom prst="flowChartConnector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362320" y="2362320"/>
            <a:ext cx="75960" cy="75960"/>
          </a:xfrm>
          <a:prstGeom prst="flowChartConnector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362320" y="2666880"/>
            <a:ext cx="75960" cy="76320"/>
          </a:xfrm>
          <a:prstGeom prst="flowChartConnector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057400" y="2666880"/>
            <a:ext cx="76320" cy="76320"/>
          </a:xfrm>
          <a:prstGeom prst="flowChartConnector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676520" y="2666880"/>
            <a:ext cx="75960" cy="76320"/>
          </a:xfrm>
          <a:prstGeom prst="flowChartConnector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295280" y="2666880"/>
            <a:ext cx="76320" cy="76320"/>
          </a:xfrm>
          <a:prstGeom prst="flowChartConnector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0720" y="2666880"/>
            <a:ext cx="75960" cy="76320"/>
          </a:xfrm>
          <a:prstGeom prst="flowChartConnector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90720" y="2362320"/>
            <a:ext cx="75960" cy="75960"/>
          </a:xfrm>
          <a:prstGeom prst="flowChartConnector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990720" y="2057400"/>
            <a:ext cx="75960" cy="76320"/>
          </a:xfrm>
          <a:prstGeom prst="flowChartConnector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286000" y="5486400"/>
            <a:ext cx="76320" cy="76320"/>
          </a:xfrm>
          <a:prstGeom prst="flowChartConnector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71600" y="1752480"/>
            <a:ext cx="76320" cy="76320"/>
          </a:xfrm>
          <a:prstGeom prst="flowChartConnector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990720" y="1752480"/>
            <a:ext cx="75960" cy="76320"/>
          </a:xfrm>
          <a:prstGeom prst="flowChartConnector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438280" y="5638680"/>
            <a:ext cx="76320" cy="76320"/>
          </a:xfrm>
          <a:prstGeom prst="flowChartConnector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990720" y="5791320"/>
            <a:ext cx="75960" cy="75960"/>
          </a:xfrm>
          <a:prstGeom prst="flowChartConnector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90720" y="5562720"/>
            <a:ext cx="75960" cy="75960"/>
          </a:xfrm>
          <a:prstGeom prst="flowChartConnector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90720" y="5334120"/>
            <a:ext cx="75960" cy="75960"/>
          </a:xfrm>
          <a:prstGeom prst="flowChartConnector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990720" y="5105520"/>
            <a:ext cx="75960" cy="75960"/>
          </a:xfrm>
          <a:prstGeom prst="flowChartConnector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438280" y="5334120"/>
            <a:ext cx="76320" cy="75960"/>
          </a:xfrm>
          <a:prstGeom prst="flowChartConnector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143000" y="5181480"/>
            <a:ext cx="76320" cy="76320"/>
          </a:xfrm>
          <a:prstGeom prst="flowChartConnector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286000" y="5181480"/>
            <a:ext cx="76320" cy="76320"/>
          </a:xfrm>
          <a:prstGeom prst="flowChartConnector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438280" y="5867280"/>
            <a:ext cx="76320" cy="76320"/>
          </a:xfrm>
          <a:prstGeom prst="flowChartConnector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143000" y="5410080"/>
            <a:ext cx="76320" cy="76320"/>
          </a:xfrm>
          <a:prstGeom prst="flowChartConnector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286000" y="5715000"/>
            <a:ext cx="76320" cy="76320"/>
          </a:xfrm>
          <a:prstGeom prst="flowChartConnector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143000" y="5638680"/>
            <a:ext cx="76320" cy="76320"/>
          </a:xfrm>
          <a:prstGeom prst="flowChartConnector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438280" y="5029200"/>
            <a:ext cx="76320" cy="76320"/>
          </a:xfrm>
          <a:prstGeom prst="flowChartConnector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086600" y="5181480"/>
            <a:ext cx="76320" cy="76320"/>
          </a:xfrm>
          <a:prstGeom prst="flowChartConnector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391520" y="5181480"/>
            <a:ext cx="75960" cy="76320"/>
          </a:xfrm>
          <a:prstGeom prst="flowChartConnector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696080" y="5181480"/>
            <a:ext cx="76320" cy="76320"/>
          </a:xfrm>
          <a:prstGeom prst="flowChartConnector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001000" y="5181480"/>
            <a:ext cx="76320" cy="76320"/>
          </a:xfrm>
          <a:prstGeom prst="flowChartConnector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581280" y="4343400"/>
            <a:ext cx="152640" cy="152280"/>
          </a:xfrm>
          <a:prstGeom prst="flowChartSummingJunction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181480" y="3505320"/>
            <a:ext cx="152640" cy="152280"/>
          </a:xfrm>
          <a:prstGeom prst="flowChartSummingJunction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181480" y="4343400"/>
            <a:ext cx="152640" cy="152280"/>
          </a:xfrm>
          <a:prstGeom prst="flowChartSummingJunction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581280" y="3505320"/>
            <a:ext cx="152640" cy="152280"/>
          </a:xfrm>
          <a:prstGeom prst="flowChartSummingJunction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09880" y="3124080"/>
            <a:ext cx="76320" cy="76320"/>
          </a:xfrm>
          <a:prstGeom prst="flowChartConnector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429000" y="3352680"/>
            <a:ext cx="76320" cy="76320"/>
          </a:xfrm>
          <a:prstGeom prst="flowChartConnector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429000" y="3124080"/>
            <a:ext cx="76320" cy="76320"/>
          </a:xfrm>
          <a:prstGeom prst="flowChartConnector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09880" y="3352680"/>
            <a:ext cx="76320" cy="76320"/>
          </a:xfrm>
          <a:prstGeom prst="flowChartConnector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733920" y="4038480"/>
            <a:ext cx="75960" cy="76320"/>
          </a:xfrm>
          <a:prstGeom prst="flowChartConnector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429000" y="4038480"/>
            <a:ext cx="76320" cy="76320"/>
          </a:xfrm>
          <a:prstGeom prst="flowChartConnector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33920" y="4267080"/>
            <a:ext cx="75960" cy="76320"/>
          </a:xfrm>
          <a:prstGeom prst="flowChartConnector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429000" y="4267080"/>
            <a:ext cx="76320" cy="76320"/>
          </a:xfrm>
          <a:prstGeom prst="flowChartConnector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029200" y="3124080"/>
            <a:ext cx="76320" cy="76320"/>
          </a:xfrm>
          <a:prstGeom prst="flowChartConnector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029200" y="3352680"/>
            <a:ext cx="76320" cy="76320"/>
          </a:xfrm>
          <a:prstGeom prst="flowChartConnector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410080" y="3352680"/>
            <a:ext cx="76320" cy="76320"/>
          </a:xfrm>
          <a:prstGeom prst="flowChartConnector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3962520"/>
            <a:ext cx="76320" cy="75960"/>
          </a:xfrm>
          <a:prstGeom prst="flowChartConnector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4191120"/>
            <a:ext cx="76320" cy="75960"/>
          </a:xfrm>
          <a:prstGeom prst="flowChartConnector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410080" y="3124080"/>
            <a:ext cx="76320" cy="76320"/>
          </a:xfrm>
          <a:prstGeom prst="flowChartConnector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10080" y="4191120"/>
            <a:ext cx="76320" cy="75960"/>
          </a:xfrm>
          <a:prstGeom prst="flowChartConnector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410080" y="3962520"/>
            <a:ext cx="76320" cy="75960"/>
          </a:xfrm>
          <a:prstGeom prst="flowChartConnector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2514600" y="304920"/>
            <a:ext cx="4419720" cy="117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/>
                  </a:outerShdw>
                </a:effectLst>
                <a:latin typeface="Diwani Letter"/>
              </a:rPr>
              <a:t> </a:t>
            </a: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/>
                  </a:outerShdw>
                </a:effectLst>
                <a:latin typeface="Diwani Letter"/>
              </a:rPr>
              <a:t>كيف تنظم جلوس طلابك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7819" dir="2700000" blurRad="0" rotWithShape="0">
                  <a:srgbClr val="808080"/>
                </a:outerShdw>
              </a:effectLst>
              <a:latin typeface="Diwani Letter"/>
              <a:ea typeface="Diwani Letter"/>
            </a:endParaRPr>
          </a:p>
        </p:txBody>
      </p:sp>
      <p:sp>
        <p:nvSpPr>
          <p:cNvPr id="118" name=""/>
          <p:cNvSpPr/>
          <p:nvPr/>
        </p:nvSpPr>
        <p:spPr>
          <a:xfrm>
            <a:off x="6781680" y="632448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200" spc="-1" strike="noStrike">
                <a:solidFill>
                  <a:srgbClr val="000000"/>
                </a:solidFill>
                <a:latin typeface="Times New Roman"/>
              </a:rPr>
              <a:t>مجلة المعلم (العدد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1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7162920" y="2895480"/>
            <a:ext cx="70488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محاضرة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143000" y="2895480"/>
            <a:ext cx="72396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مناقش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038480" y="4876920"/>
            <a:ext cx="112392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تعلم تعاوني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0" y="6019920"/>
            <a:ext cx="120960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تدريس مصغر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447920" y="6172200"/>
            <a:ext cx="50472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مبارا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غزوه..م\دبي التعليمية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000"/>
                            </p:stCondLst>
                            <p:childTnLst>
                              <p:par>
                                <p:cTn id="4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500"/>
                            </p:stCondLst>
                            <p:childTnLst>
                              <p:par>
                                <p:cTn id="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2000"/>
                            </p:stCondLst>
                            <p:childTnLst>
                              <p:par>
                                <p:cTn id="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2500"/>
                            </p:stCondLst>
                            <p:childTnLst>
                              <p:par>
                                <p:cTn id="5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3000"/>
                            </p:stCondLst>
                            <p:childTnLst>
                              <p:par>
                                <p:cTn id="5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3500"/>
                            </p:stCondLst>
                            <p:childTnLst>
                              <p:par>
                                <p:cTn id="6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4000"/>
                            </p:stCondLst>
                            <p:childTnLst>
                              <p:par>
                                <p:cTn id="6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4500"/>
                            </p:stCondLst>
                            <p:childTnLst>
                              <p:par>
                                <p:cTn id="7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0"/>
                            </p:stCondLst>
                            <p:childTnLst>
                              <p:par>
                                <p:cTn id="7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000"/>
                            </p:stCondLst>
                            <p:childTnLst>
                              <p:par>
                                <p:cTn id="9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500"/>
                            </p:stCondLst>
                            <p:childTnLst>
                              <p:par>
                                <p:cTn id="10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2000"/>
                            </p:stCondLst>
                            <p:childTnLst>
                              <p:par>
                                <p:cTn id="10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2500"/>
                            </p:stCondLst>
                            <p:childTnLst>
                              <p:par>
                                <p:cTn id="11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3000"/>
                            </p:stCondLst>
                            <p:childTnLst>
                              <p:par>
                                <p:cTn id="1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3500"/>
                            </p:stCondLst>
                            <p:childTnLst>
                              <p:par>
                                <p:cTn id="12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4000"/>
                            </p:stCondLst>
                            <p:childTnLst>
                              <p:par>
                                <p:cTn id="12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4500"/>
                            </p:stCondLst>
                            <p:childTnLst>
                              <p:par>
                                <p:cTn id="1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0"/>
                            </p:stCondLst>
                            <p:childTnLst>
                              <p:par>
                                <p:cTn id="13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5500"/>
                            </p:stCondLst>
                            <p:childTnLst>
                              <p:par>
                                <p:cTn id="14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6000"/>
                            </p:stCondLst>
                            <p:childTnLst>
                              <p:par>
                                <p:cTn id="14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6500"/>
                            </p:stCondLst>
                            <p:childTnLst>
                              <p:par>
                                <p:cTn id="15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1500"/>
                            </p:stCondLst>
                            <p:childTnLst>
                              <p:par>
                                <p:cTn id="1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7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2500"/>
                            </p:stCondLst>
                            <p:childTnLst>
                              <p:par>
                                <p:cTn id="18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3000"/>
                            </p:stCondLst>
                            <p:childTnLst>
                              <p:par>
                                <p:cTn id="18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3500"/>
                            </p:stCondLst>
                            <p:childTnLst>
                              <p:par>
                                <p:cTn id="19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4000"/>
                            </p:stCondLst>
                            <p:childTnLst>
                              <p:par>
                                <p:cTn id="19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4500"/>
                            </p:stCondLst>
                            <p:childTnLst>
                              <p:par>
                                <p:cTn id="20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5000"/>
                            </p:stCondLst>
                            <p:childTnLst>
                              <p:par>
                                <p:cTn id="20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5500"/>
                            </p:stCondLst>
                            <p:childTnLst>
                              <p:par>
                                <p:cTn id="21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6500"/>
                            </p:stCondLst>
                            <p:childTnLst>
                              <p:par>
                                <p:cTn id="22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7000"/>
                            </p:stCondLst>
                            <p:childTnLst>
                              <p:par>
                                <p:cTn id="22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7500"/>
                            </p:stCondLst>
                            <p:childTnLst>
                              <p:par>
                                <p:cTn id="23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8000"/>
                            </p:stCondLst>
                            <p:childTnLst>
                              <p:par>
                                <p:cTn id="23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8500"/>
                            </p:stCondLst>
                            <p:childTnLst>
                              <p:par>
                                <p:cTn id="2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9000"/>
                            </p:stCondLst>
                            <p:childTnLst>
                              <p:par>
                                <p:cTn id="24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9500"/>
                            </p:stCondLst>
                            <p:childTnLst>
                              <p:par>
                                <p:cTn id="25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6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11000"/>
                            </p:stCondLst>
                            <p:childTnLst>
                              <p:par>
                                <p:cTn id="26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11500"/>
                            </p:stCondLst>
                            <p:childTnLst>
                              <p:par>
                                <p:cTn id="2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12000"/>
                            </p:stCondLst>
                            <p:childTnLst>
                              <p:par>
                                <p:cTn id="27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2500"/>
                            </p:stCondLst>
                            <p:childTnLst>
                              <p:par>
                                <p:cTn id="28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13000"/>
                            </p:stCondLst>
                            <p:childTnLst>
                              <p:par>
                                <p:cTn id="28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3500"/>
                            </p:stCondLst>
                            <p:childTnLst>
                              <p:par>
                                <p:cTn id="29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14000"/>
                            </p:stCondLst>
                            <p:childTnLst>
                              <p:par>
                                <p:cTn id="29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4500"/>
                            </p:stCondLst>
                            <p:childTnLst>
                              <p:par>
                                <p:cTn id="30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15000"/>
                            </p:stCondLst>
                            <p:childTnLst>
                              <p:par>
                                <p:cTn id="30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500"/>
                            </p:stCondLst>
                            <p:childTnLst>
                              <p:par>
                                <p:cTn id="31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1500"/>
                            </p:stCondLst>
                            <p:childTnLst>
                              <p:par>
                                <p:cTn id="32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2000"/>
                            </p:stCondLst>
                            <p:childTnLst>
                              <p:par>
                                <p:cTn id="33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2500"/>
                            </p:stCondLst>
                            <p:childTnLst>
                              <p:par>
                                <p:cTn id="33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4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1828800" y="685800"/>
            <a:ext cx="60199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MCS Khaybar E_U 3D."/>
              </a:rPr>
              <a:t>جميع الأنماط تهدف إلى ( التعلم والتعليم 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MCS Khaybar E_U 3D."/>
              <a:ea typeface="MCS Khaybar E_U 3D.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1752480"/>
            <a:ext cx="830592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-1" strike="noStrike">
                <a:solidFill>
                  <a:srgbClr val="cc0000"/>
                </a:solidFill>
                <a:latin typeface="Times New Roman"/>
                <a:cs typeface="Led Italic Font"/>
              </a:rPr>
              <a:t>التعلم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Led Italic Font"/>
              </a:rPr>
              <a:t> : مجهود شخصي ونشاط ذاتي يصدر عن      المتعلم نفسه ويمكن أن يكون بمعونة المعلم.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838080" y="2819520"/>
            <a:ext cx="777240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cc0000"/>
                </a:solidFill>
                <a:latin typeface="Times New Roman"/>
                <a:cs typeface="Led Italic Font"/>
              </a:rPr>
              <a:t>التعليم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Led Italic Font"/>
              </a:rPr>
              <a:t>:هو مجرد مجهود شخصي لمعونة شخص آخر على التعل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086600" y="3200400"/>
            <a:ext cx="1752480" cy="1295280"/>
          </a:xfrm>
          <a:prstGeom prst="irregularSeal1">
            <a:avLst/>
          </a:prstGeom>
          <a:gradFill rotWithShape="0">
            <a:gsLst>
              <a:gs pos="0">
                <a:srgbClr val="ff9999"/>
              </a:gs>
              <a:gs pos="100000">
                <a:srgbClr val="dddddd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7391520" y="3505320"/>
            <a:ext cx="10476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ahoma"/>
              </a:rPr>
              <a:t>أنواع التعل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ahoma"/>
              <a:ea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600200" y="3962520"/>
            <a:ext cx="5486400" cy="2514600"/>
          </a:xfrm>
          <a:prstGeom prst="horizontalScroll">
            <a:avLst>
              <a:gd name="adj" fmla="val 12500"/>
            </a:avLst>
          </a:prstGeom>
          <a:solidFill>
            <a:srgbClr val="eaeaea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133720" y="4419720"/>
            <a:ext cx="4800600" cy="19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i-IN" sz="1800" spc="-1" strike="noStrike">
                <a:solidFill>
                  <a:srgbClr val="000000"/>
                </a:solidFill>
                <a:latin typeface="Times New Roman"/>
              </a:rPr>
              <a:t>فردي :  الاعتماد على النفس ( هدف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تنافسي : تنافس الطلاب لتحقيق هدف ( الأفضل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تعاوني : الجميع يعمل ضمن مجموعات لتحقيق هدف تعليم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مشترك ( الاتقان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غزوه..م\دبي التعليمية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4" dur="3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7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500"/>
                            </p:stCondLst>
                            <p:childTnLst>
                              <p:par>
                                <p:cTn id="3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9" dur="3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533520" y="533520"/>
            <a:ext cx="8305560" cy="5790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657600" y="762120"/>
            <a:ext cx="49528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Diwani Letter"/>
              </a:rPr>
              <a:t>حدد نوع التعلم في العبارات التالية: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ccffff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Diwani Letter"/>
              <a:ea typeface="Diwani Letter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038480" y="2057400"/>
            <a:ext cx="44388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ahoma"/>
              </a:rPr>
              <a:t>  </a:t>
            </a:r>
            <a:r>
              <a:rPr b="0" lang="hi-IN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ahoma"/>
              </a:rPr>
              <a:t>أنا أنجو, أنت تغرق, أنا أغرق , أنت تنجو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ahoma"/>
              <a:ea typeface="Tahoma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962520" y="3200400"/>
            <a:ext cx="44193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ahoma"/>
              </a:rPr>
              <a:t>كل منا يعمل بمفرده لتحقيق هذا الهدف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ahoma"/>
              <a:ea typeface="Tahoma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962520" y="4419720"/>
            <a:ext cx="4495680" cy="49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ahoma"/>
              </a:rPr>
              <a:t> </a:t>
            </a: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ahoma"/>
              </a:rPr>
              <a:t>نغرق معا أو ننجو معا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ahoma"/>
              <a:ea typeface="Tahoma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914400" y="4648320"/>
            <a:ext cx="2133720" cy="1319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غزوه..م\دبي التعليمية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5943600" y="838080"/>
            <a:ext cx="2590920" cy="30639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3657600" y="838080"/>
            <a:ext cx="2062080" cy="20527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609480" y="1074600"/>
            <a:ext cx="2743200" cy="18655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4"/>
          <a:stretch/>
        </p:blipFill>
        <p:spPr>
          <a:xfrm>
            <a:off x="4800600" y="3429000"/>
            <a:ext cx="3138480" cy="29242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5"/>
          <a:stretch/>
        </p:blipFill>
        <p:spPr>
          <a:xfrm>
            <a:off x="1066680" y="3809880"/>
            <a:ext cx="2451240" cy="2452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غزوه..م\دبي التعليمية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468360" y="1600200"/>
            <a:ext cx="8218440" cy="4876920"/>
          </a:xfrm>
          <a:prstGeom prst="flowChartDocumen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4360" y="2666880"/>
            <a:ext cx="792612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200" spc="1" strike="noStrike">
                <a:ln w="9360">
                  <a:solidFill>
                    <a:srgbClr val="80808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هو نشاط تعلمي موجه نحو هدف مشترك يبدو فيه المتعلمون جماعة متفاعلة </a:t>
            </a:r>
            <a:endParaRPr b="0" lang="en-US" sz="1200" spc="1" strike="noStrike">
              <a:ln w="9360">
                <a:solidFill>
                  <a:srgbClr val="80808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200" spc="1" strike="noStrike">
                <a:ln w="9360">
                  <a:solidFill>
                    <a:srgbClr val="80808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باعتبار كل واحد منهم مؤثرا في بناء النشاط التعلمي وتوجيه وتعديل سيره.</a:t>
            </a:r>
            <a:endParaRPr b="0" lang="en-US" sz="1200" spc="1" strike="noStrike">
              <a:ln w="9360">
                <a:solidFill>
                  <a:srgbClr val="80808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2362320" y="457200"/>
            <a:ext cx="4495680" cy="746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Tahoma"/>
              </a:rPr>
              <a:t>التعلم التعاوني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Tahoma"/>
              <a:ea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غزوه..م\دبي التعليمية</a:t>
            </a:r>
          </a:p>
        </p:txBody>
      </p:sp>
    </p:spTree>
  </p:cSld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981080" y="609480"/>
            <a:ext cx="5791320" cy="95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MCS Mamloky E_I 3D."/>
              </a:rPr>
              <a:t>أنواع التعلم التعاوني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MCS Mamloky E_I 3D."/>
              <a:ea typeface="MCS Mamloky E_I 3D."/>
            </a:endParaRPr>
          </a:p>
        </p:txBody>
      </p:sp>
      <p:sp>
        <p:nvSpPr>
          <p:cNvPr id="146" name=""/>
          <p:cNvSpPr/>
          <p:nvPr/>
        </p:nvSpPr>
        <p:spPr>
          <a:xfrm>
            <a:off x="1066680" y="2057400"/>
            <a:ext cx="7467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1752480"/>
            <a:ext cx="7696080" cy="4484880"/>
          </a:xfrm>
          <a:prstGeom prst="flowChartPunchedCard">
            <a:avLst/>
          </a:prstGeom>
          <a:gradFill rotWithShape="0">
            <a:gsLst>
              <a:gs pos="0">
                <a:srgbClr val="ffffff"/>
              </a:gs>
              <a:gs pos="100000">
                <a:srgbClr val="cc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447920" y="2133720"/>
            <a:ext cx="6400800" cy="45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1" lang="hi-IN" sz="2400" spc="-1" strike="noStrike">
                <a:solidFill>
                  <a:srgbClr val="3333cc"/>
                </a:solidFill>
                <a:latin typeface="Times New Roman"/>
              </a:rPr>
              <a:t>المجموعات التعليمية التعاونية الرسمية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( من حصة صفية واحدة إلى أسابيع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1" lang="hi-IN" sz="2400" spc="-1" strike="noStrike">
                <a:solidFill>
                  <a:srgbClr val="3333cc"/>
                </a:solidFill>
                <a:latin typeface="Times New Roman"/>
              </a:rPr>
              <a:t>المجموعات التعاونية غير الرسمية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( هي مجموعات ذات غرض خاص قد يدوم بضع دقائق إلى    حصة  صفية واحدة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1" lang="hi-IN" sz="2400" spc="-1" strike="noStrike">
                <a:solidFill>
                  <a:srgbClr val="3333cc"/>
                </a:solidFill>
                <a:latin typeface="Times New Roman"/>
              </a:rPr>
              <a:t>المجموعات التعليمية التعاونية الأساسية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(مجموعات طويلة الأجل وغير متجانسة وذات عضوية ثابتة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غزوه..م\دبي التعليمية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2590920" y="609480"/>
            <a:ext cx="35812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Tahoma"/>
              </a:rPr>
              <a:t>المبادئ الأساسية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Tahoma"/>
              <a:ea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1619280" y="1125360"/>
            <a:ext cx="6477120" cy="19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Tahoma"/>
              </a:rPr>
              <a:t> 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Tahoma"/>
              <a:ea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Tahoma"/>
              </a:rPr>
              <a:t> </a:t>
            </a: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Tahoma"/>
              </a:rPr>
              <a:t>* </a:t>
            </a:r>
            <a:r>
              <a:rPr b="0" lang="hi-IN" sz="20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latin typeface="Tahoma"/>
              </a:rPr>
              <a:t>الاعتماد المتبادل الايجابي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latin typeface="Tahoma"/>
              <a:ea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Tahoma"/>
              </a:rPr>
              <a:t> 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8"/>
                <a:srcRect/>
                <a:tile tx="0" ty="0" sx="100000" sy="100000" algn="ctr"/>
              </a:blipFill>
              <a:latin typeface="Tahoma"/>
              <a:ea typeface="Tahoma"/>
            </a:endParaRPr>
          </a:p>
        </p:txBody>
      </p:sp>
      <p:sp>
        <p:nvSpPr>
          <p:cNvPr id="151" name=""/>
          <p:cNvSpPr/>
          <p:nvPr/>
        </p:nvSpPr>
        <p:spPr>
          <a:xfrm>
            <a:off x="1187280" y="2637000"/>
            <a:ext cx="6840720" cy="129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55640" y="2637000"/>
            <a:ext cx="7416720" cy="30978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000000"/>
                </a:solidFill>
                <a:latin typeface="Times New Roman"/>
                <a:cs typeface="Arial Unicode MS"/>
              </a:rPr>
              <a:t>إن نجاح المجموعة يعتمد على نجاح جهد كل عضو في المجموعة والإعتماد الإيجابي يعني توافر بيئة تسمح بمساعدة الطلاب بعضهم بعضا على التعلم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( التفكير في نحن وليس أنا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غزوه..م\دبي التعليمية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4067280" y="692280"/>
            <a:ext cx="47527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 </a:t>
            </a: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 Black"/>
              </a:rPr>
              <a:t>* </a:t>
            </a: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 Black"/>
              </a:rPr>
              <a:t>المسؤولية الفردي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154" name=""/>
          <p:cNvSpPr/>
          <p:nvPr/>
        </p:nvSpPr>
        <p:spPr>
          <a:xfrm>
            <a:off x="250920" y="1844640"/>
            <a:ext cx="8642160" cy="10688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Times New Roman"/>
              </a:rPr>
              <a:t>المحاسبة الفردية وتعني مسؤولية الفرد في تعلمه لمادته العلمية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211640" y="3068640"/>
            <a:ext cx="45370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 Black"/>
              </a:rPr>
              <a:t> </a:t>
            </a: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 Black"/>
              </a:rPr>
              <a:t>* </a:t>
            </a: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 Black"/>
              </a:rPr>
              <a:t>المهارات الإجتماعي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156" name=""/>
          <p:cNvSpPr/>
          <p:nvPr/>
        </p:nvSpPr>
        <p:spPr>
          <a:xfrm>
            <a:off x="250920" y="4221000"/>
            <a:ext cx="8640720" cy="106884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Times New Roman"/>
              </a:rPr>
              <a:t>التواصل بين الأشخاص.. ( تسمح للطلبة بالعمل معا بشكل جيد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غزوه..م\دبي التعليمية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8T18:33:15Z</dcterms:created>
  <dc:creator>..</dc:creator>
  <dc:description/>
  <dc:language>en-US</dc:language>
  <cp:lastModifiedBy>**</cp:lastModifiedBy>
  <dcterms:modified xsi:type="dcterms:W3CDTF">2005-01-05T20:15:33Z</dcterms:modified>
  <cp:revision>26</cp:revision>
  <dc:subject/>
  <dc:title>عرض تقديمي من PowerPoint</dc:title>
</cp:coreProperties>
</file>