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1FAC3-B711-4F09-AE59-DB618C6F1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5ECB0825-6B10-4110-910C-80DA937A8F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CB7A7DFA-7DCC-4015-A15A-F6B60DCB24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092FC8EB-C3C7-4C1B-AFBD-3C5462011D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DB5059-18D8-4130-BA9F-D1F200266E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E86C6CD5-6D89-4D55-B4E7-24C7CA302B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2C0D7345-6DFB-4AAA-8A8A-815F7FA24E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7EBB3684-5B25-4ED4-91E6-0A8A5177A1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A3CB82D2-ED6F-4F27-BB3F-4979F4A77C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FA02AB08-AD5A-4F72-9270-A53AFDCBDF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3463D461-49C3-4523-AA10-0A727842DE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FBD005B5-37D8-4017-9B5B-FCBE90050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0EDD7A0B-8FC4-4C61-B721-A98851577B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93C9BAEB-EB67-4A1E-8564-BFD8C705DD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AE4258A3-0BFE-49A1-BE6D-091C730830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
          </p:nvPr>
        </p:nvSpPr>
        <p:spPr/>
        <p:txBody>
          <a:bodyPr/>
          <a:p>
            <a:fld id="{1BDC8B6E-D5C3-4023-8B26-8F7020ABD5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
          </p:nvPr>
        </p:nvSpPr>
        <p:spPr/>
        <p:txBody>
          <a:bodyPr/>
          <a:p>
            <a:fld id="{F0056BA6-F366-4F58-95BC-1702082421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EF68704-482D-46AF-BDF3-A278835C5B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FC8FFD13-3D98-45B1-BF3A-74E75F7A91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02A51194-5DCD-42B8-BE36-811A8939EF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BAC8620-D6F7-4BEF-9A32-93F2B83E22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01F60FA7-804B-42A3-A62D-610000119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AB5FFF63-B734-43F6-9613-FBABAE6538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9B2E00DA-8BC5-451E-98D7-FD39945380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360" y="6381360"/>
            <a:ext cx="6476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338A-56CA-4C77-8EB5-B9428C15ADEC}"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26560" y="2349360"/>
            <a:ext cx="762012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sldNum" idx="2"/>
          </p:nvPr>
        </p:nvSpPr>
        <p:spPr>
          <a:xfrm>
            <a:off x="8100720" y="6244920"/>
            <a:ext cx="585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F95C-A8B2-4C94-B78B-4B7B977A462E}"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716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828800" algn="ctr" rtl="1">
              <a:spcBef>
                <a:spcPts val="7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349360"/>
            <a:ext cx="7619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منظومــة</a:t>
            </a:r>
            <a:br>
              <a:rPr sz="2800"/>
            </a:br>
            <a:r>
              <a:rPr b="1" lang="ar-SA" sz="2800" spc="-1" strike="noStrike">
                <a:solidFill>
                  <a:srgbClr val="000000"/>
                </a:solidFill>
                <a:latin typeface="Arial"/>
              </a:rPr>
              <a:t>التقويـم التربــوى الشامل</a:t>
            </a:r>
            <a:br>
              <a:rPr sz="2800"/>
            </a:br>
            <a:r>
              <a:rPr b="1" lang="ar-SA" sz="2800" spc="-1" strike="noStrike">
                <a:solidFill>
                  <a:srgbClr val="000000"/>
                </a:solidFill>
                <a:latin typeface="Arial"/>
              </a:rPr>
              <a:t>كمدخل لتحسـين العملية التعليمية</a:t>
            </a:r>
            <a:endParaRPr b="1" lang="en-US" sz="2800" spc="-1" strike="noStrike">
              <a:solidFill>
                <a:srgbClr val="000000"/>
              </a:solidFill>
              <a:latin typeface="Arial"/>
            </a:endParaRPr>
          </a:p>
        </p:txBody>
      </p:sp>
      <p:sp>
        <p:nvSpPr>
          <p:cNvPr id="79" name="PlaceHolder 2"/>
          <p:cNvSpPr>
            <a:spLocks noGrp="1"/>
          </p:cNvSpPr>
          <p:nvPr>
            <p:ph type="subTitle"/>
          </p:nvPr>
        </p:nvSpPr>
        <p:spPr>
          <a:xfrm>
            <a:off x="684360" y="4292640"/>
            <a:ext cx="7619760" cy="698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2d2"/>
                </a:solidFill>
                <a:latin typeface="Arial"/>
              </a:rPr>
              <a:t>دليـــل العمــل</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a:t>
            </a:r>
            <a:r>
              <a:rPr b="1" lang="ar-SA" sz="2800" spc="-1" strike="noStrike">
                <a:solidFill>
                  <a:srgbClr val="009000"/>
                </a:solidFill>
                <a:latin typeface="Arial"/>
              </a:rPr>
              <a:t>للصفوف الثلاثـة الأولى من التعليم الابتدائى</a:t>
            </a:r>
            <a:r>
              <a:rPr b="1" lang="ar-SA" sz="2800" spc="-1" strike="noStrike">
                <a:solidFill>
                  <a:srgbClr val="009000"/>
                </a:solidFill>
                <a:latin typeface="Arial"/>
              </a:rPr>
              <a:t>)</a:t>
            </a:r>
            <a:endParaRPr b="0" lang="en-US" sz="2800" spc="-1" strike="noStrike">
              <a:solidFill>
                <a:srgbClr val="000000"/>
              </a:solidFill>
              <a:latin typeface="Arial"/>
            </a:endParaRPr>
          </a:p>
        </p:txBody>
      </p:sp>
      <p:pic>
        <p:nvPicPr>
          <p:cNvPr id="80" name="" descr=""/>
          <p:cNvPicPr/>
          <p:nvPr/>
        </p:nvPicPr>
        <p:blipFill>
          <a:blip r:embed="rId1"/>
          <a:stretch/>
        </p:blipFill>
        <p:spPr>
          <a:xfrm>
            <a:off x="3565440" y="450720"/>
            <a:ext cx="1943280" cy="1459080"/>
          </a:xfrm>
          <a:prstGeom prst="rect">
            <a:avLst/>
          </a:prstGeom>
          <a:ln w="0">
            <a:noFill/>
          </a:ln>
        </p:spPr>
      </p:pic>
      <p:sp>
        <p:nvSpPr>
          <p:cNvPr id="4" name="PlaceHolder 3"/>
          <p:cNvSpPr>
            <a:spLocks noGrp="1"/>
          </p:cNvSpPr>
          <p:nvPr>
            <p:ph type="sldNum" idx="2"/>
          </p:nvPr>
        </p:nvSpPr>
        <p:spPr/>
        <p:txBody>
          <a:bodyPr/>
          <a:p>
            <a:fld id="{791E1634-8A9D-430A-B7DB-663B317B9D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fontScale="89000"/>
          </a:bodyPr>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أنشطة اللاصفية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ي أنشطة حرة (خارج المقررات الدراسية) يشارك فيها المتعلم من خلال جماعات النشاط مثل الصحافة والإذاعة والرحلات والتمثيل والكمبيوتر  وغيرها من مجالات الهوايات المختلفة فى المدرسة.  </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مهارات الحياتية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ى المهارات التي تساعد المتعلم على ممارسة الحياة اليومية والتعامل بشكل فعال مع بيئته.</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هارات التفكير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توظيف المتعلم لقدراته العقلية المختلفة فيما يتعلق بالنقد والإبداع وغيرها لحل المشكلات واتخاذ القرا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1B98759-F0A8-45ED-B87D-2DBC1DFF34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نيا: الفلسفة والأهداف</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هدف منظومة التقويم التربوى الشامل إلى تطوير نظام تقويم المتعلم بمرحلة التعليم الأساسي كأحد المداخل الرئيسة لتحقيق الجودة الشاملة فى العملية التعليمية. </a:t>
            </a:r>
            <a:endParaRPr b="1" lang="en-US" sz="2800" spc="-1" strike="noStrike">
              <a:solidFill>
                <a:srgbClr val="000000"/>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ه المنظومة تنظر إلى المتعلم نظرة شاملة متكاملة لا تهمل أي جانب من جوانب شخصيته؛ لكي يكون إنسانا سويا متوازنا قادرا على التعامل بكفاءة مع التحديات والمشكلات التي تفرضها الحياة المعاصر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3B5A019-B634-41FE-9AED-56E33B7B8C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ناول نظام التقويم التربوى الشامل الجوانب المعرفية  والوجدانية والمهارية بما يكفل بناء الشخصية المتكاملة للمتعلم والتي تجعله قادراً علي التفكير الخلاق، ويدفع به إلى العمل المبدع، ويكسبه قدرة ومرونة على مواجهة المشكلات واختيار أنسب السبل لحلها، كما يجعله مهيئا للتعامل مع عالم جديد سريع التغير والتطور.</a:t>
            </a:r>
            <a:endParaRPr b="1"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إذا كانت الوزارة تؤمن أن التقويم هو المدخل الحقيقى لإصلاح التعليم، فلا ينبغى أن تقف عمليات التطوير عند التقويم فحسب ولكن يجب أن تغطى كافة جوانب العملية التعليمية من مناهج واستراتيجيات تدريس وإدارة مدرسية وأنشطة تربوية وغير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A4F30E0-197C-4721-AD1B-EC125F11E8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48ff"/>
                </a:solidFill>
                <a:latin typeface="Arial"/>
              </a:rPr>
              <a:t>ويمكن صياغة أهداف التقويم التربوى الشامل فى النقاط التالية</a:t>
            </a:r>
            <a:r>
              <a:rPr b="1" lang="ar-SA" sz="2800" spc="-1" strike="noStrike">
                <a:solidFill>
                  <a:srgbClr val="0f48ff"/>
                </a:solidFill>
                <a:latin typeface="Arial"/>
              </a:rPr>
              <a:t>:</a:t>
            </a:r>
            <a:endParaRPr b="1"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عادة الدور التربوى للمدرسة المصرية الذى يكمن فى تفعيل عمليات التعلم النشط بما يحقق التفاعل بين المعلم والمتعلم وجعلها بيئة جاذبة للمتعلمين.  </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طوير دور المعلم من مجرد الناقل الوحيد للمعلومات إلى كونه ميسرا لبيئة التعلم ومصمما للمواقف التعليمية.</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مية القيم والاتجاهات الإيجابية لدى المتعلم وإشعاره أن كل ما يتم فى العملية التعليمية هو من أجله.</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يمقراطية التعليم وتعليم الديمقراطية فى المؤسسة التعليم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AD42C94-09BF-47EB-A381-C770C1287A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ور المدرسة كمؤسسة مجتمعية تحقيقا للتكامل بين المدرسة والمجتمع. </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كتشاف ورعاية وتشجيع المواهب.</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زالة رهبة الامتحانات وعدم التقيد بنظام الفرصة الواحدة وإتاحة فرص متعددة للتقويم بما يدعم عملية التقويم الذاتى.</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شر ثقافة التقييم الذاتى لدى أفراد المؤسسة التعليمية.</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شخيص وعلاج جوانب الضعف، ودعم جوانب القوة بما يحقق تحسينا مستمرا للأداء.</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C46B4F9-2911-4F6D-AB03-8756D16E52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لثا: أسس التقويم التربوى الشامل</a:t>
            </a:r>
            <a:endParaRPr b="1"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نشاط يرافق عمليتى التعليم والتعلم فى جميع مراحلها.</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يرتبط بشئون الحياة الفعلية وبواقع ما يمارسه المتعلم فى حياته اليومية حيث تكون المشكلات والمهام والأعمال المطروحة للتنفيذ واقعية وذات أهمية تربوية. </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ركيز عملية التقويم على جميع جوانب نمو المتعلم  وبذلك يمكن التعرف على قدرات المتعلم فى البحث عن المعرفة والملكات النقدية والفكر المستق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BA2C91C-FA66-4086-BECE-392FF91D3E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ير عملية التقويم وفق قوائم التشخيص وملف الإنجاز وما وصل إليه المتعلم من إنجاز مع تحديد نقاط القوة والضعف فى كل إنجاز وبذلك يحدث تفاعل مستمر بين المتعلم والمعلم.</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عملية إنتاجية تشاركية بين المعلم والمتعلم وأولياء الأمور.</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أكيد على مبدأ المساندة المستمرة الدائمة والعاجلة والاهتمام بالمتفوقين والمتميزين وإعطاء أهمية ورعاية لذوى الاحتياجات الخاص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E36DCB9-C708-49D1-A078-0FFB3E4E50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رابعا:الوسائل الرئيسة للتقويم التربوى الشامل</a:t>
            </a:r>
            <a:endParaRPr b="1"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هتم هذا الدليل بالوسائل الآتية لتقويم أداء المتعلم تقويما شاملا:</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ea typeface="PT Bold Heading"/>
              </a:rPr>
              <a:t>1</a:t>
            </a:r>
            <a:r>
              <a:rPr b="1" lang="ar-SA" sz="2400" spc="-1" strike="noStrike">
                <a:solidFill>
                  <a:srgbClr val="fe3000"/>
                </a:solidFill>
                <a:latin typeface="Arial"/>
                <a:ea typeface="PT Bold Heading"/>
              </a:rPr>
              <a:t>- ملف إنجاز المتعلم ( بورتفوليو / </a:t>
            </a:r>
            <a:r>
              <a:rPr b="1" lang="en-US" sz="2800" spc="-1" strike="noStrike">
                <a:solidFill>
                  <a:srgbClr val="fe3000"/>
                </a:solidFill>
                <a:latin typeface="Times New Roman"/>
                <a:ea typeface="Times New Roman"/>
              </a:rPr>
              <a:t>Portfolio</a:t>
            </a:r>
            <a:r>
              <a:rPr b="1" lang="ar-EG"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كما سبق القول يقصد به التجميع الهادف المنظم لما يقوم به المتعلم من أعمال  تحت إشراف المعلمين سواء داخل المدرسة أو خارجها، ليقدم صورة واقعية ومتكاملة عن أدائه طوال العام الدراسي، ويشتمل على</a:t>
            </a:r>
            <a:r>
              <a:rPr b="1" lang="ar-EG" sz="2400" spc="-1" strike="noStrike">
                <a:solidFill>
                  <a:srgbClr val="000000"/>
                </a:solidFill>
                <a:latin typeface="Arial"/>
              </a:rPr>
              <a:t>:</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أ- الأعمال التحريرية (</a:t>
            </a:r>
            <a:r>
              <a:rPr b="1" lang="ar-SA" sz="2800" spc="-1" strike="noStrike">
                <a:solidFill>
                  <a:srgbClr val="009000"/>
                </a:solidFill>
                <a:latin typeface="Arial"/>
              </a:rPr>
              <a:t>15</a:t>
            </a:r>
            <a:r>
              <a:rPr b="1" lang="ar-SA" sz="2800" spc="-1" strike="noStrike">
                <a:solidFill>
                  <a:srgbClr val="009000"/>
                </a:solidFill>
                <a:latin typeface="Arial"/>
              </a:rPr>
              <a:t>% من الدرجة الكلية): </a:t>
            </a:r>
            <a:endParaRPr b="1" lang="en-US" sz="28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وهى اختبارات تحريرية متنوعة، تحفظ أوراقها فى ملف الإنجاز بحد أدنى (</a:t>
            </a:r>
            <a:r>
              <a:rPr b="1" lang="ar-SA" sz="2400" spc="-1" strike="noStrike">
                <a:solidFill>
                  <a:srgbClr val="000000"/>
                </a:solidFill>
                <a:latin typeface="Arial"/>
              </a:rPr>
              <a:t>3</a:t>
            </a:r>
            <a:r>
              <a:rPr b="1" lang="ar-SA" sz="2400" spc="-1" strike="noStrike">
                <a:solidFill>
                  <a:srgbClr val="000000"/>
                </a:solidFill>
                <a:latin typeface="Arial"/>
              </a:rPr>
              <a:t>) اختبارات فى الفصل الدراسى على أن تحتسب أعلى درجة لهذه الاختبارات، ويمكن الرصد كما فى جدول (</a:t>
            </a:r>
            <a:r>
              <a:rPr b="1" lang="ar-SA" sz="2400" spc="-1" strike="noStrike">
                <a:solidFill>
                  <a:srgbClr val="000000"/>
                </a:solidFill>
                <a:latin typeface="Arial"/>
              </a:rPr>
              <a:t>1</a:t>
            </a:r>
            <a:r>
              <a:rPr b="1" lang="ar-SA"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66CD1A-F363-4CEC-851B-1D77F9ECCF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1</a:t>
            </a:r>
            <a:r>
              <a:rPr b="1" lang="ar-SA" sz="2400" spc="-1" strike="noStrike">
                <a:solidFill>
                  <a:srgbClr val="0f48ff"/>
                </a:solidFill>
                <a:latin typeface="Arial"/>
              </a:rPr>
              <a:t>): تقييم الأعمال التحريري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ea typeface="Simplified Arabic"/>
              </a:rPr>
              <a:t>     اسم المتعلم ....             الصف ...                المادة</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4" name=""/>
          <p:cNvGraphicFramePr/>
          <p:nvPr/>
        </p:nvGraphicFramePr>
        <p:xfrm>
          <a:off x="457200" y="2103480"/>
          <a:ext cx="8229600" cy="3630600"/>
        </p:xfrm>
        <a:graphic>
          <a:graphicData uri="http://schemas.openxmlformats.org/drawingml/2006/table">
            <a:tbl>
              <a:tblPr/>
              <a:tblGrid>
                <a:gridCol w="1176480"/>
                <a:gridCol w="1174680"/>
                <a:gridCol w="1176120"/>
                <a:gridCol w="1019160"/>
                <a:gridCol w="1584360"/>
                <a:gridCol w="1440000"/>
                <a:gridCol w="65880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متحان تحرير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A07CED2C-42B3-4AD4-9FC3-3F06BC08C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ب- الأداءات الشفهية والمناقشات الصفي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أحد أساليب التقويم للجانبين المهارى والوجدانى وتتضمن المناقشات داخل الفصل، والتفاعل بين المتعلم والمعلم والعروض العملية أو المشروعات ..... إلخ. </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م تقييم المتعلم من خلال (</a:t>
            </a:r>
            <a:r>
              <a:rPr b="1" lang="ar-SA" sz="2800" spc="-1" strike="noStrike">
                <a:solidFill>
                  <a:srgbClr val="000000"/>
                </a:solidFill>
                <a:latin typeface="Arial"/>
              </a:rPr>
              <a:t>6</a:t>
            </a:r>
            <a:r>
              <a:rPr b="1" lang="ar-SA" sz="2800" spc="-1" strike="noStrike">
                <a:solidFill>
                  <a:srgbClr val="000000"/>
                </a:solidFill>
                <a:latin typeface="Arial"/>
              </a:rPr>
              <a:t>) أداءات فى الفصل الدراسى الواحد وتحتسب له أعلى درجة، وعلى سبيل الاسترشاد يمكن استخدام الجدول التالى فى الرصد:</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258070D-3432-41DA-BC36-C3DD2DF79E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قــديــــم</a:t>
            </a:r>
            <a:endParaRPr b="1" lang="en-US" sz="3200" spc="-1" strike="noStrike">
              <a:solidFill>
                <a:srgbClr val="000000"/>
              </a:solidFill>
              <a:latin typeface="Arial"/>
            </a:endParaRPr>
          </a:p>
        </p:txBody>
      </p:sp>
      <p:sp>
        <p:nvSpPr>
          <p:cNvPr id="8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3000"/>
          </a:bodyPr>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ى إطار تطوير منظومة التقويم التربوى كأحد محاور تطوير التعليم ما قبل الجامعى تصدر وزارة التربية والتعليم دليل التقويم التربوى الشامل (من الصف الأول إلى الصف الثالث الإبتدائى).</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تمد نظرة هذه المنظومة على إطار فكرى معاصر يتعامل مع المتعلم من خلال رؤية شاملة متكاملة، فتساعده على اكتشاف جوانب القوة وتنميتها والبرهنة على قدراته فى أداء مهام معينة، وإثبات ذاته، وإتاحة الفرصة لكى ينتج ويبدع. </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كذلك يساعد هذا التوجه إلى تشخيص جوانب الضعف وتفعيل برامج علاجها أولا بأول مع كل خطوة من خطوات عمليتى التعليم والتعلم لتحقيق النمو الشا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F40C4AF-2BCB-4C14-8945-E9936A550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2</a:t>
            </a:r>
            <a:r>
              <a:rPr b="1" lang="ar-SA" sz="2400" spc="-1" strike="noStrike">
                <a:solidFill>
                  <a:srgbClr val="0f48ff"/>
                </a:solidFill>
                <a:latin typeface="Arial"/>
              </a:rPr>
              <a:t>):  تقييم الأداءات الشفهية والمناقشات الصفية</a:t>
            </a:r>
            <a:br>
              <a:rPr sz="2400"/>
            </a:br>
            <a:br>
              <a:rPr sz="2400"/>
            </a:br>
            <a:r>
              <a:rPr b="1" lang="ar-SA" sz="2400" spc="-1" strike="noStrike">
                <a:solidFill>
                  <a:srgbClr val="fe3000"/>
                </a:solidFill>
                <a:latin typeface="Arial"/>
                <a:cs typeface="Simplified Arabic"/>
              </a:rPr>
              <a:t>الفصل....... ل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8" name=""/>
          <p:cNvGraphicFramePr/>
          <p:nvPr/>
        </p:nvGraphicFramePr>
        <p:xfrm>
          <a:off x="457200" y="1992240"/>
          <a:ext cx="8229600" cy="4100760"/>
        </p:xfrm>
        <a:graphic>
          <a:graphicData uri="http://schemas.openxmlformats.org/drawingml/2006/table">
            <a:tbl>
              <a:tblPr/>
              <a:tblGrid>
                <a:gridCol w="1176480"/>
                <a:gridCol w="1174680"/>
                <a:gridCol w="1116000"/>
                <a:gridCol w="934920"/>
                <a:gridCol w="1800360"/>
                <a:gridCol w="1441440"/>
                <a:gridCol w="585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داء شفهى أو عرض عم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5570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5B273C27-CB06-4198-B652-C1FE10B21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2"/>
          <p:cNvSpPr>
            <a:spLocks noGrp="1"/>
          </p:cNvSpPr>
          <p:nvPr>
            <p:ph/>
          </p:nvPr>
        </p:nvSpPr>
        <p:spPr>
          <a:xfrm>
            <a:off x="395280" y="1484280"/>
            <a:ext cx="8229600" cy="5184720"/>
          </a:xfrm>
          <a:prstGeom prst="rect">
            <a:avLst/>
          </a:prstGeom>
          <a:noFill/>
          <a:ln w="0">
            <a:noFill/>
          </a:ln>
        </p:spPr>
        <p:txBody>
          <a:bodyPr lIns="90000" rIns="90000" tIns="46800" bIns="46800"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جـ - الأنشطة المصاحبة للماد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مجموعة من الأنشطة والتكليفات والمهام المتنوعة التى ترتبط بالمادة وتتطلب من المتعلم تطبيق ما يتعلمه فى مواقف حياتية مختلفة ترتبط باهتماماته وميوله،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لك الأنشطة يمكن أن يمارسها المتعلم بمفرده أو بالمشاركة مع زملائه مثل: </a:t>
            </a:r>
            <a:endParaRPr b="1" lang="en-US" sz="28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بحث مختص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ألبوم صو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وسيلة تعليمية،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بعض مكونات البيئة التى تخدم موضوع الدرس وغير ذلك.</a:t>
            </a:r>
            <a:r>
              <a:rPr b="1" lang="ar-SA" sz="2400" spc="-1" strike="noStrike">
                <a:solidFill>
                  <a:srgbClr val="000000"/>
                </a:solidFill>
                <a:latin typeface="Arial"/>
              </a:rPr>
              <a:t> </a:t>
            </a:r>
            <a:endParaRPr b="1" lang="en-US" sz="24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أن تحتسب أعلى درجة بعد تقييم عدد من الأنشطة (حوالى </a:t>
            </a:r>
            <a:r>
              <a:rPr b="1" lang="ar-SA" sz="2800" spc="-1" strike="noStrike">
                <a:solidFill>
                  <a:srgbClr val="000000"/>
                </a:solidFill>
                <a:latin typeface="Arial"/>
              </a:rPr>
              <a:t>3</a:t>
            </a:r>
            <a:r>
              <a:rPr b="1" lang="ar-SA" sz="2800" spc="-1" strike="noStrike">
                <a:solidFill>
                  <a:srgbClr val="000000"/>
                </a:solidFill>
                <a:latin typeface="Arial"/>
              </a:rPr>
              <a:t> فى الفصل الدراسى) لكل متعلم كما فى جدول (</a:t>
            </a:r>
            <a:r>
              <a:rPr b="1" lang="ar-SA" sz="2800" spc="-1" strike="noStrike">
                <a:solidFill>
                  <a:srgbClr val="000000"/>
                </a:solidFill>
                <a:latin typeface="Arial"/>
              </a:rPr>
              <a:t>3</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C6389B7-7058-4A34-B77D-4BD51AF895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62064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3</a:t>
            </a:r>
            <a:r>
              <a:rPr b="1" lang="ar-SA" sz="2400" spc="-1" strike="noStrike">
                <a:solidFill>
                  <a:srgbClr val="0f48ff"/>
                </a:solidFill>
                <a:latin typeface="Arial"/>
              </a:rPr>
              <a:t>):  تقييم الأنشطة المصاحبة للماد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22" name=""/>
          <p:cNvGraphicFramePr/>
          <p:nvPr/>
        </p:nvGraphicFramePr>
        <p:xfrm>
          <a:off x="395280" y="2492280"/>
          <a:ext cx="8229600" cy="3100320"/>
        </p:xfrm>
        <a:graphic>
          <a:graphicData uri="http://schemas.openxmlformats.org/drawingml/2006/table">
            <a:tbl>
              <a:tblPr/>
              <a:tblGrid>
                <a:gridCol w="1176480"/>
                <a:gridCol w="1174680"/>
                <a:gridCol w="1176120"/>
                <a:gridCol w="1175040"/>
                <a:gridCol w="1176120"/>
                <a:gridCol w="1549440"/>
                <a:gridCol w="801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1</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3</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9D35FB3A-A938-4B3A-8D25-074A0C3A42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6000"/>
          </a:bodyPr>
          <a:p>
            <a:pPr marL="294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د- السلـوك (</a:t>
            </a:r>
            <a:r>
              <a:rPr b="1" lang="ar-SA" sz="2800" spc="-1" strike="noStrike">
                <a:solidFill>
                  <a:srgbClr val="fe3000"/>
                </a:solidFill>
                <a:latin typeface="Arial"/>
              </a:rPr>
              <a:t>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484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كتب تقرير وتقدير (جدول </a:t>
            </a:r>
            <a:r>
              <a:rPr b="1" lang="ar-SA" sz="2400" spc="-1" strike="noStrike">
                <a:solidFill>
                  <a:srgbClr val="000000"/>
                </a:solidFill>
                <a:latin typeface="Arial"/>
              </a:rPr>
              <a:t>4</a:t>
            </a:r>
            <a:r>
              <a:rPr b="1" lang="ar-SA" sz="2400" spc="-1" strike="noStrike">
                <a:solidFill>
                  <a:srgbClr val="000000"/>
                </a:solidFill>
                <a:latin typeface="Arial"/>
              </a:rPr>
              <a:t>) عن سلوك المتعلم داخل الفصل وخارجه ومدى توافقه النفسى والاجتماعى ومدى التزامه بالنظم المدرسية، وعلاقته مع زملائه، ومحافظته على أدواته وكتبه المدرسية، على أن يشترك معلم الفصل مع الاخصائى الاجتماعى فى تقييم المتعلم مرة واحدة فى نهاية الفصل الدراسى، </a:t>
            </a:r>
            <a:endParaRPr b="1" lang="en-US" sz="2400" spc="-1" strike="noStrike">
              <a:solidFill>
                <a:srgbClr val="000000"/>
              </a:solidFill>
              <a:latin typeface="Arial"/>
            </a:endParaRPr>
          </a:p>
          <a:p>
            <a:pPr marL="29484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عناصر التقويم تشمل الالتزام بمواعيد الحضور والمظهر العام وإحضار الكتب والأدوات، واحترام الطالب لطابور الصباح وتحية العلم ومحافظتة على أثاث المدرسة ومرافقها والاهتمام بأداء واجباته المدرسية والالتزام بتعليمات معلميه وبآداب الحوار والتعاون والمشاركة مع زملائه واحترام خصوصياتهم وأن يبعد عن إحضار أية أدوات غير أخلاقية أو أية مواد ينتج عنها أضرار للمجتمع المدرسي أو أى سلوك سلبي يؤثر على سمعته ومدرست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3A72B9-9377-424A-928A-FC9CBEB301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764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4</a:t>
            </a:r>
            <a:r>
              <a:rPr b="1" lang="ar-SA" sz="2400" spc="-1" strike="noStrike">
                <a:solidFill>
                  <a:srgbClr val="0f48ff"/>
                </a:solidFill>
                <a:latin typeface="Arial"/>
              </a:rPr>
              <a:t>):  تقييم  السلـوك</a:t>
            </a:r>
            <a:br>
              <a:rPr sz="2400"/>
            </a:br>
            <a:br>
              <a:rPr sz="2400"/>
            </a:br>
            <a:r>
              <a:rPr b="1" lang="ar-SA" sz="2400" spc="-1" strike="noStrike">
                <a:solidFill>
                  <a:srgbClr val="000000"/>
                </a:solidFill>
                <a:latin typeface="Arial"/>
              </a:rPr>
              <a:t> </a:t>
            </a: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لصف .......</a:t>
            </a:r>
            <a:r>
              <a:rPr b="1" lang="ar-EG" sz="2400" spc="-1" strike="noStrike">
                <a:solidFill>
                  <a:srgbClr val="fe3000"/>
                </a:solidFill>
                <a:latin typeface="Arial"/>
                <a:ea typeface="Simplified Arabic"/>
              </a:rPr>
              <a:t>   </a:t>
            </a:r>
            <a:r>
              <a:rPr b="1" lang="ar-SA" sz="2400" spc="-1" strike="noStrike">
                <a:solidFill>
                  <a:srgbClr val="fe3000"/>
                </a:solidFill>
                <a:latin typeface="Arial"/>
                <a:cs typeface="Simplified Arabic"/>
              </a:rPr>
              <a:t>المادة .....</a:t>
            </a:r>
            <a:r>
              <a:rPr b="1" lang="ar-EG" sz="2400" spc="-1" strike="noStrike">
                <a:solidFill>
                  <a:srgbClr val="fe3000"/>
                </a:solidFill>
                <a:latin typeface="Arial"/>
                <a:ea typeface="Simplified Arabic"/>
              </a:rPr>
              <a:t>      </a:t>
            </a:r>
            <a:r>
              <a:rPr b="1" lang="ar-EG" sz="2400" spc="-1" strike="noStrike">
                <a:solidFill>
                  <a:srgbClr val="000000"/>
                </a:solidFill>
                <a:latin typeface="Arial"/>
              </a:rPr>
              <a:t>   </a:t>
            </a:r>
            <a:r>
              <a:rPr b="1" lang="ar-SA" sz="2400" spc="-1" strike="noStrike">
                <a:solidFill>
                  <a:srgbClr val="fe3000"/>
                </a:solidFill>
                <a:latin typeface="Arial"/>
                <a:cs typeface="Simplified Arabic"/>
              </a:rPr>
              <a:t>اسم المتعلم</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r>
              <a:rPr b="1" lang="ar-EG" sz="2400" spc="-1" strike="noStrike">
                <a:solidFill>
                  <a:srgbClr val="fe3000"/>
                </a:solidFill>
                <a:latin typeface="Arial"/>
                <a:ea typeface="Simplified Arabic"/>
              </a:rPr>
              <a:t> </a:t>
            </a:r>
            <a:endParaRPr b="1" lang="en-US" sz="2400" spc="-1" strike="noStrike">
              <a:solidFill>
                <a:srgbClr val="000000"/>
              </a:solidFill>
              <a:latin typeface="Arial"/>
            </a:endParaRPr>
          </a:p>
        </p:txBody>
      </p:sp>
      <p:graphicFrame>
        <p:nvGraphicFramePr>
          <p:cNvPr id="126" name=""/>
          <p:cNvGraphicFramePr/>
          <p:nvPr/>
        </p:nvGraphicFramePr>
        <p:xfrm>
          <a:off x="468360" y="2637000"/>
          <a:ext cx="8229600" cy="3047760"/>
        </p:xfrm>
        <a:graphic>
          <a:graphicData uri="http://schemas.openxmlformats.org/drawingml/2006/table">
            <a:tbl>
              <a:tblPr/>
              <a:tblGrid>
                <a:gridCol w="1646280"/>
                <a:gridCol w="1646280"/>
                <a:gridCol w="1644480"/>
                <a:gridCol w="1646280"/>
                <a:gridCol w="16462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86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5">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وقيع المعلم:               توقيع الأ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038AA0ED-8455-4C45-9A4B-4549E2779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2</a:t>
            </a:r>
            <a:r>
              <a:rPr b="1" lang="ar-EG" sz="2800" spc="-1" strike="noStrike">
                <a:solidFill>
                  <a:srgbClr val="f02e00"/>
                </a:solidFill>
                <a:latin typeface="Arial"/>
              </a:rPr>
              <a:t>- </a:t>
            </a:r>
            <a:r>
              <a:rPr b="1" lang="ar-SA" sz="2800" spc="-1" strike="noStrike">
                <a:solidFill>
                  <a:srgbClr val="f02e00"/>
                </a:solidFill>
                <a:latin typeface="Arial"/>
              </a:rPr>
              <a:t>اختبارات نهاية الفصل الدراسى (</a:t>
            </a:r>
            <a:r>
              <a:rPr b="1" lang="ar-SA" sz="2800" spc="-1" strike="noStrike">
                <a:solidFill>
                  <a:srgbClr val="f02e00"/>
                </a:solidFill>
                <a:latin typeface="Arial"/>
              </a:rPr>
              <a:t>50</a:t>
            </a:r>
            <a:r>
              <a:rPr b="1" lang="ar-SA" sz="2800" spc="-1" strike="noStrike">
                <a:solidFill>
                  <a:srgbClr val="f02e00"/>
                </a:solidFill>
                <a:latin typeface="Arial"/>
              </a:rPr>
              <a:t>% من الدرجة الكلية):</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الفصل الدراسى الثانى على مستوى المدرسة للصف الأول ال</a:t>
            </a:r>
            <a:r>
              <a:rPr b="1" lang="ar-EG" sz="2800" spc="-1" strike="noStrike">
                <a:solidFill>
                  <a:srgbClr val="000000"/>
                </a:solidFill>
                <a:latin typeface="Arial"/>
              </a:rPr>
              <a:t>ا</a:t>
            </a:r>
            <a:r>
              <a:rPr b="1" lang="ar-SA" sz="2800" spc="-1" strike="noStrike">
                <a:solidFill>
                  <a:srgbClr val="000000"/>
                </a:solidFill>
                <a:latin typeface="Arial"/>
              </a:rPr>
              <a:t>بتدائى. </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مدرسة للصف الثانى الابتدائى.</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إدارة للصف الثالث الابتدائ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ADA17B9-BC99-4616-AC9B-E04C7AE727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800" spc="-1" strike="noStrike">
                <a:solidFill>
                  <a:srgbClr val="f02e00"/>
                </a:solidFill>
                <a:latin typeface="Arial"/>
              </a:rPr>
              <a:t>- </a:t>
            </a:r>
            <a:r>
              <a:rPr b="1" lang="ar-SA" sz="2800" spc="-1" strike="noStrike">
                <a:solidFill>
                  <a:srgbClr val="f02e00"/>
                </a:solidFill>
                <a:latin typeface="Arial"/>
              </a:rPr>
              <a:t>الأنشطة اللاصفية : </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ثل الأنشطة اللاصفية عنصراً رئيساً للتقويم الشامل للمتعلم.</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شمل مشاركة المتعلم مع أقرانه فى إحدى الجماعات التى يرغبها ليمارس من خلالها نشاطه. </a:t>
            </a:r>
            <a:endParaRPr b="1" lang="en-US" sz="2800" spc="-1" strike="noStrike">
              <a:solidFill>
                <a:srgbClr val="000000"/>
              </a:solidFill>
              <a:latin typeface="Arial"/>
            </a:endParaRPr>
          </a:p>
          <a:p>
            <a:pPr marL="298440" indent="-298440" algn="just" rtl="1">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من أمثلة جماعات النشاط المدرسية جماعة الإذاعة وجماعة الصحافة وجماعة الخطابة والمناظرات وجماعة المكتبة وجماعة الكشافة والجماعة العلمية وجماعة الموسيقى وجماعة التمثيل وجماعة الهلال الأحمر وجماعة الكمبيوتر وجماعة الرحلات والخدمة العامة، أو أية جماعات أخر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21F68EF-CE0E-48DF-8819-5DBF9213F1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وم المشرف على الأنشطة اللاصفية بشرح مهام وأنشطة الجماعات المختلفة حتى يتسنى للمتعلم أن يختار ما يرغبه ليتماشى مع ميوله وقدراته حتى يمكن اكتشاف المواهب ورعايتها.</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للمتعلم أن يختار نشاطه فى بداية كل فصل دراسى. </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تقويم أداءات الأنشطة اللاصفية وجماعات النشاط بواسطة الأخصائى الإجتماعى والمشرف على النشاط.</a:t>
            </a: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rPr>
              <a:t>- </a:t>
            </a:r>
            <a:r>
              <a:rPr b="1" lang="ar-EG" sz="2800" spc="-1" strike="noStrike">
                <a:solidFill>
                  <a:srgbClr val="f02e00"/>
                </a:solidFill>
                <a:latin typeface="Arial"/>
              </a:rPr>
              <a:t> </a:t>
            </a:r>
            <a:r>
              <a:rPr b="1" lang="ar-SA" sz="2800" spc="-1" strike="noStrike">
                <a:solidFill>
                  <a:srgbClr val="f02e00"/>
                </a:solidFill>
                <a:latin typeface="Arial"/>
              </a:rPr>
              <a:t>يمكن رصد جميع الأنشطة الخاصة بالمتعلم خلال الفصل الدراسى فى الجدول التال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ED2EB37-5D87-4A21-B9E5-6038257777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5</a:t>
            </a:r>
            <a:r>
              <a:rPr b="1" lang="ar-SA" sz="2400" spc="-1" strike="noStrike">
                <a:solidFill>
                  <a:srgbClr val="0f48ff"/>
                </a:solidFill>
                <a:latin typeface="Arial"/>
              </a:rPr>
              <a:t>):  تقييم الأنشطة اللاصفية</a:t>
            </a:r>
            <a:br>
              <a:rPr sz="2400"/>
            </a:br>
            <a:br>
              <a:rPr sz="2400"/>
            </a:br>
            <a:r>
              <a:rPr b="1" lang="ar-SA" sz="2400" spc="-1" strike="noStrike">
                <a:solidFill>
                  <a:srgbClr val="f02e00"/>
                </a:solidFill>
                <a:latin typeface="Arial"/>
                <a:cs typeface="Simplified Arabic"/>
              </a:rPr>
              <a:t>الفصل .... العام الدراسى </a:t>
            </a:r>
            <a:r>
              <a:rPr b="1" lang="ar-SA" sz="2400" spc="-1" strike="noStrike">
                <a:solidFill>
                  <a:srgbClr val="f02e00"/>
                </a:solidFill>
                <a:latin typeface="Arial"/>
                <a:ea typeface="Simplified Arabic"/>
              </a:rPr>
              <a:t>200</a:t>
            </a:r>
            <a:r>
              <a:rPr b="1" lang="ar-SA" sz="2400" spc="-1" strike="noStrike">
                <a:solidFill>
                  <a:srgbClr val="f02e00"/>
                </a:solidFill>
                <a:latin typeface="Arial"/>
                <a:ea typeface="Simplified Arabic"/>
              </a:rPr>
              <a:t> /  </a:t>
            </a:r>
            <a:r>
              <a:rPr b="1" lang="ar-SA" sz="2400" spc="-1" strike="noStrike">
                <a:solidFill>
                  <a:srgbClr val="f02e00"/>
                </a:solidFill>
                <a:latin typeface="Arial"/>
                <a:ea typeface="Simplified Arabic"/>
              </a:rPr>
              <a:t>200</a:t>
            </a:r>
            <a:br>
              <a:rPr sz="2400"/>
            </a:br>
            <a:r>
              <a:rPr b="1" lang="ar-SA" sz="2400" spc="-1" strike="noStrike">
                <a:solidFill>
                  <a:srgbClr val="f02e00"/>
                </a:solidFill>
                <a:latin typeface="Arial"/>
                <a:cs typeface="Simplified Arabic"/>
              </a:rPr>
              <a:t>اسم المتعلم ...                            الصف</a:t>
            </a:r>
            <a:r>
              <a:rPr b="1" lang="ar-SA" sz="2400" spc="-1" strike="noStrike">
                <a:solidFill>
                  <a:srgbClr val="f02e00"/>
                </a:solidFill>
                <a:latin typeface="Arial"/>
                <a:ea typeface="Simplified Arabic"/>
              </a:rPr>
              <a:t> </a:t>
            </a:r>
            <a:r>
              <a:rPr b="1" lang="ar-SA" sz="2400" spc="-1" strike="noStrike">
                <a:solidFill>
                  <a:srgbClr val="f02e00"/>
                </a:solidFill>
                <a:latin typeface="Arial"/>
                <a:ea typeface="Simplified Arabic"/>
              </a:rPr>
              <a:t>..........</a:t>
            </a:r>
            <a:endParaRPr b="1" lang="en-US" sz="2400" spc="-1" strike="noStrike">
              <a:solidFill>
                <a:srgbClr val="000000"/>
              </a:solidFill>
              <a:latin typeface="Arial"/>
            </a:endParaRPr>
          </a:p>
        </p:txBody>
      </p:sp>
      <p:graphicFrame>
        <p:nvGraphicFramePr>
          <p:cNvPr id="134" name=""/>
          <p:cNvGraphicFramePr/>
          <p:nvPr/>
        </p:nvGraphicFramePr>
        <p:xfrm>
          <a:off x="468360" y="1989000"/>
          <a:ext cx="8229600" cy="3648240"/>
        </p:xfrm>
        <a:graphic>
          <a:graphicData uri="http://schemas.openxmlformats.org/drawingml/2006/table">
            <a:tbl>
              <a:tblPr/>
              <a:tblGrid>
                <a:gridCol w="1176120"/>
                <a:gridCol w="1175040"/>
                <a:gridCol w="1176120"/>
                <a:gridCol w="1174680"/>
                <a:gridCol w="1789200"/>
                <a:gridCol w="1224000"/>
                <a:gridCol w="514440"/>
              </a:tblGrid>
              <a:tr h="825480">
                <a:tc grid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 اللاصف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cs typeface="Simplified Arabic"/>
                        </a:rPr>
                        <a:t>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ا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توقيع المشرف على النشاط </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4EBEFA37-FDEF-4839-AC6F-778F67C5B4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141264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f48ff"/>
                </a:solidFill>
                <a:latin typeface="Arial"/>
              </a:rPr>
              <a:t>جدول رقم (</a:t>
            </a:r>
            <a:r>
              <a:rPr b="1" lang="ar-SA" sz="1800" spc="-1" strike="noStrike">
                <a:solidFill>
                  <a:srgbClr val="0f48ff"/>
                </a:solidFill>
                <a:latin typeface="Arial"/>
              </a:rPr>
              <a:t>6</a:t>
            </a:r>
            <a:r>
              <a:rPr b="1" lang="ar-SA" sz="1800" spc="-1" strike="noStrike">
                <a:solidFill>
                  <a:srgbClr val="0f48ff"/>
                </a:solidFill>
                <a:latin typeface="Arial"/>
              </a:rPr>
              <a:t>): الوزن النسبى لمهام التعلم</a:t>
            </a:r>
            <a:endParaRPr b="1" lang="en-US" sz="1800" spc="-1" strike="noStrike">
              <a:solidFill>
                <a:srgbClr val="000000"/>
              </a:solidFill>
              <a:latin typeface="Arial"/>
            </a:endParaRPr>
          </a:p>
        </p:txBody>
      </p:sp>
      <p:graphicFrame>
        <p:nvGraphicFramePr>
          <p:cNvPr id="136" name=""/>
          <p:cNvGraphicFramePr/>
          <p:nvPr/>
        </p:nvGraphicFramePr>
        <p:xfrm>
          <a:off x="539640" y="1916280"/>
          <a:ext cx="8229600" cy="4106520"/>
        </p:xfrm>
        <a:graphic>
          <a:graphicData uri="http://schemas.openxmlformats.org/drawingml/2006/table">
            <a:tbl>
              <a:tblPr/>
              <a:tblGrid>
                <a:gridCol w="1522440"/>
                <a:gridCol w="1513080"/>
                <a:gridCol w="1584360"/>
                <a:gridCol w="360972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سبة المئوية  ( % ) لكل مهم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وع التقي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آخر العا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ث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أو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14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ولا : ملف الإنجاز</a:t>
                      </a:r>
                      <a:r>
                        <a:rPr b="1" lang="ar-EG" sz="1800" spc="-1" strike="noStrike">
                          <a:solidFill>
                            <a:srgbClr val="000000"/>
                          </a:solidFill>
                          <a:latin typeface="Arial"/>
                          <a:ea typeface="Simplified Arabic"/>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 الأعمال التحرير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ب- الأداءات الشفهية والمناقشات الصف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جـ- الأنشطة المصاحبة للم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سلوك</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إجمالى ملف الإنجاز</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ثانيا: اختبارات نهاية الفصل الدراس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1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إجمالى الكل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
        <p:nvSpPr>
          <p:cNvPr id="137" name=""/>
          <p:cNvSpPr/>
          <p:nvPr/>
        </p:nvSpPr>
        <p:spPr>
          <a:xfrm>
            <a:off x="539640" y="6165720"/>
            <a:ext cx="815832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PT Bold Heading"/>
              </a:rPr>
              <a:t>*</a:t>
            </a:r>
            <a:r>
              <a:rPr b="1" lang="ar-SA" sz="1600" spc="-1" strike="noStrike">
                <a:solidFill>
                  <a:srgbClr val="000000"/>
                </a:solidFill>
                <a:latin typeface="Arial"/>
                <a:ea typeface="Simplified Arabic"/>
              </a:rPr>
              <a:t> </a:t>
            </a:r>
            <a:r>
              <a:rPr b="1" lang="ar-SA" sz="1600" spc="-1" strike="noStrike">
                <a:solidFill>
                  <a:srgbClr val="000000"/>
                </a:solidFill>
                <a:latin typeface="Arial"/>
                <a:cs typeface="Simplified Arabic"/>
              </a:rPr>
              <a:t>المواظبة والحضور تؤثر فى درجات ملف الإنجاز وفقا للضوابط الحاكمة لذلك  جدول (</a:t>
            </a:r>
            <a:r>
              <a:rPr b="1" lang="ar-SA" sz="1600" spc="-1" strike="noStrike">
                <a:solidFill>
                  <a:srgbClr val="000000"/>
                </a:solidFill>
                <a:latin typeface="Arial"/>
                <a:ea typeface="Simplified Arabic"/>
              </a:rPr>
              <a:t>11</a:t>
            </a:r>
            <a:r>
              <a:rPr b="1" lang="ar-SA" sz="1600" spc="-1" strike="noStrike">
                <a:solidFill>
                  <a:srgbClr val="000000"/>
                </a:solidFill>
                <a:latin typeface="Arial"/>
                <a:ea typeface="Simplified Arabic"/>
              </a:rPr>
              <a:t>)</a:t>
            </a:r>
            <a:r>
              <a:rPr b="1" lang="ar-SA" sz="1600" spc="-1" strike="noStrike">
                <a:solidFill>
                  <a:srgbClr val="000000"/>
                </a:solidFill>
                <a:latin typeface="Arial"/>
                <a:ea typeface="Simplified Arabic"/>
              </a:rPr>
              <a:t>.</a:t>
            </a:r>
            <a:endParaRPr b="0" lang="en-US" sz="1600" spc="-1" strike="noStrike">
              <a:solidFill>
                <a:srgbClr val="000000"/>
              </a:solidFill>
              <a:latin typeface="Arial"/>
            </a:endParaRPr>
          </a:p>
        </p:txBody>
      </p:sp>
      <p:sp>
        <p:nvSpPr>
          <p:cNvPr id="138" name=""/>
          <p:cNvSpPr/>
          <p:nvPr/>
        </p:nvSpPr>
        <p:spPr>
          <a:xfrm>
            <a:off x="250920" y="333360"/>
            <a:ext cx="8642160" cy="1008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خامسا:  الــوزن النسبى لمهام التعلم</a:t>
            </a:r>
            <a:endParaRPr b="0" lang="en-US" sz="2800" spc="-1" strike="noStrike">
              <a:solidFill>
                <a:srgbClr val="000000"/>
              </a:solidFill>
              <a:latin typeface="Arial"/>
            </a:endParaRPr>
          </a:p>
          <a:p>
            <a:pPr marL="284400" indent="-2844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وتلخيصا لكل ما سبق فإنه يمكن عرض الوزن النسبى لمهام التعلم على النحو الوارد بجدول (</a:t>
            </a:r>
            <a:r>
              <a:rPr b="1" lang="ar-SA" sz="2000" spc="-1" strike="noStrike">
                <a:solidFill>
                  <a:srgbClr val="000000"/>
                </a:solidFill>
                <a:latin typeface="Arial"/>
                <a:ea typeface="Simplified Arabic"/>
              </a:rPr>
              <a:t>6</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662EFAD-1BCC-481A-B6A8-6D6FD2FE6A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83000"/>
          </a:bodyPr>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ظومة التقويم الشامل ليست غاية فى ذاتها بقدر ما هى وسيلة لتحقيق غايات عديدة، من أهمها تحسين العملية التعليمية،  وتحقيق جودتها، حيث تنقل المتعلم من إطار التعليم التقليدى المعتمد على الحفظ والتلقين إلى التقويم الذى يحقق قدرا كبيرا من التعلم الإيجابى النشط.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ذ يشمل المفهوم الحديث للتقويم إلى جانب الامتحانات والاختبارات قياس كل جوانب شخصية المتعلم، بما يسهم فى تقديمه للمجتمع إنسانا متوازنا قادرا على التعامل مع متطلبات المجتمع بكفاءة عالية، متمكنا من مواجهة التحديات والمشكلات ببصيرة نافذ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ثم يتطلب الأمر تضافر كل الجهود، من المجتمع والمدرسة والأسرة للعمل معا بروح الفريق لتهيئة المناخ المناسب لإنجاح المنظومة وتحقيق أهدافها المنشو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E7C6523-5AE4-469B-9284-9E47FE3D8D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 نهاية كل فصل دراسي تحتسب الدرجة لكل مكون من مكونات ملف الإنجاز  بحساب أعلى  الدرجات التي حصل عليها المتعلم في مجمل أعماله التي تندرج تحت هذا المكون. </a:t>
            </a:r>
            <a:endParaRPr b="1" lang="en-US" sz="2800" spc="-1" strike="noStrike">
              <a:solidFill>
                <a:srgbClr val="000000"/>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ضح الجداول (</a:t>
            </a:r>
            <a:r>
              <a:rPr b="1" lang="ar-EG" sz="2800" spc="-1" strike="noStrike">
                <a:solidFill>
                  <a:srgbClr val="000000"/>
                </a:solidFill>
                <a:latin typeface="Arial"/>
              </a:rPr>
              <a:t>7</a:t>
            </a:r>
            <a:r>
              <a:rPr b="1" lang="ar-EG" sz="2800" spc="-1" strike="noStrike">
                <a:solidFill>
                  <a:srgbClr val="000000"/>
                </a:solidFill>
                <a:latin typeface="Arial"/>
              </a:rPr>
              <a:t> – </a:t>
            </a:r>
            <a:r>
              <a:rPr b="1" lang="ar-EG" sz="2800" spc="-1" strike="noStrike">
                <a:solidFill>
                  <a:srgbClr val="000000"/>
                </a:solidFill>
                <a:latin typeface="Arial"/>
              </a:rPr>
              <a:t>8</a:t>
            </a:r>
            <a:r>
              <a:rPr b="1" lang="ar-EG" sz="2800" spc="-1" strike="noStrike">
                <a:solidFill>
                  <a:srgbClr val="000000"/>
                </a:solidFill>
                <a:latin typeface="Arial"/>
              </a:rPr>
              <a:t> – </a:t>
            </a:r>
            <a:r>
              <a:rPr b="1" lang="ar-EG" sz="2800" spc="-1" strike="noStrike">
                <a:solidFill>
                  <a:srgbClr val="000000"/>
                </a:solidFill>
                <a:latin typeface="Arial"/>
              </a:rPr>
              <a:t>9</a:t>
            </a:r>
            <a:r>
              <a:rPr b="1" lang="ar-EG" sz="2800" spc="-1" strike="noStrike">
                <a:solidFill>
                  <a:srgbClr val="000000"/>
                </a:solidFill>
                <a:latin typeface="Arial"/>
              </a:rPr>
              <a:t>) </a:t>
            </a:r>
            <a:r>
              <a:rPr b="1" lang="ar-SA" sz="2800" spc="-1" strike="noStrike">
                <a:solidFill>
                  <a:srgbClr val="000000"/>
                </a:solidFill>
                <a:latin typeface="Arial"/>
              </a:rPr>
              <a:t>توزيع درجات المواد الدراسية المختلفة للصفوف الثلاثة الأولى من التعليم الابتدائي وفقا للنسب المحد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EA0608D-7986-43EE-BD33-DCD5656E44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3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دول (</a:t>
            </a:r>
            <a:r>
              <a:rPr b="1" lang="ar-SA" sz="1800" spc="-1" strike="noStrike">
                <a:solidFill>
                  <a:srgbClr val="000000"/>
                </a:solidFill>
                <a:latin typeface="Arial"/>
              </a:rPr>
              <a:t>7</a:t>
            </a:r>
            <a:r>
              <a:rPr b="1" lang="ar-SA" sz="1800" spc="-1" strike="noStrike">
                <a:solidFill>
                  <a:srgbClr val="000000"/>
                </a:solidFill>
                <a:latin typeface="Arial"/>
              </a:rPr>
              <a:t>):  توزيع درجات المواد المختلفة للصف الأول الابتدائى</a:t>
            </a:r>
            <a:endParaRPr b="1" lang="en-US" sz="1800" spc="-1" strike="noStrike">
              <a:solidFill>
                <a:srgbClr val="000000"/>
              </a:solidFill>
              <a:latin typeface="Arial"/>
            </a:endParaRPr>
          </a:p>
        </p:txBody>
      </p:sp>
      <p:graphicFrame>
        <p:nvGraphicFramePr>
          <p:cNvPr id="142" name=""/>
          <p:cNvGraphicFramePr/>
          <p:nvPr/>
        </p:nvGraphicFramePr>
        <p:xfrm>
          <a:off x="538200" y="396720"/>
          <a:ext cx="8035920" cy="6158160"/>
        </p:xfrm>
        <a:graphic>
          <a:graphicData uri="http://schemas.openxmlformats.org/drawingml/2006/table">
            <a:tbl>
              <a:tblPr/>
              <a:tblGrid>
                <a:gridCol w="1338120"/>
                <a:gridCol w="576360"/>
                <a:gridCol w="576360"/>
                <a:gridCol w="576000"/>
                <a:gridCol w="719280"/>
                <a:gridCol w="576360"/>
                <a:gridCol w="2444760"/>
                <a:gridCol w="1228680"/>
              </a:tblGrid>
              <a:tr h="641520">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800" spc="-1" strike="noStrike">
                          <a:solidFill>
                            <a:srgbClr val="009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ــــ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تربية الدينية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عرب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رياضيات</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ea typeface="Simplified Arabic"/>
                        </a:rPr>
                        <a:t>(إنجليزى / فرنس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خط العرب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يقوم على 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حاسب الآلي</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cs typeface="Simplified Arabic"/>
                        </a:rPr>
                        <a:t>بمدارس اللغات الخاصة والمدارس التجريبية الرسمية</a:t>
                      </a:r>
                      <a:r>
                        <a:rPr b="1" lang="ar-EG" sz="1400" spc="-1" strike="noStrike">
                          <a:solidFill>
                            <a:srgbClr val="000000"/>
                          </a:solidFill>
                          <a:latin typeface="Arial"/>
                          <a:ea typeface="Simplified Arabic"/>
                        </a:rPr>
                        <a:t> (مستوى رفيع)</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على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رياض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أنشطة التربوية والمهارات العملي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موسيق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فن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لم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مل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كتب</a:t>
                      </a:r>
                      <a:r>
                        <a:rPr b="1" lang="ar-EG" sz="1400" spc="-1" strike="noStrike">
                          <a:solidFill>
                            <a:srgbClr val="000000"/>
                          </a:solidFill>
                          <a:latin typeface="Arial"/>
                          <a:cs typeface="Simplified Arabic"/>
                        </a:rPr>
                        <a:t>ــــــــ</a:t>
                      </a:r>
                      <a:r>
                        <a:rPr b="1" lang="ar-SA" sz="1400" spc="-1" strike="noStrike">
                          <a:solidFill>
                            <a:srgbClr val="000000"/>
                          </a:solidFill>
                          <a:latin typeface="Arial"/>
                          <a:cs typeface="Simplified Arabic"/>
                        </a:rPr>
                        <a:t>ة</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لاصفي</a:t>
                      </a:r>
                      <a:r>
                        <a:rPr b="1" lang="ar-EG" sz="1400" spc="-1" strike="noStrike">
                          <a:solidFill>
                            <a:srgbClr val="000000"/>
                          </a:solidFill>
                          <a:latin typeface="Arial"/>
                          <a:cs typeface="Simplified Arabic"/>
                        </a:rPr>
                        <a:t>ـــ</a:t>
                      </a:r>
                      <a:r>
                        <a:rPr b="1" lang="ar-SA" sz="1400" spc="-1" strike="noStrike">
                          <a:solidFill>
                            <a:srgbClr val="000000"/>
                          </a:solidFill>
                          <a:latin typeface="Arial"/>
                          <a:cs typeface="Simplified Arabic"/>
                        </a:rPr>
                        <a:t>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دارس الرسم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جموع الكل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5202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س اللغات الخاصة والتجريب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468360" y="6524640"/>
            <a:ext cx="8229600" cy="289080"/>
          </a:xfrm>
          <a:prstGeom prst="rect">
            <a:avLst/>
          </a:prstGeom>
          <a:noFill/>
          <a:ln w="0">
            <a:noFill/>
          </a:ln>
        </p:spPr>
        <p:style>
          <a:lnRef idx="0"/>
          <a:fillRef idx="0"/>
          <a:effectRef idx="0"/>
          <a:fontRef idx="minor"/>
        </p:style>
        <p:txBody>
          <a:bodyPr lIns="90000" rIns="90000" tIns="46800" bIns="4680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PT Bold Heading"/>
              </a:rPr>
              <a:t>التقويم فى الفصل الدراسى الأول يكون شفهيا</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20C27F-0E01-44BC-BC34-33602B6340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56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a:t>
            </a:r>
            <a:r>
              <a:rPr b="1" lang="ar-SA" sz="1800" spc="-1" strike="noStrike">
                <a:solidFill>
                  <a:srgbClr val="002498"/>
                </a:solidFill>
                <a:latin typeface="Arial"/>
              </a:rPr>
              <a:t>8</a:t>
            </a:r>
            <a:r>
              <a:rPr b="1" lang="ar-SA" sz="1800" spc="-1" strike="noStrike">
                <a:solidFill>
                  <a:srgbClr val="002498"/>
                </a:solidFill>
                <a:latin typeface="Arial"/>
              </a:rPr>
              <a:t>): توزيع درجات المواد المختلفة للصف الثانى الابتدائى</a:t>
            </a:r>
            <a:endParaRPr b="1" lang="en-US" sz="1800" spc="-1" strike="noStrike">
              <a:solidFill>
                <a:srgbClr val="000000"/>
              </a:solidFill>
              <a:latin typeface="Arial"/>
            </a:endParaRPr>
          </a:p>
        </p:txBody>
      </p:sp>
      <p:graphicFrame>
        <p:nvGraphicFramePr>
          <p:cNvPr id="145" name=""/>
          <p:cNvGraphicFramePr/>
          <p:nvPr/>
        </p:nvGraphicFramePr>
        <p:xfrm>
          <a:off x="539640" y="404640"/>
          <a:ext cx="8424720" cy="6372000"/>
        </p:xfrm>
        <a:graphic>
          <a:graphicData uri="http://schemas.openxmlformats.org/drawingml/2006/table">
            <a:tbl>
              <a:tblPr/>
              <a:tblGrid>
                <a:gridCol w="1712880"/>
                <a:gridCol w="928800"/>
                <a:gridCol w="855720"/>
                <a:gridCol w="857160"/>
                <a:gridCol w="801720"/>
                <a:gridCol w="627120"/>
                <a:gridCol w="1563480"/>
                <a:gridCol w="1077840"/>
              </a:tblGrid>
              <a:tr h="45900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فصل الدراسى الأول شفو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يقوم على مدار العام</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7">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تقوم على مدار العام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5"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590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3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F07162B1-3305-46A9-B5C7-380B21082B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8640"/>
            <a:ext cx="8229600" cy="12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رقم (</a:t>
            </a:r>
            <a:r>
              <a:rPr b="1" lang="ar-SA" sz="1800" spc="-1" strike="noStrike">
                <a:solidFill>
                  <a:srgbClr val="002498"/>
                </a:solidFill>
                <a:latin typeface="Arial"/>
              </a:rPr>
              <a:t>9</a:t>
            </a:r>
            <a:r>
              <a:rPr b="1" lang="ar-SA" sz="1800" spc="-1" strike="noStrike">
                <a:solidFill>
                  <a:srgbClr val="002498"/>
                </a:solidFill>
                <a:latin typeface="Arial"/>
              </a:rPr>
              <a:t>): توزيع درجات المواد المختلفة للصف الثالث الابتدائى</a:t>
            </a:r>
            <a:endParaRPr b="1" lang="en-US" sz="1800" spc="-1" strike="noStrike">
              <a:solidFill>
                <a:srgbClr val="000000"/>
              </a:solidFill>
              <a:latin typeface="Arial"/>
            </a:endParaRPr>
          </a:p>
        </p:txBody>
      </p:sp>
      <p:graphicFrame>
        <p:nvGraphicFramePr>
          <p:cNvPr id="147" name=""/>
          <p:cNvGraphicFramePr/>
          <p:nvPr/>
        </p:nvGraphicFramePr>
        <p:xfrm>
          <a:off x="590400" y="441360"/>
          <a:ext cx="8229600" cy="6227640"/>
        </p:xfrm>
        <a:graphic>
          <a:graphicData uri="http://schemas.openxmlformats.org/drawingml/2006/table">
            <a:tbl>
              <a:tblPr/>
              <a:tblGrid>
                <a:gridCol w="1511280"/>
                <a:gridCol w="1068480"/>
                <a:gridCol w="836640"/>
                <a:gridCol w="836640"/>
                <a:gridCol w="784080"/>
                <a:gridCol w="612720"/>
                <a:gridCol w="1527120"/>
                <a:gridCol w="1052640"/>
              </a:tblGrid>
              <a:tr h="27648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a:t>
                      </a:r>
                      <a:r>
                        <a:rPr b="1" lang="ar-EG" sz="1200" spc="-1" strike="noStrike">
                          <a:solidFill>
                            <a:srgbClr val="009000"/>
                          </a:solidFill>
                          <a:latin typeface="Arial"/>
                          <a:cs typeface="Simplified Arabic"/>
                        </a:rPr>
                        <a:t>آخر العام</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34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cs typeface="Simplified Arabic"/>
                        </a:rPr>
                        <a:t>نسبة النظرى إلى العملى</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a:t>
                      </a:r>
                      <a:r>
                        <a:rPr b="1" lang="ar-EG" sz="1400" spc="-1" strike="noStrike">
                          <a:solidFill>
                            <a:srgbClr val="000000"/>
                          </a:solidFill>
                          <a:latin typeface="Arial"/>
                          <a:ea typeface="Simplified Arabic"/>
                        </a:rPr>
                        <a:t>   :  </a:t>
                      </a:r>
                      <a:r>
                        <a:rPr b="1" lang="ar-EG" sz="1400" spc="-1" strike="noStrike">
                          <a:solidFill>
                            <a:srgbClr val="000000"/>
                          </a:solidFill>
                          <a:latin typeface="Arial"/>
                          <a:ea typeface="Simplified Arabic"/>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 على مدار العام</a:t>
                      </a:r>
                      <a:r>
                        <a:rPr b="1" lang="ar-EG" sz="1400" spc="-1" strike="noStrike">
                          <a:solidFill>
                            <a:srgbClr val="000000"/>
                          </a:solidFill>
                          <a:latin typeface="Arial"/>
                          <a:ea typeface="Simplified Arabic"/>
                        </a:rPr>
                        <a:t> الدراسى</a:t>
                      </a:r>
                      <a:r>
                        <a:rPr b="1" lang="ar-SA"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70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518A81AD-3D2A-4F45-8183-BD758E86D1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220464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0</a:t>
            </a:r>
            <a:r>
              <a:rPr b="1" lang="ar-SA" sz="2400" spc="-1" strike="noStrike">
                <a:solidFill>
                  <a:srgbClr val="002498"/>
                </a:solidFill>
                <a:latin typeface="Arial"/>
              </a:rPr>
              <a:t>) : مستويات تقدير أداء المتعلم</a:t>
            </a:r>
            <a:endParaRPr b="1" lang="en-US" sz="2400" spc="-1" strike="noStrike">
              <a:solidFill>
                <a:srgbClr val="000000"/>
              </a:solidFill>
              <a:latin typeface="Arial"/>
            </a:endParaRPr>
          </a:p>
        </p:txBody>
      </p:sp>
      <p:graphicFrame>
        <p:nvGraphicFramePr>
          <p:cNvPr id="149" name=""/>
          <p:cNvGraphicFramePr/>
          <p:nvPr/>
        </p:nvGraphicFramePr>
        <p:xfrm>
          <a:off x="539640" y="2924280"/>
          <a:ext cx="7842240" cy="2733480"/>
        </p:xfrm>
        <a:graphic>
          <a:graphicData uri="http://schemas.openxmlformats.org/drawingml/2006/table">
            <a:tbl>
              <a:tblPr/>
              <a:tblGrid>
                <a:gridCol w="2027520"/>
                <a:gridCol w="1942920"/>
                <a:gridCol w="387180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إجراء</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درج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متــاز</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85%</a:t>
                      </a: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د جد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8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كفاء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ــد</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مستو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قبــو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إلى أقل من</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برنامج علاج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دون المستو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50" name=""/>
          <p:cNvSpPr/>
          <p:nvPr/>
        </p:nvSpPr>
        <p:spPr>
          <a:xfrm>
            <a:off x="468360" y="692280"/>
            <a:ext cx="822960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سادسا: مستويات تقدير أداء المتعلم</a:t>
            </a:r>
            <a:endParaRPr b="0" lang="en-US" sz="2800" spc="-1" strike="noStrike">
              <a:solidFill>
                <a:srgbClr val="000000"/>
              </a:solidFill>
              <a:latin typeface="Arial"/>
            </a:endParaRPr>
          </a:p>
          <a:p>
            <a:pPr marL="305280" indent="-3052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فى ضوء النسبة المئوية للدرجة التى يحصل عليها المتعلم فى كل مادة يتم تقدير مستواه كما فى جدول (</a:t>
            </a:r>
            <a:r>
              <a:rPr b="1" lang="ar-SA" sz="2400" spc="-1" strike="noStrike">
                <a:solidFill>
                  <a:srgbClr val="000000"/>
                </a:solidFill>
                <a:latin typeface="Arial"/>
                <a:ea typeface="Simplified Arabic"/>
              </a:rPr>
              <a:t>10</a:t>
            </a: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19D7BA1-1675-449E-9413-30B6D04E68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سابعا: البرامج العلاجية</a:t>
            </a:r>
            <a:endParaRPr b="1" lang="en-US" sz="2800" spc="-1" strike="noStrike">
              <a:solidFill>
                <a:srgbClr val="000000"/>
              </a:solidFill>
              <a:latin typeface="Arial"/>
            </a:endParaRPr>
          </a:p>
        </p:txBody>
      </p:sp>
      <p:sp>
        <p:nvSpPr>
          <p:cNvPr id="152" name="PlaceHolder 2"/>
          <p:cNvSpPr>
            <a:spLocks noGrp="1"/>
          </p:cNvSpPr>
          <p:nvPr>
            <p:ph/>
          </p:nvPr>
        </p:nvSpPr>
        <p:spPr>
          <a:xfrm>
            <a:off x="457200" y="1123560"/>
            <a:ext cx="8229600" cy="5545080"/>
          </a:xfrm>
          <a:prstGeom prst="rect">
            <a:avLst/>
          </a:prstGeom>
          <a:noFill/>
          <a:ln w="0">
            <a:noFill/>
          </a:ln>
        </p:spPr>
        <p:txBody>
          <a:bodyPr lIns="90000" rIns="90000" tIns="46800" bIns="46800" anchor="t">
            <a:normAutofit fontScale="90000"/>
          </a:bodyPr>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يمكن تصنيف البرامج العلاجية المقترحة ببرنامج التقويم الشامل على النحو التالى:</a:t>
            </a:r>
            <a:endParaRPr b="1" lang="en-US" sz="24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برنامج علاجى أثناء العام الدراسى:</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كان تحصيل المتعلم دون المستوى يتم عمل برنامج علاجى له ويخطر ولى الأمر مرتين فى كل فصل دراس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برنامج علاجى عقب امتحان الفصل الدراسى الأول :</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أول، فإنه يكون دون المستوى ويحتاج إلى برنامج علاجى خلال الفصل الدراسى الثان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جـ- برنامج علاجى فى الأجازة الصيفية:</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درجة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نسبة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ثانى، فإنه يكون دون المستوى ويحتاج إلى برنامج علاج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34C168-AC4D-4FAC-8E75-65A470CCE7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منا: أحكام عامــــــــة</a:t>
            </a:r>
            <a:endParaRPr b="1" lang="en-US" sz="3200" spc="-1" strike="noStrike">
              <a:solidFill>
                <a:srgbClr val="000000"/>
              </a:solidFill>
              <a:latin typeface="Arial"/>
            </a:endParaRPr>
          </a:p>
        </p:txBody>
      </p:sp>
      <p:sp>
        <p:nvSpPr>
          <p:cNvPr id="15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6000"/>
          </a:bodyPr>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ادة التربية الدينية لا تضاف للمجموع وفقاً لقانون التعليم </a:t>
            </a:r>
            <a:r>
              <a:rPr b="1" lang="ar-SA" sz="2400" spc="-1" strike="noStrike">
                <a:solidFill>
                  <a:srgbClr val="000000"/>
                </a:solidFill>
                <a:latin typeface="Arial"/>
              </a:rPr>
              <a:t>139</a:t>
            </a:r>
            <a:r>
              <a:rPr b="1" lang="ar-SA" sz="2400" spc="-1" strike="noStrike">
                <a:solidFill>
                  <a:srgbClr val="000000"/>
                </a:solidFill>
                <a:latin typeface="Arial"/>
              </a:rPr>
              <a:t> لسنة </a:t>
            </a:r>
            <a:r>
              <a:rPr b="1" lang="ar-SA" sz="2400" spc="-1" strike="noStrike">
                <a:solidFill>
                  <a:srgbClr val="000000"/>
                </a:solidFill>
                <a:latin typeface="Arial"/>
              </a:rPr>
              <a:t>1981</a:t>
            </a:r>
            <a:r>
              <a:rPr b="1" lang="ar-SA" sz="2400" spc="-1" strike="noStrike">
                <a:solidFill>
                  <a:srgbClr val="000000"/>
                </a:solidFill>
                <a:latin typeface="Arial"/>
              </a:rPr>
              <a:t>.</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قد امتحان دور ثان للمتعلمين بالصف الأول الذين لم يحققوا المستوى المطلوب، في أحد المواد التالية (التربية الدينية – اللغة العربية – اللغة الاجنبية – الرياضيات – الخط العربي – اللغة الاجنبية " مستوي رفيع ") أو فيها جميعها ثم ينقلون جميعاً إلى الصف الثانى.</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يعقد امتحان دور ثان للمتعلمين بالصفين الثاني والثالث الذين لم يحققوا المستوى المطلوب ، ويسمح للمتعلمين الراسبين في امتحان الدور الثاني بإعادة الدراسة في الصف نفسه، على أن يعقد لهم فى العام التالى امتحان من دورين ثم ينقلون إلى الصف التالي.</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9E8519-E4C4-4D38-87CD-7D736CE401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fontScale="85000"/>
          </a:bodyPr>
          <a:p>
            <a:pPr marL="453240" indent="-4532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تعلمون العائدون من الخارج بالمدارس المصرية يجب اتباع بشأنهم ما يلى:  </a:t>
            </a:r>
            <a:endParaRPr b="1" lang="en-US" sz="24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a:t>
            </a:r>
            <a:r>
              <a:rPr b="1" lang="ar-EG" sz="24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راسى الأول </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وتحتسب له الدرجة كاملة على ملف الإنجاز.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ب-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منتصف الفصل الدراسى الأول تحسب له درجة الفصل الدراسى الأول على ال</a:t>
            </a:r>
            <a:r>
              <a:rPr b="1" lang="ar-EG" sz="2200" spc="-1" strike="noStrike">
                <a:solidFill>
                  <a:srgbClr val="000000"/>
                </a:solidFill>
                <a:latin typeface="Arial"/>
              </a:rPr>
              <a:t>ا</a:t>
            </a:r>
            <a:r>
              <a:rPr b="1" lang="ar-SA" sz="2200" spc="-1" strike="noStrike">
                <a:solidFill>
                  <a:srgbClr val="000000"/>
                </a:solidFill>
                <a:latin typeface="Arial"/>
              </a:rPr>
              <a:t>متحان التحريرى فقط.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ج-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ارسى الثانى</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على أن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ي للفصل الدراسى الأول مع المتخلفين.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د-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بعد منتصف الفصل الدراسى الثانى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ى للفصل الدراسى الأول مع المتخلفين وتحسب له الدرجة على الامتحان</a:t>
            </a:r>
            <a:r>
              <a:rPr b="1" lang="ar-EG" sz="2200" spc="-1" strike="noStrike">
                <a:solidFill>
                  <a:srgbClr val="000000"/>
                </a:solidFill>
                <a:latin typeface="Arial"/>
              </a:rPr>
              <a:t>يي</a:t>
            </a:r>
            <a:r>
              <a:rPr b="1" lang="ar-SA" sz="2200" spc="-1" strike="noStrike">
                <a:solidFill>
                  <a:srgbClr val="000000"/>
                </a:solidFill>
                <a:latin typeface="Arial"/>
              </a:rPr>
              <a:t>ن التحريريين (الفصل الدراسى الأول، الفصل الدراسى الثانى).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ـ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امتحانات الدور الأول يؤدى الامتحان مع متعلمى الدور الثانى وتحسب له الدرجة على الامتحان التحريرى.</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8DC20ED4-ECA7-4BD1-8D87-6FC6C47ABD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ظبة وحساب مدد الغياب يتم تحديدها طبقا للسجلات اليومية للحضور والغياب، ويقوم بها المسئول عن حصر الغياب اليومي بالمدرسة. ويمكن تلخيص الضوابط الحاكمة لتغيب المتعلم عن المدرسة </a:t>
            </a:r>
            <a:r>
              <a:rPr b="1" lang="ar-EG" sz="2400" spc="-1" strike="noStrike">
                <a:solidFill>
                  <a:srgbClr val="000000"/>
                </a:solidFill>
                <a:latin typeface="Arial"/>
              </a:rPr>
              <a:t>والتى تؤثر </a:t>
            </a:r>
            <a:r>
              <a:rPr b="1" lang="ar-SA" sz="2400" spc="-1" strike="noStrike">
                <a:solidFill>
                  <a:srgbClr val="000000"/>
                </a:solidFill>
                <a:latin typeface="Arial"/>
              </a:rPr>
              <a:t>على درجات ملف الانجاز (</a:t>
            </a:r>
            <a:r>
              <a:rPr b="1" lang="ar-SA" sz="2400" spc="-1" strike="noStrike">
                <a:solidFill>
                  <a:srgbClr val="000000"/>
                </a:solidFill>
                <a:latin typeface="Arial"/>
              </a:rPr>
              <a:t>50</a:t>
            </a:r>
            <a:r>
              <a:rPr b="1" lang="ar-SA" sz="2400" spc="-1" strike="noStrike">
                <a:solidFill>
                  <a:srgbClr val="000000"/>
                </a:solidFill>
                <a:latin typeface="Arial"/>
              </a:rPr>
              <a:t>%) كما يلى: </a:t>
            </a: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1</a:t>
            </a:r>
            <a:r>
              <a:rPr b="1" lang="ar-EG" sz="2400" spc="-1" strike="noStrike">
                <a:solidFill>
                  <a:srgbClr val="002498"/>
                </a:solidFill>
                <a:latin typeface="Arial"/>
              </a:rPr>
              <a:t>) </a:t>
            </a:r>
            <a:r>
              <a:rPr b="1" lang="ar-SA" sz="2400" spc="-1" strike="noStrike">
                <a:solidFill>
                  <a:srgbClr val="002498"/>
                </a:solidFill>
                <a:latin typeface="Arial"/>
              </a:rPr>
              <a:t>إذا كان غياب المتعلم بعذر تقبله إدارة المدرسة :-</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a:t>
            </a:r>
            <a:r>
              <a:rPr b="1" lang="ar-EG" sz="2400" spc="-1" strike="noStrike">
                <a:solidFill>
                  <a:srgbClr val="009000"/>
                </a:solidFill>
                <a:latin typeface="Arial"/>
              </a:rPr>
              <a:t>: </a:t>
            </a:r>
            <a:r>
              <a:rPr b="1" lang="ar-SA" sz="2400" spc="-1" strike="noStrike">
                <a:solidFill>
                  <a:srgbClr val="009000"/>
                </a:solidFill>
                <a:latin typeface="Arial"/>
              </a:rPr>
              <a:t>غياب طول الفصل الدراسى تحتسب له الدرجة الكلية على درجة الامتحان النهائي.</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a:t>
            </a:r>
            <a:r>
              <a:rPr b="1" lang="ar-EG" sz="2400" spc="-1" strike="noStrike">
                <a:solidFill>
                  <a:srgbClr val="009000"/>
                </a:solidFill>
                <a:latin typeface="Arial"/>
              </a:rPr>
              <a:t>: </a:t>
            </a:r>
            <a:r>
              <a:rPr b="1" lang="ar-SA" sz="2400" spc="-1" strike="noStrike">
                <a:solidFill>
                  <a:srgbClr val="009000"/>
                </a:solidFill>
                <a:latin typeface="Arial"/>
              </a:rPr>
              <a:t>إذا تغيب فترة محدودة من الفصل الدراسى تحتسب له درجات ملف الإنجاز والمواظبة كاملة على الفترة التى حضرها.</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2</a:t>
            </a:r>
            <a:r>
              <a:rPr b="1" lang="ar-EG" sz="2400" spc="-1" strike="noStrike">
                <a:solidFill>
                  <a:srgbClr val="002498"/>
                </a:solidFill>
                <a:latin typeface="Arial"/>
              </a:rPr>
              <a:t>) </a:t>
            </a:r>
            <a:r>
              <a:rPr b="1" lang="ar-SA" sz="2400" spc="-1" strike="noStrike">
                <a:solidFill>
                  <a:srgbClr val="002498"/>
                </a:solidFill>
                <a:latin typeface="Arial"/>
              </a:rPr>
              <a:t>أما إذا كان الغياب بدون عذر مقبول فيتبع فى شأن غيابه الضوابط التالي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7F8830-8442-437D-A225-1183354ECB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1</a:t>
            </a:r>
            <a:r>
              <a:rPr b="1" lang="ar-SA" sz="2400" spc="-1" strike="noStrike">
                <a:solidFill>
                  <a:srgbClr val="002498"/>
                </a:solidFill>
                <a:latin typeface="Arial"/>
              </a:rPr>
              <a:t>):  الضوابط الخاصة للغياب بدون عذر</a:t>
            </a:r>
            <a:endParaRPr b="1" lang="en-US" sz="2400" spc="-1" strike="noStrike">
              <a:solidFill>
                <a:srgbClr val="000000"/>
              </a:solidFill>
              <a:latin typeface="Arial"/>
            </a:endParaRPr>
          </a:p>
        </p:txBody>
      </p:sp>
      <p:graphicFrame>
        <p:nvGraphicFramePr>
          <p:cNvPr id="160" name=""/>
          <p:cNvGraphicFramePr/>
          <p:nvPr/>
        </p:nvGraphicFramePr>
        <p:xfrm>
          <a:off x="457200" y="1600200"/>
          <a:ext cx="8229600" cy="4083120"/>
        </p:xfrm>
        <a:graphic>
          <a:graphicData uri="http://schemas.openxmlformats.org/drawingml/2006/table">
            <a:tbl>
              <a:tblPr/>
              <a:tblGrid>
                <a:gridCol w="4114800"/>
                <a:gridCol w="4114800"/>
              </a:tblGrid>
              <a:tr h="1267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خصم</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درجات ملف الإنجاز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دة الغياب فى الفصل الدراسى</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ea typeface="Simplified Arabic"/>
                        </a:rPr>
                        <a:t>(بدون عذ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لا تخصم أية درج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1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2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4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خصم الدرجة كامل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 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 name="PlaceHolder 2"/>
          <p:cNvSpPr>
            <a:spLocks noGrp="1"/>
          </p:cNvSpPr>
          <p:nvPr>
            <p:ph type="sldNum" idx="1"/>
          </p:nvPr>
        </p:nvSpPr>
        <p:spPr/>
        <p:txBody>
          <a:bodyPr/>
          <a:p>
            <a:fld id="{E8898832-AB64-4B98-A799-BA86A0B11E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d2"/>
                </a:solidFill>
                <a:latin typeface="Arial"/>
              </a:rPr>
              <a:t>مقدمــــــة</a:t>
            </a:r>
            <a:r>
              <a:rPr b="1" lang="ar-EG" sz="3200" spc="-1" strike="noStrike">
                <a:solidFill>
                  <a:srgbClr val="0032d2"/>
                </a:solidFill>
                <a:latin typeface="Arial"/>
              </a:rPr>
              <a:t> </a:t>
            </a:r>
            <a:endParaRPr b="1"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كد الاتجاهات التربوية المعاصرة الحاجة إلي نظام تعليمي تتحقق فيه الجودة الشاملة فتتميز عملياته وتبدع مخرجاته، لذلك كان من الضروري النظر وإعادة النظر بصورة مستمرة في أساليب وأدوات التقويم التربوي وتطويرها، بحيث</a:t>
            </a:r>
            <a:r>
              <a:rPr b="1" lang="ar-EG" sz="2800" spc="-1" strike="noStrike">
                <a:solidFill>
                  <a:srgbClr val="000000"/>
                </a:solidFill>
                <a:latin typeface="Arial"/>
              </a:rPr>
              <a:t>:</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حقق شروط التقويم الجيد الذي يتسم بالاستمرارية والشمول،</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تتناسب مع متطلبات التطور المستمر للمجتمعات وبناء الإنسان المبدع الواعي والمدرك لمشكلات مجتمعه وحاجاته ومتطلبات نموه وتقدمه</a:t>
            </a:r>
            <a:r>
              <a:rPr b="1" lang="ar-EG" sz="2800" spc="-1" strike="noStrike">
                <a:solidFill>
                  <a:srgbClr val="009000"/>
                </a:solidFill>
                <a:latin typeface="Arial"/>
              </a:rPr>
              <a:t>.</a:t>
            </a:r>
            <a:r>
              <a:rPr b="1" lang="ar-SA" sz="2800" spc="-1" strike="noStrike">
                <a:solidFill>
                  <a:srgbClr val="000000"/>
                </a:solidFill>
                <a:latin typeface="Arial"/>
              </a:rPr>
              <a:t> </a:t>
            </a:r>
            <a:endParaRPr b="1" lang="en-US" sz="2800" spc="-1" strike="noStrike">
              <a:solidFill>
                <a:srgbClr val="000000"/>
              </a:solidFill>
              <a:latin typeface="Arial"/>
            </a:endParaRPr>
          </a:p>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ستلزم اشتراك وتعاون كافة المشاركين في العمل التربوي وزيادة الترابط بين النظام التعليمي والمجتمع.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0180FFD-F228-40BC-A43B-544F8A5ECD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اسعا: توزيع الأدوار والمسئوليات والواجبات</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1</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تعلـم :</a:t>
            </a:r>
            <a:endParaRPr b="1" lang="en-US" sz="24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a:t>
            </a:r>
            <a:r>
              <a:rPr b="1" lang="ar-SA" sz="2800" spc="-1" strike="noStrike">
                <a:solidFill>
                  <a:srgbClr val="000000"/>
                </a:solidFill>
                <a:latin typeface="Arial"/>
              </a:rPr>
              <a:t>يمكن للمتعلم الاستعانة بتوجيهات معلمه وولى أمره في ذلك).</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ؤدى مهام التعلم  التي يطلبها منه المعلم وفقاً لقائمة التكليفات السابق تحديدها.</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ختار الأنشطة أو المشروعات أو الأعمال التي تدل على إنجازه للتكليفات المتفق عليها في بداية العام الدراسي. </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دون تاريخ الإنجاز على كل عمل يتضمنه الملف.</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رتب محتويات ملف الإنجاز وكتابة التعليقات الخاصة بكل مادة أو نشاط بمساعدة المعلم وولي الأم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3C094E7-1A8C-4677-A56F-6748814222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2</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علـم </a:t>
            </a:r>
            <a:endParaRPr b="1" lang="en-US" sz="24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لمعلم دور أساسي في التقويم الشامل لأداء المتعلم ، من خلال إعداد الأدوات اللازمة لتقويم الجوانب المعرفية والمهارية والوجدانية التي يسعى لتنميتها لدي متعلميه، وله دور كبير فى تطوير عمليات التدريس واختيار أفضل طرق التدريس، كما أنه المسئول عن تشخيص أداء المتعلم، وتدعيم نواحي القوة ومعالجة نواحي الضعف من خلال تنفيذ بعض البرامج العلاجية اللازمة، ودور المعلم يمكن أن يتمثل فيما يأت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BC3F9B9-6C6F-4FF7-9B32-6E7C2B3936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شرح نظام التقويم الشامل للمتعلم مع إعلام ولى الأمر بذلك.</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طى المتعلم فكرة عن الأنشطة والمشروعات والأعمال - سواء الأساسى أو الاختياري- والتي يمكن من خلالها إنجاز مهام التعلم الأساسية المتفق علي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لن الأنشطة المصاحبة للمادة الدراسية وإعداد خطة واضحة تتضمن اشتراك المتعلم فى </a:t>
            </a:r>
            <a:r>
              <a:rPr b="1" lang="ar-SA" sz="2400" spc="-1" strike="noStrike">
                <a:solidFill>
                  <a:srgbClr val="000000"/>
                </a:solidFill>
                <a:latin typeface="Arial"/>
              </a:rPr>
              <a:t>3</a:t>
            </a:r>
            <a:r>
              <a:rPr b="1" lang="ar-SA" sz="2400" spc="-1" strike="noStrike">
                <a:solidFill>
                  <a:srgbClr val="000000"/>
                </a:solidFill>
                <a:latin typeface="Arial"/>
              </a:rPr>
              <a:t> أنشطة على الأقل وتقييمها وحساب أعلى درجة.</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ناقش المتعلم حول كيفية اختيار الأعمال التي يضمها ملف الإنجاز ويوضح له كيفية تنظيم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حث المتعلم علي المحافظة علي الملف ، لأنه يمثل محوراً أساسياً لتقويم أدائه، مع العمل على توفير مكان مناسب وآمن لحفظ الملفات في الفصل، خاصة في بدايات التجرب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43791A-BD8E-4436-B89A-1B61C9BC39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عى المتعلم  بمن يحق لهم الاطلاع علي ملف الإنجاز بعد التنبيه عليه مسبقا، ليكون مهيئا  لعرض أعماله في أفضل صورة ممكن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لتقى بكل متعلم خلال الفصل الدراسي ( مرتان علي الأقل ) وذلك لمناقشته في محتويات ملفه؛ للتعرف علي ما تم تحقيقه من أهداف وتقديم التوجيهات التشجيعية له.</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دم المساعدات الممكنة للمتعلم في بداية إنشاء ملف الإنجاز.</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كراسات المتعلم والمشروعات وأية مهام أخرى وفقا لمتطلبات المادة الدراسي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الأعمال التحريرية والشفهية والعمل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3848435-A634-45A5-AF60-1F5D650FDF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جل نتائج ملاحظة أداءات المتعلم المعرفية والمهارية والوجدانية من خلال القراءة والكتابة، والوجدانية من خلال التفاعل مع الأقران والزملاء والمجتمع المدرس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سلوك المتعلم بالاشتراك مع الاخصائى الاجتماع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أولياء الأمور في هذا المجال.</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ترك فى تصميم وتنفيذ البرامج العلاجية فى أثناء الدراسة وفى العطلة  الصيف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7D4E1D3-55DE-466F-B372-C681860ABA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إدارة المدرسة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إدارة المدرسة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هيئة المناخ المناسب لنجاح نظام التقويم الشامل وذلك من خلال: تقديم المشورة- التأكيد على الموضوعية في تقويم المتعلم - التحقق من أن محتويات ملف الإنجاز مرتبطة بمهام التعلم الأساسية المتفق عليها وتخدم أهداف التعلم.</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قديم الدعم الفني والمادي وتذليل الصعوبات لنجاح نظام التقويم الشامل.</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الإشراف علي عمليات التقويم وضبطها والتأكد من سلامة إجراءات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400D11A-DEE5-4612-981D-39105CB4C1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4</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وجه الفنى :</a:t>
            </a:r>
            <a:endParaRPr b="1" lang="en-US" sz="2400" spc="-1" strike="noStrike">
              <a:solidFill>
                <a:srgbClr val="000000"/>
              </a:solidFill>
              <a:latin typeface="Arial"/>
            </a:endParaRPr>
          </a:p>
          <a:p>
            <a:pPr marL="270720" indent="-27072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الموجه الفنى فيما يأت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مل على تحقيق أهداف وإجراءات نظام التقويم الشامل.</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ارك فى إعداد قائمة مهام التعلم الأساسية.</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جه المعلمين في تنفيذ متطلبات المشروع.</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هم في تنفيذ المشروع بإبداء الرأي والمقترحات.</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من خلال ورش العمل والحالات والمعلمين بصفة مستمرة للنهوض بمستوى الأداء التعليم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أداء المعلمين فى تقييم الدارسين.</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D05E809-0959-434F-B691-EE95EC18AF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5</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أخصائى الاجتماعي ومشرف الأنشطة ورائد الفصل :</a:t>
            </a:r>
            <a:endParaRPr b="1" lang="en-US" sz="24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إعداد وتصميم النشاط بالمدرسة.</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شراف على التنظيمات التربوية الخاصة بمجالس الفصول.</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اكتشاف الموهبة ورعايتها.</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تقييم سلوك المتعلمين.</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ون مع إدارة المدرسة والمعلمين وأولياء الأمور فى كل ما يتعلق بالمتعل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F8AD0B2-2349-420D-83C2-A5BC2EED07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6</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ولي الأمر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ولى الأمر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طلع على أهداف وإجراءات نظام التقويم الشامل، ويبدى رأيه واقتراحاته.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ى التعلم الذاتى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ي أداء الأنشطة التي تتفق مع اهتماماته واستعداداته، في إطار التكليفات المتفق عليها.</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والمعلم لمتابعة المتعلم بصفة مستمرة، والنهوض بمستوي أدائه، على أن تتخذ إدارة المدرسة من الإجراءات ما ييسر له، ويشجعه على هذا الع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BB64C6E-D697-4208-8410-A4DD632C39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عاشرا: إعداد  ملف إنجاز المتعلم</a:t>
            </a:r>
            <a:endParaRPr b="1" lang="en-US" sz="3200" spc="-1" strike="noStrike">
              <a:solidFill>
                <a:srgbClr val="000000"/>
              </a:solidFill>
              <a:latin typeface="Arial"/>
            </a:endParaRPr>
          </a:p>
        </p:txBody>
      </p:sp>
      <p:sp>
        <p:nvSpPr>
          <p:cNvPr id="180"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fontScale="94000"/>
          </a:bodyPr>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قوم المتعلم تحت إشراف المعلم بإعداد ملف واحد لكل سنة دراسية، ويتضمن هذا الملف إنجاز العناصر الرئيسة الآتية :</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صفحة الغلاف :</a:t>
            </a:r>
            <a:r>
              <a:rPr b="1" lang="ar-EG" sz="2400" spc="-1" strike="noStrike">
                <a:solidFill>
                  <a:srgbClr val="000000"/>
                </a:solidFill>
                <a:latin typeface="Arial"/>
              </a:rPr>
              <a:t> وتشمل على البيانات التالية:</a:t>
            </a:r>
            <a:endParaRPr b="1" lang="en-US" sz="2400" spc="-1" strike="noStrike">
              <a:solidFill>
                <a:srgbClr val="000000"/>
              </a:solidFill>
              <a:latin typeface="Arial"/>
            </a:endParaRPr>
          </a:p>
          <a:p>
            <a:pPr marL="3222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زارة التربية والتعليم</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ديري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إدار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تعلم:</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صف:</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صل:</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معلم الفصل: </a:t>
            </a:r>
            <a:r>
              <a:rPr b="1" lang="ar-EG" sz="2400" spc="-1" strike="noStrike">
                <a:solidFill>
                  <a:srgbClr val="000000"/>
                </a:solidFill>
                <a:latin typeface="Arial"/>
              </a:rPr>
              <a:t> </a:t>
            </a:r>
            <a:r>
              <a:rPr b="1" lang="ar-SA" sz="2400" spc="-1" strike="noStrike">
                <a:solidFill>
                  <a:srgbClr val="000000"/>
                </a:solidFill>
                <a:latin typeface="Arial"/>
              </a:rPr>
              <a:t>.....................</a:t>
            </a:r>
            <a:r>
              <a:rPr b="1" lang="ar-EG"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يمكن وضع رسم أو تصميم مناسب يفضله المتعلم علي الغلاف الخارجي .</a:t>
            </a:r>
            <a:endParaRPr b="1" lang="en-US" sz="2400" spc="-1" strike="noStrike">
              <a:solidFill>
                <a:srgbClr val="000000"/>
              </a:solidFill>
              <a:latin typeface="Arial"/>
            </a:endParaRPr>
          </a:p>
        </p:txBody>
      </p:sp>
      <p:sp>
        <p:nvSpPr>
          <p:cNvPr id="181" name=""/>
          <p:cNvSpPr/>
          <p:nvPr/>
        </p:nvSpPr>
        <p:spPr>
          <a:xfrm>
            <a:off x="1179360" y="3500280"/>
            <a:ext cx="1462320" cy="1830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03280" y="3944880"/>
            <a:ext cx="1008000" cy="1152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صورة شخصية للمتعلم</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51288-6E59-45C9-A7B1-A10706B30F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أظهرت مؤشرات نتائج عمليات التجريب الأولى التي تمت لمشروع التقويم الشامل فى المدارس الابتدائية إيجابيات متعددة للمشروع، منها تأثيره الواضح في تحسين العملية التعليمية. وكذلك وجود بعض السلبيات التى أشار إليها المعلمون وأولياء الأمور.</a:t>
            </a:r>
            <a:endParaRPr b="1" lang="en-US" sz="2800" spc="-1" strike="noStrike">
              <a:solidFill>
                <a:srgbClr val="000000"/>
              </a:solidFill>
              <a:latin typeface="Arial"/>
            </a:endParaRPr>
          </a:p>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ناء عليه فقد تقرر تعميم تطبيق التقويم الشامل بعد إعادة صياغته وتطويره بدءا من العام الدراسي </a:t>
            </a:r>
            <a:r>
              <a:rPr b="1" lang="ar-SA" sz="2800" spc="-1" strike="noStrike">
                <a:solidFill>
                  <a:srgbClr val="000000"/>
                </a:solidFill>
                <a:latin typeface="Arial"/>
              </a:rPr>
              <a:t>2005/2006</a:t>
            </a:r>
            <a:r>
              <a:rPr b="1" lang="ar-SA" sz="2800" spc="-1" strike="noStrike">
                <a:solidFill>
                  <a:srgbClr val="000000"/>
                </a:solidFill>
                <a:latin typeface="Arial"/>
              </a:rPr>
              <a:t> في جميع المدارس الابتدائية على مستوى الجمهورية في الصفوف من الأول إلى الثالث الابتدائي.</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7F61DC3-FB11-4E7A-B699-02FEE3D64B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89000"/>
          </a:bodyPr>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تعريف بملف إنجاز المتعلم :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د المتعلم فكرة عن نفسه واهتماماته وكذلك عن ملفه توضع بعد صفحة الغلاف.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ال يمكن الاسترشاد به:</a:t>
            </a:r>
            <a:endParaRPr b="1" lang="en-US" sz="2400" spc="-1" strike="noStrike">
              <a:solidFill>
                <a:srgbClr val="000000"/>
              </a:solidFill>
              <a:latin typeface="Arial"/>
            </a:endParaRPr>
          </a:p>
          <a:p>
            <a:pPr lvl="2" marL="12884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ا اسمي ......... وفي الصف .....، أحب ...... أرجو أن تعجبكم الأعمال التي يتضمنها  ملفي.</a:t>
            </a:r>
            <a:endParaRPr b="1" lang="en-US" sz="2400" spc="-1" strike="noStrike">
              <a:solidFill>
                <a:srgbClr val="000000"/>
              </a:solidFill>
              <a:latin typeface="Arial"/>
            </a:endParaRPr>
          </a:p>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فهرس الملف:</a:t>
            </a:r>
            <a:r>
              <a:rPr b="1" lang="ar-SA" sz="2400" spc="-1" strike="noStrike">
                <a:solidFill>
                  <a:srgbClr val="009000"/>
                </a:solidFill>
                <a:latin typeface="Arial"/>
                <a:ea typeface="PT Bold Heading"/>
              </a:rPr>
              <a:t>	</a:t>
            </a:r>
            <a:r>
              <a:rPr b="1" lang="ar-SA" sz="2400" spc="-1" strike="noStrike">
                <a:solidFill>
                  <a:srgbClr val="009000"/>
                </a:solidFill>
                <a:latin typeface="Arial"/>
                <a:ea typeface="PT Bold Heading"/>
              </a:rPr>
              <a:t>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جل المتعلم بمعاونة المعلم أو ولي الأمر بطريقة منتظمة مكونات ملفه بنفسه ويرتبها بما يتناسب مع المحاور الرئيسة التي تتضمن الآتي :-</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صفحة الغلاف.</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تعريف المتعلم بنفسه.</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هام التعلم الأساسية.</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مهام التعلم الاختيارية.</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تائج الاختبارات.</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أفضل الأعمال التي أداها المتعلم.</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خــرى</a:t>
            </a:r>
            <a:r>
              <a:rPr b="1" lang="ar-EG" sz="2400" spc="-1" strike="noStrike">
                <a:solidFill>
                  <a:srgbClr val="000000"/>
                </a:solidFill>
                <a:latin typeface="Arial"/>
              </a:rPr>
              <a:t>.</a:t>
            </a:r>
            <a:r>
              <a:rPr b="1" lang="ar-SA"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02EB02-1E68-4A47-90D1-16D6779B20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قائمة بمهام التعلم الأساسية والاختيارية</a:t>
            </a:r>
            <a:r>
              <a:rPr b="1" lang="ar-EG" sz="2800" spc="-1" strike="noStrike">
                <a:solidFill>
                  <a:srgbClr val="f02e00"/>
                </a:solidFill>
                <a:latin typeface="Arial"/>
                <a:ea typeface="PT Bold Heading"/>
              </a:rPr>
              <a:t>:</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ساسية: يتفق عليها المعلم الأول والمعلم ، لكل صف في بداية العام الدراسي تحت  إشراف الموجه.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ختيارية : يقترح المعلم مجموعة من التكليفات يمكن للمتعلم الاختيار من بينها وفق ميوله واهتماماته ، وقدراته.</a:t>
            </a:r>
            <a:endParaRPr b="1" lang="en-US" sz="2800" spc="-1" strike="noStrike">
              <a:solidFill>
                <a:srgbClr val="000000"/>
              </a:solidFill>
              <a:latin typeface="Arial"/>
            </a:endParaRPr>
          </a:p>
          <a:p>
            <a:pPr lvl="1" marL="85176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نتائج الأعمال التحريرية والشفهية :</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شمل نتائج بعض الأعمال الدورية التحريرية والشفهية. </a:t>
            </a:r>
            <a:endParaRPr b="1" lang="en-US" sz="2800" spc="-1" strike="noStrike">
              <a:solidFill>
                <a:srgbClr val="000000"/>
              </a:solidFill>
              <a:latin typeface="Arial"/>
            </a:endParaRPr>
          </a:p>
          <a:p>
            <a:pPr lvl="1" marL="85176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3045580-2181-4001-907B-A249958AB1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02e00"/>
                </a:solidFill>
                <a:latin typeface="Arial"/>
                <a:ea typeface="PT Bold Heading"/>
              </a:rPr>
              <a:t>6</a:t>
            </a:r>
            <a:r>
              <a:rPr b="1" lang="ar-EG" sz="2000" spc="-1" strike="noStrike">
                <a:solidFill>
                  <a:srgbClr val="f02e00"/>
                </a:solidFill>
                <a:latin typeface="Arial"/>
                <a:ea typeface="PT Bold Heading"/>
              </a:rPr>
              <a:t>- نتائج تعليقات أداء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أ- </a:t>
            </a:r>
            <a:r>
              <a:rPr b="1" lang="ar-SA" sz="2000" spc="-1" strike="noStrike">
                <a:solidFill>
                  <a:srgbClr val="000000"/>
                </a:solidFill>
                <a:latin typeface="Arial"/>
              </a:rPr>
              <a:t>تعليقات المعلم التى تبين تدرج نمو المهارات الأساسية (القراءة والكتابة والرياضيات والكمبيوتر) والمهارات العقلية والعملية لدي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 - نتائج تعليق تطور الجوانب الوجدانية والمهارية لدي المتعلم وذلك من خلال:</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مختصر لسلوك المتعلم الذى يكشف عن اتجاهاته وقيمه وذلك من</a:t>
            </a:r>
            <a:r>
              <a:rPr b="1" lang="ar-EG" sz="2000" spc="-1" strike="noStrike">
                <a:solidFill>
                  <a:srgbClr val="000000"/>
                </a:solidFill>
                <a:latin typeface="Arial"/>
              </a:rPr>
              <a:t> </a:t>
            </a:r>
            <a:r>
              <a:rPr b="1" lang="ar-SA" sz="2000" spc="-1" strike="noStrike">
                <a:solidFill>
                  <a:srgbClr val="000000"/>
                </a:solidFill>
                <a:latin typeface="Arial"/>
              </a:rPr>
              <a:t>خلال تعامله مع أقرانه ومعلميه</a:t>
            </a:r>
            <a:r>
              <a:rPr b="1" lang="ar-EG" sz="2000" spc="-1" strike="noStrike">
                <a:solidFill>
                  <a:srgbClr val="000000"/>
                </a:solidFill>
                <a:latin typeface="Arial"/>
              </a:rPr>
              <a:t>.</a:t>
            </a:r>
            <a:r>
              <a:rPr b="1" lang="ar-SA" sz="2000" spc="-1" strike="noStrike">
                <a:solidFill>
                  <a:srgbClr val="000000"/>
                </a:solidFill>
                <a:latin typeface="Arial"/>
              </a:rPr>
              <a:t> </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جـ-  أفضل الأعمال التحريرية للمتعلم كل شهر مثل:</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إملاء والخط والتعبير.</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تلخيص بعض الموضوعات (لتلاميذ الصف الثالث الابتدائي). </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عينة من إجابات المتعلم عن بعض مسائل وأسئلة المواد المختلفة.</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 كراسات المتعلم</a:t>
            </a:r>
            <a:r>
              <a:rPr b="1" lang="ar-EG" sz="2000" spc="-1" strike="noStrike">
                <a:solidFill>
                  <a:srgbClr val="000000"/>
                </a:solidFill>
                <a:latin typeface="Arial"/>
              </a:rPr>
              <a:t>.</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شترط وضع جميع الأعمال التحريرية (مثل كراسات المتعلم ) في الملف، ويمكن أن ينوه المتعلم عنها كتابة بأسلوبه، ويعلق عليها المعلم وولى الأمر إن رغب</a:t>
            </a:r>
            <a:r>
              <a:rPr b="1" lang="ar-EG"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68A376F-1883-4F18-8EF8-55B7387B68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84000"/>
          </a:bodyPr>
          <a:p>
            <a:pPr marL="447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كونات اختيارية وتتضمن :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جموعة متنوعة من الأنشطة المرتبطة بالمادة التي تحقق أهداف المنهج ويختار المتعلم منها عملين مختلفين، مثل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صور عن رحلات وزيارات المتعلم – أسماء وعناوين لبعض القصص التي قرأها – بعض الرسومات التي قام برسمها - بعض العمليات الحسابية والأشكال- كتابة كلمات معينة – حوار مع شخص معين – تسجيل ملاحظات المتعلم عن نبات أثناء فترة نموه، وكذلك المشروعات التي يقوم بها المتعلم أو أية أنشطة تعليمية أخرى مع الآخرين فرادى وجماعات).</a:t>
            </a:r>
            <a:endParaRPr b="1" lang="en-US" sz="2800" spc="-1" strike="noStrike">
              <a:solidFill>
                <a:srgbClr val="000000"/>
              </a:solidFill>
              <a:latin typeface="Arial"/>
            </a:endParaRPr>
          </a:p>
          <a:p>
            <a:pPr marL="4478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47840" indent="-447840" algn="just" rtl="1">
              <a:lnSpc>
                <a:spcPct val="90000"/>
              </a:lnSpc>
              <a:spcBef>
                <a:spcPts val="700"/>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ملاحظة : يجب كتابة التاريخ علي كل ورقة تدرج بالملف.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C8450A7-1739-498D-AE7C-F4E30D4BC1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498"/>
                </a:solidFill>
                <a:latin typeface="Arial"/>
              </a:rPr>
              <a:t>حادى عشر:  ضوابط عامة لتقويم أداء المتعلم</a:t>
            </a:r>
            <a:br>
              <a:rPr sz="3200"/>
            </a:br>
            <a:endParaRPr b="1" lang="en-US" sz="3200" spc="-1" strike="noStrike">
              <a:solidFill>
                <a:srgbClr val="000000"/>
              </a:solidFill>
              <a:latin typeface="Arial"/>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3000"/>
          </a:bodyPr>
          <a:p>
            <a:pPr marL="284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 </a:t>
            </a: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a:t>
            </a:r>
            <a:r>
              <a:rPr b="1" lang="ar-SA" sz="2400" spc="-1" strike="noStrike">
                <a:solidFill>
                  <a:srgbClr val="009000"/>
                </a:solidFill>
                <a:latin typeface="Arial"/>
                <a:cs typeface="PT Bold Heading"/>
              </a:rPr>
              <a:t>ملف الإنجاز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تم تقويم الملف من خلال لجنة مكونة من معلم الفصل والمدرس الأول للصف  تحت إشراف إدارة المدرسة وفقا لقواعد يتم الاتفاق عليها ، وتكون محاور الملف ما يلي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كمال مهام التعلم الأساسية المتفق عليها في بداية الفصل الدراسي بين جميع أطراف العملية التعليمية لكل صف دراسي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ويم لمهام التعلم الأساسية فى ضوء مقاييس أداء لكل مهمة مثل:</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استكمال المهمة باستقلالية من خلال عمل جماعى بدون أية أخطاء. </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تمام الجانب الأكبر من المهمة، ويحتاج مزيدا من التدريب.</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نوع وتعدد مهام التعلم الأساسية والاختيارية التي قام المتعلم بتنفيذها، تحت إشراف المدرسة.</a:t>
            </a:r>
            <a:endParaRPr b="1" lang="en-US" sz="2400" spc="-1" strike="noStrike">
              <a:solidFill>
                <a:srgbClr val="000000"/>
              </a:solidFill>
              <a:latin typeface="Arial"/>
            </a:endParaRPr>
          </a:p>
          <a:p>
            <a:pPr marL="28440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FC7181-D05F-4AFB-98AF-41A58CE2E8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براز اهتمامات وميول المتعلم.</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لسل الأعمال وتتابعها.</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تعلم على أعماله، ومستوى مهارته في تقويم ذاته.</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علم الإيجابية على أعمال المتعلم. </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ولي الأمر على أعمال المتعلم.</a:t>
            </a:r>
            <a:endParaRPr b="1" lang="en-US" sz="2400" spc="-1" strike="noStrike">
              <a:solidFill>
                <a:srgbClr val="000000"/>
              </a:solidFill>
              <a:latin typeface="Arial"/>
            </a:endParaRPr>
          </a:p>
          <a:p>
            <a:pPr lvl="2" marL="11084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اختبار نهاية الفصل الدراسي   :</a:t>
            </a:r>
            <a:r>
              <a:rPr b="1" lang="ar-SA" sz="2400" spc="-1" strike="noStrike">
                <a:solidFill>
                  <a:srgbClr val="000000"/>
                </a:solidFill>
                <a:latin typeface="Arial"/>
              </a:rPr>
              <a:t> </a:t>
            </a:r>
            <a:endParaRPr b="1" lang="en-US" sz="2400" spc="-1" strike="noStrike">
              <a:solidFill>
                <a:srgbClr val="000000"/>
              </a:solidFill>
              <a:latin typeface="Arial"/>
            </a:endParaRPr>
          </a:p>
          <a:p>
            <a:pPr lvl="1" marL="720720" indent="-277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يحصل المتعلم على نسبة </a:t>
            </a:r>
            <a:r>
              <a:rPr b="1" lang="ar-SA" sz="2400" spc="-1" strike="noStrike">
                <a:solidFill>
                  <a:srgbClr val="000000"/>
                </a:solidFill>
                <a:latin typeface="Arial"/>
              </a:rPr>
              <a:t>30</a:t>
            </a:r>
            <a:r>
              <a:rPr b="1" lang="ar-SA" sz="2400" spc="-1" strike="noStrike">
                <a:solidFill>
                  <a:srgbClr val="000000"/>
                </a:solidFill>
                <a:latin typeface="Arial"/>
              </a:rPr>
              <a:t>% على الأقل من درجة الاختبار النهائى لكل من الفصل الدراسى الأول والثان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2FF5E9-1C4E-4082-AA18-90EF6A45B23E}"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قد كان للمعلمين وأولياء الأمور وجميع العاملين في العملية التعليمية دور أساسي في نجاح التطبيق التجريبي للمشروع، وأسهمت آراؤهم ومقترحاتهم في تطوير هذا الدليل – الذى بين أيدينا - بما يحقق أهداف المشروع ويتناسب مع متطلبات تطوير التعليم.</a:t>
            </a:r>
            <a:endParaRPr b="1" lang="en-US" sz="2400" spc="-1" strike="noStrike">
              <a:solidFill>
                <a:srgbClr val="000000"/>
              </a:solidFill>
              <a:latin typeface="Arial"/>
            </a:endParaRPr>
          </a:p>
          <a:p>
            <a:pPr marL="284400" indent="-284400" algn="just" rtl="1">
              <a:spcBef>
                <a:spcPts val="601"/>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وفيما يلي عرض لدليل التقويم التربوى الشامل لمرحلة التعليم الأساسى للصفوف من الأول إلى الثالث الابتدائى ليكون مرشدا لجميع الأطراف المعنية بالعملية التعليمية في تنفيذ إجراءات ذلك النوع من التقويم.</a:t>
            </a:r>
            <a:endParaRPr b="1" lang="en-US" sz="2400" spc="-1" strike="noStrike">
              <a:solidFill>
                <a:srgbClr val="000000"/>
              </a:solidFill>
              <a:latin typeface="Arial"/>
            </a:endParaRPr>
          </a:p>
          <a:p>
            <a:pPr marL="284400" indent="-28440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والمأمول أن يتم تطبيق التقويم على أكمل وجه وأن يشارك كل المستفيدين والمعنيين بالتعليم من تسجيل ملاحظاتهم النابعة من التطبيق لدراستها والاستفادة منها كتغذية راجعة لتطوير التقويم التربوى الشامل للمساهمة فى تطوير العملية التعليمية.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B8F62F-4507-4C6A-A51C-C0963583D3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32d2"/>
                </a:solidFill>
                <a:latin typeface="Arial"/>
              </a:rPr>
              <a:t>أولأ: المصطلحات والمفاهيم</a:t>
            </a:r>
            <a:endParaRPr b="1"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هذا الدليل بعض المفردات الاصطلاحية والتى تعبر عن مفاهيم نورد أهمها فيما يل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تقويم الشامل: </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نظام يقوم جميع جوانب التعلم: المعرفية والمهارية والوجدانية لدى المتعلم.</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جانب المعرف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يقصد به كل ما يتعلمه المتعلم من معارف وحقائق ومفاهيم ومعلومات، ويقاس هذا الجانب بالاختبارات التحصيلية بكافة أنواعها (تحريرية – شفه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E5AA220-71AE-4688-850D-2775FD965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مهار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هارات التي تتصل بالجانب الأدائى أو العملي،  مثل رسم الخرائط والصور والأشكال الهندسية– استخدام بعض الأجهزة – كتابة موضوع تعبير وغيرها ....  ويقاس هذا الجانب باستخدام اختبارات يطلق عليها اختبارات الأداء أو بطاقات الملاحظة، حيث يتم تقويم المهارة بطريقتين هما:</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ناتج النهائي للأداء الذي يقوم به المتعلم . </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خطوات التى يؤديها المتعلم للوصول إلى الناتج النهائ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وجداني</a:t>
            </a:r>
            <a:r>
              <a:rPr b="1" i="1" lang="ar-SA"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شاعر والعواطف والانفعالات النفسية مثل الميول والاتجاهات والقيم. ويقاس هذا الجانب باستخدام العديد من الأدوات مثل (الملاحظة والتقارير المكتوبة عن المتعلم وتحليل أعمال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A4CF0D-7633-49EB-A4D8-009371F029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لف إنجاز المتعلم: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تجميع هادف ومنظم لأعمال المتعلم وإنجازاته في مجال دراسي معين، خلال فترة زمنية محددة ، بغرض تقويم أدائه.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أعمال المتعلم:</a:t>
            </a:r>
            <a:r>
              <a:rPr b="1" lang="ar-SA" sz="2800" spc="-1" strike="noStrike">
                <a:solidFill>
                  <a:srgbClr val="fe3000"/>
                </a:solidFill>
                <a:latin typeface="Arial"/>
                <a:ea typeface="PT Bold Heading"/>
              </a:rPr>
              <a:t>	</a:t>
            </a:r>
            <a:r>
              <a:rPr b="1" lang="ar-SA" sz="2800" spc="-1" strike="noStrike">
                <a:solidFill>
                  <a:srgbClr val="fe3000"/>
                </a:solidFill>
                <a:latin typeface="Arial"/>
                <a:ea typeface="PT Bold Heading"/>
              </a:rPr>
              <a:t>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كل ما يقوم به المتعلم من تكليفات وأعمال تحريرية وأداءات مختلفة أثناء الحصة وخارجها، وكذلك إنتاج المتعلم وإسهاماته في الأنشطة والمشروعات الفردية والجماعية في المجالات الدراسية المختلفة .......الخ.</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3D4892C-E57D-4BFE-90D1-59E6EEA078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3:47:37Z</dcterms:created>
  <dc:creator>AIO</dc:creator>
  <dc:description/>
  <dc:language>en-US</dc:language>
  <cp:lastModifiedBy>WEBAdmin</cp:lastModifiedBy>
  <dcterms:modified xsi:type="dcterms:W3CDTF">2006-05-22T11:21:36Z</dcterms:modified>
  <cp:revision>71</cp:revision>
  <dc:subject/>
  <dc:title>Orange Lady Marmalade Fade</dc:title>
</cp:coreProperties>
</file>