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A87A-F76A-4BAA-B120-838BA7F6A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B857-B972-4178-94DF-B72EEF14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85DC-6C16-49DA-B66E-0477BC8CA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4ECA-4FF5-476A-82DD-A2BCCA6B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B761-89FC-47D5-B475-B146FF553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F6C5-98DA-4B27-A5C8-634C393F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D532-30C5-4023-A5B4-384D757A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2494-927E-413F-9C95-E32F3873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0F6D-6306-4000-966B-7472D10B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55B5-C8C2-4272-91FA-5A67D018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CD06-1071-4067-BEEE-07D68A64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C887-33BB-485B-9783-46E24DF0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7FE8-DC15-47E4-96B1-B6D18C57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FBE6-932E-4C05-A933-B330C91C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478C-2FF2-41AF-8BA6-D8625BAF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0B95-D5AD-4702-8DE8-786C48DDD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F892-58C4-4E7D-AE7B-449EB228C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4977-07C7-4A25-9DD5-7EFAB965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FAF2-0517-4FD8-97FA-7B981CCA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0BEA-3AE3-4D64-B667-71853456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AE81-8CED-455C-AFDC-38C75C0F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C924-DCE7-42F5-B398-A1E35FFC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E925-BB58-429C-B92F-03711961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B563-176B-4397-A979-C35B9EA4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2D5B-1FC3-461C-848B-9350C33C5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B37D-B958-45CC-B142-60C32D193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image" Target="../media/image6.jpeg"/><Relationship Id="rId22" Type="http://schemas.openxmlformats.org/officeDocument/2006/relationships/image" Target="../media/image6.jpeg"/><Relationship Id="rId23" Type="http://schemas.openxmlformats.org/officeDocument/2006/relationships/image" Target="../media/image6.jpeg"/><Relationship Id="rId24" Type="http://schemas.openxmlformats.org/officeDocument/2006/relationships/image" Target="../media/image6.jpeg"/><Relationship Id="rId25" Type="http://schemas.openxmlformats.org/officeDocument/2006/relationships/image" Target="../media/image6.jpeg"/><Relationship Id="rId26" Type="http://schemas.openxmlformats.org/officeDocument/2006/relationships/image" Target="../media/image6.jpeg"/><Relationship Id="rId27" Type="http://schemas.openxmlformats.org/officeDocument/2006/relationships/image" Target="../media/image6.jpeg"/><Relationship Id="rId28" Type="http://schemas.openxmlformats.org/officeDocument/2006/relationships/image" Target="../media/image6.jpeg"/><Relationship Id="rId29" Type="http://schemas.openxmlformats.org/officeDocument/2006/relationships/image" Target="../media/image6.jpeg"/><Relationship Id="rId30" Type="http://schemas.openxmlformats.org/officeDocument/2006/relationships/image" Target="../media/image6.jpeg"/><Relationship Id="rId3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image" Target="../media/image6.jpeg"/><Relationship Id="rId22" Type="http://schemas.openxmlformats.org/officeDocument/2006/relationships/image" Target="../media/image6.jpeg"/><Relationship Id="rId23" Type="http://schemas.openxmlformats.org/officeDocument/2006/relationships/image" Target="../media/image6.jpeg"/><Relationship Id="rId24" Type="http://schemas.openxmlformats.org/officeDocument/2006/relationships/image" Target="../media/image6.jpeg"/><Relationship Id="rId25" Type="http://schemas.openxmlformats.org/officeDocument/2006/relationships/image" Target="../media/image6.jpeg"/><Relationship Id="rId26" Type="http://schemas.openxmlformats.org/officeDocument/2006/relationships/image" Target="../media/image6.jpeg"/><Relationship Id="rId27" Type="http://schemas.openxmlformats.org/officeDocument/2006/relationships/image" Target="../media/image6.jpeg"/><Relationship Id="rId28" Type="http://schemas.openxmlformats.org/officeDocument/2006/relationships/image" Target="../media/image6.jpeg"/><Relationship Id="rId29" Type="http://schemas.openxmlformats.org/officeDocument/2006/relationships/image" Target="../media/image6.jpeg"/><Relationship Id="rId30" Type="http://schemas.openxmlformats.org/officeDocument/2006/relationships/image" Target="../media/image6.jpeg"/><Relationship Id="rId31" Type="http://schemas.openxmlformats.org/officeDocument/2006/relationships/image" Target="../media/image6.jpeg"/><Relationship Id="rId32" Type="http://schemas.openxmlformats.org/officeDocument/2006/relationships/image" Target="../media/image6.jpeg"/><Relationship Id="rId33" Type="http://schemas.openxmlformats.org/officeDocument/2006/relationships/image" Target="../media/image6.jpeg"/><Relationship Id="rId3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90600" y="4419720"/>
            <a:ext cx="2624040" cy="187776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6633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411280" y="260280"/>
            <a:ext cx="4273560" cy="744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606760" y="3044880"/>
            <a:ext cx="36576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   الإخراج على الحاس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 الاستاذ / عبدالله محمد علي العمري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إدارة التقويم الشامل بمحافظة المخوا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14600" y="181296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6000" spc="-1" strike="noStrike">
                <a:solidFill>
                  <a:srgbClr val="a1bd69"/>
                </a:solidFill>
                <a:latin typeface="Comic Sans MS"/>
              </a:rPr>
              <a:t>التعلم التعاون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238880" cy="668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096920"/>
            <a:ext cx="767736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694b6"/>
                </a:solidFill>
                <a:latin typeface="Comic Sans MS"/>
              </a:rPr>
              <a:t>المادة العلمية ( </a:t>
            </a:r>
            <a:r>
              <a:rPr b="1" lang="ar-SA" sz="2400" spc="-1" strike="noStrike">
                <a:solidFill>
                  <a:srgbClr val="3694b6"/>
                </a:solidFill>
                <a:latin typeface="Comic Sans MS"/>
              </a:rPr>
              <a:t>1/1</a:t>
            </a:r>
            <a:r>
              <a:rPr b="1" lang="ar-SA" sz="2400" spc="-1" strike="noStrike">
                <a:solidFill>
                  <a:srgbClr val="3694b6"/>
                </a:solidFill>
                <a:latin typeface="Comic Sans MS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8000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Comic Sans MS"/>
              </a:rPr>
              <a:t>تفاعل منظم بين مجموعة محددة من الطلاب لتحقيق مهمة مدروسة في زمن معلوم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2640" y="1174320"/>
            <a:ext cx="762012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694b6"/>
                </a:solidFill>
                <a:latin typeface="Symbol"/>
                <a:cs typeface="Symbol"/>
              </a:rPr>
              <a:t>تابع</a:t>
            </a:r>
            <a:r>
              <a:rPr b="1" lang="ar-SA" sz="24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2400" spc="-1" strike="noStrike">
                <a:solidFill>
                  <a:srgbClr val="3694b6"/>
                </a:solidFill>
                <a:latin typeface="Symbol"/>
                <a:cs typeface="Symbol"/>
              </a:rPr>
              <a:t>المادة</a:t>
            </a:r>
            <a:r>
              <a:rPr b="1" lang="ar-SA" sz="24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2400" spc="-1" strike="noStrike">
                <a:solidFill>
                  <a:srgbClr val="3694b6"/>
                </a:solidFill>
                <a:latin typeface="Symbol"/>
                <a:cs typeface="Symbol"/>
              </a:rPr>
              <a:t>العلمية</a:t>
            </a:r>
            <a:r>
              <a:rPr b="1" lang="ar-SA" sz="2400" spc="-1" strike="noStrike">
                <a:solidFill>
                  <a:srgbClr val="3694b6"/>
                </a:solidFill>
                <a:latin typeface="Symbol"/>
                <a:ea typeface="Symbol"/>
              </a:rPr>
              <a:t>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8000"/>
                </a:solidFill>
                <a:latin typeface="Symbol"/>
                <a:cs typeface="Symbol"/>
              </a:rPr>
              <a:t>أنواع</a:t>
            </a:r>
            <a:r>
              <a:rPr b="1" lang="ar-SA" sz="3600" spc="-1" strike="noStrike">
                <a:solidFill>
                  <a:srgbClr val="008000"/>
                </a:solidFill>
                <a:latin typeface="Symbol"/>
                <a:ea typeface="Symbol"/>
              </a:rPr>
              <a:t></a:t>
            </a:r>
            <a:r>
              <a:rPr b="1" lang="ar-SA" sz="3600" spc="-1" strike="noStrike">
                <a:solidFill>
                  <a:srgbClr val="008000"/>
                </a:solidFill>
                <a:latin typeface="Symbol"/>
                <a:cs typeface="Symbol"/>
              </a:rPr>
              <a:t>التفاع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معلم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مع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طال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طالب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مع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طال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طالب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مع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مادة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علم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ff"/>
                </a:solidFill>
                <a:latin typeface="Symbol"/>
                <a:cs typeface="Symbol"/>
              </a:rPr>
              <a:t>ملاحظ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يبقى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تعلم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تقليدي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يركز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على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تفاعل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طالب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مع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معلم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من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جهة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والمادة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دراسية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من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جهة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أخرى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مغفلاً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قضية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تفاعل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طلاب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فيما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بينهم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،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وهذا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بالتأكيد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تكفله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مجموعات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تعلم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تعاوني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681200"/>
            <a:ext cx="7620120" cy="41148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نشاط ( 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1749600"/>
            <a:ext cx="1687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20559000">
            <a:off x="1857600" y="2555640"/>
            <a:ext cx="568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>
                <a:solidFill>
                  <a:srgbClr val="ff0000"/>
                </a:solidFill>
                <a:latin typeface="Times New Roman"/>
              </a:rPr>
              <a:t>ورشة 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>
                <a:solidFill>
                  <a:srgbClr val="660066"/>
                </a:solidFill>
                <a:latin typeface="Times New Roman"/>
              </a:rPr>
              <a:t>                   ما هي أهمية إيجاد علاقات تعليمية وإنسانية بين الطلاب داخل الصف ؟ وما نتائج ذلك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58560" y="1125360"/>
            <a:ext cx="762012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المادة العلمية (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1/2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0" algn="ctr" rtl="1">
              <a:lnSpc>
                <a:spcPct val="1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8000"/>
                </a:solidFill>
                <a:latin typeface="Comic Sans MS"/>
              </a:rPr>
              <a:t>أهمية علاقات القرنا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التطوير المعرف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التطبيع الاجتماعي للفر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8000"/>
                </a:solidFill>
                <a:latin typeface="Comic Sans MS"/>
              </a:rPr>
              <a:t>توضي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يتعلم الفرد سواء أكان طفلاً أو بالغاً أثناء تفاعله مع مجموعة القرناء وبشكل مباشر معلومات واتجاهات وقيم ومهارات يصعب الحصول عليها مجتمعة من المعلم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يتيح التفاعل مع القرناء للمتعلم تحديد السلوكيات </a:t>
            </a:r>
            <a:r>
              <a:rPr b="1" lang="ar-SA" sz="1800" spc="-1" strike="noStrike">
                <a:solidFill>
                  <a:srgbClr val="660066"/>
                </a:solidFill>
                <a:latin typeface="Comic Sans MS"/>
                <a:cs typeface="Times New Roman (Arabic)"/>
              </a:rPr>
              <a:t>الإ</a:t>
            </a: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يجابية والاجتماعية وممارستها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تولد لدى المتعلم الكيفية المثلى في إدارة الوق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المجموعة تقوم بدورها في تطوير حرية الإدارة والثقة والاستقلالية الإيجابية لدى الفرد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مجموعة القرناء تحمي الفرد من </a:t>
            </a:r>
            <a:r>
              <a:rPr b="1" lang="ar-SA" sz="1800" spc="-1" strike="noStrike">
                <a:solidFill>
                  <a:srgbClr val="660066"/>
                </a:solidFill>
                <a:latin typeface="Comic Sans MS"/>
                <a:cs typeface="Times New Roman (Arabic)"/>
              </a:rPr>
              <a:t>إ</a:t>
            </a: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مكانات الوحدة والعزلة والاكتئاب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8000"/>
                </a:solidFill>
                <a:latin typeface="Comic Sans MS"/>
              </a:rPr>
              <a:t>التعلم التعاوني يرتبط ارتباطاً إيجابياً بعدد من العوامل الخاصة بالصحة النفسية ، مثل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النضج الانفعالي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العلاقات الاجتماعية الإيجابي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ذاتية الفرد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ثقة الفرد في الآخرين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163160"/>
            <a:ext cx="762012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تابع المادة العلمية ( 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1/2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8000"/>
                </a:solidFill>
                <a:latin typeface="Times New Roman"/>
              </a:rPr>
              <a:t>نتائج تفاعل الطلاب فيما بينهم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زيادة تحصيل المتعلم بدرجة عالي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تدريب الطلاب على استخدام استراتيجيات التعقل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إثارة دافعية الطالب تجاه التعلم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تطوير العلاقات الإنسانية بين الطلاب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يزيد من ثقة الطالب في ذاته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إكساب الطلاب المهارات اللازمة لإدارة التفاعلات الشخصي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يعطي قيمة للمادة المراد دراستها لدى المعلم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إضــــاء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6600"/>
                </a:solidFill>
                <a:latin typeface="Times New Roman"/>
              </a:rPr>
              <a:t>(( يمكن للطلاب أن يحققوا استفادة أكبر من التعليم عندما يقومون بتعليم بعضهم البعض )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125000"/>
            <a:ext cx="76201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ff0000"/>
                </a:solidFill>
                <a:latin typeface="Times New Roman"/>
              </a:rPr>
              <a:t>نشاط ( </a:t>
            </a:r>
            <a:r>
              <a:rPr b="1" i="1" lang="ar-SA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ar-SA" sz="28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1" i="1" lang="ar-SA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ar-SA" sz="2800" spc="-1" strike="noStrike">
                <a:solidFill>
                  <a:srgbClr val="ff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1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>
                <a:solidFill>
                  <a:srgbClr val="000000"/>
                </a:solidFill>
                <a:latin typeface="Times New Roman"/>
              </a:rPr>
              <a:t>ناقش معن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0000"/>
                </a:solidFill>
                <a:uFillTx/>
                <a:latin typeface="Times New Roman"/>
              </a:rPr>
              <a:t>عناصر التعلم التعاوني الرئيسية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العمل بروح الفري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99"/>
                </a:solidFill>
                <a:latin typeface="Times New Roman"/>
              </a:rPr>
              <a:t>ينبغي على طلاب المجموعة الواحدة أن يدركوا أن عليهم أن يستجيبوا معاً لكي ينجوا من الغرق ( التفاعل المتبادل 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0000"/>
                </a:solidFill>
                <a:uFillTx/>
                <a:latin typeface="Times New Roman"/>
              </a:rPr>
              <a:t>ويمكن أن يتحقق هذا الاقتناع من خلال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99"/>
                </a:solidFill>
                <a:latin typeface="Times New Roman"/>
              </a:rPr>
              <a:t>تقسيم المواد والمصادر والمعلومات بين أعضاء المجموع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99"/>
                </a:solidFill>
                <a:latin typeface="Times New Roman"/>
              </a:rPr>
              <a:t>تحقيق مهمة مشتركة لجميع أعضاء المجموع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99"/>
                </a:solidFill>
                <a:latin typeface="Times New Roman"/>
              </a:rPr>
              <a:t>تحديد أدوار مختلفة للطلاب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99"/>
                </a:solidFill>
                <a:latin typeface="Times New Roman"/>
              </a:rPr>
              <a:t>تعيين جوائز مشتركة لأعضاء المجموع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تطوير التفاعل اللفظي ( وجهاً لوجه ) بين الطلاب في الصف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المسؤولية الفردية عن التفوق في المادة حيث يكون كل عضو في المجموعة مسؤولاً عن رفع مستواه التحصيلي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استخدام مهارات إدارة المجموعة والمهارات الشخصية بشكل مناسب من قبل المتعلم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42920" y="1073160"/>
            <a:ext cx="16876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620120" cy="4751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efde3"/>
                </a:solidFill>
                <a:latin typeface="Times New Roman"/>
              </a:rPr>
              <a:t>نشاط ( </a:t>
            </a:r>
            <a:r>
              <a:rPr b="1" i="1" lang="ar-SA" sz="3200" spc="-1" strike="noStrike">
                <a:solidFill>
                  <a:srgbClr val="fefde3"/>
                </a:solidFill>
                <a:latin typeface="Times New Roman"/>
              </a:rPr>
              <a:t>1</a:t>
            </a:r>
            <a:r>
              <a:rPr b="1" i="1" lang="ar-SA" sz="3200" spc="-1" strike="noStrike">
                <a:solidFill>
                  <a:srgbClr val="fefde3"/>
                </a:solidFill>
                <a:latin typeface="Times New Roman"/>
              </a:rPr>
              <a:t>/ </a:t>
            </a:r>
            <a:r>
              <a:rPr b="1" i="1" lang="ar-SA" sz="3200" spc="-1" strike="noStrike">
                <a:solidFill>
                  <a:srgbClr val="fefde3"/>
                </a:solidFill>
                <a:latin typeface="Times New Roman"/>
              </a:rPr>
              <a:t>4</a:t>
            </a:r>
            <a:r>
              <a:rPr b="1" i="1" lang="ar-SA" sz="3200" spc="-1" strike="noStrike">
                <a:solidFill>
                  <a:srgbClr val="fefde3"/>
                </a:solidFill>
                <a:latin typeface="Times New Roman"/>
              </a:rPr>
              <a:t> )</a:t>
            </a:r>
            <a:r>
              <a:rPr b="1" lang="ar-SA" sz="2000" spc="-1" strike="noStrike">
                <a:solidFill>
                  <a:srgbClr val="fefde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بعد تعرفك على التعلم التعاون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 والوقوف على عناصره 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حاول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أ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ن تستنتج أهم الفروق بين التعل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 التعاوني والتعلم التقليدي الفردي 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42920" y="1084320"/>
            <a:ext cx="1687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1320" y="1066320"/>
            <a:ext cx="76197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 algn="r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694b6"/>
                </a:solidFill>
                <a:latin typeface="Comic Sans MS"/>
              </a:rPr>
              <a:t>المادة العلمية ( </a:t>
            </a:r>
            <a:r>
              <a:rPr b="1" lang="ar-SA" sz="2200" spc="-1" strike="noStrike">
                <a:solidFill>
                  <a:srgbClr val="3694b6"/>
                </a:solidFill>
                <a:latin typeface="Comic Sans MS"/>
              </a:rPr>
              <a:t>1/4</a:t>
            </a:r>
            <a:r>
              <a:rPr b="1" lang="ar-SA" sz="2200" spc="-1" strike="noStrike">
                <a:solidFill>
                  <a:srgbClr val="3694b6"/>
                </a:solidFill>
                <a:latin typeface="Comic Sans MS"/>
              </a:rPr>
              <a:t> )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 algn="r" rtl="1">
              <a:lnSpc>
                <a:spcPct val="2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008000"/>
                </a:solidFill>
                <a:uFillTx/>
                <a:latin typeface="Times New Roman"/>
              </a:rPr>
              <a:t>الفرق بين التعلم التعاوني الجماعي والتعلم التقليدي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66"/>
                </a:solidFill>
                <a:latin typeface="Times New Roman"/>
              </a:rPr>
              <a:t>التفاعل الإيجابي : يقوم التعلم التعاوني على </a:t>
            </a:r>
            <a:r>
              <a:rPr b="1" lang="ar-SA" sz="2200" spc="-1" strike="noStrike">
                <a:solidFill>
                  <a:srgbClr val="660066"/>
                </a:solidFill>
                <a:latin typeface="Times New Roman"/>
                <a:cs typeface="Times New Roman (Arabic)"/>
              </a:rPr>
              <a:t>أ</a:t>
            </a:r>
            <a:r>
              <a:rPr b="1" lang="ar-SA" sz="2200" spc="-1" strike="noStrike">
                <a:solidFill>
                  <a:srgbClr val="660066"/>
                </a:solidFill>
                <a:latin typeface="Times New Roman"/>
              </a:rPr>
              <a:t>ساس التفاعل الايجابي المتبادل بين أعضاء المجموعة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66"/>
                </a:solidFill>
                <a:latin typeface="Times New Roman"/>
              </a:rPr>
              <a:t>المسؤولية الفردية :تحدد مجموعات التعلم التعاوني مسؤولية معينة لكل فرد في المجموعة حيث يسند لكل طالب دور خاص يرتبط بتفوقه العلمي في المادة التعليمية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66"/>
                </a:solidFill>
                <a:latin typeface="Times New Roman"/>
              </a:rPr>
              <a:t>الخصائص الشخصية لأعضاء المجموعة : يختلف أعضاء المجموعة الواحدة في خصائصهم الشخصية وقدراتهم الذاتية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66"/>
                </a:solidFill>
                <a:latin typeface="Times New Roman"/>
              </a:rPr>
              <a:t>قيادة المجموعة : يقود المجموعة جميع الأعضاء في حالة التعلم التعاوني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66"/>
                </a:solidFill>
                <a:latin typeface="Times New Roman"/>
              </a:rPr>
              <a:t>الدعم والتشجيع : يكون المتعلم مسؤولاً عن تعليم غيره ومن ثم فإن أعضاء المجموعة الواحدة يتوقعون الحصول على الدعم والتشجيع من بعضهم البعض حرصاً على إنجاز العمل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1320" y="1066320"/>
            <a:ext cx="76197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 algn="r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694b6"/>
                </a:solidFill>
                <a:latin typeface="Comic Sans MS"/>
              </a:rPr>
              <a:t>تابع المادة العلمية ( </a:t>
            </a:r>
            <a:r>
              <a:rPr b="1" lang="ar-SA" sz="2200" spc="-1" strike="noStrike">
                <a:solidFill>
                  <a:srgbClr val="3694b6"/>
                </a:solidFill>
                <a:latin typeface="Comic Sans MS"/>
              </a:rPr>
              <a:t>1/4</a:t>
            </a:r>
            <a:r>
              <a:rPr b="1" lang="ar-SA" sz="2200" spc="-1" strike="noStrike">
                <a:solidFill>
                  <a:srgbClr val="3694b6"/>
                </a:solidFill>
                <a:latin typeface="Comic Sans MS"/>
              </a:rPr>
              <a:t> )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 algn="r" rtl="1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 algn="r" rtl="1"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66"/>
                </a:solidFill>
                <a:latin typeface="Times New Roman"/>
              </a:rPr>
              <a:t>أغراض الطالب : تتلخص الأغراض في وصولهم إلى أقصى درجة من علاقات العمل مع بعضهم البعض أما في المجموعات التقليدية تتلخص في إنجاز المهمة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 algn="r" rtl="1"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66"/>
                </a:solidFill>
                <a:latin typeface="Times New Roman"/>
              </a:rPr>
              <a:t>المهارات الاجتماعية : يحتاج المتعلم إلى مهارات ( القيادة ، والاتصال ، وإثارة الآخرين، وإدارة الصراعات )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 algn="r" rtl="1"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66"/>
                </a:solidFill>
                <a:latin typeface="Times New Roman"/>
              </a:rPr>
              <a:t>دور المعلم :                                                                                                                                          * ملاحظة أعضاء المجموعة                                                                                                                    * تحليل المشكلات التي تواجه المجموعة                                                                                                             * إبلاغهم بالتغذية الراجعة المتعلقة بالكيفية المثلى لإدارة العمل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 algn="r" rtl="1"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66"/>
                </a:solidFill>
                <a:latin typeface="Times New Roman"/>
              </a:rPr>
              <a:t>الطريقة التي تعمل بها المجموعة :فالملاحظ أن المعلم يهتم بطريقة عمل المجموعة لا بالنتيجة فقط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7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42920" y="1095480"/>
            <a:ext cx="16876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ائ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76440" y="2144880"/>
          <a:ext cx="6918120" cy="3931920"/>
        </p:xfrm>
        <a:graphic>
          <a:graphicData uri="http://schemas.openxmlformats.org/drawingml/2006/table">
            <a:tbl>
              <a:tblPr/>
              <a:tblGrid>
                <a:gridCol w="3168720"/>
                <a:gridCol w="3235320"/>
                <a:gridCol w="5140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دور الطال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دور المعل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العمل على تركيز انتباه أفراد مجموعته في الماد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وضع الطلاب في اتصال فعال مع المادة العل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اتباع الاتجاهات والتوجيه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إيجاد الظروف المناسبة للتعل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بذل الجهد المناسب للوصول للهد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تنظيم الطلا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إتمام المهمة في الوقت المناس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شرح المهمة التعليمية والهدف من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إجراء عمليات التقوي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3851280" y="1120680"/>
            <a:ext cx="47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دور المعلم والطالب في التعلم التعاون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238880" cy="1387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6000" spc="-1" strike="noStrike">
                <a:solidFill>
                  <a:srgbClr val="a1bd69"/>
                </a:solidFill>
                <a:latin typeface="Comic Sans MS"/>
              </a:rPr>
              <a:t>التعلم التعاوني</a:t>
            </a: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2204640"/>
            <a:ext cx="7677000" cy="38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ff"/>
                </a:solidFill>
                <a:latin typeface="Times New Roman"/>
              </a:rPr>
              <a:t>( حقيبة تدريبية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221304"/>
                </a:solidFill>
                <a:latin typeface="Times New Roman"/>
                <a:cs typeface="Hesham AlSharq"/>
              </a:rPr>
              <a:t>إعدا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80"/>
                </a:solidFill>
                <a:latin typeface="Times New Roman"/>
                <a:cs typeface="Thulth"/>
              </a:rPr>
              <a:t>حسن بن أحمد عقيلا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80"/>
                </a:solidFill>
                <a:latin typeface="Times New Roman"/>
                <a:cs typeface="Thulth"/>
              </a:rPr>
              <a:t>عبدالله بن عبدالعزيز المبر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ff"/>
                </a:solidFill>
                <a:latin typeface="Sylfaen"/>
                <a:cs typeface="Andalus"/>
              </a:rPr>
              <a:t>إدارة التدريب التربوي بالريا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681200"/>
            <a:ext cx="7620120" cy="41148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نشاط ( 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1749600"/>
            <a:ext cx="1687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ائ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20559000">
            <a:off x="2061360" y="2224080"/>
            <a:ext cx="5688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ورشة 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لماذا تفوق النظام الصناعي الياباني آسيوياً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 هل لكفاءة أيديهم العاملة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 أم لأنهم لا يرضون إلا بمواصفات عالية من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  <a:cs typeface="Times New Roman (Arabic)"/>
              </a:rPr>
              <a:t>الإ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نتاج 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 أم أن المستوى المعيشي مرتفع ومن هنا تزداد الدافعية للعمل ؟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092240"/>
            <a:ext cx="762012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694b6"/>
                </a:solidFill>
                <a:latin typeface="Comic Sans MS"/>
              </a:rPr>
              <a:t>المادة العلمية ( </a:t>
            </a:r>
            <a:r>
              <a:rPr b="1" lang="ar-SA" sz="2400" spc="-1" strike="noStrike">
                <a:solidFill>
                  <a:srgbClr val="3694b6"/>
                </a:solidFill>
                <a:latin typeface="Comic Sans MS"/>
              </a:rPr>
              <a:t>1/5</a:t>
            </a:r>
            <a:r>
              <a:rPr b="1" lang="ar-SA" sz="2400" spc="-1" strike="noStrike">
                <a:solidFill>
                  <a:srgbClr val="3694b6"/>
                </a:solidFill>
                <a:latin typeface="Comic Sans MS"/>
              </a:rPr>
              <a:t> )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66"/>
                </a:solidFill>
                <a:latin typeface="Times New Roman"/>
              </a:rPr>
              <a:t>لقد ثبت فعلياً أن من أهم أسباب تفوق النظام الصناعي الياباني آسيوياً يرجع الى أن العمال اليابانيين أكثر ذكاء من نظرائهم في </a:t>
            </a:r>
            <a:r>
              <a:rPr b="1" lang="ar-SA" sz="2400" spc="-1" strike="noStrike">
                <a:solidFill>
                  <a:srgbClr val="660066"/>
                </a:solidFill>
                <a:latin typeface="Times New Roman"/>
                <a:cs typeface="Times New Roman (Arabic)"/>
              </a:rPr>
              <a:t>الأ</a:t>
            </a:r>
            <a:r>
              <a:rPr b="1" lang="ar-SA" sz="2400" spc="-1" strike="noStrike">
                <a:solidFill>
                  <a:srgbClr val="660066"/>
                </a:solidFill>
                <a:latin typeface="Times New Roman"/>
              </a:rPr>
              <a:t>قطار الأخرى ، لأنهم أكثر قدرة على العمل معاً في شكل متناسق يعاون فيه كل فرد الأخر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( التعامل مع أدق الأجهزة يتم من خلال فريق عمل متكامل ، فالجهاز مهما بلغ حجمه أو أهميته تعمل على تجميعه عدة أيدي وعدة عقول لذا تبقى جودة المنتج واحتمالات الخطأ في تجميعه أقل من الدول الأخرى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114560"/>
            <a:ext cx="7620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 u="sng">
                <a:solidFill>
                  <a:srgbClr val="008000"/>
                </a:solidFill>
                <a:uFillTx/>
                <a:latin typeface="Times New Roman"/>
              </a:rPr>
              <a:t>خاتمة اليوم الأو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 algn="r" rtl="1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66"/>
                </a:solidFill>
                <a:latin typeface="Times New Roman"/>
              </a:rPr>
              <a:t>لقد أشارت نتائج الأبحاث إلى أن تحصيل الطالب يرتفع عندما تصاغ مواقف التعلم على شكل مواقف تعاونية  ........ ذلك لأن المواقف التعاونية تطور لدى المتعلم كفايات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 algn="r" rtl="1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8000"/>
                </a:solidFill>
                <a:latin typeface="Times New Roman"/>
              </a:rPr>
              <a:t>التفكير الناقد .                                 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008000"/>
                </a:solidFill>
                <a:latin typeface="Times New Roman"/>
              </a:rPr>
              <a:t> اتجاهات إيجابية نحو الما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 algn="r" rtl="1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 algn="r" rtl="1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8000"/>
                </a:solidFill>
                <a:latin typeface="Times New Roman"/>
              </a:rPr>
              <a:t>كيفية العمل مع الآخرين .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8000"/>
                </a:solidFill>
                <a:latin typeface="Times New Roman"/>
              </a:rPr>
              <a:t>الصحة النفسية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169640"/>
            <a:ext cx="7620120" cy="52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600" spc="-1" strike="noStrike" u="sng">
                <a:solidFill>
                  <a:srgbClr val="008000"/>
                </a:solidFill>
                <a:uFillTx/>
                <a:latin typeface="Times New Roman"/>
              </a:rPr>
              <a:t>دراسات ونتائج 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في العقود الماضية أجريت نحو (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122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) دراسة ميدانية لرصد أثر التعلم التعاوني في التحصيل الدراسي  وقد أسفرت تلك الدراسات عن تفوق طلبة التعلم التعاوني في المهارات التالية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حل المشكلات .           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اكتساب المفاهيم .                 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الحفظ والتذكر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الأداء الحركي .           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إصدار الأحكام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يقول سلافين (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1983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م) لقد أسفرت نتائج الدراسات عن الآتي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8000"/>
                </a:solidFill>
                <a:latin typeface="Times New Roman"/>
              </a:rPr>
              <a:t>63%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أثبتت تفوق طلبة التعلم التعاوني على التعلم التقليدي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8000"/>
                </a:solidFill>
                <a:latin typeface="Times New Roman"/>
              </a:rPr>
              <a:t>33%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لم تثبت أية فروق بين النمطين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8000"/>
                </a:solidFill>
                <a:latin typeface="Times New Roman"/>
              </a:rPr>
              <a:t>4%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فقط أثبتت تفوق طلبة التعلم التقليدي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أما فيما يتعلق بالمهارات الاجتماعية الدراسات على تحقيق مجموعات التعلم التعاوني مستويات عليا من التوافق الاجتماعي ودرجات رفيعة من الرضى وانطباعات إيجابية عن الذات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7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096920"/>
            <a:ext cx="7537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اليوم الثاني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 :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003399"/>
                </a:solidFill>
                <a:latin typeface="Times New Roman"/>
              </a:rPr>
              <a:t>تشكيل المجموعات التعاونية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ff0000"/>
                </a:solidFill>
                <a:latin typeface="Times New Roman"/>
              </a:rPr>
              <a:t>هدف اليوم التدريبي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Clr>
                <a:srgbClr val="66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ن يتقن المتدرب تشكيل المجموعات التعاونية في درسه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>
                <a:solidFill>
                  <a:srgbClr val="ff0000"/>
                </a:solidFill>
                <a:latin typeface="Times New Roman"/>
              </a:rPr>
              <a:t>الوسائل التدريبية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قلام ، بطاقات ملونة ، جهاز العرض فوق الرأس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42920" y="1069920"/>
            <a:ext cx="16876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20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187280" y="2897280"/>
          <a:ext cx="7129800" cy="3673440"/>
        </p:xfrm>
        <a:graphic>
          <a:graphicData uri="http://schemas.openxmlformats.org/drawingml/2006/table">
            <a:tbl>
              <a:tblPr/>
              <a:tblGrid>
                <a:gridCol w="2373480"/>
                <a:gridCol w="2382840"/>
                <a:gridCol w="23734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زمن بالدقيق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إجراءات التنفي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محاضر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221304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نشاط ( 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/ 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221304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العرض والمناقش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221304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نشاط ( 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/ 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221304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العرض والمناقش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221304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نشاط ( 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/ 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221304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العرض والمناقش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221304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عرض ورقة الخاتم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221304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جـــــــمــــــــــــــــــو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108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حاضرة مبسط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0" algn="r" rtl="1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8000"/>
                </a:solidFill>
                <a:latin typeface="Times New Roman"/>
              </a:rPr>
              <a:t>قبل أن نبدأ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ثير مجموعات التعلم التعاوني نوعاً من التفاعلات الإيجابية بين الطلاب وتسهل عمليات التحصيل ، فالأهداف التعاونية تركز على عمليات تبادل الأفكار والتعزيز وتهيئ استيعاباً انفعالياً أكبر للطالب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0" algn="r" rtl="1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8000"/>
                </a:solidFill>
                <a:latin typeface="Times New Roman"/>
              </a:rPr>
              <a:t>يجب على المعلم صياغة دروس تساهم في تحقيق الأهداف التالية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-505800" algn="r" rtl="1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مساعدة الطلاب على العمل داخل المجموعات الصغيرة بغية وصول جميع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  <a:cs typeface="Times New Roman (Arabic)"/>
              </a:rPr>
              <a:t>أ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فراد المجموعة إلى مستوى الإتقان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-505800" algn="r" rtl="1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دخول الطلاب في مسابقات تقوم على أساس المنافسة من أجل المتعة بدلاً من التنافس الذي يبنى على أساس الفوز والخسار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-505800" algn="r" rtl="1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إتاحة الفرصة أمام الطالب للعمل بشكل فردي لتحقيق أغراض خاصة ثم تحديد مدى قرب الطالب أو بعده من معايير الامتياز التي حددت بشكل مسبق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Times New Roman"/>
              </a:rPr>
              <a:t>إضاء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قدرة أحد أفراد المجموعة التعاونية على تحقيق هدف ما ، يكفل لباقي أفراد المجموعة تحقيق نفس الهدف .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42920" y="1081080"/>
            <a:ext cx="16876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ائ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103040"/>
            <a:ext cx="7608960" cy="54212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efde3"/>
                </a:solidFill>
                <a:uFillTx/>
                <a:latin typeface="Times New Roman"/>
              </a:rPr>
              <a:t>نشاط </a:t>
            </a:r>
            <a:r>
              <a:rPr b="1" lang="ar-SA" sz="3200" spc="-1" strike="noStrike">
                <a:solidFill>
                  <a:srgbClr val="fefde3"/>
                </a:solidFill>
                <a:latin typeface="Times New Roman"/>
              </a:rPr>
              <a:t>( </a:t>
            </a:r>
            <a:r>
              <a:rPr b="1" lang="ar-SA" sz="3200" spc="-1" strike="noStrike">
                <a:solidFill>
                  <a:srgbClr val="fefde3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fefde3"/>
                </a:solidFill>
                <a:latin typeface="Times New Roman"/>
              </a:rPr>
              <a:t> / </a:t>
            </a:r>
            <a:r>
              <a:rPr b="1" lang="ar-SA" sz="3200" spc="-1" strike="noStrike">
                <a:solidFill>
                  <a:srgbClr val="fefde3"/>
                </a:solidFill>
                <a:latin typeface="Times New Roman"/>
              </a:rPr>
              <a:t>1</a:t>
            </a:r>
            <a:r>
              <a:rPr b="1" lang="ar-SA" sz="3200" spc="-1" strike="noStrike">
                <a:solidFill>
                  <a:srgbClr val="fefde3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ff66"/>
                </a:solidFill>
                <a:latin typeface="Times New Roman"/>
              </a:rPr>
              <a:t>إذا رغبت في تشكيل المجموعات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تصور شكل المجموعات التي ترغب تشكيلها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هل ستدخل الصف ثم تبدأ بالتوزيع مباش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أم أنك ستفكر في أمور أخرى تتعل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        بطبيعة المجموعات 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71640" y="1100160"/>
            <a:ext cx="168732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114560"/>
            <a:ext cx="7620120" cy="46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694b6"/>
                </a:solidFill>
                <a:latin typeface="Comic Sans MS"/>
              </a:rPr>
              <a:t>المادة العلمية ( </a:t>
            </a:r>
            <a:r>
              <a:rPr b="1" lang="ar-SA" sz="2800" spc="-1" strike="noStrike">
                <a:solidFill>
                  <a:srgbClr val="3694b6"/>
                </a:solidFill>
                <a:latin typeface="Comic Sans MS"/>
              </a:rPr>
              <a:t>2/1</a:t>
            </a:r>
            <a:r>
              <a:rPr b="1" lang="ar-SA" sz="2800" spc="-1" strike="noStrike">
                <a:solidFill>
                  <a:srgbClr val="3694b6"/>
                </a:solidFill>
                <a:latin typeface="Comic Sans MS"/>
              </a:rPr>
              <a:t> 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Times New Roman"/>
              </a:rPr>
              <a:t>على المعلم أن يسأل نفسه ثلاثة أسئلة قبل تشكيل المجموعات التعاون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هل نحتاج إلى مجموعة متجانسة أم مختلفة 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هل يقوم المعلم باختيار أعضاء المجموعة ؟ أم يترك هذه المهمة للطلاب ؟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ما الفترة الزمنية التي يجب أن يمكثها الطلاب على شكل مجموعة ؟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إذا كانت فترة التعلم مختصرة فإن المجموعة الصغيرة ستكون أكثر فاعلي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الإمكانات المتاحة وطبيعة المهمة يحددان حجم المجموع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المجموعة الكبيرة لابد وأن تتضمن تنوعاً كبيراً في الخبرات والقدرات والمهارات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2920" y="1081080"/>
            <a:ext cx="16876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ائ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690560"/>
            <a:ext cx="7620120" cy="41148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نشاط ( 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1749600"/>
            <a:ext cx="1687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25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20559000">
            <a:off x="2165040" y="2703240"/>
            <a:ext cx="5688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ورشة 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      الآن ابدأ في تشكيل مجموعات التعلم التعاوني  ، مراعياً ما سبق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042560"/>
            <a:ext cx="7620120" cy="58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76392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المادة العلمية (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2/2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 )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3920" indent="0" algn="ctr" rtl="1">
              <a:lnSpc>
                <a:spcPct val="1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ff0000"/>
                </a:solidFill>
                <a:uFillTx/>
                <a:latin typeface="Times New Roman"/>
              </a:rPr>
              <a:t>  طرق تشكيل المجموعات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3920" indent="-763920" algn="r" rtl="1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8000"/>
                </a:solidFill>
                <a:latin typeface="Times New Roman"/>
              </a:rPr>
              <a:t>الطريقة العشوائ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3920" indent="0" algn="r" rtl="1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أ-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عشوائية الكاملة ، وتكون بإحدى الطرق التالية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3920" indent="-763920" algn="r" rtl="1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حسب الترتيب الأبجدي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3920" indent="-763920" algn="r" rtl="1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و التجميع العشوائي ( جمع كل ستة مثلاً متقاربين في المقاعد في مجموعة واحدة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3920" indent="0" algn="r" rtl="1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  ب- شبه عشوائية وأهم خطواتها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3920" indent="-763920" algn="r" rtl="1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طلب المعلم من كل طالب تسجيل ثلاثة زملاء يرغب في العمل معهم ، ومن خلال ذلك يستطيع المعلم معرفة الطلاب المعزولين أو الطلاب الغير مرغوب فيهم وذلك لجعلهم نواة المجموعة التي تضم مجموعة من طلاب ماهرين معهم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3920" indent="-763920" algn="r" rtl="1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إعطاء كل طالب رقم معين ثم يتم تحديد الطلاب بطريقة عشوائية لتكوين مجموعات التعلم التعاوني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3920" indent="-763920" algn="r" rtl="1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تركيز على تطوير علاقات حركية بين الطلاب المعاقين وغير المعاقين وبين الأغلبية والأقلية ودمجهم بالمجموعات التعاوني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2388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3694b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76770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400" spc="-1" strike="noStrike">
                <a:solidFill>
                  <a:srgbClr val="660066"/>
                </a:solidFill>
                <a:latin typeface="Comic Sans MS"/>
              </a:rPr>
              <a:t>الهدف العام للبرنامج :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600" spc="-1" strike="noStrike">
                <a:solidFill>
                  <a:srgbClr val="000099"/>
                </a:solidFill>
                <a:latin typeface="Comic Sans MS"/>
              </a:rPr>
              <a:t>أن يتقن المتدرب</a:t>
            </a:r>
            <a:r>
              <a:rPr b="1" i="1" lang="ar-SA" sz="2600" spc="-1" strike="noStrike">
                <a:solidFill>
                  <a:srgbClr val="000099"/>
                </a:solidFill>
                <a:latin typeface="Comic Sans MS"/>
                <a:ea typeface="Times New Roman (Arabic)"/>
              </a:rPr>
              <a:t> أ</a:t>
            </a:r>
            <a:r>
              <a:rPr b="1" i="1" lang="ar-SA" sz="2600" spc="-1" strike="noStrike">
                <a:solidFill>
                  <a:srgbClr val="000099"/>
                </a:solidFill>
                <a:latin typeface="Comic Sans MS"/>
              </a:rPr>
              <a:t>سلوب المجموعات التعاونية في تدريسه</a:t>
            </a:r>
            <a:r>
              <a:rPr b="1" i="1" lang="ar-SA" sz="1800" spc="-1" strike="noStrike">
                <a:solidFill>
                  <a:srgbClr val="000099"/>
                </a:solidFill>
                <a:latin typeface="Comic Sans MS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400" spc="-1" strike="noStrike">
                <a:solidFill>
                  <a:srgbClr val="993366"/>
                </a:solidFill>
                <a:latin typeface="Comic Sans MS"/>
              </a:rPr>
              <a:t>الاهداف التفصيلية</a:t>
            </a:r>
            <a:r>
              <a:rPr b="1" i="1" lang="ar-SA" sz="3400" spc="-1" strike="noStrike">
                <a:solidFill>
                  <a:srgbClr val="993366"/>
                </a:solidFill>
                <a:latin typeface="Comic Sans MS"/>
              </a:rPr>
              <a:t> </a:t>
            </a:r>
            <a:r>
              <a:rPr b="1" i="1" lang="ar-SA" sz="3400" spc="-1" strike="noStrike">
                <a:solidFill>
                  <a:srgbClr val="993366"/>
                </a:solidFill>
                <a:latin typeface="Comic Sans MS"/>
              </a:rPr>
              <a:t>:</a:t>
            </a:r>
            <a:r>
              <a:rPr b="1" i="1" lang="ar-SA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000000"/>
                </a:solidFill>
                <a:latin typeface="Comic Sans MS"/>
              </a:rPr>
              <a:t>في نهاية البرنامج يتوقع من المتدرب أن</a:t>
            </a:r>
            <a:r>
              <a:rPr b="1" i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ar-SA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i="1" lang="ar-SA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i="1" lang="ar-SA" sz="2800" spc="-1" strike="noStrike">
                <a:solidFill>
                  <a:srgbClr val="0000ff"/>
                </a:solidFill>
                <a:latin typeface="Comic Sans MS"/>
              </a:rPr>
              <a:t>يفرق بين التعلم التعاوني والتقليدي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ar-SA" sz="2800" spc="-1" strike="noStrike">
                <a:solidFill>
                  <a:srgbClr val="0000ff"/>
                </a:solidFill>
                <a:latin typeface="Comic Sans MS"/>
              </a:rPr>
              <a:t>يشكل مجموعات التعلم التعاوني بكفاء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0000ff"/>
                </a:solidFill>
                <a:latin typeface="Comic Sans MS"/>
              </a:rPr>
              <a:t> يدير مجموعات التعلم التعاوني بكفاء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467480" cy="739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6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209240"/>
            <a:ext cx="7620120" cy="54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تابع المادة العلمية ( 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2/2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 )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65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8000"/>
                </a:solidFill>
                <a:latin typeface="Times New Roman"/>
              </a:rPr>
              <a:t>الطريقة العنقودية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1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وسميت بذلك تشبيهاً لعناقيد العنب ، فغالباً ما تكون حبيبات العنقود الواحد متساوية الطعم والحجم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1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وهذا يعني أن تكون مجموعات التعلم متجانسة من حيث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65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مستويات الطلاب الدراسي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65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و الظروف النفسي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65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و المستويات العمري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65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و الاتجاهات والميول الشخصي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1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وغالباً ما يلجأ التربويون إلى مثل هذا التقسيم عند رغبتهم في تحقيق أهداف انفعالية (  وجدانية )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467480" cy="739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6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1209240"/>
            <a:ext cx="7620120" cy="54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49356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تابع المادة العلمية ( 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2/2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 )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 algn="r" rtl="1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8000"/>
                </a:solidFill>
                <a:latin typeface="Times New Roman"/>
              </a:rPr>
              <a:t>أسلوب المجموعة غير المتجانسة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0" algn="r" rtl="1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وقبل البدء في تشكيل المجموعات غير المتجانسة لابد من الالتفات إلى 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  <a:cs typeface="Times New Roman (Arabic)"/>
              </a:rPr>
              <a:t>ا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لآتي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لابد من الوقوف على مستويات الطلاب التحصيلية قبل البدء في تشكيل المجموع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  <a:cs typeface="Times New Roman (Arabic)"/>
              </a:rPr>
              <a:t>حا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ول أن تحد من اختيار الطلاب مجموعاتهم بأنفسهم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صنف الطلاب إلى مستويات ( ممتاز - متوسط - ضعيف ) وفقاً لنتائجهم التحصيلي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وزع كل مستوى على مجموعات التعلم مع مراعاة عدم تكديس الطلاب الممتازين في مجموعة والضعاف في مجموعة أخرى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0" algn="r" rtl="1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99"/>
                </a:solidFill>
                <a:latin typeface="Times New Roman"/>
              </a:rPr>
              <a:t>مزايا التنوع في مستويات الطلاب داخل الحص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ضمان حدوث عمليات الأخذ والعطاء بين جميع الأفراد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إيجاد نوع من الترابط الفكري أثناء المناقشة مما يؤدي إلى تطوير تفكير الطلاب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عميق فهم الطلاب بشكل يساعدهم على الاحتفاظ بالمعلومات لأطول فترة زمنية ممكن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0" algn="r" rtl="1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690560"/>
            <a:ext cx="7620120" cy="41148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نشاط ( 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1749600"/>
            <a:ext cx="1687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20559000">
            <a:off x="2312280" y="2458800"/>
            <a:ext cx="51418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ورشة 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بعد وقوفك على مجموعة من الأساليب الشائعة في تشكيل المجموع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       اختر طريقة من الطرائق السابقة مستهدفاً إياها بالنقد ومتعرضاً لأهم نقاط القوة والضعف فيها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079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8000"/>
                </a:solidFill>
                <a:latin typeface="Times New Roman"/>
              </a:rPr>
              <a:t>خاتمة اليوم الثان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r" rtl="1">
              <a:lnSpc>
                <a:spcPct val="23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يتفق كثير من التربويين على أن العدد المثالي لكل مجموعة يتراوح ما بين ( 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4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- 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6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) ، لأن العدد إذا قل عن ثلاثة فإن احتمالات الأخذ والعطاء وتداول الخبرة ستكون قليلة ، وأيضاً فإن زيادة العدد عن ستة قد يؤدي إلى عدم ضمان استفادة جميع الأفراد من النشاط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r" rtl="1">
              <a:lnSpc>
                <a:spcPct val="23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كما يعتقد التربويون أن العدد الزوجي مهم خاصة إذا رغب المعلم في إسناد مهمات ثنائية لبعض الطلاب داخل المجموعة الواحدة 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74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55600" y="1152360"/>
            <a:ext cx="75376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8000"/>
                </a:solidFill>
                <a:latin typeface="Times New Roman"/>
              </a:rPr>
              <a:t>اليوم الثالث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إدارة مجموعات التعل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أهداف اليوم التدريبي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451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ن يعرف المتدرب أساليب إدارة المجموع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451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ن يتقن المتدرب تنفيذ اساليب إدارة المجموع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الوسائل التدريبية :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قلام ، بطاقات ملونة ، جهاز العرض فوق الرأس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42920" y="1069920"/>
            <a:ext cx="16876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20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258920" y="3060720"/>
          <a:ext cx="7345440" cy="3392640"/>
        </p:xfrm>
        <a:graphic>
          <a:graphicData uri="http://schemas.openxmlformats.org/drawingml/2006/table">
            <a:tbl>
              <a:tblPr/>
              <a:tblGrid>
                <a:gridCol w="2446200"/>
                <a:gridCol w="2452680"/>
                <a:gridCol w="2446560"/>
              </a:tblGrid>
              <a:tr h="30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الزمن بالدقيق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إجراءات التنفي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30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نشاط ( 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/ 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العرض والمناقش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30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نشاط ( 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/ 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العرض والمناقش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30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نشاط ( 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/ 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العرض والمناقش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30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نشاط ( 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/ 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العرض والمناقش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30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عرض ورقة الخاتم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</a:tr>
              <a:tr h="30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المجـــمـــــــــــــــــــو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320" y="1690560"/>
            <a:ext cx="7620120" cy="41148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600" spc="-1" strike="noStrike">
                <a:solidFill>
                  <a:srgbClr val="ff0000"/>
                </a:solidFill>
                <a:latin typeface="Times New Roman"/>
              </a:rPr>
              <a:t>نشاط (</a:t>
            </a:r>
            <a:r>
              <a:rPr b="1" i="1" lang="ar-SA" sz="2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ar-SA" sz="26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1" i="1" lang="ar-SA" sz="2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ar-SA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ar-SA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1749600"/>
            <a:ext cx="1687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ائ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20559000">
            <a:off x="2312280" y="2457360"/>
            <a:ext cx="51418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ورشة 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إن التنفيذ العشوائي لدرس بطريقة التعلم التعاوني قد يفسد النتائج المتوخاة منها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ما الأمور اللازم مراعاتها من قبل المعلم قبل البدء في تنفيذ الدرس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320" y="1190160"/>
            <a:ext cx="76201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المادة العلمية (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3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/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1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8000"/>
                </a:solidFill>
                <a:latin typeface="Comic Sans MS"/>
              </a:rPr>
              <a:t>إذا أراد المعلم إعداد درس للتعلم التعاوني لابد وأن يفكر في درسه بعناية ، وهذا يتطلب منه الإجابة على الأسئلة التالية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ما الذي أرغب أن يحصله الطلاب في هذا الدرس ؟ ما الأهداف المعرفية والمهارية والانفعالية المقصودة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ما طبيعة المهمة التعليمية هل </a:t>
            </a:r>
            <a:r>
              <a:rPr b="1" lang="ar-SA" sz="1800" spc="-1" strike="noStrike">
                <a:solidFill>
                  <a:srgbClr val="660066"/>
                </a:solidFill>
                <a:latin typeface="Comic Sans MS"/>
                <a:cs typeface="Times New Roman (Arabic)"/>
              </a:rPr>
              <a:t>تعلم</a:t>
            </a: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 مفاهيم ؟ أم تعلم مهارة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ما مقدار المساعدة والتوجيه التي يحتاجها الطالب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ما المواد والأدوات المطلوبة لتنفيذ الدرس ؟ وهل هي متاحة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ما نمط المناخ التعليمي اللازم للدرس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ما نمط التفاعل المطلوب بين الطلاب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Comic Sans MS"/>
              </a:rPr>
              <a:t>التوضيح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8000"/>
                </a:solidFill>
                <a:latin typeface="Comic Sans MS"/>
              </a:rPr>
              <a:t>من المهم أن يفكر المعلم قبل البدء في التخطيط لمجموعات التعلم في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1" lang="ar-SA" sz="1600" spc="-1" strike="noStrike">
                <a:solidFill>
                  <a:srgbClr val="660066"/>
                </a:solidFill>
                <a:latin typeface="Comic Sans MS"/>
              </a:rPr>
              <a:t> الأهداف المراد تحقيقها .                            </a:t>
            </a: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1" lang="ar-SA" sz="1600" spc="-1" strike="noStrike">
                <a:solidFill>
                  <a:srgbClr val="660066"/>
                </a:solidFill>
                <a:latin typeface="Comic Sans MS"/>
              </a:rPr>
              <a:t> طبيعة المهمة التعليمية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1" lang="ar-SA" sz="1600" spc="-1" strike="noStrike">
                <a:solidFill>
                  <a:srgbClr val="660066"/>
                </a:solidFill>
                <a:latin typeface="Comic Sans MS"/>
              </a:rPr>
              <a:t> مستوى التفاعل المطلوب بين الطلاب .          </a:t>
            </a: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4</a:t>
            </a: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1" lang="ar-SA" sz="1600" spc="-1" strike="noStrike">
                <a:solidFill>
                  <a:srgbClr val="660066"/>
                </a:solidFill>
                <a:latin typeface="Comic Sans MS"/>
              </a:rPr>
              <a:t> مقدار المساعدة المتوقع تقديمها للطلاب من قبل المعلم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1" lang="ar-SA" sz="1600" spc="-1" strike="noStrike">
                <a:solidFill>
                  <a:srgbClr val="660066"/>
                </a:solidFill>
                <a:latin typeface="Comic Sans MS"/>
              </a:rPr>
              <a:t> الوسائل والأدوات التعليمية .                       </a:t>
            </a: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1" lang="ar-SA" sz="1600" spc="-1" strike="noStrike">
                <a:solidFill>
                  <a:srgbClr val="660066"/>
                </a:solidFill>
                <a:latin typeface="Comic Sans MS"/>
              </a:rPr>
              <a:t> نمط المناخ التعليمي المناسب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079280"/>
            <a:ext cx="7620120" cy="53737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fefde3"/>
                </a:solidFill>
                <a:uFillTx/>
                <a:latin typeface="Times New Roman"/>
              </a:rPr>
              <a:t>نشاط </a:t>
            </a:r>
            <a:r>
              <a:rPr b="1" lang="ar-SA" sz="3000" spc="-1" strike="noStrike">
                <a:solidFill>
                  <a:srgbClr val="fefde3"/>
                </a:solidFill>
                <a:latin typeface="Times New Roman"/>
              </a:rPr>
              <a:t>( </a:t>
            </a:r>
            <a:r>
              <a:rPr b="1" lang="ar-SA" sz="3000" spc="-1" strike="noStrike">
                <a:solidFill>
                  <a:srgbClr val="fefde3"/>
                </a:solidFill>
                <a:latin typeface="Times New Roman"/>
              </a:rPr>
              <a:t>3</a:t>
            </a:r>
            <a:r>
              <a:rPr b="1" lang="ar-SA" sz="3000" spc="-1" strike="noStrike">
                <a:solidFill>
                  <a:srgbClr val="fefde3"/>
                </a:solidFill>
                <a:latin typeface="Times New Roman"/>
              </a:rPr>
              <a:t> / </a:t>
            </a:r>
            <a:r>
              <a:rPr b="1" lang="ar-SA" sz="3000" spc="-1" strike="noStrike">
                <a:solidFill>
                  <a:srgbClr val="fefde3"/>
                </a:solidFill>
                <a:latin typeface="Times New Roman"/>
              </a:rPr>
              <a:t>2</a:t>
            </a:r>
            <a:r>
              <a:rPr b="1" lang="ar-SA" sz="3000" spc="-1" strike="noStrike">
                <a:solidFill>
                  <a:srgbClr val="fefde3"/>
                </a:solidFill>
                <a:latin typeface="Times New Roman"/>
              </a:rPr>
              <a:t> 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ff66"/>
                </a:solidFill>
                <a:latin typeface="Times New Roman"/>
              </a:rPr>
              <a:t>نشاط فرد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66"/>
                </a:solidFill>
                <a:latin typeface="Times New Roman"/>
              </a:rPr>
              <a:t>يعتقد البعض أن التعلم التعاوني يغفل الجوان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66"/>
                </a:solidFill>
                <a:latin typeface="Times New Roman"/>
              </a:rPr>
              <a:t> الفردية لدى الطالب ، كما أنهم يعتقدون أن الطال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66"/>
                </a:solidFill>
                <a:latin typeface="Times New Roman"/>
              </a:rPr>
              <a:t>المتفوق تحصيلياً يستطيع أن يقوم بأعباء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66"/>
                </a:solidFill>
                <a:latin typeface="Times New Roman"/>
              </a:rPr>
              <a:t> المجموعة منفرداً مما يزيد من سلبية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66"/>
                </a:solidFill>
                <a:latin typeface="Times New Roman"/>
              </a:rPr>
              <a:t>الطالب الضعيف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66"/>
                </a:solidFill>
                <a:latin typeface="Times New Roman"/>
              </a:rPr>
              <a:t>هل من الممكن تفعيل العمل الفردي داخ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66"/>
                </a:solidFill>
                <a:latin typeface="Times New Roman"/>
              </a:rPr>
              <a:t> مجموعات التعلم التعاوني ؟</a:t>
            </a:r>
            <a:r>
              <a:rPr b="1" lang="ar-SA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8640" y="1069920"/>
            <a:ext cx="168732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320" y="790200"/>
            <a:ext cx="76201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المادة العلمية ( 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3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/ 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2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2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Times New Roman"/>
              </a:rPr>
              <a:t>طرق دمج التعلم التعاوني مع التعلم الفردي :  ( ثلاث طرق رئيسة )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20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660066"/>
                </a:solidFill>
                <a:latin typeface="Times New Roman"/>
              </a:rPr>
              <a:t>تكامل المهام : تستخدم هذه الطريقة في حالات المشاريع والبحوث ، حيث يحدد  المشروع التعاوني المهام ويقسمها على أعضاء المجموعة على شكل مهام فردية يتوقف نجاح المشروع على نتائجها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20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660066"/>
                </a:solidFill>
                <a:latin typeface="Times New Roman"/>
              </a:rPr>
              <a:t>تكامل المصادر </a:t>
            </a:r>
            <a:r>
              <a:rPr b="1" lang="ar-SA" sz="1600" spc="-1" strike="noStrike">
                <a:solidFill>
                  <a:srgbClr val="660066"/>
                </a:solidFill>
                <a:latin typeface="Times New Roman"/>
                <a:ea typeface="Times New Roman (Arabic)"/>
              </a:rPr>
              <a:t>:</a:t>
            </a:r>
            <a:r>
              <a:rPr b="1" lang="ar-SA" sz="1600" spc="-1" strike="noStrike">
                <a:solidFill>
                  <a:srgbClr val="660066"/>
                </a:solidFill>
                <a:latin typeface="Times New Roman"/>
              </a:rPr>
              <a:t> كأن يأخذ الطلاب مجموعة كلمات يطلب منهم معانيها ، وتقسم الكلمات على مجموعات يطلب من كل طالب البث عن معانيها في مصادر مختلفة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20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660066"/>
                </a:solidFill>
                <a:latin typeface="Times New Roman"/>
              </a:rPr>
              <a:t>تكامل الجائزة : تمنح درجة للطالب وفقاً لأدائه الخاص ( جزء كبير ) ووفقاً لأداء المجموعة التي ينتمي اليها ( جزء صغير من الدرجة )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320" y="1001880"/>
            <a:ext cx="7620120" cy="55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 algn="r" rtl="1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تابع المادة العلمية ( 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3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/ 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2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 algn="r" rtl="1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الاستخدام المتكامل لصيغ أهداف التعلم التعاوني والتنافسي والفردي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 algn="r" rtl="1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8000"/>
                </a:solidFill>
                <a:latin typeface="Times New Roman"/>
              </a:rPr>
              <a:t>وهذا يتطلب عدة خطوات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r" rtl="1">
              <a:lnSpc>
                <a:spcPct val="15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كوين مجموعات تعلم تعاوني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r" rtl="1">
              <a:lnSpc>
                <a:spcPct val="15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عطى كل مجموعة مهمة تعاونية لتعلم المادة ككل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r" rtl="1">
              <a:lnSpc>
                <a:spcPct val="15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عطى لكل فرد مهمة فردية تختص بتعليم جزء معين من المادة المقررة داخل المجموع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r" rtl="1">
              <a:lnSpc>
                <a:spcPct val="15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دار عملية التنافس بين المجموعات المختلفة في ضوء ما تحقق من عمل جماعي بين أعضاء المجموع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r" rtl="1">
              <a:lnSpc>
                <a:spcPct val="15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استفادة من تعاون المجموعات في الوصول إلى الغرض الهام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r" rtl="1">
              <a:lnSpc>
                <a:spcPct val="15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حديد الأداء الفردي لكل طالب في المجموعة من خلال اختبار تحصيلي ثم تحديد درجة المجموعة ككل في ضوء متوسط أداء كل أعضاء المجموع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16200" y="561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32000" y="1844640"/>
            <a:ext cx="698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33"/>
                </a:solidFill>
                <a:latin typeface="Times New Roman"/>
              </a:rPr>
              <a:t>المستهدفون :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33"/>
                </a:solidFill>
                <a:latin typeface="Times New Roman"/>
              </a:rPr>
              <a:t>مدة البرنامج :   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12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)  ساعة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16000" y="2924280"/>
            <a:ext cx="748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3284640"/>
          <a:ext cx="6361200" cy="2662200"/>
        </p:xfrm>
        <a:graphic>
          <a:graphicData uri="http://schemas.openxmlformats.org/drawingml/2006/table">
            <a:tbl>
              <a:tblPr/>
              <a:tblGrid>
                <a:gridCol w="1247760"/>
                <a:gridCol w="4392720"/>
                <a:gridCol w="7207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زم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1872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وحــــد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1872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1872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blipFill rotWithShape="0">
                      <a:blip r:embed="rId1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فاهيم في التعلم التعاون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blipFill rotWithShape="0">
                      <a:blip r:embed="rId2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شكيل المجموع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blipFill rotWithShape="0">
                      <a:blip r:embed="rId3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 (Arabic)"/>
                        </a:rPr>
                        <a:t>إ</a:t>
                      </a: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ارة المجموع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18720">
                      <a:solidFill>
                        <a:srgbClr val="800080"/>
                      </a:solidFill>
                    </a:lnB>
                    <a:blipFill rotWithShape="0">
                      <a:blip r:embed="rId4">
                        <a:alphaModFix amt="50000"/>
                      </a:blip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جمو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18720">
                      <a:solidFill>
                        <a:srgbClr val="8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1042920" y="260280"/>
            <a:ext cx="770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457200"/>
            <a:ext cx="72388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89604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6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320" y="1690560"/>
            <a:ext cx="7620120" cy="41148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نشاط ( 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1749600"/>
            <a:ext cx="1687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20559000">
            <a:off x="2392920" y="2444760"/>
            <a:ext cx="5141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ورشة 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خشى بعض المعلمين من الضوضاء الشديدة داخل الصف نتيجة تفاعل الطلاب فيما بينهم ، كما يعتقد البعض الآخر أن مجموعات التعلم تحتاج إلى مجهود كبير لإدارتها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حاول أن تجد حلولاً لعلاج المشكلتين السابقتين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320" y="1224000"/>
            <a:ext cx="76201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المادة العلمية (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3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/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3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 )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من المهم أن يلتفت المعلم قبل التنفيذ إلى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رتيب الطلاب بشكل يسمح لهم برؤية الأدوات والمواد ورؤية بعضهم البعض بسهول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وجود مسافات كافية بين المجموعات تجنباً للارتباك والتداخل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تأكيد على مستوى معين من الضوضاء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وزيع الأدوار في مجموعة التعلم التعاوني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يعتبر الكثير من المجربين أن إيجاد مهام جانبية داخل المجموعة يسهم في تنمية روح التفاعل وزيادة الإحساس لدى الطلاب بأهمية العمل داخل المجموعة ، ومن هذه الأدوار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قائد المجموعة ك ويقوم بالتنسيق بين أعضاء المجموعة ومساعدتهم على القيان بأدوارهم بجدية وإتقان ، وإدارة النقاش والربط بين المجموعة والمعلم عندما يتطلب الأمر ذلك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مراجع النهائي : وتتلخص مهمته في مراجعة أعمال جميع الأعضاء للتأكد من فهم كل فرد بالمجموعة لما تم عمله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قائم بالبحث : ويقوم بتجهيز المواد المختلفة التي تحتاجها المجموع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مسجل : ويقوم بتسجيل قرارات المجموعة ونسخ التقرير النهائي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ملاحظ : ويقوم بتحديد الكيفية المثلى التي اتبعتها المجموعة في التعاون والمشارك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معزز : ويقوم بتحديد أعمال المجموعة وتحديد التقرير المناسب ومن ثم تعزيزها للوصول للأهداف المنشود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37880" y="1701720"/>
            <a:ext cx="7620120" cy="45100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900" spc="-1" strike="noStrike">
                <a:solidFill>
                  <a:srgbClr val="ccff66"/>
                </a:solidFill>
                <a:latin typeface="Times New Roman"/>
              </a:rPr>
              <a:t>نشاط ( </a:t>
            </a:r>
            <a:r>
              <a:rPr b="1" lang="ar-SA" sz="3900" spc="-1" strike="noStrike">
                <a:solidFill>
                  <a:srgbClr val="ccff66"/>
                </a:solidFill>
                <a:latin typeface="Times New Roman"/>
              </a:rPr>
              <a:t>3</a:t>
            </a:r>
            <a:r>
              <a:rPr b="1" lang="ar-SA" sz="3900" spc="-1" strike="noStrike">
                <a:solidFill>
                  <a:srgbClr val="ccff66"/>
                </a:solidFill>
                <a:latin typeface="Times New Roman"/>
              </a:rPr>
              <a:t> / </a:t>
            </a:r>
            <a:r>
              <a:rPr b="1" lang="ar-SA" sz="3900" spc="-1" strike="noStrike">
                <a:solidFill>
                  <a:srgbClr val="ccff66"/>
                </a:solidFill>
                <a:latin typeface="Times New Roman"/>
              </a:rPr>
              <a:t>4</a:t>
            </a:r>
            <a:r>
              <a:rPr b="1" lang="ar-SA" sz="3900" spc="-1" strike="noStrike">
                <a:solidFill>
                  <a:srgbClr val="ccff66"/>
                </a:solidFill>
                <a:latin typeface="Times New Roman"/>
              </a:rPr>
              <a:t> 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42920" y="1069920"/>
            <a:ext cx="1687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20421600">
            <a:off x="1458000" y="2615040"/>
            <a:ext cx="669744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                       بالتعاون مع أفراد مجموعتك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66"/>
                </a:solidFill>
                <a:latin typeface="Times New Roman"/>
              </a:rPr>
              <a:t>          حاول أن تعرض طريقة مناسبة لإدارة مجموعات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66"/>
                </a:solidFill>
                <a:latin typeface="Times New Roman"/>
              </a:rPr>
              <a:t>           التعلم التعاوني داخل فصلك ، مع </a:t>
            </a:r>
            <a:r>
              <a:rPr b="1" lang="ar-SA" sz="2400" spc="-1" strike="noStrike">
                <a:solidFill>
                  <a:srgbClr val="660066"/>
                </a:solidFill>
                <a:latin typeface="Times New Roman"/>
                <a:cs typeface="Times New Roman (Arabic)"/>
              </a:rPr>
              <a:t>أهمية</a:t>
            </a:r>
            <a:r>
              <a:rPr b="1" lang="ar-SA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660066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66"/>
                </a:solidFill>
                <a:latin typeface="Times New Roman"/>
              </a:rPr>
              <a:t>                  أن تعنى الطريقة بتفعيل أدوار جميع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66"/>
                </a:solidFill>
                <a:latin typeface="Times New Roman"/>
              </a:rPr>
              <a:t>                 الطلاب </a:t>
            </a:r>
            <a:r>
              <a:rPr b="1" lang="ar-SA" sz="2400" spc="-1" strike="noStrike">
                <a:solidFill>
                  <a:srgbClr val="660066"/>
                </a:solidFill>
                <a:latin typeface="Times New Roman"/>
                <a:cs typeface="Times New Roman (Arabic)"/>
              </a:rPr>
              <a:t>د</a:t>
            </a:r>
            <a:r>
              <a:rPr b="1" lang="ar-SA" sz="2400" spc="-1" strike="noStrike">
                <a:solidFill>
                  <a:srgbClr val="660066"/>
                </a:solidFill>
                <a:latin typeface="Times New Roman"/>
              </a:rPr>
              <a:t>اخل المجموعة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320" y="1157040"/>
            <a:ext cx="762012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المادة العلمية (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3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/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4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 rtl="1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أساليب دارجة في إدارة المجموعات التعاونية  :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 rtl="1">
              <a:lnSpc>
                <a:spcPct val="13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ar-SA" sz="1800" spc="-1" strike="noStrike" u="sng">
                <a:solidFill>
                  <a:srgbClr val="008000"/>
                </a:solidFill>
                <a:uFillTx/>
                <a:latin typeface="Times New Roman"/>
              </a:rPr>
              <a:t>أساليب تقليدية </a:t>
            </a:r>
            <a:r>
              <a:rPr b="1" lang="ar-SA" sz="1800" spc="-1" strike="noStrike">
                <a:solidFill>
                  <a:srgbClr val="008000"/>
                </a:solidFill>
                <a:latin typeface="Times New Roman"/>
              </a:rPr>
              <a:t>،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وتشمل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lnSpc>
                <a:spcPct val="135000"/>
              </a:lnSpc>
              <a:spcBef>
                <a:spcPts val="451"/>
              </a:spcBef>
              <a:buClr>
                <a:srgbClr val="ff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رقابة ذاتية :وتقوم على مبدأ إيكال مهمة الإدارة الكاملة لأفراد المجموعة أنفسهم دون أن يتدخل المعلم في ذلك ، ويقتصر دور المعلم على تقويم النتائج النهائية للمجموع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lnSpc>
                <a:spcPct val="135000"/>
              </a:lnSpc>
              <a:spcBef>
                <a:spcPts val="451"/>
              </a:spcBef>
              <a:buClr>
                <a:srgbClr val="ff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رقابة غير ذاتية : وفيها يكثف المعلم من عمليات المراقبة المباشرة للمجموعات وأفرادها مع العناية بالتوجيه والتحفيز المستمرين</a:t>
            </a:r>
            <a:r>
              <a:rPr b="1" lang="en-US" sz="1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 rtl="1">
              <a:lnSpc>
                <a:spcPct val="13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800" spc="-1" strike="noStrike" u="sng">
                <a:solidFill>
                  <a:srgbClr val="008000"/>
                </a:solidFill>
                <a:uFillTx/>
                <a:latin typeface="Times New Roman"/>
              </a:rPr>
              <a:t>أساليب غير تقليدية</a:t>
            </a:r>
            <a:r>
              <a:rPr b="1" lang="ar-SA" sz="1800" spc="-1" strike="noStrike">
                <a:solidFill>
                  <a:srgbClr val="008000"/>
                </a:solidFill>
                <a:latin typeface="Times New Roman"/>
              </a:rPr>
              <a:t> ،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وتشمل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lnSpc>
                <a:spcPct val="135000"/>
              </a:lnSpc>
              <a:spcBef>
                <a:spcPts val="451"/>
              </a:spcBef>
              <a:buClr>
                <a:srgbClr val="ff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سلوب التكامل : وقد ألمحنا إليه سابقاً ، حيث يقوم المعلم بتوزيع المهام على الطلاب ثم تقوم كل مجموعة وفقاً للمهام الفردية داخلها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lnSpc>
                <a:spcPct val="135000"/>
              </a:lnSpc>
              <a:spcBef>
                <a:spcPts val="451"/>
              </a:spcBef>
              <a:buClr>
                <a:srgbClr val="ff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سلوب الترقيم : وهذا النموذج يتعامل المعلم من خلاله مع أرقام وليس مع أسماء حتى يضمن عشوائية خروج المتحدث ، ومن هنا يستطيع المعلم أن يتأكد من حرص الطلبة المتفوقين على إفهام الطلبة الضعاف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079280"/>
            <a:ext cx="76201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 algn="r" rtl="1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تابع المادة العلمية (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3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/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4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0" algn="r" rtl="1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نموذج مفصل لأسلوب الترقيم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ضع المعلم طلابه في مجموعات غير متجانسة ( ممتاز ، متوسط ، ضعيف )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حدد مهمة جانبية لكل طالب في المجموعة ( قائد ، مسجل ، ....               )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قوم بإعطاء كل طالب رقماً معيناً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حدد الهدف المراد تحقيقه ويوضح مهمة كل مجموعة والوقت المحدد للإنجاز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طلب من كافة المجموعات البدء في تنفيذ النشاط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قوم بالتجول بين المجموعات ، ويقدم التوجيهات والمحفز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راقب أثناء تجواله بين المجموعات ( مستوى التفاعل ، طريقة التفكير العلمي )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علن عن انتهاء الوق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طلب من كل مجموعة عرض إجابتها بحيث يختار الطالب بصورة عشوائية عن طريق إظهار رقمه المتفق عليه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بعد عرض كافة المجموعات يتم الاتفاق على إجابة مثالي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320" y="1079280"/>
            <a:ext cx="76201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r" rtl="1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تابع المادة العلمية (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3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/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4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r" rtl="1">
              <a:lnSpc>
                <a:spcPct val="2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0000"/>
                </a:solidFill>
                <a:uFillTx/>
                <a:latin typeface="Comic Sans MS"/>
              </a:rPr>
              <a:t>ملاحظة هامة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r" rtl="1">
              <a:lnSpc>
                <a:spcPct val="2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يلجأ بعض المعلمين المحترفين أثناء إدارتهم لمجموعات التعلم إلى ، سحب الطلاب غير المنسجمين أو ضعاف الاستجابة في مجموعة خارجية يترأسها المعلم شخصياً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r" rtl="1">
              <a:lnSpc>
                <a:spcPct val="2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0000"/>
                </a:solidFill>
                <a:uFillTx/>
                <a:latin typeface="Comic Sans MS"/>
              </a:rPr>
              <a:t>وهذه الطريقة تضمن</a:t>
            </a:r>
            <a:r>
              <a:rPr b="1" lang="ar-SA" sz="1800" spc="-1" strike="noStrike">
                <a:solidFill>
                  <a:srgbClr val="ff0000"/>
                </a:solidFill>
                <a:latin typeface="Comic Sans MS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 algn="r" rtl="1">
              <a:lnSpc>
                <a:spcPct val="215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خفيف عبء الطلاب الضعاف عن المجموع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 algn="r" rtl="1">
              <a:lnSpc>
                <a:spcPct val="215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تركيز على الطلبة الضعاف من خلال الاستهداف المباشر من المعلم لهم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320" y="1079280"/>
            <a:ext cx="76201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 u="sng">
                <a:solidFill>
                  <a:srgbClr val="008000"/>
                </a:solidFill>
                <a:uFillTx/>
                <a:latin typeface="Times New Roman"/>
              </a:rPr>
              <a:t>الخاتم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5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66"/>
                </a:solidFill>
                <a:latin typeface="Times New Roman"/>
              </a:rPr>
              <a:t>الطالب في التعلم التعاوني يحب معلمه لأنه مصدر دائم للتشجيع والدعم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320" y="1079280"/>
            <a:ext cx="76201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99"/>
                </a:solidFill>
                <a:latin typeface="Times New Roman"/>
              </a:rPr>
              <a:t>أوراق للإطلا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توجيهات للمعلم قبل البدء في التنفيذ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ساعد كل عضو في المجموعة على شرح الكيفية التي أجاب عليها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طلب من كل عضو أن يربط ما تعلمه اليوم بما تعلمه في السابق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أكد من فهم كل مجموعة لمضمون الإجاب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شجع كل فرد على المشارك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نصت بعناية لما يقوله أفراد المجموعة الأخرى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لا تغير تفكيرك إلا إذا اقتنعت بذلك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نقد الأفكار ولا تنقد الأشخاص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320" y="1079280"/>
            <a:ext cx="76201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 u="sng">
                <a:solidFill>
                  <a:srgbClr val="ff0000"/>
                </a:solidFill>
                <a:uFillTx/>
                <a:latin typeface="Times New Roman"/>
              </a:rPr>
              <a:t>تعليمات هامة لإدارة الوحد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تركيز على التعاون في الوحدة مع التركيز على تطوير الأنشطة الفردية والتنافسية بشكل لا يقلل من التعلم التعاوني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بدأ العمل وينتهي بلقاء بين أعضاء المجموعة . . . . . ففي اللقاء الأول تحدد شروط العمل وفي اللقاء الثاني تناقش الطريقة التي عملت بها المجموع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إحلال مفهوم التنافس (الصحي ) من أجل الفائدة والمنفعة التسلية بدلاً من مفهوم التنافس من اجل الكسب والخسار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نويع الفترات بحيث تنفذ المهام الفردية في المنزل ثم يخصص للفترات التعاونية أكثر من فترة تعليمية ( تكامل التعاون والفردية )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320" y="1079280"/>
            <a:ext cx="76201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ff0000"/>
                </a:solidFill>
                <a:uFillTx/>
                <a:latin typeface="Times New Roman"/>
              </a:rPr>
              <a:t>مثال على ذلك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r" rtl="1">
              <a:lnSpc>
                <a:spcPct val="17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وزع الطلاب على مجموعات تعاونية كل مجموعة (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4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 –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6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 ) أفراد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r" rtl="1">
              <a:lnSpc>
                <a:spcPct val="17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سند  إلى كل مجموعة تعلم مجموعة من كلمات الهجاء بشكل تعاوني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r" rtl="1">
              <a:lnSpc>
                <a:spcPct val="17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وزع على كل مجموعة قائمة بـ (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32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) كلمة ، يطلب من كل متعلم التميز في هجاء (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8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 ) كلمات ثم يقوم بتعليمها لأفراد المجموع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r" rtl="1">
              <a:lnSpc>
                <a:spcPct val="17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تأكد من فهم جميع أفراد المجموعة الـ (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32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) كلم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r" rtl="1">
              <a:lnSpc>
                <a:spcPct val="17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عقد عمليات المقارنة بين المجموعات لإدارة التعليم التنافسي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r" rtl="1">
              <a:lnSpc>
                <a:spcPct val="17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سند لكل مجموعة مهمة تعاونية تتمثل في استخدام الكلمات في كتابة قصة من إعداد المجموع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r" rtl="1">
              <a:lnSpc>
                <a:spcPct val="17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تم اختيار الطلاب في المجموعة بطريقة عشوائية فردية في هجاء الـ (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32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 ) كلمة ثم يقوم أداء المجموعة في كتابة القص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7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052280"/>
            <a:ext cx="76201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cc"/>
                </a:solidFill>
                <a:latin typeface="Times New Roman"/>
              </a:rPr>
              <a:t>اليوم الاول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مفاهيم في التعلم التعاوني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cc"/>
                </a:solidFill>
                <a:latin typeface="Times New Roman"/>
              </a:rPr>
              <a:t>اهداف اليوم التدريبي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r" rtl="1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660066"/>
                </a:solidFill>
                <a:latin typeface="Times New Roman"/>
              </a:rPr>
              <a:t>أن يعرف المتدرب التعلم التعاوني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r" rtl="1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</a:rPr>
              <a:t> أن يفرق المتدرب بين التعلم التعاوني والتعليم التقليدي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r" rtl="1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</a:rPr>
              <a:t> أن يتعرف المتدرب على عناصر التعلم التعاوني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80"/>
                </a:solidFill>
                <a:latin typeface="Comic Sans MS"/>
              </a:rPr>
              <a:t>الوسائل التدريبية</a:t>
            </a: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Comic Sans MS"/>
              </a:rPr>
              <a:t>أقلام ، بطاقات ملونة ، جهاز العرض فوق الرأ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320" y="1079280"/>
            <a:ext cx="76201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المراجع</a:t>
            </a:r>
            <a:r>
              <a:rPr b="1" i="1" lang="ar-SA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200000"/>
              </a:lnSpc>
              <a:spcBef>
                <a:spcPts val="425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التعلم الجماعي والفردي ( ديفيد جونسون – روجرتي جونسون ) ترجمة رفعت بهجات ، عالم الكتب – القاهرة ( </a:t>
            </a: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1988</a:t>
            </a: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م 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200000"/>
              </a:lnSpc>
              <a:spcBef>
                <a:spcPts val="425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التعلم التعاوني (ديفيد جونسون – روجرتي جونسون – إديث هوليك ) ترجمة مدارس الظهران الأهلية ، دار تركي للنشر والتوزيع ( </a:t>
            </a: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1416</a:t>
            </a: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هـ )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200000"/>
              </a:lnSpc>
              <a:spcBef>
                <a:spcPts val="425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التعلم التنافسي الجمعي والفردي ( سميث كلاهام ) جامعة متشغن ترجمة بثينة عبود ( دار الحرية ) لبنان ( </a:t>
            </a: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2000</a:t>
            </a: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م )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200000"/>
              </a:lnSpc>
              <a:spcBef>
                <a:spcPts val="425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فريق التعلم ( إدوارد ستانسون ) جامعة ملبورن ، استراليا – الجمعية العالمية للعلوم  ( </a:t>
            </a: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1997</a:t>
            </a: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م)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7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47640" y="1268280"/>
          <a:ext cx="6984720" cy="5113080"/>
        </p:xfrm>
        <a:graphic>
          <a:graphicData uri="http://schemas.openxmlformats.org/drawingml/2006/table">
            <a:tbl>
              <a:tblPr/>
              <a:tblGrid>
                <a:gridCol w="2327760"/>
                <a:gridCol w="3492720"/>
                <a:gridCol w="1164240"/>
              </a:tblGrid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ff0000"/>
                          </a:solidFill>
                          <a:latin typeface="Times New Roman"/>
                          <a:cs typeface="Traditional Arabic"/>
                        </a:rPr>
                        <a:t>الزمن بالدقيقة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ff0000"/>
                          </a:solidFill>
                          <a:latin typeface="Times New Roman"/>
                          <a:cs typeface="Traditional Arabic"/>
                        </a:rPr>
                        <a:t>اجراءات التنفي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ff0000"/>
                          </a:solidFill>
                          <a:latin typeface="Times New Roman"/>
                          <a:cs typeface="Traditional Arabic"/>
                        </a:rPr>
                        <a:t>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التعارف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عرض ورقة البداي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نشاط  ( </a:t>
                      </a: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ea typeface="Traditional Arabic"/>
                        </a:rPr>
                        <a:t>1/1</a:t>
                      </a: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ea typeface="Traditional Arabic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العرض والمناقش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نشاط  ( </a:t>
                      </a: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ea typeface="Traditional Arabic"/>
                        </a:rPr>
                        <a:t>1/2</a:t>
                      </a: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ea typeface="Traditional Arabic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2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العرض والمناقش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نشاط  ( </a:t>
                      </a: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ea typeface="Traditional Arabic"/>
                        </a:rPr>
                        <a:t>1/3</a:t>
                      </a: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ea typeface="Traditional Arabic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نشاط  ( </a:t>
                      </a: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ea typeface="Traditional Arabic"/>
                        </a:rPr>
                        <a:t>1/4</a:t>
                      </a: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ea typeface="Traditional Arabic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العرض والمناقش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نشاط  ( </a:t>
                      </a: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ea typeface="Traditional Arabic"/>
                        </a:rPr>
                        <a:t>1/5</a:t>
                      </a: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ea typeface="Traditional Arabic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العرض والمناقش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ورقة الخاتم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2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cs typeface="Traditional Arabic"/>
                        </a:rPr>
                        <a:t>المجمــــــــــو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09160" y="1052280"/>
            <a:ext cx="762012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Symbol"/>
                <a:cs typeface="Symbol"/>
              </a:rPr>
              <a:t>التعار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ff"/>
                </a:solidFill>
                <a:latin typeface="Symbol"/>
                <a:ea typeface="Symbol"/>
              </a:rPr>
              <a:t>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يطلب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من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كل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متدرب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أن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يدون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معلومات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عن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زميله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لذي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بجانبه؛بحيث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تشتمل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تلك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لمعلومات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على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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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سمه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وكنيته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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عمره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وتخصصه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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سنوات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لخدمة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ومكان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لعمل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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هواياته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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إن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وجد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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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يقوم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لمدرب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بعد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لتعارف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لثنائي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بتشكيل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مجموعات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عمل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–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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يطلب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من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كل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مجموعة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أن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يختاروا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سماً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لمجموعتهم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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يقوم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أفراد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لمجموعة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بتعارف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بسيط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داخل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لمجموعة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نفسها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ff"/>
                </a:solidFill>
                <a:latin typeface="Symbol"/>
                <a:ea typeface="Symbol"/>
              </a:rPr>
              <a:t>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يهدف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هذا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النشاط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إلى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إذابة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الجليد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بين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المتدربين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وتحفيزهم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للعمل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معاً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16000" y="1081080"/>
            <a:ext cx="15112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4680" y="409680"/>
            <a:ext cx="7467840" cy="642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15640" y="1103400"/>
            <a:ext cx="75754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محاضرة مبسط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ب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99"/>
                </a:solidFill>
                <a:latin typeface="Comic Sans MS"/>
              </a:rPr>
              <a:t>العلاقة بين التعاون و</a:t>
            </a:r>
            <a:r>
              <a:rPr b="1" lang="ar-SA" sz="2000" spc="-1" strike="noStrike">
                <a:solidFill>
                  <a:srgbClr val="003399"/>
                </a:solidFill>
                <a:latin typeface="Comic Sans MS"/>
                <a:cs typeface="Times New Roman (Arabic)"/>
              </a:rPr>
              <a:t>الإ</a:t>
            </a:r>
            <a:r>
              <a:rPr b="1" lang="ar-SA" sz="2000" spc="-1" strike="noStrike">
                <a:solidFill>
                  <a:srgbClr val="003399"/>
                </a:solidFill>
                <a:latin typeface="Comic Sans MS"/>
              </a:rPr>
              <a:t>نجا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الاسلام والتعاو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Comic Sans MS"/>
              </a:rPr>
              <a:t>قال تعالى  ( وتعاونوا على البر والتقوى  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Comic Sans MS"/>
              </a:rPr>
              <a:t>قال عليه الصلاة والسلام ( إن يد الله مع الجماعة 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Comic Sans MS"/>
              </a:rPr>
              <a:t>حتى رسالة </a:t>
            </a:r>
            <a:r>
              <a:rPr b="1" lang="ar-SA" sz="2000" spc="-1" strike="noStrike">
                <a:solidFill>
                  <a:srgbClr val="660066"/>
                </a:solidFill>
                <a:latin typeface="Comic Sans MS"/>
                <a:cs typeface="Times New Roman (Arabic)"/>
              </a:rPr>
              <a:t>الإ</a:t>
            </a:r>
            <a:r>
              <a:rPr b="1" lang="ar-SA" sz="2000" spc="-1" strike="noStrike">
                <a:solidFill>
                  <a:srgbClr val="660066"/>
                </a:solidFill>
                <a:latin typeface="Comic Sans MS"/>
              </a:rPr>
              <a:t>سلام لم تتحقق </a:t>
            </a:r>
            <a:r>
              <a:rPr b="1" lang="ar-SA" sz="2000" spc="-1" strike="noStrike">
                <a:solidFill>
                  <a:srgbClr val="660066"/>
                </a:solidFill>
                <a:latin typeface="Comic Sans MS"/>
                <a:cs typeface="Times New Roman (Arabic)"/>
              </a:rPr>
              <a:t>أ</a:t>
            </a:r>
            <a:r>
              <a:rPr b="1" lang="ar-SA" sz="2000" spc="-1" strike="noStrike">
                <a:solidFill>
                  <a:srgbClr val="660066"/>
                </a:solidFill>
                <a:latin typeface="Comic Sans MS"/>
              </a:rPr>
              <a:t>هدافها </a:t>
            </a:r>
            <a:r>
              <a:rPr b="1" lang="ar-SA" sz="2000" spc="-1" strike="noStrike">
                <a:solidFill>
                  <a:srgbClr val="660066"/>
                </a:solidFill>
                <a:latin typeface="Comic Sans MS"/>
                <a:cs typeface="Times New Roman (Arabic)"/>
              </a:rPr>
              <a:t>إ</a:t>
            </a:r>
            <a:r>
              <a:rPr b="1" lang="ar-SA" sz="2000" spc="-1" strike="noStrike">
                <a:solidFill>
                  <a:srgbClr val="660066"/>
                </a:solidFill>
                <a:latin typeface="Comic Sans MS"/>
              </a:rPr>
              <a:t>لا بالتعاون الجماعي المنظم ، تحت قيادة النبي صلى الله عليه وسلم  كنتم خير </a:t>
            </a:r>
            <a:r>
              <a:rPr b="1" lang="ar-SA" sz="2000" spc="-1" strike="noStrike">
                <a:solidFill>
                  <a:srgbClr val="660066"/>
                </a:solidFill>
                <a:latin typeface="Comic Sans MS"/>
                <a:cs typeface="Times New Roman (Arabic)"/>
              </a:rPr>
              <a:t>أمة</a:t>
            </a:r>
            <a:r>
              <a:rPr b="1" lang="ar-SA" sz="2000" spc="-1" strike="noStrike">
                <a:solidFill>
                  <a:srgbClr val="660066"/>
                </a:solidFill>
                <a:latin typeface="Comic Sans MS"/>
              </a:rPr>
              <a:t> اخرجت للناس 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Comic Sans MS"/>
              </a:rPr>
              <a:t>فالله سبحانه وتعالى قد أخرج أمة بأسرها لا فرداً فحسب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1074600"/>
            <a:ext cx="15130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ائ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04560" y="1541520"/>
            <a:ext cx="7488360" cy="43927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Comic Sans MS"/>
              </a:rPr>
              <a:t>   </a:t>
            </a:r>
            <a:r>
              <a:rPr b="1" i="1" lang="ar-SA" sz="3200" spc="-1" strike="noStrike">
                <a:solidFill>
                  <a:srgbClr val="ff0000"/>
                </a:solidFill>
                <a:latin typeface="Comic Sans MS"/>
              </a:rPr>
              <a:t>نشاط  ( </a:t>
            </a:r>
            <a:r>
              <a:rPr b="1" i="1" lang="ar-SA" sz="3200" spc="-1" strike="noStrike">
                <a:solidFill>
                  <a:srgbClr val="ff0000"/>
                </a:solidFill>
                <a:latin typeface="Comic Sans MS"/>
              </a:rPr>
              <a:t>1/1</a:t>
            </a:r>
            <a:r>
              <a:rPr b="1" i="1" lang="ar-SA" sz="3200" spc="-1" strike="noStrike">
                <a:solidFill>
                  <a:srgbClr val="ff0000"/>
                </a:solidFill>
                <a:latin typeface="Comic Sans MS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99"/>
                </a:solidFill>
                <a:latin typeface="Comic Sans MS"/>
              </a:rPr>
              <a:t>مناقشة مفتوحة :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أ-</a:t>
            </a: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2800" spc="-1" strike="noStrike">
                <a:solidFill>
                  <a:srgbClr val="660066"/>
                </a:solidFill>
                <a:latin typeface="Comic Sans MS"/>
              </a:rPr>
              <a:t>تعريف التعلم التعاوني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ب-</a:t>
            </a:r>
            <a:r>
              <a:rPr b="1" lang="ar-SA" sz="2800" spc="-1" strike="noStrike">
                <a:solidFill>
                  <a:srgbClr val="660066"/>
                </a:solidFill>
                <a:latin typeface="Comic Sans MS"/>
              </a:rPr>
              <a:t> التفاعل داخل حجرة الصف وأنواعه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32000" y="1058760"/>
            <a:ext cx="168732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ائ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1:28:21Z</dcterms:created>
  <dc:creator>alaithan</dc:creator>
  <dc:description/>
  <dc:language>en-US</dc:language>
  <cp:lastModifiedBy>bgd</cp:lastModifiedBy>
  <dcterms:modified xsi:type="dcterms:W3CDTF">2005-12-04T22:45:58Z</dcterms:modified>
  <cp:revision>188</cp:revision>
  <dc:subject/>
  <dc:title>PowerPoint Presentation</dc:title>
</cp:coreProperties>
</file>