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AC8-22AF-499E-88D9-D753AA1B9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4436-36FE-43DA-9657-9D7E7392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FF13-939E-4B83-A25D-CB25AFCC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A7F-A79A-4D8F-BB4D-0E0DE358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0798-0567-4206-8721-A2E24041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7D4A-F046-4D4D-96CE-3A5B4D1D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A5CB-CA83-4C4E-960D-23087667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4014-7342-441A-AB20-25D8A3042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F271-1B77-43F8-9A9C-E0B449C7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16BD0-E547-4FFD-8F84-FC078EF1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C8C0-362F-4B3C-8DAB-254E9180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B82-D697-4CD6-828A-720F84B8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5468-4021-480C-987E-DBA22AFD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5143-059C-4BD3-82A1-59690F12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8876-A1B2-4089-8867-D0298445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3416-7D0E-4D36-84C8-6D7BC6D0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64D90-FA7F-401C-83A0-EDB847A0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CEAF-01D0-466D-90AC-9C5A69DD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FF31-70C0-473F-8281-662406D3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9AC3-5FEB-481C-B49E-00899CDE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CFA0-EDCD-4B93-AAD4-A89BE359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8CEE-DA81-4E4C-AF8A-8B4AD8DD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670F-99D4-43B7-924C-63E5EF31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E69-040C-485C-97E0-17B009D6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77C3-F145-40B9-BB28-3068EF341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737F-D971-4C2F-B0FA-F16C0D15A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6.jpeg"/><Relationship Id="rId11" Type="http://schemas.openxmlformats.org/officeDocument/2006/relationships/image" Target="../media/image6.jpe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6.jpeg"/><Relationship Id="rId16" Type="http://schemas.openxmlformats.org/officeDocument/2006/relationships/image" Target="../media/image6.jpeg"/><Relationship Id="rId17" Type="http://schemas.openxmlformats.org/officeDocument/2006/relationships/image" Target="../media/image6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6.jpeg"/><Relationship Id="rId21" Type="http://schemas.openxmlformats.org/officeDocument/2006/relationships/image" Target="../media/image6.jpeg"/><Relationship Id="rId22" Type="http://schemas.openxmlformats.org/officeDocument/2006/relationships/image" Target="../media/image6.jpeg"/><Relationship Id="rId23" Type="http://schemas.openxmlformats.org/officeDocument/2006/relationships/image" Target="../media/image6.jpeg"/><Relationship Id="rId24" Type="http://schemas.openxmlformats.org/officeDocument/2006/relationships/image" Target="../media/image6.jpeg"/><Relationship Id="rId25" Type="http://schemas.openxmlformats.org/officeDocument/2006/relationships/image" Target="../media/image6.jpeg"/><Relationship Id="rId26" Type="http://schemas.openxmlformats.org/officeDocument/2006/relationships/image" Target="../media/image6.jpeg"/><Relationship Id="rId27" Type="http://schemas.openxmlformats.org/officeDocument/2006/relationships/image" Target="../media/image6.jpeg"/><Relationship Id="rId28" Type="http://schemas.openxmlformats.org/officeDocument/2006/relationships/image" Target="../media/image6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6.jpeg"/><Relationship Id="rId32" Type="http://schemas.openxmlformats.org/officeDocument/2006/relationships/image" Target="../media/image6.jpeg"/><Relationship Id="rId33" Type="http://schemas.openxmlformats.org/officeDocument/2006/relationships/image" Target="../media/image6.jpeg"/><Relationship Id="rId3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0600" y="4419720"/>
            <a:ext cx="2624040" cy="187776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33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411280" y="260280"/>
            <a:ext cx="4273560" cy="744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606760" y="3044880"/>
            <a:ext cx="3657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  الإخراج على الحاس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الاستاذ / عبدالله محمد علي العمري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إدارة التقويم الشامل بمحافظة المخوا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1812960"/>
            <a:ext cx="388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a1bd69"/>
                </a:solidFill>
                <a:latin typeface="Comic Sans MS"/>
              </a:rPr>
              <a:t>التعلم التعاون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238880" cy="66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096920"/>
            <a:ext cx="767736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1/1</a:t>
            </a: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Comic Sans MS"/>
              </a:rPr>
              <a:t>تفاعل منظم بين مجموعة محددة من الطلاب لتحقيق مهمة مدروسة في زمن معلوم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2640" y="1174320"/>
            <a:ext cx="762012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694b6"/>
                </a:solidFill>
                <a:latin typeface="Symbol"/>
                <a:cs typeface="Symbol"/>
              </a:rPr>
              <a:t>تابع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cs typeface="Symbol"/>
              </a:rPr>
              <a:t>المادة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cs typeface="Symbol"/>
              </a:rPr>
              <a:t>العلمية</a:t>
            </a:r>
            <a:r>
              <a:rPr b="1" lang="ar-SA" sz="2400" spc="-1" strike="noStrike">
                <a:solidFill>
                  <a:srgbClr val="3694b6"/>
                </a:solidFill>
                <a:latin typeface="Symbol"/>
                <a:ea typeface="Symbol"/>
              </a:rPr>
              <a:t>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8000"/>
                </a:solidFill>
                <a:latin typeface="Symbol"/>
                <a:cs typeface="Symbol"/>
              </a:rPr>
              <a:t>أنواع</a:t>
            </a:r>
            <a:r>
              <a:rPr b="1" lang="ar-SA" sz="3600" spc="-1" strike="noStrike">
                <a:solidFill>
                  <a:srgbClr val="008000"/>
                </a:solidFill>
                <a:latin typeface="Symbol"/>
                <a:ea typeface="Symbol"/>
              </a:rPr>
              <a:t></a:t>
            </a:r>
            <a:r>
              <a:rPr b="1" lang="ar-SA" sz="3600" spc="-1" strike="noStrike">
                <a:solidFill>
                  <a:srgbClr val="008000"/>
                </a:solidFill>
                <a:latin typeface="Symbol"/>
                <a:cs typeface="Symbol"/>
              </a:rPr>
              <a:t>التفاع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معل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ع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ع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ع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ماد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علم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Symbol"/>
                <a:cs typeface="Symbol"/>
              </a:rPr>
              <a:t>ملاحظ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يبقى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تعل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تقليدي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يركز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على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تفاعل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الب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ع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معل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ن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جه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والماد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دراسي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ن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جه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أخرى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غفلاً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قضية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تفاعل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طلاب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فيما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بينه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،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وهذا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بالتأكيد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تكفله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مجموعات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تعلم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cs typeface="Symbol"/>
              </a:rPr>
              <a:t>التعاوني</a:t>
            </a:r>
            <a:r>
              <a:rPr b="1" lang="ar-SA" sz="2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68120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20559000">
            <a:off x="1857600" y="2555640"/>
            <a:ext cx="568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660066"/>
                </a:solidFill>
                <a:latin typeface="Times New Roman"/>
              </a:rPr>
              <a:t>                   ما هي أهمية إيجاد علاقات تعليمية وإنسانية بين الطلاب داخل الصف ؟ وما نتائج ذلك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8560" y="1125360"/>
            <a:ext cx="762012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1/2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ctr" rtl="1">
              <a:lnSpc>
                <a:spcPct val="1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Comic Sans MS"/>
              </a:rPr>
              <a:t>أهمية علاقات القرن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تطوير المعرف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تطبيع الاجتماعي للفر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Comic Sans MS"/>
              </a:rPr>
              <a:t>توضي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يتعلم الفرد سواء أكان طفلاً أو بالغاً أثناء تفاعله مع مجموعة القرناء وبشكل مباشر معلومات واتجاهات وقيم ومهارات يصعب الحصول عليها مجتمعة من المعل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يتيح التفاعل مع القرناء للمتعلم تحديد السلوكيات 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الإ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يجابية والاجتماعية وممارست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تولد لدى المتعلم الكيفية المثلى في إدارة الوق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مجموعة تقوم بدورها في تطوير حرية الإدارة والثقة والاستقلالية الإيجابية لدى الفرد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جموعة القرناء تحمي الفرد من 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إ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كانات الوحدة والعزلة والاكتئاب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Comic Sans MS"/>
              </a:rPr>
              <a:t>التعلم التعاوني يرتبط ارتباطاً إيجابياً بعدد من العوامل الخاصة بالصحة النفسية ، مثل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نضج الانفعال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العلاقات الاجتماعية الإيجاب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ذاتية الفرد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 algn="r" rtl="1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ثقة الفرد في الآخري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163160"/>
            <a:ext cx="762012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1/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نتائج تفاعل الطلاب فيما بينهم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زيادة تحصيل المتعلم بدرجة عالي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تدريب الطلاب على استخدام استراتيجيات التعقل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إثارة دافعية الطالب تجاه التعلم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تطوير العلاقات الإنسانية بين الطلاب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يزيد من ثقة الطالب في ذاته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إكساب الطلاب المهارات اللازمة لإدارة التفاعلات الشخصي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يعطي قيمة للمادة المراد دراستها لدى المعلم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إضــــاء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6600"/>
                </a:solidFill>
                <a:latin typeface="Times New Roman"/>
              </a:rPr>
              <a:t>(( يمكن للطلاب أن يحققوا استفادة أكبر من التعليم عندما يقومون بتعليم بعضهم البعض )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125000"/>
            <a:ext cx="76201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2800" spc="-1" strike="noStrike">
                <a:solidFill>
                  <a:srgbClr val="ff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000000"/>
                </a:solidFill>
                <a:latin typeface="Times New Roman"/>
              </a:rPr>
              <a:t>ناقش معن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عناصر التعلم التعاوني الرئيسية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لعمل بروح الفري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ينبغي على طلاب المجموعة الواحدة أن يدركوا أن عليهم أن يستجيبوا معاً لكي ينجوا من الغرق ( التفاعل المتبادل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ويمكن أن يتحقق هذا الاقتناع من خلال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تقسيم المواد والمصادر والمعلومات بين أعضاء المجمو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تحقيق مهمة مشتركة لجميع أعضاء المجمو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تحديد أدوار مختلفة للطلاب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تعيين جوائز مشتركة لأعضاء المجمو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تطوير التفاعل اللفظي ( وجهاً لوجه ) بين الطلاب في الصف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لمسؤولية الفردية عن التفوق في المادة حيث يكون كل عضو في المجموعة مسؤولاً عن رفع مستواه التحصيل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ستخدام مهارات إدارة المجموعة والمهارات الشخصية بشكل مناسب من قبل المتعلم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107316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557360"/>
            <a:ext cx="7620120" cy="47512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1</a:t>
            </a: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/ </a:t>
            </a: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4</a:t>
            </a:r>
            <a:r>
              <a:rPr b="1" i="1" lang="ar-SA" sz="3200" spc="-1" strike="noStrike">
                <a:solidFill>
                  <a:srgbClr val="fefde3"/>
                </a:solidFill>
                <a:latin typeface="Times New Roman"/>
              </a:rPr>
              <a:t> )</a:t>
            </a:r>
            <a:r>
              <a:rPr b="1" lang="ar-SA" sz="2000" spc="-1" strike="noStrike">
                <a:solidFill>
                  <a:srgbClr val="fefde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بعد تعرفك على التعلم التعاو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والوقوف على عناصره 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حاول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أ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ن تستنتج أهم الفروق بين التعل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التعاوني والتعلم التقليدي الفردي 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108432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1320" y="1066320"/>
            <a:ext cx="76197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1/4</a:t>
            </a: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 algn="r" rtl="1">
              <a:lnSpc>
                <a:spcPct val="2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8000"/>
                </a:solidFill>
                <a:uFillTx/>
                <a:latin typeface="Times New Roman"/>
              </a:rPr>
              <a:t>الفرق بين التعلم التعاوني الجماعي والتعلم التقليدي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تفاعل الإيجابي : يقوم التعلم التعاوني على 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أ</a:t>
            </a: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ساس التفاعل الايجابي المتبادل بين أعضاء المجموع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مسؤولية الفردية :تحدد مجموعات التعلم التعاوني مسؤولية معينة لكل فرد في المجموعة حيث يسند لكل طالب دور خاص يرتبط بتفوقه العلمي في المادة التعليمي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خصائص الشخصية لأعضاء المجموعة : يختلف أعضاء المجموعة الواحدة في خصائصهم الشخصية وقدراتهم الذاتي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قيادة المجموعة : يقود المجموعة جميع الأعضاء في حالة التعلم التعاوني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دعم والتشجيع : يكون المتعلم مسؤولاً عن تعليم غيره ومن ثم فإن أعضاء المجموعة الواحدة يتوقعون الحصول على الدعم والتشجيع من بعضهم البعض حرصاً على إنجاز العمل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1320" y="1066320"/>
            <a:ext cx="76197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1/4</a:t>
            </a:r>
            <a:r>
              <a:rPr b="1" lang="ar-SA" sz="22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 algn="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أغراض الطالب : تتلخص الأغراض في وصولهم إلى أقصى درجة من علاقات العمل مع بعضهم البعض أما في المجموعات التقليدية تتلخص في إنجاز المهم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مهارات الاجتماعية : يحتاج المتعلم إلى مهارات ( القيادة ، والاتصال ، وإثارة الآخرين، وإدارة الصراعات )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دور المعلم :                                                                                                                                          * ملاحظة أعضاء المجموعة                                                                                                                    * تحليل المشكلات التي تواجه المجموعة                                                                                                             * إبلاغهم بالتغذية الراجعة المتعلقة بالكيفية المثلى لإدارة العمل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spcBef>
                <a:spcPts val="550"/>
              </a:spcBef>
              <a:buClr>
                <a:srgbClr val="ff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66"/>
                </a:solidFill>
                <a:latin typeface="Times New Roman"/>
              </a:rPr>
              <a:t>الطريقة التي تعمل بها المجموعة :فالملاحظ أن المعلم يهتم بطريقة عمل المجموعة لا بالنتيجة فقط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109548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76440" y="2144880"/>
          <a:ext cx="6918120" cy="3931920"/>
        </p:xfrm>
        <a:graphic>
          <a:graphicData uri="http://schemas.openxmlformats.org/drawingml/2006/table">
            <a:tbl>
              <a:tblPr/>
              <a:tblGrid>
                <a:gridCol w="3168720"/>
                <a:gridCol w="3235320"/>
                <a:gridCol w="5140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دور الطال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دور المعل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لعمل على تركيز انتباه أفراد مجموعته في الماد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وضع الطلاب في اتصال فعال مع المادة العل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تباع الاتجاهات والتوجيه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إيجاد الظروف المناسبة للتعل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بذل الجهد المناسب للوصول للهد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تنظيم الطلا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إتمام المهمة في الوقت المناس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شرح المهمة التعليمية والهدف من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إجراء عمليات التقوي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3851280" y="1120680"/>
            <a:ext cx="47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دور المعلم والطالب في التعلم التعاو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238880" cy="1387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bd8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6000" spc="-1" strike="noStrike">
                <a:solidFill>
                  <a:srgbClr val="a1bd69"/>
                </a:solidFill>
                <a:latin typeface="Comic Sans MS"/>
              </a:rPr>
              <a:t>التعلم التعاوني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2204640"/>
            <a:ext cx="767700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ff"/>
                </a:solidFill>
                <a:latin typeface="Times New Roman"/>
              </a:rPr>
              <a:t>( حقيبة تدريبية 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221304"/>
                </a:solidFill>
                <a:latin typeface="Times New Roman"/>
                <a:cs typeface="Hesham AlSharq"/>
              </a:rPr>
              <a:t>إعدا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Times New Roman"/>
                <a:cs typeface="Thulth"/>
              </a:rPr>
              <a:t>حسن بن أحمد عقيل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800080"/>
                </a:solidFill>
                <a:latin typeface="Times New Roman"/>
                <a:cs typeface="Thulth"/>
              </a:rPr>
              <a:t>عبدالله بن عبدالعزيز المبر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ff"/>
                </a:solidFill>
                <a:latin typeface="Sylfaen"/>
                <a:cs typeface="Andalus"/>
              </a:rPr>
              <a:t>إدارة التدريب التربوي بالري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68120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20559000">
            <a:off x="2061360" y="2224080"/>
            <a:ext cx="5688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لماذا تفوق النظام الصناعي الياباني آسيوياً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هل لكفاءة أيديهم العاملة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أم لأنهم لا يرضون إلا بمواصفات عالية من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الإ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نتاج 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أم أن المستوى المعيشي مرتفع ومن هنا تزداد الدافعية للعمل ؟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092240"/>
            <a:ext cx="762012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1/5</a:t>
            </a:r>
            <a:r>
              <a:rPr b="1" lang="ar-SA" sz="24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لقد ثبت فعلياً أن من أهم أسباب تفوق النظام الصناعي الياباني آسيوياً يرجع الى أن العمال اليابانيين أكثر ذكاء من نظرائهم في 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الأ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قطار الأخرى ، لأنهم أكثر قدرة على العمل معاً في شكل متناسق يعاون فيه كل فرد الأخر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( التعامل مع أدق الأجهزة يتم من خلال فريق عمل متكامل ، فالجهاز مهما بلغ حجمه أو أهميته تعمل على تجميعه عدة أيدي وعدة عقول لذا تبقى جودة المنتج واحتمالات الخطأ في تجميعه أقل من الدول الأخرى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11456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8000"/>
                </a:solidFill>
                <a:uFillTx/>
                <a:latin typeface="Times New Roman"/>
              </a:rPr>
              <a:t>خاتمة اليوم الأو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r" rtl="1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لقد أشارت نتائج الأبحاث إلى أن تحصيل الطالب يرتفع عندما تصاغ مواقف التعلم على شكل مواقف تعاونية  ........ ذلك لأن المواقف التعاونية تطور لدى المتعلم كفايات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r" rtl="1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التفكير الناقد .                                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 اتجاهات إيجابية نحو الما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r" rtl="1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 algn="r" rtl="1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كيفية العمل مع الآخرين .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الصحة النفسي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169640"/>
            <a:ext cx="762012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 u="sng">
                <a:solidFill>
                  <a:srgbClr val="008000"/>
                </a:solidFill>
                <a:uFillTx/>
                <a:latin typeface="Times New Roman"/>
              </a:rPr>
              <a:t>دراسات ونتائج 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في العقود الماضية أجريت نحو (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122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) دراسة ميدانية لرصد أثر التعلم التعاوني في التحصيل الدراسي  وقد أسفرت تلك الدراسات عن تفوق طلبة التعلم التعاوني في المهارات التالي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حل المشكلات .   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اكتساب المفاهيم .         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الحفظ والتذكر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الأداء الحركي .           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إصدار الأحكام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يقول سلافين (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1983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م) لقد أسفرت نتائج الدراسات عن الآتي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63%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أثبتت تفوق طلبة التعلم التعاوني على التعلم التقليد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33%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لم تثبت أية فروق بين النمطين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4%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فقط أثبتت تفوق طلبة التعلم التقليدي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أما فيما يتعلق بالمهارات الاجتماعية الدراسات على تحقيق مجموعات التعلم التعاوني مستويات عليا من التوافق الاجتماعي ودرجات رفيعة من الرضى وانطباعات إيجابية عن الذ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096920"/>
            <a:ext cx="753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يوم الثاني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003399"/>
                </a:solidFill>
                <a:latin typeface="Times New Roman"/>
              </a:rPr>
              <a:t>تشكيل المجموعات التعاوني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ff0000"/>
                </a:solidFill>
                <a:latin typeface="Times New Roman"/>
              </a:rPr>
              <a:t>هدف اليوم التدريبي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Clr>
                <a:srgbClr val="6600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ن يتقن المتدرب تشكيل المجموعات التعاونية في درسه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>
                <a:solidFill>
                  <a:srgbClr val="ff0000"/>
                </a:solidFill>
                <a:latin typeface="Times New Roman"/>
              </a:rPr>
              <a:t>الوسائل التدريبي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قلام ، بطاقات ملونة ، جهاز العرض فوق الرأس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106992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187280" y="2897280"/>
          <a:ext cx="7129800" cy="3673440"/>
        </p:xfrm>
        <a:graphic>
          <a:graphicData uri="http://schemas.openxmlformats.org/drawingml/2006/table">
            <a:tbl>
              <a:tblPr/>
              <a:tblGrid>
                <a:gridCol w="2373480"/>
                <a:gridCol w="2382840"/>
                <a:gridCol w="23734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زمن بالدقيق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إجراءات التنفي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محاض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لعرض والمناقش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عرض ورقة الخاتم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221304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جـــــــمــــــــــــــــــو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108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حاضرة مبسط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8000"/>
                </a:solidFill>
                <a:latin typeface="Times New Roman"/>
              </a:rPr>
              <a:t>قبل أن نبد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ثير مجموعات التعلم التعاوني نوعاً من التفاعلات الإيجابية بين الطلاب وتسهل عمليات التحصيل ، فالأهداف التعاونية تركز على عمليات تبادل الأفكار والتعزيز وتهيئ استيعاباً انفعالياً أكبر للطالب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8000"/>
                </a:solidFill>
                <a:latin typeface="Times New Roman"/>
              </a:rPr>
              <a:t>يجب على المعلم صياغة دروس تساهم في تحقيق الأهداف التالية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مساعدة الطلاب على العمل داخل المجموعات الصغيرة بغية وصول جميع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أ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فراد المجموعة إلى مستوى الإتقا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دخول الطلاب في مسابقات تقوم على أساس المنافسة من أجل المتعة بدلاً من التنافس الذي يبنى على أساس الفوز والخسار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-505800" algn="r" rtl="1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تاحة الفرصة أمام الطالب للعمل بشكل فردي لتحقيق أغراض خاصة ثم تحديد مدى قرب الطالب أو بعده من معايير الامتياز التي حددت بشكل مسبق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إضاء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580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قدرة أحد أفراد المجموعة التعاونية على تحقيق هدف ما ، يكفل لباقي أفراد المجموعة تحقيق نفس الهدف .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42920" y="108108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103040"/>
            <a:ext cx="7608960" cy="5421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efde3"/>
                </a:solidFill>
                <a:uFillTx/>
                <a:latin typeface="Times New Roman"/>
              </a:rPr>
              <a:t>نشاط 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( 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 / 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fefde3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ff66"/>
                </a:solidFill>
                <a:latin typeface="Times New Roman"/>
              </a:rPr>
              <a:t>إذا رغبت في تشكيل المجموعا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تصور شكل المجموعات التي ترغب تشكيلها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هل ستدخل الصف ثم تبدأ بالتوزيع مباش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أم أنك ستفكر في أمور أخرى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        بطبيعة المجموعات 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1100160"/>
            <a:ext cx="16873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114560"/>
            <a:ext cx="7620120" cy="46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800" spc="-1" strike="noStrike">
                <a:solidFill>
                  <a:srgbClr val="3694b6"/>
                </a:solidFill>
                <a:latin typeface="Comic Sans MS"/>
              </a:rPr>
              <a:t>2/1</a:t>
            </a:r>
            <a:r>
              <a:rPr b="1" lang="ar-SA" sz="28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</a:rPr>
              <a:t>على المعلم أن يسأل نفسه ثلاثة أسئلة قبل تشكيل المجموعات التعاون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هل نحتاج إلى مجموعة متجانسة أم مختلفة 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هل يقوم المعلم باختيار أعضاء المجموعة ؟ أم يترك هذه المهمة للطلاب 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ما الفترة الزمنية التي يجب أن يمكثها الطلاب على شكل مجموعة 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إذا كانت فترة التعلم مختصرة فإن المجموعة الصغيرة ستكون أكثر فاعلي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لإمكانات المتاحة وطبيعة المهمة يحددان حجم المجموع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المجموعة الكبيرة لابد وأن تتضمن تنوعاً كبيراً في الخبرات والقدرات والمهار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108108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69056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20559000">
            <a:off x="2165040" y="2703240"/>
            <a:ext cx="5688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     الآن ابدأ في تشكيل مجموعات التعلم التعاوني  ، مراعياً ما سبق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042560"/>
            <a:ext cx="762012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76392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2/2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0" algn="ctr" rtl="1">
              <a:lnSpc>
                <a:spcPct val="1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  طرق تشكيل المجموعات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الطريقة العشوا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0" algn="r" rtl="1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أ-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عشوائية الكاملة ، وتكون بإحدى الطرق التالية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حسب الترتيب الأبجد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و التجميع العشوائي ( جمع كل ستة مثلاً متقاربين في المقاعد في مجموعة واحدة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0" algn="r" rtl="1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 ب- شبه عشوائية وأهم خطواتها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طلب المعلم من كل طالب تسجيل ثلاثة زملاء يرغب في العمل معهم ، ومن خلال ذلك يستطيع المعلم معرفة الطلاب المعزولين أو الطلاب الغير مرغوب فيهم وذلك لجعلهم نواة المجموعة التي تضم مجموعة من طلاب ماهرين معه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عطاء كل طالب رقم معين ثم يتم تحديد الطلاب بطريقة عشوائية لتكوين مجموعات التعلم التعاون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63920" indent="-763920" algn="r" rtl="1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ركيز على تطوير علاقات حركية بين الطلاب المعاقين وغير المعاقين وبين الأغلبية والأقلية ودمجهم بالمجموعات التعاون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2388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3694b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2640" y="1219320"/>
            <a:ext cx="76770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400" spc="-1" strike="noStrike">
                <a:solidFill>
                  <a:srgbClr val="660066"/>
                </a:solidFill>
                <a:latin typeface="Comic Sans MS"/>
              </a:rPr>
              <a:t>الهدف العام للبرنامج :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>
                <a:solidFill>
                  <a:srgbClr val="000099"/>
                </a:solidFill>
                <a:latin typeface="Comic Sans MS"/>
              </a:rPr>
              <a:t>أن يتقن المتدرب</a:t>
            </a:r>
            <a:r>
              <a:rPr b="1" i="1" lang="ar-SA" sz="2600" spc="-1" strike="noStrike">
                <a:solidFill>
                  <a:srgbClr val="000099"/>
                </a:solidFill>
                <a:latin typeface="Comic Sans MS"/>
                <a:ea typeface="Times New Roman (Arabic)"/>
              </a:rPr>
              <a:t> أ</a:t>
            </a:r>
            <a:r>
              <a:rPr b="1" i="1" lang="ar-SA" sz="2600" spc="-1" strike="noStrike">
                <a:solidFill>
                  <a:srgbClr val="000099"/>
                </a:solidFill>
                <a:latin typeface="Comic Sans MS"/>
              </a:rPr>
              <a:t>سلوب المجموعات التعاونية في تدريسه</a:t>
            </a:r>
            <a:r>
              <a:rPr b="1" i="1" lang="ar-SA" sz="1800" spc="-1" strike="noStrike">
                <a:solidFill>
                  <a:srgbClr val="000099"/>
                </a:solidFill>
                <a:latin typeface="Comic Sans MS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400" spc="-1" strike="noStrike">
                <a:solidFill>
                  <a:srgbClr val="993366"/>
                </a:solidFill>
                <a:latin typeface="Comic Sans MS"/>
              </a:rPr>
              <a:t>الاهداف التفصيلية</a:t>
            </a:r>
            <a:r>
              <a:rPr b="1" i="1" lang="ar-SA" sz="3400" spc="-1" strike="noStrike">
                <a:solidFill>
                  <a:srgbClr val="993366"/>
                </a:solidFill>
                <a:latin typeface="Comic Sans MS"/>
              </a:rPr>
              <a:t> </a:t>
            </a:r>
            <a:r>
              <a:rPr b="1" i="1" lang="ar-SA" sz="3400" spc="-1" strike="noStrike">
                <a:solidFill>
                  <a:srgbClr val="993366"/>
                </a:solidFill>
                <a:latin typeface="Comic Sans MS"/>
              </a:rPr>
              <a:t>:</a:t>
            </a:r>
            <a:r>
              <a:rPr b="1" i="1" lang="ar-SA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00"/>
                </a:solidFill>
                <a:latin typeface="Comic Sans MS"/>
              </a:rPr>
              <a:t>في نهاية البرنامج يتوقع من المتدرب أن</a:t>
            </a:r>
            <a:r>
              <a:rPr b="1" i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ar-SA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i="1" lang="ar-SA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i="1" lang="ar-SA" sz="2800" spc="-1" strike="noStrike">
                <a:solidFill>
                  <a:srgbClr val="0000ff"/>
                </a:solidFill>
                <a:latin typeface="Comic Sans MS"/>
              </a:rPr>
              <a:t>يفرق بين التعلم التعاوني والتقليد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ar-SA" sz="2800" spc="-1" strike="noStrike">
                <a:solidFill>
                  <a:srgbClr val="0000ff"/>
                </a:solidFill>
                <a:latin typeface="Comic Sans MS"/>
              </a:rPr>
              <a:t>يشكل مجموعات التعلم التعاوني بكفاء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ff"/>
                </a:solidFill>
                <a:latin typeface="Comic Sans MS"/>
              </a:rPr>
              <a:t> يدير مجموعات التعلم التعاوني بكفاء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467480" cy="739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6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209240"/>
            <a:ext cx="762012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2/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الطريقة العنقودي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سميت بذلك تشبيهاً لعناقيد العنب ، فغالباً ما تكون حبيبات العنقود الواحد متساوية الطعم والحج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هذا يعني أن تكون مجموعات التعلم متجانسة من حيث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مستويات الطلاب الدراس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و الظروف النفس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و المستويات العمر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6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و الاتجاهات والميول الشخص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غالباً ما يلجأ التربويون إلى مثل هذا التقسيم عند رغبتهم في تحقيق أهداف انفعالية (  وجدانية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467480" cy="739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6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209240"/>
            <a:ext cx="7620120" cy="54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2/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أسلوب المجموعة غير المتجانسة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0" algn="r" rtl="1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وقبل البدء في تشكيل المجموعات غير المتجانسة لابد من الالتفات إلى 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ا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لآتي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لابد من الوقوف على مستويات الطلاب التحصيلية قبل البدء في تشكيل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حا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ل أن تحد من اختيار الطلاب مجموعاتهم بأنفسه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صنف الطلاب إلى مستويات ( ممتاز - متوسط - ضعيف ) وفقاً لنتائجهم التحصيل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زع كل مستوى على مجموعات التعلم مع مراعاة عدم تكديس الطلاب الممتازين في مجموعة والضعاف في مجموعة أخرى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0" algn="r" rtl="1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Times New Roman"/>
              </a:rPr>
              <a:t>مزايا التنوع في مستويات الطلاب داخل الحص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ضمان حدوث عمليات الأخذ والعطاء بين جميع الأفراد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يجاد نوع من الترابط الفكري أثناء المناقشة مما يؤدي إلى تطوير تفكير الطلاب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-49356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عميق فهم الطلاب بشكل يساعدهم على الاحتفاظ بالمعلومات لأطول فترة زمنية ممكن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356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69056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20559000">
            <a:off x="2312280" y="2458800"/>
            <a:ext cx="5141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بعد وقوفك على مجموعة من الأساليب الشائعة في تشكيل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      اختر طريقة من الطرائق السابقة مستهدفاً إياها بالنقد ومتعرضاً لأهم نقاط القوة والضعف في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079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8000"/>
                </a:solidFill>
                <a:latin typeface="Times New Roman"/>
              </a:rPr>
              <a:t>خاتمة اليوم الثاني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 rtl="1">
              <a:lnSpc>
                <a:spcPct val="2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يتفق كثير من التربويين على أن العدد المثالي لكل مجموعة يتراوح ما بين ( 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- 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6</a:t>
            </a: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) ، لأن العدد إذا قل عن ثلاثة فإن احتمالات الأخذ والعطاء وتداول الخبرة ستكون قليلة ، وأيضاً فإن زيادة العدد عن ستة قد يؤدي إلى عدم ضمان استفادة جميع الأفراد من النشاط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 rtl="1">
              <a:lnSpc>
                <a:spcPct val="23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Times New Roman"/>
              </a:rPr>
              <a:t> كما يعتقد التربويون أن العدد الزوجي مهم خاصة إذا رغب المعلم في إسناد مهمات ثنائية لبعض الطلاب داخل المجموعة الواحدة 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74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55600" y="1152360"/>
            <a:ext cx="753768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8000"/>
                </a:solidFill>
                <a:latin typeface="Times New Roman"/>
              </a:rPr>
              <a:t>اليوم الثالث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إدارة مجموعات التعل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أهداف اليوم التدريبي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45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ن يعرف المتدرب أساليب إدارة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451"/>
              </a:spcBef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ن يتقن المتدرب تنفيذ اساليب إدارة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الوسائل التدريبية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قلام ، بطاقات ملونة ، جهاز العرض فوق الرأس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1069920"/>
            <a:ext cx="16876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258920" y="3060720"/>
          <a:ext cx="7345440" cy="3392640"/>
        </p:xfrm>
        <a:graphic>
          <a:graphicData uri="http://schemas.openxmlformats.org/drawingml/2006/table">
            <a:tbl>
              <a:tblPr/>
              <a:tblGrid>
                <a:gridCol w="2446200"/>
                <a:gridCol w="2452680"/>
                <a:gridCol w="2446560"/>
              </a:tblGrid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الزمن بالدقيق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إجراءات التنفي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نشاط (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/ 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عرض والمناقش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عرض ورقة الخاتم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800000"/>
                          </a:solidFill>
                          <a:latin typeface="Times New Roman"/>
                        </a:rPr>
                        <a:t>المجـــمـــــــــــــــــــو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169056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نشاط (</a:t>
            </a: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i="1" lang="ar-SA" sz="2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ar-SA" sz="2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20559000">
            <a:off x="2312280" y="2457360"/>
            <a:ext cx="51418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ن التنفيذ العشوائي لدرس بطريقة التعلم التعاوني قد يفسد النتائج المتوخاة من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ما الأمور اللازم مراعاتها من قبل المعلم قبل البدء في تنفيذ الدرس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190160"/>
            <a:ext cx="76201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1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Comic Sans MS"/>
              </a:rPr>
              <a:t>إذا أراد المعلم إعداد درس للتعلم التعاوني لابد وأن يفكر في درسه بعناية ، وهذا يتطلب منه الإجابة على الأسئلة التالية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الذي أرغب أن يحصله الطلاب في هذا الدرس ؟ ما الأهداف المعرفية والمهارية والانفعالية المقصودة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طبيعة المهمة التعليمية هل 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تعلم</a:t>
            </a: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 مفاهيم ؟ أم تعلم مهارة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مقدار المساعدة والتوجيه التي يحتاجها الطالب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المواد والأدوات المطلوبة لتنفيذ الدرس ؟ وهل هي متاحة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نمط المناخ التعليمي اللازم للدرس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ما نمط التفاعل المطلوب بين الطلاب 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Comic Sans MS"/>
              </a:rPr>
              <a:t>التوضيح</a:t>
            </a:r>
            <a:r>
              <a:rPr b="1" lang="ar-SA" sz="18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Comic Sans MS"/>
              </a:rPr>
              <a:t>من المهم أن يفكر المعلم قبل البدء في التخطيط لمجموعات التعلم في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الأهداف المراد تحقيقها .                            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طبيعة المهمة التعليمية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مستوى التفاعل المطلوب بين الطلاب .          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مقدار المساعدة المتوقع تقديمها للطلاب من قبل المعلم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الوسائل والأدوات التعليمية .                       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1" lang="ar-SA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ar-SA" sz="1600" spc="-1" strike="noStrike">
                <a:solidFill>
                  <a:srgbClr val="660066"/>
                </a:solidFill>
                <a:latin typeface="Comic Sans MS"/>
              </a:rPr>
              <a:t> نمط المناخ التعليمي المناسب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3737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fefde3"/>
                </a:solidFill>
                <a:uFillTx/>
                <a:latin typeface="Times New Roman"/>
              </a:rPr>
              <a:t>نشاط 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( 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3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 / 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2</a:t>
            </a:r>
            <a:r>
              <a:rPr b="1" lang="ar-SA" sz="3000" spc="-1" strike="noStrike">
                <a:solidFill>
                  <a:srgbClr val="fefde3"/>
                </a:solidFill>
                <a:latin typeface="Times New Roman"/>
              </a:rPr>
              <a:t>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ff66"/>
                </a:solidFill>
                <a:latin typeface="Times New Roman"/>
              </a:rPr>
              <a:t>نشاط فرد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يعتقد البعض أن التعلم التعاوني يغفل الجوان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 الفردية لدى الطالب ، كما أنهم يعتقدون أن الطالب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المتفوق تحصيلياً يستطيع أن يقوم بأعبا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 المجموعة منفرداً مما يزيد من سلبية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الطالب الضعيف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هل من الممكن تفعيل العمل الفردي داخ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66"/>
                </a:solidFill>
                <a:latin typeface="Times New Roman"/>
              </a:rPr>
              <a:t> مجموعات التعلم التعاوني ؟</a:t>
            </a: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8640" y="1069920"/>
            <a:ext cx="16873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320" y="790200"/>
            <a:ext cx="76201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2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طرق دمج التعلم التعاوني مع التعلم الفردي :  ( ثلاث طرق رئيسة )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660066"/>
                </a:solidFill>
                <a:latin typeface="Times New Roman"/>
              </a:rPr>
              <a:t>تكامل المهام : تستخدم هذه الطريقة في حالات المشاريع والبحوث ، حيث يحدد  المشروع التعاوني المهام ويقسمها على أعضاء المجموعة على شكل مهام فردية يتوقف نجاح المشروع على نتائجها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660066"/>
                </a:solidFill>
                <a:latin typeface="Times New Roman"/>
              </a:rPr>
              <a:t>تكامل المصادر </a:t>
            </a:r>
            <a:r>
              <a:rPr b="1" lang="ar-SA" sz="16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:</a:t>
            </a:r>
            <a:r>
              <a:rPr b="1" lang="ar-SA" sz="1600" spc="-1" strike="noStrike">
                <a:solidFill>
                  <a:srgbClr val="660066"/>
                </a:solidFill>
                <a:latin typeface="Times New Roman"/>
              </a:rPr>
              <a:t> كأن يأخذ الطلاب مجموعة كلمات يطلب منهم معانيها ، وتقسم الكلمات على مجموعات يطلب من كل طالب البث عن معانيها في مصادر مختلفة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660066"/>
                </a:solidFill>
                <a:latin typeface="Times New Roman"/>
              </a:rPr>
              <a:t>تكامل الجائزة : تمنح درجة للطالب وفقاً لأدائه الخاص ( جزء كبير ) ووفقاً لأداء المجموعة التي ينتمي اليها ( جزء صغير من الدرجة )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001880"/>
            <a:ext cx="7620120" cy="55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r" rtl="1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2</a:t>
            </a:r>
            <a:r>
              <a:rPr b="1" lang="ar-SA" sz="20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r" rtl="1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الاستخدام المتكامل لصيغ أهداف التعلم التعاوني والتنافسي والفرد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r" rtl="1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8000"/>
                </a:solidFill>
                <a:latin typeface="Times New Roman"/>
              </a:rPr>
              <a:t>وهذا يتطلب عدة خطوات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كوين مجموعات تعلم تعاون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عطى كل مجموعة مهمة تعاونية لتعلم المادة ككل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عطى لكل فرد مهمة فردية تختص بتعليم جزء معين من المادة المقررة داخل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دار عملية التنافس بين المجموعات المختلفة في ضوء ما تحقق من عمل جماعي بين أعضاء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استفادة من تعاون المجموعات في الوصول إلى الغرض الها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حديد الأداء الفردي لكل طالب في المجموعة من خلال اختبار تحصيلي ثم تحديد درجة المجموعة ككل في ضوء متوسط أداء كل أعضاء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16200" y="561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1844640"/>
            <a:ext cx="698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</a:rPr>
              <a:t>المستهدفون :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33"/>
                </a:solidFill>
                <a:latin typeface="Times New Roman"/>
              </a:rPr>
              <a:t>مدة البرنامج :   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1" lang="ar-SA" sz="2400" spc="-1" strike="noStrike">
                <a:solidFill>
                  <a:srgbClr val="0000ff"/>
                </a:solidFill>
                <a:latin typeface="Times New Roman"/>
              </a:rPr>
              <a:t>)  ساعة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2924280"/>
            <a:ext cx="748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3284640"/>
          <a:ext cx="6361200" cy="2662200"/>
        </p:xfrm>
        <a:graphic>
          <a:graphicData uri="http://schemas.openxmlformats.org/drawingml/2006/table">
            <a:tbl>
              <a:tblPr/>
              <a:tblGrid>
                <a:gridCol w="1247760"/>
                <a:gridCol w="4392720"/>
                <a:gridCol w="7207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زم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وحــــد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blipFill rotWithShape="0">
                      <a:blip r:embed="rId1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فاهيم في التعلم التعاو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18720">
                      <a:solidFill>
                        <a:srgbClr val="800080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blipFill rotWithShape="0">
                      <a:blip r:embed="rId2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شكيل المجموع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blipFill rotWithShape="0">
                      <a:blip r:embed="rId3">
                        <a:alphaModFix amt="50000"/>
                      </a:blip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 (Arabic)"/>
                        </a:rPr>
                        <a:t>إ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ارة المجموع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5760">
                      <a:solidFill>
                        <a:srgbClr val="ff00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blipFill rotWithShape="0">
                      <a:blip r:embed="rId4">
                        <a:alphaModFix amt="50000"/>
                      </a:blip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80"/>
                      </a:solidFill>
                    </a:lnL>
                    <a:lnR w="18720">
                      <a:solidFill>
                        <a:srgbClr val="800080"/>
                      </a:solidFill>
                    </a:lnR>
                    <a:lnT w="5760">
                      <a:solidFill>
                        <a:srgbClr val="ff00ff"/>
                      </a:solidFill>
                    </a:lnT>
                    <a:lnB w="18720">
                      <a:solidFill>
                        <a:srgbClr val="8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042920" y="26028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19320" y="457200"/>
            <a:ext cx="7238880" cy="838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89604" dir="2700000" blurRad="0" rotWithShape="0">
              <a:srgbClr val="cbbd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6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690560"/>
            <a:ext cx="762012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نشاط (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/ 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i="1" lang="ar-SA" sz="3200" spc="-1" strike="noStrike">
                <a:solidFill>
                  <a:srgbClr val="ff0000"/>
                </a:solidFill>
                <a:latin typeface="Times New Roman"/>
              </a:rPr>
              <a:t> )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174960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20559000">
            <a:off x="2392920" y="2444760"/>
            <a:ext cx="514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ورشة عم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خشى بعض المعلمين من الضوضاء الشديدة داخل الصف نتيجة تفاعل الطلاب فيما بينهم ، كما يعتقد البعض الآخر أن مجموعات التعلم تحتاج إلى مجهود كبير لإدارت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حاول أن تجد حلولاً لعلاج المشكلتين السابقتي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224000"/>
            <a:ext cx="76201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من المهم أن يلتفت المعلم قبل التنفيذ إلى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رتيب الطلاب بشكل يسمح لهم برؤية الأدوات والمواد ورؤية بعضهم البعض بسهول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جود مسافات كافية بين المجموعات تجنباً للارتباك والتداخل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أكيد على مستوى معين من الضوضاء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وزيع الأدوار في مجموعة التعلم التعاوني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يعتبر الكثير من المجربين أن إيجاد مهام جانبية داخل المجموعة يسهم في تنمية روح التفاعل وزيادة الإحساس لدى الطلاب بأهمية العمل داخل المجموعة ، ومن هذه الأدوار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قائد المجموعة ك ويقوم بالتنسيق بين أعضاء المجموعة ومساعدتهم على القيان بأدوارهم بجدية وإتقان ، وإدارة النقاش والربط بين المجموعة والمعلم عندما يتطلب الأمر ذلك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مراجع النهائي : وتتلخص مهمته في مراجعة أعمال جميع الأعضاء للتأكد من فهم كل فرد بالمجموعة لما تم عمله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قائم بالبحث : ويقوم بتجهيز المواد المختلفة التي تحتاجها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مسجل : ويقوم بتسجيل قرارات المجموعة ونسخ التقرير النهائ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ملاحظ : ويقوم بتحديد الكيفية المثلى التي اتبعتها المجموعة في التعاون والمشارك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6040" indent="-536040" algn="r" rtl="1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معزز : ويقوم بتحديد أعمال المجموعة وتحديد التقرير المناسب ومن ثم تعزيزها للوصول للأهداف المنشود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37880" y="1701720"/>
            <a:ext cx="7620120" cy="45100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نشاط ( </a:t>
            </a: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3</a:t>
            </a: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 / </a:t>
            </a: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4</a:t>
            </a:r>
            <a:r>
              <a:rPr b="1" lang="ar-SA" sz="3900" spc="-1" strike="noStrike">
                <a:solidFill>
                  <a:srgbClr val="ccff66"/>
                </a:solidFill>
                <a:latin typeface="Times New Roman"/>
              </a:rPr>
              <a:t> )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1069920"/>
            <a:ext cx="168768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20421600">
            <a:off x="1458000" y="2615040"/>
            <a:ext cx="669744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                      بالتعاون مع أفراد مجموعتك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         حاول أن تعرض طريقة مناسبة لإدارة مجموعات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          التعلم التعاوني داخل فصلك ، مع 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أهمية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                 أن تعنى الطريقة بتفعيل أدوار جميع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                 الطلاب 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  <a:cs typeface="Times New Roman (Arabic)"/>
              </a:rPr>
              <a:t>د</a:t>
            </a: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اخل المجموع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157040"/>
            <a:ext cx="7620120" cy="52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4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أساليب دارجة في إدارة المجموعات التعاونية  :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ar-SA" sz="1800" spc="-1" strike="noStrike" u="sng">
                <a:solidFill>
                  <a:srgbClr val="008000"/>
                </a:solidFill>
                <a:uFillTx/>
                <a:latin typeface="Times New Roman"/>
              </a:rPr>
              <a:t>أساليب تقليدية </a:t>
            </a:r>
            <a:r>
              <a:rPr b="1" lang="ar-SA" sz="1800" spc="-1" strike="noStrike">
                <a:solidFill>
                  <a:srgbClr val="008000"/>
                </a:solidFill>
                <a:latin typeface="Times New Roman"/>
              </a:rPr>
              <a:t>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تشمل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35000"/>
              </a:lnSpc>
              <a:spcBef>
                <a:spcPts val="45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رقابة ذاتية :وتقوم على مبدأ إيكال مهمة الإدارة الكاملة لأفراد المجموعة أنفسهم دون أن يتدخل المعلم في ذلك ، ويقتصر دور المعلم على تقويم النتائج النهائية ل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35000"/>
              </a:lnSpc>
              <a:spcBef>
                <a:spcPts val="45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رقابة غير ذاتية : وفيها يكثف المعلم من عمليات المراقبة المباشرة للمجموعات وأفرادها مع العناية بالتوجيه والتحفيز المستمرين</a:t>
            </a:r>
            <a:r>
              <a:rPr b="1" lang="en-US" sz="18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 rtl="1">
              <a:lnSpc>
                <a:spcPct val="13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 u="sng">
                <a:solidFill>
                  <a:srgbClr val="008000"/>
                </a:solidFill>
                <a:uFillTx/>
                <a:latin typeface="Times New Roman"/>
              </a:rPr>
              <a:t>أساليب غير تقليدية</a:t>
            </a:r>
            <a:r>
              <a:rPr b="1" lang="ar-SA" sz="1800" spc="-1" strike="noStrike">
                <a:solidFill>
                  <a:srgbClr val="008000"/>
                </a:solidFill>
                <a:latin typeface="Times New Roman"/>
              </a:rPr>
              <a:t> ،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وتشمل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35000"/>
              </a:lnSpc>
              <a:spcBef>
                <a:spcPts val="45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سلوب التكامل : وقد ألمحنا إليه سابقاً ، حيث يقوم المعلم بتوزيع المهام على الطلاب ثم تقوم كل مجموعة وفقاً للمهام الفردية داخل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r" rtl="1">
              <a:lnSpc>
                <a:spcPct val="135000"/>
              </a:lnSpc>
              <a:spcBef>
                <a:spcPts val="451"/>
              </a:spcBef>
              <a:buClr>
                <a:srgbClr val="ff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سلوب الترقيم : وهذا النموذج يتعامل المعلم من خلاله مع أرقام وليس مع أسماء حتى يضمن عشوائية خروج المتحدث ، ومن هنا يستطيع المعلم أن يتأكد من حرص الطلبة المتفوقين على إفهام الطلبة الضعاف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4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نموذج مفصل لأسلوب الترقيم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ضع المعلم طلابه في مجموعات غير متجانسة ( ممتاز ، متوسط ، ضعيف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حدد مهمة جانبية لكل طالب في المجموعة ( قائد ، مسجل ، ....              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قوم بإعطاء كل طالب رقماً معيناً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حدد الهدف المراد تحقيقه ويوضح مهمة كل مجموعة والوقت المحدد للإنجاز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طلب من كافة المجموعات البدء في تنفيذ النشاط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قوم بالتجول بين المجموعات ، ويقدم التوجيهات والمحفز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راقب أثناء تجواله بين المجموعات ( مستوى التفاعل ، طريقة التفكير العلمي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علن عن انتهاء الوق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طلب من كل مجموعة عرض إجابتها بحيث يختار الطالب بصورة عشوائية عن طريق إظهار رقمه المتفق عليه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 algn="r" rtl="1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بعد عرض كافة المجموعات يتم الاتفاق على إجابة مثالي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r" rtl="1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تابع المادة العلمية (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3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/ 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4</a:t>
            </a:r>
            <a:r>
              <a:rPr b="1" lang="ar-SA" sz="1800" spc="-1" strike="noStrike">
                <a:solidFill>
                  <a:srgbClr val="3694b6"/>
                </a:solidFill>
                <a:latin typeface="Comic Sans MS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 rtl="1">
              <a:lnSpc>
                <a:spcPct val="2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0000"/>
                </a:solidFill>
                <a:uFillTx/>
                <a:latin typeface="Comic Sans MS"/>
              </a:rPr>
              <a:t>ملاحظة هامة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 rtl="1">
              <a:lnSpc>
                <a:spcPct val="2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Comic Sans MS"/>
              </a:rPr>
              <a:t>يلجأ بعض المعلمين المحترفين أثناء إدارتهم لمجموعات التعلم إلى ، سحب الطلاب غير المنسجمين أو ضعاف الاستجابة في مجموعة خارجية يترأسها المعلم شخصياً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 rtl="1">
              <a:lnSpc>
                <a:spcPct val="2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0000"/>
                </a:solidFill>
                <a:uFillTx/>
                <a:latin typeface="Comic Sans MS"/>
              </a:rPr>
              <a:t>وهذه الطريقة تضمن</a:t>
            </a:r>
            <a:r>
              <a:rPr b="1" lang="ar-SA" sz="1800" spc="-1" strike="noStrike">
                <a:solidFill>
                  <a:srgbClr val="ff0000"/>
                </a:solidFill>
                <a:latin typeface="Comic Sans MS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21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خفيف عبء الطلاب الضعاف عن المجمو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215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ركيز على الطلبة الضعاف من خلال الاستهداف المباشر من المعلم لهم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008000"/>
                </a:solidFill>
                <a:uFillTx/>
                <a:latin typeface="Times New Roman"/>
              </a:rPr>
              <a:t>الخاتم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 rtl="1">
              <a:lnSpc>
                <a:spcPct val="5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66"/>
                </a:solidFill>
                <a:latin typeface="Times New Roman"/>
              </a:rPr>
              <a:t>الطالب في التعلم التعاوني يحب معلمه لأنه مصدر دائم للتشجيع والدعم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99"/>
                </a:solidFill>
                <a:latin typeface="Times New Roman"/>
              </a:rPr>
              <a:t>أوراق للإطلا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"/>
              </a:rPr>
              <a:t>توجيهات للمعلم قبل البدء في التنفيذ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ساعد كل عضو في المجموعة على شرح الكيفية التي أجاب عليها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طلب من كل عضو أن يربط ما تعلمه اليوم بما تعلمه في السابق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أكد من فهم كل مجموعة لمضمون الإجاب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شجع كل فرد على المشارك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أنصت بعناية لما يقوله أفراد المجموعة الأخرى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لا تغير تفكيرك إلا إذا اقتنعت بذلك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نقد الأفكار ولا تنقد الأشخاص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1800" spc="-1" strike="noStrike" u="sng">
                <a:solidFill>
                  <a:srgbClr val="ff0000"/>
                </a:solidFill>
                <a:uFillTx/>
                <a:latin typeface="Times New Roman"/>
              </a:rPr>
              <a:t>تعليمات هامة لإدارة الوحد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ركيز على التعاون في الوحدة مع التركيز على تطوير الأنشطة الفردية والتنافسية بشكل لا يقلل من التعلم التعاون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بدأ العمل وينتهي بلقاء بين أعضاء المجموعة . . . . . ففي اللقاء الأول تحدد شروط العمل وفي اللقاء الثاني تناقش الطريقة التي عملت بها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إحلال مفهوم التنافس (الصحي ) من أجل الفائدة والمنفعة التسلية بدلاً من مفهوم التنافس من اجل الكسب والخسار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 algn="r" rtl="1">
              <a:lnSpc>
                <a:spcPct val="2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نويع الفترات بحيث تنفذ المهام الفردية في المنزل ثم يخصص للفترات التعاونية أكثر من فترة تعليمية ( تكامل التعاون والفردية 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ff0000"/>
                </a:solidFill>
                <a:uFillTx/>
                <a:latin typeface="Times New Roman"/>
              </a:rPr>
              <a:t>مثال على ذلك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وزع الطلاب على مجموعات تعاونية كل مجموعة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4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–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6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) أفراد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سند  إلى كل مجموعة تعلم مجموعة من كلمات الهجاء بشكل تعاون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وزع على كل مجموعة قائمة بـ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32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) كلمة ، يطلب من كل متعلم التميز في هجاء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8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) كلمات ثم يقوم بتعليمها لأفراد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التأكد من فهم جميع أفراد المجموعة الـ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32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) كلم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عقد عمليات المقارنة بين المجموعات لإدارة التعليم التنافسي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تسند لكل مجموعة مهمة تعاونية تتمثل في استخدام الكلمات في كتابة قصة من إعداد المجموع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r" rtl="1">
              <a:lnSpc>
                <a:spcPct val="17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يتم اختيار الطلاب في المجموعة بطريقة عشوائية فردية في هجاء الـ ( 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32</a:t>
            </a:r>
            <a:r>
              <a:rPr b="1" lang="ar-SA" sz="1800" spc="-1" strike="noStrike">
                <a:solidFill>
                  <a:srgbClr val="660066"/>
                </a:solidFill>
                <a:latin typeface="Times New Roman"/>
              </a:rPr>
              <a:t> ) كلمة ثم يقوم أداء المجموعة في كتابة القصة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052280"/>
            <a:ext cx="76201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cc"/>
                </a:solidFill>
                <a:latin typeface="Times New Roman"/>
              </a:rPr>
              <a:t>اليوم الاو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فاهيم في التعلم التعاوني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33cc"/>
                </a:solidFill>
                <a:latin typeface="Times New Roman"/>
              </a:rPr>
              <a:t>اهداف اليوم التدريبي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r" rtl="1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660066"/>
                </a:solidFill>
                <a:latin typeface="Times New Roman"/>
              </a:rPr>
              <a:t>أن يعرف المتدرب التعلم التعاون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r" rtl="1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</a:rPr>
              <a:t> أن يفرق المتدرب بين التعلم التعاوني والتعليم التقليد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 algn="r" rtl="1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</a:rPr>
              <a:t> أن يتعرف المتدرب على عناصر التعلم التعاون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800080"/>
                </a:solidFill>
                <a:latin typeface="Comic Sans MS"/>
              </a:rPr>
              <a:t>الوسائل التدريبية</a:t>
            </a: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Comic Sans MS"/>
              </a:rPr>
              <a:t>أقلام ، بطاقات ملونة ، جهاز العرض فوق الرأ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079280"/>
            <a:ext cx="76201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ff0000"/>
                </a:solidFill>
                <a:uFillTx/>
                <a:latin typeface="Times New Roman"/>
              </a:rPr>
              <a:t>المراجع</a:t>
            </a:r>
            <a:r>
              <a:rPr b="1" i="1" lang="ar-SA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2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التعلم الجماعي والفردي ( ديفيد جونسون – روجرتي جونسون ) ترجمة رفعت بهجات ، عالم الكتب – القاهرة ( 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1988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م 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2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التعلم التعاوني (ديفيد جونسون – روجرتي جونسون – إديث هوليك ) ترجمة مدارس الظهران الأهلية ، دار تركي للنشر والتوزيع ( 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1416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هـ )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2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التعلم التنافسي الجمعي والفردي ( سميث كلاهام ) جامعة متشغن ترجمة بثينة عبود ( دار الحرية ) لبنان ( 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2000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م )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200000"/>
              </a:lnSpc>
              <a:spcBef>
                <a:spcPts val="42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فريق التعلم ( إدوارد ستانسون ) جامعة ملبورن ، استراليا – الجمعية العالمية للعلوم  ( 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1997</a:t>
            </a:r>
            <a:r>
              <a:rPr b="1" lang="ar-SA" sz="1700" spc="-1" strike="noStrike">
                <a:solidFill>
                  <a:srgbClr val="660066"/>
                </a:solidFill>
                <a:latin typeface="Times New Roman"/>
              </a:rPr>
              <a:t>م) 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71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47640" y="1268280"/>
          <a:ext cx="6984720" cy="5113080"/>
        </p:xfrm>
        <a:graphic>
          <a:graphicData uri="http://schemas.openxmlformats.org/drawingml/2006/table">
            <a:tbl>
              <a:tblPr/>
              <a:tblGrid>
                <a:gridCol w="2327760"/>
                <a:gridCol w="3492720"/>
                <a:gridCol w="1164240"/>
              </a:tblGrid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ff0000"/>
                          </a:solidFill>
                          <a:latin typeface="Times New Roman"/>
                          <a:cs typeface="Traditional Arabic"/>
                        </a:rPr>
                        <a:t>الزمن بالدقيقة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ff0000"/>
                          </a:solidFill>
                          <a:latin typeface="Times New Roman"/>
                          <a:cs typeface="Traditional Arabic"/>
                        </a:rPr>
                        <a:t>اجراءات التنفي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ff0000"/>
                          </a:solidFill>
                          <a:latin typeface="Times New Roman"/>
                          <a:cs typeface="Traditional Arabic"/>
                        </a:rPr>
                        <a:t>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تعار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عرض ورقة البداي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1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عرض والمناقش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2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عرض والمناقش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3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4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عرض والمناقش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نشاط  ( 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1/5</a:t>
                      </a: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ea typeface="Traditional Arabic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العرض والمناقش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660066"/>
                          </a:solidFill>
                          <a:latin typeface="Times New Roman"/>
                          <a:cs typeface="Traditional Arabic"/>
                        </a:rPr>
                        <a:t>ورقة الخاتمة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ea typeface="Traditional Arabic"/>
                        </a:rPr>
                        <a:t>2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700" spc="-1" strike="noStrike">
                          <a:solidFill>
                            <a:srgbClr val="003399"/>
                          </a:solidFill>
                          <a:latin typeface="Times New Roman"/>
                          <a:cs typeface="Traditional Arabic"/>
                        </a:rPr>
                        <a:t>المجمــــــــــو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09160" y="1052280"/>
            <a:ext cx="762012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Symbol"/>
                <a:cs typeface="Symbol"/>
              </a:rPr>
              <a:t>التعار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ff"/>
                </a:solidFill>
                <a:latin typeface="Symbol"/>
                <a:ea typeface="Symbol"/>
              </a:rPr>
              <a:t>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طلب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ك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تدرب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أ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دو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علومات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ع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زميل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ذي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جانبه؛بحيث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تشتم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تلك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معلومات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على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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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سم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وكنيت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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عمر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وتخصص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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سنوات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خدمة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ومكا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عم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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هواياته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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إ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وجد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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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قوم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مدرب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عد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تعارف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ثنائي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تشكي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جموعات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عم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–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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طلب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ك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مجموعة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أن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ختاروا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سماً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لمجموعتهم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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يقوم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أفراد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مجموعة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تعارف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بسيط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داخل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المجموعة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cs typeface="Symbol"/>
              </a:rPr>
              <a:t>نفسها</a:t>
            </a:r>
            <a:r>
              <a:rPr b="1" lang="ar-SA" sz="1800" spc="-1" strike="noStrike">
                <a:solidFill>
                  <a:srgbClr val="66006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ff"/>
                </a:solidFill>
                <a:latin typeface="Symbol"/>
                <a:ea typeface="Symbol"/>
              </a:rPr>
              <a:t>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يهدف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هذا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النشاط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إلى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إذابة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الجليد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بين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المتدربين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وتحفيزهم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للعمل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cs typeface="Symbol"/>
              </a:rPr>
              <a:t>معاً</a:t>
            </a:r>
            <a:r>
              <a:rPr b="1" lang="ar-SA" sz="1800" spc="-1" strike="noStrike">
                <a:solidFill>
                  <a:srgbClr val="3694b6"/>
                </a:solidFill>
                <a:latin typeface="Symbol"/>
                <a:ea typeface="Symbol"/>
              </a:rPr>
              <a:t>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1081080"/>
            <a:ext cx="15112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ي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4680" y="409680"/>
            <a:ext cx="7467840" cy="642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15640" y="1103400"/>
            <a:ext cx="75754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محاضرة مبسط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الب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99"/>
                </a:solidFill>
                <a:latin typeface="Comic Sans MS"/>
              </a:rPr>
              <a:t>العلاقة بين التعاون و</a:t>
            </a:r>
            <a:r>
              <a:rPr b="1" lang="ar-SA" sz="2000" spc="-1" strike="noStrike">
                <a:solidFill>
                  <a:srgbClr val="003399"/>
                </a:solidFill>
                <a:latin typeface="Comic Sans MS"/>
                <a:cs typeface="Times New Roman (Arabic)"/>
              </a:rPr>
              <a:t>الإ</a:t>
            </a:r>
            <a:r>
              <a:rPr b="1" lang="ar-SA" sz="2000" spc="-1" strike="noStrike">
                <a:solidFill>
                  <a:srgbClr val="003399"/>
                </a:solidFill>
                <a:latin typeface="Comic Sans MS"/>
              </a:rPr>
              <a:t>نجا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الاسلام والتعا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قال تعالى  ( وتعاونوا على البر والتقوى 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قال عليه الصلاة والسلام ( إن يد الله مع الجماعة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حتى رسالة 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الإ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سلام لم تتحقق 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أ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هدافها 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إ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لا بالتعاون الجماعي المنظم ، تحت قيادة النبي صلى الله عليه وسلم  كنتم خير 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  <a:cs typeface="Times New Roman (Arabic)"/>
              </a:rPr>
              <a:t>أمة</a:t>
            </a: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 اخرجت للناس 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66"/>
                </a:solidFill>
                <a:latin typeface="Comic Sans MS"/>
              </a:rPr>
              <a:t>فالله سبحانه وتعالى قد أخرج أمة بأسرها لا فرداً فحسب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1074600"/>
            <a:ext cx="15130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7467480" cy="5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ff3300"/>
                </a:solidFill>
                <a:latin typeface="Comic Sans MS"/>
              </a:rPr>
              <a:t>اسم البرنامج</a:t>
            </a:r>
            <a:r>
              <a:rPr b="1" i="1" lang="ar-SA" sz="2800" spc="-1" strike="noStrike">
                <a:solidFill>
                  <a:srgbClr val="ff3300"/>
                </a:solidFill>
                <a:latin typeface="Comic Sans MS"/>
              </a:rPr>
              <a:t> : </a:t>
            </a:r>
            <a:r>
              <a:rPr b="1" i="1" lang="ar-SA" sz="3200" spc="-1" strike="noStrike">
                <a:solidFill>
                  <a:srgbClr val="990033"/>
                </a:solidFill>
                <a:latin typeface="Comic Sans MS"/>
              </a:rPr>
              <a:t>التعلم التعاوني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04560" y="1541520"/>
            <a:ext cx="7488360" cy="43927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Comic Sans MS"/>
              </a:rPr>
              <a:t>   </a:t>
            </a:r>
            <a:r>
              <a:rPr b="1" i="1" lang="ar-SA" sz="3200" spc="-1" strike="noStrike">
                <a:solidFill>
                  <a:srgbClr val="ff0000"/>
                </a:solidFill>
                <a:latin typeface="Comic Sans MS"/>
              </a:rPr>
              <a:t>نشاط  ( </a:t>
            </a:r>
            <a:r>
              <a:rPr b="1" i="1" lang="ar-SA" sz="3200" spc="-1" strike="noStrike">
                <a:solidFill>
                  <a:srgbClr val="ff0000"/>
                </a:solidFill>
                <a:latin typeface="Comic Sans MS"/>
              </a:rPr>
              <a:t>1/1</a:t>
            </a:r>
            <a:r>
              <a:rPr b="1" i="1" lang="ar-SA" sz="3200" spc="-1" strike="noStrike">
                <a:solidFill>
                  <a:srgbClr val="ff0000"/>
                </a:solidFill>
                <a:latin typeface="Comic Sans MS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99"/>
                </a:solidFill>
                <a:latin typeface="Comic Sans MS"/>
              </a:rPr>
              <a:t>مناقشة مفتوحة :</a:t>
            </a:r>
            <a:r>
              <a:rPr b="1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omic Sans MS"/>
              </a:rPr>
              <a:t>أ-</a:t>
            </a:r>
            <a:r>
              <a:rPr b="1" lang="ar-SA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2800" spc="-1" strike="noStrike">
                <a:solidFill>
                  <a:srgbClr val="660066"/>
                </a:solidFill>
                <a:latin typeface="Comic Sans MS"/>
              </a:rPr>
              <a:t>تعريف التعلم التعاون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Comic Sans MS"/>
              </a:rPr>
              <a:t> </a:t>
            </a:r>
            <a:r>
              <a:rPr b="1" lang="ar-SA" sz="2800" spc="-1" strike="noStrike">
                <a:solidFill>
                  <a:srgbClr val="ff0000"/>
                </a:solidFill>
                <a:latin typeface="Comic Sans MS"/>
              </a:rPr>
              <a:t>ب-</a:t>
            </a:r>
            <a:r>
              <a:rPr b="1" lang="ar-SA" sz="2800" spc="-1" strike="noStrike">
                <a:solidFill>
                  <a:srgbClr val="660066"/>
                </a:solidFill>
                <a:latin typeface="Comic Sans MS"/>
              </a:rPr>
              <a:t> التفاعل داخل حجرة الصف وأنواعه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32000" y="1058760"/>
            <a:ext cx="16873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دقائ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1:28:21Z</dcterms:created>
  <dc:creator>alaithan</dc:creator>
  <dc:description/>
  <dc:language>en-US</dc:language>
  <cp:lastModifiedBy>bgd</cp:lastModifiedBy>
  <dcterms:modified xsi:type="dcterms:W3CDTF">2005-12-04T22:45:58Z</dcterms:modified>
  <cp:revision>188</cp:revision>
  <dc:subject/>
  <dc:title>PowerPoint Presentation</dc:title>
</cp:coreProperties>
</file>