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3A3-6414-4FBB-881F-A5386D7E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0C1-A3C1-4019-B24B-F549446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38F-00F3-4B16-B4E7-B1498BB3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822-64F5-45CA-B3BA-5CCEDC6D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E53B-370D-4BFC-85B5-E3D410DA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BB5D-B8F0-45C8-9B29-4E33AA8C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E9C7-BF94-4968-AEAD-8CF7F0C6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1284-EDF3-45E7-940C-92F4CC28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EEE8-2F6B-4793-8E87-66DC5458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0209-91D6-49D9-B2D0-C3235235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75EE-73A1-4BF6-BA41-9CDF10B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B78-7610-4DA6-8DC4-105BD7B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E1DC-8C07-440A-8205-E0DF6B26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434-5522-48E8-B1B5-F4D5A88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6F5-719D-420C-AA16-1A11404D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2D6-D70F-4260-B1E6-36D8A9EA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8CFE-1B73-4243-ADBA-D74A17E5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D0D-A4B2-48C2-AE97-2F7F746B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774-1854-42EE-9BA7-6FFAB39D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489-02FA-4EC5-A05E-AAE6DE13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F66-B258-4BB1-A575-07CF0937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1E6-122B-4B28-8AF1-D2496AD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299-BD3B-48BC-82BE-11B147E0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691-614E-4140-B445-8B2A708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7DA-AC5E-4E3B-A7D2-B5BE79BDF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6E5-A59B-409D-8F9C-760086062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0600" y="4419720"/>
            <a:ext cx="2624040" cy="187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4273560" cy="744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06760" y="3044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  الإخراج على الحاس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الاستاذ / عبدالله محمد علي العمر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التقويم الشامل بمحافظة المخوا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81296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096920"/>
            <a:ext cx="76773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1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Comic Sans MS"/>
              </a:rPr>
              <a:t>تفاعل منظم بين مجموعة محددة من الطلاب لتحقيق مهمة مدروسة في زمن معل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174320"/>
            <a:ext cx="76201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تابع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ماد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علمي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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أنواع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التفاع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Symbol"/>
                <a:cs typeface="Symbol"/>
              </a:rPr>
              <a:t>ملاحظ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بق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قليد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ركز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دراس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أخر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غفلاً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قض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لا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فيم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ينه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،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هذ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التأكيد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كفله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اون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559000">
            <a:off x="1857600" y="255564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660066"/>
                </a:solidFill>
                <a:latin typeface="Times New Roman"/>
              </a:rPr>
              <a:t>                   ما هي أهمية إيجاد علاقات تعليمية وإنسانية بين الطلاب داخل الصف ؟ وما نتائج ذلك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7620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ctr" rtl="1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أهمية علاقات القرن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وير المعرف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بيع الاجتماعي للفر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Comic Sans MS"/>
              </a:rPr>
              <a:t>توضي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علم الفرد سواء أكان طفلاً أو بالغاً أثناء تفاعله مع مجموعة القرناء وبشكل مباشر معلومات واتجاهات وقيم ومهارات يصعب الحصول عليها مجتمعة من المعل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يح التفاعل مع القرناء للمتعلم تحديد السلوكيات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جابية والاجتماعية وممارس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تولد لدى المتعلم الكيفية المثلى في إدارة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مجموعة تقوم بدورها في تطوير حرية الإدارة والثقة والاستقلالية الإيجابية لدى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جموعة القرناء تحمي الفرد من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كانات الوحدة والعزلة والاكتئ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التعلم التعاوني يرتبط ارتباطاً إيجابياً بعدد من العوامل الخاصة بالصحة النفسية ، مث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نضج الانفعال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علاقات الاجتماعية الإيجاب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ذاتية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ثقة الفرد في الآخر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163160"/>
            <a:ext cx="76201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نتائج تفاعل الطلاب فيما بينهم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زيادة تحصيل المتعلم بدرجة عا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دريب الطلاب على استخدام استراتيجيات التعق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ثارة دافعية الطالب تجاه الت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علاقات الإنسانية بين ا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زيد من ثقة الطالب في ذاته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كساب الطلاب المهارات اللازمة لإدارة التفاعلات الشخص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عطي قيمة للمادة المراد دراستها لدى الم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إضــــاء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6600"/>
                </a:solidFill>
                <a:latin typeface="Times New Roman"/>
              </a:rPr>
              <a:t>(( يمكن للطلاب أن يحققوا استفادة أكبر من التعليم عندما يقومون بتعليم بعضهم البعض )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6201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Times New Roman"/>
              </a:rPr>
              <a:t>ناقش معن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عناصر التعلم التعاوني الرئيس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عمل بروح الفري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ينبغي على طلاب المجموعة الواحدة أن يدركوا أن عليهم أن يستجيبوا معاً لكي ينجوا من الغرق ( التفاعل المتبادل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ويمكن أن يتحقق هذا الاقتناع من خلال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قسيم المواد والمصادر والمعلومات بين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قيق مهمة مشتركة لجميع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ديد أدوار مختلفة ل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عيين جوائز مشتركة ل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تفاعل اللفظي ( وجهاً لوجه ) بين الطلاب في الصف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سؤولية الفردية عن التفوق في المادة حيث يكون كل عضو في المجموعة مسؤولاً عن رفع مستواه التحصيل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ستخدام مهارات إدارة المجموعة والمهارات الشخصية بشكل مناسب من قبل المتعلم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07316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751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/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4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r>
              <a:rPr b="1" lang="ar-SA" sz="2000" spc="-1" strike="noStrike">
                <a:solidFill>
                  <a:srgbClr val="fefde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بعد تعرفك على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والوقوف على عناصره 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حاول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ن تستنتج أهم الفروق بين التعل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التعاوني والتعلم التقليدي الفردي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0843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8000"/>
                </a:solidFill>
                <a:uFillTx/>
                <a:latin typeface="Times New Roman"/>
              </a:rPr>
              <a:t>الفرق بين التعلم التعاوني الجماعي والتعلم التقليدي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تفاعل الإيجابي : يقوم التعلم التعاوني على 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ساس التفاعل الايجابي المتبادل بين أعضاء المجم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سؤولية الفردية :تحدد مجموعات التعلم التعاوني مسؤولية معينة لكل فرد في المجموعة حيث يسند لكل طالب دور خاص يرتبط بتفوقه العلمي في المادة التعليم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خصائص الشخصية لأعضاء المجموعة : يختلف أعضاء المجموعة الواحدة في خصائصهم الشخصية وقدراتهم الذات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قيادة المجموعة : يقود المجموعة جميع الأعضاء في حالة التعلم التعاون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دعم والتشجيع : يكون المتعلم مسؤولاً عن تعليم غيره ومن ثم فإن أعضاء المجموعة الواحدة يتوقعون الحصول على الدعم والتشجيع من بعضهم البعض حرصاً على إنجاز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أغراض الطالب : تتلخص الأغراض في وصولهم إلى أقصى درجة من علاقات العمل مع بعضهم البعض أما في المجموعات التقليدية تتلخص في إنجاز المه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هارات الاجتماعية : يحتاج المتعلم إلى مهارات ( القيادة ، والاتصال ، وإثارة الآخرين، وإدارة الصراعات )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دور المعلم :                                                                                                                                          * ملاحظة أعضاء المجموعة                                                                                                                    * تحليل المشكلات التي تواجه المجموعة                                                                                                             * إبلاغهم بالتغذية الراجعة المتعلقة بالكيفية المثلى لإدارة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طريقة التي تعمل بها المجموعة :فالملاحظ أن المعلم يهتم بطريقة عمل المجموعة لا بالنتيجة فقط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0954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76440" y="2144880"/>
          <a:ext cx="6918120" cy="3931920"/>
        </p:xfrm>
        <a:graphic>
          <a:graphicData uri="http://schemas.openxmlformats.org/drawingml/2006/table">
            <a:tbl>
              <a:tblPr/>
              <a:tblGrid>
                <a:gridCol w="3168720"/>
                <a:gridCol w="3235320"/>
                <a:gridCol w="514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طا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م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مل على تركيز انتباه أفراد مجموعته في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وضع الطلاب في اتصال فعال مع المادة العل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تباع الاتجاهات والتوجيه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يجاد الظروف المناسبة للتعل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بذل الجهد المناسب للوصول للهد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تنظيم الطل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تمام المهمة في الوقت المنا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شرح المهمة التعليمية والهدف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جراء عمليات التقو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851280" y="1120680"/>
            <a:ext cx="47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دور المعلم والطالب في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1387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204640"/>
            <a:ext cx="76770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( حقيبة تدريبية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221304"/>
                </a:solidFill>
                <a:latin typeface="Times New Roman"/>
                <a:cs typeface="Hesham AlSharq"/>
              </a:rPr>
              <a:t>إعد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حسن بن أحمد عقيل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عبدالله بن عبدالعزيز المبر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ff"/>
                </a:solidFill>
                <a:latin typeface="Sylfaen"/>
                <a:cs typeface="Andalus"/>
              </a:rPr>
              <a:t>إدارة التدريب التربوي بالري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559000">
            <a:off x="2061360" y="2224080"/>
            <a:ext cx="568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ماذا تفوق النظام الصناعي الياباني آسيوياً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هل لكفاءة أيديهم العامل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لأنهم لا يرضون إلا بمواصفات عالية من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نتاج 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أن المستوى المعيشي مرتفع ومن هنا تزداد الدافعية للعمل ؟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92240"/>
            <a:ext cx="762012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5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ثبت فعلياً أن من أهم أسباب تفوق النظام الصناعي الياباني آسيوياً يرجع الى أن العمال اليابانيين أكثر ذكاء من نظرائهم في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أ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قطار الأخرى ، لأنهم أكثر قدرة على العمل معاً في شكل متناسق يعاون فيه كل فرد الأخر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التعامل مع أدق الأجهزة يتم من خلال فريق عمل متكامل ، فالجهاز مهما بلغ حجمه أو أهميته تعمل على تجميعه عدة أيدي وعدة عقول لذا تبقى جودة المنتج واحتمالات الخطأ في تجميعه أقل من الدول الأخرى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8000"/>
                </a:solidFill>
                <a:uFillTx/>
                <a:latin typeface="Times New Roman"/>
              </a:rPr>
              <a:t>خاتمة اليوم الأ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أشارت نتائج الأبحاث إلى أن تحصيل الطالب يرتفع عندما تصاغ مواقف التعلم على شكل مواقف تعاونية  ........ ذلك لأن المواقف التعاونية تطور لدى المتعلم كفايات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تفكير الناقد .           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 اتجاهات إيجابية نحو الم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كيفية العمل مع الآخرين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صحة النفس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69640"/>
            <a:ext cx="7620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008000"/>
                </a:solidFill>
                <a:uFillTx/>
                <a:latin typeface="Times New Roman"/>
              </a:rPr>
              <a:t>دراسات ونتائج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في العقود الماضية أجريت نحو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22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) دراسة ميدانية لرصد أثر التعلم التعاوني في التحصيل الدراسي  وقد أسفرت تلك الدراسات عن تفوق طلبة التعلم التعاوني في المهارات التال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حل المشكلات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كتساب المفاهيم .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حفظ والتذك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أداء الحركي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إصدار الأحكا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قول سلافين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983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) لقد أسفرت نتائج الدراسات عن ا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6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أثبتت تفوق طلبة التعلم التعاوني على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3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لم تثبت أية فروق بين النمط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4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فقط أثبتت تفوق طلبة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أما فيما يتعلق بالمهارات الاجتماعية الدراسات على تحقيق مجموعات التعلم التعاوني مستويات عليا من التوافق الاجتماعي ودرجات رفيعة من الرضى وانطباعات إيجابية عن ال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09692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يوم الثاني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تشكيل المجموعات التعاون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0000"/>
                </a:solidFill>
                <a:latin typeface="Times New Roman"/>
              </a:rPr>
              <a:t>هدف اليوم التدريبي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شكيل المجموعات التعاونية في درس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897280"/>
          <a:ext cx="7129800" cy="3673440"/>
        </p:xfrm>
        <a:graphic>
          <a:graphicData uri="http://schemas.openxmlformats.org/drawingml/2006/table">
            <a:tbl>
              <a:tblPr/>
              <a:tblGrid>
                <a:gridCol w="2373480"/>
                <a:gridCol w="2382840"/>
                <a:gridCol w="2373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محاض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عرض ورقة الخاتم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ـــــــمــــــــــــــــــو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108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اضرة مبس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قبل أن نبد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ثير مجموعات التعلم التعاوني نوعاً من التفاعلات الإيجابية بين الطلاب وتسهل عمليات التحصيل ، فالأهداف التعاونية تركز على عمليات تبادل الأفكار والتعزيز وتهيئ استيعاباً انفعالياً أكبر للطال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يجب على المعلم صياغة دروس تساهم في تحقيق الأهداف التالية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اعدة الطلاب على العمل داخل المجموعات الصغيرة بغية وصول جميع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فراد المجموعة إلى مستوى الإتق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دخول الطلاب في مسابقات تقوم على أساس المنافسة من أجل المتعة بدلاً من التنافس الذي يبنى على أساس الفوز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تاحة الفرصة أمام الطالب للعمل بشكل فردي لتحقيق أغراض خاصة ثم تحديد مدى قرب الطالب أو بعده من معايير الامتياز التي حددت بشكل مس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إضاء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درة أحد أفراد المجموعة التعاونية على تحقيق هدف ما ، يكفل لباقي أفراد المجموعة تحقيق نفس الهدف .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608960" cy="5421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إذا رغبت في تشكيل المجموع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تصور شكل المجموعات التي ترغب تشكيل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هل ستدخل الصف ثم تبدأ بالتوزيع مباش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أم أنك ستفكر في أمور أخرى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       بطبيعة المجموعات 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11001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2/1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على المعلم أن يسأل نفسه ثلاثة أسئلة قبل تشكيل المجموعات التعا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نحتاج إلى مجموعة متجانسة أم مختلفة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يقوم المعلم باختيار أعضاء المجموعة ؟ أم يترك هذه المهمة للطلاب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ا الفترة الزمنية التي يجب أن يمكثها الطلاب على شكل مجموعة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ذا كانت فترة التعلم مختصرة فإن المجموعة الصغيرة ستكون أكثر فاع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إمكانات المتاحة وطبيعة المهمة يحددان حجم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جموعة الكبيرة لابد وأن تتضمن تنوعاً كبيراً في الخبرات والقدرات والمها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559000">
            <a:off x="2165040" y="2703240"/>
            <a:ext cx="568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الآن ابدأ في تشكيل مجموعات التعلم التعاوني  ، مراعياً ما سبق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042560"/>
            <a:ext cx="762012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ctr" rtl="1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طرق تشكيل المجموعات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شوا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أ-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عشوائية الكاملة ، وتكون بإحدى الطرق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سب الترتيب الأبج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تجميع العشوائي ( جمع كل ستة مثلاً متقاربين في المقاعد في مجموعة واحد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ب- شبه عشوائية وأهم خطواتها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المعلم من كل طالب تسجيل ثلاثة زملاء يرغب في العمل معهم ، ومن خلال ذلك يستطيع المعلم معرفة الطلاب المعزولين أو الطلاب الغير مرغوب فيهم وذلك لجعلهم نواة المجموعة التي تضم مجموعة من طلاب ماهرين مع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عطاء كل طالب رقم معين ثم يتم تحديد الطلاب بطريقة عشوائية لتكوين مجموعات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تطوير علاقات حركية بين الطلاب المعاقين وغير المعاقين وبين الأغلبية والأقلية ودمجهم بالمجموعات ال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3694b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770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660066"/>
                </a:solidFill>
                <a:latin typeface="Comic Sans MS"/>
              </a:rPr>
              <a:t>الهدف العام للبرنامج 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أن يتقن المتدرب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  <a:ea typeface="Times New Roman (Arabic)"/>
              </a:rPr>
              <a:t> أ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سلوب المجموعات التعاونية في تدريسه</a:t>
            </a:r>
            <a:r>
              <a:rPr b="1" i="1" lang="ar-SA" sz="1800" spc="-1" strike="noStrike">
                <a:solidFill>
                  <a:srgbClr val="000099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الاهداف التفصيلية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 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في نهاية البرنامج يتوقع من المتدرب أن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فرق بين التعلم التعاوني و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شكل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 يدير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نقود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سميت بذلك تشبيهاً لعناقيد العنب ، فغالباً ما تكون حبيبات العنقود الواحد متساوية الطعم والحج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هذا يعني أن تكون مجموعات التعلم متجانسة من حيث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تويات الطلاب الدرا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ظروف النف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مستويات العم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اتجاهات والميول الشخص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غالباً ما يلجأ التربويون إلى مثل هذا التقسيم عند رغبتهم في تحقيق أهداف انفعالية (  وجدان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أسلوب المجموعة غير المتجانس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وقبل البدء في تشكيل المجموعات غير المتجانسة لابد من الالتفات إلى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بد من الوقوف على مستويات الطلاب التحصيلية قبل البدء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حا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ل أن تحد من اختيار الطلاب مجموعاتهم بأنفس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صنف الطلاب إلى مستويات ( ممتاز - متوسط - ضعيف ) وفقاً لنتائجهم التحصي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زع كل مستوى على مجموعات التعلم مع مراعاة عدم تكديس الطلاب الممتازين في مجموعة والضعاف في مجموعة 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مزايا التنوع في مستويات الطلاب داخل الحص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ضمان حدوث عمليات الأخذ والعطاء بين جميع ال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يجاد نوع من الترابط الفكري أثناء المناقشة مما يؤدي إلى تطوير تفكير الطل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ميق فهم الطلاب بشكل يساعدهم على الاحتفاظ بالمعلومات لأطول فترة زمنية ممكن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59000">
            <a:off x="2312280" y="245880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وقوفك على مجموعة من الأساليب الشائعة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 اختر طريقة من الطرائق السابقة مستهدفاً إياها بالنقد ومتعرضاً لأهم نقاط القوة والضعف ف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079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8000"/>
                </a:solidFill>
                <a:latin typeface="Times New Roman"/>
              </a:rPr>
              <a:t>خاتمة اليوم الثان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تفق كثير من التربويين على أن العدد المثالي لكل مجموعة يتراوح ما بين (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-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) ، لأن العدد إذا قل عن ثلاثة فإن احتمالات الأخذ والعطاء وتداول الخبرة ستكون قليلة ، وأيضاً فإن زيادة العدد عن ستة قد يؤدي إلى عدم ضمان استفادة جميع الأفراد من النشاط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كما يعتقد التربويون أن العدد الزوجي مهم خاصة إذا رغب المعلم في إسناد مهمات ثنائية لبعض الطلاب داخل المجموعة الواحدة 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600" y="1152360"/>
            <a:ext cx="7537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يوم الثالث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مجموعات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هداف اليوم التدريب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عرف المتدرب أ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نفيذ ا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58920" y="3060720"/>
          <a:ext cx="7345440" cy="3392640"/>
        </p:xfrm>
        <a:graphic>
          <a:graphicData uri="http://schemas.openxmlformats.org/drawingml/2006/table">
            <a:tbl>
              <a:tblPr/>
              <a:tblGrid>
                <a:gridCol w="2446200"/>
                <a:gridCol w="2452680"/>
                <a:gridCol w="2446560"/>
              </a:tblGrid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عرض ورقة الخات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مجـــمـــــــــــــــــــ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نشاط (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559000">
            <a:off x="2312280" y="245736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ن التنفيذ العشوائي لدرس بطريقة التعلم التعاوني قد يفسد النتائج المتوخاة من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ا الأمور اللازم مراعاتها من قبل المعلم قبل البدء في تنفيذ ا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190160"/>
            <a:ext cx="76201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إذا أراد المعلم إعداد درس للتعلم التعاوني لابد وأن يفكر في درسه بعناية ، وهذا يتطلب منه الإجابة على الأسئلة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ذي أرغب أن يحصله الطلاب في هذا الدرس ؟ ما الأهداف المعرفية والمهارية والانفعالية المقصود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طبيعة المهمة التعليمية هل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تعلم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 مفاهيم ؟ أم تعلم مهار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مقدار المساعدة والتوجيه التي يحتاجها الطال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مواد والأدوات المطلوبة لتنفيذ الدرس ؟ وهل هي متاح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مناخ التعليمي اللازم ل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تفاعل المطلوب بين الطلا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التوضيح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من المهم أن يفكر المعلم قبل البدء في التخطيط لمجموعات التعلم ف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أهداف المراد تحقيقها .     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طبيعة المهمة التعليمي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ستوى التفاعل المطلوب بين الطلاب .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قدار المساعدة المتوقع تقديمها للطلاب من قبل المعلم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وسائل والأدوات التعليمية .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نمط المناخ التعليمي المناسب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373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نشاط فر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يعتقد البعض أن التعلم التعاوني يغفل الجوان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فردية لدى الطالب ، كما أنهم يعتقدون أن الطال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متفوق تحصيلياً يستطيع أن يقوم بأعبا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مجموعة منفرداً مما يزيد من سلبية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طالب الضعي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هل من الممكن تفعيل العمل الفردي داخ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مجموعات التعلم التعاوني ؟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8640" y="106992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790200"/>
            <a:ext cx="76201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طرق دمج التعلم التعاوني مع التعلم الفردي :  ( ثلاث طرق رئيسة )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هام : تستخدم هذه الطريقة في حالات المشاريع والبحوث ، حيث يحدد  المشروع التعاوني المهام ويقسمها على أعضاء المجموعة على شكل مهام فردية يتوقف نجاح المشروع على نتائجها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صادر 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: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 كأن يأخذ الطلاب مجموعة كلمات يطلب منهم معانيها ، وتقسم الكلمات على مجموعات يطلب من كل طالب البث عن معانيها في مصادر مختلف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جائزة : تمنح درجة للطالب وفقاً لأدائه الخاص ( جزء كبير ) ووفقاً لأداء المجموعة التي ينتمي اليها ( جزء صغير من الدرجة 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001880"/>
            <a:ext cx="762012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استخدام المتكامل لصيغ أهداف التعلم التعاوني والتنافسي والفر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وهذا يتطلب عدة خطوات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كوين مجموعات تعلم 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كل مجموعة مهمة تعاونية لتعلم المادة كك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لكل فرد مهمة فردية تختص بتعليم جزء معين من المادة المقررة داخل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دار عملية التنافس بين المجموعات المختلفة في ضوء ما تحقق من عمل جماعي بين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استفادة من تعاون المجموعات في الوصول إلى الغرض الها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حديد الأداء الفردي لكل طالب في المجموعة من خلال اختبار تحصيلي ثم تحديد درجة المجموعة ككل في ضوء متوسط أداء كل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6200" y="561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18446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مستهدفون :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مدة البرنامج :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 ساعة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92428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3284640"/>
          <a:ext cx="6361200" cy="2662200"/>
        </p:xfrm>
        <a:graphic>
          <a:graphicData uri="http://schemas.openxmlformats.org/drawingml/2006/table">
            <a:tbl>
              <a:tblPr/>
              <a:tblGrid>
                <a:gridCol w="1247760"/>
                <a:gridCol w="4392720"/>
                <a:gridCol w="72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حــــ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فاهيم في التعلم التعاو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 (Arabic)"/>
                        </a:rPr>
                        <a:t>إ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blipFill rotWithShape="0">
                      <a:blip r:embed="rId4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042920" y="26028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559000">
            <a:off x="2392920" y="2444760"/>
            <a:ext cx="514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خشى بعض المعلمين من الضوضاء الشديدة داخل الصف نتيجة تفاعل الطلاب فيما بينهم ، كما يعتقد البعض الآخر أن مجموعات التعلم تحتاج إلى مجهود كبير لإدار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اول أن تجد حلولاً لعلاج المشكلتين السابقت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22400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من المهم أن يلتفت المعلم قبل التنفيذ إلى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رتيب الطلاب بشكل يسمح لهم برؤية الأدوات والمواد ورؤية بعضهم البعض بسهول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جود مسافات كافية بين المجموعات تجنباً للارتباك والتداخ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يد على مستوى معين من الضوضاء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وزيع الأدوار في مجموعة التعلم التعاون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يعتبر الكثير من المجربين أن إيجاد مهام جانبية داخل المجموعة يسهم في تنمية روح التفاعل وزيادة الإحساس لدى الطلاب بأهمية العمل داخل المجموعة ، ومن هذه الأدوار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ائد المجموعة ك ويقوم بالتنسيق بين أعضاء المجموعة ومساعدتهم على القيان بأدوارهم بجدية وإتقان ، وإدارة النقاش والربط بين المجموعة والمعلم عندما يتطلب الأمر 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راجع النهائي : وتتلخص مهمته في مراجعة أعمال جميع الأعضاء للتأكد من فهم كل فرد بالمجموعة لما تم عمل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قائم بالبحث : ويقوم بتجهيز المواد المختلفة التي تحتاج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سجل : ويقوم بتسجيل قرارات المجموعة ونسخ التقرير النهائ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لاحظ : ويقوم بتحديد الكيفية المثلى التي اتبعتها المجموعة في التعاون و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عزز : ويقوم بتحديد أعمال المجموعة وتحديد التقرير المناسب ومن ثم تعزيزها للوصول للأهداف المنشود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7880" y="1701720"/>
            <a:ext cx="7620120" cy="4510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نشاط (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3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/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4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421600">
            <a:off x="1458000" y="2615040"/>
            <a:ext cx="66974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                      بالتعاون مع أفراد مجموعتك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حاول أن تعرض طريقة مناسبة لإدارة مجموعات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التعلم التعاوني داخل فصلك ، مع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همية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 أن تعنى الطريقة بتفعيل أدوار جميع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الطلاب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د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خل المجموع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157040"/>
            <a:ext cx="76201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ساليب دارجة في إدارة المجموعات التعاونية 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تقليدية 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رقابة ذاتية :وتقوم على مبدأ إيكال مهمة الإدارة الكاملة لأفراد المجموعة أنفسهم دون أن يتدخل المعلم في ذلك ، ويقتصر دور المعلم على تقويم النتائج النهائية ل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رقابة غير ذاتية : وفيها يكثف المعلم من عمليات المراقبة المباشرة للمجموعات وأفرادها مع العناية بالتوجيه والتحفيز المستمرين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غير تقليدية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كامل : وقد ألمحنا إليه سابقاً ، حيث يقوم المعلم بتوزيع المهام على الطلاب ثم تقوم كل مجموعة وفقاً للمهام الفردية داخل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رقيم : وهذا النموذج يتعامل المعلم من خلاله مع أرقام وليس مع أسماء حتى يضمن عشوائية خروج المتحدث ، ومن هنا يستطيع المعلم أن يتأكد من حرص الطلبة المتفوقين على إفهام الطلبة الضعا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نموذج مفصل لأسلوب الترقيم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ضع المعلم طلابه في مجموعات غير متجانسة ( ممتاز ، متوسط ، ضعيف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مهمة جانبية لكل طالب في المجموعة ( قائد ، مسجل ، ....              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إعطاء كل طالب رقماً معين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الهدف المراد تحقيقه ويوضح مهمة كل مجموعة والوقت المحدد للإنجاز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افة المجموعات البدء في تنفيذ النشاط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التجول بين المجموعات ، ويقدم التوجيهات والمحفز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راقب أثناء تجواله بين المجموعات ( مستوى التفاعل ، طريقة التفكير العلمي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علن عن انتهاء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ل مجموعة عرض إجابتها بحيث يختار الطالب بصورة عشوائية عن طريق إظهار رقمه المتفق علي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عرض كافة المجموعات يتم الاتفاق على إجابة مثا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ملاحظة هام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لجأ بعض المعلمين المحترفين أثناء إدارتهم لمجموعات التعلم إلى ، سحب الطلاب غير المنسجمين أو ضعاف الاستجابة في مجموعة خارجية يترأسها المعلم شخصي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وهذه الطريقة تضمن</a:t>
            </a: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خفيف عبء الطلاب الضعاف عن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طلبة الضعاف من خلال الاستهداف المباشر من المعلم ل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8000"/>
                </a:solidFill>
                <a:uFillTx/>
                <a:latin typeface="Times New Roman"/>
              </a:rPr>
              <a:t>الخات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5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لطالب في التعلم التعاوني يحب معلمه لأنه مصدر دائم للتشجيع والدع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أوراق للإطل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توجيهات للمعلم قبل البدء في التنفيذ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ساعد كل عضو في المجموعة على شرح الكيفية التي أجاب عل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طلب من كل عضو أن يربط ما تعلمه اليوم بما تعلمه في السا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أكد من فهم كل مجموعة لمضمون الإجاب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شجع كل فرد على 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صت بعناية لما يقوله أفراد المجموعة ال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 تغير تفكيرك إلا إذا اقتنعت ب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نقد الأفكار ولا تنقد الأشخا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0000"/>
                </a:solidFill>
                <a:uFillTx/>
                <a:latin typeface="Times New Roman"/>
              </a:rPr>
              <a:t>تعليمات هامة لإدارة الوحد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تعاون في الوحدة مع التركيز على تطوير الأنشطة الفردية والتنافسية بشكل لا يقلل من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بدأ العمل وينتهي بلقاء بين أعضاء المجموعة . . . . . ففي اللقاء الأول تحدد شروط العمل وفي اللقاء الثاني تناقش الطريقة التي عملت ب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حلال مفهوم التنافس (الصحي ) من أجل الفائدة والمنفعة التسلية بدلاً من مفهوم التنافس من اجل الكسب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نويع الفترات بحيث تنفذ المهام الفردية في المنزل ثم يخصص للفترات التعاونية أكثر من فترة تعليمية ( تكامل التعاون والفرد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مثال على ذلك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الطلاب على مجموعات تعاونية كل مجموعة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سند  إلى كل مجموعة تعلم مجموعة من كلمات الهجاء بشكل 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على كل مجموعة قائمة ب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، يطلب من كل متعلم التميز في هجاء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ات ثم يقوم بتعليمها لأفر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د من فهم جميع أفراد المجموعة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قد عمليات المقارنة بين المجموعات لإدارة التعليم التنافس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سند لكل مجموعة مهمة تعاونية تتمثل في استخدام الكلمات في كتابة قصة من إعد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تم اختيار الطلاب في المجموعة بطريقة عشوائية فردية في هجاء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ة ثم يقوم أداء المجموعة في كتابة القص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ليوم الاو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اهيم في التعلم التعاون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هداف اليوم التدريب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أن يعرف المتدرب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فرق المتدرب بين التعلم التعاوني والتعليم 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تعرف المتدرب على عناصر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80"/>
                </a:solidFill>
                <a:latin typeface="Comic Sans MS"/>
              </a:rPr>
              <a:t>الوسائل التدريبية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أقلام ، بطاقات ملونة ، جهاز العرض فوق الرأ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مراجع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جماعي والفردي ( ديفيد جونسون – روجرتي جونسون ) ترجمة رفعت بهجات ، عالم الكتب – القاهرة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88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عاوني (ديفيد جونسون – روجرتي جونسون – إديث هوليك ) ترجمة مدارس الظهران الأهلية ، دار تركي للنشر والتوزيع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416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هـ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نافسي الجمعي والفردي ( سميث كلاهام ) جامعة متشغن ترجمة بثينة عبود ( دار الحرية ) لبنان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2000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فريق التعلم ( إدوارد ستانسون ) جامعة ملبورن ، استراليا – الجمعية العالمية للعلوم 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97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1268280"/>
          <a:ext cx="6984720" cy="5113080"/>
        </p:xfrm>
        <a:graphic>
          <a:graphicData uri="http://schemas.openxmlformats.org/drawingml/2006/table">
            <a:tbl>
              <a:tblPr/>
              <a:tblGrid>
                <a:gridCol w="2327760"/>
                <a:gridCol w="3492720"/>
                <a:gridCol w="116424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لزمن بالدقيق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جراءات التنفي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تعار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عرض ورقة البدا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1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3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4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5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ورقة الخاتم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cs typeface="Traditional Arabic"/>
                        </a:rPr>
                        <a:t>المجمــــــــــو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9160" y="1052280"/>
            <a:ext cx="76201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ymbol"/>
                <a:cs typeface="Symbol"/>
              </a:rPr>
              <a:t>التعا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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ت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دو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زميل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ذ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جانبه؛بحيث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شت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لك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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كني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ر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تخصص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سنو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خدم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مكا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هوايا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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إ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ج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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ع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ثنائ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شكي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–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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ختارو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اً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لمجموعته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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فرا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سيط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داخ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نفسه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يهدف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هذا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نشاط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لى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ذابة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جليد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متدر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وتحفيزهم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للعمل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معاً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081080"/>
            <a:ext cx="1511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4680" y="409680"/>
            <a:ext cx="7467840" cy="64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5640" y="1103400"/>
            <a:ext cx="7575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محاضرة مبسط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ب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العلاقة بين التعاون و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نج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الاسلام والتعا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تعالى  ( وتعاونوا على البر والتقوى 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عليه الصلاة والسلام ( إن يد الله مع الجماعة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حتى رسالة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سلام لم تتحقق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هدافها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لا بالتعاون الجماعي المنظم ، تحت قيادة النبي صلى الله عليه وسلم  كنتم خير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مة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 اخرجت للنا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فالله سبحانه وتعالى قد أخرج أمة بأسرها لا فرداً فحس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074600"/>
            <a:ext cx="1513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04560" y="1541520"/>
            <a:ext cx="7488360" cy="4392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نشاط  (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1/1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Comic Sans MS"/>
              </a:rPr>
              <a:t>مناقشة مفتوحة :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أ-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تعريف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ب-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التفاعل داخل حجرة الصف وأنواع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0587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1:28:21Z</dcterms:created>
  <dc:creator>alaithan</dc:creator>
  <dc:description/>
  <dc:language>en-US</dc:language>
  <cp:lastModifiedBy>bgd</cp:lastModifiedBy>
  <dcterms:modified xsi:type="dcterms:W3CDTF">2005-12-04T22:45:58Z</dcterms:modified>
  <cp:revision>188</cp:revision>
  <dc:subject/>
  <dc:title>PowerPoint Presentation</dc:title>
</cp:coreProperties>
</file>