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F49A9-843C-4C0F-A39C-764AE1469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D6F51-CDDA-41A2-8476-42AEA961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89FB4-6133-4DB8-BD65-480D00A05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D9E98-E742-4A63-BC61-3F06F0E78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45A06-2AD7-4657-A6FB-8214490D6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8842D-FDEB-4208-9787-AFB32E4EC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455D8-4C80-4B66-8CEE-41DC66980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3013F-D3C6-449D-ACC6-C2F03B039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8133C-59B9-4224-9A50-E8049DC08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CB0EE-0852-4C0F-9D22-4340130C3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AF774-2300-45D9-9338-651E18553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808E8-69D8-4399-8A59-484600F7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C0A00-8168-4402-AC47-C310D4D0A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31DB4-C42D-4673-8993-2D532F69E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54C0E-FF24-4F2D-B645-88ABA49BC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09849-6697-410C-8E66-7621DDED8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1112B-4F3C-44F4-9CE4-9F78A9444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7EFBC-5BFC-4A21-A38B-1A5D30D5E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9C1B4-9BAA-43FA-BFE7-A5455FC5C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B5F2-CC51-4D26-9A3B-3E5792FE1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886BB-96E9-46F0-B94D-029529442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716E2-89EA-49E5-8837-5A74015F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1228-051A-4DD1-AA2E-633C4FA9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F28B-A4A7-47E2-AD52-414934788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A39F-8782-458E-A06B-DB779EF88EC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23F9-51D2-439D-AEFA-118DC1E459E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9efee"/>
                </a:solidFill>
                <a:latin typeface="Garamond"/>
              </a:rPr>
              <a:t> </a:t>
            </a:r>
            <a:r>
              <a:rPr b="1" lang="ar-SA" sz="5400" spc="-1" strike="noStrike">
                <a:solidFill>
                  <a:srgbClr val="000099"/>
                </a:solidFill>
                <a:latin typeface="Garamond"/>
              </a:rPr>
              <a:t>دورة الاختبارات التحصيل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4952880"/>
            <a:ext cx="6400800" cy="9907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r>
              <a:rPr b="1" lang="ar-SA" sz="1800" spc="-1" strike="noStrike">
                <a:solidFill>
                  <a:srgbClr val="ffffff"/>
                </a:solidFill>
                <a:latin typeface="Garamond"/>
              </a:rPr>
              <a:t>أشراف وإعداد مشرفات الاجتماعيات</a:t>
            </a:r>
            <a:endParaRPr b="0" lang="en-US" sz="1800" spc="-1" strike="noStrike">
              <a:solidFill>
                <a:srgbClr val="ffffff"/>
              </a:solidFill>
              <a:latin typeface="Garamond"/>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1800" spc="-1" strike="noStrike">
                <a:solidFill>
                  <a:srgbClr val="ffffff"/>
                </a:solidFill>
                <a:latin typeface="Garamond"/>
              </a:rPr>
              <a:t>نهاد البراك و</a:t>
            </a:r>
            <a:r>
              <a:rPr b="1" lang="ar-SA" sz="2800" spc="-1" strike="noStrike">
                <a:solidFill>
                  <a:srgbClr val="ffffff"/>
                </a:solidFill>
                <a:latin typeface="Garamond"/>
              </a:rPr>
              <a:t> </a:t>
            </a:r>
            <a:r>
              <a:rPr b="1" lang="ar-SA" sz="1800" spc="-1" strike="noStrike">
                <a:solidFill>
                  <a:srgbClr val="ffffff"/>
                </a:solidFill>
                <a:latin typeface="Garamond"/>
              </a:rPr>
              <a:t>صباح الكليب</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43920"/>
            <a:ext cx="9144000" cy="85028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إنشاء مخازن أسئلة (بنوك أسئلة )على مستوى المدرسة والادارة التعليمية والوزارة ,وإثراؤها من قبل المعلمين والمشرفين في كل فصل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عميم الخبرات والتجارب الذاتية في مجال التقويم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طوير نظم حديثة لقواعد معلوماتية تشم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ليل الخبرات لكل ماد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ديد الأهداف لكل خبر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سئلة تقيس الأهداف.</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نشاطات تم تجريبها في عمليات التعل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2"/>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 </a:t>
            </a:r>
            <a:r>
              <a:rPr b="1" lang="ar-SA" sz="3200" spc="-1" strike="noStrike">
                <a:solidFill>
                  <a:srgbClr val="ffffff"/>
                </a:solidFill>
                <a:latin typeface="Garamond"/>
              </a:rPr>
              <a:t>عداد اختبارات مدرسية ذات مستوى عال من الجودة الفنية وتطويرها بصفة مستمرة في كل المقررات الدر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28600" y="412200"/>
            <a:ext cx="8610480" cy="5487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نشاط رقم (</a:t>
            </a:r>
            <a:r>
              <a:rPr b="1" lang="ar-SA" sz="3600" spc="-1" strike="noStrike">
                <a:solidFill>
                  <a:srgbClr val="000099"/>
                </a:solidFill>
                <a:latin typeface="Garamond"/>
              </a:rPr>
              <a:t>1</a:t>
            </a:r>
            <a:r>
              <a:rPr b="1" lang="ar-SA" sz="3600" spc="-1" strike="noStrike">
                <a:solidFill>
                  <a:srgbClr val="000099"/>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15</a:t>
            </a:r>
            <a:r>
              <a:rPr b="1" lang="ar-SA" sz="1800" spc="-1" strike="noStrike">
                <a:solidFill>
                  <a:srgbClr val="ffffff"/>
                </a:solidFill>
                <a:latin typeface="Garamond"/>
              </a:rPr>
              <a:t>)دقيقة</a:t>
            </a: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ومن خلال تعرفك ِ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على أبرز أهداف المشروع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ذا تتوقعين من إيجابيات وأثار من تطبيق المشروع في الميدان؟</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533520" y="2088720"/>
            <a:ext cx="8153280" cy="4968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أهداف الورشة:</a:t>
            </a: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وقع من  المتدرب بعد حضوره هذه الورشة أن:</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الأغراض المختلفة ل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طرائق 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حلل وحدة دراسية من مادة تخصصه.</a:t>
            </a:r>
            <a:endParaRPr b="0" lang="en-US" sz="3200" spc="-1" strike="noStrike">
              <a:solidFill>
                <a:srgbClr val="ffffff"/>
              </a:solidFill>
              <a:latin typeface="Arial"/>
            </a:endParaRPr>
          </a:p>
          <a:p>
            <a:pPr marL="343080" indent="-343080" algn="r">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990720" y="503280"/>
            <a:ext cx="716256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ورشة رقم (</a:t>
            </a:r>
            <a:r>
              <a:rPr b="1" lang="ar-SA" sz="3600" spc="-1" strike="noStrike">
                <a:solidFill>
                  <a:srgbClr val="0000cc"/>
                </a:solidFill>
                <a:latin typeface="Garamond"/>
              </a:rPr>
              <a:t>1</a:t>
            </a:r>
            <a:r>
              <a:rPr b="1" lang="ar-SA" sz="3600" spc="-1" strike="noStrike">
                <a:solidFill>
                  <a:srgbClr val="0000cc"/>
                </a:solidFill>
                <a:latin typeface="Garamond"/>
              </a:rPr>
              <a:t>)</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cccc"/>
                </a:solidFill>
                <a:latin typeface="Garamond"/>
              </a:rPr>
              <a:t>تحليل أو تحديد المحتو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979560" y="402840"/>
            <a:ext cx="7859520" cy="60667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نشاط رقم (</a:t>
            </a:r>
            <a:r>
              <a:rPr b="1" lang="ar-SA" sz="3600" spc="-1" strike="noStrike">
                <a:solidFill>
                  <a:srgbClr val="0000cc"/>
                </a:solidFill>
                <a:latin typeface="Garamond"/>
              </a:rPr>
              <a:t>1</a:t>
            </a:r>
            <a:r>
              <a:rPr b="1" lang="ar-SA" sz="3600" spc="-1" strike="noStrike">
                <a:solidFill>
                  <a:srgbClr val="0000cc"/>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25</a:t>
            </a:r>
            <a:r>
              <a:rPr b="1" lang="ar-SA" sz="1800" spc="-1" strike="noStrike">
                <a:solidFill>
                  <a:srgbClr val="ffffff"/>
                </a:solidFill>
                <a:latin typeface="Garamond"/>
              </a:rPr>
              <a:t>)دقيقة</a:t>
            </a: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غراض المختلفة لتحليل المحتوى ال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اكتب طرائق تحليل المحتوى الدراسي.</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152280" y="-29160"/>
            <a:ext cx="8839440" cy="78930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لتحليل المحتوى أغراض عديدة أهمها:</a:t>
            </a:r>
            <a:endParaRPr b="0" lang="en-US" sz="3200" spc="-1" strike="noStrike">
              <a:solidFill>
                <a:srgbClr val="ffffff"/>
              </a:solidFill>
              <a:latin typeface="Arial"/>
            </a:endParaRPr>
          </a:p>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لخطط التعليمية الفصلية واليوم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شتقاق الأهداف التدريس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ستراتيجيات التعليم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وسائل التعليمية والتقنيات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كشف عن مواطن القوة والضعف في الكتاب المدر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بويب أو تصنيف عناصر المحتوى لتسهيل عملية تنفيذ الحص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ناء اختبارات تحصيلية حيث يساعدنا تحليل المحتوى في اختيار عينة ممثلة لجميع جوانب المادة لتضمينها في الاختبار لتحقيق الشمول والتوازن في الاختبار التحصيلي.</a:t>
            </a:r>
            <a:endParaRPr b="0" lang="en-US" sz="3200" spc="-1" strike="noStrike">
              <a:solidFill>
                <a:srgbClr val="ffffff"/>
              </a:solidFill>
              <a:latin typeface="Arial"/>
            </a:endParaRPr>
          </a:p>
        </p:txBody>
      </p:sp>
      <p:sp>
        <p:nvSpPr>
          <p:cNvPr id="130" name=""/>
          <p:cNvSpPr/>
          <p:nvPr/>
        </p:nvSpPr>
        <p:spPr>
          <a:xfrm>
            <a:off x="-111600" y="-60480"/>
            <a:ext cx="7151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أغراض تحليل المحتوى الدراسي</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cc"/>
                </a:solidFill>
                <a:latin typeface="Garamond"/>
              </a:rPr>
              <a:t>طرق تحليل المحتوى</a:t>
            </a:r>
            <a:endParaRPr b="1" lang="en-US" sz="4400" spc="-1" strike="noStrike">
              <a:solidFill>
                <a:srgbClr val="b9efee"/>
              </a:solidFill>
              <a:latin typeface="Garamond"/>
            </a:endParaRPr>
          </a:p>
        </p:txBody>
      </p:sp>
      <p:sp>
        <p:nvSpPr>
          <p:cNvPr id="132" name="PlaceHolder 2"/>
          <p:cNvSpPr>
            <a:spLocks noGrp="1"/>
          </p:cNvSpPr>
          <p:nvPr>
            <p:ph/>
          </p:nvPr>
        </p:nvSpPr>
        <p:spPr>
          <a:xfrm>
            <a:off x="228240" y="1294920"/>
            <a:ext cx="8915400" cy="4953240"/>
          </a:xfrm>
          <a:prstGeom prst="rect">
            <a:avLst/>
          </a:prstGeom>
          <a:noFill/>
          <a:ln w="0">
            <a:noFill/>
          </a:ln>
        </p:spPr>
        <p:txBody>
          <a:bodyPr lIns="90000" rIns="90000" tIns="46800" bIns="46800" anchor="t">
            <a:normAutofit fontScale="87000"/>
          </a:bodyPr>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	</a:t>
            </a:r>
            <a:r>
              <a:rPr b="1" lang="ar-SA" sz="2800" spc="-1" strike="noStrike">
                <a:solidFill>
                  <a:srgbClr val="ccff66"/>
                </a:solidFill>
                <a:latin typeface="Garamond"/>
              </a:rPr>
              <a:t>توجد طريقتان لتحليل المحتوى تعتبران الأكثر شيوعاً في الاستخدام , علما بأن لكل موضوع دراسي طريقته الخاصة في تحليل محتواه تتناسب مع طبيعته . وقد يعمد واضع الاختبارإلى تفحص الكتاب وتصنيف محتواه أو تقسيمه كما يراه  مناسباً</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جميع العناصر المتماثلة في المادة الدراسية في مجموعة واحدة مثل :مجموعة المفاهيم ,مجموعة الرموز ,مجموعة       التعميمات .....الخ</a:t>
            </a: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قسيم المادة الدراسية إلى موضوعات رئيسة ثم تجزئة هذه الموضوعات إلى موضوعات فرعي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8001000" cy="178272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دقيقة</a:t>
            </a:r>
            <a:endParaRPr b="1" lang="en-US" sz="1800" spc="-1" strike="noStrike">
              <a:solidFill>
                <a:srgbClr val="b9efee"/>
              </a:solidFill>
              <a:latin typeface="Garamond"/>
            </a:endParaRPr>
          </a:p>
        </p:txBody>
      </p:sp>
      <p:sp>
        <p:nvSpPr>
          <p:cNvPr id="134" name="PlaceHolder 2"/>
          <p:cNvSpPr>
            <a:spLocks noGrp="1"/>
          </p:cNvSpPr>
          <p:nvPr>
            <p:ph/>
          </p:nvPr>
        </p:nvSpPr>
        <p:spPr>
          <a:xfrm>
            <a:off x="457200" y="3124080"/>
            <a:ext cx="8229600" cy="3200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لحوظاتك حول ورقة تحليل المحتوى التي زودك بها المدرب</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ورشة رقم (</a:t>
            </a:r>
            <a:r>
              <a:rPr b="0" lang="ar-SA" sz="3600" spc="-1" strike="noStrike">
                <a:solidFill>
                  <a:srgbClr val="0000cc"/>
                </a:solidFill>
                <a:latin typeface="Garamond"/>
              </a:rPr>
              <a:t>2</a:t>
            </a:r>
            <a:r>
              <a:rPr b="0" lang="ar-SA" sz="3600" spc="-1" strike="noStrike">
                <a:solidFill>
                  <a:srgbClr val="0000cc"/>
                </a:solidFill>
                <a:latin typeface="Garamond"/>
              </a:rPr>
              <a:t>)</a:t>
            </a:r>
            <a:br>
              <a:rPr sz="3600"/>
            </a:br>
            <a:r>
              <a:rPr b="0" lang="ar-SA" sz="3600" spc="-1" strike="noStrike">
                <a:solidFill>
                  <a:srgbClr val="0000cc"/>
                </a:solidFill>
                <a:latin typeface="Garamond"/>
              </a:rPr>
              <a:t>الأهداف التدريسية</a:t>
            </a:r>
            <a:endParaRPr b="1" lang="en-US" sz="3600" spc="-1" strike="noStrike">
              <a:solidFill>
                <a:srgbClr val="b9efee"/>
              </a:solidFill>
              <a:latin typeface="Garamond"/>
            </a:endParaRPr>
          </a:p>
        </p:txBody>
      </p:sp>
      <p:sp>
        <p:nvSpPr>
          <p:cNvPr id="136"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fontScale="82000"/>
          </a:bodyPr>
          <a:p>
            <a:pPr marL="437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أهداف الورشة:</a:t>
            </a:r>
            <a:endParaRPr b="0" lang="en-US" sz="36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يتوقع من المتدرب بعد حضوره هذه الورشة أن:</a:t>
            </a:r>
            <a:endParaRPr b="0" lang="en-US" sz="36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3200" spc="-1" strike="noStrike">
                <a:solidFill>
                  <a:srgbClr val="ffffff"/>
                </a:solidFill>
                <a:latin typeface="Garamond"/>
              </a:rPr>
              <a:t>يتعرف مواصفات الهدف التدريسي الجيد.</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المجالات التي تصنف فيها الأهداف التدريسية.</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مستويات الأهداف في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عطي أمثلة على كل مستوى من مستويات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كتب الأهداف التدريسية لمحتوى معين من مادة تخصصه.</a:t>
            </a:r>
            <a:endParaRPr b="0" lang="en-US" sz="3200" spc="-1" strike="noStrike">
              <a:solidFill>
                <a:srgbClr val="ffffff"/>
              </a:solidFill>
              <a:latin typeface="Garamond"/>
            </a:endParaRPr>
          </a:p>
          <a:p>
            <a:pPr marL="437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1</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10</a:t>
            </a:r>
            <a:r>
              <a:rPr b="0" lang="ar-SA" sz="1800" spc="-1" strike="noStrike">
                <a:solidFill>
                  <a:srgbClr val="b9efee"/>
                </a:solidFill>
                <a:latin typeface="Garamond"/>
              </a:rPr>
              <a:t>)دقائق</a:t>
            </a:r>
            <a:br>
              <a:rPr sz="4000"/>
            </a:br>
            <a:endParaRPr b="1" lang="en-US" sz="1800" spc="-1" strike="noStrike">
              <a:solidFill>
                <a:srgbClr val="b9efee"/>
              </a:solidFill>
              <a:latin typeface="Garamond"/>
            </a:endParaRPr>
          </a:p>
        </p:txBody>
      </p:sp>
      <p:sp>
        <p:nvSpPr>
          <p:cNvPr id="138" name="PlaceHolder 2"/>
          <p:cNvSpPr>
            <a:spLocks noGrp="1"/>
          </p:cNvSpPr>
          <p:nvPr>
            <p:ph/>
          </p:nvPr>
        </p:nvSpPr>
        <p:spPr>
          <a:xfrm>
            <a:off x="457200" y="2438280"/>
            <a:ext cx="8229600" cy="2895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واصفات الهدف التدريسي الجي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مجالات التي تصنف فيها الأهداف التدريسية.</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ستويات الأهداف في المجال المعرفي حسب تصنيف بلوم وما المقصود بكل من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خمسة أمثلة لتعابير لايفضل استخدامها في صياغة الهدف التدريسي وخمسة أخرى من الممكن استخدام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مثالاً على كل مستوى من مستويات تصنيف بلوم للمجال المعرف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0880" y="1265760"/>
            <a:ext cx="8382240" cy="46692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a:t>
            </a:r>
            <a:r>
              <a:rPr b="1" lang="ar-SA" sz="3600" spc="-1" strike="noStrike">
                <a:solidFill>
                  <a:srgbClr val="ccff66"/>
                </a:solidFill>
                <a:latin typeface="Garamond"/>
              </a:rPr>
              <a:t>أهداف الحقيبة التدريبية</a:t>
            </a:r>
            <a:endParaRPr b="0" lang="en-US" sz="3600" spc="-1" strike="noStrike">
              <a:solidFill>
                <a:srgbClr val="ffffff"/>
              </a:solidFill>
              <a:latin typeface="Arial"/>
            </a:endParaRPr>
          </a:p>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طور اختبارات تحصيلية جيدة في مادة تخصصه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نتائج الاختبار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فقرات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تعرف استخدامات تحليل نتائج الاختبار وفقراته في العملية التدريسية.</a:t>
            </a:r>
            <a:endParaRPr b="0" lang="en-US" sz="3200" spc="-1" strike="noStrike">
              <a:solidFill>
                <a:srgbClr val="ffffff"/>
              </a:solidFill>
              <a:latin typeface="Arial"/>
            </a:endParaRPr>
          </a:p>
          <a:p>
            <a:pPr marL="343080" indent="-343080" algn="r">
              <a:lnSpc>
                <a:spcPct val="100000"/>
              </a:lnSpc>
              <a:buClr>
                <a:srgbClr val="ffffff"/>
              </a:buClr>
              <a:buFont typeface="Garamond"/>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نشاط رقم (</a:t>
            </a:r>
            <a:r>
              <a:rPr b="1" lang="ar-SA" sz="3200" spc="-1" strike="noStrike">
                <a:solidFill>
                  <a:srgbClr val="0000cc"/>
                </a:solidFill>
                <a:latin typeface="Garamond"/>
              </a:rPr>
              <a:t>3</a:t>
            </a:r>
            <a:r>
              <a:rPr b="1" lang="ar-SA" sz="32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SA" sz="3200" spc="-1" strike="noStrike">
                <a:solidFill>
                  <a:srgbClr val="ffffff"/>
                </a:solidFill>
                <a:latin typeface="Garamond"/>
              </a:rPr>
              <a:t>أكتب ملحوظاتك النقدية على كل هدف وارد في الجدول الآتي وقم بالتعديلات المناسب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4</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ر وحدة دراسية من مادة تخصصك (لم تدرس للطلبة بعد)وقم بكتابة الأهداف التدريسية لها.</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464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يجب أن تصاغ الأهداف بشكل محدد وواضح وقابل للقياس ومن القواعد الأساسية لتحقيق ذلك:</a:t>
            </a:r>
            <a:endParaRPr b="0" lang="en-US" sz="32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أداء المتعلم أو سلوكه الذي يستدل منه على تحقق الهدف وهي بذلك تصف الفعل الذي يقوم به المتعلم أو الذي أصبح قادراً على القيام به نتيجة لحدوث التعلم ولا تصف نشاط المعلم أو أفعال المعلم أو غرضه.</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بدأ عبارة الهدف بفعل (مبني للمعلوم) يصف السلوك الذي يفترض في الطالب أن يظهره عندما يتعامل مع المحتوى.</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سلوكاً قابلاً للملاحظة , أو أنه على درجة من التحديد بحيث يسهل الاستدلال عليه بسلوك قابل للملاحظ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8" name="PlaceHolder 2"/>
          <p:cNvSpPr>
            <a:spLocks noGrp="1"/>
          </p:cNvSpPr>
          <p:nvPr>
            <p:ph/>
          </p:nvPr>
        </p:nvSpPr>
        <p:spPr>
          <a:xfrm>
            <a:off x="0" y="2514600"/>
            <a:ext cx="9144000" cy="3200400"/>
          </a:xfrm>
          <a:prstGeom prst="rect">
            <a:avLst/>
          </a:prstGeom>
          <a:noFill/>
          <a:ln w="0">
            <a:noFill/>
          </a:ln>
        </p:spPr>
        <p:txBody>
          <a:bodyPr lIns="90000" rIns="90000" tIns="46800" bIns="46800" anchor="t">
            <a:normAutofit fontScale="85000"/>
          </a:bodyPr>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بسيطة (غير مركبة )أي أن كل عبارة للهدف تتعلق بعملية واحدة وسلوكاً واحداً فقط .</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يعبر عن الهدف بمستوى مناسب من العمومية.</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واقعية وملائمة للزمن المتاح للتدريس والقدرات وخصائص الطلا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ك عدة طرق لتصنيف الأهداف ,ولكن أهمها ماقام به بلوم ورفاقه فقد تناول هذا التصنيف تقسيم الأهداف في ثلاثة مجالات هي:</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معرف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يتناول الأهداف التي تتصل بالمعرفة والمهارات والقدرات العقلية.</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انفعال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أهدافاً تعليمية تتصل بالمشاعر والأحاسيس والانفعالات والاتجاهات.</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2" name="PlaceHolder 2"/>
          <p:cNvSpPr>
            <a:spLocks noGrp="1"/>
          </p:cNvSpPr>
          <p:nvPr>
            <p:ph/>
          </p:nvPr>
        </p:nvSpPr>
        <p:spPr>
          <a:xfrm>
            <a:off x="457200" y="2133360"/>
            <a:ext cx="8229600" cy="2971800"/>
          </a:xfrm>
          <a:prstGeom prst="rect">
            <a:avLst/>
          </a:prstGeom>
          <a:noFill/>
          <a:ln w="0">
            <a:noFill/>
          </a:ln>
        </p:spPr>
        <p:txBody>
          <a:bodyPr lIns="90000" rIns="90000" tIns="46800" bIns="46800" anchor="t">
            <a:normAutofit fontScale="95000"/>
          </a:bodyPr>
          <a:p>
            <a:pPr marL="578880" indent="-578880" algn="r" rtl="1">
              <a:lnSpc>
                <a:spcPct val="90000"/>
              </a:lnSpc>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نفس حركي( النفسحركي):</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الأهداف التي تتصل بالمهارات الحركية مثل الكتابة باليد واستخدام الآلة,كما تتضمن مهارات وأعمال مهنية كاستخدام الأجهزة والمقاييس والأدوات المخبرية وغيرها في الحياة الي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4" name="PlaceHolder 2"/>
          <p:cNvSpPr>
            <a:spLocks noGrp="1"/>
          </p:cNvSpPr>
          <p:nvPr>
            <p:ph/>
          </p:nvPr>
        </p:nvSpPr>
        <p:spPr>
          <a:xfrm>
            <a:off x="0" y="1752480"/>
            <a:ext cx="9144000" cy="3353040"/>
          </a:xfrm>
          <a:prstGeom prst="rect">
            <a:avLst/>
          </a:prstGeom>
          <a:noFill/>
          <a:ln w="0">
            <a:noFill/>
          </a:ln>
        </p:spPr>
        <p:txBody>
          <a:bodyPr lIns="90000" rIns="90000" tIns="46800" bIns="46800" anchor="t">
            <a:normAutofit fontScale="71000"/>
          </a:bodyPr>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صنفت الأهداف في المجال المعرفي إلى ست فئات أو ستة مستويات رئيسية(حسب تصنيف بلوم)متدرجة من البسيط إلى الأكثر تعقيداً تبدأ بالمعرفة فالفهم فالتطبيق فالتحليل فالتركيب ثم التقويم,وكل مستوى من هذه المستويات يتضمن أنماط السلوك في المستوى أو المستويات التي تسبقه,ويمكن تلخيصها كما يلي:</a:t>
            </a:r>
            <a:endParaRPr b="0" lang="en-US" sz="3200" spc="-1" strike="noStrike">
              <a:solidFill>
                <a:srgbClr val="ffffff"/>
              </a:solidFill>
              <a:latin typeface="Garamond"/>
            </a:endParaRPr>
          </a:p>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32720" indent="-4327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عرفة: ويقصد بها تذكر حقائق أو معلومات أو أشياء سبق تعلمها ويتم استدعاؤها من الذاكرة أو التعرف عليها ,وهي أدنى مستويات المجال المعرفي</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6" name="PlaceHolder 2"/>
          <p:cNvSpPr>
            <a:spLocks noGrp="1"/>
          </p:cNvSpPr>
          <p:nvPr>
            <p:ph/>
          </p:nvPr>
        </p:nvSpPr>
        <p:spPr>
          <a:xfrm>
            <a:off x="0" y="1447920"/>
            <a:ext cx="9144000" cy="5486400"/>
          </a:xfrm>
          <a:prstGeom prst="rect">
            <a:avLst/>
          </a:prstGeom>
          <a:noFill/>
          <a:ln w="0">
            <a:noFill/>
          </a:ln>
        </p:spPr>
        <p:txBody>
          <a:bodyPr lIns="90000" rIns="90000" tIns="46800" bIns="46800" anchor="t">
            <a:normAutofit fontScale="87000"/>
          </a:bodyPr>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هم: وهو القدرة على إدراك أو استيعاب معنى المادة أو النص الذي يدرسه الطالب. </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طبيق : ويعني استخدام ما تم تعلمه من قوانين ومفاهيم أو قواعد أو مبادئ أو تعليمات أو إجراءات وغيرها في مواقف جديدة أو مواقف واقعية.</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ليل : ويعني القدرة على تجزئة أو تحليل المادة إلى عناصرها أو مكوناته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ركيب: ويعني القدرة على جمع عناصر أو أجزاء لتكوين كل متكامل أو نمط أو تركيب غير موجود أصل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ويم: ويعني القدرة على إصدار أحكام حول قيمة الأفكار أو الأعمال وفق معايير أو محكات معين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3600" spc="-1" strike="noStrike">
                <a:solidFill>
                  <a:srgbClr val="0000cc"/>
                </a:solidFill>
                <a:latin typeface="Garamond"/>
              </a:rPr>
              <a:t>ج-أمثلة للتعابير التي يفضل استخدامها والتي لايفضل استخدامها في صياغة الهدف التدريسي.</a:t>
            </a:r>
            <a:endParaRPr b="1" lang="en-US" sz="3600" spc="-1" strike="noStrike">
              <a:solidFill>
                <a:srgbClr val="b9efee"/>
              </a:solidFill>
              <a:latin typeface="Garamond"/>
            </a:endParaRPr>
          </a:p>
        </p:txBody>
      </p:sp>
      <p:sp>
        <p:nvSpPr>
          <p:cNvPr id="158" name="PlaceHolder 2"/>
          <p:cNvSpPr>
            <a:spLocks noGrp="1"/>
          </p:cNvSpPr>
          <p:nvPr>
            <p:ph/>
          </p:nvPr>
        </p:nvSpPr>
        <p:spPr>
          <a:xfrm>
            <a:off x="0" y="2209680"/>
            <a:ext cx="9144000" cy="4191120"/>
          </a:xfrm>
          <a:prstGeom prst="rect">
            <a:avLst/>
          </a:prstGeom>
          <a:noFill/>
          <a:ln w="0">
            <a:noFill/>
          </a:ln>
        </p:spPr>
        <p:txBody>
          <a:bodyPr lIns="90000" rIns="90000" tIns="46800" bIns="46800" anchor="t">
            <a:normAutofit fontScale="97000"/>
          </a:bodyPr>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لايفضل استخدامها عند صياغة الأهداف التدريسية:يعرف ,يفهم ,يتذوق ,يعي ,يدرك,يتحسس الحاجة إلي,يبدي اهتماماً.</a:t>
            </a:r>
            <a:endParaRPr b="0" lang="en-US" sz="3200" spc="-1" strike="noStrike">
              <a:solidFill>
                <a:srgbClr val="ffffff"/>
              </a:solidFill>
              <a:latin typeface="Garamond"/>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يمكن استخدامها عند صياغة الأهداف التدريسية: يتعرف ,يعطي أمثلة عن ,يقارن من حيث,يصف , يلخص, يصنف,يحل مسأل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i="1" lang="ar-SA" sz="4000" spc="-1" strike="noStrike">
                <a:solidFill>
                  <a:srgbClr val="0000cc"/>
                </a:solidFill>
                <a:latin typeface="Garamond"/>
              </a:rPr>
              <a:t>كتابة الفقرات الاختبارية</a:t>
            </a:r>
            <a:br>
              <a:rPr sz="4000"/>
            </a:br>
            <a:endParaRPr b="1" lang="en-US" sz="4000" spc="-1" strike="noStrike">
              <a:solidFill>
                <a:srgbClr val="b9efee"/>
              </a:solidFill>
              <a:latin typeface="Garamond"/>
            </a:endParaRPr>
          </a:p>
        </p:txBody>
      </p:sp>
      <p:sp>
        <p:nvSpPr>
          <p:cNvPr id="160" name="PlaceHolder 2"/>
          <p:cNvSpPr>
            <a:spLocks noGrp="1"/>
          </p:cNvSpPr>
          <p:nvPr>
            <p:ph/>
          </p:nvPr>
        </p:nvSpPr>
        <p:spPr>
          <a:xfrm>
            <a:off x="152280" y="1600200"/>
            <a:ext cx="8686800" cy="4495680"/>
          </a:xfrm>
          <a:prstGeom prst="rect">
            <a:avLst/>
          </a:prstGeom>
          <a:noFill/>
          <a:ln w="0">
            <a:noFill/>
          </a:ln>
        </p:spPr>
        <p:txBody>
          <a:bodyPr lIns="90000" rIns="90000" tIns="46800" bIns="46800" anchor="t">
            <a:normAutofit fontScale="98000"/>
          </a:bodyPr>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a:t>
            </a:r>
            <a:r>
              <a:rPr b="1" i="1" lang="ar-SA" sz="3200" spc="-1" strike="noStrike">
                <a:solidFill>
                  <a:srgbClr val="ccff66"/>
                </a:solidFill>
                <a:latin typeface="Garamond"/>
              </a:rPr>
              <a:t>يتوقع من المتدرب بعد حضوره هذه الورشة أن:</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70560" indent="-52272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تعرف الأسس التي يعتمد عليها في اختيار نوع الفقرات الاختبارية.</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70560" indent="-522720" algn="r" rtl="1">
              <a:spcBef>
                <a:spcPts val="700"/>
              </a:spcBef>
              <a:buClr>
                <a:srgbClr val="ffffff"/>
              </a:buClr>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كتب فقرات اختباريه جيدة في مادة تخصصه.</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28600" y="1508400"/>
            <a:ext cx="853452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أولاً:الهدف العام للبرنامج:</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تهدف البرنامج بصفة عامة التدريب على تصميم نماذج اختبارات تحصيلية لمقرر دراسي وفق جدول المواصفات</a:t>
            </a:r>
            <a:r>
              <a:rPr b="1" lang="ar-SA" sz="1800" spc="-1" strike="noStrike">
                <a:solidFill>
                  <a:srgbClr val="ffffff"/>
                </a:solidFill>
                <a:latin typeface="Garamond"/>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62"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93000"/>
          </a:bodyPr>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566640" algn="r" rtl="1">
              <a:spcBef>
                <a:spcPts val="10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كتب ثلاثة أهداف تدريسية من مادة تخصصك.</a:t>
            </a:r>
            <a:endParaRPr b="0" lang="en-US" sz="40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فقرتين اختباريتين إحداهما مقاليه والأخرى موضوعية من نوع الاختيار من متعدد لقياس كل هدف من الأهداف السابق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 محاسن الفقرات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ناسبتها دون غيرها لقياس بعض نواتج التعلم مثل التعبير عن النفس كتابة أو إنتاج عمل أصيل.</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هولة إعدادها مقارنة بالأسئلة الموضوع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8"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مساؤئ الفقرات المقالية: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ذاتية التصحي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حتاج إلى وقت كبير ل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ضعيف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0" name="PlaceHolder 2"/>
          <p:cNvSpPr>
            <a:spLocks noGrp="1"/>
          </p:cNvSpPr>
          <p:nvPr>
            <p:ph/>
          </p:nvPr>
        </p:nvSpPr>
        <p:spPr>
          <a:xfrm>
            <a:off x="0" y="1523520"/>
            <a:ext cx="8686800" cy="449604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ج - محاسن الفقرات الموضوع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وفير الموضوعية حيث تبعد ذاتية المصح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فيها ع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القيام بالتحليل الإحصائ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2" name="PlaceHolder 2"/>
          <p:cNvSpPr>
            <a:spLocks noGrp="1"/>
          </p:cNvSpPr>
          <p:nvPr>
            <p:ph/>
          </p:nvPr>
        </p:nvSpPr>
        <p:spPr>
          <a:xfrm>
            <a:off x="685440" y="1447920"/>
            <a:ext cx="746748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 د - مساوئ الفقرات الموضوع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إعداد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سمح بالتخمين.</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كلفتها عال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0</a:t>
            </a:r>
            <a:r>
              <a:rPr b="0" lang="ar-SA" sz="2000" spc="-1" strike="noStrike">
                <a:solidFill>
                  <a:srgbClr val="b9efee"/>
                </a:solidFill>
                <a:latin typeface="Garamond"/>
              </a:rPr>
              <a:t>) دقائق</a:t>
            </a:r>
            <a:br>
              <a:rPr sz="2000"/>
            </a:br>
            <a:endParaRPr b="1" lang="en-US" sz="2000" spc="-1" strike="noStrike">
              <a:solidFill>
                <a:srgbClr val="b9efee"/>
              </a:solidFill>
              <a:latin typeface="Garamond"/>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نواع المختلفة ل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40</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ين مزايا وعيوب كل مما يأتي:</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وضوع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4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78" name="PlaceHolder 2"/>
          <p:cNvSpPr>
            <a:spLocks noGrp="1"/>
          </p:cNvSpPr>
          <p:nvPr>
            <p:ph/>
          </p:nvPr>
        </p:nvSpPr>
        <p:spPr>
          <a:xfrm>
            <a:off x="228240" y="1600200"/>
            <a:ext cx="8458200" cy="449568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 الأمور التي تؤخذ بعين الاعتبار عند كتابة فقرات الاختبارات بشكل عام.</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قالية.</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وضوعية : الاختيار من متعدد , الاختيار من بديلين ,المزاوج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r>
              <a:rPr b="1" lang="ar-SA" sz="4000" spc="-1" strike="noStrike">
                <a:solidFill>
                  <a:srgbClr val="b9efee"/>
                </a:solidFill>
                <a:latin typeface="Garamond"/>
              </a:rPr>
              <a:t> </a:t>
            </a:r>
            <a:endParaRPr b="1" lang="en-US" sz="4000" spc="-1" strike="noStrike">
              <a:solidFill>
                <a:srgbClr val="b9efee"/>
              </a:solidFill>
              <a:latin typeface="Garamond"/>
            </a:endParaRPr>
          </a:p>
        </p:txBody>
      </p:sp>
      <p:sp>
        <p:nvSpPr>
          <p:cNvPr id="180" name="PlaceHolder 2"/>
          <p:cNvSpPr>
            <a:spLocks noGrp="1"/>
          </p:cNvSpPr>
          <p:nvPr>
            <p:ph/>
          </p:nvPr>
        </p:nvSpPr>
        <p:spPr>
          <a:xfrm>
            <a:off x="0" y="1980720"/>
            <a:ext cx="9144000" cy="4800600"/>
          </a:xfrm>
          <a:prstGeom prst="rect">
            <a:avLst/>
          </a:prstGeom>
          <a:noFill/>
          <a:ln w="0">
            <a:noFill/>
          </a:ln>
        </p:spPr>
        <p:txBody>
          <a:bodyPr lIns="90000" rIns="90000" tIns="46800" bIns="46800"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ccff66"/>
                </a:solidFill>
                <a:latin typeface="Garamond"/>
              </a:rPr>
              <a:t>الأسس التي نعتمد عليها في اختيار نوع الفقرات الاختبارية</a:t>
            </a:r>
            <a:endParaRPr b="0" lang="en-US" sz="3200" spc="-1" strike="noStrike">
              <a:solidFill>
                <a:srgbClr val="ffffff"/>
              </a:solidFill>
              <a:latin typeface="Garamond"/>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99"/>
                </a:solidFill>
                <a:latin typeface="Garamond"/>
              </a:rPr>
              <a:t>     إن المعلم بحاجة إلى تحديد نوع الفقرات التي تناسب الموقف , وهذا يتطلب معرفة خصائص كل نوع من أنواع الفقرات , كما أن هناك عدة أسس تحدد أو ترجح اختيار المعلم لنوع دون آخر ,وأهم هذه الأسس  مايلي:</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طبيعة المادة الدراسية.</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توى الهدف التدريسي .</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غرض من التقوي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33520" y="-373680"/>
            <a:ext cx="7788240" cy="75279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طى المتدربة نبذة مختصرة عن مشروع الاختبارات</a:t>
            </a:r>
            <a:endParaRPr b="0" lang="en-US" sz="32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الاختبارات 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خطوات إعداد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حلل المتدربة محتوى من مقرر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تعريف الهدف السلوكي ومكونات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خصائص الهدف السلوكي الجي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endParaRPr b="1" lang="en-US" sz="3600" spc="-1" strike="noStrike">
              <a:solidFill>
                <a:srgbClr val="b9efee"/>
              </a:solidFill>
              <a:latin typeface="Garamond"/>
            </a:endParaRPr>
          </a:p>
        </p:txBody>
      </p:sp>
      <p:sp>
        <p:nvSpPr>
          <p:cNvPr id="18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مار الطلبة أو المرحلة الدراسي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دد الطلاب في الصف أو الشعبة أو الذين سيأخذون الاختبار.</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لإجاب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لتصحيح الإجابات .</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همية الحصول على نتائج الاختبار بسرع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إعداد الاختبار مقابل زمن التصحيح.</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في المدرس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Garamond"/>
              </a:rPr>
              <a:t>نشاط رقم (</a:t>
            </a:r>
            <a:r>
              <a:rPr b="1" lang="ar-SA" sz="4000" spc="-1" strike="noStrike">
                <a:solidFill>
                  <a:srgbClr val="0000cc"/>
                </a:solidFill>
                <a:latin typeface="Garamond"/>
              </a:rPr>
              <a:t>1</a:t>
            </a:r>
            <a:r>
              <a:rPr b="1" lang="ar-SA" sz="40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r>
              <a:rPr b="1" lang="en-US" sz="4400" spc="-1" strike="noStrike">
                <a:solidFill>
                  <a:srgbClr val="b9efee"/>
                </a:solidFill>
                <a:latin typeface="Garamond"/>
              </a:rPr>
              <a:t> </a:t>
            </a:r>
            <a:endParaRPr b="1" lang="en-US" sz="4400" spc="-1" strike="noStrike">
              <a:solidFill>
                <a:srgbClr val="b9efee"/>
              </a:solidFill>
              <a:latin typeface="Garamond"/>
            </a:endParaRPr>
          </a:p>
        </p:txBody>
      </p:sp>
      <p:graphicFrame>
        <p:nvGraphicFramePr>
          <p:cNvPr id="184" name=""/>
          <p:cNvGraphicFramePr/>
          <p:nvPr/>
        </p:nvGraphicFramePr>
        <p:xfrm>
          <a:off x="838080" y="1951200"/>
          <a:ext cx="7925040" cy="3535200"/>
        </p:xfrm>
        <a:graphic>
          <a:graphicData uri="http://schemas.openxmlformats.org/drawingml/2006/table">
            <a:tbl>
              <a:tblPr/>
              <a:tblGrid>
                <a:gridCol w="1676520"/>
                <a:gridCol w="1752480"/>
                <a:gridCol w="3657600"/>
                <a:gridCol w="838440"/>
              </a:tblGrid>
              <a:tr h="4568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ea typeface="Arabic Transparent"/>
                        </a:rPr>
                        <a:t>   اتعدي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نق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سؤا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ff66"/>
                    </a:solidFill>
                  </a:tcPr>
                </a:tc>
              </a:tr>
              <a:tr h="7610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ماذا تهاجر الطيور؟</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ين توفي أبو عبيدة؟</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دد</a:t>
                      </a:r>
                      <a:r>
                        <a:rPr b="1" lang="ar-SA" sz="2800" spc="-1" strike="noStrike">
                          <a:solidFill>
                            <a:srgbClr val="ffffff"/>
                          </a:solidFill>
                          <a:latin typeface="Garamond"/>
                        </a:rPr>
                        <a:t>7</a:t>
                      </a:r>
                      <a:r>
                        <a:rPr b="1" lang="ar-SA" sz="2800" spc="-1" strike="noStrike">
                          <a:solidFill>
                            <a:srgbClr val="ffffff"/>
                          </a:solidFill>
                          <a:latin typeface="Garamond"/>
                        </a:rPr>
                        <a:t> هو عدد ـ ـ ـ ـ</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هو الرجل الذي أسلم يوم الفتح؟</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3</a:t>
            </a:r>
            <a:r>
              <a:rPr b="1" lang="ar-SA" sz="3200" spc="-1" strike="noStrike">
                <a:solidFill>
                  <a:srgbClr val="0000cc"/>
                </a:solidFill>
                <a:latin typeface="Garamond"/>
              </a:rPr>
              <a:t>)</a:t>
            </a:r>
            <a:br>
              <a:rPr sz="3200"/>
            </a:br>
            <a:r>
              <a:rPr b="0" lang="ar-SA" sz="3200" spc="-1" strike="noStrike">
                <a:solidFill>
                  <a:srgbClr val="0000cc"/>
                </a:solidFill>
                <a:latin typeface="Garamond"/>
              </a:rPr>
              <a:t>أنواع الفقرات الاختبارية</a:t>
            </a:r>
            <a:endParaRPr b="1" lang="en-US" sz="3200" spc="-1" strike="noStrike">
              <a:solidFill>
                <a:srgbClr val="b9efee"/>
              </a:solidFill>
              <a:latin typeface="Garamond"/>
            </a:endParaRPr>
          </a:p>
        </p:txBody>
      </p:sp>
      <p:sp>
        <p:nvSpPr>
          <p:cNvPr id="1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0000"/>
          </a:bodyPr>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لك عدة أنواع من الأسئلة التي يمكن استخدامها في الاختبارات المدرسية ويمكن تصنيفها إلى فئتين:</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كتب فيها الطالب إجابته بنفسه وتضم الأسئلة المقالية (الإنشائية).</a:t>
            </a:r>
            <a:endParaRPr b="0" lang="en-US" sz="3200" spc="-1" strike="noStrike">
              <a:solidFill>
                <a:srgbClr val="ffffff"/>
              </a:solidFill>
              <a:latin typeface="Garamond"/>
            </a:endParaRPr>
          </a:p>
          <a:p>
            <a:pPr marL="411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ختار الطالب إجابته من بين عدة إجابات بديلة  وأسئلة البديلين ( الصح , الخطأ), والمزاوجة.</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9" name=""/>
          <p:cNvGrpSpPr/>
          <p:nvPr/>
        </p:nvGrpSpPr>
        <p:grpSpPr>
          <a:xfrm>
            <a:off x="304920" y="915840"/>
            <a:ext cx="8305560" cy="5408640"/>
            <a:chOff x="304920" y="915840"/>
            <a:chExt cx="8305560" cy="5408640"/>
          </a:xfrm>
        </p:grpSpPr>
        <p:sp>
          <p:nvSpPr>
            <p:cNvPr id="190" name=""/>
            <p:cNvSpPr txBox="1"/>
            <p:nvPr/>
          </p:nvSpPr>
          <p:spPr>
            <a:xfrm>
              <a:off x="6324480" y="3976560"/>
              <a:ext cx="76212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إنشائية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محددة</a:t>
              </a:r>
              <a:endParaRPr b="0" lang="en-US" sz="2000" spc="1" strike="noStrike">
                <a:ln w="9360">
                  <a:solidFill>
                    <a:srgbClr val="000000"/>
                  </a:solidFill>
                  <a:miter/>
                </a:ln>
                <a:solidFill>
                  <a:srgbClr val="ffcc99"/>
                </a:solidFill>
                <a:latin typeface="Arial Black"/>
                <a:ea typeface="Arial Black"/>
              </a:endParaRPr>
            </a:p>
          </p:txBody>
        </p:sp>
        <p:sp>
          <p:nvSpPr>
            <p:cNvPr id="191" name=""/>
            <p:cNvSpPr txBox="1"/>
            <p:nvPr/>
          </p:nvSpPr>
          <p:spPr>
            <a:xfrm>
              <a:off x="8153280" y="4043160"/>
              <a:ext cx="45720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c99"/>
                  </a:solidFill>
                  <a:latin typeface="Arial Black"/>
                </a:rPr>
                <a:t>التكميل</a:t>
              </a:r>
              <a:endParaRPr b="0" lang="en-US" sz="1800" spc="1" strike="noStrike">
                <a:ln w="9360">
                  <a:solidFill>
                    <a:srgbClr val="000000"/>
                  </a:solidFill>
                  <a:miter/>
                </a:ln>
                <a:solidFill>
                  <a:srgbClr val="ffcc99"/>
                </a:solidFill>
                <a:latin typeface="Arial Black"/>
                <a:ea typeface="Arial Black"/>
              </a:endParaRPr>
            </a:p>
          </p:txBody>
        </p:sp>
        <p:sp>
          <p:nvSpPr>
            <p:cNvPr id="192" name=""/>
            <p:cNvSpPr txBox="1"/>
            <p:nvPr/>
          </p:nvSpPr>
          <p:spPr>
            <a:xfrm>
              <a:off x="3584520" y="3900240"/>
              <a:ext cx="75888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صواب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والخطأ</a:t>
              </a:r>
              <a:endParaRPr b="0" lang="en-US" sz="2000" spc="1" strike="noStrike">
                <a:ln w="9360">
                  <a:solidFill>
                    <a:srgbClr val="000000"/>
                  </a:solidFill>
                  <a:miter/>
                </a:ln>
                <a:solidFill>
                  <a:srgbClr val="ffcc99"/>
                </a:solidFill>
                <a:latin typeface="Arial Black"/>
                <a:ea typeface="Arial Black"/>
              </a:endParaRPr>
            </a:p>
          </p:txBody>
        </p:sp>
        <p:sp>
          <p:nvSpPr>
            <p:cNvPr id="193" name=""/>
            <p:cNvSpPr txBox="1"/>
            <p:nvPr/>
          </p:nvSpPr>
          <p:spPr>
            <a:xfrm>
              <a:off x="1906560" y="3862440"/>
              <a:ext cx="760320" cy="723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الاختيار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من متعدد</a:t>
              </a:r>
              <a:endParaRPr b="0" lang="en-US" sz="2000" spc="1" strike="noStrike">
                <a:ln w="9360">
                  <a:solidFill>
                    <a:srgbClr val="000000"/>
                  </a:solidFill>
                  <a:miter/>
                </a:ln>
                <a:solidFill>
                  <a:srgbClr val="ffcc99"/>
                </a:solidFill>
                <a:latin typeface="Arial Black"/>
                <a:ea typeface="Arial Black"/>
              </a:endParaRPr>
            </a:p>
          </p:txBody>
        </p:sp>
        <p:sp>
          <p:nvSpPr>
            <p:cNvPr id="194" name=""/>
            <p:cNvSpPr txBox="1"/>
            <p:nvPr/>
          </p:nvSpPr>
          <p:spPr>
            <a:xfrm>
              <a:off x="304920" y="3900240"/>
              <a:ext cx="76176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المطابقة</a:t>
              </a:r>
              <a:endParaRPr b="0" lang="en-US" sz="2000" spc="1" strike="noStrike">
                <a:ln w="9360">
                  <a:solidFill>
                    <a:srgbClr val="000000"/>
                  </a:solidFill>
                  <a:miter/>
                </a:ln>
                <a:solidFill>
                  <a:srgbClr val="ffcc99"/>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أو المزاوجة</a:t>
              </a:r>
              <a:endParaRPr b="0" lang="en-US" sz="2000" spc="1" strike="noStrike">
                <a:ln w="9360">
                  <a:solidFill>
                    <a:srgbClr val="000000"/>
                  </a:solidFill>
                  <a:miter/>
                </a:ln>
                <a:solidFill>
                  <a:srgbClr val="ffcc99"/>
                </a:solidFill>
                <a:latin typeface="Arial Black"/>
                <a:ea typeface="Arial Black"/>
              </a:endParaRPr>
            </a:p>
          </p:txBody>
        </p:sp>
        <p:grpSp>
          <p:nvGrpSpPr>
            <p:cNvPr id="195" name=""/>
            <p:cNvGrpSpPr/>
            <p:nvPr/>
          </p:nvGrpSpPr>
          <p:grpSpPr>
            <a:xfrm>
              <a:off x="685800" y="3290760"/>
              <a:ext cx="3276360" cy="533520"/>
              <a:chOff x="685800" y="3290760"/>
              <a:chExt cx="3276360" cy="533520"/>
            </a:xfrm>
          </p:grpSpPr>
          <p:sp>
            <p:nvSpPr>
              <p:cNvPr id="196" name=""/>
              <p:cNvSpPr/>
              <p:nvPr/>
            </p:nvSpPr>
            <p:spPr>
              <a:xfrm>
                <a:off x="68580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9621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2860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858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
            <p:cNvGrpSpPr/>
            <p:nvPr/>
          </p:nvGrpSpPr>
          <p:grpSpPr>
            <a:xfrm>
              <a:off x="5105520" y="3290760"/>
              <a:ext cx="3276360" cy="533520"/>
              <a:chOff x="5105520" y="3290760"/>
              <a:chExt cx="3276360" cy="533520"/>
            </a:xfrm>
          </p:grpSpPr>
          <p:sp>
            <p:nvSpPr>
              <p:cNvPr id="201" name=""/>
              <p:cNvSpPr/>
              <p:nvPr/>
            </p:nvSpPr>
            <p:spPr>
              <a:xfrm>
                <a:off x="510552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38188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67053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510552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
            <p:cNvSpPr/>
            <p:nvPr/>
          </p:nvSpPr>
          <p:spPr>
            <a:xfrm>
              <a:off x="2286000" y="230004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343400" y="1690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362320" y="5957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txBox="1"/>
            <p:nvPr/>
          </p:nvSpPr>
          <p:spPr>
            <a:xfrm>
              <a:off x="5248440" y="2404800"/>
              <a:ext cx="29811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ئة الفقرات ذات الإجابة المنتقا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09" name=""/>
            <p:cNvSpPr txBox="1"/>
            <p:nvPr/>
          </p:nvSpPr>
          <p:spPr>
            <a:xfrm>
              <a:off x="609480" y="2404800"/>
              <a:ext cx="32673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4"/>
                    <a:srcRect/>
                    <a:tile tx="0" ty="0" sx="100000" sy="100000" algn="ctr"/>
                  </a:blipFill>
                  <a:latin typeface="Arial Black"/>
                </a:rPr>
                <a:t>فئة الفقرات ذات الإجابة المصوغة</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10" name=""/>
            <p:cNvSpPr txBox="1"/>
            <p:nvPr/>
          </p:nvSpPr>
          <p:spPr>
            <a:xfrm>
              <a:off x="2847960" y="915840"/>
              <a:ext cx="2638440" cy="851040"/>
            </a:xfrm>
            <a:prstGeom prst="rect">
              <a:avLst/>
            </a:prstGeom>
          </p:spPr>
          <p:txBody>
            <a:bodyPr wrap="none" lIns="90000" rIns="90000" tIns="46800" bIns="46800" anchor="t" anchorCtr="1">
              <a:prstTxWarp prst="textTriangle">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ffcc"/>
                      </a:gs>
                      <a:gs pos="100000">
                        <a:srgbClr val="ff9999"/>
                      </a:gs>
                    </a:gsLst>
                    <a:lin ang="5400000"/>
                  </a:gradFill>
                  <a:latin typeface="Times New Roman"/>
                </a:rPr>
                <a:t>أنواع  الفقرات </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الأمور التي تؤخذ بعين الاعتبار عند كتابة الفقرات الاختبارية بشكل عام:</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يكن جدول المواصفات وخطة الاختبار ماثلين في ذهنك وأمام ناظريك أثناء كتابة الأسئلة.</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حضر المسودة الأولى من أسئلة الاختبار في وقت مبكر.ثم أتركها جانبا لعدة أيام ,ثم راجعها.</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عرض الأسئلة على زميل لك أو أكثر.</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كتب من الأسئلة أكثرمماتحتاجه في الاختبار حتى إذا تبين لك بالفحص والمراجعة أن بعضها غير ملائم فلديك بدائل عن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جنب التعقيد اللفظي في السؤال.</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هناك لكل سؤال إجابة صحيحة أو إجابة فضلى عن غيرها ومتفق عليها في الكتاب المقرر أو بين المختصين.</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تناول كل سؤال جانبا ًمهماً في المحتوى وليس أمرا تافها.</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كون كل سؤال مستقل بذاته , بمعنى أن الإجابة عنه لا ترتبط بالإجابة عن الأسئلة السابقة أو اللاحقة.</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لكل سؤال يطرح موقفاً واضحاً لا لبس فيه ولا غموض.</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يكون استعمالها مقصوراً على الأغراض والمواقف الملائم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خطيط الجيد لبناء الاختبار في خطوات وإجراءات قريبة من تلك المتبعة في إعداد جدول المواصف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ند كتابة الأسئلة ينبغي استخدام الصيغ التي تساعد في تحديد المطلوب من السؤال وتجنب الصيغ المفتوحة أو الناقص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بتعد عن كتابة الأسئلة التي تتطلب مجرد استدعاء المعلوم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بدأ سؤال المقال بكلمات أو عبارات مثل : قارن من حيث , بين الفرق , وضح كيف . أنقد, ميز بي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8"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fontScale="94000"/>
          </a:bodyPr>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مكن مراعاة شمول الأسئلة لجوانب المحتوى والهدف في المجال التحصيلي بزيادة عدد الأسئلة مع مراعاة الزمن المتاح للإجابة عنها.</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ضع إجابة نموذجية لكل سؤال قبل اعتماد الصورة النهائية للاختبار.</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في جميع الاختبارات المدرسية يجب أن يطلب من جميع الطلاب الإجابة عن جميع الأسئلة ولا يتو الاختيار من بينها حتى يمكن لنا مقارنة أو المفاضلة بينهم من جهة , وحتى تتضح لنا الأهداف التي تحققت لديهم.</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المهم جداً ضبط إجراءات التصحيح من خلال تحضير الإجابة النموذجية للأسئلة.</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إذا كنت ستعيد الأوراق إلى الطلاب فاكتب عليها ملاحظاتك وتعليقات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5000"/>
          </a:bodyPr>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أكد من أن جذر السؤال يطرح مشكلة واضحة ومحددة وهذا يعني أن الجذر يجب أن يصاغ بحيث يفهم المفحوص المشكلة أو السؤال المطروح بكل وضوح قبل أن يقرأ  بدائل الإجاب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أن يحوي الجذر على الجزء الأكبر من السؤال , وأن تكون البدائل قصيرة ماأمكن , فإذا كانت ثمة كلمات أو عبارات تكرر نفسها في جميع البدائل أو في معظمها فيمكن إعادة كتابة الجذر بحيث تنقل إليها المادة المكررة , إذا كان لابد منها مما يجعل الفقرة أكثر وضوحاً.</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جب أن يقتصر الجذر على المادة اللازمة لجعل المشكلة واضحة ومحدد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عدم استخدام صيغ النفي في الجذر أو في البدائل.</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720"/>
            <a:ext cx="8526600" cy="6553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يد المتدربة كتابة الهدف بصياغة سلوك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ستويات الأهداف المعرف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رف المتدربة الاختبار التحصيل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عيوب وضع اختبارات بدون أسس علم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زايا وعيوب الاختبارات الموضوع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قارن المتدربة بين أنواع الاختبارات الموضوعية من حيث المزايا والعيو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2000"/>
          </a:bodyPr>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ستخدام مادة فيها جدة في صياغة المشكلات لقياس الفهم والقدرة على التطبيق.</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بد من التأكد من أن واحداً من بدائل السؤال فقط يؤلف 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جنب استخدام البديل ( كل ماذكر صحيح )أو  ( جميع ماذكر) أو ( كل ماذكر أعلاه)أو ماشابه ذلك.</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أن بدائل الإجابة الخطأ ( المموهات )تؤلف إجابات معقولة ظاهرياً.</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خلو الفقرة من أي تلميح غير مقصود ب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حاول أن يكون موقع البديل الصحيح موزعا عشوائي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2000"/>
          </a:bodyPr>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اشى نقل جمل نصاً وحرفاً من الكتاب المقرر لوضعها في الفقرة الاختبارية أو السؤال.</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تتناول جانباً مهما في المحتوى وليس أمرا تافها.</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مستقلة بذاتها, ولا تعتبر الإجابة عنها شرطاً للإجابة عن الفقرة التالية.</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أسئلة التي تعتمد على الخداع.</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تعقيد اللفظي , وحاول أن تكون متطلبات القراءة والمفردات اللغوية في حدودها الدنيا ماأمك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أن يكون عدد الفقرات الصحيحة مساوياً لعدد الفقرات الخطأ.</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أكد من عبارة السؤال بحيث لايشك في صحتها أو خطئها.</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ستخدام صيغ النفي والنفي المزدوج.</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أسئلة التي تتضمن أكثر من فكرة ,وخاصة إذا كانت إحداهما صحيحة والأخرى خطأ,</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8" name="PlaceHolder 2"/>
          <p:cNvSpPr>
            <a:spLocks noGrp="1"/>
          </p:cNvSpPr>
          <p:nvPr>
            <p:ph/>
          </p:nvPr>
        </p:nvSpPr>
        <p:spPr>
          <a:xfrm>
            <a:off x="457200" y="2590560"/>
            <a:ext cx="8229600" cy="28954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عبارات المطولة لما تسببه من إرباك للمفحوص.</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زع الفقرات عشوائي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جعل الفقرات متساوية في طوله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ستخدم المواد المتجانسة فقط في أسئلة المزاوجة.</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ع عدد غير متساوي من المقدمات والإجابات وتوجيه الطالب إلى أن أي إجابة يمكن استخدامها مرة أو أكثر من مرة أو لاتستخدم على الإطلاق لأنه إذا تساوى عدد المقدمات والإجابات فإن الطالب قد يصل إلى الإجابة الأخيرة عن طريق الحذف.</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قائمة ذات البنود الأطول لتكون عمود المقدمات وجعل القائمة ذات البنود الأقصر (كلمات ,إعداد ,رموز,.....) عمود الإجاب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جعل القائمة محدودة لان القوائم الطويلة تجعل الطالب يمضي وقتاً طويلاً للبحث عن الإجابة المناسبة وهذا ينافي إحدى ميزات سؤال المزاوجة وهي السرعة, كما أن محدودية القائمة تكون ضماناً لتجانس المقدمات والإجابات.</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رتيب الإجابات وفق ترتيب منطقي معين (الكلمات في ترتيب أبجدي, الأرقام في تسلسل تنازلي أو تصاعدي)</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ختيار الاستجابات بحيث تكون كل إجابة ملائمة لكل مقدمة, كما يلزم المحافظة على الترابط اللغوي حتى تضم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الاختيار لاينطوي على دلالات نحوية أو صرفية قد تقود الطالب إلا استبعاد بعض الإجابات وبالتالي تزيد من فرصة في الحصول على الإجابة الصحيحة ( كأن تكون بعض الإجابات في صيغة المفرد والبعض الآخر في صيغة الجمع)</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وضيح القاعدة اللازم إتباعها للمزاوجة وذلك بلغة بسيطة كما يستحسن أن يقرأ المعلم تعليمات الاختبار ( التي تحوي القاعدة) لطلاب المرحلة الابتدائية هذا وقد يكتفي المدرس بمطالبة الطالب برسم خط بين الإجابة والمقدمة.</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كلا القائمتين يجب أن تكونا في الصفحة نفس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lang="ar-SA" sz="3600" spc="-1" strike="noStrike">
                <a:solidFill>
                  <a:srgbClr val="0000cc"/>
                </a:solidFill>
                <a:latin typeface="Garamond"/>
              </a:rPr>
              <a:t>ورشة رقم (</a:t>
            </a:r>
            <a:r>
              <a:rPr b="1" lang="ar-SA" sz="3600" spc="-1" strike="noStrike">
                <a:solidFill>
                  <a:srgbClr val="0000cc"/>
                </a:solidFill>
                <a:latin typeface="Garamond"/>
              </a:rPr>
              <a:t>3</a:t>
            </a:r>
            <a:r>
              <a:rPr b="1" lang="ar-SA" sz="3600" spc="-1" strike="noStrike">
                <a:solidFill>
                  <a:srgbClr val="0000cc"/>
                </a:solidFill>
                <a:latin typeface="Garamond"/>
              </a:rPr>
              <a:t>)</a:t>
            </a:r>
            <a:br>
              <a:rPr sz="3600"/>
            </a:br>
            <a:r>
              <a:rPr b="1" lang="ar-SA" sz="3600" spc="-1" strike="noStrike">
                <a:solidFill>
                  <a:srgbClr val="0000cc"/>
                </a:solidFill>
                <a:latin typeface="Garamond"/>
              </a:rPr>
              <a:t> </a:t>
            </a:r>
            <a:r>
              <a:rPr b="0" lang="ar-SA" sz="3600" spc="-1" strike="noStrike">
                <a:solidFill>
                  <a:srgbClr val="0000cc"/>
                </a:solidFill>
                <a:latin typeface="Garamond"/>
              </a:rPr>
              <a:t>صدق وثبات الاختبار</a:t>
            </a:r>
            <a:endParaRPr b="1" lang="en-US" sz="3600" spc="-1" strike="noStrike">
              <a:solidFill>
                <a:srgbClr val="b9efee"/>
              </a:solidFill>
              <a:latin typeface="Garamond"/>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صدق.</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صدق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ثبات.</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ثبات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عرف العلاقة بين صدق الاختبار وثبات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39" name=""/>
          <p:cNvSpPr/>
          <p:nvPr/>
        </p:nvSpPr>
        <p:spPr>
          <a:xfrm>
            <a:off x="1752480" y="2559600"/>
            <a:ext cx="6807240" cy="2043720"/>
          </a:xfrm>
          <a:prstGeom prst="rect">
            <a:avLst/>
          </a:prstGeom>
          <a:noFill/>
          <a:ln w="0">
            <a:noFill/>
          </a:ln>
        </p:spPr>
        <p:style>
          <a:lnRef idx="0"/>
          <a:fillRef idx="0"/>
          <a:effectRef idx="0"/>
          <a:fontRef idx="minor"/>
        </p:style>
        <p:txBody>
          <a:bodyPr lIns="90000" rIns="90000" tIns="46800" bIns="46800" anchor="ctr">
            <a:spAutoFit/>
          </a:bodyPr>
          <a:p>
            <a:pPr lvl="1" marL="800280" indent="-343080" algn="r" rtl="1">
              <a:lnSpc>
                <a:spcPct val="100000"/>
              </a:lnSpc>
              <a:buClr>
                <a:srgbClr val="ffffff"/>
              </a:buClr>
              <a:buFont typeface="Garamond"/>
              <a:buAutoNum type="alphaLcPeriod"/>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أكتب الأنواع المختلفة للصدق.</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startAt="2"/>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كتب العوامل المؤثرة في صدق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نواع الصدق:</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صدق المحتوى</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صدق المرتبط بمحك</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i="1" lang="ar-SA" sz="3200" spc="-1" strike="noStrike">
                <a:solidFill>
                  <a:srgbClr val="ffffff"/>
                </a:solidFill>
                <a:latin typeface="Garamond"/>
              </a:rPr>
              <a:t>صدق البناء أو المفهوم</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28600" y="1553760"/>
            <a:ext cx="8915400" cy="46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ن توضح المتدربة الخطوات العامة لوضع الاختبارالتحصيلي وتطبيق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صمم المتدربة جدول المواصف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تعرف المتدربة على معاملي الصعوبة والتمييز ومعاييرهم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فوائد تحليل فقرات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ff66"/>
                </a:solidFill>
                <a:latin typeface="Garamond"/>
              </a:rPr>
              <a:t> </a:t>
            </a:r>
            <a:r>
              <a:rPr b="1" i="1" lang="ar-SA" sz="3200" spc="-1" strike="noStrike">
                <a:solidFill>
                  <a:srgbClr val="ccff66"/>
                </a:solidFill>
                <a:latin typeface="Garamond"/>
              </a:rPr>
              <a:t>العوامل المؤثرة في الصدق</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عوامل تتعلق بالاختبار نفسه</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تطبيق الاختبار وتصحيحه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المفحوص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مجموعة الصدق</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a:t>
            </a:r>
            <a:br>
              <a:rPr sz="3600"/>
            </a:br>
            <a:r>
              <a:rPr b="1" i="1" lang="ar-SA" sz="3600" spc="-1" strike="noStrike">
                <a:solidFill>
                  <a:srgbClr val="0000cc"/>
                </a:solidFill>
                <a:latin typeface="Garamond"/>
              </a:rPr>
              <a:t>الأنواع المختلفة للثبات والعوامل المؤثرة فيه</a:t>
            </a:r>
            <a:endParaRPr b="1" lang="en-US" sz="3600" spc="-1" strike="noStrike">
              <a:solidFill>
                <a:srgbClr val="b9efee"/>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العوامل المؤثرة في الثبات</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طول الاختبار (عدد فقرات الاختبار</a:t>
            </a:r>
            <a:r>
              <a:rPr b="1" i="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جانس مجموعة الثبات ( مدى المجموعة</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فقر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نوع العمليات المستخدمة في حساب الثبات</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صحيح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 أكتب الأنواع المختلفة للثب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ب) أكتب العوامل المؤثرة في ثب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إعداد جداول المواصفات</a:t>
            </a:r>
            <a:endParaRPr b="1" lang="en-US" sz="3600" spc="-1" strike="noStrike">
              <a:solidFill>
                <a:srgbClr val="b9efee"/>
              </a:solidFill>
              <a:latin typeface="Garamond"/>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474480" indent="-47448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74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فوائد إعداد جداول المواصفات:</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شمول المطلوب في كل اختبار تحصيلي مما يتيح تغطية جميع عناصر المحتوى أو الموضوعات التي تم تدريس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لاختبار دق المحتوى الذي تتطلبه مواصفات الاختبار التحصيلي الجيد.</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كل جزء أو موضوع وزنه الفعلي عندما توزع الأسئلة في الجدول حسب الأهمية النسبية ل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ساعد على الاهتمام بجميع مستويات الأهداف وعدم التركيز على الجوانب الدنيا منها فق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كونات جدول المواصفات.</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ح كيفية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على شكل نقاط الفوائد التي يمكن تحقيقها من خلال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txBox="1"/>
          <p:nvPr/>
        </p:nvSpPr>
        <p:spPr>
          <a:xfrm>
            <a:off x="2666880" y="2819520"/>
            <a:ext cx="3733920" cy="8744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مع خالص الشكر و التقدير</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base">
                                        <p:cTn id="7" dur="5000" fill="hold"/>
                                        <p:tgtEl>
                                          <p:spTgt spid="254"/>
                                        </p:tgtEl>
                                        <p:attrNameLst>
                                          <p:attrName>ppt_x</p:attrName>
                                        </p:attrNameLst>
                                      </p:cBhvr>
                                      <p:tavLst>
                                        <p:tav tm="0">
                                          <p:val>
                                            <p:strVal val="#ppt_x"/>
                                          </p:val>
                                        </p:tav>
                                        <p:tav tm="100000">
                                          <p:val>
                                            <p:strVal val="#ppt_x"/>
                                          </p:val>
                                        </p:tav>
                                      </p:tavLst>
                                    </p:anim>
                                    <p:anim calcmode="lin" valueType="num">
                                      <p:cBhvr additive="base">
                                        <p:cTn id="8" dur="5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txBox="1"/>
          <p:nvPr/>
        </p:nvSpPr>
        <p:spPr>
          <a:xfrm>
            <a:off x="2666880" y="2819520"/>
            <a:ext cx="3581640" cy="198108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e701"/>
                    </a:gs>
                    <a:gs pos="100000">
                      <a:srgbClr val="fe3e02"/>
                    </a:gs>
                  </a:gsLst>
                  <a:lin ang="5400000"/>
                </a:gradFill>
                <a:latin typeface="Impact"/>
              </a:rPr>
              <a:t>استراحه</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repeatCount="indefinite">
                                  <p:stCondLst>
                                    <p:cond delay="0"/>
                                  </p:stCondLst>
                                  <p:endCondLst>
                                    <p:cond evt="onNext"/>
                                  </p:endCondLst>
                                  <p:childTnLst>
                                    <p:set>
                                      <p:cBhvr>
                                        <p:cTn id="14" dur="1" fill="hold">
                                          <p:stCondLst>
                                            <p:cond delay="0"/>
                                          </p:stCondLst>
                                        </p:cTn>
                                        <p:tgtEl>
                                          <p:spTgt spid="255"/>
                                        </p:tgtEl>
                                        <p:attrNameLst>
                                          <p:attrName>style.visibility</p:attrName>
                                        </p:attrNameLst>
                                      </p:cBhvr>
                                      <p:to>
                                        <p:strVal val="visible"/>
                                      </p:to>
                                    </p:set>
                                    <p:anim calcmode="lin" valueType="num">
                                      <p:cBhvr additive="base">
                                        <p:cTn id="15" dur="5000" fill="hold"/>
                                        <p:tgtEl>
                                          <p:spTgt spid="255"/>
                                        </p:tgtEl>
                                        <p:attrNameLst>
                                          <p:attrName>ppt_x</p:attrName>
                                        </p:attrNameLst>
                                      </p:cBhvr>
                                      <p:tavLst>
                                        <p:tav tm="0">
                                          <p:val>
                                            <p:strVal val="#ppt_x"/>
                                          </p:val>
                                        </p:tav>
                                        <p:tav tm="100000">
                                          <p:val>
                                            <p:strVal val="#ppt_x"/>
                                          </p:val>
                                        </p:tav>
                                      </p:tavLst>
                                    </p:anim>
                                    <p:anim calcmode="lin" valueType="num">
                                      <p:cBhvr additive="base">
                                        <p:cTn id="16" dur="50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738360" y="1062360"/>
            <a:ext cx="766908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تعريف الاختبارات التحصيلية:</a:t>
            </a: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ختبار التحصيلي عبارة  عن أداة من أدوات القياس التي</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ستخدمها المعلم بطريقة منظمة لتحديد مستوى تحصيل الطلاب في مادة دراسية معين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0" y="-182880"/>
            <a:ext cx="8897760" cy="6979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عى المشروع إلى تحقيق الأهداف الأولية التا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ختبارات مقننة ومعيارية توفر معلومات صادقة وموضوعية عن مستوى تحصيل الطلاب بشكل أفقي ورأسي وحسب المواد.</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اعدة المعلمين في توجيه عملية التدريس وفق متطلبات التعلم لكل صف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نشاء قاعدة معلوماتية توفر كل ماله علاقة بالاختبار والطلاب.</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ديد الجودة النوعية والكمية لمستوى الطالب.</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0" y="-232920"/>
            <a:ext cx="8897760" cy="66142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شخيص جوانب القصور في الطلاب وتلمس احتياجاته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الجهد والوقت والما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صور متكافئة ومجربة من الاختبارات يمكن تطبيقها في أي مدرسة لأغراض تحسين عمليات التدريس والتشخيص والمقارنة وتحديد المستوى التحصيلي لصف دراسي أو أكث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رفع تأهيل المعلمين في مجال بناء الاختبارات وتحليلها والاستفادة من نتائج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22:50:27Z</dcterms:created>
  <dc:creator>ijhk</dc:creator>
  <dc:description/>
  <dc:language>en-US</dc:language>
  <cp:lastModifiedBy>ijhk</cp:lastModifiedBy>
  <dcterms:modified xsi:type="dcterms:W3CDTF">2004-04-16T06:40:07Z</dcterms:modified>
  <cp:revision>17</cp:revision>
  <dc:subject/>
  <dc:title> دورة الاختبارات التحصيلية</dc:title>
</cp:coreProperties>
</file>